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7.jpeg" ContentType="image/jpeg"/>
  <Override PartName="/ppt/media/image38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1D9D-B959-4DE0-9161-22901818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A3F-5192-449C-843E-66499DA3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71BF-5B12-42CE-891E-2290A4B9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94D5-2A0C-49DF-86FC-15E7CD22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94E8-BFED-44A0-B4FF-C5AFD62E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FFFB-A85E-4EA6-AA12-C3E93986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45E9-BD69-4434-A8E0-2519AC40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7BE1-6BB2-4DFA-AB8C-5C235BF5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1F26-7B6C-4314-97DE-08ED77D9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006F-469E-43F6-9C76-0DD982DA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AC73-5F6E-42E9-8290-9B559F55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5FCF-60B2-4F4C-9C8F-A3827F6F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473F-1153-4CD6-B8A3-C5F3AFD1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78E5-65A0-4DE1-BE92-B473EDAA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462C-9BED-4CE7-846B-78F0AE18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0B16-390D-41F7-B6A4-8713259B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B473-93E7-474C-A435-60D07E89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5D9FF-9D96-47E6-8F6A-BAA6D0F9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9B7EB-4396-4E50-86C1-C6F691A6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E1EC9-3213-4B5D-A2DF-8CD7A3B7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D06CD-ACAD-4F3B-B282-66405205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B3137-C3D5-4500-A178-DD41F5FD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7A94-E405-4E27-A86B-1E65D5AD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5D287-9623-4061-97AB-84F66F34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47E87-C7A3-4805-AF93-F067C88E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BF71E-B34A-4E66-AC39-E2789CD3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355A1-4F82-449C-9C13-C823C523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A3363-F483-433C-9112-4208DBDC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6AF77-E954-425E-A802-267A737E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A5C46-A08B-428D-A91A-20226522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8592-1548-4CCF-9A9E-EC772E43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406A-18DF-44BD-9432-A9503B2B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B2F4-B7DE-4D88-BA61-C12E6D01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1E10-9C2A-4656-A161-525091E1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4342-8A47-4E80-9675-3E2C1D9B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3334-0077-4109-AD5C-29FC5628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6461-04BC-4D78-A8B2-9B4E400B4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22E8-724D-4D90-8944-2A47506E6FE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6651-020F-4892-9517-D52398D7CC1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908000" y="549360"/>
            <a:ext cx="5977080" cy="20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чёлы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1674000"/>
            <a:ext cx="8578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чебное действие: - обладает выраженным противовоспалительным, обезболивающим  действием                                   - повышает общую сопротивляемость организма, иммунит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противомикробно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расширяет сосу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снижает кровяное дав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уменьшает вязкость и свёртываемость кров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снижает холестерин в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403280" y="189000"/>
            <a:ext cx="604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челиный яд.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268360" y="260280"/>
            <a:ext cx="445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бор нектара пчёлам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70200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чёлы играют важную роль в опылении цветущих растений, являясь самой многочисленной группой опылителей в экосистемах, связанных с цветами. В зависимости от текущей потребности, пчёлы могут сконцентрироваться как на сборе нектара, так и на сборе пыльцы. И в первом, и во втором случае пчёлы способствуют опылению растений, но в случае со сбором пыльцы этот процесс проходит гораздо более эффектив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1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1214280"/>
            <a:ext cx="8137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мёде содержится около 60 различных веществ, главным образом глюкоза и фрукт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ёд выгодно отличается от сахара тем, что содержит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- ферменты, ускоряющие обмен веществ в организме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- минеральные вещества 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- микроэлементы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- органические кислоты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- витамины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- фитонциды, обладающие противомикробными, противогнилостными, противогрибковыми действ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411280" y="189000"/>
            <a:ext cx="4680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ёд.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10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064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18241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человоды собирают прополис специальными решётками, или просто соскабливают его с рамок и стенок. С каждого улья в сезон собирают 50—150 г прополиса. Некоторые пчеловоды переплавляют собранный прополис на водяной бане, отделяя от механических примесей; при этом он практически полностью сохраняет свои свойств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340000" y="620640"/>
            <a:ext cx="475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полис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30132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771640" y="0"/>
            <a:ext cx="6372360" cy="2997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0" y="2997360"/>
            <a:ext cx="5435640" cy="3860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5452920" y="2997360"/>
            <a:ext cx="36910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71640" y="549360"/>
            <a:ext cx="676908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нец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268360" y="4149720"/>
            <a:ext cx="493416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делал презинтацию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нчишко Дмитри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ченик МОУ СОШ №1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7 класса "В"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136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627280" y="333360"/>
            <a:ext cx="453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ты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471680"/>
            <a:ext cx="91440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оск пчелины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т продукт вырабатывается восковыми железами пчелы. Состав воска сложный и до конца не выяснен. Воск очень богат витамином А, необходимым для развития эпителия кожи, слизистой бронхов, горла, носа, желудка и кишечника, для остроты зрения. Обладает противомикробным, питательным и регенерирующим действи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424720" cy="6337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569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4:29:21Z</dcterms:created>
  <dc:creator>WIN7XP</dc:creator>
  <dc:description/>
  <dc:language>en-US</dc:language>
  <cp:lastModifiedBy>WIN7XP</cp:lastModifiedBy>
  <dcterms:modified xsi:type="dcterms:W3CDTF">2010-03-04T17:30:34Z</dcterms:modified>
  <cp:revision>7</cp:revision>
  <dc:subject/>
  <dc:title>Слайд 1</dc:title>
</cp:coreProperties>
</file>