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CFA-66E9-45A3-B4ED-A2A12021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435-CE07-43BF-9E2A-AEBEA86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708-FAD6-48D3-9FAE-929BD5FF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7BF-158D-4906-8EAE-60146941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DFB0-9AD8-4180-BD97-AF850564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A13F-8E52-41D0-B205-51E8A5AF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6FB5-1C9E-4801-8275-9AD2546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F770-2E9F-4B2F-8F89-6FC6D38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63AE-C45B-4734-B000-9DBE3FE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3B4-518E-4095-A9B7-446F927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C7CB-5E05-4D15-977A-AAC6A4E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543-77BD-4E07-A3CD-FEC79C96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9484-BCF1-4269-8753-C5DA104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8AA8-A458-4D4B-A318-718152E7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51CE-EED1-42ED-A58C-64DDAAC8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FF72-4184-4BD4-8528-7BE0B8F4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1860-74A9-4FF4-9C0B-91DDD65C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8300-2593-4EDE-9B0D-AD195B3F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E1AF-255A-4E11-BAD1-9DC88A5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F41E-A56E-45BF-8964-45728D4A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09C2-41A5-4A0D-9CD0-8F5F9D1D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14E9-172C-46C9-A087-2C0A4F9D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D44-1BF7-45E6-BB7B-DC69CB8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6B50-B6C7-4620-AE97-AEE9AEEE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1FC1-6C07-4A98-9D13-B0B1DC9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E7C0-8238-4818-B3EC-A27F9D8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A1AA-D1AB-45DC-88F0-7A2A15A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AC7E-97DD-487C-9D51-62C429A3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3357-3CB2-4EF5-8D41-D3798945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68A8-AA53-4911-8EE2-C67511DE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2C0-59CD-4252-A229-A9DD5354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419-6B59-4C08-B6EA-9ED9812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18B-80DD-4BFF-BE90-3D7C4B9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08E-538A-4C64-A15A-2755CF4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B87-67BE-4AE7-8501-DB2290C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064-7E3E-4437-A122-5C97E40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D39-4A15-4D3E-80AF-AA177B50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96FD-AE9C-44D6-911B-14E1A1B31B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37A6-75A0-4A7A-864B-C90F70A921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908000" y="549360"/>
            <a:ext cx="59770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чёлы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674000"/>
            <a:ext cx="85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чебное действие: - обладает выраженным противовоспалительным, обезболивающим  действием                                   - повышает общую сопротивляемость организма, иммунит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ротивомикроб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расширяет сосу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нижает кровяное д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меньшает вязкость и свёртываемость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нижает холестерин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18900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челиный яд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68360" y="260280"/>
            <a:ext cx="445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 нектара пчёлам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02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ёлы играют важную роль в опылении цветущих растений, являясь самой многочисленной группой опылителей в экосистемах, связанных с цветами. В зависимости от текущей потребности, пчёлы могут сконцентрироваться как на сборе нектара, так и на сборе пыльцы. И в первом, и во втором случае пчёлы способствуют опылению растений, но в случае со сбором пыльцы этот процесс проходит гораздо более эффектив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214280"/>
            <a:ext cx="813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мёде содержится около 60 различных веществ, главным образом глюкоза и фру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ёд выгодно отличается от сахара тем, что содержит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- ферменты, ускоряющие обмен веществ в организме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- минеральные вещества 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микроэлемент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органические кислот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витамин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- фитонциды, обладающие противомикробными, противогнилостными, противогрибковыми действ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11280" y="18900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ёд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10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824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человоды собирают прополис специальными решётками, или просто соскабливают его с рамок и стенок. С каждого улья в сезон собирают 50—150 г прополиса. Некоторые пчеловоды переплавляют собранный прополис на водяной бане, отделяя от механических примесей; при этом он практически полностью сохраняет свои свой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40000" y="62064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поли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3013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6372360" cy="2997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5435640" cy="386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452920" y="2997360"/>
            <a:ext cx="3691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1640" y="549360"/>
            <a:ext cx="6769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68360" y="4149720"/>
            <a:ext cx="49341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делал презинтаци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нчишко Дмитр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ник МОУ СОШ №1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а "В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627280" y="33336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т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47168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ск пчелины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продукт вырабатывается восковыми железами пчелы. Состав воска сложный и до конца не выяснен. Воск очень богат витамином А, необходимым для развития эпителия кожи, слизистой бронхов, горла, носа, желудка и кишечника, для остроты зрения. Обладает противомикробным, питательным и регенерирующим дей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4:29:21Z</dcterms:created>
  <dc:creator>WIN7XP</dc:creator>
  <dc:description/>
  <dc:language>en-US</dc:language>
  <cp:lastModifiedBy>WIN7XP</cp:lastModifiedBy>
  <dcterms:modified xsi:type="dcterms:W3CDTF">2010-03-04T17:30:34Z</dcterms:modified>
  <cp:revision>7</cp:revision>
  <dc:subject/>
  <dc:title>Слайд 1</dc:title>
</cp:coreProperties>
</file>