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613-FBC3-4B03-876D-5F8D3285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B4C-F960-4726-A090-6BED67BB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3EE-80F9-4495-91AA-806E15D2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204-B712-4607-A121-D6797D23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8B3-B53F-4730-A579-399E2E10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E8D2-1A40-44B1-AE96-2B3FED52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8F2-4BC9-40B1-BE32-DE3E920F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68D-746A-45DE-9EDB-1D538F9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676-5B98-4BC1-9B03-2DDBD6E8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0BB9-481D-4906-BA66-EA5D503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E2B2-0971-48B3-B945-1114129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CC4-1EF7-4B41-B58F-878F89E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E159-0C86-4564-B7B4-ADC42A5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10E-3694-4E0A-955C-35031E3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62F-146D-410A-AFE6-29B3CDC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53D-524A-4EAB-9107-B27C6ABB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08D-659B-4869-BDC7-5129DA05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D022-737E-41A7-9833-2CFBA9F7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9391-4AB5-42BF-958C-C09F3E8E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AE55-E600-472D-A34A-64B8CD97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1FEE-1893-4387-8115-316EF9D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7D27-E252-4E0B-860D-23BCF34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128-FCE1-4B50-BFA2-740DE49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4F1B-8449-42B6-BE03-DE9725B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C230-514C-48D3-ABB5-9AA5FE4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0D81-0CE5-4B60-9E67-6796BD5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D917-D8E9-4E52-A0A7-2D934BF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5F6F-AA9F-4BE1-83EE-CF6F3F9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6FD9-7E97-403E-A11E-1D69705C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F812-4B97-49E3-BDFE-24673BEC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B50-E16B-4BED-8359-3D875BD9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518-CEC4-4781-BC4E-1FAB879E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424-EE73-4065-A25E-8F7AA8B5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6CD-F1D8-47BF-9419-37A0CDC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DA3-564F-4BED-80B4-01D93B51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F86-60C9-4E36-B55A-58883D8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A629-E37F-4B12-A255-A08C326E6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078-955D-4EA9-A2E7-ABF3F1764C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338-8A48-4858-9A44-E3DF509BE4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908000" y="54936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чёлы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674000"/>
            <a:ext cx="85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чебное действие: - обладает выраженным противовоспалительным, обезболивающим  действием                                   - повышает общую сопротивляемость организма, иммунит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ротивомикроб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расширяет сосу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кровяное д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меньшает вязкость и свёртываемость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холестерин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18900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челиный я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68360" y="260280"/>
            <a:ext cx="445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 нектара пчёлам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02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ёлы играют важную роль в опылении цветущих растений, являясь самой многочисленной группой опылителей в экосистемах, связанных с цветами. В зависимости от текущей потребности, пчёлы могут сконцентрироваться как на сборе нектара, так и на сборе пыльцы. И в первом, и во втором случае пчёлы способствуют опылению растений, но в случае со сбором пыльцы этот процесс проходит гораздо более эффектив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214280"/>
            <a:ext cx="813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мёде содержится около 60 различных веществ, главным образом глюкоза и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ёд выгодно отличается от сахара тем, что содержит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ферменты, ускоряющие обмен веществ в организме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минеральные вещества 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микроэлемен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органические кисло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витамин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фитонциды, обладающие противомикробными, противогнилостными, противогрибковыми действ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11280" y="18900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ё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1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824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человоды собирают прополис специальными решётками, или просто соскабливают его с рамок и стенок. С каждого улья в сезон собирают 50—150 г прополиса. Некоторые пчеловоды переплавляют собранный прополис на водяной бане, отделяя от механических примесей; при этом он практически полностью сохраняет свои свой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40000" y="62064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оли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3013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2997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5435640" cy="386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52920" y="2997360"/>
            <a:ext cx="369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640" y="549360"/>
            <a:ext cx="6769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68360" y="4149720"/>
            <a:ext cx="49341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делал презинтаци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нчишко Дмитр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ник МОУ СОШ №1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 "В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627280" y="33336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т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47168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ск пчелины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продукт вырабатывается восковыми железами пчелы. Состав воска сложный и до конца не выяснен. Воск очень богат витамином А, необходимым для развития эпителия кожи, слизистой бронхов, горла, носа, желудка и кишечника, для остроты зрения. Обладает противомикробным, питательным и регенерирующим дей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4:29:21Z</dcterms:created>
  <dc:creator>WIN7XP</dc:creator>
  <dc:description/>
  <dc:language>en-US</dc:language>
  <cp:lastModifiedBy>WIN7XP</cp:lastModifiedBy>
  <dcterms:modified xsi:type="dcterms:W3CDTF">2010-03-04T17:30:34Z</dcterms:modified>
  <cp:revision>7</cp:revision>
  <dc:subject/>
  <dc:title>Слайд 1</dc:title>
</cp:coreProperties>
</file>