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4F10-1D0A-4EA6-BB99-A4B1A64ED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C323-9896-453E-8B83-42C14E9A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E2AB-F768-465A-B998-B46577B88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B457-76A8-4621-B32F-FA38B3F1E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B861-9ABA-4350-B319-CDE67856C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235A-B7C9-4F20-8723-2E23C123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426F-1CC3-462F-8A8B-F89ACD28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934F-99FD-4945-B4F2-D6B2CF0D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2278-4437-4102-BA08-61A3ED38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9B6A-4E9E-4E00-BBEA-0A15AE8C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2B77-4E17-4CCB-89A2-77491ED5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4B6C-5978-4D00-A52D-631AAA7F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CAB5-1945-4526-8643-AE329372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92FA-214B-4B06-8E92-FC4726D8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6B90-57FC-46C4-BA90-31BE0F30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973A-CBD7-47DB-B9E0-C4485DB32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C972-D91F-4ED6-B986-B1E48F777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0AE7-78DC-4608-9025-12108B2B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AEA6-1F92-41E6-B4D0-0B8C7383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D7E3-B2C2-44BE-A4E2-EFE512D1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28ED-FB61-4D1B-B74E-9B03BFE1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36F7-2156-4487-B77C-56F9F0DF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F112-B295-41D9-93FC-B0B1FBFF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48E4-0DBB-46EB-8CA5-323813A7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C919-EB61-4264-9050-4D67E995DD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787A-16F5-433D-96D1-0BD9EFD002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917680" y="5805360"/>
            <a:ext cx="322596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cc"/>
                </a:solidFill>
                <a:latin typeface="Comic Sans MS"/>
              </a:rPr>
              <a:t>6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Прямоугольник 2"/>
          <p:cNvSpPr/>
          <p:nvPr/>
        </p:nvSpPr>
        <p:spPr>
          <a:xfrm>
            <a:off x="2395800" y="3000240"/>
            <a:ext cx="65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Отношения в решении зада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42600" y="1999800"/>
            <a:ext cx="7715160" cy="8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Arial"/>
                <a:ea typeface="Arial"/>
              </a:rPr>
              <a:t>3</a:t>
            </a:r>
            <a:r>
              <a:rPr b="1" lang="ru-RU" sz="6000" spc="-1" strike="noStrike">
                <a:solidFill>
                  <a:srgbClr val="00b050"/>
                </a:solidFill>
                <a:latin typeface="Arial"/>
                <a:ea typeface="Arial"/>
              </a:rPr>
              <a:t>:4 = 6:</a:t>
            </a:r>
            <a:r>
              <a:rPr b="1" lang="ru-RU" sz="6000" spc="-1" strike="noStrike">
                <a:solidFill>
                  <a:srgbClr val="7030a0"/>
                </a:solidFill>
                <a:latin typeface="Arial"/>
                <a:ea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356840" y="2928600"/>
            <a:ext cx="68151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1" lang="ru-RU" sz="4000" spc="-1" strike="noStrike">
                <a:solidFill>
                  <a:srgbClr val="00b050"/>
                </a:solidFill>
                <a:latin typeface="Comic Sans MS"/>
              </a:rPr>
              <a:t>сред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Основное свойство пропорци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285920" y="-214200"/>
            <a:ext cx="677232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ru-RU" sz="4000" spc="-1" strike="noStrike">
                <a:solidFill>
                  <a:srgbClr val="7030a0"/>
                </a:solidFill>
                <a:latin typeface="Comic Sans MS"/>
              </a:rPr>
              <a:t>край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Выгнутая вниз стрелка 10"/>
          <p:cNvSpPr/>
          <p:nvPr/>
        </p:nvSpPr>
        <p:spPr>
          <a:xfrm>
            <a:off x="3786120" y="2714760"/>
            <a:ext cx="1571760" cy="642960"/>
          </a:xfrm>
          <a:custGeom>
            <a:avLst/>
            <a:gdLst>
              <a:gd name="textAreaLeft" fmla="*/ 332640 w 1571760"/>
              <a:gd name="textAreaRight" fmla="*/ 1158840 w 157176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43" hR="21600" stAng="10800000" swAng="-5400000"/>
                <a:lnTo>
                  <a:pt x="11353" y="21600"/>
                </a:lnTo>
                <a:arcTo wR="9143" hR="21600" stAng="5400000" swAng="-3517045"/>
                <a:lnTo>
                  <a:pt x="21310" y="5400"/>
                </a:lnTo>
                <a:lnTo>
                  <a:pt x="19391" y="0"/>
                </a:lnTo>
                <a:lnTo>
                  <a:pt x="16892" y="5400"/>
                </a:lnTo>
                <a:lnTo>
                  <a:pt x="17996" y="5400"/>
                </a:lnTo>
                <a:arcTo wR="9143" hR="21600" stAng="1882955" swAng="3340037"/>
                <a:lnTo>
                  <a:pt x="10248" y="21442"/>
                </a:lnTo>
                <a:arcTo wR="9143" hR="21600" stAng="5577008" swAng="5222992"/>
                <a:close/>
              </a:path>
              <a:path fill="darkenLess" w="21600" h="21600">
                <a:moveTo>
                  <a:pt x="0" y="0"/>
                </a:moveTo>
                <a:arcTo wR="9143" hR="21600" stAng="10800000" swAng="-5400000"/>
                <a:lnTo>
                  <a:pt x="11353" y="21600"/>
                </a:lnTo>
                <a:arcTo wR="9143" hR="21600" stAng="5400000" swAng="177008"/>
                <a:lnTo>
                  <a:pt x="10248" y="21442"/>
                </a:lnTo>
                <a:arcTo wR="9143" hR="21600" stAng="5577008" swAng="5222992"/>
                <a:close/>
              </a:path>
            </a:pathLst>
          </a:custGeom>
          <a:solidFill>
            <a:srgbClr val="00b050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Выгнутая вверх стрелка 11"/>
          <p:cNvSpPr/>
          <p:nvPr/>
        </p:nvSpPr>
        <p:spPr>
          <a:xfrm>
            <a:off x="3143160" y="1214280"/>
            <a:ext cx="2928960" cy="714600"/>
          </a:xfrm>
          <a:custGeom>
            <a:avLst/>
            <a:gdLst>
              <a:gd name="textAreaLeft" fmla="*/ 665280 w 2928960"/>
              <a:gd name="textAreaRight" fmla="*/ 2174400 w 2928960"/>
              <a:gd name="textAreaTop" fmla="*/ 95760 h 714600"/>
              <a:gd name="textAreaBottom" fmla="*/ 618840 h 714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12" hR="21600" stAng="10800000" swAng="5400000"/>
                <a:lnTo>
                  <a:pt x="11130" y="0"/>
                </a:lnTo>
                <a:arcTo wR="9812" hR="21600" stAng="-5400000" swAng="3623178"/>
                <a:lnTo>
                  <a:pt x="21288" y="16200"/>
                </a:lnTo>
                <a:lnTo>
                  <a:pt x="20283" y="21600"/>
                </a:lnTo>
                <a:lnTo>
                  <a:pt x="18654" y="16200"/>
                </a:lnTo>
                <a:lnTo>
                  <a:pt x="19312" y="16200"/>
                </a:lnTo>
                <a:arcTo wR="9812" hR="21600" stAng="-1776822" swAng="-3518090"/>
                <a:lnTo>
                  <a:pt x="10471" y="49"/>
                </a:lnTo>
                <a:arcTo wR="9812" hR="21600" stAng="-5505088" swAng="-5294912"/>
                <a:close/>
              </a:path>
              <a:path fill="darkenLess" w="21600" h="21600">
                <a:moveTo>
                  <a:pt x="0" y="21600"/>
                </a:moveTo>
                <a:arcTo wR="9812" hR="21600" stAng="10800000" swAng="5400000"/>
                <a:lnTo>
                  <a:pt x="9812" y="0"/>
                </a:lnTo>
                <a:arcTo wR="9812" hR="21600" stAng="-5400000" swAng="105088"/>
                <a:lnTo>
                  <a:pt x="10471" y="49"/>
                </a:lnTo>
                <a:arcTo wR="9812" hR="21600" stAng="-5505088" swAng="-5294912"/>
                <a:close/>
              </a:path>
            </a:pathLst>
          </a:custGeom>
          <a:solidFill>
            <a:srgbClr val="7030a0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Прямоугольник с двумя вырезанными противолежащими углами 12"/>
          <p:cNvSpPr/>
          <p:nvPr/>
        </p:nvSpPr>
        <p:spPr>
          <a:xfrm>
            <a:off x="142920" y="4286160"/>
            <a:ext cx="8643960" cy="1500120"/>
          </a:xfrm>
          <a:prstGeom prst="pie">
            <a:avLst/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mic Sans MS"/>
              </a:rPr>
              <a:t>«Произведение  …  членов пропорции равно     ...  членов пропорции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Скругленный прямоугольник 13"/>
          <p:cNvSpPr/>
          <p:nvPr/>
        </p:nvSpPr>
        <p:spPr>
          <a:xfrm>
            <a:off x="285840" y="4286160"/>
            <a:ext cx="8358120" cy="15001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«Произведение </a:t>
            </a:r>
            <a:r>
              <a:rPr b="1" lang="ru-RU" sz="2800" spc="-1" strike="noStrike">
                <a:solidFill>
                  <a:srgbClr val="7030a0"/>
                </a:solidFill>
                <a:latin typeface="Comic Sans MS"/>
              </a:rPr>
              <a:t>крайних</a:t>
            </a: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 членов пропорции равно произведению </a:t>
            </a: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средних</a:t>
            </a: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 членов пропорции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42600" y="1999800"/>
            <a:ext cx="7715160" cy="8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Arial"/>
                <a:ea typeface="Arial"/>
              </a:rPr>
              <a:t>а</a:t>
            </a:r>
            <a:r>
              <a:rPr b="1" lang="ru-RU" sz="6000" spc="-1" strike="noStrike">
                <a:solidFill>
                  <a:srgbClr val="00b050"/>
                </a:solidFill>
                <a:latin typeface="Arial"/>
                <a:ea typeface="Arial"/>
              </a:rPr>
              <a:t>:в = с:</a:t>
            </a:r>
            <a:r>
              <a:rPr b="1" lang="en-US" sz="6000" spc="-1" strike="noStrike">
                <a:solidFill>
                  <a:srgbClr val="00b050"/>
                </a:solidFill>
                <a:latin typeface="Arial"/>
                <a:ea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356840" y="2928600"/>
            <a:ext cx="68151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1" lang="ru-RU" sz="4000" spc="-1" strike="noStrike">
                <a:solidFill>
                  <a:srgbClr val="00b050"/>
                </a:solidFill>
                <a:latin typeface="Comic Sans MS"/>
              </a:rPr>
              <a:t>сред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285920" y="-214200"/>
            <a:ext cx="677232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ru-RU" sz="4000" spc="-1" strike="noStrike">
                <a:solidFill>
                  <a:srgbClr val="7030a0"/>
                </a:solidFill>
                <a:latin typeface="Comic Sans MS"/>
              </a:rPr>
              <a:t>край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Выгнутая вниз стрелка 10"/>
          <p:cNvSpPr/>
          <p:nvPr/>
        </p:nvSpPr>
        <p:spPr>
          <a:xfrm>
            <a:off x="3786120" y="2714760"/>
            <a:ext cx="1571760" cy="642960"/>
          </a:xfrm>
          <a:custGeom>
            <a:avLst/>
            <a:gdLst>
              <a:gd name="textAreaLeft" fmla="*/ 332640 w 1571760"/>
              <a:gd name="textAreaRight" fmla="*/ 1158840 w 157176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43" hR="21600" stAng="10800000" swAng="-5400000"/>
                <a:lnTo>
                  <a:pt x="11353" y="21600"/>
                </a:lnTo>
                <a:arcTo wR="9143" hR="21600" stAng="5400000" swAng="-3517045"/>
                <a:lnTo>
                  <a:pt x="21310" y="5400"/>
                </a:lnTo>
                <a:lnTo>
                  <a:pt x="19391" y="0"/>
                </a:lnTo>
                <a:lnTo>
                  <a:pt x="16892" y="5400"/>
                </a:lnTo>
                <a:lnTo>
                  <a:pt x="17996" y="5400"/>
                </a:lnTo>
                <a:arcTo wR="9143" hR="21600" stAng="1882955" swAng="3340037"/>
                <a:lnTo>
                  <a:pt x="10248" y="21442"/>
                </a:lnTo>
                <a:arcTo wR="9143" hR="21600" stAng="5577008" swAng="5222992"/>
                <a:close/>
              </a:path>
              <a:path fill="darkenLess" w="21600" h="21600">
                <a:moveTo>
                  <a:pt x="0" y="0"/>
                </a:moveTo>
                <a:arcTo wR="9143" hR="21600" stAng="10800000" swAng="-5400000"/>
                <a:lnTo>
                  <a:pt x="11353" y="21600"/>
                </a:lnTo>
                <a:arcTo wR="9143" hR="21600" stAng="5400000" swAng="177008"/>
                <a:lnTo>
                  <a:pt x="10248" y="21442"/>
                </a:lnTo>
                <a:arcTo wR="9143" hR="21600" stAng="5577008" swAng="5222992"/>
                <a:close/>
              </a:path>
            </a:pathLst>
          </a:custGeom>
          <a:solidFill>
            <a:srgbClr val="00b050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Выгнутая вверх стрелка 11"/>
          <p:cNvSpPr/>
          <p:nvPr/>
        </p:nvSpPr>
        <p:spPr>
          <a:xfrm>
            <a:off x="3143160" y="1214280"/>
            <a:ext cx="2928960" cy="714600"/>
          </a:xfrm>
          <a:custGeom>
            <a:avLst/>
            <a:gdLst>
              <a:gd name="textAreaLeft" fmla="*/ 665280 w 2928960"/>
              <a:gd name="textAreaRight" fmla="*/ 2174400 w 2928960"/>
              <a:gd name="textAreaTop" fmla="*/ 95760 h 714600"/>
              <a:gd name="textAreaBottom" fmla="*/ 618840 h 714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12" hR="21600" stAng="10800000" swAng="5400000"/>
                <a:lnTo>
                  <a:pt x="11130" y="0"/>
                </a:lnTo>
                <a:arcTo wR="9812" hR="21600" stAng="-5400000" swAng="3623178"/>
                <a:lnTo>
                  <a:pt x="21288" y="16200"/>
                </a:lnTo>
                <a:lnTo>
                  <a:pt x="20283" y="21600"/>
                </a:lnTo>
                <a:lnTo>
                  <a:pt x="18654" y="16200"/>
                </a:lnTo>
                <a:lnTo>
                  <a:pt x="19312" y="16200"/>
                </a:lnTo>
                <a:arcTo wR="9812" hR="21600" stAng="-1776822" swAng="-3518090"/>
                <a:lnTo>
                  <a:pt x="10471" y="49"/>
                </a:lnTo>
                <a:arcTo wR="9812" hR="21600" stAng="-5505088" swAng="-5294912"/>
                <a:close/>
              </a:path>
              <a:path fill="darkenLess" w="21600" h="21600">
                <a:moveTo>
                  <a:pt x="0" y="21600"/>
                </a:moveTo>
                <a:arcTo wR="9812" hR="21600" stAng="10800000" swAng="5400000"/>
                <a:lnTo>
                  <a:pt x="9812" y="0"/>
                </a:lnTo>
                <a:arcTo wR="9812" hR="21600" stAng="-5400000" swAng="105088"/>
                <a:lnTo>
                  <a:pt x="10471" y="49"/>
                </a:lnTo>
                <a:arcTo wR="9812" hR="21600" stAng="-5505088" swAng="-5294912"/>
                <a:close/>
              </a:path>
            </a:pathLst>
          </a:custGeom>
          <a:solidFill>
            <a:srgbClr val="7030a0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Прямоугольник с двумя вырезанными противолежащими углами 12"/>
          <p:cNvSpPr/>
          <p:nvPr/>
        </p:nvSpPr>
        <p:spPr>
          <a:xfrm>
            <a:off x="142920" y="4286160"/>
            <a:ext cx="8643960" cy="1500120"/>
          </a:xfrm>
          <a:prstGeom prst="pie">
            <a:avLst/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mic Sans MS"/>
              </a:rPr>
              <a:t>«Произведение  …  членов пропорции равно     ...  членов пропорции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Скругленный прямоугольник 13"/>
          <p:cNvSpPr/>
          <p:nvPr/>
        </p:nvSpPr>
        <p:spPr>
          <a:xfrm>
            <a:off x="285840" y="4286160"/>
            <a:ext cx="8358120" cy="15001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«Произведение </a:t>
            </a:r>
            <a:r>
              <a:rPr b="1" lang="ru-RU" sz="2800" spc="-1" strike="noStrike">
                <a:solidFill>
                  <a:srgbClr val="7030a0"/>
                </a:solidFill>
                <a:latin typeface="Comic Sans MS"/>
              </a:rPr>
              <a:t>крайних</a:t>
            </a: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 членов пропорции равно произведению </a:t>
            </a: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средних</a:t>
            </a: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 членов пропорции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85520" y="1571400"/>
            <a:ext cx="15714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57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85840" y="214200"/>
            <a:ext cx="228600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60(устно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     </a:t>
            </a: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15:50=6:2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15 •20=50• 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300=3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786120" y="1828440"/>
            <a:ext cx="521496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«Произведение </a:t>
            </a:r>
            <a:r>
              <a:rPr b="1" lang="ru-RU" sz="2800" spc="-1" strike="noStrike">
                <a:solidFill>
                  <a:srgbClr val="7030a0"/>
                </a:solidFill>
                <a:latin typeface="Comic Sans MS"/>
              </a:rPr>
              <a:t>крайних</a:t>
            </a: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 членов пропорции равно произведению </a:t>
            </a: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средних</a:t>
            </a: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 членов пропорции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5:2=60:8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0,3:4=0,9:1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,5:4=3,5: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85480" y="151920"/>
            <a:ext cx="83581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Как, используя основное свойство пропорции, проверить будет ли данное отношение пропорцией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9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50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51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56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57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142884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6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785880"/>
            <a:ext cx="76960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omic Sans MS"/>
              </a:rPr>
              <a:t>«Произведение </a:t>
            </a:r>
            <a:r>
              <a:rPr b="1" lang="ru-RU" sz="3600" spc="-1" strike="noStrike">
                <a:solidFill>
                  <a:srgbClr val="7030a0"/>
                </a:solidFill>
                <a:latin typeface="Comic Sans MS"/>
              </a:rPr>
              <a:t>крайних</a:t>
            </a:r>
            <a:r>
              <a:rPr b="1" lang="ru-RU" sz="3600" spc="-1" strike="noStrike">
                <a:solidFill>
                  <a:srgbClr val="0070c0"/>
                </a:solidFill>
                <a:latin typeface="Comic Sans MS"/>
              </a:rPr>
              <a:t> членов пропорции равно произведению </a:t>
            </a:r>
            <a:r>
              <a:rPr b="1" lang="ru-RU" sz="3600" spc="-1" strike="noStrike">
                <a:solidFill>
                  <a:srgbClr val="00b050"/>
                </a:solidFill>
                <a:latin typeface="Comic Sans MS"/>
              </a:rPr>
              <a:t>средних</a:t>
            </a:r>
            <a:r>
              <a:rPr b="1" lang="ru-RU" sz="3600" spc="-1" strike="noStrike">
                <a:solidFill>
                  <a:srgbClr val="0070c0"/>
                </a:solidFill>
                <a:latin typeface="Comic Sans MS"/>
              </a:rPr>
              <a:t> членов пропорции»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142884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6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785880"/>
            <a:ext cx="76960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4 •1,5=    • 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6=6     пропорц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)9•0,01= 10 •0,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0,09 ≠ 9   не пропорц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)7•4  =14•2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2  =32     пропорц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) 3•3  =2,5•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0=10   пропорц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2643120" y="785880"/>
            <a:ext cx="357120" cy="5713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6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6" name="Picture 7" descr=""/>
          <p:cNvPicPr/>
          <p:nvPr/>
        </p:nvPicPr>
        <p:blipFill>
          <a:blip r:embed="rId2"/>
          <a:stretch/>
        </p:blipFill>
        <p:spPr>
          <a:xfrm>
            <a:off x="1857240" y="3071880"/>
            <a:ext cx="142920" cy="64296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8" name="Picture 9" descr=""/>
          <p:cNvPicPr/>
          <p:nvPr/>
        </p:nvPicPr>
        <p:blipFill>
          <a:blip r:embed="rId3"/>
          <a:stretch/>
        </p:blipFill>
        <p:spPr>
          <a:xfrm>
            <a:off x="3143160" y="3071880"/>
            <a:ext cx="147600" cy="663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7" descr=""/>
          <p:cNvPicPr/>
          <p:nvPr/>
        </p:nvPicPr>
        <p:blipFill>
          <a:blip r:embed="rId4"/>
          <a:stretch/>
        </p:blipFill>
        <p:spPr>
          <a:xfrm>
            <a:off x="2143080" y="3714840"/>
            <a:ext cx="142920" cy="64296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3" name="Picture 7" descr=""/>
          <p:cNvPicPr/>
          <p:nvPr/>
        </p:nvPicPr>
        <p:blipFill>
          <a:blip r:embed="rId5"/>
          <a:stretch/>
        </p:blipFill>
        <p:spPr>
          <a:xfrm>
            <a:off x="3143160" y="3714840"/>
            <a:ext cx="142920" cy="64296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5" name="Picture 17" descr=""/>
          <p:cNvPicPr/>
          <p:nvPr/>
        </p:nvPicPr>
        <p:blipFill>
          <a:blip r:embed="rId6"/>
          <a:stretch/>
        </p:blipFill>
        <p:spPr>
          <a:xfrm>
            <a:off x="2000160" y="4214880"/>
            <a:ext cx="142920" cy="64296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19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42600" y="1999800"/>
            <a:ext cx="7715160" cy="8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Arial"/>
                <a:ea typeface="Arial"/>
              </a:rPr>
              <a:t>а</a:t>
            </a:r>
            <a:r>
              <a:rPr b="1" lang="ru-RU" sz="6000" spc="-1" strike="noStrike">
                <a:solidFill>
                  <a:srgbClr val="00b050"/>
                </a:solidFill>
                <a:latin typeface="Arial"/>
                <a:ea typeface="Arial"/>
              </a:rPr>
              <a:t>:в = с:</a:t>
            </a:r>
            <a:r>
              <a:rPr b="1" lang="en-US" sz="6000" spc="-1" strike="noStrike">
                <a:solidFill>
                  <a:srgbClr val="00b050"/>
                </a:solidFill>
                <a:latin typeface="Arial"/>
                <a:ea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56760" y="1857240"/>
            <a:ext cx="781524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1" lang="ru-RU" sz="4000" spc="-1" strike="noStrike">
                <a:solidFill>
                  <a:srgbClr val="00b050"/>
                </a:solidFill>
                <a:latin typeface="Comic Sans MS"/>
              </a:rPr>
              <a:t>сред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Пропорция- истинное равенство двух отношени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285920" y="-214200"/>
            <a:ext cx="677232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ru-RU" sz="4000" spc="-1" strike="noStrike">
                <a:solidFill>
                  <a:srgbClr val="7030a0"/>
                </a:solidFill>
                <a:latin typeface="Comic Sans MS"/>
              </a:rPr>
              <a:t>край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Выгнутая вниз стрелка 10"/>
          <p:cNvSpPr/>
          <p:nvPr/>
        </p:nvSpPr>
        <p:spPr>
          <a:xfrm>
            <a:off x="3786120" y="2714760"/>
            <a:ext cx="1571760" cy="642960"/>
          </a:xfrm>
          <a:custGeom>
            <a:avLst/>
            <a:gdLst>
              <a:gd name="textAreaLeft" fmla="*/ 332640 w 1571760"/>
              <a:gd name="textAreaRight" fmla="*/ 1158840 w 157176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43" hR="21600" stAng="10800000" swAng="-5400000"/>
                <a:lnTo>
                  <a:pt x="11353" y="21600"/>
                </a:lnTo>
                <a:arcTo wR="9143" hR="21600" stAng="5400000" swAng="-3517045"/>
                <a:lnTo>
                  <a:pt x="21310" y="5400"/>
                </a:lnTo>
                <a:lnTo>
                  <a:pt x="19391" y="0"/>
                </a:lnTo>
                <a:lnTo>
                  <a:pt x="16892" y="5400"/>
                </a:lnTo>
                <a:lnTo>
                  <a:pt x="17996" y="5400"/>
                </a:lnTo>
                <a:arcTo wR="9143" hR="21600" stAng="1882955" swAng="3340037"/>
                <a:lnTo>
                  <a:pt x="10248" y="21442"/>
                </a:lnTo>
                <a:arcTo wR="9143" hR="21600" stAng="5577008" swAng="5222992"/>
                <a:close/>
              </a:path>
              <a:path fill="darkenLess" w="21600" h="21600">
                <a:moveTo>
                  <a:pt x="0" y="0"/>
                </a:moveTo>
                <a:arcTo wR="9143" hR="21600" stAng="10800000" swAng="-5400000"/>
                <a:lnTo>
                  <a:pt x="11353" y="21600"/>
                </a:lnTo>
                <a:arcTo wR="9143" hR="21600" stAng="5400000" swAng="177008"/>
                <a:lnTo>
                  <a:pt x="10248" y="21442"/>
                </a:lnTo>
                <a:arcTo wR="9143" hR="21600" stAng="5577008" swAng="5222992"/>
                <a:close/>
              </a:path>
            </a:pathLst>
          </a:custGeom>
          <a:solidFill>
            <a:srgbClr val="00b050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Выгнутая вверх стрелка 11"/>
          <p:cNvSpPr/>
          <p:nvPr/>
        </p:nvSpPr>
        <p:spPr>
          <a:xfrm>
            <a:off x="3143160" y="1214280"/>
            <a:ext cx="2928960" cy="714600"/>
          </a:xfrm>
          <a:custGeom>
            <a:avLst/>
            <a:gdLst>
              <a:gd name="textAreaLeft" fmla="*/ 665280 w 2928960"/>
              <a:gd name="textAreaRight" fmla="*/ 2174400 w 2928960"/>
              <a:gd name="textAreaTop" fmla="*/ 95760 h 714600"/>
              <a:gd name="textAreaBottom" fmla="*/ 618840 h 714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12" hR="21600" stAng="10800000" swAng="5400000"/>
                <a:lnTo>
                  <a:pt x="11130" y="0"/>
                </a:lnTo>
                <a:arcTo wR="9812" hR="21600" stAng="-5400000" swAng="3623178"/>
                <a:lnTo>
                  <a:pt x="21288" y="16200"/>
                </a:lnTo>
                <a:lnTo>
                  <a:pt x="20283" y="21600"/>
                </a:lnTo>
                <a:lnTo>
                  <a:pt x="18654" y="16200"/>
                </a:lnTo>
                <a:lnTo>
                  <a:pt x="19312" y="16200"/>
                </a:lnTo>
                <a:arcTo wR="9812" hR="21600" stAng="-1776822" swAng="-3518090"/>
                <a:lnTo>
                  <a:pt x="10471" y="49"/>
                </a:lnTo>
                <a:arcTo wR="9812" hR="21600" stAng="-5505088" swAng="-5294912"/>
                <a:close/>
              </a:path>
              <a:path fill="darkenLess" w="21600" h="21600">
                <a:moveTo>
                  <a:pt x="0" y="21600"/>
                </a:moveTo>
                <a:arcTo wR="9812" hR="21600" stAng="10800000" swAng="5400000"/>
                <a:lnTo>
                  <a:pt x="9812" y="0"/>
                </a:lnTo>
                <a:arcTo wR="9812" hR="21600" stAng="-5400000" swAng="105088"/>
                <a:lnTo>
                  <a:pt x="10471" y="49"/>
                </a:lnTo>
                <a:arcTo wR="9812" hR="21600" stAng="-5505088" swAng="-5294912"/>
                <a:close/>
              </a:path>
            </a:pathLst>
          </a:custGeom>
          <a:solidFill>
            <a:srgbClr val="7030a0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Прямоугольник с двумя вырезанными противолежащими углами 12"/>
          <p:cNvSpPr/>
          <p:nvPr/>
        </p:nvSpPr>
        <p:spPr>
          <a:xfrm>
            <a:off x="142920" y="5214960"/>
            <a:ext cx="8643960" cy="1500120"/>
          </a:xfrm>
          <a:prstGeom prst="pie">
            <a:avLst/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mic Sans MS"/>
              </a:rPr>
              <a:t>«Произведение  …  членов пропорции равно     ...  членов пропорции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Скругленный прямоугольник 13"/>
          <p:cNvSpPr/>
          <p:nvPr/>
        </p:nvSpPr>
        <p:spPr>
          <a:xfrm>
            <a:off x="357120" y="5214960"/>
            <a:ext cx="8358120" cy="15001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«Произведение </a:t>
            </a:r>
            <a:r>
              <a:rPr b="1" lang="ru-RU" sz="2800" spc="-1" strike="noStrike">
                <a:solidFill>
                  <a:srgbClr val="7030a0"/>
                </a:solidFill>
                <a:latin typeface="Comic Sans MS"/>
              </a:rPr>
              <a:t>крайних</a:t>
            </a: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 членов пропорции равно произведению </a:t>
            </a: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средних</a:t>
            </a: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 членов пропорции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357120" y="642960"/>
            <a:ext cx="842976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 нового вы узнали сегодня на урок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ие знания нам помогли в работе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благодарите одноклассников, которые помогли получить результат урок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ие затруднения остались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цените свою работу на урок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. 3 (стр. 16); 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85; 87(1);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28400" y="2285640"/>
            <a:ext cx="8096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думайте ряд из пяти членов последовательности, начиная с 0,2, так, чтобы каждое последующее число было в 4 раза больше предыдущего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Овал 5"/>
          <p:cNvSpPr/>
          <p:nvPr/>
        </p:nvSpPr>
        <p:spPr>
          <a:xfrm>
            <a:off x="1000080" y="428760"/>
            <a:ext cx="6500880" cy="114300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3,4 : х   = 5,1 : 0,3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Скругленный прямоугольник 6"/>
          <p:cNvSpPr/>
          <p:nvPr/>
        </p:nvSpPr>
        <p:spPr>
          <a:xfrm>
            <a:off x="3214800" y="714240"/>
            <a:ext cx="857160" cy="5716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</a:rPr>
              <a:t>0,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4200" y="-214560"/>
            <a:ext cx="81439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70c0"/>
                </a:solidFill>
                <a:latin typeface="Comic Sans MS"/>
              </a:rPr>
              <a:t>0,2; 0,8; 3,2; 12,8; 51,2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йдите среднее арифметическое первых трёх членов последовательности и выразите полученный результат в процентах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Скругленный прямоугольник 5"/>
          <p:cNvSpPr/>
          <p:nvPr/>
        </p:nvSpPr>
        <p:spPr>
          <a:xfrm>
            <a:off x="5214960" y="4572000"/>
            <a:ext cx="2214720" cy="9144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140%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672320" cy="7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простите отноше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13880" y="1500120"/>
            <a:ext cx="7696440" cy="41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1214280" y="1928880"/>
            <a:ext cx="444600" cy="100008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7" descr=""/>
          <p:cNvPicPr/>
          <p:nvPr/>
        </p:nvPicPr>
        <p:blipFill>
          <a:blip r:embed="rId2"/>
          <a:stretch/>
        </p:blipFill>
        <p:spPr>
          <a:xfrm>
            <a:off x="1071720" y="3214800"/>
            <a:ext cx="642960" cy="85716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10" descr=""/>
          <p:cNvPicPr/>
          <p:nvPr/>
        </p:nvPicPr>
        <p:blipFill>
          <a:blip r:embed="rId3"/>
          <a:stretch/>
        </p:blipFill>
        <p:spPr>
          <a:xfrm>
            <a:off x="1214280" y="4286160"/>
            <a:ext cx="428760" cy="11289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2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13" descr=""/>
          <p:cNvPicPr/>
          <p:nvPr/>
        </p:nvPicPr>
        <p:blipFill>
          <a:blip r:embed="rId4"/>
          <a:stretch/>
        </p:blipFill>
        <p:spPr>
          <a:xfrm>
            <a:off x="2357280" y="1857240"/>
            <a:ext cx="238320" cy="10717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15" descr=""/>
          <p:cNvPicPr/>
          <p:nvPr/>
        </p:nvPicPr>
        <p:blipFill>
          <a:blip r:embed="rId5"/>
          <a:stretch/>
        </p:blipFill>
        <p:spPr>
          <a:xfrm>
            <a:off x="2286000" y="3214800"/>
            <a:ext cx="357120" cy="8031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7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18" descr=""/>
          <p:cNvPicPr/>
          <p:nvPr/>
        </p:nvPicPr>
        <p:blipFill>
          <a:blip r:embed="rId6"/>
          <a:stretch/>
        </p:blipFill>
        <p:spPr>
          <a:xfrm>
            <a:off x="2214720" y="4214880"/>
            <a:ext cx="428400" cy="96516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0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13840" y="152280"/>
            <a:ext cx="8001000" cy="163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анные равенства разделите на две группы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13880" y="1285920"/>
            <a:ext cx="769644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5+13=50-1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•5=а-8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:4=6: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5:в=4 •5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1: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785880" y="3000240"/>
            <a:ext cx="571320" cy="7621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6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Picture 7" descr=""/>
          <p:cNvPicPr/>
          <p:nvPr/>
        </p:nvPicPr>
        <p:blipFill>
          <a:blip r:embed="rId2"/>
          <a:stretch/>
        </p:blipFill>
        <p:spPr>
          <a:xfrm>
            <a:off x="1785960" y="3000240"/>
            <a:ext cx="642960" cy="72396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9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10" descr=""/>
          <p:cNvPicPr/>
          <p:nvPr/>
        </p:nvPicPr>
        <p:blipFill>
          <a:blip r:embed="rId3"/>
          <a:stretch/>
        </p:blipFill>
        <p:spPr>
          <a:xfrm>
            <a:off x="1071720" y="4143240"/>
            <a:ext cx="214200" cy="96516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12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3840" y="152280"/>
            <a:ext cx="8001000" cy="163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13880" y="1285920"/>
            <a:ext cx="769644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5+13=50-12                   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•5=а-84                    3:4=6: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5:в=4 •5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1: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4786200" y="1214280"/>
            <a:ext cx="571680" cy="7621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6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Picture 7" descr=""/>
          <p:cNvPicPr/>
          <p:nvPr/>
        </p:nvPicPr>
        <p:blipFill>
          <a:blip r:embed="rId2"/>
          <a:stretch/>
        </p:blipFill>
        <p:spPr>
          <a:xfrm>
            <a:off x="5786280" y="1214280"/>
            <a:ext cx="642960" cy="72396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9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10" descr=""/>
          <p:cNvPicPr/>
          <p:nvPr/>
        </p:nvPicPr>
        <p:blipFill>
          <a:blip r:embed="rId3"/>
          <a:stretch/>
        </p:blipFill>
        <p:spPr>
          <a:xfrm>
            <a:off x="4857840" y="3429000"/>
            <a:ext cx="214200" cy="96516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12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3840" y="152280"/>
            <a:ext cx="8001000" cy="163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ставшиеся равенства разделите еще на две групп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42960" y="1357200"/>
            <a:ext cx="769608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:4=6: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1: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4714920" y="1857240"/>
            <a:ext cx="571320" cy="76212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6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7" descr=""/>
          <p:cNvPicPr/>
          <p:nvPr/>
        </p:nvPicPr>
        <p:blipFill>
          <a:blip r:embed="rId2"/>
          <a:stretch/>
        </p:blipFill>
        <p:spPr>
          <a:xfrm>
            <a:off x="5857920" y="1857240"/>
            <a:ext cx="642960" cy="7239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9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10" descr=""/>
          <p:cNvPicPr/>
          <p:nvPr/>
        </p:nvPicPr>
        <p:blipFill>
          <a:blip r:embed="rId3"/>
          <a:stretch/>
        </p:blipFill>
        <p:spPr>
          <a:xfrm>
            <a:off x="4714920" y="3500280"/>
            <a:ext cx="285840" cy="96552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2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Скругленный прямоугольник 21"/>
          <p:cNvSpPr/>
          <p:nvPr/>
        </p:nvSpPr>
        <p:spPr>
          <a:xfrm>
            <a:off x="2928960" y="5786280"/>
            <a:ext cx="4343400" cy="9144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Прямоугольник с двумя вырезанными противолежащими углами 20"/>
          <p:cNvSpPr/>
          <p:nvPr/>
        </p:nvSpPr>
        <p:spPr>
          <a:xfrm>
            <a:off x="642960" y="3857760"/>
            <a:ext cx="7572240" cy="785520"/>
          </a:xfrm>
          <a:prstGeom prst="pie">
            <a:avLst/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Скругленный прямоугольник 15"/>
          <p:cNvSpPr/>
          <p:nvPr/>
        </p:nvSpPr>
        <p:spPr>
          <a:xfrm>
            <a:off x="2357280" y="4714920"/>
            <a:ext cx="2200320" cy="10573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Скругленный прямоугольник 13"/>
          <p:cNvSpPr/>
          <p:nvPr/>
        </p:nvSpPr>
        <p:spPr>
          <a:xfrm>
            <a:off x="1500120" y="2000160"/>
            <a:ext cx="7358040" cy="14288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571320" y="1428840"/>
            <a:ext cx="77864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:4=6: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mic Sans MS"/>
              </a:rPr>
              <a:t>Истинные равенства двух отношен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mic Sans MS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1: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ожные равенств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4786200" y="2071800"/>
            <a:ext cx="517680" cy="6904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6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Picture 7" descr=""/>
          <p:cNvPicPr/>
          <p:nvPr/>
        </p:nvPicPr>
        <p:blipFill>
          <a:blip r:embed="rId2"/>
          <a:stretch/>
        </p:blipFill>
        <p:spPr>
          <a:xfrm>
            <a:off x="5786280" y="2071800"/>
            <a:ext cx="571680" cy="64296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9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4" name="Picture 10" descr=""/>
          <p:cNvPicPr/>
          <p:nvPr/>
        </p:nvPicPr>
        <p:blipFill>
          <a:blip r:embed="rId3"/>
          <a:stretch/>
        </p:blipFill>
        <p:spPr>
          <a:xfrm>
            <a:off x="2643120" y="4786200"/>
            <a:ext cx="285840" cy="96516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16"/>
          <p:cNvSpPr/>
          <p:nvPr/>
        </p:nvSpPr>
        <p:spPr>
          <a:xfrm>
            <a:off x="714240" y="0"/>
            <a:ext cx="6929640" cy="1785960"/>
          </a:xfrm>
          <a:prstGeom prst="rect">
            <a:avLst/>
          </a:prstGeom>
          <a:solidFill>
            <a:srgbClr val="ffffcc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omic Sans MS"/>
              </a:rPr>
              <a:t>Пропорц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Стрелка вниз 19"/>
          <p:cNvSpPr/>
          <p:nvPr/>
        </p:nvSpPr>
        <p:spPr>
          <a:xfrm>
            <a:off x="928800" y="1428840"/>
            <a:ext cx="428400" cy="2428920"/>
          </a:xfrm>
          <a:prstGeom prst="downArrow">
            <a:avLst>
              <a:gd name="adj1" fmla="val 50000"/>
              <a:gd name="adj2" fmla="val 50030"/>
            </a:avLst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044 E">
                                      <p:cBhvr>
                                        <p:cTn id="74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8400" y="151920"/>
            <a:ext cx="7715160" cy="8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Arial"/>
                <a:ea typeface="Arial"/>
              </a:rPr>
              <a:t>3:4 = 6:8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56760" y="1857240"/>
            <a:ext cx="8572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omic Sans MS"/>
              </a:rPr>
              <a:t>В зависимости от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omic Sans MS"/>
              </a:rPr>
              <a:t>                </a:t>
            </a:r>
            <a:r>
              <a:rPr b="0" lang="ru-RU" sz="4000" spc="-1" strike="noStrike">
                <a:solidFill>
                  <a:srgbClr val="0070c0"/>
                </a:solidFill>
                <a:latin typeface="Comic Sans MS"/>
              </a:rPr>
              <a:t>местоположен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4:46:35Z</dcterms:created>
  <dc:creator>OFFICE</dc:creator>
  <dc:description/>
  <dc:language>en-US</dc:language>
  <cp:lastModifiedBy>Мама</cp:lastModifiedBy>
  <dcterms:modified xsi:type="dcterms:W3CDTF">2012-01-10T20:38:37Z</dcterms:modified>
  <cp:revision>26</cp:revision>
  <dc:subject/>
  <dc:title>Слайд 1</dc:title>
</cp:coreProperties>
</file>