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44C-A9C6-4C16-9205-FAE2AA5A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42D-1685-43D9-87CF-3A1B8B50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EFE-456A-49A8-A0B0-1F099C13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ED1-BACB-4832-9499-3562D50C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0C04-080E-459A-88F3-6D415EC2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67D7-E258-4860-8E65-1F3B05C1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C265-4C82-4AB5-8AA1-55F785AA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26DD-CF4D-47FA-B616-08D1D2C3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50EE-922B-4C7F-BE1B-7FB53615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2D4B-F4D9-4224-BCD0-AA4DD3F0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5FAD-F718-4C5C-AC97-D0700CA4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EDF-8670-450D-B3A9-BF553E4E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BBBD-281B-4427-9760-4D307611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E880-BFF8-44BF-B9A5-6F5AFA0E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280D-5BFC-4433-9746-B20D6608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D04A-D1E2-463B-805F-35B823DD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6D29-1A1D-477A-BFC1-7F9E2036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449-5418-4B9D-9B11-4C6DF11B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4E87-6359-4196-9AD3-C1F313FE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027-54DE-4953-A1FD-F222BC44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D62E-2B0F-4E9F-80B6-181056B4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206-83DE-48D6-9C2A-88EB2633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2D8-6EA5-483E-B829-0468C04D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B31-5E9A-4E34-9264-B5E5447E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4EBF-9F38-4D83-B790-98FB092263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2634-EADB-4EFA-BC52-375D2ECFF8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917680" y="5805360"/>
            <a:ext cx="322596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2395800" y="3000240"/>
            <a:ext cx="65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Отношения в решении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771516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  <a:ea typeface="Arial"/>
              </a:rPr>
              <a:t>3</a:t>
            </a:r>
            <a:r>
              <a:rPr b="1" lang="ru-RU" sz="6000" spc="-1" strike="noStrike">
                <a:solidFill>
                  <a:srgbClr val="00b050"/>
                </a:solidFill>
                <a:latin typeface="Arial"/>
                <a:ea typeface="Arial"/>
              </a:rPr>
              <a:t>:4 = 6:</a:t>
            </a:r>
            <a:r>
              <a:rPr b="1" lang="ru-RU" sz="6000" spc="-1" strike="noStrike">
                <a:solidFill>
                  <a:srgbClr val="7030a0"/>
                </a:solidFill>
                <a:latin typeface="Arial"/>
                <a:ea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356840" y="2928600"/>
            <a:ext cx="68151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ru-RU" sz="4000" spc="-1" strike="noStrike">
                <a:solidFill>
                  <a:srgbClr val="00b050"/>
                </a:solidFill>
                <a:latin typeface="Comic Sans MS"/>
              </a:rPr>
              <a:t>сред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сновное свойство пропорц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285920" y="-214200"/>
            <a:ext cx="67723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край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Выгнутая вниз стрелка 10"/>
          <p:cNvSpPr/>
          <p:nvPr/>
        </p:nvSpPr>
        <p:spPr>
          <a:xfrm>
            <a:off x="3786120" y="2714760"/>
            <a:ext cx="1571760" cy="642960"/>
          </a:xfrm>
          <a:custGeom>
            <a:avLst/>
            <a:gdLst>
              <a:gd name="textAreaLeft" fmla="*/ 332640 w 1571760"/>
              <a:gd name="textAreaRight" fmla="*/ 1158840 w 157176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-3517045"/>
                <a:lnTo>
                  <a:pt x="21310" y="5400"/>
                </a:lnTo>
                <a:lnTo>
                  <a:pt x="19391" y="0"/>
                </a:lnTo>
                <a:lnTo>
                  <a:pt x="16892" y="5400"/>
                </a:lnTo>
                <a:lnTo>
                  <a:pt x="17996" y="5400"/>
                </a:lnTo>
                <a:arcTo wR="9143" hR="21600" stAng="1882955" swAng="3340037"/>
                <a:lnTo>
                  <a:pt x="10248" y="21442"/>
                </a:lnTo>
                <a:arcTo wR="9143" hR="21600" stAng="5577008" swAng="5222992"/>
                <a:close/>
              </a:path>
              <a:path fill="darkenLess"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177008"/>
                <a:lnTo>
                  <a:pt x="10248" y="21442"/>
                </a:lnTo>
                <a:arcTo wR="9143" hR="21600" stAng="5577008" swAng="5222992"/>
                <a:close/>
              </a:path>
            </a:pathLst>
          </a:custGeom>
          <a:solidFill>
            <a:srgbClr val="00b05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Выгнутая вверх стрелка 11"/>
          <p:cNvSpPr/>
          <p:nvPr/>
        </p:nvSpPr>
        <p:spPr>
          <a:xfrm>
            <a:off x="3143160" y="1214280"/>
            <a:ext cx="2928960" cy="714600"/>
          </a:xfrm>
          <a:custGeom>
            <a:avLst/>
            <a:gdLst>
              <a:gd name="textAreaLeft" fmla="*/ 665280 w 2928960"/>
              <a:gd name="textAreaRight" fmla="*/ 2174400 w 292896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12" hR="21600" stAng="10800000" swAng="5400000"/>
                <a:lnTo>
                  <a:pt x="11130" y="0"/>
                </a:lnTo>
                <a:arcTo wR="9812" hR="21600" stAng="-5400000" swAng="3623178"/>
                <a:lnTo>
                  <a:pt x="21288" y="16200"/>
                </a:lnTo>
                <a:lnTo>
                  <a:pt x="20283" y="21600"/>
                </a:lnTo>
                <a:lnTo>
                  <a:pt x="18654" y="16200"/>
                </a:lnTo>
                <a:lnTo>
                  <a:pt x="19312" y="16200"/>
                </a:lnTo>
                <a:arcTo wR="9812" hR="21600" stAng="-1776822" swAng="-3518090"/>
                <a:lnTo>
                  <a:pt x="10471" y="49"/>
                </a:lnTo>
                <a:arcTo wR="9812" hR="21600" stAng="-5505088" swAng="-5294912"/>
                <a:close/>
              </a:path>
              <a:path fill="darkenLess" w="21600" h="21600">
                <a:moveTo>
                  <a:pt x="0" y="21600"/>
                </a:moveTo>
                <a:arcTo wR="9812" hR="21600" stAng="10800000" swAng="5400000"/>
                <a:lnTo>
                  <a:pt x="9812" y="0"/>
                </a:lnTo>
                <a:arcTo wR="9812" hR="21600" stAng="-5400000" swAng="105088"/>
                <a:lnTo>
                  <a:pt x="10471" y="49"/>
                </a:lnTo>
                <a:arcTo wR="9812" hR="21600" stAng="-5505088" swAng="-5294912"/>
                <a:close/>
              </a:path>
            </a:pathLst>
          </a:custGeom>
          <a:solidFill>
            <a:srgbClr val="7030a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Прямоугольник с двумя вырезанными противолежащими углами 12"/>
          <p:cNvSpPr/>
          <p:nvPr/>
        </p:nvSpPr>
        <p:spPr>
          <a:xfrm>
            <a:off x="142920" y="4286160"/>
            <a:ext cx="8643960" cy="1500120"/>
          </a:xfrm>
          <a:prstGeom prst="pi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«Произведение  …  членов пропорции равно     ...  членов пропорци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Скругленный прямоугольник 13"/>
          <p:cNvSpPr/>
          <p:nvPr/>
        </p:nvSpPr>
        <p:spPr>
          <a:xfrm>
            <a:off x="285840" y="4286160"/>
            <a:ext cx="8358120" cy="1500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«Произведение </a:t>
            </a: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край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 равно произведению 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сред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771516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  <a:ea typeface="Arial"/>
              </a:rPr>
              <a:t>а</a:t>
            </a:r>
            <a:r>
              <a:rPr b="1" lang="ru-RU" sz="6000" spc="-1" strike="noStrike">
                <a:solidFill>
                  <a:srgbClr val="00b050"/>
                </a:solidFill>
                <a:latin typeface="Arial"/>
                <a:ea typeface="Arial"/>
              </a:rPr>
              <a:t>:в = с:</a:t>
            </a:r>
            <a:r>
              <a:rPr b="1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356840" y="2928600"/>
            <a:ext cx="68151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ru-RU" sz="4000" spc="-1" strike="noStrike">
                <a:solidFill>
                  <a:srgbClr val="00b050"/>
                </a:solidFill>
                <a:latin typeface="Comic Sans MS"/>
              </a:rPr>
              <a:t>сред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85920" y="-214200"/>
            <a:ext cx="67723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край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Выгнутая вниз стрелка 10"/>
          <p:cNvSpPr/>
          <p:nvPr/>
        </p:nvSpPr>
        <p:spPr>
          <a:xfrm>
            <a:off x="3786120" y="2714760"/>
            <a:ext cx="1571760" cy="642960"/>
          </a:xfrm>
          <a:custGeom>
            <a:avLst/>
            <a:gdLst>
              <a:gd name="textAreaLeft" fmla="*/ 332640 w 1571760"/>
              <a:gd name="textAreaRight" fmla="*/ 1158840 w 157176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-3517045"/>
                <a:lnTo>
                  <a:pt x="21310" y="5400"/>
                </a:lnTo>
                <a:lnTo>
                  <a:pt x="19391" y="0"/>
                </a:lnTo>
                <a:lnTo>
                  <a:pt x="16892" y="5400"/>
                </a:lnTo>
                <a:lnTo>
                  <a:pt x="17996" y="5400"/>
                </a:lnTo>
                <a:arcTo wR="9143" hR="21600" stAng="1882955" swAng="3340037"/>
                <a:lnTo>
                  <a:pt x="10248" y="21442"/>
                </a:lnTo>
                <a:arcTo wR="9143" hR="21600" stAng="5577008" swAng="5222992"/>
                <a:close/>
              </a:path>
              <a:path fill="darkenLess"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177008"/>
                <a:lnTo>
                  <a:pt x="10248" y="21442"/>
                </a:lnTo>
                <a:arcTo wR="9143" hR="21600" stAng="5577008" swAng="5222992"/>
                <a:close/>
              </a:path>
            </a:pathLst>
          </a:custGeom>
          <a:solidFill>
            <a:srgbClr val="00b05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Выгнутая вверх стрелка 11"/>
          <p:cNvSpPr/>
          <p:nvPr/>
        </p:nvSpPr>
        <p:spPr>
          <a:xfrm>
            <a:off x="3143160" y="1214280"/>
            <a:ext cx="2928960" cy="714600"/>
          </a:xfrm>
          <a:custGeom>
            <a:avLst/>
            <a:gdLst>
              <a:gd name="textAreaLeft" fmla="*/ 665280 w 2928960"/>
              <a:gd name="textAreaRight" fmla="*/ 2174400 w 292896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12" hR="21600" stAng="10800000" swAng="5400000"/>
                <a:lnTo>
                  <a:pt x="11130" y="0"/>
                </a:lnTo>
                <a:arcTo wR="9812" hR="21600" stAng="-5400000" swAng="3623178"/>
                <a:lnTo>
                  <a:pt x="21288" y="16200"/>
                </a:lnTo>
                <a:lnTo>
                  <a:pt x="20283" y="21600"/>
                </a:lnTo>
                <a:lnTo>
                  <a:pt x="18654" y="16200"/>
                </a:lnTo>
                <a:lnTo>
                  <a:pt x="19312" y="16200"/>
                </a:lnTo>
                <a:arcTo wR="9812" hR="21600" stAng="-1776822" swAng="-3518090"/>
                <a:lnTo>
                  <a:pt x="10471" y="49"/>
                </a:lnTo>
                <a:arcTo wR="9812" hR="21600" stAng="-5505088" swAng="-5294912"/>
                <a:close/>
              </a:path>
              <a:path fill="darkenLess" w="21600" h="21600">
                <a:moveTo>
                  <a:pt x="0" y="21600"/>
                </a:moveTo>
                <a:arcTo wR="9812" hR="21600" stAng="10800000" swAng="5400000"/>
                <a:lnTo>
                  <a:pt x="9812" y="0"/>
                </a:lnTo>
                <a:arcTo wR="9812" hR="21600" stAng="-5400000" swAng="105088"/>
                <a:lnTo>
                  <a:pt x="10471" y="49"/>
                </a:lnTo>
                <a:arcTo wR="9812" hR="21600" stAng="-5505088" swAng="-5294912"/>
                <a:close/>
              </a:path>
            </a:pathLst>
          </a:custGeom>
          <a:solidFill>
            <a:srgbClr val="7030a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Прямоугольник с двумя вырезанными противолежащими углами 12"/>
          <p:cNvSpPr/>
          <p:nvPr/>
        </p:nvSpPr>
        <p:spPr>
          <a:xfrm>
            <a:off x="142920" y="4286160"/>
            <a:ext cx="8643960" cy="1500120"/>
          </a:xfrm>
          <a:prstGeom prst="pi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«Произведение  …  членов пропорции равно     ...  членов пропорци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Скругленный прямоугольник 13"/>
          <p:cNvSpPr/>
          <p:nvPr/>
        </p:nvSpPr>
        <p:spPr>
          <a:xfrm>
            <a:off x="285840" y="4286160"/>
            <a:ext cx="8358120" cy="1500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«Произведение </a:t>
            </a: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край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 равно произведению 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сред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520" y="1571400"/>
            <a:ext cx="15714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5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85840" y="214200"/>
            <a:ext cx="22860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0(устн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15:50=6: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15 •20=50• 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300=3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786120" y="1828440"/>
            <a:ext cx="52149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«Произведение </a:t>
            </a: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край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 равно произведению 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сред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5:2=60:8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0,3:4=0,9: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,5:4=3,5: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5480" y="151920"/>
            <a:ext cx="8358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к, используя основное свойство пропорции, проверить будет ли данное отношение пропорцией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14288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785880"/>
            <a:ext cx="7696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«Произведение </a:t>
            </a: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крайних</a:t>
            </a: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 членов пропорции равно произведению </a:t>
            </a:r>
            <a:r>
              <a:rPr b="1" lang="ru-RU" sz="3600" spc="-1" strike="noStrike">
                <a:solidFill>
                  <a:srgbClr val="00b050"/>
                </a:solidFill>
                <a:latin typeface="Comic Sans MS"/>
              </a:rPr>
              <a:t>средних</a:t>
            </a: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 членов пропорции»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14288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785880"/>
            <a:ext cx="7696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4 •1,5=    •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=6     пропор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9•0,01= 10 •0,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0,09 ≠ 9   не пропор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7•4  =14•2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2  =32     пропор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3•3  =2,5•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0=10   пропор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643120" y="785880"/>
            <a:ext cx="357120" cy="571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1857240" y="3071880"/>
            <a:ext cx="142920" cy="6429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Picture 9" descr=""/>
          <p:cNvPicPr/>
          <p:nvPr/>
        </p:nvPicPr>
        <p:blipFill>
          <a:blip r:embed="rId3"/>
          <a:stretch/>
        </p:blipFill>
        <p:spPr>
          <a:xfrm>
            <a:off x="3143160" y="3071880"/>
            <a:ext cx="147600" cy="663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4"/>
          <a:stretch/>
        </p:blipFill>
        <p:spPr>
          <a:xfrm>
            <a:off x="2143080" y="3714840"/>
            <a:ext cx="142920" cy="6429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3" name="Picture 7" descr=""/>
          <p:cNvPicPr/>
          <p:nvPr/>
        </p:nvPicPr>
        <p:blipFill>
          <a:blip r:embed="rId5"/>
          <a:stretch/>
        </p:blipFill>
        <p:spPr>
          <a:xfrm>
            <a:off x="3143160" y="3714840"/>
            <a:ext cx="142920" cy="6429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17" descr=""/>
          <p:cNvPicPr/>
          <p:nvPr/>
        </p:nvPicPr>
        <p:blipFill>
          <a:blip r:embed="rId6"/>
          <a:stretch/>
        </p:blipFill>
        <p:spPr>
          <a:xfrm>
            <a:off x="2000160" y="4214880"/>
            <a:ext cx="142920" cy="6429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771516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  <a:ea typeface="Arial"/>
              </a:rPr>
              <a:t>а</a:t>
            </a:r>
            <a:r>
              <a:rPr b="1" lang="ru-RU" sz="6000" spc="-1" strike="noStrike">
                <a:solidFill>
                  <a:srgbClr val="00b050"/>
                </a:solidFill>
                <a:latin typeface="Arial"/>
                <a:ea typeface="Arial"/>
              </a:rPr>
              <a:t>:в = с:</a:t>
            </a:r>
            <a:r>
              <a:rPr b="1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56760" y="1857240"/>
            <a:ext cx="781524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ru-RU" sz="4000" spc="-1" strike="noStrike">
                <a:solidFill>
                  <a:srgbClr val="00b050"/>
                </a:solidFill>
                <a:latin typeface="Comic Sans MS"/>
              </a:rPr>
              <a:t>сред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опорция- истинное равенство двух отноше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85920" y="-214200"/>
            <a:ext cx="67723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край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Выгнутая вниз стрелка 10"/>
          <p:cNvSpPr/>
          <p:nvPr/>
        </p:nvSpPr>
        <p:spPr>
          <a:xfrm>
            <a:off x="3786120" y="2714760"/>
            <a:ext cx="1571760" cy="642960"/>
          </a:xfrm>
          <a:custGeom>
            <a:avLst/>
            <a:gdLst>
              <a:gd name="textAreaLeft" fmla="*/ 332640 w 1571760"/>
              <a:gd name="textAreaRight" fmla="*/ 1158840 w 157176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-3517045"/>
                <a:lnTo>
                  <a:pt x="21310" y="5400"/>
                </a:lnTo>
                <a:lnTo>
                  <a:pt x="19391" y="0"/>
                </a:lnTo>
                <a:lnTo>
                  <a:pt x="16892" y="5400"/>
                </a:lnTo>
                <a:lnTo>
                  <a:pt x="17996" y="5400"/>
                </a:lnTo>
                <a:arcTo wR="9143" hR="21600" stAng="1882955" swAng="3340037"/>
                <a:lnTo>
                  <a:pt x="10248" y="21442"/>
                </a:lnTo>
                <a:arcTo wR="9143" hR="21600" stAng="5577008" swAng="5222992"/>
                <a:close/>
              </a:path>
              <a:path fill="darkenLess"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177008"/>
                <a:lnTo>
                  <a:pt x="10248" y="21442"/>
                </a:lnTo>
                <a:arcTo wR="9143" hR="21600" stAng="5577008" swAng="5222992"/>
                <a:close/>
              </a:path>
            </a:pathLst>
          </a:custGeom>
          <a:solidFill>
            <a:srgbClr val="00b05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Выгнутая вверх стрелка 11"/>
          <p:cNvSpPr/>
          <p:nvPr/>
        </p:nvSpPr>
        <p:spPr>
          <a:xfrm>
            <a:off x="3143160" y="1214280"/>
            <a:ext cx="2928960" cy="714600"/>
          </a:xfrm>
          <a:custGeom>
            <a:avLst/>
            <a:gdLst>
              <a:gd name="textAreaLeft" fmla="*/ 665280 w 2928960"/>
              <a:gd name="textAreaRight" fmla="*/ 2174400 w 292896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12" hR="21600" stAng="10800000" swAng="5400000"/>
                <a:lnTo>
                  <a:pt x="11130" y="0"/>
                </a:lnTo>
                <a:arcTo wR="9812" hR="21600" stAng="-5400000" swAng="3623178"/>
                <a:lnTo>
                  <a:pt x="21288" y="16200"/>
                </a:lnTo>
                <a:lnTo>
                  <a:pt x="20283" y="21600"/>
                </a:lnTo>
                <a:lnTo>
                  <a:pt x="18654" y="16200"/>
                </a:lnTo>
                <a:lnTo>
                  <a:pt x="19312" y="16200"/>
                </a:lnTo>
                <a:arcTo wR="9812" hR="21600" stAng="-1776822" swAng="-3518090"/>
                <a:lnTo>
                  <a:pt x="10471" y="49"/>
                </a:lnTo>
                <a:arcTo wR="9812" hR="21600" stAng="-5505088" swAng="-5294912"/>
                <a:close/>
              </a:path>
              <a:path fill="darkenLess" w="21600" h="21600">
                <a:moveTo>
                  <a:pt x="0" y="21600"/>
                </a:moveTo>
                <a:arcTo wR="9812" hR="21600" stAng="10800000" swAng="5400000"/>
                <a:lnTo>
                  <a:pt x="9812" y="0"/>
                </a:lnTo>
                <a:arcTo wR="9812" hR="21600" stAng="-5400000" swAng="105088"/>
                <a:lnTo>
                  <a:pt x="10471" y="49"/>
                </a:lnTo>
                <a:arcTo wR="9812" hR="21600" stAng="-5505088" swAng="-5294912"/>
                <a:close/>
              </a:path>
            </a:pathLst>
          </a:custGeom>
          <a:solidFill>
            <a:srgbClr val="7030a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Прямоугольник с двумя вырезанными противолежащими углами 12"/>
          <p:cNvSpPr/>
          <p:nvPr/>
        </p:nvSpPr>
        <p:spPr>
          <a:xfrm>
            <a:off x="142920" y="5214960"/>
            <a:ext cx="8643960" cy="1500120"/>
          </a:xfrm>
          <a:prstGeom prst="pi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«Произведение  …  членов пропорции равно     ...  членов пропорци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Скругленный прямоугольник 13"/>
          <p:cNvSpPr/>
          <p:nvPr/>
        </p:nvSpPr>
        <p:spPr>
          <a:xfrm>
            <a:off x="357120" y="5214960"/>
            <a:ext cx="8358120" cy="1500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«Произведение </a:t>
            </a: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край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 равно произведению 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сред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57120" y="642960"/>
            <a:ext cx="84297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нового вы узнали сегодня на урок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знания нам помогли в работе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благодарите одноклассников, которые помогли получить результат уро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затруднения остались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цените свою работу на урок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. 3 (стр. 16); 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85; 87(1);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28400" y="2285640"/>
            <a:ext cx="8096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думайте ряд из пяти членов последовательности, начиная с 0,2, так, чтобы каждое последующее число было в 4 раза больше предыдущего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Овал 5"/>
          <p:cNvSpPr/>
          <p:nvPr/>
        </p:nvSpPr>
        <p:spPr>
          <a:xfrm>
            <a:off x="1000080" y="428760"/>
            <a:ext cx="6500880" cy="11430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3,4 : х   = 5,1 : 0,3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Скругленный прямоугольник 6"/>
          <p:cNvSpPr/>
          <p:nvPr/>
        </p:nvSpPr>
        <p:spPr>
          <a:xfrm>
            <a:off x="3214800" y="714240"/>
            <a:ext cx="857160" cy="5716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4200" y="-214560"/>
            <a:ext cx="8143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Comic Sans MS"/>
              </a:rPr>
              <a:t>0,2; 0,8; 3,2; 12,8; 51,2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йдите среднее арифметическое первых трёх членов последовательности и выразите полученный результат в процентах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Скругленный прямоугольник 5"/>
          <p:cNvSpPr/>
          <p:nvPr/>
        </p:nvSpPr>
        <p:spPr>
          <a:xfrm>
            <a:off x="5214960" y="457200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4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7232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простите отнош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13880" y="1500120"/>
            <a:ext cx="769644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214280" y="1928880"/>
            <a:ext cx="444600" cy="10000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1071720" y="3214800"/>
            <a:ext cx="642960" cy="8571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0" descr=""/>
          <p:cNvPicPr/>
          <p:nvPr/>
        </p:nvPicPr>
        <p:blipFill>
          <a:blip r:embed="rId3"/>
          <a:stretch/>
        </p:blipFill>
        <p:spPr>
          <a:xfrm>
            <a:off x="1214280" y="4286160"/>
            <a:ext cx="428760" cy="11289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2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2357280" y="1857240"/>
            <a:ext cx="238320" cy="1071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5" descr=""/>
          <p:cNvPicPr/>
          <p:nvPr/>
        </p:nvPicPr>
        <p:blipFill>
          <a:blip r:embed="rId5"/>
          <a:stretch/>
        </p:blipFill>
        <p:spPr>
          <a:xfrm>
            <a:off x="2286000" y="3214800"/>
            <a:ext cx="357120" cy="803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7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8" descr=""/>
          <p:cNvPicPr/>
          <p:nvPr/>
        </p:nvPicPr>
        <p:blipFill>
          <a:blip r:embed="rId6"/>
          <a:stretch/>
        </p:blipFill>
        <p:spPr>
          <a:xfrm>
            <a:off x="2214720" y="4214880"/>
            <a:ext cx="428400" cy="965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001000" cy="16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нные равенства разделите на две групп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3880" y="1285920"/>
            <a:ext cx="769644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5+13=50-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•5=а-8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:4=6: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:в=4 •5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1: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85880" y="3000240"/>
            <a:ext cx="571320" cy="762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1785960" y="3000240"/>
            <a:ext cx="642960" cy="7239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3"/>
          <a:stretch/>
        </p:blipFill>
        <p:spPr>
          <a:xfrm>
            <a:off x="1071720" y="4143240"/>
            <a:ext cx="214200" cy="9651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001000" cy="16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13880" y="1285920"/>
            <a:ext cx="769644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5+13=50-12                  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•5=а-84                    3:4=6: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:в=4 •5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1: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786200" y="1214280"/>
            <a:ext cx="571680" cy="7621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2"/>
          <a:stretch/>
        </p:blipFill>
        <p:spPr>
          <a:xfrm>
            <a:off x="5786280" y="1214280"/>
            <a:ext cx="642960" cy="7239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3"/>
          <a:stretch/>
        </p:blipFill>
        <p:spPr>
          <a:xfrm>
            <a:off x="4857840" y="3429000"/>
            <a:ext cx="214200" cy="9651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001000" cy="16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тавшиеся равенства разделите еще на две групп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76960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:4=6: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1: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714920" y="1857240"/>
            <a:ext cx="571320" cy="7621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5857920" y="1857240"/>
            <a:ext cx="642960" cy="723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3"/>
          <a:stretch/>
        </p:blipFill>
        <p:spPr>
          <a:xfrm>
            <a:off x="4714920" y="3500280"/>
            <a:ext cx="285840" cy="9655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Скругленный прямоугольник 21"/>
          <p:cNvSpPr/>
          <p:nvPr/>
        </p:nvSpPr>
        <p:spPr>
          <a:xfrm>
            <a:off x="2928960" y="5786280"/>
            <a:ext cx="4343400" cy="914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Прямоугольник с двумя вырезанными противолежащими углами 20"/>
          <p:cNvSpPr/>
          <p:nvPr/>
        </p:nvSpPr>
        <p:spPr>
          <a:xfrm>
            <a:off x="642960" y="3857760"/>
            <a:ext cx="7572240" cy="785520"/>
          </a:xfrm>
          <a:prstGeom prst="pi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Скругленный прямоугольник 15"/>
          <p:cNvSpPr/>
          <p:nvPr/>
        </p:nvSpPr>
        <p:spPr>
          <a:xfrm>
            <a:off x="2357280" y="4714920"/>
            <a:ext cx="2200320" cy="10573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Скругленный прямоугольник 13"/>
          <p:cNvSpPr/>
          <p:nvPr/>
        </p:nvSpPr>
        <p:spPr>
          <a:xfrm>
            <a:off x="1500120" y="2000160"/>
            <a:ext cx="7358040" cy="1428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71320" y="1428840"/>
            <a:ext cx="7786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:4=6: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Истинные равенства двух отнош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1: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ожные равен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517680" cy="690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5786280" y="2071800"/>
            <a:ext cx="571680" cy="6429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3"/>
          <a:stretch/>
        </p:blipFill>
        <p:spPr>
          <a:xfrm>
            <a:off x="2643120" y="4786200"/>
            <a:ext cx="285840" cy="9651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6"/>
          <p:cNvSpPr/>
          <p:nvPr/>
        </p:nvSpPr>
        <p:spPr>
          <a:xfrm>
            <a:off x="714240" y="0"/>
            <a:ext cx="6929640" cy="1785960"/>
          </a:xfrm>
          <a:prstGeom prst="rect">
            <a:avLst/>
          </a:prstGeom>
          <a:solidFill>
            <a:srgbClr val="ffffcc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</a:rPr>
              <a:t>Пропорц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Стрелка вниз 19"/>
          <p:cNvSpPr/>
          <p:nvPr/>
        </p:nvSpPr>
        <p:spPr>
          <a:xfrm>
            <a:off x="928800" y="1428840"/>
            <a:ext cx="428400" cy="242892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044 E">
                                      <p:cBhvr>
                                        <p:cTn id="74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400" y="151920"/>
            <a:ext cx="771516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Arial"/>
                <a:ea typeface="Arial"/>
              </a:rPr>
              <a:t>3:4 = 6:8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56760" y="1857240"/>
            <a:ext cx="8572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В зависимости о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                </a:t>
            </a: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естополож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4:46:35Z</dcterms:created>
  <dc:creator>OFFICE</dc:creator>
  <dc:description/>
  <dc:language>en-US</dc:language>
  <cp:lastModifiedBy>Мама</cp:lastModifiedBy>
  <dcterms:modified xsi:type="dcterms:W3CDTF">2012-01-10T20:38:37Z</dcterms:modified>
  <cp:revision>26</cp:revision>
  <dc:subject/>
  <dc:title>Слайд 1</dc:title>
</cp:coreProperties>
</file>