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68B-B8F4-4EC2-AC92-3E026B9E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E3F-9717-4B6D-8D9D-CE4EAB0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F5E-0530-4268-A83A-8061567A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AE2-3607-417A-ACBC-AF28394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9881-942C-486B-B168-3275D3F5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5DD9-BB47-4623-B663-D870C12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68B-E7E3-4815-9F14-E81714AC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5CA9-38E5-400C-9DFE-FB4E157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CFA6-F231-4EE2-AD07-2854B12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FFA-4279-4AB4-ABD1-2AA188E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D11-D536-44B2-9E8E-B6958BA3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3C5-A0FE-4E67-B96A-42D379C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8029-6928-4381-8B2B-A3E212D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EDA2-1B94-466A-BC25-97496FD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B38-197A-4995-A3E8-12E94E8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85E2-F980-4921-A641-035837DB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D39-D5C9-4288-BBE5-4FD5EBB4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521-3591-49B0-9126-AF141A3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EA9-87FA-483F-8FC4-A57204F4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55D-FB0F-4C58-BC19-441215FC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E69-A459-4393-B418-C48CB8C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C5A-CEE8-4E7B-AE18-0F2ABFF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0F2-C7B2-44A3-8550-1D5834D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769-A26B-4BCD-8D50-3B59BDC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F09-2FC6-4C3B-8081-9608A97FBD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189-5DB5-46F5-9B85-7F07F1765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917680" y="5805360"/>
            <a:ext cx="32259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Comic Sans MS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2395800" y="300024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тношения в решении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4 = 6: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сновное свойство пропор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56840" y="2928600"/>
            <a:ext cx="68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Прямоугольник с двумя вырезанными противолежащими углами 12"/>
          <p:cNvSpPr/>
          <p:nvPr/>
        </p:nvSpPr>
        <p:spPr>
          <a:xfrm>
            <a:off x="142920" y="42861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Скругленный прямоугольник 13"/>
          <p:cNvSpPr/>
          <p:nvPr/>
        </p:nvSpPr>
        <p:spPr>
          <a:xfrm>
            <a:off x="285840" y="42861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520" y="1571400"/>
            <a:ext cx="1571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214200"/>
            <a:ext cx="2286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0(устн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:50=6: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15 •20=50•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300=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86120" y="1828440"/>
            <a:ext cx="521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5:2=60:8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0,3:4=0,9: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,5:4=3,5: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151920"/>
            <a:ext cx="8358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, используя основное свойство пропорции, проверить будет ли данное отношение пропорцие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14288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785880"/>
            <a:ext cx="7696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4 •1,5=    •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=6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9•0,01= 10 •0,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09 ≠ 9   не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7•4  =14•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2  =32  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3•3  =2,5•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=10   пропор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57120" cy="571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3"/>
          <a:stretch/>
        </p:blipFill>
        <p:spPr>
          <a:xfrm>
            <a:off x="3143160" y="3071880"/>
            <a:ext cx="147600" cy="663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214308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3143160" y="371484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6"/>
          <a:stretch/>
        </p:blipFill>
        <p:spPr>
          <a:xfrm>
            <a:off x="2000160" y="4214880"/>
            <a:ext cx="142920" cy="6429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  <a:ea typeface="Arial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Arial"/>
              </a:rPr>
              <a:t>:в = с: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56760" y="1857240"/>
            <a:ext cx="781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порция- истинное равенство двух отнош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85920" y="-214200"/>
            <a:ext cx="6772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край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Выгнутая вниз стрелка 10"/>
          <p:cNvSpPr/>
          <p:nvPr/>
        </p:nvSpPr>
        <p:spPr>
          <a:xfrm>
            <a:off x="3786120" y="2714760"/>
            <a:ext cx="1571760" cy="642960"/>
          </a:xfrm>
          <a:custGeom>
            <a:avLst/>
            <a:gdLst>
              <a:gd name="textAreaLeft" fmla="*/ 332640 w 1571760"/>
              <a:gd name="textAreaRight" fmla="*/ 1158840 w 157176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-3517045"/>
                <a:lnTo>
                  <a:pt x="21310" y="5400"/>
                </a:lnTo>
                <a:lnTo>
                  <a:pt x="19391" y="0"/>
                </a:lnTo>
                <a:lnTo>
                  <a:pt x="16892" y="5400"/>
                </a:lnTo>
                <a:lnTo>
                  <a:pt x="17996" y="5400"/>
                </a:lnTo>
                <a:arcTo wR="9143" hR="21600" stAng="1882955" swAng="3340037"/>
                <a:lnTo>
                  <a:pt x="10248" y="21442"/>
                </a:lnTo>
                <a:arcTo wR="9143" hR="21600" stAng="5577008" swAng="5222992"/>
                <a:close/>
              </a:path>
              <a:path fill="darkenLess" w="21600" h="21600">
                <a:moveTo>
                  <a:pt x="0" y="0"/>
                </a:moveTo>
                <a:arcTo wR="9143" hR="21600" stAng="10800000" swAng="-5400000"/>
                <a:lnTo>
                  <a:pt x="11353" y="21600"/>
                </a:lnTo>
                <a:arcTo wR="9143" hR="21600" stAng="5400000" swAng="177008"/>
                <a:lnTo>
                  <a:pt x="10248" y="21442"/>
                </a:lnTo>
                <a:arcTo wR="9143" hR="21600" stAng="5577008" swAng="5222992"/>
                <a:close/>
              </a:path>
            </a:pathLst>
          </a:custGeom>
          <a:solidFill>
            <a:srgbClr val="00b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Выгнутая вверх стрелка 11"/>
          <p:cNvSpPr/>
          <p:nvPr/>
        </p:nvSpPr>
        <p:spPr>
          <a:xfrm>
            <a:off x="3143160" y="1214280"/>
            <a:ext cx="2928960" cy="714600"/>
          </a:xfrm>
          <a:custGeom>
            <a:avLst/>
            <a:gdLst>
              <a:gd name="textAreaLeft" fmla="*/ 665280 w 2928960"/>
              <a:gd name="textAreaRight" fmla="*/ 2174400 w 29289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2" hR="21600" stAng="10800000" swAng="5400000"/>
                <a:lnTo>
                  <a:pt x="11130" y="0"/>
                </a:lnTo>
                <a:arcTo wR="9812" hR="21600" stAng="-5400000" swAng="3623178"/>
                <a:lnTo>
                  <a:pt x="21288" y="16200"/>
                </a:lnTo>
                <a:lnTo>
                  <a:pt x="20283" y="21600"/>
                </a:lnTo>
                <a:lnTo>
                  <a:pt x="18654" y="16200"/>
                </a:lnTo>
                <a:lnTo>
                  <a:pt x="19312" y="16200"/>
                </a:lnTo>
                <a:arcTo wR="9812" hR="21600" stAng="-1776822" swAng="-3518090"/>
                <a:lnTo>
                  <a:pt x="10471" y="49"/>
                </a:lnTo>
                <a:arcTo wR="9812" hR="21600" stAng="-5505088" swAng="-5294912"/>
                <a:close/>
              </a:path>
              <a:path fill="darkenLess" w="21600" h="21600">
                <a:moveTo>
                  <a:pt x="0" y="21600"/>
                </a:moveTo>
                <a:arcTo wR="9812" hR="21600" stAng="10800000" swAng="5400000"/>
                <a:lnTo>
                  <a:pt x="9812" y="0"/>
                </a:lnTo>
                <a:arcTo wR="9812" hR="21600" stAng="-5400000" swAng="105088"/>
                <a:lnTo>
                  <a:pt x="10471" y="49"/>
                </a:lnTo>
                <a:arcTo wR="9812" hR="21600" stAng="-5505088" swAng="-5294912"/>
                <a:close/>
              </a:path>
            </a:pathLst>
          </a:custGeom>
          <a:solidFill>
            <a:srgbClr val="7030a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Прямоугольник с двумя вырезанными противолежащими углами 12"/>
          <p:cNvSpPr/>
          <p:nvPr/>
        </p:nvSpPr>
        <p:spPr>
          <a:xfrm>
            <a:off x="142920" y="5214960"/>
            <a:ext cx="8643960" cy="1500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«Произведение  …  членов пропорции равно     ...  членов пропор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Скругленный прямоугольник 13"/>
          <p:cNvSpPr/>
          <p:nvPr/>
        </p:nvSpPr>
        <p:spPr>
          <a:xfrm>
            <a:off x="357120" y="5214960"/>
            <a:ext cx="8358120" cy="1500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Произведение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край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 равно произведению 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средних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 членов пропорци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4297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нания нам помогли в работ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лагодарите одноклассников, которые помогли получить результат уро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атруднения остались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. 3 (стр. 16);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85; 87(1);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28400" y="2285640"/>
            <a:ext cx="8096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думайте ряд из пяти членов последовательности, начиная с 0,2, так, чтобы каждое последующее число было в 4 раза больше предыдущег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Овал 5"/>
          <p:cNvSpPr/>
          <p:nvPr/>
        </p:nvSpPr>
        <p:spPr>
          <a:xfrm>
            <a:off x="1000080" y="428760"/>
            <a:ext cx="6500880" cy="11430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,4 : х   = 5,1 : 0,3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Скругленный прямоугольник 6"/>
          <p:cNvSpPr/>
          <p:nvPr/>
        </p:nvSpPr>
        <p:spPr>
          <a:xfrm>
            <a:off x="3214800" y="714240"/>
            <a:ext cx="857160" cy="57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143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0,2; 0,8; 3,2; 12,8; 51,2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ите среднее арифметическое первых трёх членов последовательности и выразите полученный результат в процент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Скругленный прямоугольник 5"/>
          <p:cNvSpPr/>
          <p:nvPr/>
        </p:nvSpPr>
        <p:spPr>
          <a:xfrm>
            <a:off x="5214960" y="457200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4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723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остите отно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500120"/>
            <a:ext cx="76964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444600" cy="1000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071720" y="3214800"/>
            <a:ext cx="64296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428760" cy="1128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2357280" y="1857240"/>
            <a:ext cx="238320" cy="1071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5"/>
          <a:stretch/>
        </p:blipFill>
        <p:spPr>
          <a:xfrm>
            <a:off x="2286000" y="3214800"/>
            <a:ext cx="357120" cy="803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8" descr=""/>
          <p:cNvPicPr/>
          <p:nvPr/>
        </p:nvPicPr>
        <p:blipFill>
          <a:blip r:embed="rId6"/>
          <a:stretch/>
        </p:blipFill>
        <p:spPr>
          <a:xfrm>
            <a:off x="2214720" y="4214880"/>
            <a:ext cx="428400" cy="965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нные равенства разделите на две групп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85880" y="3000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1785960" y="3000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1071720" y="414324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3880" y="1285920"/>
            <a:ext cx="7696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5+13=50-12                  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•5=а-84                    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:в=4 •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786200" y="1214280"/>
            <a:ext cx="571680" cy="76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5786280" y="121428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14200" cy="9651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00100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тавшиеся равенства разделите еще на две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76960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714920" y="1857240"/>
            <a:ext cx="571320" cy="762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5857920" y="1857240"/>
            <a:ext cx="642960" cy="723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4714920" y="3500280"/>
            <a:ext cx="285840" cy="965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Скругленный прямоугольник 21"/>
          <p:cNvSpPr/>
          <p:nvPr/>
        </p:nvSpPr>
        <p:spPr>
          <a:xfrm>
            <a:off x="2928960" y="578628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оугольник с двумя вырезанными противолежащими углами 20"/>
          <p:cNvSpPr/>
          <p:nvPr/>
        </p:nvSpPr>
        <p:spPr>
          <a:xfrm>
            <a:off x="642960" y="3857760"/>
            <a:ext cx="7572240" cy="7855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Скругленный прямоугольник 15"/>
          <p:cNvSpPr/>
          <p:nvPr/>
        </p:nvSpPr>
        <p:spPr>
          <a:xfrm>
            <a:off x="2357280" y="4714920"/>
            <a:ext cx="2200320" cy="1057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Скругленный прямоугольник 13"/>
          <p:cNvSpPr/>
          <p:nvPr/>
        </p:nvSpPr>
        <p:spPr>
          <a:xfrm>
            <a:off x="1500120" y="2000160"/>
            <a:ext cx="7358040" cy="1428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320" y="1428840"/>
            <a:ext cx="7786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:4=6: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Истинные равенства двух отнош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1: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жные равен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517680" cy="69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5786280" y="2071800"/>
            <a:ext cx="571680" cy="6429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2643120" y="4786200"/>
            <a:ext cx="285840" cy="965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6"/>
          <p:cNvSpPr/>
          <p:nvPr/>
        </p:nvSpPr>
        <p:spPr>
          <a:xfrm>
            <a:off x="714240" y="0"/>
            <a:ext cx="6929640" cy="17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Пропор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Стрелка вниз 19"/>
          <p:cNvSpPr/>
          <p:nvPr/>
        </p:nvSpPr>
        <p:spPr>
          <a:xfrm>
            <a:off x="928800" y="1428840"/>
            <a:ext cx="428400" cy="24289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044 E">
                                      <p:cBhvr>
                                        <p:cTn id="7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151920"/>
            <a:ext cx="771516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3:4 = 6:8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857240"/>
            <a:ext cx="8572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В зависимости о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               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местопо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4:46:35Z</dcterms:created>
  <dc:creator>OFFICE</dc:creator>
  <dc:description/>
  <dc:language>en-US</dc:language>
  <cp:lastModifiedBy>Мама</cp:lastModifiedBy>
  <dcterms:modified xsi:type="dcterms:W3CDTF">2012-01-10T20:38:37Z</dcterms:modified>
  <cp:revision>26</cp:revision>
  <dc:subject/>
  <dc:title>Слайд 1</dc:title>
</cp:coreProperties>
</file>