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BEB-9467-4EE9-8B05-B1C9C0A6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A57-3422-44D5-8769-F8A5F1AB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81D-49FD-4B4D-88A8-3FB19B73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027-87A3-4C29-9C52-2CB450AD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C88-C8DE-4D66-8341-10116CB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4F2-D82D-4C08-914B-3B8E72E2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6E2-BAF9-4905-B5C8-57A8D741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486-8660-49CD-B2BD-9A3AA672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0C2-D3F7-4C18-BA2C-1C17BC6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B2F-034C-48CE-B1B2-68CBA31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84E-2B64-4053-A149-3778803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D56-EFF5-4B69-9F45-4653AAE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C94F-7F4D-497F-B787-52C20908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униципальное дошкольное образовательное  учреждение детский сад комбинированного вида №12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. Сердоб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бщение с ребен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Что необходимо помнить родителям и воспит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аганова О.Н. –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меститель заведующей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Колышкина В.С.- учитель- логопед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000" y="3733920"/>
            <a:ext cx="170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отвергать: он учится чувствовать себя одинок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086440" cy="33908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 считаться с ребенком быть снисходительным : он учится быть терпеливым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095880" cy="4572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постоянно подбадривать: он учится увер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2835000" cy="4210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Если вы с ребенком честны:он учится справедлив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86160" cy="3200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15200" y="3581280"/>
            <a:ext cx="157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мните!!!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ок живет  с чувством безопасности: он учится вери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552920" cy="33991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одобряют: он учится хорошо к себе относ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62520" cy="2641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314880" cy="4419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мните! Знайте!!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ок живет в атмосфере дружбы и чувствует себя нужным: он учится находить в этом мире любов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495680" cy="43466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 общении с реб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необходимо отказаться от таких слов-заявлени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Ели ты не будешь себя вести, как положено, то тебя никто и никогда не будет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Какой же ты глуп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Бестолковый! Ну. ничего не понимаеш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никогда нельзя делать в общении с ребенком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ерекладывать на плечи ребенка свои собственные проблемы, меньше жаловаться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 допускать унижения ребенка словом, су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 делать преждевременных  и окончательных заключений о  ребенке, его личност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10280" y="3657600"/>
            <a:ext cx="15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лагодарим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2044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Знайте , что словом можно покалечить душу 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Осторожно- слов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505320" cy="26290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1179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Литератур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лексеева Е.   Психологические проблемы де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-, во Речь., 200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Гиппенрейтер Ю.Г. Общаться с ребенком. 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 -во  Психология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Яничева Г. Полезная книг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 -во Сфера, 200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артинки для презентации заимствованы на сайт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^ www.yandex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картинки.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липарт на сайт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^www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Lenagol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критикуют – он учится  осужд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у часто демонстрируют враждебность: он учится быть агрессив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62960" cy="37638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часто сравнивают: он учится зависти, ревности и неприяти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3324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3809880" cy="28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часто высмеивают: он учится быть роб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28573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6440" y="2895480"/>
            <a:ext cx="2225880" cy="33465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  не считаться с чувствами ребенка: он учится жить с чувством оби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38560" cy="48769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5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запугивают: он учится  чувствовать стр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10080" cy="423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 часто позорят: он учится чувствовать себя винова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384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076640" cy="2446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02-18T10:05:3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