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D0C-1618-425D-BFBC-2242316C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5C0-07A1-4A97-9864-71ADE12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4C3-6345-43EC-A565-E34C7A02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10D-C101-4983-AF01-BD9B1B2F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988-B646-4C20-B646-59E4F8BD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579-E068-4313-BDEF-135D059C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40D-5FDC-4397-BF77-791EA3F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64B-3F84-461A-8331-A7BD1F2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367-9972-452C-8609-9F4E057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476-9D01-41AA-A574-62A5A4F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AA4-BD43-47DE-8727-D969A60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4B1-D96E-4779-872F-C3E71648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3F76-13B3-4B81-8D13-B02434A7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униципальное дошкольное образовательное  учреждение детский сад комбинированного вида №12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. Сердоб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бщение с ребен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Что необходимо помнить родителям и воспит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аганова О.Н. –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меститель заведующей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Колышкина В.С.- учитель- логопед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000" y="3733920"/>
            <a:ext cx="170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отвергать: он учится чувствовать себя одинок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086440" cy="33908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 считаться с ребенком быть снисходительным : он учится быть терпеливым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095880" cy="4572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постоянно подбадривать: он учится увер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2835000" cy="4210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Если вы с ребенком честны:он учится справедлив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86160" cy="32004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15200" y="3581280"/>
            <a:ext cx="157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мните!!!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ок живет  с чувством безопасности: он учится вери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552920" cy="33991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одобряют: он учится хорошо к себе относ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62520" cy="2641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314880" cy="4419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мните! Знайте!!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ок живет в атмосфере дружбы и чувствует себя нужным: он учится находить в этом мире любов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495680" cy="43466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 общении с реб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необходимо отказаться от таких слов-заявлени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Ели ты не будешь себя вести, как положено, то тебя никто и никогда не будет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Какой же ты глуп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 Бестолковый! Ну. ничего не понимаеш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никогда нельзя делать в общении с ребенком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ерекладывать на плечи ребенка свои собственные проблемы, меньше жаловаться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 допускать унижения ребенка словом, су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е делать преждевременных  и окончательных заключений о  ребенке, его личност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10280" y="3657600"/>
            <a:ext cx="15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лагодарим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2044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Знайте , что словом можно покалечить душу 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Осторожно- слов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505320" cy="26290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1179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Литератур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лексеева Е.   Психологические проблемы де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-, во Речь., 200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Гиппенрейтер Ю.Г. Общаться с ребенком. 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 -во  Психология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Яничева Г. Полезная книг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з -во Сфера, 200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артинки для презентации заимствованы на сайт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^ www.yandex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картинки.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липарт на сайт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^www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Lenagol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критикуют – он учится  осужд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у часто демонстрируют враждебность: он учится быть агрессив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62960" cy="37638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часто сравнивают: он учится зависти, ревности и неприяти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3324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3809880" cy="28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часто высмеивают: он учится быть роб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28573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6440" y="2895480"/>
            <a:ext cx="2225880" cy="33465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  не считаться с чувствами ребенка: он учится жить с чувством оби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38560" cy="48769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5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Если ребенка часто запугивают: он учится  чувствовать стр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10080" cy="423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Если ребенка  часто позорят: он учится чувствовать себя винова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384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076640" cy="24462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02-18T10:05:3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