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D25-0416-415B-B584-56768AB7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46C-BA62-4E2B-8415-8BD183A1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4B5-6345-4E7D-96F8-DC9176BC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E9B-DD14-4AC5-B65B-EB7F999B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48A-1EA1-4B21-9C8F-8247226B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0A8-04DB-433A-AF7E-DC4E6539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2B51-4805-4573-98D7-2717026B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6028-309A-4946-A212-F288A80A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AA3A-0556-468F-B68E-D1264F7F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D5B-7C9A-49D1-8DD2-6541D61D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6E4E-6578-47C7-9910-502D2B78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CBB-7122-4BCF-B615-18BC8340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4A6C-BDEB-4114-8F84-C826F46CF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Муниципальное дошкольное образовательное  учреждение детский сад комбинированного вида №12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г. Сердоб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Общение с ребен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Что необходимо помнить родителям и воспитате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Таганова О.Н. –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заместитель заведующей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Колышкина В.С.- учитель- логопед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000" y="3733920"/>
            <a:ext cx="1703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Если ребенка отвергать: он учится чувствовать себя одинок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086440" cy="339084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 считаться с ребенком быть снисходительным : он учится быть терпеливым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095880" cy="45720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ребенка постоянно подбадривать: он учится увер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2835000" cy="42102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Если вы с ребенком честны:он учится справедлив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286160" cy="32004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315200" y="3581280"/>
            <a:ext cx="157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Помните!!!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ребенок живет  с чувством безопасности: он учится вери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552920" cy="33991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Если ребенка часто одобряют: он учится хорошо к себе относи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962520" cy="26416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314880" cy="44197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Помните! Знайте!!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ребенок живет в атмосфере дружбы и чувствует себя нужным: он учится находить в этом мире любовь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495680" cy="434664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В общении с ребен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необходимо отказаться от таких слов-заявлений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« Ели ты не будешь себя вести, как положено, то тебя никто и никогда не будет люби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« Какой же ты глуп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« Бестолковый! Ну. ничего не понимаеш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Что никогда нельзя делать в общении с ребенком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ерекладывать на плечи ребенка свои собственные проблемы, меньше жаловаться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е допускать унижения ребенка словом, су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е делать преждевременных  и окончательных заключений о  ребенке, его личност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010280" y="3657600"/>
            <a:ext cx="1528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Благодарим за внимание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34320" y="3962520"/>
            <a:ext cx="204444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Знайте , что словом можно покалечить душу  ребе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Осторожно- слов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57800" y="3429000"/>
            <a:ext cx="3505320" cy="26290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4648320"/>
            <a:ext cx="1179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Литератур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Алексеева Е.   Психологические проблемы детей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з-, во Речь., 2009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Гиппенрейтер Ю.Г. Общаться с ребенком. Ка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з -во  Психология, 20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Яничева Г. Полезная книга 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з -во Сфера, 2007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Картинки для презентации заимствованы на сайте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^ www.yandex.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картинки.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Клипарт на сайте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^www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Lenagold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r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Если ребенка часто критикуют – он учится  осужд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6576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Если ребенку часто демонстрируют враждебность: он учится быть агрессив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62960" cy="37638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ребенка часто сравнивают: он учится зависти, ревности и неприяти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952880" cy="332424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3809880" cy="28576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ребенка часто высмеивают: он учится быть роб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810240" cy="28573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16440" y="2895480"/>
            <a:ext cx="2225880" cy="33465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Если   не считаться с чувствами ребенка: он учится жить с чувством оби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238560" cy="48769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238880" y="3962520"/>
            <a:ext cx="1528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Если ребенка часто запугивают: он учится  чувствовать стр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410080" cy="42307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ребенка  часто позорят: он учится чувствовать себя винова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038480" cy="40384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4076640" cy="24462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2-02-18T10:05:3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