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408-8140-44E6-80D9-8C333CD7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016-BD60-44A7-A9A5-BEA22E3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66A-06B4-47A3-A8B5-6B5A2CE7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5EB-BDAD-41AF-91B3-EAEC2924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B64C-475E-417D-8D36-D1AD4812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7925-B605-4DA8-8571-6C2F7DEA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364-780D-4B0D-829F-ECE3AB31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56B4-661B-4C4C-BFDF-0658E031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971A-395E-459C-A111-B4C84FC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49A5-2179-471B-A7CD-6E42F8B0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5CAB-3F51-4937-A6B5-5F30775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33A-8222-493D-8575-0289218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7EBA-CB8F-4885-9F06-4D79B41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CF0-02FF-4C55-95CA-55C7E02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55B-C112-48A3-AA69-10B2C0FC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1BD1-6954-4AEA-A647-7B4EB4FE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3D67-3779-4574-8CC0-6903E8FA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A30-D329-4644-A07A-45EBC78E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37D-B814-4EE7-A91C-6C0F739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594-F93C-4D04-A79E-996739D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BE6-7050-40BC-8076-07A33A9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7FB-E8F3-4546-9597-21D9DC1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B81-3139-4C04-9D10-8001002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EAD-7B0C-44E7-A3B9-2572670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05C-D9FC-482D-A00D-9051D67D0EEB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06D8-D472-4D25-AA77-28D6713D372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Национально-государственное устройство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9f7f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aa966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8483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187280" y="981000"/>
            <a:ext cx="748836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едеративном государств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тенция между федераци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её субъектами разграничивае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федер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итуцией и/или федеративным догов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258920" y="2276640"/>
            <a:ext cx="7488360" cy="107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только федерация, но 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бъекты федерации имеют сво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сшие законодательные, исполнительные, и, как правил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дебные орга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нимают конституции и зако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258920" y="3573360"/>
            <a:ext cx="748836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арламент, как правило, двухпалат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 из палат представляет субъекты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35280" y="981000"/>
            <a:ext cx="223200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еде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71640" y="1773360"/>
            <a:ext cx="360036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1773360"/>
            <a:ext cx="374508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71640" y="2565360"/>
            <a:ext cx="3600360" cy="367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е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суверенит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ъектов фед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ерховенством федер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сти и федера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а, запретом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сторонний выход и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а федерации и т.д.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2565360"/>
            <a:ext cx="3745080" cy="367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ятся на принцип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бровольного объедин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субъектов, обеспечив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веренитет субъ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и (включая пра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ыход из соста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и), право наций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определ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84836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116000" y="5300640"/>
            <a:ext cx="7632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1 государство в современном мире - федера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онфедерация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116000" y="1125360"/>
            <a:ext cx="7559640" cy="7909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онфедер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добровольное объединение (союз) суве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, созданный для обеспечения их общих интерес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16000" y="2133720"/>
            <a:ext cx="7559640" cy="1366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динение нескольких государств в конфедерацию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одит к образованию нового государства. Зачаст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едерации создаю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 определённое время,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остижения определённых цел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116000" y="3645000"/>
            <a:ext cx="7632720" cy="2592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ними из существовавших конфедераций бы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рбия и Черного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Сербия+Черногория, 2003—2006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негамб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Сенегал+Гамбия, 1982—1989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юз Африканских Государст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али+Гана+Гвинея, 1960—1962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онфедерация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16000" y="1341360"/>
            <a:ext cx="7559640" cy="352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дмет ведения конфедерации входит небольшой кру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лены конфедерации сохраняют свои суверенные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я право выхода из конфедер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конфедерации формируются на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ительства, а правовые акты принимаются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глашению сторон либо подлежат утвержд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ми органами сторон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3 чит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 на стр. 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План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042920" y="1197000"/>
            <a:ext cx="7777080" cy="511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а государств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территориального) устр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Унитарное государ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Конфедерац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Форма государственного устройства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052640"/>
            <a:ext cx="7705800" cy="1368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орма государственного устройст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й власти по территории (территориальной и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о-территориальной организации), характериз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ношение государства как целого с его составными част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705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42920" y="981000"/>
            <a:ext cx="77058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Унитарное государ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простое, единое, цельное государств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меющее в своём составе государственных образовани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116000" y="1989000"/>
            <a:ext cx="7559640" cy="10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унитарного государства делится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ые единицы, которые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ют признаков государствен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116000" y="3213000"/>
            <a:ext cx="755964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ествует одна конституция, один высший представительны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, одно правительство и т.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116000" y="4149720"/>
            <a:ext cx="7632720" cy="180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остав унитарного государства могут входить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национально-территориальные единицы с особ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усом, они образуются, как правило, на территор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живания национальных меньшинст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87640" y="1125360"/>
            <a:ext cx="3816360" cy="5749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нитарные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042920" y="1989000"/>
            <a:ext cx="3384720" cy="57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изова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292720" y="1989000"/>
            <a:ext cx="3384720" cy="57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централизован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042920" y="2708280"/>
            <a:ext cx="338472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х еди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уются центр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292720" y="2708280"/>
            <a:ext cx="338472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х едини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бираются населе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042920" y="4149720"/>
            <a:ext cx="7632720" cy="201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инство всех государств 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нитар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эта фор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устройства обеспечивает хорош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яемость и государственное единство, оно иде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ходит для государств с небольшой или средней территор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620120" cy="4105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1116000" y="5300640"/>
            <a:ext cx="7632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66 государств в современном мире - унита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42920" y="981000"/>
            <a:ext cx="7777080" cy="1440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едеративное государств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форма государственного устрой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котором части сложного государства являются государ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государственными образованиями, обладающими некотор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ками государствен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42920" y="2565360"/>
            <a:ext cx="7705800" cy="201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ческая федерация (например, США) представляет соб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обровольное объединение нескольких ранее самостоя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ых образований в единое государ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одна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федерации (в том числе и Российская Федера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лись путё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еобразования унитарных государ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федератив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042920" y="4724280"/>
            <a:ext cx="7705800" cy="151308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федеративного государства состоит из территор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 и государственных образований, входящих в  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 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бъектов федер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тивное государство строится на начала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центр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7040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Admin</cp:lastModifiedBy>
  <dcterms:modified xsi:type="dcterms:W3CDTF">2012-08-06T16:02:03Z</dcterms:modified>
  <cp:revision>34</cp:revision>
  <dc:subject/>
  <dc:title>Слайд 1</dc:title>
</cp:coreProperties>
</file>