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D7E5-2654-477D-B186-2D61A804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F4A6-2036-4F4F-BBE7-81BAA109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463B-0214-48AF-BF74-153749D0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9794-FDC2-4623-837B-FD10E692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BF99-77E0-4763-818E-F7FE4DB5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D267-88CC-4489-8630-DEFB52D4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2FD9-BA51-4D26-B9C1-5777AA01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04D2-41C2-4FE6-9984-EE1B3125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B4D3-7CD9-4F15-B538-A3D8CA65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2CA5-5716-4B7F-877F-D18825B7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FF35-BB00-4DE7-9C50-C9BD130F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2A98-599E-4C15-9DB5-DDAFA90B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28E2-A7D2-47F0-A8E3-CFF02BA1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729B-A20A-463B-857C-F96DB8D3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B07D-DCAB-4C3F-A234-278C5625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57D3-748C-4270-A24A-4E46FE35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2D5E-4244-48CA-9A83-B883DF92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B7CD-5382-4432-B22A-11189F18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A9E8-7FBE-4ED7-86A7-CCFDE10E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9B72-33EA-4B60-A5CD-87EA9911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7CC0-1980-4CC7-9B9B-4A5D4F13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699F-0C46-4855-9D4C-BBA11338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52F1-F4E8-45C6-811C-170CE916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BC3C-A3C1-4D30-BDBF-C4BBED32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3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A956-9B2A-4458-A162-2ECC9FE673AD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C051-F2AA-4D6D-9924-BEDDD1981E06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82400"/>
                </a:solidFill>
                <a:latin typeface="Times New Roman"/>
              </a:rPr>
              <a:t>Национально-государственное устройство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к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9f7f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aa966"/>
                </a:solidFill>
                <a:uFillTx/>
                <a:latin typeface="Times New Roman"/>
                <a:hlinkClick r:id="rId1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 Федеративное государство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84836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 Федеративное государство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1187280" y="981000"/>
            <a:ext cx="7488360" cy="1079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едеративном государстве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мпетенция между федераци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 её субъектами разграничиваетс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федераль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титуцией и/или федеративным договор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1258920" y="2276640"/>
            <a:ext cx="7488360" cy="1079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только федерация, но и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убъекты федерации имеют сво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ысшие законодательные, исполнительные, и, как правило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удебные орган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ринимают конституции и закон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258920" y="3573360"/>
            <a:ext cx="7488360" cy="1079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едеральный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арламент, как правило, двухпалатны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а из палат представляет субъекты федер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 Федеративное государство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635280" y="981000"/>
            <a:ext cx="2232000" cy="719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Федер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971640" y="1773360"/>
            <a:ext cx="3600360" cy="718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альны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5003640" y="1773360"/>
            <a:ext cx="3745080" cy="718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циональны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971640" y="2565360"/>
            <a:ext cx="3600360" cy="367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арактеризую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начительны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граничением суверените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убъектов федера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верховенством федераль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ласти и федераль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а, запретом 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осторонний выход из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става федерации и т.д.)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5003640" y="2565360"/>
            <a:ext cx="3745080" cy="367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роятся на принцип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бровольного объедин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ё субъектов, обеспечиваю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уверенитет субъе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едерации (включая прав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выход из состав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едерации), право наций 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моопределени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 Федеративное государство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848360" cy="4176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1116000" y="5300640"/>
            <a:ext cx="7632720" cy="865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1 государство в современном мире - федератив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. Конфедерация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1116000" y="1125360"/>
            <a:ext cx="7559640" cy="790920"/>
          </a:xfrm>
          <a:prstGeom prst="roundRect">
            <a:avLst>
              <a:gd name="adj" fmla="val 16667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Конфедераци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добровольное объединение (союз) сувере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сударств, созданный для обеспечения их общих интерес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1116000" y="2133720"/>
            <a:ext cx="7559640" cy="13665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ъединение нескольких государств в конфедерацию н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водит к образованию нового государства. Зачастую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федерации создаютс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а определённое время, дл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остижения определённых целе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1116000" y="3645000"/>
            <a:ext cx="7632720" cy="2592360"/>
          </a:xfrm>
          <a:prstGeom prst="roundRect">
            <a:avLst>
              <a:gd name="adj" fmla="val 16667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дними из существовавших конфедераций был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ербия и Черногор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Сербия+Черногория, 2003—2006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енегамб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Сенегал+Гамбия, 1982—1989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оюз Африканских Государст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Мали+Гана+Гвинея, 1960—1962)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. Конфедерация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1116000" y="1341360"/>
            <a:ext cx="7559640" cy="3527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предмет ведения конфедерации входит небольшой кру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прос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лены конфедерации сохраняют свои суверенные прав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ая право выхода из конфедерац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ганы конфедерации формируются на основ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ставительства, а правовые акты принимаются п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глашению сторон либо подлежат утверждению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ыми органами сторон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Домашнее задание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116000" y="1125360"/>
            <a:ext cx="7632720" cy="511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§3 читат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веть на вопросы и задания на стр. 28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ить проблему, выполнить практику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вые слова выучит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чая тетрадь, задания к §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82400"/>
                </a:solidFill>
                <a:latin typeface="Times New Roman"/>
              </a:rPr>
              <a:t>План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042920" y="1197000"/>
            <a:ext cx="7777080" cy="5111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Форма государственн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территориального) устройств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. Унитарное государство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. Федеративное государство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4. Конфедерац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. Форма государственного устройства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042920" y="1052640"/>
            <a:ext cx="7705800" cy="1368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Форма государственного устройства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способ организа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ой власти по территории (территориальной ил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ционально-территориальной организации), характеризующ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отношение государства как целого с его составными частя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77058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. Унитарное государство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042920" y="981000"/>
            <a:ext cx="7705800" cy="792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Унитарное государств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- простое, единое, цельное государство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имеющее в своём составе государственных образований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1116000" y="1989000"/>
            <a:ext cx="7559640" cy="1008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я унитарного государства делится 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дминистративно-территориальные единицы, которые 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еют признаков государственност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1116000" y="3213000"/>
            <a:ext cx="7559640" cy="720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уществует одна конституция, один высший представительны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ган, одно правительство и т.д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1116000" y="4149720"/>
            <a:ext cx="7632720" cy="1800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состав унитарного государства могут входить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автоном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образован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национально-территориальные единицы с особы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тусом, они образуются, как правило, на территория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живания национальных меньшинст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. Унитарное государство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987640" y="1125360"/>
            <a:ext cx="3816360" cy="574920"/>
          </a:xfrm>
          <a:prstGeom prst="roundRect">
            <a:avLst>
              <a:gd name="adj" fmla="val 16667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нитарные государ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1042920" y="1989000"/>
            <a:ext cx="3384720" cy="576360"/>
          </a:xfrm>
          <a:prstGeom prst="roundRect">
            <a:avLst>
              <a:gd name="adj" fmla="val 16667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изован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5292720" y="1989000"/>
            <a:ext cx="3384720" cy="576360"/>
          </a:xfrm>
          <a:prstGeom prst="roundRect">
            <a:avLst>
              <a:gd name="adj" fmla="val 16667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централизованны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042920" y="2708280"/>
            <a:ext cx="3384720" cy="1297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ганы вла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дминистративн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альных еди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уются центр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5292720" y="2708280"/>
            <a:ext cx="3384720" cy="1297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ганы вла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дминистративн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альных единиц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бираются население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1042920" y="4149720"/>
            <a:ext cx="7632720" cy="2016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шинство всех государств -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нитарны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эта форм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ого устройства обеспечивает хорошу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правляемость и государственное единство, оно идеаль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ходит для государств с небольшой или средней территори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. Унитарное государство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620120" cy="41050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0"/>
          <p:cNvSpPr/>
          <p:nvPr/>
        </p:nvSpPr>
        <p:spPr>
          <a:xfrm>
            <a:off x="1116000" y="5300640"/>
            <a:ext cx="7632720" cy="865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66 государств в современном мире - унитар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 Федеративное государство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042920" y="981000"/>
            <a:ext cx="7777080" cy="1440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Федеративное государство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форма государственного устройств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котором части сложного государства являются государств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ли государственными образованиями, обладающими некоторы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знаками государственност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042920" y="2565360"/>
            <a:ext cx="7705800" cy="201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лассическая федерация (например, США) представляет соб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обровольное объединение нескольких ранее самостоятельн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государственных образований в единое государств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однак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которые федерации (в том числе и Российская Федерац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разовались путё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реобразования унитарных государст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 федеративны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042920" y="4724280"/>
            <a:ext cx="7705800" cy="1513080"/>
          </a:xfrm>
          <a:prstGeom prst="roundRect">
            <a:avLst>
              <a:gd name="adj" fmla="val 16667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я федеративного государства состоит из территор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сударств и государственных образований, входящих в  е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став -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убъектов федерац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едеративное государство строится на началах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ецентрал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 Федеративное государство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70400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4T09:35:37Z</dcterms:created>
  <dc:creator>User</dc:creator>
  <dc:description/>
  <dc:language>en-US</dc:language>
  <cp:lastModifiedBy>Admin</cp:lastModifiedBy>
  <dcterms:modified xsi:type="dcterms:W3CDTF">2012-08-06T16:02:03Z</dcterms:modified>
  <cp:revision>34</cp:revision>
  <dc:subject/>
  <dc:title>Слайд 1</dc:title>
</cp:coreProperties>
</file>