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F22-0AB7-42F1-9D0E-9A9F7259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25E-DA44-4FB6-B3F4-D20C010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59C-5961-431A-9B0E-6907CD4A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D87-CE7E-4DF7-9C32-66DE4A21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A848-23E1-4CA0-8AC7-EFD5E71D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A83-38B1-4288-950E-801800F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5538-98B8-4229-9385-D85EA76D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D5C-FDD8-4971-88EC-43D4D092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0DCE-FB4B-433A-A6AB-6011A7A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D9CF-1D05-4D88-B94D-D810CF4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56A-DFB3-405C-9906-C8BB2C6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006-C823-42D0-ADE2-DAA2B2B1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061-65B3-4AD1-824B-F7ABA73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6A00-5EEB-447A-96E4-8B2E05F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CF7B-5105-4E70-907B-48D6BFF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94E-86C3-45B9-B81D-8560B490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0799-D7AA-4663-9E17-6E557507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AD0-1CC0-4A9C-8D2C-68EE6EB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083-E0D5-4BF2-B8BF-8F9AC89E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1E6-78A8-4E7B-B4BD-88D060C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365-BAC6-4B1F-B032-278AB81C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793-0D58-40DD-AB81-9F160EC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F19-661D-4058-8BD4-5A69B5D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D78-F89A-45DE-9B39-C7607BB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ABA-A9E5-4D3C-BE92-F3CFA1A0552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3848-1327-4BD2-9A29-B7B321CD1346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Национально-государственное устройство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9f7f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aa966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8483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187280" y="981000"/>
            <a:ext cx="748836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едеративном государств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петенция между федераци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её субъектами разграничивае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федер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итуцией и/или федеративным догов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258920" y="2276640"/>
            <a:ext cx="7488360" cy="107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только федерация, но 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бъекты федерации имеют сво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сшие законодательные, исполнительные, и, как правил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дебные орга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нимают конституции и зако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258920" y="3573360"/>
            <a:ext cx="748836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арламент, как правило, двухпалат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 из палат представляет субъекты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35280" y="981000"/>
            <a:ext cx="2232000" cy="719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еде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71640" y="1773360"/>
            <a:ext cx="360036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1773360"/>
            <a:ext cx="3745080" cy="718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71640" y="2565360"/>
            <a:ext cx="3600360" cy="367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е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суверенит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ъектов фед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ерховенством федер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сти и федера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а, запретом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сторонний выход и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а федерации и т.д.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2565360"/>
            <a:ext cx="3745080" cy="367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ятся на принцип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бровольного объедин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субъектов, обеспечив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веренитет субъ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и (включая пра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ыход из соста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ции), право наций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определ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84836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116000" y="5300640"/>
            <a:ext cx="7632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1 государство в современном мире - федера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онфедерация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116000" y="1125360"/>
            <a:ext cx="7559640" cy="7909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онфедер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добровольное объединение (союз) суве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, созданный для обеспечения их общих интерес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16000" y="2133720"/>
            <a:ext cx="7559640" cy="1366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динение нескольких государств в конфедерацию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одит к образованию нового государства. Зачаст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едерации создаю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 определённое время,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остижения определённых цел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116000" y="3645000"/>
            <a:ext cx="7632720" cy="2592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ними из существовавших конфедераций бы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рбия и Черного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Сербия+Черногория, 2003—2006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негамб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Сенегал+Гамбия, 1982—1989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юз Африканских Государст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али+Гана+Гвинея, 1960—1962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Конфедерация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16000" y="1341360"/>
            <a:ext cx="7559640" cy="352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дмет ведения конфедерации входит небольшой кру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лены конфедерации сохраняют свои суверенные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я право выхода из конфедера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конфедерации формируются на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ительства, а правовые акты принимаются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глашению сторон либо подлежат утвержд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ми органами сторон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1125360"/>
            <a:ext cx="7632720" cy="511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§3 чит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ь на вопросы и задания на стр. 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ть проблему, выполнить практику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е слова вы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ая тетрадь, задания к §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План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042920" y="1197000"/>
            <a:ext cx="7777080" cy="5111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а государств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территориального) устр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Унитарное государ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Конфедерац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Форма государственного устройства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052640"/>
            <a:ext cx="7705800" cy="1368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орма государственного устройст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пособ 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й власти по территории (территориальной и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о-территориальной организации), характериз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ношение государства как целого с его составными част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705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42920" y="981000"/>
            <a:ext cx="7705800" cy="7923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Унитарное государ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простое, единое, цельное государств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имеющее в своём составе государственных образовани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116000" y="1989000"/>
            <a:ext cx="7559640" cy="10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унитарного государства делится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ые единицы, которые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ют признаков государствен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116000" y="3213000"/>
            <a:ext cx="755964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ествует одна конституция, один высший представительны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, одно правительство и т.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116000" y="4149720"/>
            <a:ext cx="7632720" cy="180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остав унитарного государства могут входить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национально-территориальные единицы с особ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усом, они образуются, как правило, на территор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живания национальных меньшинст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87640" y="1125360"/>
            <a:ext cx="3816360" cy="5749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нитарные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042920" y="1989000"/>
            <a:ext cx="3384720" cy="57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изова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292720" y="1989000"/>
            <a:ext cx="3384720" cy="576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централизован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042920" y="2708280"/>
            <a:ext cx="338472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х еди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уются центр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292720" y="2708280"/>
            <a:ext cx="3384720" cy="1297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ы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х едини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бираются населе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042920" y="4149720"/>
            <a:ext cx="7632720" cy="2016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инство всех государств 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нитар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эта фор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устройства обеспечивает хорош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яемость и государственное единство, оно иде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ходит для государств с небольшой или средней территор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Унитар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620120" cy="4105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1116000" y="5300640"/>
            <a:ext cx="7632720" cy="865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66 государств в современном мире - унита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42920" y="981000"/>
            <a:ext cx="7777080" cy="1440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едеративное государств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форма государственного устрой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котором части сложного государства являются государ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государственными образованиями, обладающими некотор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ками государствен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42920" y="2565360"/>
            <a:ext cx="7705800" cy="201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ческая федерация (например, США) представляет соб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обровольное объединение нескольких ранее самостоя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ых образований в единое государ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одна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федерации (в том числе и Российская Федера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лись путё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еобразования унитарных государ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федератив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042920" y="4724280"/>
            <a:ext cx="7705800" cy="151308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федеративного государства состоит из территор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 и государственных образований, входящих в  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 -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бъектов федер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тивное государство строится на начала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центр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Федеративное государство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7040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9:35:37Z</dcterms:created>
  <dc:creator>User</dc:creator>
  <dc:description/>
  <dc:language>en-US</dc:language>
  <cp:lastModifiedBy>Admin</cp:lastModifiedBy>
  <dcterms:modified xsi:type="dcterms:W3CDTF">2012-08-06T16:02:03Z</dcterms:modified>
  <cp:revision>34</cp:revision>
  <dc:subject/>
  <dc:title>Слайд 1</dc:title>
</cp:coreProperties>
</file>