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D22-5626-4C00-A2BA-177B4BBD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3AA-5EB3-429A-86F8-05E03761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5BD-E19A-4345-968A-DE5C2076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9A0-51F8-47EC-A970-23C8F424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6634-9F46-4648-934D-A2EA42A9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E5381-1816-44CC-8C32-5C1E0BC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3C227-D2E3-4F3C-9DFF-7A9EE1F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A0B80-7592-46B2-BE61-D9CB529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F56A-9AE2-42B5-97F2-6DDC7653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13E09-B221-4B37-AD08-95BAAF33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974DF-A478-431B-8CA4-F853A00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19F-A93F-41F9-8D5F-7EE192B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09ACE-15C7-4D07-B56C-EE04D68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90932-0EE1-4948-A778-CBDD346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B0EDF-1FFD-4CD6-BD53-01360560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BA563-B2CD-4609-968D-1F164314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5E50-F0A4-420C-A8BE-AF5B1044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5FF-5BEA-48A2-B785-326AFFF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C5C-798F-4DF9-9200-182F3B0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24B-8CA3-4283-BE93-83FFEA2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4EB-F337-4488-A267-CBC1BCB8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348-51AF-47DC-B057-B52DA3D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900-CFF2-47C2-9458-752D878B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BEF-B352-438A-8F07-A3E76F0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F96-4C14-4780-8707-6DE198AC9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1DEB-071D-44B1-BA33-E6F975A5C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Многообразие птиц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у выполн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итель биологии МОУ «Русско-Караевская основна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знецова Валентина Андр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сточки в период вскармливания прилетают к гнезду до 400 раз в день, принося за один раз по 0,5 грамма насекомых. Период вскармливания длится 20 дней. Сколько килограммов насекомых уничтожит в период вскармливания птенцов 3 пары ласточ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выводы можно сделать из этих задач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храняйте все люди плане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только редких животных и пт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бы выжил простор многолет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ди света грядущих зарн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 какому отряду относятся данные птиц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кройте особенности образа жизни и строения этих пт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77080" y="1916280"/>
            <a:ext cx="165564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932360" y="1916280"/>
            <a:ext cx="165744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е загадки вы знаете о птицах, которых вы видите на слайд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73708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08720" y="2060640"/>
            <a:ext cx="3160440" cy="187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47640" y="422100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724360" y="4221000"/>
            <a:ext cx="2233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мотрите внимательно и объясните, почему так называются эти птиц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194292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88000" y="206064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7120" y="3573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еги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1160" y="3570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полз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0" y="35863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ед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54480" y="53863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ъясните смысл послови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ыплят по осени счит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як кулик свое болото хвал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ово не воробей, вылетит не поймае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учше умереть орлом, чем жить зайц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обозначают эти поговор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дой, как лунь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адил как дя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шел сухим из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дулся, как индю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 карточкам определите птицу и дайте краткую письменную характеристи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2247840"/>
            <a:ext cx="2232000" cy="190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59120" y="2819520"/>
            <a:ext cx="2252880" cy="183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иологический диктант. Дополните предлож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знь на земле многообразна и представлена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 птиц относит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очные мешки у птиц расположены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птиц делает в минуту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шение экологических задач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а 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ворчата очень прожорливы. Чтобы прокормить малышей, родители трудятся по 17 часов в сутки, скармливая птенцам более 300 грамм вредных насекомых. Рассчитайте сколько насекомых уничтожает колонна скворцов из 25 пар в период вскармливания птенц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07:00:45Z</dcterms:created>
  <dc:creator>Мкртчян</dc:creator>
  <dc:description/>
  <dc:language>en-US</dc:language>
  <cp:lastModifiedBy>Мкртчян</cp:lastModifiedBy>
  <dcterms:modified xsi:type="dcterms:W3CDTF">2007-04-16T08:18:43Z</dcterms:modified>
  <cp:revision>2</cp:revision>
  <dc:subject/>
  <dc:title>Многообразие птиц</dc:title>
</cp:coreProperties>
</file>