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9CF-9589-470A-86CB-E60868DF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AAD-21A7-4CB7-BF63-F93CAB76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87A-EBDE-4128-A930-74C98468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BD4-760E-416F-8EAA-E32C3397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E11C-392F-4AC5-9B79-FC5F4C9C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319CC-ACC4-4855-9DC5-14DC24E8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377A5-09DC-4C7D-99DF-74F7FED5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0B74B-1380-43D6-BA91-5E8969B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E01AD-5427-4FBA-8E0E-21909ADA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79112-9C8E-418D-A07D-B8A2796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467D2-C167-4FA6-BACD-EB6967D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130-0CFF-4690-9E46-6CD6FED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B1337-A4E9-4A83-B3E0-CA4A8F7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86F52-201B-41A4-B50B-8CD43B9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533F0-298A-4F7E-841A-BC38700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BFDF8-B016-4774-9BCF-54E22342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0B92B-8CB1-441A-8DD8-9F29C101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88F-BC8A-4954-99F6-7AB7A4A5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FA2-0220-42B8-B9DA-DA6F152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A21-457B-4992-A2F3-34AF37DF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B4-3C21-45FD-A74A-7973FDA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2F6-8370-4E67-86FC-6538B47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7D5-57E8-4467-8DE2-C52C0970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A9C-0BA1-49FC-9EFE-3FB6E586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B24-A0E7-4A6A-AFDD-42747D280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2B3F-A931-4B24-B13B-4912D1911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Многообразие птиц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у 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тель биологии МОУ «Русско-Караевская основна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знецова Валентина Андр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сточки в период вскармливания прилетают к гнезду до 400 раз в день, принося за один раз по 0,5 грамма насекомых. Период вскармливания длится 20 дней. Сколько килограммов насекомых уничтожит в период вскармливания птенцов 3 пары ласточ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выводы можно сделать из этих задач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храняйте все люди плане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только редких животных и пт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бы выжил простор многолет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ди света грядущих зарн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 какому отряду относятся данные птиц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кройте особенности образа жизни и строения этих пт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77080" y="1916280"/>
            <a:ext cx="165564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932360" y="1916280"/>
            <a:ext cx="165744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е загадки вы знаете о птицах, которых вы видите на слайд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73708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08720" y="2060640"/>
            <a:ext cx="3160440" cy="187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47640" y="422100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724360" y="4221000"/>
            <a:ext cx="2233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мотрите внимательно и объясните, почему так называются эти птиц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194292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88000" y="206064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7120" y="3573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еги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1160" y="3570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полз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0" y="35863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ед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54480" y="53863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ъясните смысл послови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ыплят по осени счит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як кулик свое болото хвал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ово не воробей, вылетит не поймае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учше умереть орлом, чем жить зайц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обозначают эти поговор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дой, как лунь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адил как дя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шел сухим из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дулся, как индю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 карточкам определите птицу и дайте краткую письменную характеристи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2247840"/>
            <a:ext cx="2232000" cy="190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59120" y="2819520"/>
            <a:ext cx="2252880" cy="183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иологический диктант. Дополните предлож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знь на земле многообразна и представлен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 птиц относит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очные мешки у птиц расположены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птиц делает в минуту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шение экологических задач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а 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ворчата очень прожорливы. Чтобы прокормить малышей, родители трудятся по 17 часов в сутки, скармливая птенцам более 300 грамм вредных насекомых. Рассчитайте сколько насекомых уничтожает колонна скворцов из 25 пар в период вскармливания птенц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07:00:45Z</dcterms:created>
  <dc:creator>Мкртчян</dc:creator>
  <dc:description/>
  <dc:language>en-US</dc:language>
  <cp:lastModifiedBy>Мкртчян</cp:lastModifiedBy>
  <dcterms:modified xsi:type="dcterms:W3CDTF">2007-04-16T08:18:43Z</dcterms:modified>
  <cp:revision>2</cp:revision>
  <dc:subject/>
  <dc:title>Многообразие птиц</dc:title>
</cp:coreProperties>
</file>