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B523-3939-487B-A58B-AAA89D278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5B84-FC2D-4CC3-9434-48936E70E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E873-A89F-4797-A710-58A24541B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7A67-FE0B-462F-8360-9FDEBD13A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45A429-B137-4D1F-A743-E3ACFE2B7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250BB2-67C2-4920-8420-5C6887756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9EA98F-146E-4252-AF4A-EF5DEED78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214F22-7F93-4C5E-9FD0-B1819AAB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E122B5-D548-4897-BB5E-189D04348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1D4802-7D21-4CA2-8454-D8DC05B26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8EC753-E8E2-4F86-8A9C-264926A5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25CE-44A4-4AD7-A0C1-D1B6412B4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90197A-167E-443A-B2B6-71D77666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9EAC09-CF72-4E90-8F45-BD310DFF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9D2614-A9C2-4B20-962B-9F43C7FEE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9D61F0-597E-4AFB-8A50-B45CF0FED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55456C-91A0-4735-861D-F490B4A02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696C-CDF8-4DD4-8AD4-7A05FC20D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7206-3ADA-4AB9-BB85-8EA6D3B3F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5FC5-485C-401F-AD0B-EE82A7C7A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2C55-28D1-4C34-866E-23DBD3F05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D247-E0F8-4DDA-8C21-E2DA2316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C3D2-F096-49B5-ADB0-FB84F266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AB7F-BF40-4BE7-9822-FB430DFF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91667-3D14-4164-9FE5-9CD93B685D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A9C88-6154-44B5-8F02-F2A4CE4F00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640" y="119700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Многообразие птиц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55600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аботу выполнила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читель биологии МОУ «Русско-Караевская основная общеобразовательная школа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узнецова Валентина Андреев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Задача 2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Ласточки в период вскармливания прилетают к гнезду до 400 раз в день, принося за один раз по 0,5 грамма насекомых. Период вскармливания длится 20 дней. Сколько килограммов насекомых уничтожит в период вскармливания птенцов 3 пары ласточе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ие выводы можно сделать из этих задач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Итог уро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Охраняйте все люди планет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Столько редких животных и птиц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Чтобы выжил простор многолетн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Ради света грядущих зарниц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К какому отряду относятся данные птицы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4032000"/>
            <a:ext cx="822960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аскройте особенности образа жизни и строения этих пти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1944720" cy="1728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771640" y="1916280"/>
            <a:ext cx="1871640" cy="1728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6877080" y="1916280"/>
            <a:ext cx="1655640" cy="1800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4932360" y="1916280"/>
            <a:ext cx="1657440" cy="172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Какие загадки вы знаете о птицах, которых вы видите на слайде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187280" y="2133720"/>
            <a:ext cx="2737080" cy="18730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508720" y="2060640"/>
            <a:ext cx="3160440" cy="1873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547640" y="4221000"/>
            <a:ext cx="2305080" cy="1656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5724360" y="4221000"/>
            <a:ext cx="22338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осмотрите внимательно и объясните, почему так называются эти птицы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116000" y="2060640"/>
            <a:ext cx="1871640" cy="14396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3924360" y="1989000"/>
            <a:ext cx="1942920" cy="1440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6588000" y="2060640"/>
            <a:ext cx="2016360" cy="1368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1116000" y="4149720"/>
            <a:ext cx="1800360" cy="1152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527120" y="3573360"/>
            <a:ext cx="109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негир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81160" y="3570120"/>
            <a:ext cx="180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полз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239600" y="3586320"/>
            <a:ext cx="15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едров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54480" y="53863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ор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бъясните смысл пословиц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Цыплят по осени считаю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сяк кулик свое болото хвали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лово не воробей, вылетит не поймаеш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Лучше умереть орлом, чем жить зайце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Что обозначают эти поговорки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едой, как лунь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ладил как дяте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шел сухим из во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дулся, как индю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о карточкам определите птицу и дайте краткую письменную характеристик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84360" y="2247840"/>
            <a:ext cx="2232000" cy="19018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3759120" y="2819520"/>
            <a:ext cx="2252880" cy="18334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6372360" y="4149720"/>
            <a:ext cx="23032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Биологический диктант. Дополните предложени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Жизнь на земле многообразна и представлена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ласс птиц относится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Легочные мешки у птиц расположены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ердце птиц делает в минуту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Решение экологических задач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Задача 1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кворчата очень прожорливы. Чтобы прокормить малышей, родители трудятся по 17 часов в сутки, скармливая птенцам более 300 грамм вредных насекомых. Рассчитайте сколько насекомых уничтожает колонна скворцов из 25 пар в период вскармливания птенц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6T07:00:45Z</dcterms:created>
  <dc:creator>Мкртчян</dc:creator>
  <dc:description/>
  <dc:language>en-US</dc:language>
  <cp:lastModifiedBy>Мкртчян</cp:lastModifiedBy>
  <dcterms:modified xsi:type="dcterms:W3CDTF">2007-04-16T08:18:43Z</dcterms:modified>
  <cp:revision>2</cp:revision>
  <dc:subject/>
  <dc:title>Многообразие птиц</dc:title>
</cp:coreProperties>
</file>