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A9D59-0916-4077-B139-DE36EDD971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36C9E-67F7-4CB5-AFF3-D9DE1329B5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27E88-F382-4F23-A7D3-FBDF5BBCEC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EC884-4C2C-4F7A-8594-3DE880771C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8EA75-EC91-4766-98F1-C7390E3830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A511F-D4EF-4F6F-B1A5-0633266B64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07FAE-2B48-4C68-AA17-EE5C8E135B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10FA4-AA05-43C0-8500-F81B0F0965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DD93-08ED-430E-B8E2-6A92401BD6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B5EC2-6C76-4E4D-AA65-2579DCD4B8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0DCEC-A49E-451E-9437-135234AADD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52E8B-7908-444D-873D-104B662EAE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9813-5289-4DDD-86F1-EBB1B97E7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B7F8-8136-4A42-8B7A-0F0D5F2BB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B9A0-9302-427C-868D-3EBFAC2B6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B96A-2633-41C9-BCEC-75F02C496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BD35-BB13-44E1-AB40-24107769E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99F4-D9D3-4BF3-9045-34E60DB60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A1C0-1741-4FED-AE1D-7FCDFE9BB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561E-8C5D-4A6C-BF71-E3F5A20A6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FF42-C9D7-4070-BEDB-478266D56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33FA-9977-49D7-A750-4923E753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0B57-D9CA-4083-87F2-BFEFFD22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3908-ED99-4E9F-9386-D0450E21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26A8D-9B18-4BBE-85C3-D5A4AD4DA9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4" descr=""/>
          <p:cNvPicPr/>
          <p:nvPr/>
        </p:nvPicPr>
        <p:blipFill>
          <a:blip r:embed="rId2"/>
          <a:stretch/>
        </p:blipFill>
        <p:spPr>
          <a:xfrm>
            <a:off x="1633680" y="2273400"/>
            <a:ext cx="5584680" cy="3243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6242040" y="5661000"/>
            <a:ext cx="269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ица 10-А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номарёва Анаста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6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6"/>
          <p:cNvPicPr/>
          <p:nvPr/>
        </p:nvPicPr>
        <p:blipFill>
          <a:blip r:embed="rId2"/>
          <a:stretch/>
        </p:blipFill>
        <p:spPr>
          <a:xfrm>
            <a:off x="0" y="1341360"/>
            <a:ext cx="5773680" cy="4753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5867280" y="1484280"/>
            <a:ext cx="3276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сельскохозяйственном обороте находится почти половина территории страны. Под лесами занято 12% территории, а под пастбищами 48%. Главные продовольственные культуры — пшеница и ячм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ажная  отрасль - овцеводств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ногие отрасли  сельского  хозяйства работают на экспор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ipe dir="d"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3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3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3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3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3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3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3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3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дустрия туриз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96720" y="1268280"/>
            <a:ext cx="56988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пания входит в пятерку стран, наиболее популярных среди туристов. В 2000 году ее доходы от туризма превысили 30 млрд. долла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рубежных гостей привлекают теплый климат, великолепные средиземноморские пляжи и крупные исторические центры искусства и архитектуры – Барселона, Мадрид, Валенс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жегодно страну посещает около 50 млн. туристов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622640" y="5877000"/>
            <a:ext cx="15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9"/>
          <p:cNvSpPr/>
          <p:nvPr/>
        </p:nvSpPr>
        <p:spPr>
          <a:xfrm>
            <a:off x="810108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1" descr="654050"/>
          <p:cNvPicPr/>
          <p:nvPr/>
        </p:nvPicPr>
        <p:blipFill>
          <a:blip r:embed="rId2"/>
          <a:stretch/>
        </p:blipFill>
        <p:spPr>
          <a:xfrm>
            <a:off x="5219640" y="1413000"/>
            <a:ext cx="3708360" cy="4464000"/>
          </a:xfrm>
          <a:prstGeom prst="rect">
            <a:avLst/>
          </a:prstGeom>
          <a:ln w="0">
            <a:noFill/>
          </a:ln>
        </p:spPr>
      </p:pic>
    </p:spTree>
  </p:cSld>
  <p:transition advTm="5000">
    <p:wipe dir="d"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2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000"/>
                            </p:stCondLst>
                            <p:childTnLst>
                              <p:par>
                                <p:cTn id="54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4000"/>
                            </p:stCondLst>
                            <p:childTnLst>
                              <p:par>
                                <p:cTn id="54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3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3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3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3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ибо за просмотр!!!!!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ipe dir="d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6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бщие све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Рельеф Исп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Полезные ископаемые Исп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Климат Исп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Население Исп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Городская жизнь Исп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 Хозяйство Исп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Хозяйство Испании(Продолж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Индустрия тур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Заклю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77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770" fill="hold"/>
                                        <p:tgtEl>
                                          <p:spTgt spid="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6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И с п а н и 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Испания занимает большую часть Пиренейского полу- острова, образующего крайний юго-западный выступ  Европ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Площадь Испании 5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          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тыс.кв.к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Население - почти 40 млн. челове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Официальный язы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          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испанск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Столица - Мадри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Денежная единица - испанская песета.</a:t>
            </a:r>
            <a:r>
              <a:rPr b="0" lang="ru-RU" sz="2000" spc="-1" strike="noStrike" u="sng">
                <a:solidFill>
                  <a:srgbClr val="000066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1" descr="Испания1"/>
          <p:cNvPicPr/>
          <p:nvPr/>
        </p:nvPicPr>
        <p:blipFill>
          <a:blip r:embed="rId2"/>
          <a:stretch/>
        </p:blipFill>
        <p:spPr>
          <a:xfrm>
            <a:off x="4356000" y="1773360"/>
            <a:ext cx="4535640" cy="424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8"/>
          <p:cNvSpPr/>
          <p:nvPr/>
        </p:nvSpPr>
        <p:spPr>
          <a:xfrm>
            <a:off x="7622640" y="5877000"/>
            <a:ext cx="15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9">
            <a:hlinkClick r:id="rId3" action="ppaction://hlinksldjump"/>
          </p:cNvPr>
          <p:cNvSpPr/>
          <p:nvPr/>
        </p:nvSpPr>
        <p:spPr>
          <a:xfrm>
            <a:off x="810108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wipe dir="d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7" descr="737074"/>
          <p:cNvPicPr/>
          <p:nvPr/>
        </p:nvPicPr>
        <p:blipFill>
          <a:blip r:embed="rId2"/>
          <a:stretch/>
        </p:blipFill>
        <p:spPr>
          <a:xfrm>
            <a:off x="4716360" y="3860640"/>
            <a:ext cx="4284720" cy="2857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8" descr="739028"/>
          <p:cNvPicPr/>
          <p:nvPr/>
        </p:nvPicPr>
        <p:blipFill>
          <a:blip r:embed="rId3"/>
          <a:stretch/>
        </p:blipFill>
        <p:spPr>
          <a:xfrm>
            <a:off x="4716360" y="189000"/>
            <a:ext cx="4284720" cy="28558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439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льеф Испа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Испания - одна из сам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Гористых стран Европ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низменностей в стране очень ма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Большая часть поверх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Занята Центральным плоскогорь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средней высотой 700-900 м н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Уровнем мор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На севере поднима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Пиренеи, на юге Андалузские гор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7622640" y="5877000"/>
            <a:ext cx="15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44"/>
          <p:cNvSpPr/>
          <p:nvPr/>
        </p:nvSpPr>
        <p:spPr>
          <a:xfrm>
            <a:off x="810108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wipe dir="d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5"/>
          <p:cNvPicPr/>
          <p:nvPr/>
        </p:nvPicPr>
        <p:blipFill>
          <a:blip r:embed="rId2"/>
          <a:stretch/>
        </p:blipFill>
        <p:spPr>
          <a:xfrm>
            <a:off x="0" y="1989000"/>
            <a:ext cx="5508720" cy="33832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езные ископаемые Испа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03280" y="1700280"/>
            <a:ext cx="4356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Испания богата полезн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ископаемыми. М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месторож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железных руд и особен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руд цветных метал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(медь, серебр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свинец, ртуть и др.). Е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запасы угля, калий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солей, уранов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руд. Верховья рек бог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гидроэнерги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3"/>
          <p:cNvSpPr/>
          <p:nvPr/>
        </p:nvSpPr>
        <p:spPr>
          <a:xfrm>
            <a:off x="7622640" y="5877000"/>
            <a:ext cx="15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4"/>
          <p:cNvSpPr/>
          <p:nvPr/>
        </p:nvSpPr>
        <p:spPr>
          <a:xfrm>
            <a:off x="810108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wipe dir="r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40"/>
                            </p:stCondLst>
                            <p:childTnLst>
                              <p:par>
                                <p:cTn id="22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040"/>
                            </p:stCondLst>
                            <p:childTnLst>
                              <p:par>
                                <p:cTn id="2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1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1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10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10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10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1000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1000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1000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737043"/>
          <p:cNvPicPr/>
          <p:nvPr/>
        </p:nvPicPr>
        <p:blipFill>
          <a:blip r:embed="rId2"/>
          <a:stretch/>
        </p:blipFill>
        <p:spPr>
          <a:xfrm>
            <a:off x="4873680" y="404640"/>
            <a:ext cx="4270320" cy="28465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5"/>
          <p:cNvSpPr/>
          <p:nvPr/>
        </p:nvSpPr>
        <p:spPr>
          <a:xfrm>
            <a:off x="0" y="826920"/>
            <a:ext cx="49323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Климат Испании средиземноморский, однако, существуют различия между климатом отдельных территорий. В центральной  части страны лето жаркое, зима прохладная, случаются  даже снежные бу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На северо-западном побережье климат мягкий и влажный. Растут леса из буков, каштанов, дубов. Наиболее жаркий климат на берегах Средиземного моря, в январе здесь +13°, в июле +27°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241087"/>
          <p:cNvPicPr/>
          <p:nvPr/>
        </p:nvPicPr>
        <p:blipFill>
          <a:blip r:embed="rId3"/>
          <a:stretch/>
        </p:blipFill>
        <p:spPr>
          <a:xfrm>
            <a:off x="4859280" y="3573360"/>
            <a:ext cx="4284720" cy="29275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000" y="-243360"/>
            <a:ext cx="338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имат Испа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1"/>
          <p:cNvSpPr/>
          <p:nvPr/>
        </p:nvSpPr>
        <p:spPr>
          <a:xfrm>
            <a:off x="7622640" y="5877000"/>
            <a:ext cx="15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2"/>
          <p:cNvSpPr/>
          <p:nvPr/>
        </p:nvSpPr>
        <p:spPr>
          <a:xfrm>
            <a:off x="810108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wipe dir="d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68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68360" y="-171720"/>
            <a:ext cx="454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аселение Испа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4564440"/>
            <a:ext cx="565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территории страны население размещено неравномерно, плотно населены прибрежные районы. Городское население преобладает над сельским. Исключая Мадрид, все крупные города лежат у моря или близ не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5688000" y="669960"/>
            <a:ext cx="3456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пания включает ряд исторических областей, население котор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личается по языку и культуре. Ядро испанского государства  составляет  Кастилия. От кастильц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личаются баски, каталонцы, галисийцы, но все они образуют  единую  испанскую нац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439067"/>
          <p:cNvPicPr/>
          <p:nvPr/>
        </p:nvPicPr>
        <p:blipFill>
          <a:blip r:embed="rId2"/>
          <a:stretch/>
        </p:blipFill>
        <p:spPr>
          <a:xfrm>
            <a:off x="0" y="692280"/>
            <a:ext cx="5529240" cy="36860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9"/>
          <p:cNvSpPr/>
          <p:nvPr/>
        </p:nvSpPr>
        <p:spPr>
          <a:xfrm>
            <a:off x="7622640" y="5877000"/>
            <a:ext cx="15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0"/>
          <p:cNvSpPr/>
          <p:nvPr/>
        </p:nvSpPr>
        <p:spPr>
          <a:xfrm>
            <a:off x="810108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wipe dir="d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3000"/>
                            </p:stCondLst>
                            <p:childTnLst>
                              <p:par>
                                <p:cTn id="367" nodeType="afterEffect" fill="hold" presetClass="entr" presetID="3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родская жизнь Испа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5"/>
          <p:cNvSpPr/>
          <p:nvPr/>
        </p:nvSpPr>
        <p:spPr>
          <a:xfrm>
            <a:off x="810108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7622640" y="5877000"/>
            <a:ext cx="15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"/>
          <p:cNvPicPr/>
          <p:nvPr/>
        </p:nvPicPr>
        <p:blipFill>
          <a:blip r:embed="rId2"/>
          <a:stretch/>
        </p:blipFill>
        <p:spPr>
          <a:xfrm>
            <a:off x="4284720" y="1916280"/>
            <a:ext cx="4680000" cy="36669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переходом к более развитому производству и расширением сферы услуг началась миграция испанцев из сельской местности в города. Ныне в городах проживает около 75% насе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амый крупный город Испании – Мадри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арселона второй по величине город Испании с которым Мадрид постоянно соперничает. Барселона является важнейшим средиземноморским портом и центром большого, плотно населенного промышленного регио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ipe dir="d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6"/>
          <p:cNvSpPr/>
          <p:nvPr/>
        </p:nvSpPr>
        <p:spPr>
          <a:xfrm>
            <a:off x="7622640" y="6021360"/>
            <a:ext cx="15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810108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79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мировом уровне Испания лидирует по производству оливкового масла и добыче ртути, занимает второе место в мире по добыче пиритов и третье по производству виноградных в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пания — страна с развитой промышленностью и сельск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озяйством.  Природные  богатства  создают хорошую базу для разви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мышленности. Значительную роль играет горнодобывающ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мышленность, черная и цветная металлургия, машиностроение (суд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втомобили, станк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тет переработка нефти, развивается текстильная и пищевая промышлен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зяйство Испа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3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3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3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3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5:14:07Z</dcterms:created>
  <dc:creator>Слава</dc:creator>
  <dc:description/>
  <dc:language>en-US</dc:language>
  <cp:lastModifiedBy>Nastya</cp:lastModifiedBy>
  <dcterms:modified xsi:type="dcterms:W3CDTF">2012-04-24T20:45:40Z</dcterms:modified>
  <cp:revision>31</cp:revision>
  <dc:subject/>
  <dc:title>Испа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20e0000000000010250300207f7000400038000</vt:lpwstr>
  </property>
</Properties>
</file>