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A06-F5F3-43F0-9853-6C29369F7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D80-3386-428B-9025-0C3A9756D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D56-E660-4B0E-9A27-6A2CDDF9A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7931-EC5F-40A2-8EC5-B34BB83E8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913-6FE2-4260-A954-9746E8147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FB7D-A69E-44B9-9DE8-30BB62860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DA5F-FA04-4C27-8DCF-BC8011096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8FA-B3DA-4876-9B8E-29F00CF80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D901-547A-49C9-BAAD-234B9E991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399-47EE-4D13-BBC5-68A6721D0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998-E43A-47FA-84EA-BB5F9B434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5C05-0CEF-44C3-8E67-C55F73F23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356-3B1C-4EFD-A9A1-C04C966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FFA-2FC8-4BB2-A347-E543812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F0D-B19A-43FF-A94B-EA16FCFE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B6E-6F13-48FA-93D8-3A860066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2DE-DA31-49BD-BA49-AF6C9E3E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63E-E8AE-4676-B01F-5CFA7CA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6A2-1F9F-4FC2-8785-7FC5A4A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024-1828-4B7E-8B81-FC44632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C8F-D533-41FC-B103-56A26629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41F-7AD0-4DF5-8222-58B8CCD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0FD-994D-4A5A-8D33-BB21C07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2B6-6DD2-4613-AA16-7C31FAB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8D3-8FB3-4C88-A6AB-D763C56EB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42040" y="566100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Nastya</cp:lastModifiedBy>
  <dcterms:modified xsi:type="dcterms:W3CDTF">2012-04-24T20:45:40Z</dcterms:modified>
  <cp:revision>31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