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94F0-28BF-470D-871F-E59688D30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B8B6-C5EF-4196-BD60-6796AA624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70CF-6FAC-463C-AFE1-7FA4018E8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D2E-0041-4706-841D-C6060F9D0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8B63-5F00-42C1-B2BC-5E638D903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63FC-8ED2-4397-BF3F-EEC234B096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E06F-3263-4787-85CD-43BAC6ACA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F7A-9C32-480B-813C-A7E78F6D9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52BE-BD8C-4496-B28C-24941249E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8233-7BCC-40BF-A136-E41E34EF0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A9D2-3225-4530-8323-5C166D6DE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31D9-9F54-4A6E-960F-07ECAE133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3B6-9FEE-4958-A353-AF153A7D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CDE-F7D6-4E4D-9410-ECEF744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33A-9296-4A45-BCC9-B0782F47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292-9546-4E15-A878-C53F3095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2DD-8B45-44C6-854E-158A9FD0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AA2-7C9C-4B68-812A-6574793C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7F1-4B6E-4053-8AFB-ABC7957E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286-513A-41FC-95C3-1642E9ED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9E2-CDE7-4D27-95D8-6DCD50F7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C3F-9710-40FE-B9DE-47100A90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961-50AE-4971-87FA-6A42EBD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890-5979-43B9-9793-15DE4DB4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AA3E-2CAC-4F1F-9C15-76534EA1F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633680" y="2273400"/>
            <a:ext cx="5584680" cy="324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242040" y="5661000"/>
            <a:ext cx="26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10-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омарё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6"/>
          <p:cNvPicPr/>
          <p:nvPr/>
        </p:nvPicPr>
        <p:blipFill>
          <a:blip r:embed="rId2"/>
          <a:stretch/>
        </p:blipFill>
        <p:spPr>
          <a:xfrm>
            <a:off x="0" y="1341360"/>
            <a:ext cx="5773680" cy="4753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867280" y="1484280"/>
            <a:ext cx="32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льскохозяйственном обороте находится почти половина территории страны. Под лесами занято 12% территории, а под пастбищами 48%. Главные продовольственные культуры — пшеница и ячм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 отрасль - овце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ие отрасли  сельского  хозяйства работают на эк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стрия ту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96720" y="1268280"/>
            <a:ext cx="56988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ходит в пятерку стран, наиболее популярных среди туристов. В 2000 году ее доходы от туризма превысили 30 млрд. долл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убежных гостей привлекают теплый климат, великолепные средиземноморские пляжи и крупные исторические центры искусства и архитектуры – Барселона, Мадрид, Вален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годно страну посещает около 50 млн. турис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654050"/>
          <p:cNvPicPr/>
          <p:nvPr/>
        </p:nvPicPr>
        <p:blipFill>
          <a:blip r:embed="rId2"/>
          <a:stretch/>
        </p:blipFill>
        <p:spPr>
          <a:xfrm>
            <a:off x="5219640" y="1413000"/>
            <a:ext cx="3708360" cy="4464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просмотр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льеф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лезные ископаемы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лимат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аселени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Городская жизнь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Хозяйство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Хозяйство Испании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Индустрия ту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 с п а н и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занимает большую часть Пиренейского полу- острова, образующего крайний юго-западный выступ 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лощадь Испании 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тыс.кв.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селение - почти 40 млн.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фициальны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толица - Мадр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нежная единица - испанская песета.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Испания1"/>
          <p:cNvPicPr/>
          <p:nvPr/>
        </p:nvPicPr>
        <p:blipFill>
          <a:blip r:embed="rId2"/>
          <a:stretch/>
        </p:blipFill>
        <p:spPr>
          <a:xfrm>
            <a:off x="4356000" y="1773360"/>
            <a:ext cx="4535640" cy="424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>
            <a:hlinkClick r:id="rId3" action="ppaction://hlinksldjump"/>
          </p:cNvPr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737074"/>
          <p:cNvPicPr/>
          <p:nvPr/>
        </p:nvPicPr>
        <p:blipFill>
          <a:blip r:embed="rId2"/>
          <a:stretch/>
        </p:blipFill>
        <p:spPr>
          <a:xfrm>
            <a:off x="4716360" y="3860640"/>
            <a:ext cx="428472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8" descr="739028"/>
          <p:cNvPicPr/>
          <p:nvPr/>
        </p:nvPicPr>
        <p:blipFill>
          <a:blip r:embed="rId3"/>
          <a:stretch/>
        </p:blipFill>
        <p:spPr>
          <a:xfrm>
            <a:off x="4716360" y="189000"/>
            <a:ext cx="4284720" cy="2855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льеф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- одна из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ористых стран Евро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изменностей в стране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Большая часть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нята Центральным плоскогор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редней высотой 700-900 м н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Уровнем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е под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иренеи, на юге Андалузские г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5"/>
          <p:cNvPicPr/>
          <p:nvPr/>
        </p:nvPicPr>
        <p:blipFill>
          <a:blip r:embed="rId2"/>
          <a:stretch/>
        </p:blipFill>
        <p:spPr>
          <a:xfrm>
            <a:off x="0" y="1989000"/>
            <a:ext cx="5508720" cy="338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ые ископаемые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280" y="1700280"/>
            <a:ext cx="43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богата поле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копаемыми. 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есторо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железных руд и особ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 цветных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медь, серебр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винец, ртуть и др.).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пасы угля, калий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олей, ура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. Верховья рек бог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идроэнерг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4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737043"/>
          <p:cNvPicPr/>
          <p:nvPr/>
        </p:nvPicPr>
        <p:blipFill>
          <a:blip r:embed="rId2"/>
          <a:stretch/>
        </p:blipFill>
        <p:spPr>
          <a:xfrm>
            <a:off x="4873680" y="404640"/>
            <a:ext cx="4270320" cy="2846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826920"/>
            <a:ext cx="493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лимат Испании средиземноморский, однако, существуют различия между климатом отдельных территорий. В центральной  части страны лето жаркое, зима прохладная, случаются  даже снежные б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о-западном побережье климат мягкий и влажный. Растут леса из буков, каштанов, дубов. Наиболее жаркий климат на берегах Средиземного моря, в январе здесь +13°, в июле +27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241087"/>
          <p:cNvPicPr/>
          <p:nvPr/>
        </p:nvPicPr>
        <p:blipFill>
          <a:blip r:embed="rId3"/>
          <a:stretch/>
        </p:blipFill>
        <p:spPr>
          <a:xfrm>
            <a:off x="4859280" y="3573360"/>
            <a:ext cx="4284720" cy="2927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338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мат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360" y="-17172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ление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4564440"/>
            <a:ext cx="56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рритории страны население размещено неравномерно, плотно населены прибрежные районы. Городское население преобладает над сельским. Исключая Мадрид, все крупные города лежат у моря или близ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688000" y="669960"/>
            <a:ext cx="345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ключает ряд исторических областей, население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ется по языку и культуре. Ядро испанского государства  составляет  Кастилия. От кастиль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ются баски, каталонцы, галисийцы, но все они образуют  единую  испанскую н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439067"/>
          <p:cNvPicPr/>
          <p:nvPr/>
        </p:nvPicPr>
        <p:blipFill>
          <a:blip r:embed="rId2"/>
          <a:stretch/>
        </p:blipFill>
        <p:spPr>
          <a:xfrm>
            <a:off x="0" y="692280"/>
            <a:ext cx="5529240" cy="368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ская жизнь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80000" cy="3666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ереходом к более развитому производству и расширением сферы услуг началась миграция испанцев из сельской местности в города. Ныне в городах проживает около 75%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крупный город Испании – Мадр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селона второй по величине город Испании с которым Мадрид постоянно соперничает. Барселона является важнейшим средиземноморским портом и центром большого, плотно населенного промышленного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7622640" y="6021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ировом уровне Испания лидирует по производству оливкового масла и добыче ртути, занимает второе место в мире по добыче пиритов и третье по производству виноградных в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— страна с развитой промышленностью и сель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зяйством.  Природные  богатства  создают хорошую базу для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и. Значительную роль играет горнодобы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ь, черная и цветная металлургия, машиностроение (с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обили, стан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т переработка нефти, развивается текстильная и пищевая промышл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зяйство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14:07Z</dcterms:created>
  <dc:creator>Слава</dc:creator>
  <dc:description/>
  <dc:language>en-US</dc:language>
  <cp:lastModifiedBy>Nastya</cp:lastModifiedBy>
  <dcterms:modified xsi:type="dcterms:W3CDTF">2012-04-24T20:45:40Z</dcterms:modified>
  <cp:revision>31</cp:revision>
  <dc:subject/>
  <dc:title>Исп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e0000000000010250300207f7000400038000</vt:lpwstr>
  </property>
</Properties>
</file>