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FBD-D2A4-4DDC-A63A-DB797036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E38-10D5-48D2-9422-CF0E7CA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7D-3FFE-40D3-84E3-71639262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2C3-4EBC-49D8-80A7-3B33DD8A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F9BF-E2A1-4ACE-BA30-63B9EDA9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694-F45E-4A41-B566-41AD1B64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7315-B1C0-4EDE-84F1-299B1B0E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9424-DEA7-400E-BF48-CBBEDABB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F69-C881-4FF4-B604-70FABA7E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7382-C00F-48DB-9CA8-0EB70F64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79F-C831-42CC-AAD6-D2478C7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ACA-AA4B-45A2-A96B-C7F5797E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3A71-08BB-4ACB-B324-6A9F2DF9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9F69-6F74-4E36-8B1B-24CBA7D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0374-2B31-45CF-9AAE-4813EC2E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E905-AE6F-4D7E-9AEB-80246E12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C022-BADF-4F67-A3B9-3B8D9487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1B4-B0F3-4478-A1C1-91ED3D0D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0EA-156D-426B-9FEB-DE9C111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896-2415-4F7E-BF13-574F3CE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CE6-5377-4E64-A7D2-2F655CF3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DA2-3419-479D-92E7-72DD1D4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A38-6B5B-4963-8B38-DE35B79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D82-FDB3-40C8-A336-84196A76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6772-35DD-4D3E-8125-BE78CA36E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6F51-BB7B-4DA0-9A6E-3F9BF41F1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Ефремова</cp:lastModifiedBy>
  <dcterms:modified xsi:type="dcterms:W3CDTF">2011-02-20T12:09:49Z</dcterms:modified>
  <cp:revision>2</cp:revision>
  <dc:subject/>
  <dc:title>Обобщающий урок на тему:</dc:title>
</cp:coreProperties>
</file>