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D844-CDDC-4DDC-8178-6BECDB984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4140-B1FC-45F5-B935-B1D1EE030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248D-1761-49F7-85BC-045B055F4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2357-E5D9-4DF4-9BF4-BCDF903EF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946B6-D971-4A47-8041-181F70187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75BCD-2E39-414E-BF95-AB0C3C2E2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38037-6185-47C8-B04F-21FBB6C23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A700F-715B-42AC-A2EE-F4D9CC8D4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C5613-8ACC-4018-9249-45045623E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99E05-4EA0-4E3F-AFDB-193E887AB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01FD6-9478-41F3-9F83-91D79A19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A2E4-6DDE-4D7B-832D-1C544AF5E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2046C-075F-4584-BF4F-1D44C0003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77CCC-F2F9-471C-B820-8D207DB17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279F9-8EA4-4257-A162-33D01C89D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9D41E-4B3F-4A46-8CA7-496811F78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2F13A-D7CB-4710-867C-970C2350D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8A35-BAA7-4CD3-9D18-3C0F2282E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BD92-C899-4AB3-9D8C-B5CC6BF6F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593F-666F-4F4A-8022-F52FBD8B4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D96A-A5A9-4C28-9036-E18AA30C1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EA75-F412-4E0E-A83E-B15E85BE1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F0D7-82FF-4D09-AFA7-9A64A06E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80AA-6A3E-4430-A995-E887B2F7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6C7E8-FEA4-403B-8798-1AE720611C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043BB-E392-44ED-8E69-A72FA368F1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Обобщающий урок</a:t>
            </a:r>
            <a:br>
              <a:rPr sz="4400"/>
            </a:br>
            <a:r>
              <a:rPr b="0" lang="en-US" sz="4400" spc="-1" strike="noStrike">
                <a:solidFill>
                  <a:srgbClr val="7b9cb5"/>
                </a:solidFill>
                <a:latin typeface="Tahoma"/>
                <a:ea typeface="Tahoma"/>
              </a:rPr>
              <a:t>на тему: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7294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ы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хание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Заболевания органов дыхания</a:t>
            </a:r>
            <a:r>
              <a:rPr b="0" lang="he-IL" sz="3200" spc="-1" strike="noStrike">
                <a:solidFill>
                  <a:srgbClr val="000000"/>
                </a:solidFill>
                <a:latin typeface="Tahoma"/>
                <a:cs typeface="Tahoma"/>
              </a:rPr>
              <a:t>ֽ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их предупреждения</a:t>
            </a:r>
            <a:r>
              <a:rPr b="0" lang="he-IL" sz="3200" spc="-1" strike="noStrike">
                <a:solidFill>
                  <a:srgbClr val="000000"/>
                </a:solidFill>
                <a:latin typeface="Tahoma"/>
                <a:cs typeface="Tahoma"/>
              </a:rPr>
              <a:t>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 плохо проветриваемом помещении накапливаются летучие продукты жизнедеятельности. Пребывание в таком помещении снижается работоспособность человека, вызывает головную боль и другие нарушения самочувствия человек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Невидимые враги в воздухе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Заболевания органов дыхания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 воздухе находится огромное количество болезнетворных бактерий и микроорганизмов. Особенно их концентрация увеличивается во время возникновения вспышек инфекционных заболеваний, таких как грипп, туберкулез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Также существуют следующие  заболевания органов дыхания: бронхит, бронхиальная астма, рак органов дыха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39640" y="11430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3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b9cb5"/>
                </a:solidFill>
                <a:latin typeface="Tahoma"/>
              </a:rPr>
              <a:t>Вредные привычки, способствующие развитию заболеваний органов дыхания</a:t>
            </a:r>
            <a:endParaRPr b="0" lang="en-US" sz="3200" spc="-1" strike="noStrike">
              <a:solidFill>
                <a:srgbClr val="7b9cb5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84360" y="54936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Краткая история курения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11280" y="981000"/>
            <a:ext cx="8001000" cy="50799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Последствие курения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Закрепление: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Тест 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. Органы дыхания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А. мышцы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Б. ребр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В. легкие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Г. почки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. В процессе дыхания организм получает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А. органические веществ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Б. минеральные соли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В. Углекислый газ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Г. кислород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.Углекислый газ образуется в организме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А. в легких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Б. в клетках тел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В. В легочных капиллярах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Г. В капиллярах большого круг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. Жизненная емкость легких составляет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А. 500 см.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Б. 3500 см.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. 1500 см.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Г. 2000 см.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. Помещения нужно регулярно проветривать, чтоб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А. удалить избыток кислород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Б. удалить избыток углекислого газ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. Увеличить влажность воздух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Г. Удалить пыл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6. Что измеряется спирометром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А. давление кров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Б. температура тел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. Пуль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Г. Жизненная емкость легких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. К вредным газообразным примесям в воздухе относитс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А. азо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Б. водоро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. Угарный газ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Г. кислоро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. К инфекционным болезням передающимся через воздух относитс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А. инфаркт миокард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Б. СПИД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В. Малокрови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Г. Туберкулез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9. В выдыхаемом воздухе содержится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А. 30% кислород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Б. 2% кислород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В. 16% кислород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Г. 21% кислород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. В качестве профилактики от заболевания гриппом нужно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А. заниматься спорто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Б. прикрывать рот и нос марлевой повязкой при общении с больным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В. делать зарядку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Г. не бывать на улиц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ответы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.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.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.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7.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.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.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.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Домашнее задание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тр 146-14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Цели: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 расширить знания учащихся о возможных заболеваниях и нарушениях органов дыхания, их причинах и профилактических мерах; гигиенических требованиях к окружающей среде; правилах дыха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 формировать умения: разъяснить необходимость проветривания в жилых помещениях; обосновывать вредное воздействие куре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Тип урока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омбинированны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Ход урока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рганизационный момент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Биологическая размин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оверка домашнего зада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зучение нового материал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Закреплени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203640" y="90792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Биологический диктант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 органам дыхания относятся: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адгортанник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Бронхиальное дерев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левр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Альвеол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Диафрагм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Голосовые связк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221000" y="404640"/>
            <a:ext cx="4923000" cy="62373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Ответы: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5410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3d74"/>
                </a:solidFill>
                <a:latin typeface="Tahoma"/>
              </a:rPr>
              <a:t>Носовая полость, носоглотка, гортань, трахея, бронхи и легки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3d74"/>
                </a:solidFill>
                <a:latin typeface="Tahoma"/>
              </a:rPr>
              <a:t>Особый эластичный и гибкий хрящ, он закрывает вход в гортань, когда мы глотаем пищу, предохраняя дыхательные пути от попадания в них пищевых частичек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3d74"/>
                </a:solidFill>
                <a:latin typeface="Tahoma"/>
              </a:rPr>
              <a:t>Ветвление главных бронхо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3d74"/>
                </a:solidFill>
                <a:latin typeface="Tahoma"/>
              </a:rPr>
              <a:t>Тонкая оболочка покрывающая снаружи легко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3d74"/>
                </a:solidFill>
                <a:latin typeface="Tahoma"/>
              </a:rPr>
              <a:t>Тонкостенные легочные пузырьк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3d74"/>
                </a:solidFill>
                <a:latin typeface="Tahoma"/>
              </a:rPr>
              <a:t>Мышечная перегородка, разделяющая грудную и брюшную полости. Участвует в дыхательных движениях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3d74"/>
                </a:solidFill>
                <a:latin typeface="Tahoma"/>
              </a:rPr>
              <a:t>Складки слизистой оболочки, натянутые, как струн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619280" y="549360"/>
            <a:ext cx="6095880" cy="5715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Фронтальный опрос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ак происходит газообмен в легких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аков механизм газообмена в тканях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аким образом совершаются дыхательные движения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Что такое жизненная емкость легких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ак регулируется дыхание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Изучение нового материала: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 дыхательном  центре находятся клетки, чувствительные к малейшему изменению содержанию углекислого газа в межклеточном веществе. Избыток углекислого газа возбуждает дыхательный центр, это в свою очередь вызывает учащение дыхания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ебывание людей в закрытых помещениях неизбежно приводит к изменению химического состава и физических свойств воздух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 выдыхаемом человеком воздухе всего 16.4 % кислорода, до 4 % СО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и много водяных пар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518080" y="4246560"/>
            <a:ext cx="3625920" cy="26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0T09:33:29Z</dcterms:created>
  <dc:creator>Ефремова</dc:creator>
  <dc:description/>
  <dc:language>en-US</dc:language>
  <cp:lastModifiedBy>Ефремова</cp:lastModifiedBy>
  <dcterms:modified xsi:type="dcterms:W3CDTF">2011-02-20T12:09:49Z</dcterms:modified>
  <cp:revision>2</cp:revision>
  <dc:subject/>
  <dc:title>Обобщающий урок на тему:</dc:title>
</cp:coreProperties>
</file>