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3D9-49A8-4BEB-A4DB-2082B804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4CA-A5AA-40F8-BB1A-9382EC6C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BC2-9DF4-4715-896C-26D76245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02D-C713-4AFF-803A-0E48ADB5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5D70-7453-4C39-8EC4-F0C3A9E0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EF82-0F05-480F-B0E3-8B862836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F880-5C38-4683-82A2-CDFB71FD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AE18-DAB5-431D-8111-66D78C5A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105C-9EC0-4BEF-9811-CB3F3360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68A2-FC82-46F7-B625-EE1916F3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9606-2300-4B19-9C5C-CC99CE05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5FC-1077-4E62-9968-25BB1EAA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E870-41DC-4F76-AEB7-3590B1C6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8C4C-6404-433E-9145-C90E6A8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69E5-C921-42E5-A919-62536AC3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8A38-3384-4BDF-800B-FE493F17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8013-34A1-4DA1-985A-CEFCC1D7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82D-9FF5-4F33-B600-35316F76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DFC-CF3B-4D3D-BA5C-C0E4C390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5B0-E73F-45FB-9791-8D75AC60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BB5-5605-42D4-9201-11C040D8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C00-9039-4D8F-A623-03BDEF7C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EF6-870B-4E9A-8C0B-53F6154F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7E1-E340-481E-8D9F-D8E0EF4A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D301-9FDA-4C58-945B-6825E90B4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9310-9325-4280-BA5C-72EB55951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бобщающий урок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  <a:ea typeface="Tahoma"/>
              </a:rPr>
              <a:t>на тему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729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болевания органов дыха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х предупрежде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лохо проветриваемом помещении накапливаются летучие продукты жизнедеятельности. Пребывание в таком помещении снижается работоспособность человека, вызывает головную боль и другие нарушения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Невидимые враги в воздух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болевания органов дыха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воздухе находится огромное количество болезнетворных бактерий и микроорганизмов. Особенно их концентрация увеличивается во время возникновения вспышек инфекционных заболеваний, таких как грипп, туберкулез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же существуют следующие  заболевания органов дыхания: бронхит, бронхиальная астма, рак органов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Вредные привычки, способствующие развитию заболеваний органов дыхания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Краткая история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001000" cy="5079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Последствие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крепл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ест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Органы дых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мышц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реб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легк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поч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В процессе дыхания организм получае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минеральные со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Углекислый г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Углекислый газ образуется в организм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в легки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в клетках те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В легочных капилля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В капиллярах большого кру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Жизненная емкость легких составля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3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1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20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Помещения нужно регулярно проветривать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удалить избыток кисл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удалить избыток углекислого г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величить влажность воздух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Удалить пы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Что измеряется спирометр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давление кров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температура т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Пуль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Жизненная емкость лег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К вредным газообразным примесям в воздухе относи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азо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вод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гарный га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К инфекционным болезням передающимся через воздух относ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инфаркт миокар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СПИ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Малокро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Туберкуле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В выдыхаемом воздухе содержи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30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2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16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21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В качестве профилактики от заболевания гриппом ну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заниматься спор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прикрывать рот и нос марлевой повязкой при общении с больны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делать зарядк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не бывать на ули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 146-14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расширить знания учащихся о возможных заболеваниях и нарушениях органов дыхания, их причинах и профилактических мерах; гигиенических требованиях к окружающей среде; правилах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формировать умения: разъяснить необходимость проветривания в жилых помещениях; обосновывать вредное воздействие ку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Тип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бинирован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Ход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ганизационный моме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иологическая разм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Биологический диктан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органам дыхания относятся: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дгортанни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ронхиальное дере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ьве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иафраг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осов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21000" y="404640"/>
            <a:ext cx="4923000" cy="623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5410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Носовая полость, носоглотка, гортань, трахея, бронхи и легк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Особый эластичный и гибкий хрящ, он закрывает вход в гортань, когда мы глотаем пищу, предохраняя дыхательные пути от попадания в них пищевых частич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Ветвление главных бронх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ая оболочка покрывающая снаружи легк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остенные легочные пузырь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Мышечная перегородка, разделяющая грудную и брюшную полости. Участвует в дыхательных движ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Складки слизистой оболочки, натянутые, как стру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Фронтальный опрос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происходит газообмен в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в механизм газообмена в тканя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им образом совершаются дыхательные движ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такое жизненная емкость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регулируется дыха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Изучение нового материала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дыхательном  центре находятся клетки, чувствительные к малейшему изменению содержанию углекислого газа в межклеточном веществе. Избыток углекислого газа возбуждает дыхательный центр, это в свою очередь вызывает учащение дых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бывание людей в закрытых помещениях неизбежно приводит к изменению химического состава и физических свойств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выдыхаемом человеком воздухе всего 16.4 % кислорода, до 4 % С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много водяных па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4246560"/>
            <a:ext cx="3625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3:29Z</dcterms:created>
  <dc:creator>Ефремова</dc:creator>
  <dc:description/>
  <dc:language>en-US</dc:language>
  <cp:lastModifiedBy>Ефремова</cp:lastModifiedBy>
  <dcterms:modified xsi:type="dcterms:W3CDTF">2011-02-20T12:09:49Z</dcterms:modified>
  <cp:revision>2</cp:revision>
  <dc:subject/>
  <dc:title>Обобщающий урок на тему:</dc:title>
</cp:coreProperties>
</file>