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wmf" ContentType="image/x-wmf"/>
  <Override PartName="/ppt/media/image3.jpeg" ContentType="image/jpeg"/>
  <Override PartName="/ppt/media/image7.jpeg" ContentType="image/jpeg"/>
  <Override PartName="/ppt/media/image15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1085-0810-45E7-8288-87CAAE7B3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031A-EFBA-4AC5-A852-EB4369FB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FCB7-7610-41F7-94CA-FE5C91641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C76D-BC80-4F19-872E-AEF23DE6C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D008-DE09-43B7-ABAD-C8338045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7852-AE8D-4506-BAC4-88F39700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4B67-A539-46CA-9158-F48314EC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0D91-BE3A-4F28-A5DD-AA46D2D9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90F3-3601-4904-B037-CA59405F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C70B-E481-4C9C-AB0D-626FB143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730F-C707-4EC9-AF18-FE622663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A1C5-E4C7-4761-ABF6-E77379D6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AAC6-3688-4CAC-9567-D6D461757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ushkinmuseum.ru/pict/foto_vystavok/turgenev/turgenev.jpg" TargetMode="External"/><Relationship Id="rId3" Type="http://schemas.openxmlformats.org/officeDocument/2006/relationships/hyperlink" Target="http://blog.zvab.com/wp-content/spasskoje2.jpg" TargetMode="External"/><Relationship Id="rId4" Type="http://schemas.openxmlformats.org/officeDocument/2006/relationships/hyperlink" Target="http://im2-tub.yandex.net/i?id=245410689-42-72" TargetMode="External"/><Relationship Id="rId5" Type="http://schemas.openxmlformats.org/officeDocument/2006/relationships/hyperlink" Target="http://im2-tub.yandex.net/i?id=193862540-05-72" TargetMode="External"/><Relationship Id="rId6" Type="http://schemas.openxmlformats.org/officeDocument/2006/relationships/hyperlink" Target="http://www.libex.ru/dimg/1ef26.jpg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aur"/>
              </a:rPr>
              <a:t>Автор презентаци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aur"/>
              </a:rPr>
              <a:t>Печказова Светлана Петров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aur"/>
              </a:rPr>
              <a:t>учитель литературы МБОУ «Лицей №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Centaur"/>
              </a:rPr>
              <a:t>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aur"/>
              </a:rPr>
              <a:t>Чамзинского района Республики Мордо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2590920" cy="28195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90720" y="2590920"/>
            <a:ext cx="73818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Урок литературы в 6 классе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Главный герой рассказа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Ивана Сергеевича Тургенева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"Бирюк"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3520" y="182880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йзаж в рассказе «Бирюк» начинается с описания леса и надвигающейся гроз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ейзаж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838080"/>
            <a:ext cx="809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Что такое ПЕЙЗАЖ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Какую роль он играет в произведе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С чего начинается пейзаж в рассказе «Бирюк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25909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Сколько моментов перехода душного вечера в грозовую ночь запечатлел авто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335268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Гроза надвигалась. Впереди огромная лиловая туча медленно поднималась из-за леса; надо мною и мне навстречу неслись длинные серые облака; ракиты тревожно шевелились и лепета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45720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Душный жар внезапно сменился влажным холодом; тени быстро густе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525744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Сильный ветер внезапно загудел в вышине, деревья забушевали, крупные капли дождя резко застучали, зашлепали по листьям, сверкнула молния, и гроза разразилась. Дождь полил ручь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352680" y="3276720"/>
            <a:ext cx="2457720" cy="32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563 -0.00556 L 0.34896 -0.00556 E">
                                      <p:cBhvr>
                                        <p:cTn id="104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ейзаж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11430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ПРЕДЧУВСТВИЕ ГРО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1600200"/>
            <a:ext cx="846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роза надвигалась. Впереди огромная лиловая туча медленно поднималась из-за леса; надо мною и мне навстречу неслись длинные серые облака; ракиты тревожно шевелились и лепета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3276720"/>
            <a:ext cx="84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ушный жар внезапно сменился влажным холодом; тени быстро густе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548532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льный ветер внезапно загудел в вышине, деревья забушевали, крупные капли дождя резко застучали, зашлепали по листьям, сверкнула молния, и гроза разразилась. Дождь полил ручь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27432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ГРОЗА ПОДЧИНЯЕТ СЕБЕ ОКРУЖАЮЩУЮ ПРИР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411480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ЦАРСТВО ГРОЗЫ.  ГРОЗА В РАССКАЗЕ - ОБРАЗ, СИМВОЛ, ЭТО НЕ ПРОСТО ЯВЛЕНИЕ ПРИРОДЫ: БИРЮК - ГРОЗА ВОРОВ. ГРОЗА - ЭТО ПСИХОЛОГИЧЕСКОЕ СОСТОЯНИЕ МУЖИКА, ЕГО СТРАХ, ОТЧАЯНИЕ, ПЕРЕШЕДШИЕ В ГН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Интерьер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95680" y="2133720"/>
            <a:ext cx="4419720" cy="41148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838080"/>
            <a:ext cx="809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Что такое ИНТЕРЬЕР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Какую роль он играет в произведе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Найдите описание интерьера в рассказе «Бирюк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209680"/>
            <a:ext cx="41907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ба лесника состояла из одной комнаты, закоптелой, низкой и пустой, без полатей и перегородок. Изорванный тулуп висел на стене. На лавке лежало одноствольное ружьё, в углу валялась груда тряпок; два больших горшка стояли возле печки. Лучина горела на столе, печально вспыхивая и погасая. На самой середине избы висела люлька, привязанная к концу длинного шес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Интерьер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62320" y="914400"/>
            <a:ext cx="4114800" cy="37339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4572000"/>
            <a:ext cx="8458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исание жилища многое добавляет к портрету героя. Обстановка избы Бирюка, «закоптелой, низкой, пустой», говорит о его бедности, убогости и одновременно - честности. Среди этой нищеты теплится жизнь двух маленьких детей лесника. Изображение детей настраивает читателя на сострадание и жалость к леснику, жизнь которого трагична и безжалост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2590920"/>
            <a:ext cx="4343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был высокого роста, плечист и сложен на славу. Из-под мокрой замашной рубашки выпукло выставлялись его могучие мышцы. Чёрная курчавая борода закрывала до половины его суровое и мужественное лицо; из-под сросшихся широких бровей смело глядели небольшие карие гла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ортрет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838080"/>
            <a:ext cx="809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Что такое ПОРТРЕТ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Какую роль он играет в произведе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Найдите портрет лесника в рассказе «Бирюк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1981080"/>
            <a:ext cx="3733920" cy="46483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33520" y="990720"/>
            <a:ext cx="8153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ед нами портрет нелюдимого и замкнутого человека, которого таким сделало положение лесника, ненависть мужиков, уход жены, оставившей ему двух маленьких детей, и одиноч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днако Тургенев считает, что человек, любящий природу, близкий к ней, не может озлобиться на жизнь. Именно слитность с природой и внутреннюю красоту своего героя подчёркивает ав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ортрет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2895480"/>
            <a:ext cx="5029200" cy="37339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Мастерство писателя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762120"/>
            <a:ext cx="2895840" cy="33526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4038480"/>
            <a:ext cx="8381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.С.Тургенев считал, что красота - единственная бессмертная вещь, она разлита повсюду, простирает своё влияние даже над смертью, но нигде не сияет так ярко, как в человеческой ду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ушой писатель наделял и природу. Красоте и гармонии природы в рассказе противопоставлена зловещая и мёртвая сила, враждебная и человеку - крепостное право. Но эта сила не способна уничтожить душу и человеч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0880" y="974880"/>
            <a:ext cx="85345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Arial"/>
              </a:rPr>
              <a:t>Тема произвед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) жизнь Бирюка; б) взаимоотношения отца и дочери; в) тяжёлая жизнь русских крепостных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Arial"/>
              </a:rPr>
              <a:t>2. Жанр произведения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а) легенда; б) рассказ; в) пове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Arial"/>
              </a:rPr>
              <a:t>3. Кульминационная сцена произведения — эт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) описание избы лесника; б) рассказ пойманного мужика о своей жизни; в) неожиданный гнев крестьян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Arial"/>
              </a:rPr>
              <a:t>4. Суровый и нелюдимый характер Бирюка объясня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) отношением к нему окружающих; б) обманом жены; в) пониманием истинных мотивов, заставляющих мужиков воро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Arial"/>
              </a:rPr>
              <a:t>5. В отношении автора к Бирюку проявляетс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) сочувствие; б) осуждение; в) безразлич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Arial"/>
              </a:rPr>
              <a:t>6. При описании грозы («... ракиты тревожно шевелились и лепетали», «облака неслись») автор используе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) сравнение; б) антитезу; в) олицетвор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Arial"/>
              </a:rPr>
              <a:t>7. Пейзаж в рассказах Тургенева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а) только фон, на котором происходит действие; б) соотносится с душевным состоянием автора и героев; в) противопоставляется этому состоя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роверь себя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роверь себя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523880" y="1905120"/>
          <a:ext cx="6078600" cy="1155600"/>
        </p:xfrm>
        <a:graphic>
          <a:graphicData uri="http://schemas.openxmlformats.org/drawingml/2006/table">
            <a:tbl>
              <a:tblPr/>
              <a:tblGrid>
                <a:gridCol w="868320"/>
                <a:gridCol w="868680"/>
                <a:gridCol w="868320"/>
                <a:gridCol w="868320"/>
                <a:gridCol w="868320"/>
                <a:gridCol w="868320"/>
                <a:gridCol w="8683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0" y="394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3124080"/>
            <a:ext cx="3886200" cy="35053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0880" y="99072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к «Виртуальная школа Уроки литературы Кирилла и Мефод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тов В. Ф. Уроки литературы в 6 классе. Поурочные планы. - М.: Экзамен, 20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шунова И.Н. , Липина Е.Ю. Тесты по русской литературе. – М.: Дрофа, 200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рет писате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ushkinmuseum.ru/pict/foto_vystavok/turgenev/turgenev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асское-Лутовиново: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log.zvab.com/wp-content/spasskoje2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тели писателя: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m2-tub.yandex.net/i?id=245410689-42-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im2-tub.yandex.net/i?id=193862540-05-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ожка книги: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libex.ru/dimg/1ef26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люстраци. Типы из «Записок охотника» И.С. Тургене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Бём (Эндаурова) Елизавета Меркурьевна):  http://gallerix.ru/album/Endaurova/pic/glrx-9491882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бедев К.В. Иллюстрации к «Запискам охотника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turgenev.org.ru/art-gallery/zhizn-iskusstvo-vremya/153-2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лабович А.Г. Иллюстрации к «Запискам охотника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artnow.ru/img/612000/612770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др из к/х «Бирюк»: http://www.kino-teatr.ru/movie/kadr/543/83886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оза (анимация) : http://logif.ru/publ/priroda/groza_molnii_i_dozhd/14-1-0-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Использованный материал: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057400" y="457200"/>
            <a:ext cx="4943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Цель урока: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1828800"/>
            <a:ext cx="7696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 algn="just"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мочь осознать тему и идею цикла рассказов И.С.Тургенева «Записки охотника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анализировать рассказ «Бирюк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мочь учащимся через пейзаж, интерьер и портрет понять характер главного геро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явить уровень знания учащимися текста произ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219320"/>
            <a:ext cx="830592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отцу Иван Сергеевич Тургенев принадлежал к старинному дворянскому роду, мать, урожденная Лутовинова, — богатая помещиц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её имении Спасское-Лутовиново (Мценский уезд Орловской губернии) прошли детские годы будущего писателя, рано научившегося тонко чувствовать природу и ненавидеть крепостное пра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219320" y="457200"/>
            <a:ext cx="6629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роисхождение писателя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2782" r="0" b="8333"/>
          <a:stretch/>
        </p:blipFill>
        <p:spPr>
          <a:xfrm>
            <a:off x="1981080" y="3886200"/>
            <a:ext cx="5105520" cy="2438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3657600"/>
            <a:ext cx="1905120" cy="26668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3581280"/>
            <a:ext cx="1905120" cy="26672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3200400"/>
            <a:ext cx="53928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Трудно представить себе более непохожих людей, чем родители будущего писа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6360" y="632448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ргей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57400" y="624852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арвара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1066680"/>
            <a:ext cx="1905120" cy="25909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"Записки охотника"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57400" y="1143000"/>
            <a:ext cx="662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ти всю жизнь Иван Сергеевич Тургенев провёл в Европе, лишь ненадолго приезжая в Россию. Однако лучшие свои произведения он посвятил русским людям и русской прир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40-50е год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ка писатель создал несколько  произведений, объединённых в один сборник «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писки охотн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. Темы рассказов сборника многообразны: здесь и описание помещиков, угнетающих крепостных крестьян,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тлые образы простых мужиков, сумевших сохран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657600"/>
            <a:ext cx="685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броту и искренность в нечеловеческих условиях, и поверья, сказки русского народа, и, конечно же, прекрасные картины природы средней полосы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 всех рассказах присутствует один и тот же герой - Пётр Петрович, дворянин из села Спасское. Он рассказывает о случаях, происходивших с ним во время охоты. Тургенев наделил своего рассказчика тонкой наблюдательностью, особым чувством прекрасного, что помогает точнее и колоритнее передать читателю различные ситу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борник принёс автору широкую извест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0" t="5178" r="0" b="7893"/>
          <a:stretch/>
        </p:blipFill>
        <p:spPr>
          <a:xfrm>
            <a:off x="7297560" y="4038480"/>
            <a:ext cx="184644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3657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Хорь и Калиныч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Ермолай и мельничих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алиновая во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Уездный лекар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ой сосед Радил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Однодворец Овсянник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Льг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Бежин луг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асьян с Красивой Меч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Бурмист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онто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Бирю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Два помещи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Лебедян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мер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евц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ётр Петрович Каратае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видан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914400"/>
            <a:ext cx="4952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Татьяна Борисовна и её племянн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Гамлет Щигровского уез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Чертопханов и Недопюскин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онец Чекртопхано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Живые мощ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тучи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Лес и степ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"Записки охотника"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67080" y="2971800"/>
            <a:ext cx="4343400" cy="38862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219320" y="304920"/>
            <a:ext cx="66294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Основная тема и идея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"Записок охотника"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752480"/>
            <a:ext cx="794088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Те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ображение простого русского народа, крепостных крестьян, оценка их высоких духовных и нравственных качест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каз нравственного оскудения русского дворян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Иде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тест против крепостного пр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0400" y="3962520"/>
            <a:ext cx="2743200" cy="25905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95880" y="4114800"/>
            <a:ext cx="2743200" cy="25909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3962520"/>
            <a:ext cx="2743200" cy="25905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Рассказ "Бирюк"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066680"/>
            <a:ext cx="8093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сказ «Бирюк» был написан в 1847 г. Создавая это произведение, Тургенев опирался на собственные впечатления о жизни крестьян в Орловской губернии. В имении матери жил лесник Бирюк, которого свои же крестьяне убили однажды в лесу. Эту историю писатель вложил в уста своего рассказчика Петра Петровича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3124080"/>
            <a:ext cx="2590920" cy="2286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2666880"/>
            <a:ext cx="80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Как вы понимаете значение слова БИРЮ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5334120"/>
            <a:ext cx="74678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Бирюк - угрюмый, мрачный, нелюдимый, одинокий  человек, имеющий хмурый, сумрачный ви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Толковый словарь русского языка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Д.Н. Ушаков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Конфликт рассказа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066680"/>
            <a:ext cx="8093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чему лесника Фому Кузьмича прозвали Бирюк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ая слава шла о нём по окрестным деревням и сёла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овы причины замкнутости и угрюмости Бирю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ыл ли Бирюк на самом деле человеконенавистник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д ли Бирюк своему одиночеств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ие черты характера привлекают в главном геро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563868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ирюк - главный герой рассказа, лесник, которого так прозвали местные жители за угрюмость и нелюдимость - оказался, вопреки своему прозвищу, милосердным и добрым челове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71800" y="3048120"/>
            <a:ext cx="2971800" cy="25146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62320" y="2895480"/>
            <a:ext cx="4190760" cy="37339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09480" y="1981080"/>
            <a:ext cx="80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то такое КОНФЛИКТ в литературном произведе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1066680"/>
            <a:ext cx="809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основе любого литературного произведения лежит конфликт, которому подчиняется развитие сюже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4038480"/>
            <a:ext cx="809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чём заключается КОНФЛИКТ рассказа «Бирюк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4952880"/>
            <a:ext cx="807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нфликт рассказа «Бирюк» - внутри самого главного героя. Его чувство долга вступает в противоречие с сочувствием и бедственным положением «вора». В конечном итоге побеждает чувство жалости и сострад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2590920"/>
            <a:ext cx="8093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КОНФЛИКТ в литературном произведении - это противоборство, противоречие между действующими силами: характерами нескольких героев или различными сторонами характера одного геро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29200" y="762120"/>
            <a:ext cx="3429000" cy="31240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1320" y="4419720"/>
            <a:ext cx="2514600" cy="2286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Конфликт рассказа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762120"/>
            <a:ext cx="3429000" cy="31240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419720"/>
            <a:ext cx="2514600" cy="22860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1-04T08:46:04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