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CD5-B6DE-4130-837A-00A16380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E17-A4C6-465C-8525-1706C0F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FD4-786A-4A0F-91F0-724A016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7FD-6701-482C-8088-D364C7F4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0FE-6D5A-42DF-AF4C-194A058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67C-D3B0-4AB6-B8A2-B897D285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7C1-5E85-4F60-A327-18A815C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0FF-FE2D-428F-8969-815F8615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1A4-A897-4E21-A7C7-533E3F63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A02-C583-4388-99E8-F6909F2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7E1-8356-4635-9008-0503235F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048-1D98-4726-9773-A1BCCA7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F60E-1573-4252-8749-440ADEAD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ushkinmuseum.ru/pict/foto_vystavok/turgenev/turgenev.jpg" TargetMode="External"/><Relationship Id="rId3" Type="http://schemas.openxmlformats.org/officeDocument/2006/relationships/hyperlink" Target="http://blog.zvab.com/wp-content/spasskoje2.jpg" TargetMode="External"/><Relationship Id="rId4" Type="http://schemas.openxmlformats.org/officeDocument/2006/relationships/hyperlink" Target="http://im2-tub.yandex.net/i?id=245410689-42-72" TargetMode="External"/><Relationship Id="rId5" Type="http://schemas.openxmlformats.org/officeDocument/2006/relationships/hyperlink" Target="http://im2-tub.yandex.net/i?id=193862540-05-72" TargetMode="External"/><Relationship Id="rId6" Type="http://schemas.openxmlformats.org/officeDocument/2006/relationships/hyperlink" Target="http://www.libex.ru/dimg/1ef26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45772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905120"/>
          <a:ext cx="6078600" cy="115560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038480"/>
            <a:ext cx="80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762120"/>
            <a:ext cx="3429000" cy="3124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4419720"/>
            <a:ext cx="2514600" cy="228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762120"/>
            <a:ext cx="3429000" cy="312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419720"/>
            <a:ext cx="2514600" cy="2286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4T08:46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