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4F2-B930-4862-9105-D097AD8C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23D-AD68-474C-9380-603F6341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314-85F0-4C33-B38E-FC4AB9CE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1B3-E437-415B-822A-7E2BD937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943-8413-4C5E-B76C-E3DAA61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DEC-26C1-44D9-9D2C-74367E1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E81-FA01-43F1-99EA-1B06987E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05A-41D0-499B-95A9-FD41ECD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FE8-E597-4313-919B-E58BD17F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607-43F3-4445-9171-B1E1E7A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245-D74C-44BE-9EA1-88EF9219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186-F6DA-464E-8318-C8C6DD1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1C4-C870-48AB-8470-82C0E94F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ushkinmuseum.ru/pict/foto_vystavok/turgenev/turgenev.jpg" TargetMode="External"/><Relationship Id="rId3" Type="http://schemas.openxmlformats.org/officeDocument/2006/relationships/hyperlink" Target="http://blog.zvab.com/wp-content/spasskoje2.jpg" TargetMode="External"/><Relationship Id="rId4" Type="http://schemas.openxmlformats.org/officeDocument/2006/relationships/hyperlink" Target="http://im2-tub.yandex.net/i?id=245410689-42-72" TargetMode="External"/><Relationship Id="rId5" Type="http://schemas.openxmlformats.org/officeDocument/2006/relationships/hyperlink" Target="http://im2-tub.yandex.net/i?id=193862540-05-72" TargetMode="External"/><Relationship Id="rId6" Type="http://schemas.openxmlformats.org/officeDocument/2006/relationships/hyperlink" Target="http://www.libex.ru/dimg/1ef26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905120"/>
          <a:ext cx="6078600" cy="115560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038480"/>
            <a:ext cx="80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762120"/>
            <a:ext cx="3429000" cy="3124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4419720"/>
            <a:ext cx="2514600" cy="228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762120"/>
            <a:ext cx="3429000" cy="312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419720"/>
            <a:ext cx="2514600" cy="2286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4T08:46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