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B40-85A8-4510-B7D0-C54F86C8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664-6AD2-4165-B611-E6804C9F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247-E1CA-41F2-B527-96CFECB5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829-0C8C-4D87-A540-B43CCA4D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FBC5-39F9-4237-A8A6-04E093D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3FA4-046D-4DC7-AD22-0B36781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115F-EA68-4ED9-8CC8-74D2E30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0ED-A72C-4F3E-8F69-534D9BB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FE46-6C34-41D8-866C-D0FBBFC1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7077-1DAD-400A-97A0-6CEC52B1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298F-E11E-4597-AE27-6A215AE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65A-5299-4F3C-99AD-6429E4F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1C0-514F-4853-AA2B-1D0400F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F41-C4EE-4D9E-97D5-24A379F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E3F-04F3-4950-813C-C20CE22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4D5-1300-40CF-8C22-3CAE9D9B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7329-F9C0-4C3D-B7E9-10484247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594-8A04-44C4-8369-4A808F4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3CB-84AC-47B6-9B11-A7D9E83D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FDA-DA77-450E-A118-B1C83C9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B30-F299-498D-B893-A710A97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C4C-3999-496C-B75E-331DB34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6BB-F41B-49EF-B22B-C4F474F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407-BA34-4120-929A-9D26343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B02B-9473-4DDA-BF48-32E914213D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2F4-A80E-401A-B3CA-52F5151E73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ИЦ05</cp:lastModifiedBy>
  <dcterms:modified xsi:type="dcterms:W3CDTF">2007-12-04T14:03:13Z</dcterms:modified>
  <cp:revision>5</cp:revision>
  <dc:subject/>
  <dc:title>Тема: «Значение крови» ( 4 класс)</dc:title>
</cp:coreProperties>
</file>