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596-A9EA-46A4-8429-5DED622E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60D-E6AD-469F-BDD2-53C974E4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651-67B2-4AB1-A65F-60020A0B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527-1261-408B-A3FF-B2D78D28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F9DC-0FF7-4884-A550-95711218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0C8C-D75C-442E-8E43-21405567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552B-D97A-44D7-B7DB-5D99431A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ED14-EC71-4369-9E09-3A5941D9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72BB-E173-4496-A6BE-622BB361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6381-4535-4A49-8766-2433A6DC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0AF0-6A2D-456E-8E5E-A14AEC74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67F-82BD-4959-803E-3CA1207F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F186-ECBA-4413-BF4E-FDB04A25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8501-4187-452D-87C4-1CF9D7C5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86D6-CE72-4DDD-A784-E279B7DD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0D14-8028-4A6D-BEAB-0E910072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805D-C800-49B7-8ABB-77CD1CE2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D0C-21E3-4EC8-BAE7-C13C1198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57D-B070-4C75-BC5A-B374E62D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B3C-F3E5-48E1-A4B3-3E0C4745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743-47A3-4855-96CE-DAA8AEB2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9EC-DDC1-423F-8EF4-7D54CB28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0C7-E094-4436-AED9-70536C64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0E9-2783-49F8-8984-2B2411BF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D726-9638-4D40-96D6-DD58C15D4B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D202-2CA6-462E-8681-31DA7208B5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ИЦ05</cp:lastModifiedBy>
  <dcterms:modified xsi:type="dcterms:W3CDTF">2007-12-04T14:03:13Z</dcterms:modified>
  <cp:revision>5</cp:revision>
  <dc:subject/>
  <dc:title>Тема: «Значение крови» ( 4 класс)</dc:title>
</cp:coreProperties>
</file>