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939-F12A-4507-8D23-F6A0DA5F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93E-F374-49A9-814B-21B7FA7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71B-71BB-4F1F-A4B9-375DDA84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C6D-8595-4FC7-94DA-BA6610A6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532-5A02-4AE9-AF95-3AAF6C2F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D5B6-15CF-4508-A399-DA7A8EF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DB2-C8FA-443F-8ED5-971C2892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7575-7523-40D6-8EF6-70933FE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F3F-02E9-4EF9-9473-D6E72FD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A5B-CA8D-45DB-8B3F-284C3199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D8B-78B9-4C3D-B937-ABDF502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537-BFA1-462E-AE75-FBD74E9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2AB6-6729-450F-8FF9-36B5540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0DAF-624F-44DE-AACA-840CC1F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4BB-E74E-4808-B167-41F34C2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F18-D0F6-40EE-90D4-2AE9E6B8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A960-8317-471D-B76C-5D06C9B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320-4E88-4864-9A79-3235947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FC9-384E-4FBE-A9D3-BD6278D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9A3-C959-4F48-B428-94DC6FC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BE8-182C-4130-815B-F8DE577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EF4-2FAF-4872-9CB0-74F96FD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ED0-15A8-4B6E-999E-7D8350B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315-61E7-4C73-9D91-D667EA2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B67-2D50-4F56-8549-54B746DD7C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B806-31CC-4F5E-90F6-611ABE51C3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ИЦ05</cp:lastModifiedBy>
  <dcterms:modified xsi:type="dcterms:W3CDTF">2007-12-04T14:03:13Z</dcterms:modified>
  <cp:revision>5</cp:revision>
  <dc:subject/>
  <dc:title>Тема: «Значение крови» ( 4 класс)</dc:title>
</cp:coreProperties>
</file>