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479-6EE8-42B8-9ED0-8AC95056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A52-B04A-4A9A-9780-8C4DA910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EF0-F0AB-4C90-959A-60A516DC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547-1959-4218-A468-700F5FF4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6EE-5B04-4F7B-8A38-03FC5E29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841-96D7-4D4A-91B4-1B10C90D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6E6-8C64-479E-92D6-E8BF1C0F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FAB-5067-4A15-B48D-E6838910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C2E-EB23-4C27-ABDB-CAA82D95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601-E532-48B1-AAF0-6A0E5E6E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F9B-F8A2-4026-A18E-282BF937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465-7FD4-46A0-8D39-D4647BAD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109F-F167-4174-870E-19334AA45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yandex.ru/images/search?img_url=http%3A%2F%2Fstatic3.depositphotos.com%2Fthumbs%2F1000097%2Fvector%2F100%2F1005783%2Fthumb_110.jpg&amp;text=&#1076;&#1091;&#1084;&#1072;&#1102;&#1097;&#1080;&#1081;%20&#1084;&#1072;&#1083;&#1100;&#1095;&#1080;&#1082;%20&#1082;&#1072;&#1088;&#1090;&#1080;&#1085;&#1082;&#1080;&amp;redircnt=1443848895.4&amp;noreask=1&amp;pos=2&amp;rpt=simage&amp;lr=21&amp;family=yes" TargetMode="External"/><Relationship Id="rId3" Type="http://schemas.openxmlformats.org/officeDocument/2006/relationships/hyperlink" Target="http://yandex.ru/images/search?img_url=http%3A%2F%2Fstatic3.depositphotos.com%2Fthumbs%2F1000097%2Fvector%2F100%2F1005783%2Fthumb_110.jpg&amp;text=&#1076;&#1091;&#1084;&#1072;&#1102;&#1097;&#1080;&#1081;%20&#1084;&#1072;&#1083;&#1100;&#1095;&#1080;&#1082;%20&#1082;&#1072;&#1088;&#1090;&#1080;&#1085;&#1082;&#1080;&amp;redircnt=1443848895.4&amp;noreask=1&amp;pos=2&amp;rpt=simage&amp;lr=21&amp;family=yes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дзаголовок 2"/>
          <p:cNvSpPr/>
          <p:nvPr/>
        </p:nvSpPr>
        <p:spPr>
          <a:xfrm>
            <a:off x="539640" y="620640"/>
            <a:ext cx="81550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математики, 5 класс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К Н.Я. Вилен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356000" y="4653000"/>
            <a:ext cx="4496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Лазарчук Владимир Николаеви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и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СОШ №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п. Енский Ковдорского района Мурма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78680" y="3068640"/>
            <a:ext cx="2724120" cy="3567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333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!! Ва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268280"/>
            <a:ext cx="741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в равенство входит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ук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то равенство может быть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ерны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ри одних значениях этой буквы и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верны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ри других её знач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1619280" y="357336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+ 2 =5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422100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рно при 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х =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неверно при 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х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78680" y="3068640"/>
            <a:ext cx="2724120" cy="3567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55640" y="333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ение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119700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Уравнение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зывают равенство, содержащее букву (неизвестное), значение которой надо на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4046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ение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38760" y="2492280"/>
            <a:ext cx="3164040" cy="4143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4000" y="981000"/>
            <a:ext cx="69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Корнем уравн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зывают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начение букв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при котором из уравнения получается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ерно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числовое 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1042920" y="263700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+ 2 =5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WordArt 6"/>
          <p:cNvSpPr txBox="1"/>
          <p:nvPr/>
        </p:nvSpPr>
        <p:spPr>
          <a:xfrm>
            <a:off x="1187280" y="3141720"/>
            <a:ext cx="165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= 3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306864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орень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1258920" y="429264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+ 5 = 1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4005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48690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ней в натуральных числах не имеет, т.к. нет натурального числа, которое в сумме с числом 5 дас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981000"/>
            <a:ext cx="59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Решить уравнение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начит найти все его корни или доказать, что их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738760" y="2492280"/>
            <a:ext cx="31640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0364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943000" cy="3854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50920" y="0"/>
            <a:ext cx="5905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уравн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1268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+ 26 = 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1844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мыслу вычитания, неизвестное слагаемое равно разности суммы и другого слагаем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2708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82 -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3284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3789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4508640"/>
            <a:ext cx="60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бы найти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еизвестн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лагаем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надо из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умм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че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звестное 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мер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0364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943000" cy="3854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50920" y="0"/>
            <a:ext cx="5905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уравн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1619280" y="1268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 - 32 =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1844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мыслу вычитания, у является суммой чисел 18 и 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2708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 = 18 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2360" y="3284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3789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4508640"/>
            <a:ext cx="60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бы найти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еизвестн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меньшаем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надо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ложи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читаемое и разност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мер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0364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943000" cy="3854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50920" y="0"/>
            <a:ext cx="5905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уравн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1125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8 - х =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5573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мыслу вычитания, число 28 является суммой  х и 15, то есть х + 15 = 28. Отсюда 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2708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28 -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3284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3789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50864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бы найти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еизвестн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ычитаем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надо из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меньшаемог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честь  разност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мер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0364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943000" cy="3854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250920" y="0"/>
            <a:ext cx="5905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уравн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1125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х + 23) - 20 =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55736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м уравнение дву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мер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155736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– й способ; рассмотрим 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619280" y="1773360"/>
            <a:ext cx="216000" cy="1800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00360" y="1628280"/>
            <a:ext cx="142920" cy="2521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3573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уменьш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4221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чит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50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708360" y="1557000"/>
            <a:ext cx="574560" cy="194292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1125360"/>
            <a:ext cx="1439640" cy="574920"/>
          </a:xfrm>
          <a:prstGeom prst="ellipse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27280" y="1125360"/>
            <a:ext cx="576360" cy="50328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1052640"/>
            <a:ext cx="576000" cy="576000"/>
          </a:xfrm>
          <a:prstGeom prst="ellipse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2276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+ 23 = 31 +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2781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+ 23 = 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3284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51 -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3716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1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0364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943000" cy="3854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250920" y="0"/>
            <a:ext cx="5905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уравн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1125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х + 23) - 20 =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55736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м уравнение дву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мер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155736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– й способ; сначала упрост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2133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+ 23 - 20 =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29242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+ 3 =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357336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31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4221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х =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ите из учеб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2, 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140360" y="1922400"/>
            <a:ext cx="37684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Изучить понятие уравнения, корня уравнения и что значит «решить уравнен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учиться решать простейшие уравнения на нахождение компонентов сложения и выч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. 10, № 395(а – г), 397(а, 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410000" y="2276640"/>
            <a:ext cx="34988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468360" y="33336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50920" y="1557360"/>
            <a:ext cx="864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а 5 класс: учеб. для общеобразоват. организаций учреждений/ Н.Я. Виленкин, В.И. Жохов, А.С. Чесноков, С.И. Шварцбуд. –  33-е изд., стер. – М. : Мнемозина, 2014. – 280 с. : 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yandex.ru/images/search?img_url=http%3A%2F%2Fstatic3.depositphotos.com%2Fthumbs%2F1000097%2Fvector%2F100%2F1005783%2Fthumb_110.jpg&amp;text=думающий%20мальчик%20картинки&amp;redircnt=1443848895.4&amp;noreask=1&amp;pos=2&amp;rpt=simage&amp;lr=21&amp;family=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yandex.ru/images/search?img_url=http%3A%2F%2Fstatic3.depositphotos.com%2Fthumbs%2F1000097%2Fvector%2F100%2F1005783%2Fthumb_110.jpg&amp;text=думающий%20мальчик%20картинки&amp;redircnt=1443848895.4&amp;noreask=1&amp;pos=2&amp;rpt=simage&amp;lr=21&amp;family=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0920" y="0"/>
            <a:ext cx="248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ем у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162864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981000"/>
            <a:ext cx="865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184464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112536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24720" y="2421000"/>
            <a:ext cx="865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92360" y="1341360"/>
            <a:ext cx="11509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1484280"/>
            <a:ext cx="64764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219640" y="1412640"/>
            <a:ext cx="100800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1628640"/>
            <a:ext cx="86364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3568680"/>
            <a:ext cx="3600360" cy="3289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6920" y="184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105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119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0000" y="1341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20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1341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7640" y="1413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1640" y="155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67640" y="263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3500280"/>
            <a:ext cx="4032000" cy="1513080"/>
          </a:xfrm>
          <a:prstGeom prst="cloudCallout">
            <a:avLst>
              <a:gd name="adj1" fmla="val -64134"/>
              <a:gd name="adj2" fmla="val 57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е число стоит в конце цеп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50920" y="0"/>
            <a:ext cx="248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ем у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62864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981000"/>
            <a:ext cx="865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184464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1125360"/>
            <a:ext cx="865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24720" y="2421000"/>
            <a:ext cx="865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692360" y="1341360"/>
            <a:ext cx="11509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08360" y="1484280"/>
            <a:ext cx="64764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219640" y="1412640"/>
            <a:ext cx="100800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93080" y="1628640"/>
            <a:ext cx="86364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6920" y="3789360"/>
            <a:ext cx="1925640" cy="2635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40360" y="3500280"/>
            <a:ext cx="4032000" cy="1513080"/>
          </a:xfrm>
          <a:prstGeom prst="cloudCallout">
            <a:avLst>
              <a:gd name="adj1" fmla="val -87874"/>
              <a:gd name="adj2" fmla="val 91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е число стоит в конце цеп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84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05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19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0000" y="1341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060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1341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1413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1640" y="155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67640" y="263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0920" y="0"/>
            <a:ext cx="248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ем у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558880" cy="3351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71640" y="549360"/>
            <a:ext cx="5904000" cy="1224000"/>
          </a:xfrm>
          <a:prstGeom prst="wedgeEllipseCallout">
            <a:avLst>
              <a:gd name="adj1" fmla="val -61967"/>
              <a:gd name="adj2" fmla="val 2311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называют числа при слож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2421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a + b =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140360" y="2997360"/>
            <a:ext cx="792000" cy="1584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292720" y="3068280"/>
            <a:ext cx="358920" cy="20890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4581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лаг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5229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лаг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450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у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6588000" y="2997360"/>
            <a:ext cx="216000" cy="1511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0"/>
            <a:ext cx="248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ем у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558880" cy="3351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71640" y="549360"/>
            <a:ext cx="5904000" cy="1224000"/>
          </a:xfrm>
          <a:prstGeom prst="wedgeEllipseCallout">
            <a:avLst>
              <a:gd name="adj1" fmla="val -61967"/>
              <a:gd name="adj2" fmla="val 2311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называют числа при вычита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2421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b =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140360" y="2997360"/>
            <a:ext cx="792000" cy="1584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292720" y="3068280"/>
            <a:ext cx="358920" cy="2089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4581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уменьш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чит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450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516720" y="2923920"/>
            <a:ext cx="287280" cy="158436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 rot="20789400">
            <a:off x="826920" y="1773000"/>
            <a:ext cx="691200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авн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26920" y="33336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им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53360" y="3429000"/>
            <a:ext cx="2449440" cy="3206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5210" t="10420" r="8007" b="9796"/>
          <a:stretch/>
        </p:blipFill>
        <p:spPr>
          <a:xfrm>
            <a:off x="4067280" y="260280"/>
            <a:ext cx="4537080" cy="2086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227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левой чашке весов лежат арбуз и гиря в 2 кг, а на правой чашке – гиря в 5 кг. Весы находятся в равновесии. Чему равна масса арбу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5002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407664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са арбуза -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4076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означим через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4508640"/>
            <a:ext cx="62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.к. весы находятся в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вновес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должно выполняться 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1116000" y="551664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+ 2 =5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453360" y="3429000"/>
            <a:ext cx="2449440" cy="32068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6"/>
          <p:cNvSpPr txBox="1"/>
          <p:nvPr/>
        </p:nvSpPr>
        <p:spPr>
          <a:xfrm>
            <a:off x="1763640" y="62064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+ 2 =5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34136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о найти такое значение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которо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выполняет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е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249228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мыслу вычитания, этим значением будет разность чисел 5 и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1908000" y="357336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= 5 - 2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1908000" y="4292640"/>
            <a:ext cx="151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=3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9:21:55Z</dcterms:created>
  <dc:creator>User</dc:creator>
  <dc:description/>
  <dc:language>en-US</dc:language>
  <cp:lastModifiedBy>User</cp:lastModifiedBy>
  <dcterms:modified xsi:type="dcterms:W3CDTF">2015-10-12T18:47:07Z</dcterms:modified>
  <cp:revision>5</cp:revision>
  <dc:subject/>
  <dc:title>Слайд 1</dc:title>
</cp:coreProperties>
</file>