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553-1EC6-4DE5-845E-4E326A9E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070-DD9F-46C7-877E-4A50519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AB3-BF86-4166-BC6C-1984A315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227-15B4-4581-939C-9F3927FB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EAF-C814-489A-9F83-D792B732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349-380D-4F27-A57F-7FD81C8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C30-56D0-4F90-9611-3365BA6D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488-95A7-4979-8D45-A1DC6AB1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AAE-FD10-47F7-BDCD-F40F3E5B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0B2-2040-466F-A5DC-A902EA9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BED-5138-4628-B7C4-1DA67E7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CD7-A14E-468D-A1B9-51C5623D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4FEE-FF00-49CC-B6CE-61607B58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andex.ru/images/search?img_url=http%3A%2F%2Fstatic3.depositphotos.com%2Fthumbs%2F1000097%2Fvector%2F100%2F1005783%2Fthumb_110.jpg&amp;text=&#1076;&#1091;&#1084;&#1072;&#1102;&#1097;&#1080;&#1081;%20&#1084;&#1072;&#1083;&#1100;&#1095;&#1080;&#1082;%20&#1082;&#1072;&#1088;&#1090;&#1080;&#1085;&#1082;&#1080;&amp;redircnt=1443848895.4&amp;noreask=1&amp;pos=2&amp;rpt=simage&amp;lr=21&amp;family=yes" TargetMode="External"/><Relationship Id="rId3" Type="http://schemas.openxmlformats.org/officeDocument/2006/relationships/hyperlink" Target="http://yandex.ru/images/search?img_url=http%3A%2F%2Fstatic3.depositphotos.com%2Fthumbs%2F1000097%2Fvector%2F100%2F1005783%2Fthumb_110.jpg&amp;text=&#1076;&#1091;&#1084;&#1072;&#1102;&#1097;&#1080;&#1081;%20&#1084;&#1072;&#1083;&#1100;&#1095;&#1080;&#1082;%20&#1082;&#1072;&#1088;&#1090;&#1080;&#1085;&#1082;&#1080;&amp;redircnt=1443848895.4&amp;noreask=1&amp;pos=2&amp;rpt=simage&amp;lr=21&amp;family=ye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539640" y="620640"/>
            <a:ext cx="8155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математики, 5 класс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Н.Я. Вилен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6000" y="4653000"/>
            <a:ext cx="4496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зарчук Владимир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и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п. Енский Ковдорского район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8680" y="3068640"/>
            <a:ext cx="2724120" cy="356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! 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268280"/>
            <a:ext cx="74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в равенство входит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ук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то равенство может быть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ер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одних значениях этой буквы и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вер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других её зна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619280" y="3573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221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но при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х =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еверно при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х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8680" y="3068640"/>
            <a:ext cx="2724120" cy="35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1970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Уравнени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ют равенство, содержащее букву (неизвестное), значение которой надо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404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38760" y="2492280"/>
            <a:ext cx="3164040" cy="4143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98100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Корнем уравн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начение букв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ри котором из уравнения получаетс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р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числов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042920" y="2637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187280" y="3141720"/>
            <a:ext cx="16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 3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068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рень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258920" y="4292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5 = 1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4005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869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ей в натуральных числах не имеет, т.к. нет натурального числа, которое в сумме с числом 5 дас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98100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шить уравнение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начит найти все его корни или доказать, что их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38760" y="2492280"/>
            <a:ext cx="31640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126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6 =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неизвестное слагаемое равно разности суммы и другого слага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82 -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50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аг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из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умм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звестное 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6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- 32 =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у является суммой чисел 18 и 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= 18 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50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меньш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ож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итаемое и разност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112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8 - х 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557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число 28 является суммой  х и 15, то есть х + 15 = 28. Отсюд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 -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5086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из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меньшаемог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есть  разност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х + 23)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557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м уравнение дву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– й способ; рассмотрим 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619280" y="1773360"/>
            <a:ext cx="216000" cy="1800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00360" y="1628280"/>
            <a:ext cx="142920" cy="2521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5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2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708360" y="1557000"/>
            <a:ext cx="574560" cy="194292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1125360"/>
            <a:ext cx="1439640" cy="574920"/>
          </a:xfrm>
          <a:prstGeom prst="ellipse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1125360"/>
            <a:ext cx="576360" cy="5032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052640"/>
            <a:ext cx="576000" cy="576000"/>
          </a:xfrm>
          <a:prstGeom prst="ellipse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2276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= 31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78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=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328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1 -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3716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х + 23)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557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м уравнение дву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– й способ; сначала упрост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133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2924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3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573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31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21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2, 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40360" y="1922400"/>
            <a:ext cx="37684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учить понятие уравнения, корня уравнения и что значит «решить уравн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учиться решать простейшие уравнения на нахождение компонентов сложения и выч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10, № 395(а – г), 397(а, 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0000" y="2276640"/>
            <a:ext cx="3498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333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0920" y="1557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5 класс: учеб. для общеобразоват. организаций учреждений/ Н.Я. Виленкин, В.И. Жохов, А.С. Чесноков, С.И. Шварцбуд. –  33-е изд., стер. – М. : Мнемозина, 2014. – 280 с. :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yandex.ru/images/search?img_url=http%3A%2F%2Fstatic3.depositphotos.com%2Fthumbs%2F1000097%2Fvector%2F100%2F1005783%2Fthumb_110.jpg&amp;text=думающий%20мальчик%20картинки&amp;redircnt=1443848895.4&amp;noreask=1&amp;pos=2&amp;rpt=simage&amp;lr=21&amp;family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yandex.ru/images/search?img_url=http%3A%2F%2Fstatic3.depositphotos.com%2Fthumbs%2F1000097%2Fvector%2F100%2F1005783%2Fthumb_110.jpg&amp;text=думающий%20мальчик%20картинки&amp;redircnt=1443848895.4&amp;noreask=1&amp;pos=2&amp;rpt=simage&amp;lr=21&amp;family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628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98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844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12536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42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1341360"/>
            <a:ext cx="11509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1484280"/>
            <a:ext cx="6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19640" y="141264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1628640"/>
            <a:ext cx="863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3568680"/>
            <a:ext cx="3600360" cy="3289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0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19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764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3500280"/>
            <a:ext cx="4032000" cy="1513080"/>
          </a:xfrm>
          <a:prstGeom prst="cloudCallout">
            <a:avLst>
              <a:gd name="adj1" fmla="val -64134"/>
              <a:gd name="adj2" fmla="val 5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число стоит в конце це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628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98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844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12536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42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692360" y="1341360"/>
            <a:ext cx="11509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1484280"/>
            <a:ext cx="6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19640" y="141264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628640"/>
            <a:ext cx="863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1925640" cy="263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40360" y="3500280"/>
            <a:ext cx="4032000" cy="1513080"/>
          </a:xfrm>
          <a:prstGeom prst="cloudCallout">
            <a:avLst>
              <a:gd name="adj1" fmla="val -87874"/>
              <a:gd name="adj2" fmla="val 91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число стоит в конце це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0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19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0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558880" cy="3351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1640" y="549360"/>
            <a:ext cx="5904000" cy="1224000"/>
          </a:xfrm>
          <a:prstGeom prst="wedgeEllipseCallout">
            <a:avLst>
              <a:gd name="adj1" fmla="val -61967"/>
              <a:gd name="adj2" fmla="val 23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ют числа при с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24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 +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40360" y="2997360"/>
            <a:ext cx="792000" cy="158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292720" y="3068280"/>
            <a:ext cx="358920" cy="2089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522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588000" y="2997360"/>
            <a:ext cx="216000" cy="151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558880" cy="3351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49360"/>
            <a:ext cx="5904000" cy="1224000"/>
          </a:xfrm>
          <a:prstGeom prst="wedgeEllipseCallout">
            <a:avLst>
              <a:gd name="adj1" fmla="val -61967"/>
              <a:gd name="adj2" fmla="val 23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ют числа при вычит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40360" y="2997360"/>
            <a:ext cx="792000" cy="158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3068280"/>
            <a:ext cx="358920" cy="2089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581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16720" y="2923920"/>
            <a:ext cx="287280" cy="158436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20789400">
            <a:off x="826920" y="1773000"/>
            <a:ext cx="6912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33336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53360" y="3429000"/>
            <a:ext cx="2449440" cy="320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5210" t="10420" r="8007" b="9796"/>
          <a:stretch/>
        </p:blipFill>
        <p:spPr>
          <a:xfrm>
            <a:off x="4067280" y="260280"/>
            <a:ext cx="4537080" cy="20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27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евой чашке весов лежат арбуз и гиря в 2 кг, а на правой чашке – гиря в 5 кг. Весы находятся в равновесии. Чему равна масса арбу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00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076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арбуза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07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им через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508640"/>
            <a:ext cx="62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к. весы находятся в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вновес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должно выполняться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116000" y="5516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53360" y="3429000"/>
            <a:ext cx="2449440" cy="3206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763640" y="620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3413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о найти такое значение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которо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выполня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492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этим значением будет разность чисел 5 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908000" y="3573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 5 - 2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1908000" y="4292640"/>
            <a:ext cx="151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3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9:21:55Z</dcterms:created>
  <dc:creator>User</dc:creator>
  <dc:description/>
  <dc:language>en-US</dc:language>
  <cp:lastModifiedBy>User</cp:lastModifiedBy>
  <dcterms:modified xsi:type="dcterms:W3CDTF">2015-10-12T18:47:07Z</dcterms:modified>
  <cp:revision>5</cp:revision>
  <dc:subject/>
  <dc:title>Слайд 1</dc:title>
</cp:coreProperties>
</file>