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56.png" ContentType="image/png"/>
  <Override PartName="/ppt/media/image40.jpeg" ContentType="image/jpeg"/>
  <Override PartName="/ppt/media/image55.png" ContentType="image/png"/>
  <Override PartName="/ppt/media/image20.jpeg" ContentType="image/jpeg"/>
  <Override PartName="/ppt/media/image53.png" ContentType="image/png"/>
  <Override PartName="/ppt/media/image51.png" ContentType="image/png"/>
  <Override PartName="/ppt/media/image4.jpeg" ContentType="image/jpeg"/>
  <Override PartName="/ppt/media/image49.jpeg" ContentType="image/jpeg"/>
  <Override PartName="/ppt/media/image48.jpeg" ContentType="image/jpeg"/>
  <Override PartName="/ppt/media/image47.gif" ContentType="image/gif"/>
  <Override PartName="/ppt/media/image26.jpeg" ContentType="image/jpeg"/>
  <Override PartName="/ppt/media/image44.jpeg" ContentType="image/jpeg"/>
  <Override PartName="/ppt/media/image38.png" ContentType="image/png"/>
  <Override PartName="/ppt/media/image37.png" ContentType="image/png"/>
  <Override PartName="/ppt/media/image36.png" ContentType="image/png"/>
  <Override PartName="/ppt/media/image9.jpeg" ContentType="image/jpeg"/>
  <Override PartName="/ppt/media/image43.jpeg" ContentType="image/jpeg"/>
  <Override PartName="/ppt/media/image42.gif" ContentType="image/gif"/>
  <Override PartName="/ppt/media/image35.png" ContentType="image/png"/>
  <Override PartName="/ppt/media/image33.png" ContentType="image/png"/>
  <Override PartName="/ppt/media/image54.png" ContentType="image/png"/>
  <Override PartName="/ppt/media/image14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59.png" ContentType="image/png"/>
  <Override PartName="/ppt/media/image24.jpeg" ContentType="image/jpeg"/>
  <Override PartName="/ppt/media/image13.jpeg" ContentType="image/jpeg"/>
  <Override PartName="/ppt/media/image60.png" ContentType="image/png"/>
  <Override PartName="/ppt/media/image6.jpeg" ContentType="image/jpeg"/>
  <Override PartName="/ppt/media/image62.png" ContentType="image/png"/>
  <Override PartName="/ppt/media/image63.png" ContentType="image/png"/>
  <Override PartName="/ppt/media/image15.jpeg" ContentType="image/jpeg"/>
  <Override PartName="/ppt/media/image79.jpeg" ContentType="image/jpeg"/>
  <Override PartName="/ppt/media/image78.jpeg" ContentType="image/jpeg"/>
  <Override PartName="/ppt/media/image39.png" ContentType="image/png"/>
  <Override PartName="/ppt/media/image22.jpeg" ContentType="image/jpeg"/>
  <Override PartName="/ppt/media/image46.gif" ContentType="image/gif"/>
  <Override PartName="/ppt/media/image76.png" ContentType="image/png"/>
  <Override PartName="/ppt/media/image30.jpeg" ContentType="image/jpeg"/>
  <Override PartName="/ppt/media/image72.jpeg" ContentType="image/jpeg"/>
  <Override PartName="/ppt/media/image71.jpeg" ContentType="image/jpeg"/>
  <Override PartName="/ppt/media/image69.png" ContentType="image/png"/>
  <Override PartName="/ppt/media/image25.jpeg" ContentType="image/jpeg"/>
  <Override PartName="/ppt/media/image32.png" ContentType="image/png"/>
  <Override PartName="/ppt/media/image67.png" ContentType="image/png"/>
  <Override PartName="/ppt/media/image3.jpeg" ContentType="image/jpeg"/>
  <Override PartName="/ppt/media/image66.png" ContentType="image/png"/>
  <Override PartName="/ppt/media/image21.gif" ContentType="image/gif"/>
  <Override PartName="/ppt/media/image73.jpeg" ContentType="image/jpeg"/>
  <Override PartName="/ppt/media/image80.jpeg" ContentType="image/jpeg"/>
  <Override PartName="/ppt/media/image65.png" ContentType="image/png"/>
  <Override PartName="/ppt/media/image70.png" ContentType="image/png"/>
  <Override PartName="/ppt/media/image7.jpeg" ContentType="image/jpeg"/>
  <Override PartName="/ppt/media/image68.png" ContentType="image/png"/>
  <Override PartName="/ppt/media/image64.png" ContentType="image/png"/>
  <Override PartName="/ppt/media/image77.jpeg" ContentType="image/jpeg"/>
  <Override PartName="/ppt/media/image1.jpeg" ContentType="image/jpeg"/>
  <Override PartName="/ppt/media/image23.jpeg" ContentType="image/jpeg"/>
  <Override PartName="/ppt/media/image57.png" ContentType="image/png"/>
  <Override PartName="/ppt/media/image31.png" ContentType="image/png"/>
  <Override PartName="/ppt/media/image2.jpeg" ContentType="image/jpeg"/>
  <Override PartName="/ppt/media/image61.png" ContentType="image/png"/>
  <Override PartName="/ppt/media/image5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16.jpeg" ContentType="image/jpeg"/>
  <Override PartName="/ppt/media/chimes.wav" ContentType="audio/x-wav"/>
  <Override PartName="/ppt/media/image74.jpeg" ContentType="image/jpeg"/>
  <Override PartName="/ppt/media/image34.png" ContentType="image/png"/>
  <Override PartName="/ppt/media/image41.gif" ContentType="image/gif"/>
  <Override PartName="/ppt/media/image75.jpeg" ContentType="image/jpeg"/>
  <Override PartName="/ppt/media/image8.jpeg" ContentType="image/jpeg"/>
  <Override PartName="/ppt/media/image45.gif" ContentType="image/gif"/>
  <Override PartName="/ppt/media/image28.jpeg" ContentType="image/jpeg"/>
  <Override PartName="/ppt/media/image11.jpeg" ContentType="image/jpeg"/>
  <Override PartName="/ppt/media/image12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99B0-2469-4A73-840E-0F33A99B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EFC5-BB68-49C3-9E1F-840E5EB3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C843-2C48-4B43-93D5-E6346C6AE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EA9A-8C4A-4D46-B33F-119B5768D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D78E-123E-4F9B-808E-573915D6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0FD1-35BB-42C9-99BA-A8452784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FFA7-C789-48EF-96A7-220574B1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0D67-E2CE-41EE-8F3C-9FB6F301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7D64-7E27-4359-8F12-6D5FD4EF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7ED9-C4A7-4F53-AF9D-98C2AC24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6D34-DB0B-4288-9C69-DB9970D1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8F8D-212B-4DA0-B079-62417D6A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5961-5B80-4B62-9C03-CDD22920C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image" Target="../media/image74.jpeg"/><Relationship Id="rId6" Type="http://schemas.openxmlformats.org/officeDocument/2006/relationships/image" Target="../media/image75.jpeg"/><Relationship Id="rId7" Type="http://schemas.openxmlformats.org/officeDocument/2006/relationships/image" Target="../media/image76.png"/><Relationship Id="rId8" Type="http://schemas.openxmlformats.org/officeDocument/2006/relationships/image" Target="../media/image77.jpeg"/><Relationship Id="rId9" Type="http://schemas.openxmlformats.org/officeDocument/2006/relationships/image" Target="../media/image78.jpeg"/><Relationship Id="rId10" Type="http://schemas.openxmlformats.org/officeDocument/2006/relationships/image" Target="../media/image79.jpeg"/><Relationship Id="rId11" Type="http://schemas.openxmlformats.org/officeDocument/2006/relationships/image" Target="../media/image80.jpeg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nimashky.ru/index/0-6" TargetMode="External"/><Relationship Id="rId2" Type="http://schemas.openxmlformats.org/officeDocument/2006/relationships/hyperlink" Target="http://animashky.ru/index/0-6" TargetMode="External"/><Relationship Id="rId3" Type="http://schemas.openxmlformats.org/officeDocument/2006/relationships/hyperlink" Target="http://animashky.ru/index/0-6" TargetMode="External"/><Relationship Id="rId4" Type="http://schemas.openxmlformats.org/officeDocument/2006/relationships/hyperlink" Target="http://animashky.ru/index/0-6" TargetMode="External"/><Relationship Id="rId5" Type="http://schemas.openxmlformats.org/officeDocument/2006/relationships/hyperlink" Target="http://animashky.ru/index/0-6" TargetMode="External"/><Relationship Id="rId6" Type="http://schemas.openxmlformats.org/officeDocument/2006/relationships/hyperlink" Target="http://animashky.ru/index/0-6" TargetMode="External"/><Relationship Id="rId7" Type="http://schemas.openxmlformats.org/officeDocument/2006/relationships/hyperlink" Target="http://lenagold.ru/fon/main.htm" TargetMode="External"/><Relationship Id="rId8" Type="http://schemas.openxmlformats.org/officeDocument/2006/relationships/hyperlink" Target="http://lenagold.ru/fon/main.htm" TargetMode="External"/><Relationship Id="rId9" Type="http://schemas.openxmlformats.org/officeDocument/2006/relationships/hyperlink" Target="http://lenagold.ru/fon/main.htm" TargetMode="External"/><Relationship Id="rId10" Type="http://schemas.openxmlformats.org/officeDocument/2006/relationships/hyperlink" Target="http://lenagold.ru/fon/main.htm" TargetMode="External"/><Relationship Id="rId11" Type="http://schemas.openxmlformats.org/officeDocument/2006/relationships/hyperlink" Target="http://lenagold.ru/fon/main.htm" TargetMode="External"/><Relationship Id="rId12" Type="http://schemas.openxmlformats.org/officeDocument/2006/relationships/hyperlink" Target="http://lenagold.ru/fon/main.htm" TargetMode="External"/><Relationship Id="rId13" Type="http://schemas.openxmlformats.org/officeDocument/2006/relationships/hyperlink" Target="http://lenagold.ru/fon/main.htm" TargetMode="Externa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slide" Target="slide4.xml"/><Relationship Id="rId4" Type="http://schemas.openxmlformats.org/officeDocument/2006/relationships/image" Target="../media/image3.jpeg"/><Relationship Id="rId5" Type="http://schemas.openxmlformats.org/officeDocument/2006/relationships/slide" Target="slide5.xml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image" Target="../media/image5.jpeg"/><Relationship Id="rId9" Type="http://schemas.openxmlformats.org/officeDocument/2006/relationships/slide" Target="slide7.xml"/><Relationship Id="rId10" Type="http://schemas.openxmlformats.org/officeDocument/2006/relationships/image" Target="../media/image6.jpeg"/><Relationship Id="rId11" Type="http://schemas.openxmlformats.org/officeDocument/2006/relationships/slide" Target="slide8.xml"/><Relationship Id="rId12" Type="http://schemas.openxmlformats.org/officeDocument/2006/relationships/image" Target="../media/image7.jpeg"/><Relationship Id="rId13" Type="http://schemas.openxmlformats.org/officeDocument/2006/relationships/slide" Target="slide9.xml"/><Relationship Id="rId14" Type="http://schemas.openxmlformats.org/officeDocument/2006/relationships/image" Target="../media/image8.jpeg"/><Relationship Id="rId15" Type="http://schemas.openxmlformats.org/officeDocument/2006/relationships/slide" Target="slide10.xml"/><Relationship Id="rId16" Type="http://schemas.openxmlformats.org/officeDocument/2006/relationships/image" Target="../media/image9.jpe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image" Target="../media/image21.gif"/><Relationship Id="rId10" Type="http://schemas.openxmlformats.org/officeDocument/2006/relationships/image" Target="../media/image21.gif"/><Relationship Id="rId11" Type="http://schemas.openxmlformats.org/officeDocument/2006/relationships/image" Target="../media/image21.gif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image" Target="../media/image18.jpeg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jpeg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1.gif"/><Relationship Id="rId3" Type="http://schemas.openxmlformats.org/officeDocument/2006/relationships/image" Target="../media/image42.gif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gif"/><Relationship Id="rId7" Type="http://schemas.openxmlformats.org/officeDocument/2006/relationships/image" Target="../media/image46.gif"/><Relationship Id="rId8" Type="http://schemas.openxmlformats.org/officeDocument/2006/relationships/image" Target="../media/image47.gif"/><Relationship Id="rId9" Type="http://schemas.openxmlformats.org/officeDocument/2006/relationships/image" Target="../media/image48.jpeg"/><Relationship Id="rId10" Type="http://schemas.openxmlformats.org/officeDocument/2006/relationships/image" Target="../media/image49.jpeg"/><Relationship Id="rId11" Type="http://schemas.openxmlformats.org/officeDocument/2006/relationships/image" Target="../media/image50.jpeg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image" Target="../media/image58.png"/><Relationship Id="rId10" Type="http://schemas.openxmlformats.org/officeDocument/2006/relationships/image" Target="../media/image59.png"/><Relationship Id="rId11" Type="http://schemas.openxmlformats.org/officeDocument/2006/relationships/image" Target="../media/image60.png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66.png"/><Relationship Id="rId8" Type="http://schemas.openxmlformats.org/officeDocument/2006/relationships/image" Target="../media/image67.png"/><Relationship Id="rId9" Type="http://schemas.openxmlformats.org/officeDocument/2006/relationships/image" Target="../media/image68.png"/><Relationship Id="rId10" Type="http://schemas.openxmlformats.org/officeDocument/2006/relationships/image" Target="../media/image69.png"/><Relationship Id="rId11" Type="http://schemas.openxmlformats.org/officeDocument/2006/relationships/image" Target="../media/image70.png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348000" y="1125360"/>
            <a:ext cx="4611600" cy="170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1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33cc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есёлая таблица.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33cc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08360" y="6021360"/>
            <a:ext cx="633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Georgia"/>
              </a:rPr>
              <a:t>Составила Филиппова Лариса Григорьевна МОУ СОШ №1 г. Асино Томской обла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98280" y="2924280"/>
            <a:ext cx="57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Georgia"/>
              </a:rPr>
              <a:t>(тренажёр таблицы умножения и дел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4360" y="141300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9  *  9  =  81                    18  :   2  =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2276640"/>
            <a:ext cx="77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3  *  9  =  27                     36  :  9  =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9  *  5   =  40                </a:t>
            </a: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   </a:t>
            </a: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72  :  8  =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4360" y="407664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7  *  9  =  63                    90  :  9  = 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6  *  9  =  54                    27  :  3  =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484360" y="1197000"/>
            <a:ext cx="768600" cy="100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68360" y="1989000"/>
            <a:ext cx="819000" cy="1063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2556000" y="3068640"/>
            <a:ext cx="990360" cy="1068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6877080" y="2060640"/>
            <a:ext cx="1198440" cy="1077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250920" y="3789360"/>
            <a:ext cx="1092240" cy="1092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2411280" y="4941720"/>
            <a:ext cx="928800" cy="789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4716360" y="1268280"/>
            <a:ext cx="963720" cy="963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4572000" y="285264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"/>
          <a:stretch/>
        </p:blipFill>
        <p:spPr>
          <a:xfrm>
            <a:off x="6877080" y="3933720"/>
            <a:ext cx="949320" cy="1008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1"/>
          <a:stretch/>
        </p:blipFill>
        <p:spPr>
          <a:xfrm>
            <a:off x="4427640" y="4797360"/>
            <a:ext cx="1218960" cy="1203480"/>
          </a:xfrm>
          <a:prstGeom prst="rect">
            <a:avLst/>
          </a:prstGeom>
          <a:ln w="0">
            <a:noFill/>
          </a:ln>
        </p:spPr>
      </p:pic>
      <p:sp>
        <p:nvSpPr>
          <p:cNvPr id="165" name="">
            <a:hlinkClick r:id="rId12" action="ppaction://hlinksldjump"/>
          </p:cNvPr>
          <p:cNvSpPr/>
          <p:nvPr/>
        </p:nvSpPr>
        <p:spPr>
          <a:xfrm>
            <a:off x="8101080" y="595008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3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4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4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5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6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6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7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575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7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581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8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6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587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9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68360" y="177336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imashky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index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0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2000" y="620640"/>
            <a:ext cx="1015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грушки, сказочные геро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абочки, транспор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51280" y="177336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амолётики, паровозики, машинка, рома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1600" y="2707560"/>
            <a:ext cx="32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lenagold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fon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mai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95640" y="2708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у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4120" y="3245760"/>
            <a:ext cx="81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juli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2009/07/17/152778_2266-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00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- циф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3715920"/>
            <a:ext cx="91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shkol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1000000/611000/610931-244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e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24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фон слай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9640" y="33300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solnushki.ru/images/clipart/animal/reptiles/crocodiles1.thumbnail.jpg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836640"/>
            <a:ext cx="1476360" cy="1657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340000" y="692280"/>
            <a:ext cx="1504800" cy="163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765000"/>
            <a:ext cx="1514160" cy="1857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659640" y="692280"/>
            <a:ext cx="1371600" cy="1780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95280" y="3789360"/>
            <a:ext cx="1409760" cy="1743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627280" y="3860640"/>
            <a:ext cx="1371600" cy="1733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4356000" y="3789360"/>
            <a:ext cx="1533600" cy="1600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6732720" y="3860640"/>
            <a:ext cx="144756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1341360"/>
            <a:ext cx="8137800" cy="30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Rounded MT Bold"/>
              </a:rPr>
              <a:t>х</a:t>
            </a: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 5  =  10                          16  :   2  =  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2  </a:t>
            </a:r>
            <a:r>
              <a:rPr b="0" i="1" lang="en-US" sz="3200" spc="-1" strike="noStrike">
                <a:solidFill>
                  <a:srgbClr val="000000"/>
                </a:solidFill>
                <a:latin typeface="Arial Rounded MT Bold"/>
              </a:rPr>
              <a:t>х</a:t>
            </a: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  4  =  8                            6  :  2  =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7  </a:t>
            </a:r>
            <a:r>
              <a:rPr b="0" i="1" lang="en-US" sz="3200" spc="-1" strike="noStrike">
                <a:solidFill>
                  <a:srgbClr val="000000"/>
                </a:solidFill>
                <a:latin typeface="Arial Rounded MT Bold"/>
              </a:rPr>
              <a:t>х</a:t>
            </a: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 2  =  14                          2  :  2  =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407664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9  </a:t>
            </a:r>
            <a:r>
              <a:rPr b="0" i="1" lang="en-US" sz="3200" spc="-1" strike="noStrike">
                <a:solidFill>
                  <a:srgbClr val="000000"/>
                </a:solidFill>
                <a:latin typeface="Arial Rounded MT Bold"/>
              </a:rPr>
              <a:t>х</a:t>
            </a: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  2    =  18                     12  : 2  = 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5084640"/>
            <a:ext cx="860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2 </a:t>
            </a:r>
            <a:r>
              <a:rPr b="0" i="1" lang="en-US" sz="3200" spc="-1" strike="noStrike">
                <a:solidFill>
                  <a:srgbClr val="000000"/>
                </a:solidFill>
                <a:latin typeface="Arial Rounded MT Bold"/>
              </a:rPr>
              <a:t>х </a:t>
            </a: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8  =   16                          4  :  2  =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124000" y="1197000"/>
            <a:ext cx="854280" cy="1009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124000" y="2133720"/>
            <a:ext cx="806400" cy="100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268360" y="3068640"/>
            <a:ext cx="917640" cy="917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2556000" y="3860640"/>
            <a:ext cx="625320" cy="892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340000" y="4869000"/>
            <a:ext cx="861840" cy="892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7308720" y="1197000"/>
            <a:ext cx="924120" cy="995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020000" y="2060640"/>
            <a:ext cx="1008000" cy="907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6948360" y="5013360"/>
            <a:ext cx="803520" cy="865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0"/>
          <a:stretch/>
        </p:blipFill>
        <p:spPr>
          <a:xfrm>
            <a:off x="6877080" y="4005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1"/>
          <a:stretch/>
        </p:blipFill>
        <p:spPr>
          <a:xfrm>
            <a:off x="6948360" y="3068640"/>
            <a:ext cx="860400" cy="1074600"/>
          </a:xfrm>
          <a:prstGeom prst="rect">
            <a:avLst/>
          </a:prstGeom>
          <a:ln w="0">
            <a:noFill/>
          </a:ln>
        </p:spPr>
      </p:pic>
      <p:sp>
        <p:nvSpPr>
          <p:cNvPr id="65" name="">
            <a:hlinkClick r:id="rId12" action="ppaction://hlinksldjump"/>
          </p:cNvPr>
          <p:cNvSpPr/>
          <p:nvPr/>
        </p:nvSpPr>
        <p:spPr>
          <a:xfrm>
            <a:off x="8172360" y="5877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9640" y="1413000"/>
            <a:ext cx="828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3  *  4     =  12                      6  :  2  =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2276640"/>
            <a:ext cx="828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8  *  3  =  24                         21  :  3  =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3  *  5  =  15                        30  :  10  =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4076640"/>
            <a:ext cx="75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3  *  3  =  9                          12  :  4  =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9  *  3  =  27                        3  :   1   =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484360" y="1341360"/>
            <a:ext cx="952560" cy="905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79280" y="2133720"/>
            <a:ext cx="952560" cy="904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124000" y="3089160"/>
            <a:ext cx="1008000" cy="957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179280" y="4005360"/>
            <a:ext cx="952560" cy="904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1979640" y="4889520"/>
            <a:ext cx="1079640" cy="1025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5003640" y="1268280"/>
            <a:ext cx="952560" cy="9050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6948360" y="2133720"/>
            <a:ext cx="952560" cy="904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4932360" y="306864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6804000" y="4005360"/>
            <a:ext cx="952560" cy="904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1"/>
          <a:stretch/>
        </p:blipFill>
        <p:spPr>
          <a:xfrm>
            <a:off x="5796000" y="4941720"/>
            <a:ext cx="952560" cy="905040"/>
          </a:xfrm>
          <a:prstGeom prst="rect">
            <a:avLst/>
          </a:prstGeom>
          <a:ln w="0">
            <a:noFill/>
          </a:ln>
        </p:spPr>
      </p:pic>
      <p:sp>
        <p:nvSpPr>
          <p:cNvPr id="80" name="">
            <a:hlinkClick r:id="rId12" action="ppaction://hlinksldjump"/>
          </p:cNvPr>
          <p:cNvSpPr/>
          <p:nvPr/>
        </p:nvSpPr>
        <p:spPr>
          <a:xfrm>
            <a:off x="8244000" y="5877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6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7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7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8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9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9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0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0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1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2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68360" y="1341360"/>
            <a:ext cx="81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4  *  6     =  24                   4  :  4  =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2  *  4     =  8                     20  :  4  =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3213000"/>
            <a:ext cx="79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4  *  9  =  36                     32  :      8    =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3  *  4  =  12                    16  :  4  =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0240" y="5013360"/>
            <a:ext cx="72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7  *  4  =  28                    40  :  10      =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484360" y="1268280"/>
            <a:ext cx="951120" cy="951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484360" y="2205000"/>
            <a:ext cx="970200" cy="100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79280" y="4797360"/>
            <a:ext cx="844560" cy="1020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268360" y="3141720"/>
            <a:ext cx="736920" cy="736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2268360" y="3789360"/>
            <a:ext cx="951120" cy="950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4643280" y="1268280"/>
            <a:ext cx="763920" cy="792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6732720" y="1916280"/>
            <a:ext cx="968400" cy="100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5796000" y="2997360"/>
            <a:ext cx="1044360" cy="1085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0"/>
          <a:stretch/>
        </p:blipFill>
        <p:spPr>
          <a:xfrm>
            <a:off x="4356000" y="3716280"/>
            <a:ext cx="1081080" cy="1281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1"/>
          <a:stretch/>
        </p:blipFill>
        <p:spPr>
          <a:xfrm>
            <a:off x="5724360" y="4797360"/>
            <a:ext cx="990720" cy="106848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rId12" action="ppaction://hlinksldjump"/>
          </p:cNvPr>
          <p:cNvSpPr/>
          <p:nvPr/>
        </p:nvSpPr>
        <p:spPr>
          <a:xfrm>
            <a:off x="8101080" y="595008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9280" y="501336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7640" y="141300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5  *  2  =  10                     5  :  5  =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2276640"/>
            <a:ext cx="81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7  *  5  =  35                    20  :  5  =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5  *   3    =  15                  40  :  8  =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4076640"/>
            <a:ext cx="755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6  *   5     =  30                 25  :  5  =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9  *  5  =  45                     50  :  5  = 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03280" y="1197000"/>
            <a:ext cx="728640" cy="100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340000" y="1919160"/>
            <a:ext cx="1440000" cy="1177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332000" y="3141720"/>
            <a:ext cx="896760" cy="1039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2556000" y="3716280"/>
            <a:ext cx="914400" cy="1335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324000" y="4653000"/>
            <a:ext cx="858600" cy="1361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6372360" y="981000"/>
            <a:ext cx="1117440" cy="1368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4689360" y="2997360"/>
            <a:ext cx="1109880" cy="1223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9"/>
          <a:stretch/>
        </p:blipFill>
        <p:spPr>
          <a:xfrm>
            <a:off x="6732720" y="3716280"/>
            <a:ext cx="890280" cy="1068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0"/>
          <a:stretch/>
        </p:blipFill>
        <p:spPr>
          <a:xfrm>
            <a:off x="4500720" y="4797360"/>
            <a:ext cx="1052280" cy="1079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1"/>
          <a:stretch/>
        </p:blipFill>
        <p:spPr>
          <a:xfrm>
            <a:off x="4500720" y="1916280"/>
            <a:ext cx="998280" cy="1079280"/>
          </a:xfrm>
          <a:prstGeom prst="rect">
            <a:avLst/>
          </a:prstGeom>
          <a:ln w="0">
            <a:noFill/>
          </a:ln>
        </p:spPr>
      </p:pic>
      <p:sp>
        <p:nvSpPr>
          <p:cNvPr id="109" name="">
            <a:hlinkClick r:id="rId12" action="ppaction://hlinksldjump"/>
          </p:cNvPr>
          <p:cNvSpPr/>
          <p:nvPr/>
        </p:nvSpPr>
        <p:spPr>
          <a:xfrm>
            <a:off x="8244000" y="595008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55640" y="141300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6  *  8       =  48                    24  :  4  =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2276640"/>
            <a:ext cx="76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3  *  6  =  18                        42  :  6  =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6  *   6    =  36                     6  :  6  =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414972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2  *  6  =  12                       30  :  5  =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6  *  5     =  30                    48  :  6  = 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1244520" cy="733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39640" y="2205000"/>
            <a:ext cx="1008000" cy="919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771640" y="3213000"/>
            <a:ext cx="1270080" cy="825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2700360" y="4724280"/>
            <a:ext cx="981000" cy="1435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324000" y="4076640"/>
            <a:ext cx="982440" cy="736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4427640" y="1052640"/>
            <a:ext cx="1942920" cy="885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7020000" y="2205000"/>
            <a:ext cx="1143000" cy="895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4859280" y="3068640"/>
            <a:ext cx="1289160" cy="952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0"/>
          <a:stretch/>
        </p:blipFill>
        <p:spPr>
          <a:xfrm>
            <a:off x="7164360" y="3933720"/>
            <a:ext cx="1144440" cy="1011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1"/>
          <a:stretch/>
        </p:blipFill>
        <p:spPr>
          <a:xfrm>
            <a:off x="7236000" y="5013360"/>
            <a:ext cx="1168200" cy="95868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rId12" action="ppaction://hlinksldjump"/>
          </p:cNvPr>
          <p:cNvSpPr/>
          <p:nvPr/>
        </p:nvSpPr>
        <p:spPr>
          <a:xfrm>
            <a:off x="8317080" y="580536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9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9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40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63640" y="141300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7  </a:t>
            </a:r>
            <a:r>
              <a:rPr b="0" i="1" lang="en-US" sz="3200" spc="-1" strike="noStrike">
                <a:solidFill>
                  <a:srgbClr val="000066"/>
                </a:solidFill>
                <a:latin typeface="Arial Rounded MT Bold"/>
              </a:rPr>
              <a:t>х</a:t>
            </a: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 3  =  21                    42  :  7  =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2276640"/>
            <a:ext cx="777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5  </a:t>
            </a:r>
            <a:r>
              <a:rPr b="0" i="1" lang="en-US" sz="3200" spc="-1" strike="noStrike">
                <a:solidFill>
                  <a:srgbClr val="000066"/>
                </a:solidFill>
                <a:latin typeface="Arial Rounded MT Bold"/>
              </a:rPr>
              <a:t>х</a:t>
            </a: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 7  =  35                    56 :  8  =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9  </a:t>
            </a:r>
            <a:r>
              <a:rPr b="0" i="1" lang="en-US" sz="3200" spc="-1" strike="noStrike">
                <a:solidFill>
                  <a:srgbClr val="000066"/>
                </a:solidFill>
                <a:latin typeface="Arial Rounded MT Bold"/>
              </a:rPr>
              <a:t>х </a:t>
            </a: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7  =  63                    49  :  7    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4076640"/>
            <a:ext cx="77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7  </a:t>
            </a:r>
            <a:r>
              <a:rPr b="0" i="1" lang="ru-RU" sz="3200" spc="-1" strike="noStrike">
                <a:solidFill>
                  <a:srgbClr val="000066"/>
                </a:solidFill>
                <a:latin typeface="Arial Rounded MT Bold"/>
              </a:rPr>
              <a:t>х</a:t>
            </a: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  4     =  28            </a:t>
            </a: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    </a:t>
            </a: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7  :  1  =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2  </a:t>
            </a:r>
            <a:r>
              <a:rPr b="0" i="1" lang="ru-RU" sz="3200" spc="-1" strike="noStrike">
                <a:solidFill>
                  <a:srgbClr val="000066"/>
                </a:solidFill>
                <a:latin typeface="Arial Rounded MT Bold"/>
              </a:rPr>
              <a:t>х</a:t>
            </a: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 7  =  14                    70  :   7  = 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484360" y="1197000"/>
            <a:ext cx="863640" cy="831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411280" y="1916280"/>
            <a:ext cx="1292400" cy="1076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79280" y="2997360"/>
            <a:ext cx="1224000" cy="9572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2411280" y="4797360"/>
            <a:ext cx="1276560" cy="1019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2700360" y="3860640"/>
            <a:ext cx="1011240" cy="924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6948360" y="1197000"/>
            <a:ext cx="1214640" cy="1157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4572000" y="2060640"/>
            <a:ext cx="1150920" cy="965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7020000" y="2924280"/>
            <a:ext cx="1253880" cy="1084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6948360" y="4581360"/>
            <a:ext cx="1295640" cy="1256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1"/>
          <a:stretch/>
        </p:blipFill>
        <p:spPr>
          <a:xfrm>
            <a:off x="5580000" y="3789360"/>
            <a:ext cx="936720" cy="841320"/>
          </a:xfrm>
          <a:prstGeom prst="rect">
            <a:avLst/>
          </a:prstGeom>
          <a:ln w="0">
            <a:noFill/>
          </a:ln>
        </p:spPr>
      </p:pic>
      <p:sp>
        <p:nvSpPr>
          <p:cNvPr id="137" name="">
            <a:hlinkClick r:id="rId12" action="ppaction://hlinksldjump"/>
          </p:cNvPr>
          <p:cNvSpPr/>
          <p:nvPr/>
        </p:nvSpPr>
        <p:spPr>
          <a:xfrm>
            <a:off x="8244000" y="5877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7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56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5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1413000"/>
            <a:ext cx="788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8  *  2  =  16                   8  :  8  =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276640"/>
            <a:ext cx="81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5  *  8   =  40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24  :  3  = 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8  *  8  =  64                  48  :  6   = 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4149720"/>
            <a:ext cx="77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4  *  8  =  32                  72  :  8  =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7  *  8  =  56                   16  :  8  =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195640" y="1125360"/>
            <a:ext cx="703080" cy="1008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24000" y="2060640"/>
            <a:ext cx="744480" cy="1008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6156360" y="1125360"/>
            <a:ext cx="744480" cy="1008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6659640" y="4941720"/>
            <a:ext cx="744480" cy="1008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395280" y="3933720"/>
            <a:ext cx="744480" cy="1008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68360" y="5157720"/>
            <a:ext cx="714240" cy="863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5364000" y="2997360"/>
            <a:ext cx="795600" cy="1079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4373640" y="1916280"/>
            <a:ext cx="831600" cy="1008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0"/>
          <a:stretch/>
        </p:blipFill>
        <p:spPr>
          <a:xfrm>
            <a:off x="4537080" y="3860640"/>
            <a:ext cx="795240" cy="1081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2195640" y="3068640"/>
            <a:ext cx="871560" cy="1179360"/>
          </a:xfrm>
          <a:prstGeom prst="rect">
            <a:avLst/>
          </a:prstGeom>
          <a:ln w="0">
            <a:noFill/>
          </a:ln>
        </p:spPr>
      </p:pic>
      <p:sp>
        <p:nvSpPr>
          <p:cNvPr id="151" name="">
            <a:hlinkClick r:id="rId12" action="ppaction://hlinksldjump"/>
          </p:cNvPr>
          <p:cNvSpPr/>
          <p:nvPr/>
        </p:nvSpPr>
        <p:spPr>
          <a:xfrm>
            <a:off x="8244000" y="5877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72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4:56:09Z</dcterms:created>
  <dc:creator>user</dc:creator>
  <dc:description/>
  <dc:language>en-US</dc:language>
  <cp:lastModifiedBy>user</cp:lastModifiedBy>
  <dcterms:modified xsi:type="dcterms:W3CDTF">2011-03-04T10:52:48Z</dcterms:modified>
  <cp:revision>30</cp:revision>
  <dc:subject/>
  <dc:title>Слайд 1</dc:title>
</cp:coreProperties>
</file>