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E0D-8A2D-440C-A081-F045DCB9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5B6-2AA9-4870-A3FA-F3C92A2A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9A0-A82B-4F36-BA3C-4FBD6BDF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CBA-68FE-4BBB-9DDE-D86395F6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4A5-4B36-4B38-9216-95B685E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3DC-87F6-4121-8A49-FA02B36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D69-09FA-4ECC-B4D5-9E75B36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2E2-52AF-4CEF-864F-F131719C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DD0-F81D-42AB-8BA1-1E1D010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05B-800B-4E2B-872B-979AD4C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909-0284-491F-94F9-2959E62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E31-C9C0-465B-B61B-497B6F1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2703-F9F8-4A8C-B400-4FAE6FBD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shky.ru/index/0-6" TargetMode="External"/><Relationship Id="rId2" Type="http://schemas.openxmlformats.org/officeDocument/2006/relationships/hyperlink" Target="http://animashky.ru/index/0-6" TargetMode="External"/><Relationship Id="rId3" Type="http://schemas.openxmlformats.org/officeDocument/2006/relationships/hyperlink" Target="http://animashky.ru/index/0-6" TargetMode="External"/><Relationship Id="rId4" Type="http://schemas.openxmlformats.org/officeDocument/2006/relationships/hyperlink" Target="http://animashky.ru/index/0-6" TargetMode="External"/><Relationship Id="rId5" Type="http://schemas.openxmlformats.org/officeDocument/2006/relationships/hyperlink" Target="http://animashky.ru/index/0-6" TargetMode="External"/><Relationship Id="rId6" Type="http://schemas.openxmlformats.org/officeDocument/2006/relationships/hyperlink" Target="http://animashky.ru/index/0-6" TargetMode="External"/><Relationship Id="rId7" Type="http://schemas.openxmlformats.org/officeDocument/2006/relationships/hyperlink" Target="http://lenagold.ru/fon/main.htm" TargetMode="External"/><Relationship Id="rId8" Type="http://schemas.openxmlformats.org/officeDocument/2006/relationships/hyperlink" Target="http://lenagold.ru/fon/main.htm" TargetMode="External"/><Relationship Id="rId9" Type="http://schemas.openxmlformats.org/officeDocument/2006/relationships/hyperlink" Target="http://lenagold.ru/fon/main.htm" TargetMode="External"/><Relationship Id="rId10" Type="http://schemas.openxmlformats.org/officeDocument/2006/relationships/hyperlink" Target="http://lenagold.ru/fon/main.htm" TargetMode="External"/><Relationship Id="rId11" Type="http://schemas.openxmlformats.org/officeDocument/2006/relationships/hyperlink" Target="http://lenagold.ru/fon/main.htm" TargetMode="External"/><Relationship Id="rId12" Type="http://schemas.openxmlformats.org/officeDocument/2006/relationships/hyperlink" Target="http://lenagold.ru/fon/main.htm" TargetMode="External"/><Relationship Id="rId13" Type="http://schemas.openxmlformats.org/officeDocument/2006/relationships/hyperlink" Target="http://lenagold.ru/fon/main.ht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48000" y="1125360"/>
            <a:ext cx="46116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08360" y="602136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Georgia"/>
              </a:rPr>
              <a:t>Составила Филиппова Лариса Григорьевна МОУ СОШ №1 г. Асино Том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8280" y="2924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7733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imashky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0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20640"/>
            <a:ext cx="10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ушки, сказочные гер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бочки,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177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лётики, паровозики, машинка, 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00" y="27075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lenagol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2708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120" y="3245760"/>
            <a:ext cx="81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jul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009/07/17/152778_2266-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715920"/>
            <a:ext cx="91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hkol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000000/611000/610931-24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e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24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фон слай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330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olnushki.ru/images/clipart/animal/reptiles/crocodiles1.thumbnail.jpg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2" action="ppaction://hlinksldjump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12" action="ppaction://hlinksldjump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user</cp:lastModifiedBy>
  <dcterms:modified xsi:type="dcterms:W3CDTF">2011-03-04T10:52:48Z</dcterms:modified>
  <cp:revision>30</cp:revision>
  <dc:subject/>
  <dc:title>Слайд 1</dc:title>
</cp:coreProperties>
</file>