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C53-0514-4D27-A9F4-854903AF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3AF-F842-4511-B9D8-FC65548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3C-468B-4C79-A21C-F8EA9C6B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9C4-39E8-4B42-A4C7-F4D80588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CE3-8CCD-46E9-A59D-6E8919F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6FF-901E-4FE0-8CAA-B8FFD2D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B59-C835-4A1E-B471-F75B0FE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71D-6C20-47A7-972E-1B04A6F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DE7-E154-4E52-82EC-D96D095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687-0E67-4B0C-A00B-4F71E6A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E55-5345-42C5-9FFD-7D82D1D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E55-914D-4B4C-B62D-D050D1E7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69D-B89E-4DD8-B49A-F9B6FB76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shky.ru/index/0-6" TargetMode="External"/><Relationship Id="rId2" Type="http://schemas.openxmlformats.org/officeDocument/2006/relationships/hyperlink" Target="http://animashky.ru/index/0-6" TargetMode="External"/><Relationship Id="rId3" Type="http://schemas.openxmlformats.org/officeDocument/2006/relationships/hyperlink" Target="http://animashky.ru/index/0-6" TargetMode="External"/><Relationship Id="rId4" Type="http://schemas.openxmlformats.org/officeDocument/2006/relationships/hyperlink" Target="http://animashky.ru/index/0-6" TargetMode="External"/><Relationship Id="rId5" Type="http://schemas.openxmlformats.org/officeDocument/2006/relationships/hyperlink" Target="http://animashky.ru/index/0-6" TargetMode="External"/><Relationship Id="rId6" Type="http://schemas.openxmlformats.org/officeDocument/2006/relationships/hyperlink" Target="http://animashky.ru/index/0-6" TargetMode="External"/><Relationship Id="rId7" Type="http://schemas.openxmlformats.org/officeDocument/2006/relationships/hyperlink" Target="http://lenagold.ru/fon/main.htm" TargetMode="External"/><Relationship Id="rId8" Type="http://schemas.openxmlformats.org/officeDocument/2006/relationships/hyperlink" Target="http://lenagold.ru/fon/main.htm" TargetMode="External"/><Relationship Id="rId9" Type="http://schemas.openxmlformats.org/officeDocument/2006/relationships/hyperlink" Target="http://lenagold.ru/fon/main.htm" TargetMode="External"/><Relationship Id="rId10" Type="http://schemas.openxmlformats.org/officeDocument/2006/relationships/hyperlink" Target="http://lenagold.ru/fon/main.htm" TargetMode="External"/><Relationship Id="rId11" Type="http://schemas.openxmlformats.org/officeDocument/2006/relationships/hyperlink" Target="http://lenagold.ru/fon/main.htm" TargetMode="External"/><Relationship Id="rId12" Type="http://schemas.openxmlformats.org/officeDocument/2006/relationships/hyperlink" Target="http://lenagold.ru/fon/main.htm" TargetMode="External"/><Relationship Id="rId13" Type="http://schemas.openxmlformats.org/officeDocument/2006/relationships/hyperlink" Target="http://lenagold.ru/fon/main.ht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48000" y="1125360"/>
            <a:ext cx="46116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08360" y="602136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Georgia"/>
              </a:rPr>
              <a:t>Составила Филиппова Лариса Григорьевна МОУ СОШ №1 г. Асино Том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8280" y="2924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7733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imashky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0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20640"/>
            <a:ext cx="10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ушки, сказочные гер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бочки,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177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лётики, паровозики, машинка, 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00" y="27075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lenagol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2708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120" y="3245760"/>
            <a:ext cx="81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jul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009/07/17/152778_2266-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715920"/>
            <a:ext cx="91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hkol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000000/611000/610931-24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e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24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фон слай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330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olnushki.ru/images/clipart/animal/reptiles/crocodiles1.thumbnail.jpg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12" action="ppaction://hlinksldjump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12" action="ppaction://hlinksldjump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user</cp:lastModifiedBy>
  <dcterms:modified xsi:type="dcterms:W3CDTF">2011-03-04T10:52:48Z</dcterms:modified>
  <cp:revision>30</cp:revision>
  <dc:subject/>
  <dc:title>Слайд 1</dc:title>
</cp:coreProperties>
</file>