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8F60-2E8E-4F5E-B1EC-9BA1AABA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BD40-FF4A-4954-8AD8-499A9990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27A8-CE46-48F2-8BC4-D0BC9C83C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A6FC-3411-4DF2-A807-5B571CAD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3A04-EB6D-4CFA-AE71-9B4FCD81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5C24-DEAC-43C1-B85E-1AF2C679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EB9A-2B7A-4336-9929-F12029A1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D9B4-7517-44F0-B968-4CC600D0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EBDD-DE28-4D49-9723-FD9BA6D2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053F-2EB2-4236-948A-025B13FD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4ACB-1656-44F6-B23C-B434CE2F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6C4E-702B-45FD-BC90-A6490F66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6C25-EEA9-46DA-BF0A-A84B3039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15BC-9B09-486F-8787-23762ED7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1471-7FB7-4F69-89EF-95579500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BD82-AFFB-4ABB-B8AD-C4536E06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7E3E-ED9A-44BA-880A-BB7AFEAC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EC41-0A2D-4369-BC40-34032C07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1350-A046-4F84-94C7-36A83341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A2AC-A3CD-49BB-82ED-C3C87C08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6F4-FA31-49CE-96B6-4B06D382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35D1-A1B5-486B-8CB8-8CF80FFC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7F9B-5E2A-4382-A5F9-C44E7F3B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20EA-54BC-4F63-A528-F73B1767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3CFE-830D-4D2A-BFC1-A92568ED324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FC4D-4C14-4E0C-A6D7-AF5BB342E84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Растительный мир тундры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1116000" y="594684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Ягод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3671640" cy="2232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076720" y="907920"/>
            <a:ext cx="3527640" cy="219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755640" y="3429000"/>
            <a:ext cx="3600360" cy="2305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076720" y="3429000"/>
            <a:ext cx="3527640" cy="2266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11280" y="573408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нообразие сочных ягод- брусника, клюква, морошка, голуб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хи и лишайники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600360" cy="3159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788000" y="1700280"/>
            <a:ext cx="3632040" cy="31687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олее всего в тундре мхов и лишайников. Они придают разнообразную окрас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4000">
    <p:split dir="in" orient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еревья тундры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672000" cy="3241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716360" y="1700280"/>
            <a:ext cx="3660840" cy="32414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51577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еревья кривые, невзрачные, маленькие – карликовая береза, полярная ив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6000">
    <p:push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арликовая берез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3456000" cy="2671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500720" y="1700280"/>
            <a:ext cx="3671640" cy="26654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458136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ереза маленькая до 70 см, растет не деревом, а кустарником. Ветви часто не подняты, а распростерты по земле. Сережки не более ногтя. Листья маленькие, как монетки. Осенью они ярко- красные. В летнее время ее листьями питаются олени. А местные жители собирают их на топлив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3000">
    <p:push dir="r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орошк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24000" y="3860640"/>
            <a:ext cx="3960720" cy="2232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716360" y="1125360"/>
            <a:ext cx="3600720" cy="2482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24000" y="1125360"/>
            <a:ext cx="3960720" cy="244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00364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3280" y="3645000"/>
            <a:ext cx="4032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есной от корневища отходит стебель с листьями и только один цветок. Плод состоит из нескольких плодов сначала красного затем оранжевого цвета. К зиме наземная часть погибае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5000">
    <p:push dir="r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олубик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3995640" cy="3024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859280" y="1628640"/>
            <a:ext cx="3672000" cy="2952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4652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большой кустарник – 50 см. Лист появляется весной и осенью опадает. Плоды синие, напоминают чернику, но крупн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7000">
    <p:push dir="r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Лишайник – ягел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1280" y="1981080"/>
            <a:ext cx="3816360" cy="2527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932360" y="1989000"/>
            <a:ext cx="3672000" cy="25275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458136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самый крупный лишайник. Его еще называют олений мох. Высота до 15 см. Иногда мох напоминает дерево. Растет медленно до 3 см в год. Олени зимой  хорошо находят его по запах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2000">
    <p:push dir="r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207280" cy="33116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393372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авай пройдемся медленно по тундре,                         И ,,ЗДРАЫСТВУЙ,, скажем каждому цветку.     Ты должен над цветами поклониться              Не для того, чтоб рвать или срезать,               А чтоб увидеть добрые их лица                      И доброе лицо свое им показать.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701640" y="37432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чебное  пособие для    3  класса    средней  школы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формитель   -   Алексеева  А.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рректор    -     Алексеева  О.Ф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есто расположени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1189440" y="4437000"/>
            <a:ext cx="1000908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ундра протянулась по побережью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верного - Ледовитого океана непрерывной узкой полоской от Кольского полуострова  до Чукотки. Это составляет 14% от нашей территории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332000" y="1484280"/>
            <a:ext cx="6624720" cy="2665440"/>
          </a:xfrm>
          <a:prstGeom prst="rect">
            <a:avLst/>
          </a:prstGeom>
          <a:ln w="0">
            <a:noFill/>
          </a:ln>
        </p:spPr>
      </p:pic>
    </p:spTree>
  </p:cSld>
  <p:transition advTm="19000"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ирода тундры зимой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63640" y="1773360"/>
            <a:ext cx="5616720" cy="2189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урова природа тундры. Зима холодная, долгая до 8 месяцев с метелями и морозами. Солнце не поднимается над горизонтом. Стоит полярная ночь. Снег не более 30 с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1000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есна и лето тундры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3672000" cy="1944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932360" y="1981080"/>
            <a:ext cx="3527280" cy="1981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д лучами нежаркого солнца, которое не опускается за горизонт, оживает тонкий, всего 50 см, верхний слой почвы. Под ним лежит толстый слой мерзл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73200" y="596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9000"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Заболоченност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да под слоем мерзлоты застаивается, образуются болота и озера. Средняя температура до+10 Бывают заморозки и выпадает снег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3384720" cy="3240000"/>
          </a:xfrm>
          <a:prstGeom prst="rect">
            <a:avLst/>
          </a:prstGeom>
          <a:ln w="0">
            <a:noFill/>
          </a:ln>
        </p:spPr>
      </p:pic>
    </p:spTree>
  </p:cSld>
  <p:transition advTm="15000">
    <p:split dir="in" orient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испособленность растений.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ундровые растения приспосабливаются к короткому лету, близости мерзлоты и заболоченности почв. На такой почве могут расти  низкорослые растения- травы, кусты,  мхи и лишайн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4032360" cy="3797280"/>
          </a:xfrm>
          <a:prstGeom prst="rect">
            <a:avLst/>
          </a:prstGeom>
          <a:ln w="0">
            <a:noFill/>
          </a:ln>
        </p:spPr>
      </p:pic>
    </p:spTree>
  </p:cSld>
  <p:transition advTm="17000">
    <p:push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8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Холодостойкие травы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3280" y="836640"/>
            <a:ext cx="4032360" cy="1944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68360" y="3860640"/>
            <a:ext cx="3672000" cy="1944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95280" y="836640"/>
            <a:ext cx="3753000" cy="1981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4572000" y="3860640"/>
            <a:ext cx="4032360" cy="1944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68360" y="306864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Незабуд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16360" y="314172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Одуванч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60930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Камнелом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6093000"/>
            <a:ext cx="37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уши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5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529080" cy="216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3961080" cy="1981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716360" y="260280"/>
            <a:ext cx="3961080" cy="2089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68360" y="3500280"/>
            <a:ext cx="3313080" cy="2016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68360" y="573408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ютик                                                      Ос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263700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иада                                                 Багуль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mb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5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3743280" cy="2232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859280" y="333360"/>
            <a:ext cx="3745080" cy="2232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84360" y="3357720"/>
            <a:ext cx="3671640" cy="2232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4859280" y="3357720"/>
            <a:ext cx="3745080" cy="2232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79480" y="2625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27082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2637000"/>
            <a:ext cx="792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72040" y="6058080"/>
            <a:ext cx="152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Клайто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270828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Лапчат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32360" y="2852640"/>
            <a:ext cx="367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278136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ябч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76720" y="602136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Кассеопе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wedg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08:35:55Z</dcterms:created>
  <dc:creator>Монстер</dc:creator>
  <dc:description/>
  <dc:language>en-US</dc:language>
  <cp:lastModifiedBy>Монстер</cp:lastModifiedBy>
  <dcterms:modified xsi:type="dcterms:W3CDTF">2009-11-09T17:33:58Z</dcterms:modified>
  <cp:revision>19</cp:revision>
  <dc:subject/>
  <dc:title>Растительный мир тундры.</dc:title>
</cp:coreProperties>
</file>