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96B-11A5-466E-81E6-00CEC001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646-0A3A-4A82-8308-5BB4A636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8DB-F769-47D8-9327-B020B9D8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1A2-969F-4A49-8CB3-648E937B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DCD6-4D76-4121-A516-B690F7A8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C77-7E0E-46F6-9E8E-6DA66613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A857-C66C-4FFA-BE79-F94524CF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4759-1545-442D-8754-EE3A3BAB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4E4C-AA4C-45A7-96D3-571159AC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6D56-11C1-4A17-BE02-B0A91AAF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64C8-63EE-4818-9A60-0EDA193F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B14-F9FC-4879-8246-40CFD8EB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F921-D9B5-47B7-9ADE-65613E6B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7739-B2A5-4044-8E68-054AA521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D48B-BA12-45C8-9EA4-7939328F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20FF-10DC-406B-B5D0-9BFD9252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A7B-C129-4AAE-929C-233C7366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9C4-4220-41EA-9E8D-C5B7E9F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BD0-BAF6-497E-A960-B9A9CB4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527-BB40-47EF-AE24-D18BD59E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64D-3666-4072-BDA6-DB0C2415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C34-F291-43FE-90E7-8C9FB5A8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8AB-F8FF-4C83-842B-E02697C2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348-9954-4430-B815-5325EBE5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4B70-8E5B-4C9F-AF4B-65C2ED3550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8F6D-4F3F-45E6-B2BC-DAADB95ECD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стительный мир тунд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1116000" y="59468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Ягод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3527640" cy="21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076720" y="3429000"/>
            <a:ext cx="3527640" cy="226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1280" y="57340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нообразие сочных ягод- брусника, клюква, морошка, голуб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хи и лишайник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600360" cy="315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632040" cy="3168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ее всего в тундре мхов и лишайников. Они придают разнообразную окрас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4000">
    <p:split dir="in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еревья тунд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672000" cy="3241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3660840" cy="3241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ревья кривые, невзрачные, маленькие – карликовая береза, полярная и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6000"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арликовая берез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456000" cy="2671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3671640" cy="266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458136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реза маленькая до 70 см, растет не деревом, а кустарником. Ветви часто не подняты, а распростерты по земле. Сережки не более ногтя. Листья маленькие, как монетки. Осенью они ярко- красные. В летнее время ее листьями питаются олени. А местные жители собирают их на топли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3000">
    <p:push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рош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3960720" cy="223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600720" cy="2482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4000" y="112536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3645000"/>
            <a:ext cx="40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сной от корневища отходит стебель с листьями и только один цветок. Плод состоит из нескольких плодов сначала красного затем оранжевого цвета. К зиме наземная часть погиба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5000">
    <p:push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луб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995640" cy="302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465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большой кустарник – 50 см. Лист появляется весной и осенью опадает. Плоды синие, напоминают чернику, но круп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push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ишайник – ягел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1981080"/>
            <a:ext cx="3816360" cy="252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32360" y="1989000"/>
            <a:ext cx="3672000" cy="2527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самый крупный лишайник. Его еще называют олений мох. Высота до 15 см. Иногда мох напоминает дерево. Растет медленно до 3 см в год. Олени зимой  хорошо находят его по запах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2000">
    <p:push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3311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вай пройдемся медленно по тундре,                         И ,,ЗДРАЫСТВУЙ,, скажем каждому цветку.     Ты должен над цветами поклониться              Не для того, чтоб рвать или срезать,               А чтоб увидеть добрые их лица                      И доброе лицо свое им показать.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01640" y="3743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ебное  пособие для    3  класса    средней  школы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ормитель   -   Алексеева  А.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ректор    -     Алексеева  О.Ф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сто расположе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1189440" y="4437000"/>
            <a:ext cx="1000908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ндра протянулась по побережью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верного - Ледовитого океана непрерывной узкой полоской от Кольского полуострова  до Чукотки. Это составляет 14% от нашей территори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624720" cy="2665440"/>
          </a:xfrm>
          <a:prstGeom prst="rect">
            <a:avLst/>
          </a:prstGeom>
          <a:ln w="0">
            <a:noFill/>
          </a:ln>
        </p:spPr>
      </p:pic>
    </p:spTree>
  </p:cSld>
  <p:transition advTm="19000"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рода тундры зимой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616720" cy="2189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рова природа тундры. Зима холодная, долгая до 8 месяцев с метелями и морозами. Солнце не поднимается над горизонтом. Стоит полярная ночь. Снег не более 30 с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1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есна и лето тунд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67200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932360" y="1981080"/>
            <a:ext cx="352728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 лучами нежаркого солнца, которое не опускается за горизонт, оживает тонкий, всего 50 см, верхний слой почвы. Под ним лежит толстый слой мерз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00" y="596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000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болочен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да под слоем мерзлоты застаивается, образуются болота и озера. Средняя температура до+10 Бывают заморозки и выпадает снег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384720" cy="324000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способленность растений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ндровые растения приспосабливаются к короткому лету, близости мерзлоты и заболоченности почв. На такой почве могут расти  низкорослые растения- травы, кусты,  мхи и лишайн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032360" cy="3797280"/>
          </a:xfrm>
          <a:prstGeom prst="rect">
            <a:avLst/>
          </a:prstGeom>
          <a:ln w="0">
            <a:noFill/>
          </a:ln>
        </p:spPr>
      </p:pic>
    </p:spTree>
  </p:cSld>
  <p:transition advTm="1700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Холодостойкие трав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403236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367200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5280" y="836640"/>
            <a:ext cx="375300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72000" y="3860640"/>
            <a:ext cx="4032360" cy="194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8360" y="306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забуд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31417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уванч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6093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мнелом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60930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уш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529080" cy="216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260280"/>
            <a:ext cx="3961080" cy="208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3313080" cy="201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573408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тик                                                      Ос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637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иада                                                 Багу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74328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37450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859280" y="3357720"/>
            <a:ext cx="3745080" cy="223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9480" y="2625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708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63700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2040" y="605808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лайт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70828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Лапча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2852640"/>
            <a:ext cx="36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278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ябч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602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ассеоп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8:35:55Z</dcterms:created>
  <dc:creator>Монстер</dc:creator>
  <dc:description/>
  <dc:language>en-US</dc:language>
  <cp:lastModifiedBy>Монстер</cp:lastModifiedBy>
  <dcterms:modified xsi:type="dcterms:W3CDTF">2009-11-09T17:33:58Z</dcterms:modified>
  <cp:revision>19</cp:revision>
  <dc:subject/>
  <dc:title>Растительный мир тундры.</dc:title>
</cp:coreProperties>
</file>