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592-90F9-47E2-A9DD-720E2721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AEE-A6AC-4CBD-B51C-29BC308D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ECE-AF61-4DC2-B48B-A9318AEB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787-2B21-4E5A-80B3-CD0B66A0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4E59-9EC4-4A3F-81BB-666BF65F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C626-ABB4-4072-A3EE-54BB3663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D7D7-B281-45E0-A7D2-772B5808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BD8B-402F-46AC-96A1-038952A3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6CF1-C51A-45AD-B8C3-BC6C3384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E746-16DB-4465-B9FB-518A24DA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6471-9B5A-4F3E-BD60-EC9E1831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32F-A41C-4B9A-A7A1-0599572D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58F7-8A1C-4A49-A20B-6C2C15E5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945F-9DD0-49B3-B31A-79B59173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D12A-E8C0-41BA-BB64-92C272D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DC44-12A0-4706-B5CC-58DF9D11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CF70-306A-490D-802B-35611A2F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DFB-8BE1-461A-897A-A7B2DEF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D84-72F1-4C5F-BD24-06D8DE46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AEB-9810-4CCD-96F0-F69F2F45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470-7071-4EB9-A96E-9336850B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404-EF6F-4333-BA9B-1C52B27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0A7-93B6-4CD5-94F3-D43A1C63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538-154C-4CDD-ABCB-7DEC894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8872-C41A-4E7D-8C4A-3ABF254181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9634-6C89-4107-A1B4-7C94C96841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стительный мир тунд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1116000" y="59468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Ягод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3527640" cy="21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076720" y="3429000"/>
            <a:ext cx="3527640" cy="226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1280" y="57340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нообразие сочных ягод- брусника, клюква, морошка, голуб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хи и лишайник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600360" cy="315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632040" cy="3168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ее всего в тундре мхов и лишайников. Они придают разнообразную окрас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4000">
    <p:split dir="in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еревья тунд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672000" cy="3241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3660840" cy="3241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ревья кривые, невзрачные, маленькие – карликовая береза, полярная и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6000"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арликовая берез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456000" cy="2671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3671640" cy="266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458136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реза маленькая до 70 см, растет не деревом, а кустарником. Ветви часто не подняты, а распростерты по земле. Сережки не более ногтя. Листья маленькие, как монетки. Осенью они ярко- красные. В летнее время ее листьями питаются олени. А местные жители собирают их на топли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3000">
    <p:push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рош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3960720" cy="223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600720" cy="2482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4000" y="112536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3645000"/>
            <a:ext cx="40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сной от корневища отходит стебель с листьями и только один цветок. Плод состоит из нескольких плодов сначала красного затем оранжевого цвета. К зиме наземная часть погиба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5000">
    <p:push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луб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995640" cy="302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465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большой кустарник – 50 см. Лист появляется весной и осенью опадает. Плоды синие, напоминают чернику, но круп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push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ишайник – ягел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1981080"/>
            <a:ext cx="3816360" cy="252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32360" y="1989000"/>
            <a:ext cx="3672000" cy="2527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самый крупный лишайник. Его еще называют олений мох. Высота до 15 см. Иногда мох напоминает дерево. Растет медленно до 3 см в год. Олени зимой  хорошо находят его по запах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2000">
    <p:push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3311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вай пройдемся медленно по тундре,                         И ,,ЗДРАЫСТВУЙ,, скажем каждому цветку.     Ты должен над цветами поклониться              Не для того, чтоб рвать или срезать,               А чтоб увидеть добрые их лица                      И доброе лицо свое им показать.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01640" y="3743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ебное  пособие для    3  класса    средней  школы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ормитель   -   Алексеева  А.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ректор    -     Алексеева  О.Ф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сто расположе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1189440" y="4437000"/>
            <a:ext cx="1000908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ндра протянулась по побережью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верного - Ледовитого океана непрерывной узкой полоской от Кольского полуострова  до Чукотки. Это составляет 14% от нашей территори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624720" cy="2665440"/>
          </a:xfrm>
          <a:prstGeom prst="rect">
            <a:avLst/>
          </a:prstGeom>
          <a:ln w="0">
            <a:noFill/>
          </a:ln>
        </p:spPr>
      </p:pic>
    </p:spTree>
  </p:cSld>
  <p:transition advTm="19000"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рода тундры зимой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616720" cy="2189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рова природа тундры. Зима холодная, долгая до 8 месяцев с метелями и морозами. Солнце не поднимается над горизонтом. Стоит полярная ночь. Снег не более 30 с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1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есна и лето тунд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67200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932360" y="1981080"/>
            <a:ext cx="352728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 лучами нежаркого солнца, которое не опускается за горизонт, оживает тонкий, всего 50 см, верхний слой почвы. Под ним лежит толстый слой мерз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00" y="596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000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болочен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да под слоем мерзлоты застаивается, образуются болота и озера. Средняя температура до+10 Бывают заморозки и выпадает снег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384720" cy="324000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способленность растений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ндровые растения приспосабливаются к короткому лету, близости мерзлоты и заболоченности почв. На такой почве могут расти  низкорослые растения- травы, кусты,  мхи и лишайн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032360" cy="3797280"/>
          </a:xfrm>
          <a:prstGeom prst="rect">
            <a:avLst/>
          </a:prstGeom>
          <a:ln w="0">
            <a:noFill/>
          </a:ln>
        </p:spPr>
      </p:pic>
    </p:spTree>
  </p:cSld>
  <p:transition advTm="1700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Холодостойкие трав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403236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367200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5280" y="836640"/>
            <a:ext cx="375300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72000" y="3860640"/>
            <a:ext cx="4032360" cy="194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8360" y="306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забуд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31417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уванч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6093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мнелом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60930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уш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529080" cy="216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260280"/>
            <a:ext cx="3961080" cy="208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3313080" cy="201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573408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тик                                                      Ос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637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иада                                                 Багу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74328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37450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859280" y="3357720"/>
            <a:ext cx="3745080" cy="223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9480" y="2625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708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63700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2040" y="605808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лайт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70828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Лапча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2852640"/>
            <a:ext cx="36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278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ябч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602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ассеоп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8:35:55Z</dcterms:created>
  <dc:creator>Монстер</dc:creator>
  <dc:description/>
  <dc:language>en-US</dc:language>
  <cp:lastModifiedBy>Монстер</cp:lastModifiedBy>
  <dcterms:modified xsi:type="dcterms:W3CDTF">2009-11-09T17:33:58Z</dcterms:modified>
  <cp:revision>19</cp:revision>
  <dc:subject/>
  <dc:title>Растительный мир тундры.</dc:title>
</cp:coreProperties>
</file>