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4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2.jpeg" ContentType="image/jpeg"/>
  <Override PartName="/ppt/media/image37.wmf" ContentType="image/x-wmf"/>
  <Override PartName="/ppt/media/image2.gif" ContentType="image/gif"/>
  <Override PartName="/ppt/media/image14.gif" ContentType="image/gif"/>
  <Override PartName="/ppt/media/image47.wmf" ContentType="image/x-wmf"/>
  <Override PartName="/ppt/media/image31.gif" ContentType="image/gif"/>
  <Override PartName="/ppt/media/image17.wmf" ContentType="image/x-wmf"/>
  <Override PartName="/ppt/media/image57.wmf" ContentType="image/x-wmf"/>
  <Override PartName="/ppt/media/image24.gif" ContentType="image/gif"/>
  <Override PartName="/ppt/media/image20.wmf" ContentType="image/x-wmf"/>
  <Override PartName="/ppt/media/image27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26.wmf" ContentType="image/x-wmf"/>
  <Override PartName="/ppt/media/image23.gif" ContentType="image/gif"/>
  <Override PartName="/ppt/media/image56.wmf" ContentType="image/x-wmf"/>
  <Override PartName="/ppt/media/image62.wmf" ContentType="image/x-wmf"/>
  <Override PartName="/ppt/media/image25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1.wmf" ContentType="image/x-wmf"/>
  <Override PartName="/ppt/media/image58.wmf" ContentType="image/x-wmf"/>
  <Override PartName="/ppt/media/image6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35.wmf" ContentType="image/x-wmf"/>
  <Override PartName="/ppt/media/image11.gif" ContentType="image/gif"/>
  <Override PartName="/ppt/media/image44.wmf" ContentType="image/x-wmf"/>
  <Override PartName="/ppt/media/image1.gif" ContentType="image/gif"/>
  <Override PartName="/ppt/media/image13.gif" ContentType="image/gif"/>
  <Override PartName="/ppt/media/image9.gif" ContentType="image/gif"/>
  <Override PartName="/ppt/media/image46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8.gif" ContentType="image/gif"/>
  <Override PartName="/ppt/media/image63.wmf" ContentType="image/x-wmf"/>
  <Override PartName="/ppt/media/image39.wmf" ContentType="image/x-wmf"/>
  <Override PartName="/ppt/media/image40.wmf" ContentType="image/x-wmf"/>
  <Override PartName="/ppt/media/image4.gif" ContentType="image/gif"/>
  <Override PartName="/ppt/media/image41.wmf" ContentType="image/x-wmf"/>
  <Override PartName="/ppt/media/image5.gif" ContentType="image/gif"/>
  <Override PartName="/ppt/media/image42.wmf" ContentType="image/x-wmf"/>
  <Override PartName="/ppt/media/image45.wmf" ContentType="image/x-wmf"/>
  <Override PartName="/ppt/media/image48.wmf" ContentType="image/x-wmf"/>
  <Override PartName="/ppt/media/image49.wmf" ContentType="image/x-wmf"/>
  <Override PartName="/ppt/media/image50.gif" ContentType="image/gif"/>
  <Override PartName="/ppt/media/image51.wmf" ContentType="image/x-wmf"/>
  <Override PartName="/ppt/media/image55.gif" ContentType="image/gi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0E6-1991-4002-B995-BEA3467FA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DE1-61F4-480A-B25C-26D9CD2D59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175-35A3-49EF-B06A-B0A82AAE5D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885F-BBB7-4A84-9FA2-799F8A0556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B159-4EC9-4E4E-88FC-9FDA812B68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8B8B-A0F3-48A4-A405-8EA76EC2D2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5C8-B1AD-4476-A292-64E34F69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95D-61AC-40D0-BB05-14932C0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F17-72E9-43B8-A20D-9AF61E0F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ACE-ED37-4CEF-A790-4658DBFF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D1CB-33EE-43BD-A94F-8AA26BBD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55D-070F-4057-B655-F96AE26F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C7D7-A68A-47E3-8938-5BF1E32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F698-4881-4D1D-BE85-6448256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9D26-50EA-4BF6-A91C-1FDE9C1F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B10B-3561-4C94-9074-578786E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32F-1A3B-4630-ACED-97CB477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4FF-168F-4957-A814-097BCDC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C936-BDAD-431E-AEA5-9ACB46B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94AB-25F3-4E30-8E94-3C320B7E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BD0-CB36-4822-8148-136D8C1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DD2-94E3-40D8-A133-2DC3F34D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A4D-DD5A-454A-91F3-229238FD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AF4-C369-46EA-98AB-FC820E87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F33-D32D-4BFF-AEFE-725217BA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00B-12C6-4164-A215-974DA540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E34-9C37-44EF-85DA-1B276EF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833-F062-4BF5-AA2C-49C4602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AEA-F573-4034-A1EA-89AE363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222-46BD-4577-BDA6-EAE4C79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C92-6607-4E94-9330-FB6E9DF94B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D88E-F495-428A-AE66-70F5D2E78E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slide" Target="slide24.xml"/><Relationship Id="rId4" Type="http://schemas.openxmlformats.org/officeDocument/2006/relationships/image" Target="../media/image20.wmf"/><Relationship Id="rId5" Type="http://schemas.openxmlformats.org/officeDocument/2006/relationships/image" Target="../media/image13.gif"/><Relationship Id="rId6" Type="http://schemas.openxmlformats.org/officeDocument/2006/relationships/slide" Target="slide3.xml"/><Relationship Id="rId7" Type="http://schemas.openxmlformats.org/officeDocument/2006/relationships/image" Target="../media/image9.gif"/><Relationship Id="rId8" Type="http://schemas.openxmlformats.org/officeDocument/2006/relationships/oleObject" Target="../embeddings/oleObject2.bin"/><Relationship Id="rId9" Type="http://schemas.openxmlformats.org/officeDocument/2006/relationships/slide" Target="slide24.xml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3.bin"/><Relationship Id="rId12" Type="http://schemas.openxmlformats.org/officeDocument/2006/relationships/slide" Target="slide24.xml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5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7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slide" Target="slide3.xml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9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image" Target="../media/image13.gif"/><Relationship Id="rId13" Type="http://schemas.openxmlformats.org/officeDocument/2006/relationships/slide" Target="slide3.xml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1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1.gif"/><Relationship Id="rId4" Type="http://schemas.openxmlformats.org/officeDocument/2006/relationships/slide" Target="slide4.xml"/><Relationship Id="rId5" Type="http://schemas.openxmlformats.org/officeDocument/2006/relationships/image" Target="../media/image9.gif"/><Relationship Id="rId6" Type="http://schemas.openxmlformats.org/officeDocument/2006/relationships/slide" Target="slide25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image" Target="../media/image13.gif"/><Relationship Id="rId7" Type="http://schemas.openxmlformats.org/officeDocument/2006/relationships/slide" Target="slide4.xml"/><Relationship Id="rId8" Type="http://schemas.openxmlformats.org/officeDocument/2006/relationships/image" Target="../media/image9.gi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8.wmf"/><Relationship Id="rId4" Type="http://schemas.openxmlformats.org/officeDocument/2006/relationships/image" Target="../media/image11.gif"/><Relationship Id="rId5" Type="http://schemas.openxmlformats.org/officeDocument/2006/relationships/slide" Target="slide4.xml"/><Relationship Id="rId6" Type="http://schemas.openxmlformats.org/officeDocument/2006/relationships/image" Target="../media/image9.gif"/><Relationship Id="rId7" Type="http://schemas.openxmlformats.org/officeDocument/2006/relationships/slide" Target="slide28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5.bin"/><Relationship Id="rId19" Type="http://schemas.openxmlformats.org/officeDocument/2006/relationships/slide" Target="slide24.xml"/><Relationship Id="rId20" Type="http://schemas.openxmlformats.org/officeDocument/2006/relationships/image" Target="../media/image45.wmf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1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0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image" Target="../media/image13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gif"/><Relationship Id="rId3" Type="http://schemas.openxmlformats.org/officeDocument/2006/relationships/slide" Target="slide6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8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15.wmf"/><Relationship Id="rId4" Type="http://schemas.openxmlformats.org/officeDocument/2006/relationships/image" Target="../media/image11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" Target="slide10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357120" y="785880"/>
            <a:ext cx="828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Рациональные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b2b2b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Picture 10" descr="Копает "/>
          <p:cNvPicPr/>
          <p:nvPr/>
        </p:nvPicPr>
        <p:blipFill>
          <a:blip r:embed="rId1"/>
          <a:stretch/>
        </p:blipFill>
        <p:spPr>
          <a:xfrm>
            <a:off x="5508720" y="5661000"/>
            <a:ext cx="136692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ag00630_"/>
          <p:cNvPicPr/>
          <p:nvPr/>
        </p:nvPicPr>
        <p:blipFill>
          <a:blip r:embed="rId2"/>
          <a:stretch/>
        </p:blipFill>
        <p:spPr>
          <a:xfrm>
            <a:off x="6622920" y="3645000"/>
            <a:ext cx="2521080" cy="306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358920" y="64911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шняков А.Ю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2008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ить уравн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– 2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Возможны две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ерву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10"/>
          <p:cNvGraphicFramePr/>
          <p:nvPr/>
        </p:nvGraphicFramePr>
        <p:xfrm>
          <a:off x="3419640" y="2997360"/>
          <a:ext cx="5545080" cy="23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997360"/>
                    <a:ext cx="55450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3024360" y="5516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ен первый корень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=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3">
            <a:hlinkClick r:id="rId7" action="ppaction://hlinksldjump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5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39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2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22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отрим вторую ситуацию: разделим почленно заданное уравнение на 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х – 2)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условии, чт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-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равнение принимает ви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решим квадра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– t –2 = 0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-1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= -0,5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х =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учетом обеих ситуаций получ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- 0,5; -2; 2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4500720" y="2637000"/>
          <a:ext cx="4032000" cy="100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12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637000"/>
                    <a:ext cx="40320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Рисунок1"/>
          <p:cNvPicPr/>
          <p:nvPr/>
        </p:nvPicPr>
        <p:blipFill>
          <a:blip r:embed="rId5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кнопка ж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13"/>
          <p:cNvGraphicFramePr/>
          <p:nvPr/>
        </p:nvGraphicFramePr>
        <p:xfrm>
          <a:off x="2556000" y="3500280"/>
          <a:ext cx="2471760" cy="81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Object 13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3500280"/>
                    <a:ext cx="247176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5"/>
          <p:cNvGraphicFramePr/>
          <p:nvPr/>
        </p:nvGraphicFramePr>
        <p:xfrm>
          <a:off x="3132000" y="5084640"/>
          <a:ext cx="223200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Object 15" descr="">
                    <a:hlinkClick r:id="rId12" action="ppaction://hlinksldjump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5084640"/>
                    <a:ext cx="2232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5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91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320"/>
                            </p:stCondLst>
                            <p:childTnLst>
                              <p:par>
                                <p:cTn id="5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82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6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Биквадратное уравнени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Значит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t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и, сделав обратную подстановку,  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мечание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решении биквадратного уравнения мо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ть от 1 до 4-х корней или же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может совсем не иметь кор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doc30"/>
          <p:cNvPicPr/>
          <p:nvPr/>
        </p:nvPicPr>
        <p:blipFill>
          <a:blip r:embed="rId1"/>
          <a:stretch/>
        </p:blipFill>
        <p:spPr>
          <a:xfrm>
            <a:off x="7812000" y="333360"/>
            <a:ext cx="118116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2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2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60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4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96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20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210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е 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-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ая замена дает два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-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4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оторых первое уравнение не имеет корней, а корни второго уравнения -2 и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2;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3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группируем слагаемые: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+1)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х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ыполним разложение на множ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х+1)(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ли распадающееся уравнение. Знач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1=0  или   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ход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AG00013_"/>
          <p:cNvPicPr/>
          <p:nvPr/>
        </p:nvPicPr>
        <p:blipFill>
          <a:blip r:embed="rId1"/>
          <a:stretch/>
        </p:blipFill>
        <p:spPr>
          <a:xfrm>
            <a:off x="7715160" y="33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72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4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24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2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  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 3х 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парами и в каждой паре вынесем общий множитель за скоб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+1)–3х(х+1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 и вынесем общий   множитель (х+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+1)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х+1)– 3х(х+1)=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х+1)(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+1=0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ходного уравнения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2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32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48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4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с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и разделим обе части уравнения н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олуча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гд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(t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-2)+bt+c=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делаем обратную  подстан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203640" y="3233880"/>
                <a:ext cx="4321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3708360" y="4292640"/>
                <a:ext cx="1657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6443640" y="4363920"/>
                <a:ext cx="2592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Picture 16" descr="doc17"/>
          <p:cNvPicPr/>
          <p:nvPr/>
        </p:nvPicPr>
        <p:blipFill>
          <a:blip r:embed="rId1"/>
          <a:stretch/>
        </p:blipFill>
        <p:spPr>
          <a:xfrm>
            <a:off x="7380360" y="836640"/>
            <a:ext cx="1608120" cy="151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0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200"/>
                            </p:stCondLst>
                            <p:childTnLst>
                              <p:par>
                                <p:cTn id="876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600"/>
                            </p:stCondLst>
                            <p:childTnLst>
                              <p:par>
                                <p:cTn id="8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950"/>
                            </p:stCondLst>
                            <p:childTnLst>
                              <p:par>
                                <p:cTn id="8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150"/>
                            </p:stCondLst>
                            <p:childTnLst>
                              <p:par>
                                <p:cTn id="9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им обе части уравнения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≠ 0 и, удобно группируя, получим равносильное уравн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                         , кор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го 2 и -3,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два р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я               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и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3780000" y="2997360"/>
                <a:ext cx="1152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3564000" y="1268280"/>
          <a:ext cx="37069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68280"/>
                    <a:ext cx="3706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Object 7"/>
          <p:cNvGraphicFramePr/>
          <p:nvPr/>
        </p:nvGraphicFramePr>
        <p:xfrm>
          <a:off x="3745080" y="2421000"/>
          <a:ext cx="3546360" cy="7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5080" y="2421000"/>
                    <a:ext cx="3546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6012000" y="3078000"/>
                <a:ext cx="18730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Object 13"/>
          <p:cNvGraphicFramePr/>
          <p:nvPr/>
        </p:nvGraphicFramePr>
        <p:xfrm>
          <a:off x="5651640" y="4005360"/>
          <a:ext cx="19447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4005360"/>
                    <a:ext cx="1944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Object 15"/>
          <p:cNvGraphicFramePr/>
          <p:nvPr/>
        </p:nvGraphicFramePr>
        <p:xfrm>
          <a:off x="4140360" y="5084640"/>
          <a:ext cx="107928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84640"/>
                    <a:ext cx="107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18"/>
          <p:cNvSpPr/>
          <p:nvPr/>
        </p:nvSpPr>
        <p:spPr>
          <a:xfrm>
            <a:off x="-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Object 17"/>
          <p:cNvGraphicFramePr/>
          <p:nvPr/>
        </p:nvGraphicFramePr>
        <p:xfrm>
          <a:off x="5749920" y="5084640"/>
          <a:ext cx="13892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49920" y="5084640"/>
                    <a:ext cx="1389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9"/>
          <p:cNvGraphicFramePr/>
          <p:nvPr/>
        </p:nvGraphicFramePr>
        <p:xfrm>
          <a:off x="4643280" y="5987880"/>
          <a:ext cx="1076400" cy="68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5987880"/>
                    <a:ext cx="1076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Picture 20" descr="кнопка ж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14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48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60"/>
                            </p:stCondLst>
                            <p:childTnLst>
                              <p:par>
                                <p:cTn id="10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62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48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Возвратное уравнение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внение в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,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                    ,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возвратным   уравнением четвертого поряд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уравнение сводится к квадратному с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щью  под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3995640" y="256536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6804000" y="5743440"/>
                <a:ext cx="1800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11" descr="50r4"/>
          <p:cNvPicPr/>
          <p:nvPr/>
        </p:nvPicPr>
        <p:blipFill>
          <a:blip r:embed="rId1"/>
          <a:stretch/>
        </p:blipFill>
        <p:spPr>
          <a:xfrm>
            <a:off x="7885080" y="1197000"/>
            <a:ext cx="1108080" cy="1523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3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6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4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метим, что                      и, следовательно, данное уравнение есть возвратное уравнение четвертого поряд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0 не является решением уравнения, разделим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олучим равносильное урав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им                   , тогд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уравнение примет вид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корни которого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м обратную замену и после умножения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≠ 0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аем два квадратных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уда и получим корни исходного у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3419640" y="1989000"/>
          <a:ext cx="1368360" cy="7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1989000"/>
                    <a:ext cx="1368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6"/>
          <p:cNvGraphicFramePr/>
          <p:nvPr/>
        </p:nvGraphicFramePr>
        <p:xfrm>
          <a:off x="5324400" y="3141720"/>
          <a:ext cx="295920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24400" y="3141720"/>
                    <a:ext cx="295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1763640" y="3789360"/>
          <a:ext cx="1079640" cy="75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3640" y="3789360"/>
                    <a:ext cx="1079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Object 11"/>
          <p:cNvGraphicFramePr/>
          <p:nvPr/>
        </p:nvGraphicFramePr>
        <p:xfrm>
          <a:off x="3887640" y="3789360"/>
          <a:ext cx="1944720" cy="75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7640" y="3789360"/>
                    <a:ext cx="1944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Object 13"/>
          <p:cNvGraphicFramePr/>
          <p:nvPr/>
        </p:nvGraphicFramePr>
        <p:xfrm>
          <a:off x="5940360" y="6165720"/>
          <a:ext cx="1727280" cy="47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3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6165720"/>
                    <a:ext cx="1727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15" descr="Рисунок1"/>
          <p:cNvPicPr/>
          <p:nvPr/>
        </p:nvPicPr>
        <p:blipFill>
          <a:blip r:embed="rId12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кнопка ж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6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140"/>
                            </p:stCondLst>
                            <p:childTnLst>
                              <p:par>
                                <p:cTn id="112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680"/>
                            </p:stCondLst>
                            <p:childTnLst>
                              <p:par>
                                <p:cTn id="114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834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40"/>
                            </p:stCondLst>
                            <p:childTnLst>
                              <p:par>
                                <p:cTn id="1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140"/>
                            </p:stCondLst>
                            <p:childTnLst>
                              <p:par>
                                <p:cTn id="116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760"/>
                            </p:stCondLst>
                            <p:childTnLst>
                              <p:par>
                                <p:cTn id="117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7900"/>
                            </p:stCondLst>
                            <p:childTnLst>
                              <p:par>
                                <p:cTn id="11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8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294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8280"/>
                            </p:stCondLst>
                            <p:childTnLst>
                              <p:par>
                                <p:cTn id="1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95280" y="142920"/>
            <a:ext cx="838692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данной презентации достаточно полно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изложена теория решения различных вид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ациональных уравнений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за исключением линейных и квадрат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уравнений, а также общей тео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я уравнений 3-й и 4-й степен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ет здесь и примеров, решаем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с помощью теоремы Безу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Каждый вид уравнения сопровождаетс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ем соответствующего пример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анные материалы могут быть использован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частично на уроках алгебр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обычных классах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о в большей мере пригодятс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ля изучения этой 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классах с углубленным изучение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математик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 вида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 =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то это уравнение сводится к квадратному уравнению. Действи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ив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им квадратн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 этого уравнения найдем значен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в обратную подстановку, законч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е исходного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doc19"/>
          <p:cNvPicPr/>
          <p:nvPr/>
        </p:nvPicPr>
        <p:blipFill>
          <a:blip r:embed="rId1"/>
          <a:stretch/>
        </p:blipFill>
        <p:spPr>
          <a:xfrm>
            <a:off x="7956720" y="260280"/>
            <a:ext cx="1081080" cy="1666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9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3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7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2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0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5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9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3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тим, что -2 + 7 = 1 + 4.  Удобно группируя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]·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] =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14 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, тог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) = 19   или  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9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-19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в обратную подстановку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-19 и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ончательны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6769080" y="5950080"/>
          <a:ext cx="2249640" cy="78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5950080"/>
                    <a:ext cx="22496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6" descr="Рисунок1"/>
          <p:cNvPicPr/>
          <p:nvPr/>
        </p:nvPicPr>
        <p:blipFill>
          <a:blip r:embed="rId4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4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3390"/>
                            </p:stCondLst>
                            <p:childTnLst>
                              <p:par>
                                <p:cTn id="1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8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240"/>
                            </p:stCondLst>
                            <p:childTnLst>
                              <p:par>
                                <p:cTn id="13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9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7400"/>
                            </p:stCondLst>
                            <p:childTnLst>
                              <p:par>
                                <p:cTn id="131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60"/>
                            </p:stCondLst>
                            <p:childTnLst>
                              <p:par>
                                <p:cTn id="13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300"/>
                            </p:stCondLst>
                            <p:childTnLst>
                              <p:par>
                                <p:cTn id="133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60"/>
                            </p:stCondLst>
                            <p:childTnLst>
                              <p:par>
                                <p:cTn id="1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=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подстановку                    ,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свести к биквадратному уравнению относитель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ействительно, подставив в уравн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означим                  и возведе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аждое слагаемое в 4-ю степень. После приве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добных получим  биквадратное уравн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5076720" y="1484280"/>
                <a:ext cx="15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5796000" y="2924280"/>
                <a:ext cx="1512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515880" y="3573360"/>
                <a:ext cx="3576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5796000" y="3716280"/>
                <a:ext cx="1135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1"/>
              <p:cNvSpPr txBox="1"/>
              <p:nvPr/>
            </p:nvSpPr>
            <p:spPr>
              <a:xfrm>
                <a:off x="3995640" y="5661000"/>
                <a:ext cx="4383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Picture 14" descr="lady_news_anchor_md_wht"/>
          <p:cNvPicPr/>
          <p:nvPr/>
        </p:nvPicPr>
        <p:blipFill>
          <a:blip r:embed="rId1"/>
          <a:stretch/>
        </p:blipFill>
        <p:spPr>
          <a:xfrm>
            <a:off x="7380360" y="1159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5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240"/>
                            </p:stCondLst>
                            <p:childTnLst>
                              <p:par>
                                <p:cTn id="1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680"/>
                            </p:stCondLst>
                            <p:childTnLst>
                              <p:par>
                                <p:cTn id="1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760"/>
                            </p:stCondLst>
                            <p:childTnLst>
                              <p:par>
                                <p:cTn id="1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480"/>
                            </p:stCondLst>
                            <p:childTnLst>
                              <p:par>
                                <p:cTn id="1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960"/>
                            </p:stCondLst>
                            <p:childTnLst>
                              <p:par>
                                <p:cTn id="143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делаем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м следующее уравнение относитель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- 82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получим би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5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и которого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, корни исходного 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2;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Object 6"/>
          <p:cNvGraphicFramePr/>
          <p:nvPr/>
        </p:nvGraphicFramePr>
        <p:xfrm>
          <a:off x="5651640" y="1989000"/>
          <a:ext cx="2952720" cy="84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1989000"/>
                    <a:ext cx="29527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8" descr="Рисунок1"/>
          <p:cNvPicPr/>
          <p:nvPr/>
        </p:nvPicPr>
        <p:blipFill>
          <a:blip r:embed="rId4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14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8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6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400"/>
                            </p:stCondLst>
                            <p:childTnLst>
                              <p:par>
                                <p:cTn id="1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960"/>
                            </p:stCondLst>
                            <p:childTnLst>
                              <p:par>
                                <p:cTn id="1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640"/>
                            </p:stCondLst>
                            <p:childTnLst>
                              <p:par>
                                <p:cTn id="15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36480" y="2060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(х) = 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каждого корня уравнения Р(х) = 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делать проверку: удовлетворяет ли 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ю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х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 или нет. Если да, 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— корень заданного уравн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сли нет, то  этот корень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оронний для заданного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ответ его включать не следу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5219640" y="260280"/>
          <a:ext cx="187344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60280"/>
                    <a:ext cx="1873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6" descr="doc17"/>
          <p:cNvPicPr/>
          <p:nvPr/>
        </p:nvPicPr>
        <p:blipFill>
          <a:blip r:embed="rId3"/>
          <a:stretch/>
        </p:blipFill>
        <p:spPr>
          <a:xfrm>
            <a:off x="7380360" y="83664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нопка ж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0" descr="кнокпа зел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4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38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20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520"/>
                            </p:stCondLst>
                            <p:childTnLst>
                              <p:par>
                                <p:cTn id="1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 и 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ение х = 2 не удовлетворяет услов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х=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4572000" y="3357720"/>
          <a:ext cx="345600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357720"/>
                    <a:ext cx="34560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3780000" y="1341360"/>
          <a:ext cx="2232000" cy="9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341360"/>
                    <a:ext cx="2232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кнопка ж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Object 13"/>
          <p:cNvGraphicFramePr/>
          <p:nvPr/>
        </p:nvGraphicFramePr>
        <p:xfrm>
          <a:off x="7488360" y="4365720"/>
          <a:ext cx="16556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88360" y="4365720"/>
                    <a:ext cx="1655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3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9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0" dur="10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0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5" descr="doc17"/>
          <p:cNvPicPr/>
          <p:nvPr/>
        </p:nvPicPr>
        <p:blipFill>
          <a:blip r:embed="rId4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Object 12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2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4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6" name="Object 14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5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0" name="Object 16" descr="">
                    <a:hlinkClick r:id="rId19" action="ppaction://hlinksldjump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8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9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0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60"/>
                            </p:stCondLst>
                            <p:childTnLst>
                              <p:par>
                                <p:cTn id="1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1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1440"/>
                            </p:stCondLst>
                            <p:childTnLst>
                              <p:par>
                                <p:cTn id="1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0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2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8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9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3260"/>
                            </p:stCondLst>
                            <p:childTnLst>
                              <p:par>
                                <p:cTn id="1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4340"/>
                            </p:stCondLst>
                            <p:childTnLst>
                              <p:par>
                                <p:cTn id="1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0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1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4940"/>
                            </p:stCondLst>
                            <p:childTnLst>
                              <p:par>
                                <p:cTn id="1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6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7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8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Picture 5" descr="doc17"/>
          <p:cNvPicPr/>
          <p:nvPr/>
        </p:nvPicPr>
        <p:blipFill>
          <a:blip r:embed="rId3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кнопка ж"/>
          <p:cNvPicPr/>
          <p:nvPr/>
        </p:nvPicPr>
        <p:blipFill>
          <a:blip r:embed="rId4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8" descr="кнокпа зел"/>
          <p:cNvPicPr/>
          <p:nvPr/>
        </p:nvPicPr>
        <p:blipFill>
          <a:blip r:embed="rId5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Object 10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1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12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0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560"/>
                            </p:stCondLst>
                            <p:childTnLst>
                              <p:par>
                                <p:cTn id="18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3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5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440"/>
                            </p:stCondLst>
                            <p:childTnLst>
                              <p:par>
                                <p:cTn id="18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3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0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1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8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0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2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3260"/>
                            </p:stCondLst>
                            <p:childTnLst>
                              <p:par>
                                <p:cTn id="1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34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49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78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ем подстановку                   и решим получ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тная подстановка приводит к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которого х =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2916360" y="3792600"/>
          <a:ext cx="4680000" cy="8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92600"/>
                    <a:ext cx="46800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6"/>
          <p:cNvGraphicFramePr/>
          <p:nvPr/>
        </p:nvGraphicFramePr>
        <p:xfrm>
          <a:off x="3635280" y="1413000"/>
          <a:ext cx="270216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1413000"/>
                    <a:ext cx="2702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12"/>
          <p:cNvGraphicFramePr/>
          <p:nvPr/>
        </p:nvGraphicFramePr>
        <p:xfrm>
          <a:off x="3924360" y="2708280"/>
          <a:ext cx="1224000" cy="79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708280"/>
                    <a:ext cx="12240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4"/>
          <p:cNvGraphicFramePr/>
          <p:nvPr/>
        </p:nvGraphicFramePr>
        <p:xfrm>
          <a:off x="3492360" y="5445000"/>
          <a:ext cx="1366920" cy="830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5445000"/>
                    <a:ext cx="136692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0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3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7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, состоящие из суммы двух и более дробей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7882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нести все члены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ч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ести уравнение к виду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найти корни получен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ь О.Д.З.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ожить обе части уравнения на общий знаменатель дробей и получить целое урав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корни полученного уравнения и проверить их соответствие О.Д.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292720" y="2781360"/>
                <a:ext cx="1224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" descr="кнопка ж"/>
          <p:cNvPicPr/>
          <p:nvPr/>
        </p:nvPicPr>
        <p:blipFill>
          <a:blip r:embed="rId2"/>
          <a:stretch/>
        </p:blipFill>
        <p:spPr>
          <a:xfrm>
            <a:off x="108000" y="4869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0" y="530064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6" descr="кнокпа зел"/>
          <p:cNvPicPr/>
          <p:nvPr/>
        </p:nvPicPr>
        <p:blipFill>
          <a:blip r:embed="rId3"/>
          <a:stretch/>
        </p:blipFill>
        <p:spPr>
          <a:xfrm>
            <a:off x="108000" y="57340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7"/>
          <p:cNvSpPr/>
          <p:nvPr/>
        </p:nvSpPr>
        <p:spPr>
          <a:xfrm>
            <a:off x="0" y="616572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0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4"/>
          <p:cNvGrpSpPr/>
          <p:nvPr/>
        </p:nvGrpSpPr>
        <p:grpSpPr>
          <a:xfrm>
            <a:off x="250920" y="333360"/>
            <a:ext cx="8748360" cy="6372000"/>
            <a:chOff x="250920" y="333360"/>
            <a:chExt cx="8748360" cy="6372000"/>
          </a:xfrm>
        </p:grpSpPr>
        <p:cxnSp>
          <p:nvCxnSpPr>
            <p:cNvPr id="111" name="_s1028"/>
            <p:cNvCxnSpPr>
              <a:stCxn id="112" idx="0"/>
              <a:endCxn id="113" idx="6"/>
            </p:cNvCxnSpPr>
            <p:nvPr/>
          </p:nvCxnSpPr>
          <p:spPr>
            <a:xfrm flipV="1">
              <a:off x="3338280" y="2207520"/>
              <a:ext cx="516600" cy="4123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14" name="_s1029"/>
            <p:cNvCxnSpPr>
              <a:stCxn id="115" idx="0"/>
              <a:endCxn id="113" idx="5"/>
            </p:cNvCxnSpPr>
            <p:nvPr/>
          </p:nvCxnSpPr>
          <p:spPr>
            <a:xfrm rot="10800000">
              <a:off x="3853800" y="2207520"/>
              <a:ext cx="513720" cy="412308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3" idx="4"/>
            </p:cNvCxnSpPr>
            <p:nvPr/>
          </p:nvCxnSpPr>
          <p:spPr>
            <a:xfrm rot="10800000">
              <a:off x="3853800" y="2207520"/>
              <a:ext cx="51372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8" name="_s1031"/>
            <p:cNvCxnSpPr>
              <a:stCxn id="119" idx="0"/>
              <a:endCxn id="113" idx="8"/>
            </p:cNvCxnSpPr>
            <p:nvPr/>
          </p:nvCxnSpPr>
          <p:spPr>
            <a:xfrm flipV="1">
              <a:off x="3338280" y="2207880"/>
              <a:ext cx="51660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0" name="_s1032"/>
            <p:cNvCxnSpPr>
              <a:stCxn id="121" idx="0"/>
              <a:endCxn id="113" idx="7"/>
            </p:cNvCxnSpPr>
            <p:nvPr/>
          </p:nvCxnSpPr>
          <p:spPr>
            <a:xfrm rot="10800000">
              <a:off x="3853800" y="2207520"/>
              <a:ext cx="51372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2" name="_s1033"/>
            <p:cNvCxnSpPr>
              <a:stCxn id="123" idx="0"/>
              <a:endCxn id="113" idx="1"/>
            </p:cNvCxnSpPr>
            <p:nvPr/>
          </p:nvCxnSpPr>
          <p:spPr>
            <a:xfrm flipV="1">
              <a:off x="3338280" y="2207880"/>
              <a:ext cx="51660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4" name="_s1034"/>
            <p:cNvCxnSpPr>
              <a:stCxn id="125" idx="0"/>
              <a:endCxn id="113" idx="3"/>
            </p:cNvCxnSpPr>
            <p:nvPr/>
          </p:nvCxnSpPr>
          <p:spPr>
            <a:xfrm rot="10800000">
              <a:off x="3853800" y="2207520"/>
              <a:ext cx="51372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0"/>
              <a:endCxn id="113" idx="2"/>
            </p:cNvCxnSpPr>
            <p:nvPr/>
          </p:nvCxnSpPr>
          <p:spPr>
            <a:xfrm flipV="1">
              <a:off x="3338280" y="2207520"/>
              <a:ext cx="51660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29" idx="0"/>
              <a:endCxn id="130" idx="1"/>
            </p:cNvCxnSpPr>
            <p:nvPr/>
          </p:nvCxnSpPr>
          <p:spPr>
            <a:xfrm flipV="1" rot="16200000">
              <a:off x="6368040" y="367920"/>
              <a:ext cx="374400" cy="180324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1" name="_s1037"/>
            <p:cNvCxnSpPr>
              <a:stCxn id="113" idx="0"/>
              <a:endCxn id="130" idx="0"/>
            </p:cNvCxnSpPr>
            <p:nvPr/>
          </p:nvCxnSpPr>
          <p:spPr>
            <a:xfrm flipH="1" flipV="1" rot="5400000">
              <a:off x="4566960" y="369720"/>
              <a:ext cx="374400" cy="180000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30" name="_s1038"/>
            <p:cNvSpPr/>
            <p:nvPr/>
          </p:nvSpPr>
          <p:spPr>
            <a:xfrm>
              <a:off x="4110480" y="3333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30940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40"/>
            <p:cNvSpPr/>
            <p:nvPr/>
          </p:nvSpPr>
          <p:spPr>
            <a:xfrm>
              <a:off x="591156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25092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пособ под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2"/>
            <p:cNvSpPr/>
            <p:nvPr/>
          </p:nvSpPr>
          <p:spPr>
            <a:xfrm>
              <a:off x="436788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возв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43"/>
            <p:cNvSpPr/>
            <p:nvPr/>
          </p:nvSpPr>
          <p:spPr>
            <a:xfrm>
              <a:off x="252000" y="370692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аспадающие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44"/>
            <p:cNvSpPr/>
            <p:nvPr/>
          </p:nvSpPr>
          <p:spPr>
            <a:xfrm>
              <a:off x="4367880" y="370692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биквад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250920" y="48315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6"/>
            <p:cNvSpPr/>
            <p:nvPr/>
          </p:nvSpPr>
          <p:spPr>
            <a:xfrm>
              <a:off x="4367880" y="483156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имметрич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3-го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и </a:t>
              </a: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4-го 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поряд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7"/>
            <p:cNvSpPr/>
            <p:nvPr/>
          </p:nvSpPr>
          <p:spPr>
            <a:xfrm>
              <a:off x="4367880" y="595584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 =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48"/>
            <p:cNvSpPr/>
            <p:nvPr/>
          </p:nvSpPr>
          <p:spPr>
            <a:xfrm>
              <a:off x="252000" y="595584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Однородное</a:t>
              </a:r>
              <a:r>
                <a:rPr b="0" lang="en-US" sz="1900" spc="-1" strike="noStrike" u="sng">
                  <a:solidFill>
                    <a:srgbClr val="ffffff"/>
                  </a:solidFill>
                  <a:uFillTx/>
                  <a:latin typeface="Arial"/>
                </a:rPr>
                <a:t> 2-го поряд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2" name="Picture 35" descr="25m1"/>
          <p:cNvPicPr/>
          <p:nvPr/>
        </p:nvPicPr>
        <p:blipFill>
          <a:blip r:embed="rId5"/>
          <a:stretch/>
        </p:blipFill>
        <p:spPr>
          <a:xfrm>
            <a:off x="7596360" y="47973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7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0280" y="302760"/>
            <a:ext cx="79520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ём О.Д.З.  Знаменатели дробей не могут обращаться в нуль . Значит, О.Д.З. уравнения: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 и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несём члены из правой части уравнения в левую и приведём к общему знамена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:         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6х + 8 = 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м корни квадратного уравнения:       х = 4 и х =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ение х = 2 не удовлетворяет О.Д.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корень х=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"/>
          <p:cNvGraphicFramePr/>
          <p:nvPr/>
        </p:nvGraphicFramePr>
        <p:xfrm>
          <a:off x="3635280" y="1628640"/>
          <a:ext cx="2448000" cy="8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628640"/>
                    <a:ext cx="24480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Object 8"/>
          <p:cNvGraphicFramePr/>
          <p:nvPr/>
        </p:nvGraphicFramePr>
        <p:xfrm>
          <a:off x="1908000" y="3716280"/>
          <a:ext cx="5351760" cy="8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3716280"/>
                    <a:ext cx="53517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icture 10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9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3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0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7" dur="10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4897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Уравнения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60480" y="3068640"/>
            <a:ext cx="72835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нное уравнение сводится к квадратному уравнению заменой перем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5"/>
          <p:cNvGraphicFramePr/>
          <p:nvPr/>
        </p:nvGraphicFramePr>
        <p:xfrm>
          <a:off x="1042920" y="1268280"/>
          <a:ext cx="74516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451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"/>
          <p:cNvGraphicFramePr/>
          <p:nvPr/>
        </p:nvGraphicFramePr>
        <p:xfrm>
          <a:off x="5003640" y="4076640"/>
          <a:ext cx="1872000" cy="114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076640"/>
                    <a:ext cx="187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1" name="Picture 12" descr="professor01"/>
          <p:cNvPicPr/>
          <p:nvPr/>
        </p:nvPicPr>
        <p:blipFill>
          <a:blip r:embed="rId5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3" descr="кнопка ж"/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4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16" descr="кнокпа зел"/>
          <p:cNvPicPr/>
          <p:nvPr/>
        </p:nvPicPr>
        <p:blipFill>
          <a:blip r:embed="rId7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0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.Д.З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авнения есть множество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кольку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0 не является решением данного уравнения, перепишем уравнение в ви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зделим числитель и знаменатель каждой дроби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и 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3419640" y="1265400"/>
          <a:ext cx="439236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265400"/>
                    <a:ext cx="4392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7"/>
          <p:cNvGraphicFramePr/>
          <p:nvPr/>
        </p:nvGraphicFramePr>
        <p:xfrm>
          <a:off x="6443640" y="2133720"/>
          <a:ext cx="14414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2133720"/>
                    <a:ext cx="14414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1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Object 9"/>
          <p:cNvGraphicFramePr/>
          <p:nvPr/>
        </p:nvGraphicFramePr>
        <p:xfrm>
          <a:off x="4500720" y="3500280"/>
          <a:ext cx="3671640" cy="13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500280"/>
                    <a:ext cx="3671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Object 11"/>
          <p:cNvGraphicFramePr/>
          <p:nvPr/>
        </p:nvGraphicFramePr>
        <p:xfrm>
          <a:off x="3851280" y="5373720"/>
          <a:ext cx="1295280" cy="78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5373720"/>
                    <a:ext cx="12952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13"/>
          <p:cNvGraphicFramePr/>
          <p:nvPr/>
        </p:nvGraphicFramePr>
        <p:xfrm>
          <a:off x="5796000" y="5864400"/>
          <a:ext cx="2232000" cy="90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5864400"/>
                    <a:ext cx="2232000" cy="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AutoShape 15">
            <a:hlinkClick r:id="" action="ppaction://hlinkshowjump?jump=nextslide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6" descr="кнопка ж"/>
          <p:cNvPicPr/>
          <p:nvPr/>
        </p:nvPicPr>
        <p:blipFill>
          <a:blip r:embed="rId1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5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6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48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6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7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284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3340"/>
                            </p:stCondLst>
                            <p:childTnLst>
                              <p:par>
                                <p:cTn id="2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16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02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.Д.З. полученного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5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-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я это уравнение, приходим к квадратному урав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1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+ 11 = 0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1/2 удовлетворяют О.Д.З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лаем обратную подстановку и получаем д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циональных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которые находим корни зад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Object 5"/>
          <p:cNvGraphicFramePr/>
          <p:nvPr/>
        </p:nvGraphicFramePr>
        <p:xfrm>
          <a:off x="4932360" y="4149720"/>
          <a:ext cx="165564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4149720"/>
                    <a:ext cx="165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1" name="Picture 4" descr="Рисунок1"/>
          <p:cNvPicPr/>
          <p:nvPr/>
        </p:nvPicPr>
        <p:blipFill>
          <a:blip r:embed="rId4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Object 7"/>
          <p:cNvGraphicFramePr/>
          <p:nvPr/>
        </p:nvGraphicFramePr>
        <p:xfrm>
          <a:off x="6804000" y="4149720"/>
          <a:ext cx="187344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4149720"/>
                    <a:ext cx="187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9"/>
          <p:cNvGraphicFramePr/>
          <p:nvPr/>
        </p:nvGraphicFramePr>
        <p:xfrm>
          <a:off x="5364000" y="5950080"/>
          <a:ext cx="763920" cy="90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950080"/>
                    <a:ext cx="7639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0" descr="кнопка ж"/>
          <p:cNvPicPr/>
          <p:nvPr/>
        </p:nvPicPr>
        <p:blipFill>
          <a:blip r:embed="rId9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0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440"/>
                            </p:stCondLst>
                            <p:childTnLst>
                              <p:par>
                                <p:cTn id="2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6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3360"/>
                            </p:stCondLst>
                            <p:childTnLst>
                              <p:par>
                                <p:cTn id="2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1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3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920"/>
                            </p:stCondLst>
                            <p:childTnLst>
                              <p:par>
                                <p:cTn id="2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7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8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9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4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5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6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20"/>
                            </p:stCondLst>
                            <p:childTnLst>
                              <p:par>
                                <p:cTn id="2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0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1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2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400"/>
                            </p:stCondLst>
                            <p:childTnLst>
                              <p:par>
                                <p:cTn id="2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900"/>
                            </p:stCondLst>
                            <p:childTnLst>
                              <p:par>
                                <p:cTn id="2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3400"/>
                            </p:stCondLst>
                            <p:childTnLst>
                              <p:par>
                                <p:cTn id="2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4760"/>
                            </p:stCondLst>
                            <p:childTnLst>
                              <p:par>
                                <p:cTn id="2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0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1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2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200"/>
                            </p:stCondLst>
                            <p:childTnLst>
                              <p:par>
                                <p:cTn id="225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6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7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8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980"/>
                            </p:stCondLst>
                            <p:childTnLst>
                              <p:par>
                                <p:cTn id="2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 математический анализ, 10      Н.Я. Виленкин, О.С. Ивашев-Мусатов,        С.И. Шварцбур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начала анализа. 8 – 11 кл. Пособие для школ и классов с углубл. изучением математики (серия «Дидактические материалы»)                                             Звавич Л.И., Шляпочник Л.Я., Чинкина М.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Organization Chart 5"/>
          <p:cNvGrpSpPr/>
          <p:nvPr/>
        </p:nvGrpSpPr>
        <p:grpSpPr>
          <a:xfrm>
            <a:off x="1979640" y="260280"/>
            <a:ext cx="6695640" cy="6481800"/>
            <a:chOff x="1979640" y="260280"/>
            <a:chExt cx="6695640" cy="6481800"/>
          </a:xfrm>
        </p:grpSpPr>
        <p:cxnSp>
          <p:nvCxnSpPr>
            <p:cNvPr id="136" name="_s2052"/>
            <p:cNvCxnSpPr>
              <a:stCxn id="137" idx="0"/>
              <a:endCxn id="138" idx="2"/>
            </p:cNvCxnSpPr>
            <p:nvPr/>
          </p:nvCxnSpPr>
          <p:spPr>
            <a:xfrm flipV="1">
              <a:off x="6615360" y="2166120"/>
              <a:ext cx="515520" cy="41947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9" name="_s2053"/>
            <p:cNvCxnSpPr>
              <a:stCxn id="140" idx="0"/>
              <a:endCxn id="138" idx="4"/>
            </p:cNvCxnSpPr>
            <p:nvPr/>
          </p:nvCxnSpPr>
          <p:spPr>
            <a:xfrm flipV="1">
              <a:off x="6615360" y="2165760"/>
              <a:ext cx="515520" cy="3051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1" name="_s2054"/>
            <p:cNvCxnSpPr>
              <a:stCxn id="142" idx="0"/>
              <a:endCxn id="138" idx="3"/>
            </p:cNvCxnSpPr>
            <p:nvPr/>
          </p:nvCxnSpPr>
          <p:spPr>
            <a:xfrm flipV="1">
              <a:off x="6615360" y="2166120"/>
              <a:ext cx="515520" cy="1908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3" name="_s2055"/>
            <p:cNvCxnSpPr>
              <a:stCxn id="144" idx="0"/>
              <a:endCxn id="138" idx="0"/>
            </p:cNvCxnSpPr>
            <p:nvPr/>
          </p:nvCxnSpPr>
          <p:spPr>
            <a:xfrm flipV="1">
              <a:off x="6615360" y="2165760"/>
              <a:ext cx="515520" cy="7621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5" name="_s2056"/>
            <p:cNvCxnSpPr>
              <a:stCxn id="138" idx="1"/>
              <a:endCxn id="146" idx="1"/>
            </p:cNvCxnSpPr>
            <p:nvPr/>
          </p:nvCxnSpPr>
          <p:spPr>
            <a:xfrm flipV="1" rot="16200000">
              <a:off x="6037920" y="311400"/>
              <a:ext cx="381600" cy="180324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7" name="_s2057"/>
            <p:cNvCxnSpPr>
              <a:stCxn id="148" idx="0"/>
              <a:endCxn id="146" idx="0"/>
            </p:cNvCxnSpPr>
            <p:nvPr/>
          </p:nvCxnSpPr>
          <p:spPr>
            <a:xfrm flipH="1" flipV="1" rot="5400000">
              <a:off x="4235760" y="312120"/>
              <a:ext cx="381600" cy="180180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46" name="_s2058"/>
            <p:cNvSpPr/>
            <p:nvPr/>
          </p:nvSpPr>
          <p:spPr>
            <a:xfrm>
              <a:off x="3782160" y="26028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059"/>
            <p:cNvSpPr/>
            <p:nvPr/>
          </p:nvSpPr>
          <p:spPr>
            <a:xfrm>
              <a:off x="19796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060"/>
            <p:cNvSpPr/>
            <p:nvPr/>
          </p:nvSpPr>
          <p:spPr>
            <a:xfrm>
              <a:off x="55850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2061"/>
            <p:cNvSpPr/>
            <p:nvPr/>
          </p:nvSpPr>
          <p:spPr>
            <a:xfrm>
              <a:off x="3524760" y="254772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062"/>
            <p:cNvSpPr/>
            <p:nvPr/>
          </p:nvSpPr>
          <p:spPr>
            <a:xfrm>
              <a:off x="3524760" y="36918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умма двух и более дроб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063"/>
            <p:cNvSpPr/>
            <p:nvPr/>
          </p:nvSpPr>
          <p:spPr>
            <a:xfrm>
              <a:off x="3526200" y="4835520"/>
              <a:ext cx="308880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064"/>
            <p:cNvSpPr/>
            <p:nvPr/>
          </p:nvSpPr>
          <p:spPr>
            <a:xfrm>
              <a:off x="3524760" y="59796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Picture 25" descr=""/>
            <p:cNvPicPr/>
            <p:nvPr/>
          </p:nvPicPr>
          <p:blipFill>
            <a:blip r:embed="rId2"/>
            <a:stretch/>
          </p:blipFill>
          <p:spPr>
            <a:xfrm>
              <a:off x="3634920" y="6068160"/>
              <a:ext cx="2881440" cy="5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6" descr=""/>
            <p:cNvPicPr/>
            <p:nvPr/>
          </p:nvPicPr>
          <p:blipFill>
            <a:blip r:embed="rId3"/>
            <a:stretch/>
          </p:blipFill>
          <p:spPr>
            <a:xfrm>
              <a:off x="4643640" y="2636640"/>
              <a:ext cx="72108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9" descr=""/>
            <p:cNvPicPr/>
            <p:nvPr/>
          </p:nvPicPr>
          <p:blipFill>
            <a:blip r:embed="rId4"/>
            <a:stretch/>
          </p:blipFill>
          <p:spPr>
            <a:xfrm>
              <a:off x="4211280" y="4941360"/>
              <a:ext cx="1788120" cy="61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7" descr="25m1"/>
          <p:cNvPicPr/>
          <p:nvPr/>
        </p:nvPicPr>
        <p:blipFill>
          <a:blip r:embed="rId5"/>
          <a:stretch/>
        </p:blipFill>
        <p:spPr>
          <a:xfrm>
            <a:off x="7451640" y="486900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2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3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Способ подстанов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ешении некоторых целых рациональных уравнений есть смысл ввести новую переменную величину, обозначив некоторое рациональное выражение новой бук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в уравнении                                        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член, удобно ввести нов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менную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получ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наконец, ре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5003640" y="3429000"/>
                <a:ext cx="3888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8" name="Picture 6" descr="кнопка ж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кнокпа з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0" descr="doc17"/>
          <p:cNvPicPr/>
          <p:nvPr/>
        </p:nvPicPr>
        <p:blipFill>
          <a:blip r:embed="rId5"/>
          <a:stretch/>
        </p:blipFill>
        <p:spPr>
          <a:xfrm>
            <a:off x="7678800" y="115920"/>
            <a:ext cx="1465200" cy="137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5651640" y="4653000"/>
                <a:ext cx="25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6300720" y="6093000"/>
                <a:ext cx="2521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4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8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1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94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4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64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84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24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ведем новую переменную. Пусть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м корен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 = 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елаем обратную подстанов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2;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3780000" y="1557360"/>
                <a:ext cx="5076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211640" y="2421000"/>
                <a:ext cx="2427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Picture 7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4211640" y="3213000"/>
                <a:ext cx="2538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1"/>
              <p:cNvSpPr txBox="1"/>
              <p:nvPr/>
            </p:nvSpPr>
            <p:spPr>
              <a:xfrm>
                <a:off x="2124000" y="4221000"/>
                <a:ext cx="68817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4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4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8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6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850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аспадающееся уравн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ое уравнение называется распадающимся, если его можно привести к виду                            , где                     – рациональные выражения с переменно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шения воспользуемся равносильным переход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няемые приемы разложения на множител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вынесение общего  множителя за скоб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способ группировк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формулы сокращенного умно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1763640" y="2133720"/>
                <a:ext cx="2521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5364000" y="2133720"/>
                <a:ext cx="1752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2843280" y="3573360"/>
                <a:ext cx="48672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9" name="Picture 12" descr="doc19"/>
          <p:cNvPicPr/>
          <p:nvPr/>
        </p:nvPicPr>
        <p:blipFill>
          <a:blip r:embed="rId1"/>
          <a:stretch/>
        </p:blipFill>
        <p:spPr>
          <a:xfrm>
            <a:off x="7885080" y="404640"/>
            <a:ext cx="1081080" cy="166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4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0"/>
                            </p:stCondLst>
                            <p:childTnLst>
                              <p:par>
                                <p:cTn id="2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ложим левую часть уравнения на множит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ользуемся равносильным переход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-2;0;1;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4643280" y="1574640"/>
                <a:ext cx="367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395280" y="2997360"/>
                <a:ext cx="85694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2484360" y="4581360"/>
                <a:ext cx="374328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Picture 10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4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4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252360" y="115920"/>
            <a:ext cx="864072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Однородное уравнение 2-го поряд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856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ешении уравнения надо проверить две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.е. корнями заданного урав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ются решения эт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Если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(x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после деления заданного уравнения на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x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е подстановкой                    св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квадратному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твет включают числа, получ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обеих ситуаци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3995640" y="3500280"/>
          <a:ext cx="3384720" cy="9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3500280"/>
                    <a:ext cx="33847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5" descr="doc17"/>
          <p:cNvPicPr/>
          <p:nvPr/>
        </p:nvPicPr>
        <p:blipFill>
          <a:blip r:embed="rId4"/>
          <a:stretch/>
        </p:blipFill>
        <p:spPr>
          <a:xfrm>
            <a:off x="7859880" y="765000"/>
            <a:ext cx="1284120" cy="120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012000" y="450864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0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2000" y="450864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6732720" y="5084640"/>
          <a:ext cx="2147760" cy="470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1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720" y="5084640"/>
                    <a:ext cx="21477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5"/>
          <p:cNvGraphicFramePr/>
          <p:nvPr/>
        </p:nvGraphicFramePr>
        <p:xfrm>
          <a:off x="755640" y="1125360"/>
          <a:ext cx="6264360" cy="7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1125360"/>
                    <a:ext cx="62643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1403280" y="2421000"/>
                <a:ext cx="1297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8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6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26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38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26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4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40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7:45Z</dcterms:created>
  <dc:creator>Вишняков</dc:creator>
  <dc:description/>
  <dc:language>en-US</dc:language>
  <cp:lastModifiedBy>Николай</cp:lastModifiedBy>
  <dcterms:modified xsi:type="dcterms:W3CDTF">2013-04-01T09:21:06Z</dcterms:modified>
  <cp:revision>123</cp:revision>
  <dc:subject/>
  <dc:title>Рациональные уравнения</dc:title>
</cp:coreProperties>
</file>