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1BA3-65CD-43D5-9096-4C953D6BB2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93CC-844A-45E0-91AB-0C4E5537FE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687E4-C678-4C43-B8A2-3FF350548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9749-DDF1-4EB0-806C-63FF313A0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5A3BF-6628-4D42-B4D2-BF19A1AEF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867DB-1759-4207-A288-676950437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969A7-3673-4B72-87B0-9BA4C52C6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78CD1-94EE-4917-909E-2495EB9E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A2EB9-9972-4841-8697-9BE16745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DC90-EDF8-4CC6-8FC1-E421058F8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2944-119A-4597-873C-A6D103F5B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0DD2-2C9A-49FA-A5FF-B84ACB234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4347-2AF9-4F79-8A49-40D582B3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6700-900E-4D08-B9D2-91529CB2E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4961-413C-4F6E-87B7-0CDD09FF57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
        <p:nvSpPr>
          <p:cNvPr id="50" name="Прямоугольник 5"/>
          <p:cNvSpPr/>
          <p:nvPr/>
        </p:nvSpPr>
        <p:spPr>
          <a:xfrm>
            <a:off x="3643200" y="5143680"/>
            <a:ext cx="2286000" cy="500040"/>
          </a:xfrm>
          <a:prstGeom prst="rect">
            <a:avLst/>
          </a:prstGeom>
          <a:solidFill>
            <a:srgbClr val="bbe0e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zentacii.com</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3"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4"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6"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7"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8"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90"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1"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2"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3"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9"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2"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3"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5"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6"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7"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1"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3"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8"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20"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2"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3"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6"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9"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30"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1"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4"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6"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9" name="Picture 6" descr="Ожог первой степени"/>
          <p:cNvPicPr/>
          <p:nvPr/>
        </p:nvPicPr>
        <p:blipFill>
          <a:blip r:embed="rId1"/>
          <a:stretch/>
        </p:blipFill>
        <p:spPr>
          <a:xfrm>
            <a:off x="6588000" y="0"/>
            <a:ext cx="2076480" cy="2152800"/>
          </a:xfrm>
          <a:prstGeom prst="rect">
            <a:avLst/>
          </a:prstGeom>
          <a:ln w="0">
            <a:noFill/>
          </a:ln>
        </p:spPr>
      </p:pic>
      <p:pic>
        <p:nvPicPr>
          <p:cNvPr id="140"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1"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5"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4"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5"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6"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8"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1"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2"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5"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6"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7"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60"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2"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4"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1"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4"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5"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8"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80"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1"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2"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3"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4"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5"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6"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9"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4"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7"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8"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9"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1"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3"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4"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2"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8"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9"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6"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5"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7"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9"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3"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5"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7"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Admin</cp:lastModifiedBy>
  <dcterms:modified xsi:type="dcterms:W3CDTF">2012-05-25T11:09:26Z</dcterms:modified>
  <cp:revision>12</cp:revision>
  <dc:subject/>
  <dc:title>Первая  Медицинская Помощь</dc:title>
</cp:coreProperties>
</file>