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1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5.wmf" ContentType="image/x-wmf"/>
  <Override PartName="/ppt/media/image12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34F-B610-4F94-BE76-68C1F236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670-C7F1-490A-817E-730CAEC8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ED1-355E-42C7-BFBC-20717E33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06F-6E7B-4FB0-A113-E2766A6B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A11-6375-47DE-9462-03317C96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02C5-8F65-4886-97B1-AE390680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3E93-703D-4384-A5CA-F173F925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00C-3869-4A30-892C-50B8F6F2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FBA9-D8AC-41A9-832F-24EA516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6C4-E590-4475-98AD-340E9209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8C68-DDFF-4BF1-9825-E3BCBE1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732-092F-479E-AC5B-A36ECC9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8DAE-1488-4F61-8B1B-5B0F87C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363E-FF97-4E2C-BAD5-07B1001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E243-9977-453B-8905-1795446B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F316-2683-4A5D-B37C-B8CA5BB3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E5B3-F3FB-429F-AA03-8F1A098D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D68-7CA3-4F37-9F6A-FA9B82EC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F62-B3F8-4B90-804C-304558C9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D5E-9FC0-453C-909D-D25085F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944-8B4E-4009-8CF9-FCB1AD97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271-8EAC-4672-8CBD-5C37BB46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3A2-B11D-456A-895A-DA93647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DC7-2745-4AD3-87D4-BDDF125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AA7-67C5-4A92-BF1E-C564ADD38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j0436915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3"/>
          <p:cNvSpPr/>
          <p:nvPr/>
        </p:nvSpPr>
        <p:spPr>
          <a:xfrm flipH="1">
            <a:off x="-720" y="0"/>
            <a:ext cx="2438280" cy="6858000"/>
          </a:xfrm>
          <a:custGeom>
            <a:avLst/>
            <a:gdLst>
              <a:gd name="textAreaLeft" fmla="*/ -360 w 2438280"/>
              <a:gd name="textAreaRight" fmla="*/ 2438280 w 2438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j0438737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Rectangle 12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65R1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D4E-B6DA-411A-822F-588AA6A6C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Урок по окружающему миру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3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95680" y="30477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429000" y="160020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Тема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2971800" y="365760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ченко Ольг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ляева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97180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редняя 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людей       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90 лет 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70 лет =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50 лет =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ые результаты  с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: 30                            Всего:2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:К.л                      2100:30=7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множение 3"/>
          <p:cNvSpPr/>
          <p:nvPr/>
        </p:nvSpPr>
        <p:spPr>
          <a:xfrm>
            <a:off x="4724280" y="1600200"/>
            <a:ext cx="457200" cy="609480"/>
          </a:xfrm>
          <a:custGeom>
            <a:avLst/>
            <a:gdLst>
              <a:gd name="textAreaLeft" fmla="*/ 66600 w 457200"/>
              <a:gd name="textAreaRight" fmla="*/ 390600 w 45720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457200" h="609600">
                <a:moveTo>
                  <a:pt x="66795" y="178671"/>
                </a:moveTo>
                <a:lnTo>
                  <a:pt x="152821" y="114151"/>
                </a:lnTo>
                <a:lnTo>
                  <a:pt x="228600" y="215189"/>
                </a:lnTo>
                <a:lnTo>
                  <a:pt x="304379" y="114151"/>
                </a:lnTo>
                <a:lnTo>
                  <a:pt x="390405" y="178671"/>
                </a:lnTo>
                <a:lnTo>
                  <a:pt x="295808" y="304800"/>
                </a:lnTo>
                <a:lnTo>
                  <a:pt x="390405" y="430929"/>
                </a:lnTo>
                <a:lnTo>
                  <a:pt x="304379" y="495449"/>
                </a:lnTo>
                <a:lnTo>
                  <a:pt x="228600" y="394411"/>
                </a:lnTo>
                <a:lnTo>
                  <a:pt x="152821" y="495449"/>
                </a:lnTo>
                <a:lnTo>
                  <a:pt x="66795" y="430929"/>
                </a:lnTo>
                <a:lnTo>
                  <a:pt x="161392" y="304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витие нау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ый- физ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Петрович Пав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создателем учения о высшей нервной деятельности животных и человека. Десятки лет занимался изучением сердца и кровеносных сосудов, затем стал изучать процессы пищеварения. В 1904 году присуждена Нобелевская премия за вклад в медиц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:\Users\Покаляева И П\Desktop\img.jpg"/>
          <p:cNvPicPr/>
          <p:nvPr/>
        </p:nvPicPr>
        <p:blipFill>
          <a:blip r:embed="rId1"/>
          <a:stretch/>
        </p:blipFill>
        <p:spPr>
          <a:xfrm>
            <a:off x="762120" y="1600200"/>
            <a:ext cx="33526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52" name="Выноска-облако 6"/>
          <p:cNvSpPr/>
          <p:nvPr/>
        </p:nvSpPr>
        <p:spPr>
          <a:xfrm>
            <a:off x="228600" y="228600"/>
            <a:ext cx="5562720" cy="3886200"/>
          </a:xfrm>
          <a:prstGeom prst="cloudCallout">
            <a:avLst>
              <a:gd name="adj1" fmla="val -32851"/>
              <a:gd name="adj2" fmla="val 60513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523880" y="4572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то такой физиоло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685800" y="129528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изио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ный, занимающийся изучением строения и работой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RCTR068"/>
          <p:cNvPicPr/>
          <p:nvPr/>
        </p:nvPicPr>
        <p:blipFill>
          <a:blip r:embed="rId2"/>
          <a:stretch/>
        </p:blipFill>
        <p:spPr>
          <a:xfrm>
            <a:off x="5562720" y="0"/>
            <a:ext cx="2666880" cy="2709720"/>
          </a:xfrm>
          <a:prstGeom prst="rect">
            <a:avLst/>
          </a:prstGeom>
          <a:ln w="0">
            <a:noFill/>
          </a:ln>
        </p:spPr>
      </p:pic>
      <p:sp>
        <p:nvSpPr>
          <p:cNvPr id="156" name="Скругленная прямоугольная выноска 12"/>
          <p:cNvSpPr/>
          <p:nvPr/>
        </p:nvSpPr>
        <p:spPr>
          <a:xfrm>
            <a:off x="4495680" y="2743200"/>
            <a:ext cx="4648320" cy="3200400"/>
          </a:xfrm>
          <a:prstGeom prst="wedgeRoundRectCallout">
            <a:avLst>
              <a:gd name="adj1" fmla="val -3226"/>
              <a:gd name="adj2" fmla="val -8599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5410080" y="2971800"/>
            <a:ext cx="236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4800600" y="2819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Что изу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5181480" y="3581280"/>
            <a:ext cx="34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876920" y="373392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4495680" y="3505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натом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тел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изи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Горизонтальный свиток 18"/>
          <p:cNvSpPr/>
          <p:nvPr/>
        </p:nvSpPr>
        <p:spPr>
          <a:xfrm>
            <a:off x="4876920" y="380988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Горизонтальный свиток 19"/>
          <p:cNvSpPr/>
          <p:nvPr/>
        </p:nvSpPr>
        <p:spPr>
          <a:xfrm>
            <a:off x="4572000" y="4952880"/>
            <a:ext cx="4343400" cy="9144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Горизонтальный свиток 15"/>
          <p:cNvSpPr/>
          <p:nvPr/>
        </p:nvSpPr>
        <p:spPr>
          <a:xfrm>
            <a:off x="533520" y="1523880"/>
            <a:ext cx="4724280" cy="228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нешне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ловище ( грудь, живот, сп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хние и нижние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:\Anim_gif_park\Anim_gif_park\Мужчины\4\peo-man_muscle.gif"/>
          <p:cNvPicPr/>
          <p:nvPr/>
        </p:nvPicPr>
        <p:blipFill>
          <a:blip r:embed="rId1"/>
          <a:stretch/>
        </p:blipFill>
        <p:spPr>
          <a:xfrm>
            <a:off x="4143240" y="1752480"/>
            <a:ext cx="3629160" cy="487692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10"/>
          <p:cNvCxnSpPr/>
          <p:nvPr/>
        </p:nvCxnSpPr>
        <p:spPr>
          <a:xfrm flipV="1">
            <a:off x="1828440" y="2057040"/>
            <a:ext cx="3886920" cy="381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71" name="Прямая со стрелкой 12"/>
          <p:cNvCxnSpPr/>
          <p:nvPr/>
        </p:nvCxnSpPr>
        <p:spPr>
          <a:xfrm flipV="1">
            <a:off x="1218960" y="2513880"/>
            <a:ext cx="46486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14"/>
          <p:cNvCxnSpPr/>
          <p:nvPr/>
        </p:nvCxnSpPr>
        <p:spPr>
          <a:xfrm flipV="1">
            <a:off x="3733560" y="3580920"/>
            <a:ext cx="1905480" cy="1533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73" name="Прямая со стрелкой 16"/>
          <p:cNvCxnSpPr/>
          <p:nvPr/>
        </p:nvCxnSpPr>
        <p:spPr>
          <a:xfrm flipV="1">
            <a:off x="990360" y="2819160"/>
            <a:ext cx="3810600" cy="175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>
            <a:off x="3733560" y="4724280"/>
            <a:ext cx="160092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RCTR027"/>
          <p:cNvPicPr/>
          <p:nvPr/>
        </p:nvPicPr>
        <p:blipFill>
          <a:blip r:embed="rId1"/>
          <a:stretch/>
        </p:blipFill>
        <p:spPr>
          <a:xfrm>
            <a:off x="0" y="2743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Выноска-облако 2"/>
          <p:cNvSpPr/>
          <p:nvPr/>
        </p:nvSpPr>
        <p:spPr>
          <a:xfrm>
            <a:off x="2057400" y="0"/>
            <a:ext cx="7086600" cy="6477120"/>
          </a:xfrm>
          <a:prstGeom prst="cloudCallout">
            <a:avLst>
              <a:gd name="adj1" fmla="val -62689"/>
              <a:gd name="adj2" fmla="val 1133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962520" y="76212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26708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 « У  дядюшки Абра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048120" y="91440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 дядюшки Абрама сорок сыновей и сорок дочерей. Они не ели и не пили все на дядюшку смотр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н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нога.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уло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рганы мы заставили сейчас работ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rcRect l="27936" t="38653" r="36787" b="30437"/>
          <a:stretch/>
        </p:blipFill>
        <p:spPr>
          <a:xfrm>
            <a:off x="5410080" y="3733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9907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нутрен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752480" y="1600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838080" y="2550960"/>
            <a:ext cx="601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D:\Anim_gif_park\Anim_gif_park\Сердце\3\heart01.gif"/>
          <p:cNvPicPr/>
          <p:nvPr/>
        </p:nvPicPr>
        <p:blipFill>
          <a:blip r:embed="rId2"/>
          <a:stretch/>
        </p:blipFill>
        <p:spPr>
          <a:xfrm>
            <a:off x="3733920" y="2743200"/>
            <a:ext cx="1374480" cy="153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rcRect l="29702" t="68029" r="38553" b="0"/>
          <a:stretch/>
        </p:blipFill>
        <p:spPr>
          <a:xfrm>
            <a:off x="3276720" y="4495680"/>
            <a:ext cx="1371600" cy="1576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4"/>
          <a:srcRect l="24065" t="41456" r="27778" b="0"/>
          <a:stretch/>
        </p:blipFill>
        <p:spPr>
          <a:xfrm>
            <a:off x="6781680" y="1676520"/>
            <a:ext cx="1297080" cy="1612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9" descr=""/>
          <p:cNvPicPr/>
          <p:nvPr/>
        </p:nvPicPr>
        <p:blipFill>
          <a:blip r:embed="rId5"/>
          <a:srcRect l="30005" t="0" r="42509" b="82997"/>
          <a:stretch/>
        </p:blipFill>
        <p:spPr>
          <a:xfrm>
            <a:off x="5105520" y="1523880"/>
            <a:ext cx="1447560" cy="1344600"/>
          </a:xfrm>
          <a:prstGeom prst="rect">
            <a:avLst/>
          </a:prstGeom>
          <a:ln w="0">
            <a:noFill/>
          </a:ln>
        </p:spPr>
      </p:pic>
      <p:cxnSp>
        <p:nvCxnSpPr>
          <p:cNvPr id="188" name="Прямая со стрелкой 10"/>
          <p:cNvCxnSpPr/>
          <p:nvPr/>
        </p:nvCxnSpPr>
        <p:spPr>
          <a:xfrm flipV="1">
            <a:off x="2133720" y="1980360"/>
            <a:ext cx="36583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12"/>
          <p:cNvCxnSpPr/>
          <p:nvPr/>
        </p:nvCxnSpPr>
        <p:spPr>
          <a:xfrm flipV="1">
            <a:off x="2286000" y="2514240"/>
            <a:ext cx="46490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4"/>
          <p:cNvCxnSpPr/>
          <p:nvPr/>
        </p:nvCxnSpPr>
        <p:spPr>
          <a:xfrm flipV="1">
            <a:off x="2362320" y="3733200"/>
            <a:ext cx="16768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Прямая со стрелкой 16"/>
          <p:cNvCxnSpPr/>
          <p:nvPr/>
        </p:nvCxnSpPr>
        <p:spPr>
          <a:xfrm>
            <a:off x="2286000" y="4343400"/>
            <a:ext cx="32774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18"/>
          <p:cNvCxnSpPr/>
          <p:nvPr/>
        </p:nvCxnSpPr>
        <p:spPr>
          <a:xfrm flipV="1">
            <a:off x="2590560" y="4723920"/>
            <a:ext cx="426780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Прямая со стрелкой 20"/>
          <p:cNvCxnSpPr/>
          <p:nvPr/>
        </p:nvCxnSpPr>
        <p:spPr>
          <a:xfrm flipV="1">
            <a:off x="2819520" y="5257800"/>
            <a:ext cx="7624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Как устроен организм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организм состоит из органов. Группу органов, связанных друг с другом и совместно выполняющих общую задачу в организме, называют системой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щеваритель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Опорно – двигатель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дых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ищевари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4356000" y="1523880"/>
            <a:ext cx="4319640" cy="4929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ереваривание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1"/>
          <p:cNvSpPr/>
          <p:nvPr/>
        </p:nvSpPr>
        <p:spPr>
          <a:xfrm>
            <a:off x="2590920" y="19224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ровенос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2"/>
          <p:cNvSpPr/>
          <p:nvPr/>
        </p:nvSpPr>
        <p:spPr>
          <a:xfrm>
            <a:off x="5029200" y="2514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движение крови в организме- кровооб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9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047760" cy="4032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17524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рв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029200" y="3105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вная система упр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орган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8381880" cy="6097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комство учащихся с общим строением организм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Задач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наблюдать, сравнивать, делать выводы; учить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щ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интеллектуальные и творческие способности детей, познавательный интерес к изучению предм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спит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потребность ведения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5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447920" y="228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9528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чувств помог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у ориент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3940200" cy="489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791320" y="19051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о-двигате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скелета и мыш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создает организму оп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зволяет ему двиг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0666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порно – двига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166920" cy="324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095640" cy="3168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8"/>
          <p:cNvSpPr/>
          <p:nvPr/>
        </p:nvSpPr>
        <p:spPr>
          <a:xfrm>
            <a:off x="60948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дых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480060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вы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685800" y="49528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дыхания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кислородом и выв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кислый г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5105520" y="51055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выделения выводя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а воду и вред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57200" y="1397160"/>
          <a:ext cx="8305920" cy="4851360"/>
        </p:xfrm>
        <a:graphic>
          <a:graphicData uri="http://schemas.openxmlformats.org/drawingml/2006/table">
            <a:tbl>
              <a:tblPr/>
              <a:tblGrid>
                <a:gridCol w="2895480"/>
                <a:gridCol w="2641680"/>
                <a:gridCol w="2768760"/>
              </a:tblGrid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каких органов  состо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ую  работу  выполня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ищевар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ик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переваривание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ровено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ые сосу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движение крови в органи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р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деятельностью всего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19" name="TextBox 2"/>
          <p:cNvSpPr/>
          <p:nvPr/>
        </p:nvSpPr>
        <p:spPr>
          <a:xfrm>
            <a:off x="19810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ИСТЕМЫ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Горизонтальный свиток 3"/>
          <p:cNvSpPr/>
          <p:nvPr/>
        </p:nvSpPr>
        <p:spPr>
          <a:xfrm>
            <a:off x="3352680" y="3048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Горизонтальный свиток 4"/>
          <p:cNvSpPr/>
          <p:nvPr/>
        </p:nvSpPr>
        <p:spPr>
          <a:xfrm>
            <a:off x="6019920" y="3048120"/>
            <a:ext cx="236196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Горизонтальный свиток 5"/>
          <p:cNvSpPr/>
          <p:nvPr/>
        </p:nvSpPr>
        <p:spPr>
          <a:xfrm>
            <a:off x="3352680" y="4114800"/>
            <a:ext cx="243864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Горизонтальный свиток 6"/>
          <p:cNvSpPr/>
          <p:nvPr/>
        </p:nvSpPr>
        <p:spPr>
          <a:xfrm>
            <a:off x="6095880" y="4191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Горизонтальный свиток 7"/>
          <p:cNvSpPr/>
          <p:nvPr/>
        </p:nvSpPr>
        <p:spPr>
          <a:xfrm>
            <a:off x="3124080" y="5105520"/>
            <a:ext cx="2514600" cy="1218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Горизонтальный свиток 8"/>
          <p:cNvSpPr/>
          <p:nvPr/>
        </p:nvSpPr>
        <p:spPr>
          <a:xfrm>
            <a:off x="6019920" y="5181480"/>
            <a:ext cx="2514600" cy="1067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27" name="Выноска-облако 2"/>
          <p:cNvSpPr/>
          <p:nvPr/>
        </p:nvSpPr>
        <p:spPr>
          <a:xfrm>
            <a:off x="457200" y="0"/>
            <a:ext cx="4572000" cy="3505320"/>
          </a:xfrm>
          <a:prstGeom prst="cloudCallout">
            <a:avLst>
              <a:gd name="adj1" fmla="val -26509"/>
              <a:gd name="adj2" fmla="val 82768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1371600" y="53352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рганизм человека состоит из органов. А из чего состоят сами орг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CRCTR068"/>
          <p:cNvPicPr/>
          <p:nvPr/>
        </p:nvPicPr>
        <p:blipFill>
          <a:blip r:embed="rId2"/>
          <a:stretch/>
        </p:blipFill>
        <p:spPr>
          <a:xfrm>
            <a:off x="5638680" y="0"/>
            <a:ext cx="2667240" cy="270972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ая прямоугольная выноска 5"/>
          <p:cNvSpPr/>
          <p:nvPr/>
        </p:nvSpPr>
        <p:spPr>
          <a:xfrm>
            <a:off x="4191120" y="2819520"/>
            <a:ext cx="4800600" cy="2895480"/>
          </a:xfrm>
          <a:prstGeom prst="wedgeRoundRectCallout">
            <a:avLst>
              <a:gd name="adj1" fmla="val -3504"/>
              <a:gd name="adj2" fmla="val -9198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419720" y="3200400"/>
            <a:ext cx="4724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- мельчайшая живая част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леточка -живой орган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ЛЕТКА -  маленький за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ирает кислород, выделяет углекисл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аивает питательные вещества, выбрасывает от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т себе подобны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676520" y="380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машнее 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295280" y="1981080"/>
            <a:ext cx="838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38" name="Выноска-облако 5"/>
          <p:cNvSpPr/>
          <p:nvPr/>
        </p:nvSpPr>
        <p:spPr>
          <a:xfrm>
            <a:off x="1447920" y="1371600"/>
            <a:ext cx="5943600" cy="3124080"/>
          </a:xfrm>
          <a:prstGeom prst="cloudCallout">
            <a:avLst>
              <a:gd name="adj1" fmla="val -52402"/>
              <a:gd name="adj2" fmla="val 5804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209680" y="1828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ляни в учебник стр. 130. Ответь на вопросы рубрики « Проверь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057400" y="2590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е получится, загляни на стр.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RCTR068"/>
          <p:cNvPicPr/>
          <p:nvPr/>
        </p:nvPicPr>
        <p:blipFill>
          <a:blip r:embed="rId2"/>
          <a:stretch/>
        </p:blipFill>
        <p:spPr>
          <a:xfrm>
            <a:off x="6781680" y="3962520"/>
            <a:ext cx="2362320" cy="270972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ая прямоугольная выноска 9"/>
          <p:cNvSpPr/>
          <p:nvPr/>
        </p:nvSpPr>
        <p:spPr>
          <a:xfrm>
            <a:off x="2895480" y="4419720"/>
            <a:ext cx="3962520" cy="1981080"/>
          </a:xfrm>
          <a:prstGeom prst="wedgeRoundRectCallout">
            <a:avLst>
              <a:gd name="adj1" fmla="val 69287"/>
              <a:gd name="adj2" fmla="val 4064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3352680" y="4800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выполни задание 3 на стр. 58 в рабочей тет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276720" y="54100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удь посмотреть, что тебя ожидает на следующем уроке- стр. 131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981080" y="297180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активным предлагаю найти пословицы о здоровье и записать их в тетр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рта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D:\Anim_gif_park\Anim_gif_park\Смайлики\4\bur2.gif"/>
          <p:cNvPicPr/>
          <p:nvPr/>
        </p:nvPicPr>
        <p:blipFill>
          <a:blip r:embed="rId1"/>
          <a:stretch/>
        </p:blipFill>
        <p:spPr>
          <a:xfrm>
            <a:off x="2666880" y="4876920"/>
            <a:ext cx="311796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1676520" y="3505320"/>
            <a:ext cx="1981080" cy="114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Anim_gif_park\Anim_gif_park\Смайлики\4\hb.gif"/>
          <p:cNvPicPr/>
          <p:nvPr/>
        </p:nvPicPr>
        <p:blipFill>
          <a:blip r:embed="rId3"/>
          <a:stretch/>
        </p:blipFill>
        <p:spPr>
          <a:xfrm>
            <a:off x="-152280" y="10666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057400" y="167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. Было интересно. Не заметили, как закончился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73392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 и интересного, но немного у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80060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нравилось. Ск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21932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какой темой мы сегодня рабо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2193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втор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2193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знали новень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1219320" y="2743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орган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21932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 можно назвать системой орга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12193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стемы органов вы запомн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590920" y="304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тог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1219320" y="3124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еш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1219320" y="3581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утрен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219320" y="4952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органов состоит пищеварительная система? Кровеносная система? Нерв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895480" y="304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амооц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D:\Anim_gif_park\Anim_gif_park\Смайлики\4\gy.gif"/>
          <p:cNvPicPr/>
          <p:nvPr/>
        </p:nvPicPr>
        <p:blipFill>
          <a:blip r:embed="rId1"/>
          <a:stretch/>
        </p:blipFill>
        <p:spPr>
          <a:xfrm>
            <a:off x="380880" y="17524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380880" y="33526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D:\Anim_gif_park\Anim_gif_park\Смайлики\4\gy.gif"/>
          <p:cNvPicPr/>
          <p:nvPr/>
        </p:nvPicPr>
        <p:blipFill>
          <a:blip r:embed="rId3"/>
          <a:stretch/>
        </p:blipFill>
        <p:spPr>
          <a:xfrm>
            <a:off x="533520" y="4952880"/>
            <a:ext cx="1981080" cy="11480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2209680" y="1828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5 и более - Молодц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2133720" y="3352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4  -  Не плох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286000" y="4952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3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поработайте дома и ответьте на 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RCTR027"/>
          <p:cNvPicPr/>
          <p:nvPr/>
        </p:nvPicPr>
        <p:blipFill>
          <a:blip r:embed="rId1"/>
          <a:stretch/>
        </p:blipFill>
        <p:spPr>
          <a:xfrm>
            <a:off x="838080" y="35053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2"/>
          <p:cNvSpPr/>
          <p:nvPr/>
        </p:nvSpPr>
        <p:spPr>
          <a:xfrm>
            <a:off x="1143000" y="0"/>
            <a:ext cx="8001000" cy="4114800"/>
          </a:xfrm>
          <a:prstGeom prst="cloudCallout">
            <a:avLst>
              <a:gd name="adj1" fmla="val -37254"/>
              <a:gd name="adj2" fmla="val 4872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362320" y="38088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-ка, юный мой д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ы готов начать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се в порядке на 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сть порядок в гол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тобы иметь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надобятся терпенье и стар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помогать  мне сегодня 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Тишка и его друг - кот Ва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RCTR068"/>
          <p:cNvPicPr/>
          <p:nvPr/>
        </p:nvPicPr>
        <p:blipFill>
          <a:blip r:embed="rId2"/>
          <a:stretch/>
        </p:blipFill>
        <p:spPr>
          <a:xfrm>
            <a:off x="5694480" y="3352680"/>
            <a:ext cx="306864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RCTR027"/>
          <p:cNvPicPr/>
          <p:nvPr/>
        </p:nvPicPr>
        <p:blipFill>
          <a:blip r:embed="rId1"/>
          <a:stretch/>
        </p:blipFill>
        <p:spPr>
          <a:xfrm>
            <a:off x="228600" y="3657600"/>
            <a:ext cx="1523880" cy="2257560"/>
          </a:xfrm>
          <a:prstGeom prst="rect">
            <a:avLst/>
          </a:prstGeom>
          <a:ln w="0">
            <a:noFill/>
          </a:ln>
        </p:spPr>
      </p:pic>
      <p:sp>
        <p:nvSpPr>
          <p:cNvPr id="271" name="Выноска-облако 2"/>
          <p:cNvSpPr/>
          <p:nvPr/>
        </p:nvSpPr>
        <p:spPr>
          <a:xfrm>
            <a:off x="762120" y="1523880"/>
            <a:ext cx="5257800" cy="2210040"/>
          </a:xfrm>
          <a:prstGeom prst="cloudCallout">
            <a:avLst>
              <a:gd name="adj1" fmla="val -31361"/>
              <a:gd name="adj2" fmla="val 6723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2952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спасибо за раб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и добрый см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CRCTR068"/>
          <p:cNvPicPr/>
          <p:nvPr/>
        </p:nvPicPr>
        <p:blipFill>
          <a:blip r:embed="rId2"/>
          <a:stretch/>
        </p:blipFill>
        <p:spPr>
          <a:xfrm>
            <a:off x="6781680" y="4114800"/>
            <a:ext cx="2133720" cy="255744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ая прямоугольная выноска 5"/>
          <p:cNvSpPr/>
          <p:nvPr/>
        </p:nvSpPr>
        <p:spPr>
          <a:xfrm>
            <a:off x="2743200" y="4343400"/>
            <a:ext cx="4191120" cy="1905120"/>
          </a:xfrm>
          <a:prstGeom prst="wedgeRoundRectCallout">
            <a:avLst>
              <a:gd name="adj1" fmla="val 59254"/>
              <a:gd name="adj2" fmla="val 1210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7180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на следующих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сопутству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8380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ам, ребята, большое спасибо за активную, плодотворн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им помощникам Тишке и Васе тоже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200400" y="685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990720" y="17524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лешаков А.А.Школа России. Концепция и программы  для начальных классов ч.1.-М,: Просвещение ,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990720" y="2590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Плешаков А.А., Учебник « Окружающий мир» для 3 класса начальной школы в двух частях. Часть 1. - М,: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990720" y="3505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лешаков А.А., Рабочая тетрадь для 3 класса начальной школы в двух частях. Часть 1.- М,: 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990720" y="4343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лешаков А.А. , Поурочные разработки по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Окружающий мир» к учебному комплекту М., « Экзамен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066680" y="5105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ульневич С.В. Анализ  современного урока.- Ростов н /Д,: Учитель,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106668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епанов Е.Н. Личностно-ориентированный  подход  в  педагогической  деятельности.- М,: ТЦ Сфера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RCTR027"/>
          <p:cNvPicPr/>
          <p:nvPr/>
        </p:nvPicPr>
        <p:blipFill>
          <a:blip r:embed="rId1"/>
          <a:stretch/>
        </p:blipFill>
        <p:spPr>
          <a:xfrm>
            <a:off x="6934320" y="3581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5" name="Выноска-облако 2"/>
          <p:cNvSpPr/>
          <p:nvPr/>
        </p:nvSpPr>
        <p:spPr>
          <a:xfrm>
            <a:off x="457200" y="0"/>
            <a:ext cx="7543800" cy="3581280"/>
          </a:xfrm>
          <a:prstGeom prst="cloudCallout">
            <a:avLst>
              <a:gd name="adj1" fmla="val 36768"/>
              <a:gd name="adj2" fmla="val 6960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5800" y="10666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 земле он всех умней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тому и всех сильн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Anim_gif_park\Anim_gif_park\Женщины\4\w_1.gif"/>
          <p:cNvPicPr/>
          <p:nvPr/>
        </p:nvPicPr>
        <p:blipFill>
          <a:blip r:embed="rId2"/>
          <a:stretch/>
        </p:blipFill>
        <p:spPr>
          <a:xfrm>
            <a:off x="1295280" y="36194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6-конечная звезда 5"/>
          <p:cNvSpPr/>
          <p:nvPr/>
        </p:nvSpPr>
        <p:spPr>
          <a:xfrm>
            <a:off x="0" y="3352680"/>
            <a:ext cx="5486400" cy="3505320"/>
          </a:xfrm>
          <a:custGeom>
            <a:avLst/>
            <a:gdLst>
              <a:gd name="textAreaLeft" fmla="*/ 914400 w 5486400"/>
              <a:gd name="textAreaRight" fmla="*/ 4572000 w 5486400"/>
              <a:gd name="textAreaTop" fmla="*/ 876240 h 3505320"/>
              <a:gd name="textAreaBottom" fmla="*/ 2629080 h 3505320"/>
            </a:gdLst>
            <a:ahLst/>
            <a:rect l="textAreaLeft" t="textAreaTop" r="textAreaRight" b="textAreaBottom"/>
            <a:pathLst>
              <a:path w="5486400" h="3505200">
                <a:moveTo>
                  <a:pt x="2" y="876300"/>
                </a:moveTo>
                <a:lnTo>
                  <a:pt x="1828785" y="876285"/>
                </a:lnTo>
                <a:lnTo>
                  <a:pt x="2743200" y="0"/>
                </a:lnTo>
                <a:lnTo>
                  <a:pt x="3657615" y="876285"/>
                </a:lnTo>
                <a:lnTo>
                  <a:pt x="5486398" y="876300"/>
                </a:lnTo>
                <a:lnTo>
                  <a:pt x="4572030" y="1752600"/>
                </a:lnTo>
                <a:lnTo>
                  <a:pt x="5486398" y="2628900"/>
                </a:lnTo>
                <a:lnTo>
                  <a:pt x="3657615" y="2628915"/>
                </a:lnTo>
                <a:lnTo>
                  <a:pt x="2743200" y="3505200"/>
                </a:lnTo>
                <a:lnTo>
                  <a:pt x="1828785" y="2628915"/>
                </a:lnTo>
                <a:lnTo>
                  <a:pt x="2" y="2628900"/>
                </a:lnTo>
                <a:lnTo>
                  <a:pt x="914370" y="1752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30240"/>
            <a:ext cx="84852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RCTR027"/>
          <p:cNvPicPr/>
          <p:nvPr/>
        </p:nvPicPr>
        <p:blipFill>
          <a:blip r:embed="rId2"/>
          <a:stretch/>
        </p:blipFill>
        <p:spPr>
          <a:xfrm>
            <a:off x="304920" y="3429000"/>
            <a:ext cx="1676160" cy="2708280"/>
          </a:xfrm>
          <a:prstGeom prst="rect">
            <a:avLst/>
          </a:prstGeom>
          <a:ln w="0">
            <a:noFill/>
          </a:ln>
        </p:spPr>
      </p:pic>
      <p:sp>
        <p:nvSpPr>
          <p:cNvPr id="111" name="Выноска-облако 4"/>
          <p:cNvSpPr/>
          <p:nvPr/>
        </p:nvSpPr>
        <p:spPr>
          <a:xfrm>
            <a:off x="1219320" y="1295280"/>
            <a:ext cx="4647960" cy="2743200"/>
          </a:xfrm>
          <a:prstGeom prst="cloudCallout">
            <a:avLst>
              <a:gd name="adj1" fmla="val -38666"/>
              <a:gd name="adj2" fmla="val 6461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Этот раздел учебника познакомит вас с т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как устроен и работает организм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что нужно и чего нельзя делать для того, чтобы быть здор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RCTR068"/>
          <p:cNvPicPr/>
          <p:nvPr/>
        </p:nvPicPr>
        <p:blipFill>
          <a:blip r:embed="rId3"/>
          <a:stretch/>
        </p:blipFill>
        <p:spPr>
          <a:xfrm>
            <a:off x="6934320" y="3809880"/>
            <a:ext cx="22096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ая прямоугольная выноска 7"/>
          <p:cNvSpPr/>
          <p:nvPr/>
        </p:nvSpPr>
        <p:spPr>
          <a:xfrm>
            <a:off x="3200400" y="3886200"/>
            <a:ext cx="4038480" cy="2514600"/>
          </a:xfrm>
          <a:prstGeom prst="wedgeRoundRectCallout">
            <a:avLst>
              <a:gd name="adj1" fmla="val 60388"/>
              <a:gd name="adj2" fmla="val 9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ая защита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 тела и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 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хание и кровообра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 предупреждать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RCTR068"/>
          <p:cNvPicPr/>
          <p:nvPr/>
        </p:nvPicPr>
        <p:blipFill>
          <a:blip r:embed="rId1"/>
          <a:stretch/>
        </p:blipFill>
        <p:spPr>
          <a:xfrm>
            <a:off x="5486400" y="0"/>
            <a:ext cx="3068640" cy="311796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ая прямоугольная выноска 2"/>
          <p:cNvSpPr/>
          <p:nvPr/>
        </p:nvSpPr>
        <p:spPr>
          <a:xfrm>
            <a:off x="990720" y="152280"/>
            <a:ext cx="4495680" cy="2590920"/>
          </a:xfrm>
          <a:prstGeom prst="wedgeRoundRectCallout">
            <a:avLst>
              <a:gd name="adj1" fmla="val 72675"/>
              <a:gd name="adj2" fmla="val 13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- часть жив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90720" y="838080"/>
            <a:ext cx="289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914400" y="685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ловек- часть живой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ажите э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RCTR027"/>
          <p:cNvPicPr/>
          <p:nvPr/>
        </p:nvPicPr>
        <p:blipFill>
          <a:blip r:embed="rId2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Выноска-облако 9"/>
          <p:cNvSpPr/>
          <p:nvPr/>
        </p:nvSpPr>
        <p:spPr>
          <a:xfrm>
            <a:off x="2819520" y="2971800"/>
            <a:ext cx="6324480" cy="3352680"/>
          </a:xfrm>
          <a:prstGeom prst="cloudCallout">
            <a:avLst>
              <a:gd name="adj1" fmla="val -70814"/>
              <a:gd name="adj2" fmla="val 14689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276720" y="35053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как и любой живой орг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нож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286000" y="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ходство: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асс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RCTR027"/>
          <p:cNvPicPr/>
          <p:nvPr/>
        </p:nvPicPr>
        <p:blipFill>
          <a:blip r:embed="rId1"/>
          <a:stretch/>
        </p:blipFill>
        <p:spPr>
          <a:xfrm>
            <a:off x="609480" y="38098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11430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4"/>
          <p:cNvSpPr/>
          <p:nvPr/>
        </p:nvSpPr>
        <p:spPr>
          <a:xfrm>
            <a:off x="0" y="1295280"/>
            <a:ext cx="5029200" cy="2514600"/>
          </a:xfrm>
          <a:prstGeom prst="cloudCallout">
            <a:avLst>
              <a:gd name="adj1" fmla="val -31819"/>
              <a:gd name="adj2" fmla="val 6567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371600" y="1905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5562720" y="3505320"/>
            <a:ext cx="3068640" cy="31176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ая прямоугольная выноска 10"/>
          <p:cNvSpPr/>
          <p:nvPr/>
        </p:nvSpPr>
        <p:spPr>
          <a:xfrm>
            <a:off x="5562720" y="990720"/>
            <a:ext cx="3276360" cy="2438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94360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990720" y="2438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5943600" y="19051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-конечная звезда 14"/>
          <p:cNvSpPr/>
          <p:nvPr/>
        </p:nvSpPr>
        <p:spPr>
          <a:xfrm>
            <a:off x="-152280" y="1371600"/>
            <a:ext cx="4724280" cy="2286000"/>
          </a:xfrm>
          <a:custGeom>
            <a:avLst/>
            <a:gdLst>
              <a:gd name="textAreaLeft" fmla="*/ 1051200 w 4724280"/>
              <a:gd name="textAreaRight" fmla="*/ 3673080 w 4724280"/>
              <a:gd name="textAreaTop" fmla="*/ 452520 h 2286000"/>
              <a:gd name="textAreaBottom" fmla="*/ 1721520 h 2286000"/>
            </a:gdLst>
            <a:ahLst/>
            <a:rect l="textAreaLeft" t="textAreaTop" r="textAreaRight" b="textAreaBottom"/>
            <a:pathLst>
              <a:path w="4724400" h="2286000">
                <a:moveTo>
                  <a:pt x="-12" y="1470142"/>
                </a:moveTo>
                <a:lnTo>
                  <a:pt x="727502" y="1017372"/>
                </a:lnTo>
                <a:lnTo>
                  <a:pt x="467860" y="452772"/>
                </a:lnTo>
                <a:lnTo>
                  <a:pt x="1634699" y="452773"/>
                </a:lnTo>
                <a:lnTo>
                  <a:pt x="2362200" y="0"/>
                </a:lnTo>
                <a:lnTo>
                  <a:pt x="3089701" y="452773"/>
                </a:lnTo>
                <a:lnTo>
                  <a:pt x="4256540" y="452772"/>
                </a:lnTo>
                <a:lnTo>
                  <a:pt x="3996898" y="1017372"/>
                </a:lnTo>
                <a:lnTo>
                  <a:pt x="4724412" y="1470142"/>
                </a:lnTo>
                <a:lnTo>
                  <a:pt x="3673121" y="1721412"/>
                </a:lnTo>
                <a:lnTo>
                  <a:pt x="3413472" y="2286012"/>
                </a:lnTo>
                <a:lnTo>
                  <a:pt x="2362200" y="2034739"/>
                </a:lnTo>
                <a:lnTo>
                  <a:pt x="1310928" y="2286012"/>
                </a:lnTo>
                <a:lnTo>
                  <a:pt x="1051279" y="172141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-конечная звезда 15"/>
          <p:cNvSpPr/>
          <p:nvPr/>
        </p:nvSpPr>
        <p:spPr>
          <a:xfrm>
            <a:off x="4724280" y="914400"/>
            <a:ext cx="4419720" cy="2438280"/>
          </a:xfrm>
          <a:custGeom>
            <a:avLst/>
            <a:gdLst>
              <a:gd name="textAreaLeft" fmla="*/ 983520 w 4419720"/>
              <a:gd name="textAreaRight" fmla="*/ 3436200 w 4419720"/>
              <a:gd name="textAreaTop" fmla="*/ 482760 h 2438280"/>
              <a:gd name="textAreaBottom" fmla="*/ 1836000 h 2438280"/>
            </a:gdLst>
            <a:ahLst/>
            <a:rect l="textAreaLeft" t="textAreaTop" r="textAreaRight" b="textAreaBottom"/>
            <a:pathLst>
              <a:path w="4419600" h="2438400">
                <a:moveTo>
                  <a:pt x="-11" y="1568151"/>
                </a:moveTo>
                <a:lnTo>
                  <a:pt x="680566" y="1085196"/>
                </a:lnTo>
                <a:lnTo>
                  <a:pt x="437676" y="482957"/>
                </a:lnTo>
                <a:lnTo>
                  <a:pt x="1529234" y="482958"/>
                </a:lnTo>
                <a:lnTo>
                  <a:pt x="2209800" y="0"/>
                </a:lnTo>
                <a:lnTo>
                  <a:pt x="2890366" y="482958"/>
                </a:lnTo>
                <a:lnTo>
                  <a:pt x="3981924" y="482957"/>
                </a:lnTo>
                <a:lnTo>
                  <a:pt x="3739034" y="1085196"/>
                </a:lnTo>
                <a:lnTo>
                  <a:pt x="4419611" y="1568151"/>
                </a:lnTo>
                <a:lnTo>
                  <a:pt x="3436146" y="1836173"/>
                </a:lnTo>
                <a:lnTo>
                  <a:pt x="3193248" y="2438413"/>
                </a:lnTo>
                <a:lnTo>
                  <a:pt x="2209800" y="2170389"/>
                </a:lnTo>
                <a:lnTo>
                  <a:pt x="1226352" y="2438413"/>
                </a:lnTo>
                <a:lnTo>
                  <a:pt x="983454" y="183617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3505320" y="44784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тлич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36" name="Выноска-облако 6"/>
          <p:cNvSpPr/>
          <p:nvPr/>
        </p:nvSpPr>
        <p:spPr>
          <a:xfrm>
            <a:off x="1447920" y="1447920"/>
            <a:ext cx="4343400" cy="3200400"/>
          </a:xfrm>
          <a:prstGeom prst="cloudCallout">
            <a:avLst>
              <a:gd name="adj1" fmla="val -46953"/>
              <a:gd name="adj2" fmla="val 5259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1981080" y="1828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уме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905120" y="22860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л свой организм, может вылечить себя от многих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RCTR068"/>
          <p:cNvPicPr/>
          <p:nvPr/>
        </p:nvPicPr>
        <p:blipFill>
          <a:blip r:embed="rId2"/>
          <a:stretch/>
        </p:blipFill>
        <p:spPr>
          <a:xfrm>
            <a:off x="6248520" y="609480"/>
            <a:ext cx="2687400" cy="281304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10"/>
          <p:cNvSpPr/>
          <p:nvPr/>
        </p:nvSpPr>
        <p:spPr>
          <a:xfrm>
            <a:off x="5562720" y="3809880"/>
            <a:ext cx="3352680" cy="2210040"/>
          </a:xfrm>
          <a:prstGeom prst="wedgeRoundRectCallout">
            <a:avLst>
              <a:gd name="adj1" fmla="val -282"/>
              <a:gd name="adj2" fmla="val -11657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624852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61722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это не уме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давно люди не знали, как они устроены, как надо лечится, если заболели? Поэтому в древности жили очень не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лет назад- 19-2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0 лет назад- 2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 лет назад- до 4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 время-7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м</cp:lastModifiedBy>
  <dcterms:modified xsi:type="dcterms:W3CDTF">2012-11-08T18:51:58Z</dcterms:modified>
  <cp:revision>6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