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11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.wmf" ContentType="image/x-wmf"/>
  <Override PartName="/ppt/media/image19.gif" ContentType="image/gif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5.wmf" ContentType="image/x-wmf"/>
  <Override PartName="/ppt/media/image12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9905-4CBC-4593-B664-F88BB831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22B-2974-4218-9888-EFB9B335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AC9F-41AF-4C91-8A57-BAE8A063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DED-AFD3-4774-BA7E-389C66D8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2147-292D-440D-98CB-E0E515FA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B029-252A-4D38-B6AB-731947E6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32A8-FE16-4115-A4D7-286A9B3A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46E3-E7DD-44F8-A4B0-C7DAC13B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1AC2-97EC-4854-B401-8BEE27CB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8116-719A-4A7D-A4FE-72FDF335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4C23-445A-44B7-A6E5-712C862F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0DA0-B536-4E4B-ADDA-F3EDBD50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F7D6-0249-4DC3-A200-363C1285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F889-BFF6-404B-9727-2A96CC2A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AAFF-19C6-49A7-91B5-9C03EB77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F55C-5F92-4811-B528-127E53D0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6BFE-2CCD-4CB3-8401-F2ABB5B3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CE6D-415C-4897-A43A-CE30E6F3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1717-8DE4-447A-98F3-3A967303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8921-D992-4510-B7B6-63C4813B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36C-99B0-48B8-81B3-51E4753D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783-1625-475E-A7DD-2CA44851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5C5-D7AD-4AB9-B52D-8D73290D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21C-594C-4639-9329-AEB23B4E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 flipH="1">
            <a:off x="0" y="0"/>
            <a:ext cx="838080" cy="68580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 rot="5400000">
            <a:off x="4495680" y="2209680"/>
            <a:ext cx="152280" cy="9144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 rot="5400000">
            <a:off x="4534560" y="-3189960"/>
            <a:ext cx="74520" cy="9144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0862-3F35-452F-9E3E-DFF54CD668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3" descr="j0436915"/>
          <p:cNvPicPr/>
          <p:nvPr/>
        </p:nvPicPr>
        <p:blipFill>
          <a:blip r:embed="rId2"/>
          <a:stretch/>
        </p:blipFill>
        <p:spPr>
          <a:xfrm>
            <a:off x="152280" y="152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лилиния 13"/>
          <p:cNvSpPr/>
          <p:nvPr/>
        </p:nvSpPr>
        <p:spPr>
          <a:xfrm flipH="1">
            <a:off x="-720" y="0"/>
            <a:ext cx="2438280" cy="6858000"/>
          </a:xfrm>
          <a:custGeom>
            <a:avLst/>
            <a:gdLst>
              <a:gd name="textAreaLeft" fmla="*/ -360 w 2438280"/>
              <a:gd name="textAreaRight" fmla="*/ 2438280 w 24382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j0438737"/>
          <p:cNvPicPr/>
          <p:nvPr/>
        </p:nvPicPr>
        <p:blipFill>
          <a:blip r:embed="rId2"/>
          <a:stretch/>
        </p:blipFill>
        <p:spPr>
          <a:xfrm>
            <a:off x="0" y="1523880"/>
            <a:ext cx="3029040" cy="4038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49" name="Rectangle 12"/>
          <p:cNvSpPr/>
          <p:nvPr/>
        </p:nvSpPr>
        <p:spPr>
          <a:xfrm rot="5400000">
            <a:off x="4395600" y="1166760"/>
            <a:ext cx="352440" cy="9144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 rot="5400000">
            <a:off x="4510080" y="-3138480"/>
            <a:ext cx="123840" cy="9144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8" descr="65R1"/>
          <p:cNvPicPr/>
          <p:nvPr/>
        </p:nvPicPr>
        <p:blipFill>
          <a:blip r:embed="rId3"/>
          <a:stretch/>
        </p:blipFill>
        <p:spPr>
          <a:xfrm>
            <a:off x="8305920" y="0"/>
            <a:ext cx="539640" cy="1362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5649-848F-4877-B570-F647BC9B28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0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Arial"/>
              </a:rPr>
              <a:t>Урок по окружающему миру</a:t>
            </a:r>
            <a:br>
              <a:rPr sz="3600"/>
            </a:br>
            <a:r>
              <a:rPr b="1" lang="ru-RU" sz="3600" spc="-1" strike="noStrike" u="sng">
                <a:solidFill>
                  <a:srgbClr val="c00000"/>
                </a:solidFill>
                <a:uFillTx/>
                <a:latin typeface="Arial"/>
              </a:rPr>
              <a:t>3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495680" y="304776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3429000" y="160020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9999"/>
                </a:solidFill>
                <a:uFillTx/>
                <a:latin typeface="Arial"/>
              </a:rPr>
              <a:t>Тема урока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Организм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"/>
          <p:cNvSpPr/>
          <p:nvPr/>
        </p:nvSpPr>
        <p:spPr>
          <a:xfrm>
            <a:off x="2971800" y="3657600"/>
            <a:ext cx="601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каченко Ольг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аляева И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971800" y="6324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9246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редняя продолжительность жиз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людей        Возр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                                 до 90 лет =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                                 до 70 лет =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                                 до 50 лет =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енные результаты  сл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о: 30                            Всего:21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:К.л                      2100:30=7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Умножение 3"/>
          <p:cNvSpPr/>
          <p:nvPr/>
        </p:nvSpPr>
        <p:spPr>
          <a:xfrm>
            <a:off x="4724280" y="1600200"/>
            <a:ext cx="457200" cy="609480"/>
          </a:xfrm>
          <a:custGeom>
            <a:avLst/>
            <a:gdLst>
              <a:gd name="textAreaLeft" fmla="*/ 66600 w 457200"/>
              <a:gd name="textAreaRight" fmla="*/ 390600 w 457200"/>
              <a:gd name="textAreaTop" fmla="*/ 114120 h 609480"/>
              <a:gd name="textAreaBottom" fmla="*/ 495360 h 609480"/>
            </a:gdLst>
            <a:ahLst/>
            <a:rect l="textAreaLeft" t="textAreaTop" r="textAreaRight" b="textAreaBottom"/>
            <a:pathLst>
              <a:path w="457200" h="609600">
                <a:moveTo>
                  <a:pt x="66795" y="178671"/>
                </a:moveTo>
                <a:lnTo>
                  <a:pt x="152821" y="114151"/>
                </a:lnTo>
                <a:lnTo>
                  <a:pt x="228600" y="215189"/>
                </a:lnTo>
                <a:lnTo>
                  <a:pt x="304379" y="114151"/>
                </a:lnTo>
                <a:lnTo>
                  <a:pt x="390405" y="178671"/>
                </a:lnTo>
                <a:lnTo>
                  <a:pt x="295808" y="304800"/>
                </a:lnTo>
                <a:lnTo>
                  <a:pt x="390405" y="430929"/>
                </a:lnTo>
                <a:lnTo>
                  <a:pt x="304379" y="495449"/>
                </a:lnTo>
                <a:lnTo>
                  <a:pt x="228600" y="394411"/>
                </a:lnTo>
                <a:lnTo>
                  <a:pt x="152821" y="495449"/>
                </a:lnTo>
                <a:lnTo>
                  <a:pt x="66795" y="430929"/>
                </a:lnTo>
                <a:lnTo>
                  <a:pt x="161392" y="304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Развитие нау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ый- физи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ван Петрович Пав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вляется создателем учения о высшей нервной деятельности животных и человека. Десятки лет занимался изучением сердца и кровеносных сосудов, затем стал изучать процессы пищеварения. В 1904 году присуждена Нобелевская премия за вклад в медиц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C:\Users\Покаляева И П\Desktop\img.jpg"/>
          <p:cNvPicPr/>
          <p:nvPr/>
        </p:nvPicPr>
        <p:blipFill>
          <a:blip r:embed="rId1"/>
          <a:stretch/>
        </p:blipFill>
        <p:spPr>
          <a:xfrm>
            <a:off x="762120" y="1600200"/>
            <a:ext cx="33526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RCTR027"/>
          <p:cNvPicPr/>
          <p:nvPr/>
        </p:nvPicPr>
        <p:blipFill>
          <a:blip r:embed="rId1"/>
          <a:stretch/>
        </p:blipFill>
        <p:spPr>
          <a:xfrm>
            <a:off x="304920" y="388620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52" name="Выноска-облако 6"/>
          <p:cNvSpPr/>
          <p:nvPr/>
        </p:nvSpPr>
        <p:spPr>
          <a:xfrm>
            <a:off x="228600" y="228600"/>
            <a:ext cx="5562720" cy="3886200"/>
          </a:xfrm>
          <a:prstGeom prst="cloudCallout">
            <a:avLst>
              <a:gd name="adj1" fmla="val -32851"/>
              <a:gd name="adj2" fmla="val 60513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1523880" y="45720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то такой физиолог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685800" y="1295280"/>
            <a:ext cx="4648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Физиоло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ченый, занимающийся изучением строения и работой орга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CRCTR068"/>
          <p:cNvPicPr/>
          <p:nvPr/>
        </p:nvPicPr>
        <p:blipFill>
          <a:blip r:embed="rId2"/>
          <a:stretch/>
        </p:blipFill>
        <p:spPr>
          <a:xfrm>
            <a:off x="5562720" y="0"/>
            <a:ext cx="2666880" cy="2709720"/>
          </a:xfrm>
          <a:prstGeom prst="rect">
            <a:avLst/>
          </a:prstGeom>
          <a:ln w="0">
            <a:noFill/>
          </a:ln>
        </p:spPr>
      </p:pic>
      <p:sp>
        <p:nvSpPr>
          <p:cNvPr id="156" name="Скругленная прямоугольная выноска 12"/>
          <p:cNvSpPr/>
          <p:nvPr/>
        </p:nvSpPr>
        <p:spPr>
          <a:xfrm>
            <a:off x="4495680" y="2743200"/>
            <a:ext cx="4648320" cy="3200400"/>
          </a:xfrm>
          <a:prstGeom prst="wedgeRoundRectCallout">
            <a:avLst>
              <a:gd name="adj1" fmla="val -3226"/>
              <a:gd name="adj2" fmla="val -8599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3"/>
          <p:cNvSpPr/>
          <p:nvPr/>
        </p:nvSpPr>
        <p:spPr>
          <a:xfrm>
            <a:off x="5410080" y="2971800"/>
            <a:ext cx="2362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4"/>
          <p:cNvSpPr/>
          <p:nvPr/>
        </p:nvSpPr>
        <p:spPr>
          <a:xfrm>
            <a:off x="4800600" y="2819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Что изуч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5"/>
          <p:cNvSpPr/>
          <p:nvPr/>
        </p:nvSpPr>
        <p:spPr>
          <a:xfrm>
            <a:off x="5181480" y="3581280"/>
            <a:ext cx="3429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6"/>
          <p:cNvSpPr/>
          <p:nvPr/>
        </p:nvSpPr>
        <p:spPr>
          <a:xfrm>
            <a:off x="4876920" y="373392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4495680" y="35053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Анатом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ение тела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Физиолог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внутренних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Горизонтальный свиток 18"/>
          <p:cNvSpPr/>
          <p:nvPr/>
        </p:nvSpPr>
        <p:spPr>
          <a:xfrm>
            <a:off x="4876920" y="3809880"/>
            <a:ext cx="4114800" cy="6858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Горизонтальный свиток 19"/>
          <p:cNvSpPr/>
          <p:nvPr/>
        </p:nvSpPr>
        <p:spPr>
          <a:xfrm>
            <a:off x="4572000" y="4952880"/>
            <a:ext cx="4343400" cy="9144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Горизонтальный свиток 15"/>
          <p:cNvSpPr/>
          <p:nvPr/>
        </p:nvSpPr>
        <p:spPr>
          <a:xfrm>
            <a:off x="533520" y="1523880"/>
            <a:ext cx="4724280" cy="2286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нешнее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153468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ловище ( грудь, живот, сп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хние и нижние 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019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D:\Anim_gif_park\Anim_gif_park\Мужчины\4\peo-man_muscle.gif"/>
          <p:cNvPicPr/>
          <p:nvPr/>
        </p:nvPicPr>
        <p:blipFill>
          <a:blip r:embed="rId1"/>
          <a:stretch/>
        </p:blipFill>
        <p:spPr>
          <a:xfrm>
            <a:off x="4143240" y="1752480"/>
            <a:ext cx="3629160" cy="4876920"/>
          </a:xfrm>
          <a:prstGeom prst="rect">
            <a:avLst/>
          </a:prstGeom>
          <a:ln w="0">
            <a:noFill/>
          </a:ln>
        </p:spPr>
      </p:pic>
      <p:cxnSp>
        <p:nvCxnSpPr>
          <p:cNvPr id="170" name="Прямая со стрелкой 10"/>
          <p:cNvCxnSpPr/>
          <p:nvPr/>
        </p:nvCxnSpPr>
        <p:spPr>
          <a:xfrm flipV="1">
            <a:off x="1828440" y="2057040"/>
            <a:ext cx="3886920" cy="3816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71" name="Прямая со стрелкой 12"/>
          <p:cNvCxnSpPr/>
          <p:nvPr/>
        </p:nvCxnSpPr>
        <p:spPr>
          <a:xfrm flipV="1">
            <a:off x="1218960" y="2513880"/>
            <a:ext cx="4648680" cy="61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Прямая со стрелкой 14"/>
          <p:cNvCxnSpPr/>
          <p:nvPr/>
        </p:nvCxnSpPr>
        <p:spPr>
          <a:xfrm flipV="1">
            <a:off x="3733560" y="3580920"/>
            <a:ext cx="1905480" cy="15336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73" name="Прямая со стрелкой 16"/>
          <p:cNvCxnSpPr/>
          <p:nvPr/>
        </p:nvCxnSpPr>
        <p:spPr>
          <a:xfrm flipV="1">
            <a:off x="990360" y="2819160"/>
            <a:ext cx="3810600" cy="1753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Прямая со стрелкой 18"/>
          <p:cNvCxnSpPr/>
          <p:nvPr/>
        </p:nvCxnSpPr>
        <p:spPr>
          <a:xfrm>
            <a:off x="3733560" y="4724280"/>
            <a:ext cx="1600920" cy="4579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CRCTR027"/>
          <p:cNvPicPr/>
          <p:nvPr/>
        </p:nvPicPr>
        <p:blipFill>
          <a:blip r:embed="rId1"/>
          <a:stretch/>
        </p:blipFill>
        <p:spPr>
          <a:xfrm>
            <a:off x="0" y="274320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76" name="Выноска-облако 2"/>
          <p:cNvSpPr/>
          <p:nvPr/>
        </p:nvSpPr>
        <p:spPr>
          <a:xfrm>
            <a:off x="2057400" y="0"/>
            <a:ext cx="7086600" cy="6477120"/>
          </a:xfrm>
          <a:prstGeom prst="cloudCallout">
            <a:avLst>
              <a:gd name="adj1" fmla="val -62689"/>
              <a:gd name="adj2" fmla="val 11337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3962520" y="762120"/>
            <a:ext cx="358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4267080" y="380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Ф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 « У  дядюшки Абра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3048120" y="914400"/>
            <a:ext cx="5257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 дядюшки Абрама сорок сыновей и сорок дочерей. Они не ели и не пили все на дядюшку смотр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авая р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Левая р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авая н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Левая нога.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Тулов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органы мы заставили сейчас работ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1" descr=""/>
          <p:cNvPicPr/>
          <p:nvPr/>
        </p:nvPicPr>
        <p:blipFill>
          <a:blip r:embed="rId1"/>
          <a:srcRect l="27936" t="38653" r="36787" b="30437"/>
          <a:stretch/>
        </p:blipFill>
        <p:spPr>
          <a:xfrm>
            <a:off x="5410080" y="3733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1"/>
          <p:cNvSpPr/>
          <p:nvPr/>
        </p:nvSpPr>
        <p:spPr>
          <a:xfrm>
            <a:off x="990720" y="152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нутренн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троение тела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2"/>
          <p:cNvSpPr/>
          <p:nvPr/>
        </p:nvSpPr>
        <p:spPr>
          <a:xfrm>
            <a:off x="1752480" y="16002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838080" y="2550960"/>
            <a:ext cx="6019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овной м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г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уд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ше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D:\Anim_gif_park\Anim_gif_park\Сердце\3\heart01.gif"/>
          <p:cNvPicPr/>
          <p:nvPr/>
        </p:nvPicPr>
        <p:blipFill>
          <a:blip r:embed="rId2"/>
          <a:stretch/>
        </p:blipFill>
        <p:spPr>
          <a:xfrm>
            <a:off x="3733920" y="2743200"/>
            <a:ext cx="1374480" cy="1533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3"/>
          <a:srcRect l="29702" t="68029" r="38553" b="0"/>
          <a:stretch/>
        </p:blipFill>
        <p:spPr>
          <a:xfrm>
            <a:off x="3276720" y="4495680"/>
            <a:ext cx="1371600" cy="1576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"/>
          <p:cNvPicPr/>
          <p:nvPr/>
        </p:nvPicPr>
        <p:blipFill>
          <a:blip r:embed="rId4"/>
          <a:srcRect l="24065" t="41456" r="27778" b="0"/>
          <a:stretch/>
        </p:blipFill>
        <p:spPr>
          <a:xfrm>
            <a:off x="6781680" y="1676520"/>
            <a:ext cx="1297080" cy="1612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9" descr=""/>
          <p:cNvPicPr/>
          <p:nvPr/>
        </p:nvPicPr>
        <p:blipFill>
          <a:blip r:embed="rId5"/>
          <a:srcRect l="30005" t="0" r="42509" b="82997"/>
          <a:stretch/>
        </p:blipFill>
        <p:spPr>
          <a:xfrm>
            <a:off x="5105520" y="1523880"/>
            <a:ext cx="1447560" cy="1344600"/>
          </a:xfrm>
          <a:prstGeom prst="rect">
            <a:avLst/>
          </a:prstGeom>
          <a:ln w="0">
            <a:noFill/>
          </a:ln>
        </p:spPr>
      </p:pic>
      <p:cxnSp>
        <p:nvCxnSpPr>
          <p:cNvPr id="188" name="Прямая со стрелкой 10"/>
          <p:cNvCxnSpPr/>
          <p:nvPr/>
        </p:nvCxnSpPr>
        <p:spPr>
          <a:xfrm flipV="1">
            <a:off x="2133720" y="1980360"/>
            <a:ext cx="36583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Прямая со стрелкой 12"/>
          <p:cNvCxnSpPr/>
          <p:nvPr/>
        </p:nvCxnSpPr>
        <p:spPr>
          <a:xfrm flipV="1">
            <a:off x="2286000" y="2514240"/>
            <a:ext cx="464904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Прямая со стрелкой 14"/>
          <p:cNvCxnSpPr/>
          <p:nvPr/>
        </p:nvCxnSpPr>
        <p:spPr>
          <a:xfrm flipV="1">
            <a:off x="2362320" y="3733200"/>
            <a:ext cx="167688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1" name="Прямая со стрелкой 16"/>
          <p:cNvCxnSpPr/>
          <p:nvPr/>
        </p:nvCxnSpPr>
        <p:spPr>
          <a:xfrm>
            <a:off x="2286000" y="4343400"/>
            <a:ext cx="32774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2" name="Прямая со стрелкой 18"/>
          <p:cNvCxnSpPr/>
          <p:nvPr/>
        </p:nvCxnSpPr>
        <p:spPr>
          <a:xfrm flipV="1">
            <a:off x="2590560" y="4723920"/>
            <a:ext cx="426780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Прямая со стрелкой 20"/>
          <p:cNvCxnSpPr/>
          <p:nvPr/>
        </p:nvCxnSpPr>
        <p:spPr>
          <a:xfrm flipV="1">
            <a:off x="2819520" y="5257800"/>
            <a:ext cx="76248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Arial"/>
              </a:rPr>
              <a:t>Как устроен организм челове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й организм состоит из органов. Группу органов, связанных друг с другом и совместно выполняющих общую задачу в организме, называют системой орг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П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щеварительная систем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овеносная 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рвная систем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ганы чувст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. Опорно – двигательная 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ганы дых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ганы вы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ищеварительная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1"/>
          <a:stretch/>
        </p:blipFill>
        <p:spPr>
          <a:xfrm>
            <a:off x="4356000" y="1523880"/>
            <a:ext cx="4319640" cy="49294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4"/>
          <p:cNvSpPr/>
          <p:nvPr/>
        </p:nvSpPr>
        <p:spPr>
          <a:xfrm>
            <a:off x="685800" y="26668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ет переваривание пищ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2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3886200" cy="502920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1"/>
          <p:cNvSpPr/>
          <p:nvPr/>
        </p:nvSpPr>
        <p:spPr>
          <a:xfrm>
            <a:off x="2590920" y="192240"/>
            <a:ext cx="697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ровеносная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2"/>
          <p:cNvSpPr/>
          <p:nvPr/>
        </p:nvSpPr>
        <p:spPr>
          <a:xfrm>
            <a:off x="5029200" y="25146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ет движение крови в организме- кровообра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9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3047760" cy="403200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6"/>
          <p:cNvSpPr/>
          <p:nvPr/>
        </p:nvSpPr>
        <p:spPr>
          <a:xfrm>
            <a:off x="1752480" y="228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рвная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7"/>
          <p:cNvSpPr/>
          <p:nvPr/>
        </p:nvSpPr>
        <p:spPr>
          <a:xfrm>
            <a:off x="5029200" y="31050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вная система упр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 организ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0"/>
            <a:ext cx="8381880" cy="60976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Arial"/>
              </a:rPr>
              <a:t>  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накомство учащихся с общим строением организма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Arial"/>
              </a:rPr>
              <a:t>Задачи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разовательна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наблюдать, сравнивать, делать выводы; учить работать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вающа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логическое мышление, интеллектуальные и творческие способности детей, познавательный интерес к изучению предме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спитательна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ывать потребность ведения здорового образа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5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886200" cy="495324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2"/>
          <p:cNvSpPr/>
          <p:nvPr/>
        </p:nvSpPr>
        <p:spPr>
          <a:xfrm>
            <a:off x="1447920" y="2286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рганы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4952880" y="274320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ы чувств помог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у ориентиро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3" descr=""/>
          <p:cNvPicPr/>
          <p:nvPr/>
        </p:nvPicPr>
        <p:blipFill>
          <a:blip r:embed="rId1"/>
          <a:stretch/>
        </p:blipFill>
        <p:spPr>
          <a:xfrm>
            <a:off x="762120" y="1557360"/>
            <a:ext cx="3940200" cy="48960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4"/>
          <p:cNvSpPr/>
          <p:nvPr/>
        </p:nvSpPr>
        <p:spPr>
          <a:xfrm>
            <a:off x="5791320" y="190512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орно-двигатель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скелета и мыш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создает организму оп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озволяет ему двиг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5"/>
          <p:cNvSpPr/>
          <p:nvPr/>
        </p:nvSpPr>
        <p:spPr>
          <a:xfrm>
            <a:off x="1066680" y="3049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порно – двигательная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5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166920" cy="3240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3095640" cy="31687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8"/>
          <p:cNvSpPr/>
          <p:nvPr/>
        </p:nvSpPr>
        <p:spPr>
          <a:xfrm>
            <a:off x="609480" y="304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рганы дых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9"/>
          <p:cNvSpPr/>
          <p:nvPr/>
        </p:nvSpPr>
        <p:spPr>
          <a:xfrm>
            <a:off x="4800600" y="304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рганы выд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0"/>
          <p:cNvSpPr/>
          <p:nvPr/>
        </p:nvSpPr>
        <p:spPr>
          <a:xfrm>
            <a:off x="685800" y="495288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ы дыхания обеспечи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м кислородом и вывод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екислый г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1"/>
          <p:cNvSpPr/>
          <p:nvPr/>
        </p:nvSpPr>
        <p:spPr>
          <a:xfrm>
            <a:off x="5105520" y="510552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ы выделения выводят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ма воду и вредные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457200" y="1397160"/>
          <a:ext cx="8305920" cy="4851360"/>
        </p:xfrm>
        <a:graphic>
          <a:graphicData uri="http://schemas.openxmlformats.org/drawingml/2006/table">
            <a:tbl>
              <a:tblPr/>
              <a:tblGrid>
                <a:gridCol w="2895480"/>
                <a:gridCol w="2641680"/>
                <a:gridCol w="2768760"/>
              </a:tblGrid>
              <a:tr h="17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систе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 каких органов  состо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ую  работу  выполня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ищевари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ще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уд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шечник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ивает переваривание пи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ровенос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дц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веносные сосу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ивает движение крови в организ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Нерв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вной моз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нной моз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в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яет деятельностью всего органи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19" name="TextBox 2"/>
          <p:cNvSpPr/>
          <p:nvPr/>
        </p:nvSpPr>
        <p:spPr>
          <a:xfrm>
            <a:off x="1981080" y="380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ИСТЕМЫ ОРГ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Горизонтальный свиток 3"/>
          <p:cNvSpPr/>
          <p:nvPr/>
        </p:nvSpPr>
        <p:spPr>
          <a:xfrm>
            <a:off x="3352680" y="3048120"/>
            <a:ext cx="2362320" cy="10666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Горизонтальный свиток 4"/>
          <p:cNvSpPr/>
          <p:nvPr/>
        </p:nvSpPr>
        <p:spPr>
          <a:xfrm>
            <a:off x="6019920" y="3048120"/>
            <a:ext cx="2361960" cy="10666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Горизонтальный свиток 5"/>
          <p:cNvSpPr/>
          <p:nvPr/>
        </p:nvSpPr>
        <p:spPr>
          <a:xfrm>
            <a:off x="3352680" y="4114800"/>
            <a:ext cx="2438640" cy="990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Горизонтальный свиток 6"/>
          <p:cNvSpPr/>
          <p:nvPr/>
        </p:nvSpPr>
        <p:spPr>
          <a:xfrm>
            <a:off x="6095880" y="4191120"/>
            <a:ext cx="2362320" cy="10666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Горизонтальный свиток 7"/>
          <p:cNvSpPr/>
          <p:nvPr/>
        </p:nvSpPr>
        <p:spPr>
          <a:xfrm>
            <a:off x="3124080" y="5105520"/>
            <a:ext cx="2514600" cy="12189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Горизонтальный свиток 8"/>
          <p:cNvSpPr/>
          <p:nvPr/>
        </p:nvSpPr>
        <p:spPr>
          <a:xfrm>
            <a:off x="6019920" y="5181480"/>
            <a:ext cx="2514600" cy="10670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CRCTR027"/>
          <p:cNvPicPr/>
          <p:nvPr/>
        </p:nvPicPr>
        <p:blipFill>
          <a:blip r:embed="rId1"/>
          <a:stretch/>
        </p:blipFill>
        <p:spPr>
          <a:xfrm>
            <a:off x="304920" y="4114800"/>
            <a:ext cx="1295280" cy="2257560"/>
          </a:xfrm>
          <a:prstGeom prst="rect">
            <a:avLst/>
          </a:prstGeom>
          <a:ln w="0">
            <a:noFill/>
          </a:ln>
        </p:spPr>
      </p:pic>
      <p:sp>
        <p:nvSpPr>
          <p:cNvPr id="227" name="Выноска-облако 2"/>
          <p:cNvSpPr/>
          <p:nvPr/>
        </p:nvSpPr>
        <p:spPr>
          <a:xfrm>
            <a:off x="457200" y="0"/>
            <a:ext cx="4572000" cy="3505320"/>
          </a:xfrm>
          <a:prstGeom prst="cloudCallout">
            <a:avLst>
              <a:gd name="adj1" fmla="val -26509"/>
              <a:gd name="adj2" fmla="val 82768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1371600" y="533520"/>
            <a:ext cx="2514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рганизм человека состоит из органов. А из чего состоят сами орг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CRCTR068"/>
          <p:cNvPicPr/>
          <p:nvPr/>
        </p:nvPicPr>
        <p:blipFill>
          <a:blip r:embed="rId2"/>
          <a:stretch/>
        </p:blipFill>
        <p:spPr>
          <a:xfrm>
            <a:off x="5638680" y="0"/>
            <a:ext cx="2667240" cy="2709720"/>
          </a:xfrm>
          <a:prstGeom prst="rect">
            <a:avLst/>
          </a:prstGeom>
          <a:ln w="0">
            <a:noFill/>
          </a:ln>
        </p:spPr>
      </p:pic>
      <p:sp>
        <p:nvSpPr>
          <p:cNvPr id="230" name="Скругленная прямоугольная выноска 5"/>
          <p:cNvSpPr/>
          <p:nvPr/>
        </p:nvSpPr>
        <p:spPr>
          <a:xfrm>
            <a:off x="4191120" y="2819520"/>
            <a:ext cx="4800600" cy="2895480"/>
          </a:xfrm>
          <a:prstGeom prst="wedgeRoundRectCallout">
            <a:avLst>
              <a:gd name="adj1" fmla="val -3504"/>
              <a:gd name="adj2" fmla="val -91981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4419720" y="3200400"/>
            <a:ext cx="47242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а- мельчайшая живая части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клеточка -живой орган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КЛЕТКА -  маленький зав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ыш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ирает кислород, выделяет углекислый г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ваивает питательные вещества, выбрасывает отх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ет себе подобные кл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1676520" y="38088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омашнее 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295280" y="1981080"/>
            <a:ext cx="838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CRCTR027"/>
          <p:cNvPicPr/>
          <p:nvPr/>
        </p:nvPicPr>
        <p:blipFill>
          <a:blip r:embed="rId1"/>
          <a:stretch/>
        </p:blipFill>
        <p:spPr>
          <a:xfrm>
            <a:off x="304920" y="4114800"/>
            <a:ext cx="1295280" cy="2257560"/>
          </a:xfrm>
          <a:prstGeom prst="rect">
            <a:avLst/>
          </a:prstGeom>
          <a:ln w="0">
            <a:noFill/>
          </a:ln>
        </p:spPr>
      </p:pic>
      <p:sp>
        <p:nvSpPr>
          <p:cNvPr id="238" name="Выноска-облако 5"/>
          <p:cNvSpPr/>
          <p:nvPr/>
        </p:nvSpPr>
        <p:spPr>
          <a:xfrm>
            <a:off x="1447920" y="1371600"/>
            <a:ext cx="5943600" cy="3124080"/>
          </a:xfrm>
          <a:prstGeom prst="cloudCallout">
            <a:avLst>
              <a:gd name="adj1" fmla="val -52402"/>
              <a:gd name="adj2" fmla="val 58046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2209680" y="18288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ляни в учебник стр. 130. Ответь на вопросы рубрики « Проверь себ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2057400" y="2590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не получится, загляни на стр. 1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CRCTR068"/>
          <p:cNvPicPr/>
          <p:nvPr/>
        </p:nvPicPr>
        <p:blipFill>
          <a:blip r:embed="rId2"/>
          <a:stretch/>
        </p:blipFill>
        <p:spPr>
          <a:xfrm>
            <a:off x="6781680" y="3962520"/>
            <a:ext cx="2362320" cy="2709720"/>
          </a:xfrm>
          <a:prstGeom prst="rect">
            <a:avLst/>
          </a:prstGeom>
          <a:ln w="0">
            <a:noFill/>
          </a:ln>
        </p:spPr>
      </p:pic>
      <p:sp>
        <p:nvSpPr>
          <p:cNvPr id="242" name="Скругленная прямоугольная выноска 9"/>
          <p:cNvSpPr/>
          <p:nvPr/>
        </p:nvSpPr>
        <p:spPr>
          <a:xfrm>
            <a:off x="2895480" y="4419720"/>
            <a:ext cx="3962520" cy="1981080"/>
          </a:xfrm>
          <a:prstGeom prst="wedgeRoundRectCallout">
            <a:avLst>
              <a:gd name="adj1" fmla="val 69287"/>
              <a:gd name="adj2" fmla="val 4064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0"/>
          <p:cNvSpPr/>
          <p:nvPr/>
        </p:nvSpPr>
        <p:spPr>
          <a:xfrm>
            <a:off x="3352680" y="48006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 выполни задание 3 на стр. 58 в рабочей тетра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1"/>
          <p:cNvSpPr/>
          <p:nvPr/>
        </p:nvSpPr>
        <p:spPr>
          <a:xfrm>
            <a:off x="3276720" y="541008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забудь посмотреть, что тебя ожидает на следующем уроке- стр. 131 учеб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1981080" y="2971800"/>
            <a:ext cx="49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м активным предлагаю найти пословицы о здоровье и записать их в тетра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арта настро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D:\Anim_gif_park\Anim_gif_park\Смайлики\4\bur2.gif"/>
          <p:cNvPicPr/>
          <p:nvPr/>
        </p:nvPicPr>
        <p:blipFill>
          <a:blip r:embed="rId1"/>
          <a:stretch/>
        </p:blipFill>
        <p:spPr>
          <a:xfrm>
            <a:off x="2666880" y="4876920"/>
            <a:ext cx="3117960" cy="12952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D:\Anim_gif_park\Anim_gif_park\Смайлики\4\gy.gif"/>
          <p:cNvPicPr/>
          <p:nvPr/>
        </p:nvPicPr>
        <p:blipFill>
          <a:blip r:embed="rId2"/>
          <a:stretch/>
        </p:blipFill>
        <p:spPr>
          <a:xfrm>
            <a:off x="1676520" y="3505320"/>
            <a:ext cx="1981080" cy="1147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D:\Anim_gif_park\Anim_gif_park\Смайлики\4\hb.gif"/>
          <p:cNvPicPr/>
          <p:nvPr/>
        </p:nvPicPr>
        <p:blipFill>
          <a:blip r:embed="rId3"/>
          <a:stretch/>
        </p:blipFill>
        <p:spPr>
          <a:xfrm>
            <a:off x="-152280" y="1066680"/>
            <a:ext cx="1828800" cy="19814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2057400" y="1676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ли много нового. Было интересно. Не заметили, как закончился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3733920" y="35812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ли много нового и интересного, но немного ус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4800600" y="5562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нравилось. Ску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1219320" y="1523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 какой темой мы сегодня работ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1219320" y="19810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овтори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1219320" y="23623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узнали новенько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1219320" y="2743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орган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1219320" y="4038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что можно назвать системой орган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12193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системы органов вы запомни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2590920" y="3049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тог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1219320" y="31240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 внешние органы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1219320" y="3581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 внутренние органы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2"/>
          <p:cNvSpPr/>
          <p:nvPr/>
        </p:nvSpPr>
        <p:spPr>
          <a:xfrm>
            <a:off x="1219320" y="4952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каких органов состоит пищеварительная система? Кровеносная система? Нервная сист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2895480" y="3049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амооц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D:\Anim_gif_park\Anim_gif_park\Смайлики\4\gy.gif"/>
          <p:cNvPicPr/>
          <p:nvPr/>
        </p:nvPicPr>
        <p:blipFill>
          <a:blip r:embed="rId1"/>
          <a:stretch/>
        </p:blipFill>
        <p:spPr>
          <a:xfrm>
            <a:off x="380880" y="1752480"/>
            <a:ext cx="1981440" cy="1148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D:\Anim_gif_park\Anim_gif_park\Смайлики\4\gy.gif"/>
          <p:cNvPicPr/>
          <p:nvPr/>
        </p:nvPicPr>
        <p:blipFill>
          <a:blip r:embed="rId2"/>
          <a:stretch/>
        </p:blipFill>
        <p:spPr>
          <a:xfrm>
            <a:off x="380880" y="3352680"/>
            <a:ext cx="1981440" cy="1148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D:\Anim_gif_park\Anim_gif_park\Смайлики\4\gy.gif"/>
          <p:cNvPicPr/>
          <p:nvPr/>
        </p:nvPicPr>
        <p:blipFill>
          <a:blip r:embed="rId3"/>
          <a:stretch/>
        </p:blipFill>
        <p:spPr>
          <a:xfrm>
            <a:off x="533520" y="4952880"/>
            <a:ext cx="1981080" cy="11480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2209680" y="18288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 набрали 5 и более - Молодцы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 5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2133720" y="33526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 набрали 4  -  Не плох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2286000" y="495288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 набрали 3  -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поработайте дома и ответьте на 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RCTR027"/>
          <p:cNvPicPr/>
          <p:nvPr/>
        </p:nvPicPr>
        <p:blipFill>
          <a:blip r:embed="rId1"/>
          <a:stretch/>
        </p:blipFill>
        <p:spPr>
          <a:xfrm>
            <a:off x="838080" y="35053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01" name="Выноска-облако 2"/>
          <p:cNvSpPr/>
          <p:nvPr/>
        </p:nvSpPr>
        <p:spPr>
          <a:xfrm>
            <a:off x="1143000" y="0"/>
            <a:ext cx="8001000" cy="4114800"/>
          </a:xfrm>
          <a:prstGeom prst="cloudCallout">
            <a:avLst>
              <a:gd name="adj1" fmla="val -37254"/>
              <a:gd name="adj2" fmla="val 48726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362320" y="380880"/>
            <a:ext cx="586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у-ка, юный мой друж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Ты готов начать ур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се в порядке на ст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Есть порядок в голо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Чтобы иметь зн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онадобятся терпенье и стар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 помогать  мне сегодня  буд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ака Тишка и его друг - кот Ва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CRCTR068"/>
          <p:cNvPicPr/>
          <p:nvPr/>
        </p:nvPicPr>
        <p:blipFill>
          <a:blip r:embed="rId2"/>
          <a:stretch/>
        </p:blipFill>
        <p:spPr>
          <a:xfrm>
            <a:off x="5694480" y="3352680"/>
            <a:ext cx="3068640" cy="311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CRCTR027"/>
          <p:cNvPicPr/>
          <p:nvPr/>
        </p:nvPicPr>
        <p:blipFill>
          <a:blip r:embed="rId1"/>
          <a:stretch/>
        </p:blipFill>
        <p:spPr>
          <a:xfrm>
            <a:off x="228600" y="3657600"/>
            <a:ext cx="1523880" cy="2257560"/>
          </a:xfrm>
          <a:prstGeom prst="rect">
            <a:avLst/>
          </a:prstGeom>
          <a:ln w="0">
            <a:noFill/>
          </a:ln>
        </p:spPr>
      </p:pic>
      <p:sp>
        <p:nvSpPr>
          <p:cNvPr id="271" name="Выноска-облако 2"/>
          <p:cNvSpPr/>
          <p:nvPr/>
        </p:nvSpPr>
        <p:spPr>
          <a:xfrm>
            <a:off x="762120" y="1523880"/>
            <a:ext cx="5257800" cy="2210040"/>
          </a:xfrm>
          <a:prstGeom prst="cloudCallout">
            <a:avLst>
              <a:gd name="adj1" fmla="val -31361"/>
              <a:gd name="adj2" fmla="val 67236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1295280" y="19810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 спасибо за рабо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 и добрый см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CRCTR068"/>
          <p:cNvPicPr/>
          <p:nvPr/>
        </p:nvPicPr>
        <p:blipFill>
          <a:blip r:embed="rId2"/>
          <a:stretch/>
        </p:blipFill>
        <p:spPr>
          <a:xfrm>
            <a:off x="6781680" y="4114800"/>
            <a:ext cx="2133720" cy="2557440"/>
          </a:xfrm>
          <a:prstGeom prst="rect">
            <a:avLst/>
          </a:prstGeom>
          <a:ln w="0">
            <a:noFill/>
          </a:ln>
        </p:spPr>
      </p:pic>
      <p:sp>
        <p:nvSpPr>
          <p:cNvPr id="274" name="Скругленная прямоугольная выноска 5"/>
          <p:cNvSpPr/>
          <p:nvPr/>
        </p:nvSpPr>
        <p:spPr>
          <a:xfrm>
            <a:off x="2743200" y="4343400"/>
            <a:ext cx="4191120" cy="1905120"/>
          </a:xfrm>
          <a:prstGeom prst="wedgeRoundRectCallout">
            <a:avLst>
              <a:gd name="adj1" fmla="val 59254"/>
              <a:gd name="adj2" fmla="val 12101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2971800" y="44956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на следующих уро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м сопутствует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838080" y="228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ам, ребята, большое спасибо за активную, плодотворную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Моим помощникам Тишке и Васе тоже спасиб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1"/>
          <p:cNvSpPr/>
          <p:nvPr/>
        </p:nvSpPr>
        <p:spPr>
          <a:xfrm>
            <a:off x="3200400" y="6858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Литера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"/>
          <p:cNvSpPr/>
          <p:nvPr/>
        </p:nvSpPr>
        <p:spPr>
          <a:xfrm>
            <a:off x="990720" y="17524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лешаков А.А.Школа России. Концепция и программы  для начальных классов ч.1.-М,: Просвещение ,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990720" y="25909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Плешаков А.А., Учебник « Окружающий мир» для 3 класса начальной школы в двух частях. Часть 1. - М,:«Просвещение»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990720" y="3505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 Плешаков А.А., Рабочая тетрадь для 3 класса начальной школы в двух частях. Часть 1.- М,: «Просвещение»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990720" y="434340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лешаков А.А. , Поурочные разработки по предм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Окружающий мир» к учебному комплекту М., « Экзамен»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1066680" y="5105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ульневич С.В. Анализ  современного урока.- Ростов н /Д,: Учитель,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106668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Степанов Е.Н. Личностно-ориентированный  подход  в  педагогической  деятельности.- М,: ТЦ Сфера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CRCTR027"/>
          <p:cNvPicPr/>
          <p:nvPr/>
        </p:nvPicPr>
        <p:blipFill>
          <a:blip r:embed="rId1"/>
          <a:stretch/>
        </p:blipFill>
        <p:spPr>
          <a:xfrm>
            <a:off x="6934320" y="358128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05" name="Выноска-облако 2"/>
          <p:cNvSpPr/>
          <p:nvPr/>
        </p:nvSpPr>
        <p:spPr>
          <a:xfrm>
            <a:off x="457200" y="0"/>
            <a:ext cx="7543800" cy="3581280"/>
          </a:xfrm>
          <a:prstGeom prst="cloudCallout">
            <a:avLst>
              <a:gd name="adj1" fmla="val 36768"/>
              <a:gd name="adj2" fmla="val 69606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685800" y="10666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На земле он всех умней,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отому и всех сильне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D:\Anim_gif_park\Anim_gif_park\Женщины\4\w_1.gif"/>
          <p:cNvPicPr/>
          <p:nvPr/>
        </p:nvPicPr>
        <p:blipFill>
          <a:blip r:embed="rId2"/>
          <a:stretch/>
        </p:blipFill>
        <p:spPr>
          <a:xfrm>
            <a:off x="1295280" y="361944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08" name="6-конечная звезда 5"/>
          <p:cNvSpPr/>
          <p:nvPr/>
        </p:nvSpPr>
        <p:spPr>
          <a:xfrm>
            <a:off x="0" y="3352680"/>
            <a:ext cx="5486400" cy="3505320"/>
          </a:xfrm>
          <a:custGeom>
            <a:avLst/>
            <a:gdLst>
              <a:gd name="textAreaLeft" fmla="*/ 914400 w 5486400"/>
              <a:gd name="textAreaRight" fmla="*/ 4572000 w 5486400"/>
              <a:gd name="textAreaTop" fmla="*/ 876240 h 3505320"/>
              <a:gd name="textAreaBottom" fmla="*/ 2629080 h 3505320"/>
            </a:gdLst>
            <a:ahLst/>
            <a:rect l="textAreaLeft" t="textAreaTop" r="textAreaRight" b="textAreaBottom"/>
            <a:pathLst>
              <a:path w="5486400" h="3505200">
                <a:moveTo>
                  <a:pt x="2" y="876300"/>
                </a:moveTo>
                <a:lnTo>
                  <a:pt x="1828785" y="876285"/>
                </a:lnTo>
                <a:lnTo>
                  <a:pt x="2743200" y="0"/>
                </a:lnTo>
                <a:lnTo>
                  <a:pt x="3657615" y="876285"/>
                </a:lnTo>
                <a:lnTo>
                  <a:pt x="5486398" y="876300"/>
                </a:lnTo>
                <a:lnTo>
                  <a:pt x="4572030" y="1752600"/>
                </a:lnTo>
                <a:lnTo>
                  <a:pt x="5486398" y="2628900"/>
                </a:lnTo>
                <a:lnTo>
                  <a:pt x="3657615" y="2628915"/>
                </a:lnTo>
                <a:lnTo>
                  <a:pt x="2743200" y="3505200"/>
                </a:lnTo>
                <a:lnTo>
                  <a:pt x="1828785" y="2628915"/>
                </a:lnTo>
                <a:lnTo>
                  <a:pt x="2" y="2628900"/>
                </a:lnTo>
                <a:lnTo>
                  <a:pt x="914370" y="1752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1" descr=""/>
          <p:cNvPicPr/>
          <p:nvPr/>
        </p:nvPicPr>
        <p:blipFill>
          <a:blip r:embed="rId1"/>
          <a:stretch/>
        </p:blipFill>
        <p:spPr>
          <a:xfrm>
            <a:off x="933480" y="30240"/>
            <a:ext cx="8485200" cy="115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RCTR027"/>
          <p:cNvPicPr/>
          <p:nvPr/>
        </p:nvPicPr>
        <p:blipFill>
          <a:blip r:embed="rId2"/>
          <a:stretch/>
        </p:blipFill>
        <p:spPr>
          <a:xfrm>
            <a:off x="304920" y="3429000"/>
            <a:ext cx="1676160" cy="2708280"/>
          </a:xfrm>
          <a:prstGeom prst="rect">
            <a:avLst/>
          </a:prstGeom>
          <a:ln w="0">
            <a:noFill/>
          </a:ln>
        </p:spPr>
      </p:pic>
      <p:sp>
        <p:nvSpPr>
          <p:cNvPr id="111" name="Выноска-облако 4"/>
          <p:cNvSpPr/>
          <p:nvPr/>
        </p:nvSpPr>
        <p:spPr>
          <a:xfrm>
            <a:off x="1219320" y="1295280"/>
            <a:ext cx="4647960" cy="2743200"/>
          </a:xfrm>
          <a:prstGeom prst="cloudCallout">
            <a:avLst>
              <a:gd name="adj1" fmla="val -38666"/>
              <a:gd name="adj2" fmla="val 64611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Этот раздел учебника познакомит вас с т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как устроен и работает организм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что нужно и чего нельзя делать для того, чтобы быть здоро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CRCTR068"/>
          <p:cNvPicPr/>
          <p:nvPr/>
        </p:nvPicPr>
        <p:blipFill>
          <a:blip r:embed="rId3"/>
          <a:stretch/>
        </p:blipFill>
        <p:spPr>
          <a:xfrm>
            <a:off x="6934320" y="3809880"/>
            <a:ext cx="220968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ая прямоугольная выноска 7"/>
          <p:cNvSpPr/>
          <p:nvPr/>
        </p:nvSpPr>
        <p:spPr>
          <a:xfrm>
            <a:off x="3200400" y="3886200"/>
            <a:ext cx="4038480" cy="2514600"/>
          </a:xfrm>
          <a:prstGeom prst="wedgeRoundRectCallout">
            <a:avLst>
              <a:gd name="adj1" fmla="val 60388"/>
              <a:gd name="adj2" fmla="val 9273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Организм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ы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ежная защита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ора тела и дви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е пит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ыхание и кровообра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й предупреждать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CRCTR068"/>
          <p:cNvPicPr/>
          <p:nvPr/>
        </p:nvPicPr>
        <p:blipFill>
          <a:blip r:embed="rId1"/>
          <a:stretch/>
        </p:blipFill>
        <p:spPr>
          <a:xfrm>
            <a:off x="5486400" y="0"/>
            <a:ext cx="3068640" cy="3117960"/>
          </a:xfrm>
          <a:prstGeom prst="rect">
            <a:avLst/>
          </a:prstGeom>
          <a:ln w="0">
            <a:noFill/>
          </a:ln>
        </p:spPr>
      </p:pic>
      <p:sp>
        <p:nvSpPr>
          <p:cNvPr id="115" name="Скругленная прямоугольная выноска 2"/>
          <p:cNvSpPr/>
          <p:nvPr/>
        </p:nvSpPr>
        <p:spPr>
          <a:xfrm>
            <a:off x="990720" y="152280"/>
            <a:ext cx="4495680" cy="2590920"/>
          </a:xfrm>
          <a:prstGeom prst="wedgeRoundRectCallout">
            <a:avLst>
              <a:gd name="adj1" fmla="val 72675"/>
              <a:gd name="adj2" fmla="val 13273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овек- часть живой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990720" y="838080"/>
            <a:ext cx="28954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914400" y="685800"/>
            <a:ext cx="441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Человек- часть живой прир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ажите эт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533520" y="7621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RCTR027"/>
          <p:cNvPicPr/>
          <p:nvPr/>
        </p:nvPicPr>
        <p:blipFill>
          <a:blip r:embed="rId2"/>
          <a:stretch/>
        </p:blipFill>
        <p:spPr>
          <a:xfrm>
            <a:off x="304920" y="388620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20" name="Выноска-облако 9"/>
          <p:cNvSpPr/>
          <p:nvPr/>
        </p:nvSpPr>
        <p:spPr>
          <a:xfrm>
            <a:off x="2819520" y="2971800"/>
            <a:ext cx="6324480" cy="3352680"/>
          </a:xfrm>
          <a:prstGeom prst="cloudCallout">
            <a:avLst>
              <a:gd name="adj1" fmla="val -70814"/>
              <a:gd name="adj2" fmla="val 14689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3276720" y="3505320"/>
            <a:ext cx="518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Человек как и любой живой организ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ыш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т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нож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ир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2286000" y="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ходство: 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ласс млекопитающ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RCTR027"/>
          <p:cNvPicPr/>
          <p:nvPr/>
        </p:nvPicPr>
        <p:blipFill>
          <a:blip r:embed="rId1"/>
          <a:stretch/>
        </p:blipFill>
        <p:spPr>
          <a:xfrm>
            <a:off x="609480" y="380988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1"/>
          <p:cNvSpPr/>
          <p:nvPr/>
        </p:nvSpPr>
        <p:spPr>
          <a:xfrm>
            <a:off x="1143000" y="1981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носка-облако 4"/>
          <p:cNvSpPr/>
          <p:nvPr/>
        </p:nvSpPr>
        <p:spPr>
          <a:xfrm>
            <a:off x="0" y="1295280"/>
            <a:ext cx="5029200" cy="2514600"/>
          </a:xfrm>
          <a:prstGeom prst="cloudCallout">
            <a:avLst>
              <a:gd name="adj1" fmla="val -31819"/>
              <a:gd name="adj2" fmla="val 65671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1371600" y="1905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RCTR068"/>
          <p:cNvPicPr/>
          <p:nvPr/>
        </p:nvPicPr>
        <p:blipFill>
          <a:blip r:embed="rId2"/>
          <a:stretch/>
        </p:blipFill>
        <p:spPr>
          <a:xfrm>
            <a:off x="5562720" y="3505320"/>
            <a:ext cx="3068640" cy="3117600"/>
          </a:xfrm>
          <a:prstGeom prst="rect">
            <a:avLst/>
          </a:prstGeom>
          <a:ln w="0">
            <a:noFill/>
          </a:ln>
        </p:spPr>
      </p:pic>
      <p:sp>
        <p:nvSpPr>
          <p:cNvPr id="128" name="Скругленная прямоугольная выноска 10"/>
          <p:cNvSpPr/>
          <p:nvPr/>
        </p:nvSpPr>
        <p:spPr>
          <a:xfrm>
            <a:off x="5562720" y="990720"/>
            <a:ext cx="3276360" cy="24382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5943600" y="1371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ЖИВО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990720" y="2438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мит маленьких детей  моло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5943600" y="19051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мит маленьких  детей  моло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7-конечная звезда 14"/>
          <p:cNvSpPr/>
          <p:nvPr/>
        </p:nvSpPr>
        <p:spPr>
          <a:xfrm>
            <a:off x="-152280" y="1371600"/>
            <a:ext cx="4724280" cy="2286000"/>
          </a:xfrm>
          <a:custGeom>
            <a:avLst/>
            <a:gdLst>
              <a:gd name="textAreaLeft" fmla="*/ 1051200 w 4724280"/>
              <a:gd name="textAreaRight" fmla="*/ 3673080 w 4724280"/>
              <a:gd name="textAreaTop" fmla="*/ 452520 h 2286000"/>
              <a:gd name="textAreaBottom" fmla="*/ 1721520 h 2286000"/>
            </a:gdLst>
            <a:ahLst/>
            <a:rect l="textAreaLeft" t="textAreaTop" r="textAreaRight" b="textAreaBottom"/>
            <a:pathLst>
              <a:path w="4724400" h="2286000">
                <a:moveTo>
                  <a:pt x="-12" y="1470142"/>
                </a:moveTo>
                <a:lnTo>
                  <a:pt x="727502" y="1017372"/>
                </a:lnTo>
                <a:lnTo>
                  <a:pt x="467860" y="452772"/>
                </a:lnTo>
                <a:lnTo>
                  <a:pt x="1634699" y="452773"/>
                </a:lnTo>
                <a:lnTo>
                  <a:pt x="2362200" y="0"/>
                </a:lnTo>
                <a:lnTo>
                  <a:pt x="3089701" y="452773"/>
                </a:lnTo>
                <a:lnTo>
                  <a:pt x="4256540" y="452772"/>
                </a:lnTo>
                <a:lnTo>
                  <a:pt x="3996898" y="1017372"/>
                </a:lnTo>
                <a:lnTo>
                  <a:pt x="4724412" y="1470142"/>
                </a:lnTo>
                <a:lnTo>
                  <a:pt x="3673121" y="1721412"/>
                </a:lnTo>
                <a:lnTo>
                  <a:pt x="3413472" y="2286012"/>
                </a:lnTo>
                <a:lnTo>
                  <a:pt x="2362200" y="2034739"/>
                </a:lnTo>
                <a:lnTo>
                  <a:pt x="1310928" y="2286012"/>
                </a:lnTo>
                <a:lnTo>
                  <a:pt x="1051279" y="1721412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-конечная звезда 15"/>
          <p:cNvSpPr/>
          <p:nvPr/>
        </p:nvSpPr>
        <p:spPr>
          <a:xfrm>
            <a:off x="4724280" y="914400"/>
            <a:ext cx="4419720" cy="2438280"/>
          </a:xfrm>
          <a:custGeom>
            <a:avLst/>
            <a:gdLst>
              <a:gd name="textAreaLeft" fmla="*/ 983520 w 4419720"/>
              <a:gd name="textAreaRight" fmla="*/ 3436200 w 4419720"/>
              <a:gd name="textAreaTop" fmla="*/ 482760 h 2438280"/>
              <a:gd name="textAreaBottom" fmla="*/ 1836000 h 2438280"/>
            </a:gdLst>
            <a:ahLst/>
            <a:rect l="textAreaLeft" t="textAreaTop" r="textAreaRight" b="textAreaBottom"/>
            <a:pathLst>
              <a:path w="4419600" h="2438400">
                <a:moveTo>
                  <a:pt x="-11" y="1568151"/>
                </a:moveTo>
                <a:lnTo>
                  <a:pt x="680566" y="1085196"/>
                </a:lnTo>
                <a:lnTo>
                  <a:pt x="437676" y="482957"/>
                </a:lnTo>
                <a:lnTo>
                  <a:pt x="1529234" y="482958"/>
                </a:lnTo>
                <a:lnTo>
                  <a:pt x="2209800" y="0"/>
                </a:lnTo>
                <a:lnTo>
                  <a:pt x="2890366" y="482958"/>
                </a:lnTo>
                <a:lnTo>
                  <a:pt x="3981924" y="482957"/>
                </a:lnTo>
                <a:lnTo>
                  <a:pt x="3739034" y="1085196"/>
                </a:lnTo>
                <a:lnTo>
                  <a:pt x="4419611" y="1568151"/>
                </a:lnTo>
                <a:lnTo>
                  <a:pt x="3436146" y="1836173"/>
                </a:lnTo>
                <a:lnTo>
                  <a:pt x="3193248" y="2438413"/>
                </a:lnTo>
                <a:lnTo>
                  <a:pt x="2209800" y="2170389"/>
                </a:lnTo>
                <a:lnTo>
                  <a:pt x="1226352" y="2438413"/>
                </a:lnTo>
                <a:lnTo>
                  <a:pt x="983454" y="183617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3"/>
          <p:cNvSpPr/>
          <p:nvPr/>
        </p:nvSpPr>
        <p:spPr>
          <a:xfrm>
            <a:off x="3505320" y="44784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тлич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CRCTR027"/>
          <p:cNvPicPr/>
          <p:nvPr/>
        </p:nvPicPr>
        <p:blipFill>
          <a:blip r:embed="rId1"/>
          <a:stretch/>
        </p:blipFill>
        <p:spPr>
          <a:xfrm>
            <a:off x="304920" y="388620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36" name="Выноска-облако 6"/>
          <p:cNvSpPr/>
          <p:nvPr/>
        </p:nvSpPr>
        <p:spPr>
          <a:xfrm>
            <a:off x="1447920" y="1447920"/>
            <a:ext cx="4343400" cy="3200400"/>
          </a:xfrm>
          <a:prstGeom prst="cloudCallout">
            <a:avLst>
              <a:gd name="adj1" fmla="val -46953"/>
              <a:gd name="adj2" fmla="val 52597"/>
            </a:avLst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1981080" y="18288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Человек уме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1905120" y="228600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во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с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ил свой организм, может вылечить себя от многих болез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CRCTR068"/>
          <p:cNvPicPr/>
          <p:nvPr/>
        </p:nvPicPr>
        <p:blipFill>
          <a:blip r:embed="rId2"/>
          <a:stretch/>
        </p:blipFill>
        <p:spPr>
          <a:xfrm>
            <a:off x="6248520" y="609480"/>
            <a:ext cx="2687400" cy="2813040"/>
          </a:xfrm>
          <a:prstGeom prst="rect">
            <a:avLst/>
          </a:prstGeom>
          <a:ln w="0">
            <a:noFill/>
          </a:ln>
        </p:spPr>
      </p:pic>
      <p:sp>
        <p:nvSpPr>
          <p:cNvPr id="140" name="Скругленная прямоугольная выноска 10"/>
          <p:cNvSpPr/>
          <p:nvPr/>
        </p:nvSpPr>
        <p:spPr>
          <a:xfrm>
            <a:off x="5562720" y="3809880"/>
            <a:ext cx="3352680" cy="2210040"/>
          </a:xfrm>
          <a:prstGeom prst="wedgeRoundRectCallout">
            <a:avLst>
              <a:gd name="adj1" fmla="val -282"/>
              <a:gd name="adj2" fmla="val -116578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6248520" y="4191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2"/>
          <p:cNvSpPr/>
          <p:nvPr/>
        </p:nvSpPr>
        <p:spPr>
          <a:xfrm>
            <a:off x="6172200" y="5029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это не уме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родолжительность жиз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давно люди не знали, как они устроены, как надо лечится, если заболели? Поэтому в древности жили очень недол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 000 лет назад- 19-2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0 лет назад- 29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0 лет назад- до 4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ше время-7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Дом</cp:lastModifiedBy>
  <dcterms:modified xsi:type="dcterms:W3CDTF">2012-11-08T18:51:58Z</dcterms:modified>
  <cp:revision>64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