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8BF-0D1C-4127-AB4F-3ABB53B5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5523-C37A-444E-B6F1-3C16EEC0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493B-E30A-4CA9-B014-4B86EC8C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23A4-EFB4-4071-87A8-3A838CAD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E4308-9DCD-4879-B8C7-6A21D0A6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53AF9-B5FE-491F-8F2A-69F97E66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8182C-1F5D-4D0C-98B7-093EB662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E4C1F-7C32-4EBA-B998-873BA2CF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91912-30B1-4564-B79C-8DFB9B24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23BFA-9AF2-4179-BB9F-CB9A7674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2B8B9-D39B-4369-9126-94E0A3B4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9508-FA8D-4B5B-AD06-B11D2A1E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D72E7-2363-4EF0-850D-3CDFA6B6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4F829-A96F-4172-A1B1-9EAC1731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979C1-0258-4F24-B00F-3EAB2D0C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01066-61C3-4B98-A3E0-58E28BEB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719D0-D4ED-4E6F-9FCA-C2A64E42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8844-2787-491A-8749-68AC5E0D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DA3-0593-40C8-9871-214E7E9F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6830-157B-4E3C-8B1E-6B648E63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0C3C-68E2-43F5-9149-9B94F264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D8C-D468-4C97-9048-67A16E4E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DA8-4A0F-4539-B650-442463F6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B923-655E-4EB9-8C9E-73F0A78E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CA56-F947-4AA2-A8CD-24DB1EADE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001F-7B73-4CD2-8500-2877273DBE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lympic Ga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7" descr="i?id=37561841&amp;tov=7"/>
          <p:cNvPicPr/>
          <p:nvPr/>
        </p:nvPicPr>
        <p:blipFill>
          <a:blip r:embed="rId2"/>
          <a:stretch/>
        </p:blipFill>
        <p:spPr>
          <a:xfrm>
            <a:off x="1428840" y="1643040"/>
            <a:ext cx="6377040" cy="37148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ummer Olympic Games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95280" y="981000"/>
            <a:ext cx="4321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tball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ketball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hletic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cling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imming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x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iling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8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first Summer Olympic Games were held in 1896 in Athens (Greece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i?id=39496529&amp;tov=4"/>
          <p:cNvPicPr/>
          <p:nvPr/>
        </p:nvPicPr>
        <p:blipFill>
          <a:blip r:embed="rId2"/>
          <a:stretch/>
        </p:blipFill>
        <p:spPr>
          <a:xfrm>
            <a:off x="539640" y="1773360"/>
            <a:ext cx="3961080" cy="482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i?id=18612889&amp;tov=3"/>
          <p:cNvPicPr/>
          <p:nvPr/>
        </p:nvPicPr>
        <p:blipFill>
          <a:blip r:embed="rId3"/>
          <a:stretch/>
        </p:blipFill>
        <p:spPr>
          <a:xfrm>
            <a:off x="4500720" y="1773360"/>
            <a:ext cx="3744720" cy="4824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22nd Summer Olympic Games were held in 1980 in Moscow (USSR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i?id=72738001&amp;tov=2"/>
          <p:cNvPicPr/>
          <p:nvPr/>
        </p:nvPicPr>
        <p:blipFill>
          <a:blip r:embed="rId2"/>
          <a:stretch/>
        </p:blipFill>
        <p:spPr>
          <a:xfrm>
            <a:off x="468360" y="1916280"/>
            <a:ext cx="3311640" cy="4608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i?id=64162657&amp;tov=0"/>
          <p:cNvPicPr/>
          <p:nvPr/>
        </p:nvPicPr>
        <p:blipFill>
          <a:blip r:embed="rId3"/>
          <a:stretch/>
        </p:blipFill>
        <p:spPr>
          <a:xfrm>
            <a:off x="5219640" y="1916280"/>
            <a:ext cx="3097440" cy="4537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27th Summer Olympic Games were held in Sydney in 2000 (Australia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i?id=85347221&amp;tov=3"/>
          <p:cNvPicPr/>
          <p:nvPr/>
        </p:nvPicPr>
        <p:blipFill>
          <a:blip r:embed="rId2"/>
          <a:stretch/>
        </p:blipFill>
        <p:spPr>
          <a:xfrm>
            <a:off x="1692360" y="1916280"/>
            <a:ext cx="5616360" cy="4681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28th Summer Olympic Games were held in 2004 in Athens (Greece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i?id=17014963&amp;tov=0"/>
          <p:cNvPicPr/>
          <p:nvPr/>
        </p:nvPicPr>
        <p:blipFill>
          <a:blip r:embed="rId2"/>
          <a:stretch/>
        </p:blipFill>
        <p:spPr>
          <a:xfrm>
            <a:off x="1979640" y="1989000"/>
            <a:ext cx="4738680" cy="4464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29th Summer Olympic Games was held in 2008 in Beijing(China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i?id=5743415&amp;tov=5"/>
          <p:cNvPicPr/>
          <p:nvPr/>
        </p:nvPicPr>
        <p:blipFill>
          <a:blip r:embed="rId2"/>
          <a:stretch/>
        </p:blipFill>
        <p:spPr>
          <a:xfrm>
            <a:off x="468360" y="184464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i?id=38055822&amp;tov=5"/>
          <p:cNvPicPr/>
          <p:nvPr/>
        </p:nvPicPr>
        <p:blipFill>
          <a:blip r:embed="rId3"/>
          <a:stretch/>
        </p:blipFill>
        <p:spPr>
          <a:xfrm>
            <a:off x="3995640" y="1844640"/>
            <a:ext cx="4392720" cy="4608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30th Summer Olympic Games will be held in 2012 in London (Great Britain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i?id=47417436&amp;tov=7"/>
          <p:cNvPicPr/>
          <p:nvPr/>
        </p:nvPicPr>
        <p:blipFill>
          <a:blip r:embed="rId2"/>
          <a:stretch/>
        </p:blipFill>
        <p:spPr>
          <a:xfrm>
            <a:off x="1187280" y="2060640"/>
            <a:ext cx="6697800" cy="41767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40000" y="2707920"/>
            <a:ext cx="446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nter Olympic Ga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10" descr="i?id=60434512&amp;tov=4"/>
          <p:cNvPicPr/>
          <p:nvPr/>
        </p:nvPicPr>
        <p:blipFill>
          <a:blip r:embed="rId2"/>
          <a:stretch/>
        </p:blipFill>
        <p:spPr>
          <a:xfrm>
            <a:off x="468360" y="1557360"/>
            <a:ext cx="2808360" cy="252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i?id=16136183&amp;tov=5"/>
          <p:cNvPicPr/>
          <p:nvPr/>
        </p:nvPicPr>
        <p:blipFill>
          <a:blip r:embed="rId3"/>
          <a:stretch/>
        </p:blipFill>
        <p:spPr>
          <a:xfrm>
            <a:off x="3276720" y="1557360"/>
            <a:ext cx="2736720" cy="252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i?id=27618495&amp;tov=6"/>
          <p:cNvPicPr/>
          <p:nvPr/>
        </p:nvPicPr>
        <p:blipFill>
          <a:blip r:embed="rId4"/>
          <a:stretch/>
        </p:blipFill>
        <p:spPr>
          <a:xfrm>
            <a:off x="6012000" y="1557360"/>
            <a:ext cx="2663640" cy="251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i?id=7458505&amp;tov=4"/>
          <p:cNvPicPr/>
          <p:nvPr/>
        </p:nvPicPr>
        <p:blipFill>
          <a:blip r:embed="rId5"/>
          <a:stretch/>
        </p:blipFill>
        <p:spPr>
          <a:xfrm>
            <a:off x="468360" y="4076640"/>
            <a:ext cx="2808360" cy="252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i?id=78569351&amp;tov=0"/>
          <p:cNvPicPr/>
          <p:nvPr/>
        </p:nvPicPr>
        <p:blipFill>
          <a:blip r:embed="rId6"/>
          <a:stretch/>
        </p:blipFill>
        <p:spPr>
          <a:xfrm>
            <a:off x="6012000" y="4076640"/>
            <a:ext cx="2663640" cy="2521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i?id=4796914&amp;tov=7"/>
          <p:cNvPicPr/>
          <p:nvPr/>
        </p:nvPicPr>
        <p:blipFill>
          <a:blip r:embed="rId7"/>
          <a:stretch/>
        </p:blipFill>
        <p:spPr>
          <a:xfrm>
            <a:off x="3276720" y="4076640"/>
            <a:ext cx="2735280" cy="2521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560" y="1413000"/>
            <a:ext cx="5256360" cy="44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Winter Olympic Games: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biathlon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tobogan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curling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ice hockey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skating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skiing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figure skating, etc.</a:t>
            </a:r>
            <a:br>
              <a:rPr sz="32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first Olympic Games were held in Shamoni in 1924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 Franc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5" descr="i?id=12157697&amp;tov=8"/>
          <p:cNvPicPr/>
          <p:nvPr/>
        </p:nvPicPr>
        <p:blipFill>
          <a:blip r:embed="rId2"/>
          <a:stretch/>
        </p:blipFill>
        <p:spPr>
          <a:xfrm>
            <a:off x="1042920" y="2349360"/>
            <a:ext cx="7129440" cy="3816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n games were held in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- Sankt-Morize in 1928 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Switzerla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 – Lake Placid in 1932 (U.S.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 -  Garmisch Partenkirchen in 1936 (German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 - Sankt-Morize in 1948 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Switzerla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 - Oslo in 1952 (Norwa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 – Kortina-d`Ampezzo in 1956 (Ital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 – Squaw Valley in 1960 (U.S.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 – Innsbruck in 1964 (Autrich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 - Grenoble in 1968 (Franc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 - Sapporo in 1972 (Japa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 - Innsbruck in 1976 (Autrich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 - Lake Placid in 1980 (U.S.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 - Sarajevo in 1984 (Yugoslavi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 - Calgary in 1988 (Canad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 - Alberlvil in 1992 (Franc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7 - Lillehammer in 1994 (Norwa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 - Nagano in 1998 (Japa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9 – Salt Lake in 2002 (U.S.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t Winter Olympic Games were held in 2006 in Torino (Italy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5" descr="i?id=12338241&amp;tov=0"/>
          <p:cNvPicPr/>
          <p:nvPr/>
        </p:nvPicPr>
        <p:blipFill>
          <a:blip r:embed="rId2"/>
          <a:stretch/>
        </p:blipFill>
        <p:spPr>
          <a:xfrm>
            <a:off x="1187280" y="1844640"/>
            <a:ext cx="6913800" cy="4681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1 Winter Olympic Games will be held in Vancouver in 2010 (Canad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i?id=2411167&amp;tov=2"/>
          <p:cNvPicPr/>
          <p:nvPr/>
        </p:nvPicPr>
        <p:blipFill>
          <a:blip r:embed="rId2"/>
          <a:stretch/>
        </p:blipFill>
        <p:spPr>
          <a:xfrm>
            <a:off x="611280" y="1628640"/>
            <a:ext cx="3529080" cy="482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i?id=25630017&amp;tov=8"/>
          <p:cNvPicPr/>
          <p:nvPr/>
        </p:nvPicPr>
        <p:blipFill>
          <a:blip r:embed="rId3"/>
          <a:stretch/>
        </p:blipFill>
        <p:spPr>
          <a:xfrm>
            <a:off x="4140360" y="1628640"/>
            <a:ext cx="4464000" cy="4824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2 Winter Olympic Games will be held in  Sochi in 2014. (Russia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i?id=30099409&amp;tov=0"/>
          <p:cNvPicPr/>
          <p:nvPr/>
        </p:nvPicPr>
        <p:blipFill>
          <a:blip r:embed="rId2"/>
          <a:stretch/>
        </p:blipFill>
        <p:spPr>
          <a:xfrm>
            <a:off x="250920" y="1844640"/>
            <a:ext cx="4032000" cy="4753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?id=35453811&amp;tov=4"/>
          <p:cNvPicPr/>
          <p:nvPr/>
        </p:nvPicPr>
        <p:blipFill>
          <a:blip r:embed="rId3"/>
          <a:stretch/>
        </p:blipFill>
        <p:spPr>
          <a:xfrm>
            <a:off x="4284720" y="1844640"/>
            <a:ext cx="4319640" cy="4753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ummer Olympic Gam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i?id=11295477&amp;tov=6"/>
          <p:cNvPicPr/>
          <p:nvPr/>
        </p:nvPicPr>
        <p:blipFill>
          <a:blip r:embed="rId2"/>
          <a:stretch/>
        </p:blipFill>
        <p:spPr>
          <a:xfrm>
            <a:off x="324000" y="1700280"/>
            <a:ext cx="2808000" cy="2233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i?id=22937255&amp;tov=6"/>
          <p:cNvPicPr/>
          <p:nvPr/>
        </p:nvPicPr>
        <p:blipFill>
          <a:blip r:embed="rId3"/>
          <a:stretch/>
        </p:blipFill>
        <p:spPr>
          <a:xfrm>
            <a:off x="3132000" y="1700280"/>
            <a:ext cx="2952720" cy="2233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i?id=13248813&amp;tov=5"/>
          <p:cNvPicPr/>
          <p:nvPr/>
        </p:nvPicPr>
        <p:blipFill>
          <a:blip r:embed="rId4"/>
          <a:stretch/>
        </p:blipFill>
        <p:spPr>
          <a:xfrm>
            <a:off x="6084720" y="1700280"/>
            <a:ext cx="2448000" cy="2233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i?id=84239132&amp;tov=4"/>
          <p:cNvPicPr/>
          <p:nvPr/>
        </p:nvPicPr>
        <p:blipFill>
          <a:blip r:embed="rId5"/>
          <a:stretch/>
        </p:blipFill>
        <p:spPr>
          <a:xfrm>
            <a:off x="324000" y="3933720"/>
            <a:ext cx="2808000" cy="2590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i?id=69890662&amp;tov=6"/>
          <p:cNvPicPr/>
          <p:nvPr/>
        </p:nvPicPr>
        <p:blipFill>
          <a:blip r:embed="rId6"/>
          <a:stretch/>
        </p:blipFill>
        <p:spPr>
          <a:xfrm>
            <a:off x="3132000" y="3933720"/>
            <a:ext cx="2952720" cy="2590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i?id=2592197&amp;tov=0"/>
          <p:cNvPicPr/>
          <p:nvPr/>
        </p:nvPicPr>
        <p:blipFill>
          <a:blip r:embed="rId7"/>
          <a:stretch/>
        </p:blipFill>
        <p:spPr>
          <a:xfrm>
            <a:off x="6084720" y="3933720"/>
            <a:ext cx="2448000" cy="2590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8:08:34Z</dcterms:created>
  <dc:creator>дина</dc:creator>
  <dc:description/>
  <dc:language>en-US</dc:language>
  <cp:lastModifiedBy>Admin</cp:lastModifiedBy>
  <dcterms:modified xsi:type="dcterms:W3CDTF">2013-01-14T19:42:30Z</dcterms:modified>
  <cp:revision>5</cp:revision>
  <dc:subject/>
  <dc:title>    The Winter Olympic Games</dc:title>
</cp:coreProperties>
</file>