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E14-0E60-47FC-B6B2-9DF9D476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406-7449-498A-9718-11347A7F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DB0-4EA1-4519-988B-C1476C3E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6DE-47C6-4C6F-B4E8-37F2B126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7E9B3-7854-4DF7-BB1A-C956F201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12ED3-B092-4842-A5D7-5DD52278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345AE-7160-4A91-990E-7992606C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39B6E-57FF-423E-A99C-E6AEC6B9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8CFE4-12C4-4DCD-AD6C-DE558126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AE116-966B-4756-96FF-5895BB1B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900C1-6788-43C3-A81A-D7A95560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328-0E2B-471F-B2AB-DA0F4DC0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3B459-04A0-4C1E-9A72-6ED8626A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8E698-B811-4297-8AB4-A4DB58DE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E7754-638E-4023-B10E-0576D896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BA8BC-794A-4796-9D86-A6AD7271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B6849-80E1-45CD-88BC-1CA0EF7B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E2B-F00A-49A1-9B80-67351816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FC8-44A1-4E7C-B2BF-BB921650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1B3-8DEA-4CF0-9FB8-DD84A1A6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EFA-C50E-4C75-9CBC-51DAE623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D9D-1603-48E8-9DC2-D68E3248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D12-A23B-4A73-BB02-56B9064E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7BD-8E77-4A13-AF6B-68D6523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C423-44BF-442B-8C47-FCB335C22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DA10-6259-439F-A8A8-512F312E43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lympic 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i?id=37561841&amp;tov=7"/>
          <p:cNvPicPr/>
          <p:nvPr/>
        </p:nvPicPr>
        <p:blipFill>
          <a:blip r:embed="rId2"/>
          <a:stretch/>
        </p:blipFill>
        <p:spPr>
          <a:xfrm>
            <a:off x="1428840" y="1643040"/>
            <a:ext cx="6377040" cy="37148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mmer Olympic Games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95280" y="98100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ball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ketball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hletic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clin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imming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x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iling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8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first Summer Olympic Games were held in 1896 in Athens (Greece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i?id=39496529&amp;tov=4"/>
          <p:cNvPicPr/>
          <p:nvPr/>
        </p:nvPicPr>
        <p:blipFill>
          <a:blip r:embed="rId2"/>
          <a:stretch/>
        </p:blipFill>
        <p:spPr>
          <a:xfrm>
            <a:off x="539640" y="1773360"/>
            <a:ext cx="3961080" cy="482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i?id=18612889&amp;tov=3"/>
          <p:cNvPicPr/>
          <p:nvPr/>
        </p:nvPicPr>
        <p:blipFill>
          <a:blip r:embed="rId3"/>
          <a:stretch/>
        </p:blipFill>
        <p:spPr>
          <a:xfrm>
            <a:off x="4500720" y="1773360"/>
            <a:ext cx="3744720" cy="4824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22nd Summer Olympic Games were held in 1980 in Moscow (USS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i?id=72738001&amp;tov=2"/>
          <p:cNvPicPr/>
          <p:nvPr/>
        </p:nvPicPr>
        <p:blipFill>
          <a:blip r:embed="rId2"/>
          <a:stretch/>
        </p:blipFill>
        <p:spPr>
          <a:xfrm>
            <a:off x="468360" y="1916280"/>
            <a:ext cx="3311640" cy="460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i?id=64162657&amp;tov=0"/>
          <p:cNvPicPr/>
          <p:nvPr/>
        </p:nvPicPr>
        <p:blipFill>
          <a:blip r:embed="rId3"/>
          <a:stretch/>
        </p:blipFill>
        <p:spPr>
          <a:xfrm>
            <a:off x="5219640" y="1916280"/>
            <a:ext cx="3097440" cy="4537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27th Summer Olympic Games were held in Sydney in 2000 (Australia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i?id=85347221&amp;tov=3"/>
          <p:cNvPicPr/>
          <p:nvPr/>
        </p:nvPicPr>
        <p:blipFill>
          <a:blip r:embed="rId2"/>
          <a:stretch/>
        </p:blipFill>
        <p:spPr>
          <a:xfrm>
            <a:off x="1692360" y="1916280"/>
            <a:ext cx="561636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28th Summer Olympic Games were held in 2004 in Athens (Greece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i?id=17014963&amp;tov=0"/>
          <p:cNvPicPr/>
          <p:nvPr/>
        </p:nvPicPr>
        <p:blipFill>
          <a:blip r:embed="rId2"/>
          <a:stretch/>
        </p:blipFill>
        <p:spPr>
          <a:xfrm>
            <a:off x="1979640" y="1989000"/>
            <a:ext cx="4738680" cy="4464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29th Summer Olympic Games was held in 2008 in Beijing(China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i?id=5743415&amp;tov=5"/>
          <p:cNvPicPr/>
          <p:nvPr/>
        </p:nvPicPr>
        <p:blipFill>
          <a:blip r:embed="rId2"/>
          <a:stretch/>
        </p:blipFill>
        <p:spPr>
          <a:xfrm>
            <a:off x="468360" y="184464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i?id=38055822&amp;tov=5"/>
          <p:cNvPicPr/>
          <p:nvPr/>
        </p:nvPicPr>
        <p:blipFill>
          <a:blip r:embed="rId3"/>
          <a:stretch/>
        </p:blipFill>
        <p:spPr>
          <a:xfrm>
            <a:off x="3995640" y="1844640"/>
            <a:ext cx="4392720" cy="4608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30th Summer Olympic Games will be held in 2012 in London (Great Britain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i?id=47417436&amp;tov=7"/>
          <p:cNvPicPr/>
          <p:nvPr/>
        </p:nvPicPr>
        <p:blipFill>
          <a:blip r:embed="rId2"/>
          <a:stretch/>
        </p:blipFill>
        <p:spPr>
          <a:xfrm>
            <a:off x="1187280" y="2060640"/>
            <a:ext cx="6697800" cy="4176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40000" y="2707920"/>
            <a:ext cx="446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ter Olympic 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10" descr="i?id=60434512&amp;tov=4"/>
          <p:cNvPicPr/>
          <p:nvPr/>
        </p:nvPicPr>
        <p:blipFill>
          <a:blip r:embed="rId2"/>
          <a:stretch/>
        </p:blipFill>
        <p:spPr>
          <a:xfrm>
            <a:off x="468360" y="155736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i?id=16136183&amp;tov=5"/>
          <p:cNvPicPr/>
          <p:nvPr/>
        </p:nvPicPr>
        <p:blipFill>
          <a:blip r:embed="rId3"/>
          <a:stretch/>
        </p:blipFill>
        <p:spPr>
          <a:xfrm>
            <a:off x="3276720" y="1557360"/>
            <a:ext cx="273672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i?id=27618495&amp;tov=6"/>
          <p:cNvPicPr/>
          <p:nvPr/>
        </p:nvPicPr>
        <p:blipFill>
          <a:blip r:embed="rId4"/>
          <a:stretch/>
        </p:blipFill>
        <p:spPr>
          <a:xfrm>
            <a:off x="6012000" y="1557360"/>
            <a:ext cx="2663640" cy="251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i?id=7458505&amp;tov=4"/>
          <p:cNvPicPr/>
          <p:nvPr/>
        </p:nvPicPr>
        <p:blipFill>
          <a:blip r:embed="rId5"/>
          <a:stretch/>
        </p:blipFill>
        <p:spPr>
          <a:xfrm>
            <a:off x="468360" y="407664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i?id=78569351&amp;tov=0"/>
          <p:cNvPicPr/>
          <p:nvPr/>
        </p:nvPicPr>
        <p:blipFill>
          <a:blip r:embed="rId6"/>
          <a:stretch/>
        </p:blipFill>
        <p:spPr>
          <a:xfrm>
            <a:off x="6012000" y="4076640"/>
            <a:ext cx="2663640" cy="252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i?id=4796914&amp;tov=7"/>
          <p:cNvPicPr/>
          <p:nvPr/>
        </p:nvPicPr>
        <p:blipFill>
          <a:blip r:embed="rId7"/>
          <a:stretch/>
        </p:blipFill>
        <p:spPr>
          <a:xfrm>
            <a:off x="3276720" y="4076640"/>
            <a:ext cx="2735280" cy="2521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413000"/>
            <a:ext cx="5256360" cy="44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Winter Olympic Games: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biathlon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tobogan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curling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ice hockey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skating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skiing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figure skating, etc.</a:t>
            </a:r>
            <a:br>
              <a:rPr sz="32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irst Olympic Games were held in Shamoni in 1924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 Franc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i?id=12157697&amp;tov=8"/>
          <p:cNvPicPr/>
          <p:nvPr/>
        </p:nvPicPr>
        <p:blipFill>
          <a:blip r:embed="rId2"/>
          <a:stretch/>
        </p:blipFill>
        <p:spPr>
          <a:xfrm>
            <a:off x="1042920" y="234936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n games were held in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- Sankt-Morize in 1928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Switzerl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– Lake Placid in 1932 (U.S.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-  Garmisch Partenkirchen in 1936 (German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- Sankt-Morize in 1948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Switzerl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 - Oslo in 1952 (Norwa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 – Kortina-d`Ampezzo in 1956 (Ital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 – Squaw Valley in 1960 (U.S.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 – Innsbruck in 1964 (Autrich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 - Grenoble in 1968 (Fran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 - Sapporo in 1972 (Japa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 - Innsbruck in 1976 (Autrich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 - Lake Placid in 1980 (U.S.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 - Sarajevo in 1984 (Yugoslavi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 - Calgary in 1988 (Canad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 - Alberlvil in 1992 (Fran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7 - Lillehammer in 1994 (Norwa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 - Nagano in 1998 (Japa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 – Salt Lake in 2002 (U.S.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 Winter Olympic Games were held in 2006 in Torino (Ital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i?id=12338241&amp;tov=0"/>
          <p:cNvPicPr/>
          <p:nvPr/>
        </p:nvPicPr>
        <p:blipFill>
          <a:blip r:embed="rId2"/>
          <a:stretch/>
        </p:blipFill>
        <p:spPr>
          <a:xfrm>
            <a:off x="1187280" y="1844640"/>
            <a:ext cx="6913800" cy="468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 Winter Olympic Games will be held in Vancouver in 2010 (Canad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i?id=2411167&amp;tov=2"/>
          <p:cNvPicPr/>
          <p:nvPr/>
        </p:nvPicPr>
        <p:blipFill>
          <a:blip r:embed="rId2"/>
          <a:stretch/>
        </p:blipFill>
        <p:spPr>
          <a:xfrm>
            <a:off x="611280" y="1628640"/>
            <a:ext cx="3529080" cy="482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i?id=25630017&amp;tov=8"/>
          <p:cNvPicPr/>
          <p:nvPr/>
        </p:nvPicPr>
        <p:blipFill>
          <a:blip r:embed="rId3"/>
          <a:stretch/>
        </p:blipFill>
        <p:spPr>
          <a:xfrm>
            <a:off x="4140360" y="1628640"/>
            <a:ext cx="4464000" cy="4824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2 Winter Olympic Games will be held in  Sochi in 2014. (Russia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i?id=30099409&amp;tov=0"/>
          <p:cNvPicPr/>
          <p:nvPr/>
        </p:nvPicPr>
        <p:blipFill>
          <a:blip r:embed="rId2"/>
          <a:stretch/>
        </p:blipFill>
        <p:spPr>
          <a:xfrm>
            <a:off x="250920" y="1844640"/>
            <a:ext cx="4032000" cy="475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35453811&amp;tov=4"/>
          <p:cNvPicPr/>
          <p:nvPr/>
        </p:nvPicPr>
        <p:blipFill>
          <a:blip r:embed="rId3"/>
          <a:stretch/>
        </p:blipFill>
        <p:spPr>
          <a:xfrm>
            <a:off x="4284720" y="1844640"/>
            <a:ext cx="4319640" cy="4753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mmer Olympic Gam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i?id=11295477&amp;tov=6"/>
          <p:cNvPicPr/>
          <p:nvPr/>
        </p:nvPicPr>
        <p:blipFill>
          <a:blip r:embed="rId2"/>
          <a:stretch/>
        </p:blipFill>
        <p:spPr>
          <a:xfrm>
            <a:off x="324000" y="1700280"/>
            <a:ext cx="2808000" cy="223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?id=22937255&amp;tov=6"/>
          <p:cNvPicPr/>
          <p:nvPr/>
        </p:nvPicPr>
        <p:blipFill>
          <a:blip r:embed="rId3"/>
          <a:stretch/>
        </p:blipFill>
        <p:spPr>
          <a:xfrm>
            <a:off x="3132000" y="1700280"/>
            <a:ext cx="2952720" cy="2233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i?id=13248813&amp;tov=5"/>
          <p:cNvPicPr/>
          <p:nvPr/>
        </p:nvPicPr>
        <p:blipFill>
          <a:blip r:embed="rId4"/>
          <a:stretch/>
        </p:blipFill>
        <p:spPr>
          <a:xfrm>
            <a:off x="6084720" y="1700280"/>
            <a:ext cx="2448000" cy="22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i?id=84239132&amp;tov=4"/>
          <p:cNvPicPr/>
          <p:nvPr/>
        </p:nvPicPr>
        <p:blipFill>
          <a:blip r:embed="rId5"/>
          <a:stretch/>
        </p:blipFill>
        <p:spPr>
          <a:xfrm>
            <a:off x="324000" y="3933720"/>
            <a:ext cx="2808000" cy="2590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i?id=69890662&amp;tov=6"/>
          <p:cNvPicPr/>
          <p:nvPr/>
        </p:nvPicPr>
        <p:blipFill>
          <a:blip r:embed="rId6"/>
          <a:stretch/>
        </p:blipFill>
        <p:spPr>
          <a:xfrm>
            <a:off x="3132000" y="393372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?id=2592197&amp;tov=0"/>
          <p:cNvPicPr/>
          <p:nvPr/>
        </p:nvPicPr>
        <p:blipFill>
          <a:blip r:embed="rId7"/>
          <a:stretch/>
        </p:blipFill>
        <p:spPr>
          <a:xfrm>
            <a:off x="6084720" y="3933720"/>
            <a:ext cx="2448000" cy="2590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8:08:34Z</dcterms:created>
  <dc:creator>дина</dc:creator>
  <dc:description/>
  <dc:language>en-US</dc:language>
  <cp:lastModifiedBy>Admin</cp:lastModifiedBy>
  <dcterms:modified xsi:type="dcterms:W3CDTF">2013-01-14T19:42:30Z</dcterms:modified>
  <cp:revision>5</cp:revision>
  <dc:subject/>
  <dc:title>    The Winter Olympic Games</dc:title>
</cp:coreProperties>
</file>