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E276-F5D8-43A6-9FCA-EC2789B3A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69E7-4318-4DE5-8616-A2AB2CE45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F9DE-D68D-413B-826A-4ED84C9D7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7FA6-1D87-4FE2-BC11-26BCF59B7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48C9BA-E971-4EEE-970D-63D99CC06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CB148B-9F65-45D4-B918-6708EFD60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21A840-9EAC-45DD-A901-D163D9226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3DD991-D093-4C79-B3D3-77EFA4220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081347-19B0-4E2B-B24B-1CA04AA42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A62676-8827-40B3-9E75-436A04918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2F4B28-4B5B-4D55-BDDE-E0AE96A7B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47B3-8D77-48BA-973F-EE47B5787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637681-9653-4CD5-B06D-266A733E8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DB7268-88D3-4921-B0E7-40B58F5F0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AE57F0-DD66-4F2D-9B29-BAC9B66CB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A44DD5-F46D-4FA0-B175-B469C9CE8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7791C2-256F-4C3F-927A-B78B2BEF8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F547-FA8D-4A36-94FE-674F2BC7B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66DE-3980-4AED-A0F1-E2BF0D96C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9036-E990-494F-B907-A3A5A122C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2A5F-209E-45C1-A595-4A93D9F2D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12C0-A27E-4BFF-A3C5-1527BFD7D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F003-8818-4454-B45C-B85678B42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CC22-967E-4A52-AFC6-7126474FB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44D26-72BD-408C-90FB-670BC739527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C7682-C777-4B58-8EA6-77A74EDE91B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Olympic Gam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Picture 7" descr="i?id=37561841&amp;tov=7"/>
          <p:cNvPicPr/>
          <p:nvPr/>
        </p:nvPicPr>
        <p:blipFill>
          <a:blip r:embed="rId2"/>
          <a:stretch/>
        </p:blipFill>
        <p:spPr>
          <a:xfrm>
            <a:off x="1428840" y="1643040"/>
            <a:ext cx="6377040" cy="371484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wheel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ummer Olympic Games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195280" y="981000"/>
            <a:ext cx="43210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otball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asketball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thletics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ycling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wimming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ox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ailing, etc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20000"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291520" cy="83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e first Summer Olympic Games were held in 1896 in Athens (Greece)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Picture 5" descr="i?id=39496529&amp;tov=4"/>
          <p:cNvPicPr/>
          <p:nvPr/>
        </p:nvPicPr>
        <p:blipFill>
          <a:blip r:embed="rId2"/>
          <a:stretch/>
        </p:blipFill>
        <p:spPr>
          <a:xfrm>
            <a:off x="539640" y="1773360"/>
            <a:ext cx="3961080" cy="4824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i?id=18612889&amp;tov=3"/>
          <p:cNvPicPr/>
          <p:nvPr/>
        </p:nvPicPr>
        <p:blipFill>
          <a:blip r:embed="rId3"/>
          <a:stretch/>
        </p:blipFill>
        <p:spPr>
          <a:xfrm>
            <a:off x="4500720" y="1773360"/>
            <a:ext cx="3744720" cy="482436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e 22nd Summer Olympic Games were held in 1980 in Moscow (USSR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Picture 5" descr="i?id=72738001&amp;tov=2"/>
          <p:cNvPicPr/>
          <p:nvPr/>
        </p:nvPicPr>
        <p:blipFill>
          <a:blip r:embed="rId2"/>
          <a:stretch/>
        </p:blipFill>
        <p:spPr>
          <a:xfrm>
            <a:off x="468360" y="1916280"/>
            <a:ext cx="3311640" cy="46083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7" descr="i?id=64162657&amp;tov=0"/>
          <p:cNvPicPr/>
          <p:nvPr/>
        </p:nvPicPr>
        <p:blipFill>
          <a:blip r:embed="rId3"/>
          <a:stretch/>
        </p:blipFill>
        <p:spPr>
          <a:xfrm>
            <a:off x="5219640" y="1916280"/>
            <a:ext cx="3097440" cy="453708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wheel spokes="8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e 27th Summer Olympic Games were held in Sydney in 2000 (Australia)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Picture 5" descr="i?id=85347221&amp;tov=3"/>
          <p:cNvPicPr/>
          <p:nvPr/>
        </p:nvPicPr>
        <p:blipFill>
          <a:blip r:embed="rId2"/>
          <a:stretch/>
        </p:blipFill>
        <p:spPr>
          <a:xfrm>
            <a:off x="1692360" y="1916280"/>
            <a:ext cx="5616360" cy="468144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heel spokes="8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e 28th Summer Olympic Games were held in 2004 in Athens (Greece)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Picture 5" descr="i?id=17014963&amp;tov=0"/>
          <p:cNvPicPr/>
          <p:nvPr/>
        </p:nvPicPr>
        <p:blipFill>
          <a:blip r:embed="rId2"/>
          <a:stretch/>
        </p:blipFill>
        <p:spPr>
          <a:xfrm>
            <a:off x="1979640" y="1989000"/>
            <a:ext cx="4738680" cy="446436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wheel spokes="8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e 29th Summer Olympic Games was held in 2008 in Beijing(China)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Picture 5" descr="i?id=5743415&amp;tov=5"/>
          <p:cNvPicPr/>
          <p:nvPr/>
        </p:nvPicPr>
        <p:blipFill>
          <a:blip r:embed="rId2"/>
          <a:stretch/>
        </p:blipFill>
        <p:spPr>
          <a:xfrm>
            <a:off x="468360" y="1844640"/>
            <a:ext cx="3456000" cy="46087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i?id=38055822&amp;tov=5"/>
          <p:cNvPicPr/>
          <p:nvPr/>
        </p:nvPicPr>
        <p:blipFill>
          <a:blip r:embed="rId3"/>
          <a:stretch/>
        </p:blipFill>
        <p:spPr>
          <a:xfrm>
            <a:off x="3995640" y="1844640"/>
            <a:ext cx="4392720" cy="460872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wheel spokes="8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e 30th Summer Olympic Games will be held in 2012 in London (Great Britain)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Picture 5" descr="i?id=47417436&amp;tov=7"/>
          <p:cNvPicPr/>
          <p:nvPr/>
        </p:nvPicPr>
        <p:blipFill>
          <a:blip r:embed="rId2"/>
          <a:stretch/>
        </p:blipFill>
        <p:spPr>
          <a:xfrm>
            <a:off x="1187280" y="2060640"/>
            <a:ext cx="6697800" cy="417672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wheel spokes="8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40000" y="2707920"/>
            <a:ext cx="44640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Tahoma"/>
              </a:rPr>
              <a:t>The End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10000">
    <p:wheel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inter Olympic Gam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Picture 10" descr="i?id=60434512&amp;tov=4"/>
          <p:cNvPicPr/>
          <p:nvPr/>
        </p:nvPicPr>
        <p:blipFill>
          <a:blip r:embed="rId2"/>
          <a:stretch/>
        </p:blipFill>
        <p:spPr>
          <a:xfrm>
            <a:off x="468360" y="1557360"/>
            <a:ext cx="2808360" cy="25210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2" descr="i?id=16136183&amp;tov=5"/>
          <p:cNvPicPr/>
          <p:nvPr/>
        </p:nvPicPr>
        <p:blipFill>
          <a:blip r:embed="rId3"/>
          <a:stretch/>
        </p:blipFill>
        <p:spPr>
          <a:xfrm>
            <a:off x="3276720" y="1557360"/>
            <a:ext cx="2736720" cy="25210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4" descr="i?id=27618495&amp;tov=6"/>
          <p:cNvPicPr/>
          <p:nvPr/>
        </p:nvPicPr>
        <p:blipFill>
          <a:blip r:embed="rId4"/>
          <a:stretch/>
        </p:blipFill>
        <p:spPr>
          <a:xfrm>
            <a:off x="6012000" y="1557360"/>
            <a:ext cx="2663640" cy="25192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6" descr="i?id=7458505&amp;tov=4"/>
          <p:cNvPicPr/>
          <p:nvPr/>
        </p:nvPicPr>
        <p:blipFill>
          <a:blip r:embed="rId5"/>
          <a:stretch/>
        </p:blipFill>
        <p:spPr>
          <a:xfrm>
            <a:off x="468360" y="4076640"/>
            <a:ext cx="2808360" cy="25210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8" descr="i?id=78569351&amp;tov=0"/>
          <p:cNvPicPr/>
          <p:nvPr/>
        </p:nvPicPr>
        <p:blipFill>
          <a:blip r:embed="rId6"/>
          <a:stretch/>
        </p:blipFill>
        <p:spPr>
          <a:xfrm>
            <a:off x="6012000" y="4076640"/>
            <a:ext cx="2663640" cy="25210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0" descr="i?id=4796914&amp;tov=7"/>
          <p:cNvPicPr/>
          <p:nvPr/>
        </p:nvPicPr>
        <p:blipFill>
          <a:blip r:embed="rId7"/>
          <a:stretch/>
        </p:blipFill>
        <p:spPr>
          <a:xfrm>
            <a:off x="3276720" y="4076640"/>
            <a:ext cx="2735280" cy="252108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wheel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050560" y="1413000"/>
            <a:ext cx="5256360" cy="448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Winter Olympic Games: 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biathlon,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tobogan,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curling,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ice hockey,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skating,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skiing,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figure skating, etc.</a:t>
            </a:r>
            <a:br>
              <a:rPr sz="3200"/>
            </a:b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10000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e first Olympic Games were held in Shamoni in 1924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n Franc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е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Picture 5" descr="i?id=12157697&amp;tov=8"/>
          <p:cNvPicPr/>
          <p:nvPr/>
        </p:nvPicPr>
        <p:blipFill>
          <a:blip r:embed="rId2"/>
          <a:stretch/>
        </p:blipFill>
        <p:spPr>
          <a:xfrm>
            <a:off x="1042920" y="2349360"/>
            <a:ext cx="7129440" cy="381636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en games were held in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76500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 - Sankt-Morize in 1928 (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Switzerland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 – Lake Placid in 1932 (U.S.A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4 -  Garmisch Partenkirchen in 1936 (Germany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5 - Sankt-Morize in 1948 (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Switzerland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6 - Oslo in 1952 (Norway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7 – Kortina-d`Ampezzo in 1956 (Italy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8 – Squaw Valley in 1960 (U.S.A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9 – Innsbruck in 1964 (Autriche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0 - Grenoble in 1968 (France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1 - Sapporo in 1972 (Japan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2 - Innsbruck in 1976 (Autriche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3 - Lake Placid in 1980 (U.S.A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4 - Sarajevo in 1984 (Yugoslavia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5 - Calgary in 1988 (Canada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6 - Alberlvil in 1992 (France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7 - Lillehammer in 1994 (Norway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8 - Nagano in 1998 (Japan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9 – Salt Lake in 2002 (U.S.A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30000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ast Winter Olympic Games were held in 2006 in Torino (Italy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Picture 5" descr="i?id=12338241&amp;tov=0"/>
          <p:cNvPicPr/>
          <p:nvPr/>
        </p:nvPicPr>
        <p:blipFill>
          <a:blip r:embed="rId2"/>
          <a:stretch/>
        </p:blipFill>
        <p:spPr>
          <a:xfrm>
            <a:off x="1187280" y="1844640"/>
            <a:ext cx="6913800" cy="468144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1 Winter Olympic Games will be held in Vancouver in 2010 (Canada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Picture 5" descr="i?id=2411167&amp;tov=2"/>
          <p:cNvPicPr/>
          <p:nvPr/>
        </p:nvPicPr>
        <p:blipFill>
          <a:blip r:embed="rId2"/>
          <a:stretch/>
        </p:blipFill>
        <p:spPr>
          <a:xfrm>
            <a:off x="611280" y="1628640"/>
            <a:ext cx="3529080" cy="48247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i?id=25630017&amp;tov=8"/>
          <p:cNvPicPr/>
          <p:nvPr/>
        </p:nvPicPr>
        <p:blipFill>
          <a:blip r:embed="rId3"/>
          <a:stretch/>
        </p:blipFill>
        <p:spPr>
          <a:xfrm>
            <a:off x="4140360" y="1628640"/>
            <a:ext cx="4464000" cy="482472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22 Winter Olympic Games will be held in  Sochi in 2014. (Russia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Picture 5" descr="i?id=30099409&amp;tov=0"/>
          <p:cNvPicPr/>
          <p:nvPr/>
        </p:nvPicPr>
        <p:blipFill>
          <a:blip r:embed="rId2"/>
          <a:stretch/>
        </p:blipFill>
        <p:spPr>
          <a:xfrm>
            <a:off x="250920" y="1844640"/>
            <a:ext cx="4032000" cy="47530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i?id=35453811&amp;tov=4"/>
          <p:cNvPicPr/>
          <p:nvPr/>
        </p:nvPicPr>
        <p:blipFill>
          <a:blip r:embed="rId3"/>
          <a:stretch/>
        </p:blipFill>
        <p:spPr>
          <a:xfrm>
            <a:off x="4284720" y="1844640"/>
            <a:ext cx="4319640" cy="475308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ummer Olympic Games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Picture 5" descr="i?id=11295477&amp;tov=6"/>
          <p:cNvPicPr/>
          <p:nvPr/>
        </p:nvPicPr>
        <p:blipFill>
          <a:blip r:embed="rId2"/>
          <a:stretch/>
        </p:blipFill>
        <p:spPr>
          <a:xfrm>
            <a:off x="324000" y="1700280"/>
            <a:ext cx="2808000" cy="22334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7" descr="i?id=22937255&amp;tov=6"/>
          <p:cNvPicPr/>
          <p:nvPr/>
        </p:nvPicPr>
        <p:blipFill>
          <a:blip r:embed="rId3"/>
          <a:stretch/>
        </p:blipFill>
        <p:spPr>
          <a:xfrm>
            <a:off x="3132000" y="1700280"/>
            <a:ext cx="2952720" cy="22334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9" descr="i?id=13248813&amp;tov=5"/>
          <p:cNvPicPr/>
          <p:nvPr/>
        </p:nvPicPr>
        <p:blipFill>
          <a:blip r:embed="rId4"/>
          <a:stretch/>
        </p:blipFill>
        <p:spPr>
          <a:xfrm>
            <a:off x="6084720" y="1700280"/>
            <a:ext cx="2448000" cy="22334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1" descr="i?id=84239132&amp;tov=4"/>
          <p:cNvPicPr/>
          <p:nvPr/>
        </p:nvPicPr>
        <p:blipFill>
          <a:blip r:embed="rId5"/>
          <a:stretch/>
        </p:blipFill>
        <p:spPr>
          <a:xfrm>
            <a:off x="324000" y="3933720"/>
            <a:ext cx="2808000" cy="25909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3" descr="i?id=69890662&amp;tov=6"/>
          <p:cNvPicPr/>
          <p:nvPr/>
        </p:nvPicPr>
        <p:blipFill>
          <a:blip r:embed="rId6"/>
          <a:stretch/>
        </p:blipFill>
        <p:spPr>
          <a:xfrm>
            <a:off x="3132000" y="3933720"/>
            <a:ext cx="2952720" cy="25909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5" descr="i?id=2592197&amp;tov=0"/>
          <p:cNvPicPr/>
          <p:nvPr/>
        </p:nvPicPr>
        <p:blipFill>
          <a:blip r:embed="rId7"/>
          <a:stretch/>
        </p:blipFill>
        <p:spPr>
          <a:xfrm>
            <a:off x="6084720" y="3933720"/>
            <a:ext cx="2448000" cy="259092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wheel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7T08:08:34Z</dcterms:created>
  <dc:creator>дина</dc:creator>
  <dc:description/>
  <dc:language>en-US</dc:language>
  <cp:lastModifiedBy>Admin</cp:lastModifiedBy>
  <dcterms:modified xsi:type="dcterms:W3CDTF">2013-01-14T19:42:30Z</dcterms:modified>
  <cp:revision>5</cp:revision>
  <dc:subject/>
  <dc:title>    The Winter Olympic Games</dc:title>
</cp:coreProperties>
</file>