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35B-399A-4343-9C2E-638B2EA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6D7-388A-4E0B-9C73-4693CE5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9A6-8864-44C3-8795-3DEB89FB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05D-EE3F-4EDC-86AF-709F4686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285-EB2F-41E9-B269-40CA55B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BF-2A98-4B8D-AA0B-BF07F73C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598-38D2-4E4B-AED3-2AFE1D7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B9D-005F-4A79-A2AD-64E68404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81E-BD02-45C5-BC2A-B65A489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3E3-6EE9-4B11-8B78-27AA463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BE0-3B00-494D-9F3A-2166110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CB9-6641-4622-A6E9-C34350A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5BCD-6ADE-4937-8A8D-AE6296218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ЯРОСЛАВЛЬ.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82632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012000" y="4941720"/>
            <a:ext cx="33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БОУ Лицей № 5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Санкт-Петербур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расова Людмила Алексе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атр Волков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Волкова просто необходимо увидеть, ведь это первый русский театр, открытый для посещения публики. Купеческий сын Федор Григорьевич Волков основал этот общедоступный театр в 1750 года – именно с этой даты театр стал публичным и переехал в здание на Волге. Предполагают, что до этого события первые спектакли ставились в большом амбаре для узкой группы театр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1818 году ярославский архитектор П.Я.Паньков вышел с ходатайством к властям города Ярославля о постройке нового здания театра. Власти поддержали Панькова и новый театр был построен и открыт в 1819 году. Он полностью принадлежал Панькову. Здание было построено на каменном фундаменте, но деревянным. До наших дней это сооружение не сохранилос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за годы существования претерпел массу изменений в архитектурном плане. Современный облик театра – это модернизированный проект архитектора Н.А.Спирина - «Фигуры, танцующие в круге». Таким театр торжественно открылся в 1911 году и внешний облик с тех пор пострадал мало. Скульптурные фризы по рисункам Спирина на фасадах театра сохранились полностью, хоть театр и был в 1964 основательно перестроен и расшире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9" descr="1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"/>
          <p:cNvPicPr/>
          <p:nvPr/>
        </p:nvPicPr>
        <p:blipFill>
          <a:blip r:embed="rId2"/>
          <a:stretch/>
        </p:blipFill>
        <p:spPr>
          <a:xfrm>
            <a:off x="657360" y="4114800"/>
            <a:ext cx="3638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лжская Набережная Ярославля.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вое время А.Н.Островский, посетив Ярославль, записал в дневнике: «Набережная на Волге уж куда как хороша». Волжская набережная сложилась в XVII -XX веках. К 1000-летию города набережная будет полностью реконструирована и предстанет перед ярославцами и гостями города во всем великолепии. От вашего взгляда не ускользнет и Стрелка - высокий мыс при впадении реки Которосли в реку Волгу. По преданию, Стрелка – это место основания Ярославля, а сейчас весьма популярное место досуга горожан. Полномасштабная реконструкция Волжской Набережной и Стрелки была проведена в ходе подготовки к празднованию 1000-летия Ярославл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7" descr="ЯРОСЛ"/>
          <p:cNvPicPr/>
          <p:nvPr/>
        </p:nvPicPr>
        <p:blipFill>
          <a:blip r:embed="rId1"/>
          <a:stretch/>
        </p:blipFill>
        <p:spPr>
          <a:xfrm>
            <a:off x="1476360" y="4114800"/>
            <a:ext cx="63356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3205080" y="1557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езжайте в славный город на верхней Волге – Ярославль. Достопримечательности Ярославля не оставят вас равнодушными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рославль по праву считается жемчужиной в «Золотом кольце» древнерусских городов, одной из архитектурных столиц России. С высокого обрывистого мыса на правобережье Волги, у места слияния с ней реки Которосли, открываются великолепные виды на необъятные дали Заволжья, на панораму города, украшенную цепью величественных храмов. Здесь, на Стрелке, начиналась многовековая история Ярославл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ти 1000 лет назад, в 1010 году, ростовский князь Ярослав Мудрый, стремясь обезопасить подступы к одному из крупнейший городов Северо-Восточной Руси - Ростову Великому, основал здесь город- крепость и назвал его «во свое имя». Раньше на этом месте находилось поселение язычников, «рекомое Медвежий угол». Его жители, потомки угро-финских племен, смешавшимся с пришлым славянским населением, занимались земледелием, охотой и рыболовств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476360" y="33336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РОСЛАВЛЬ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Герб Ярославля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46716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круг, в радиусе 10-12 километров, существовало еще несколько таких же селищ, обитатели которых оставили грандиозные некрополи. Согласно преданию, князь Ярослав покорил местных жителей, убив священного зверя- медведя. Об этих полулегендарных событиях напоминает известный с XVII века герб города: «В серебряном щите медведь, стоячи, держит в левой лапе золотую секиру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Достопримечательност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0" name="Picture 9" descr="1"/>
          <p:cNvPicPr/>
          <p:nvPr/>
        </p:nvPicPr>
        <p:blipFill>
          <a:blip r:embed="rId1"/>
          <a:stretch/>
        </p:blipFill>
        <p:spPr>
          <a:xfrm>
            <a:off x="1476360" y="162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"/>
          <p:cNvPicPr/>
          <p:nvPr/>
        </p:nvPicPr>
        <p:blipFill>
          <a:blip r:embed="rId2"/>
          <a:stretch/>
        </p:blipFill>
        <p:spPr>
          <a:xfrm>
            <a:off x="5076720" y="1628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3"/>
          <a:stretch/>
        </p:blipFill>
        <p:spPr>
          <a:xfrm>
            <a:off x="1476360" y="393372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"/>
          <p:cNvPicPr/>
          <p:nvPr/>
        </p:nvPicPr>
        <p:blipFill>
          <a:blip r:embed="rId4"/>
          <a:stretch/>
        </p:blipFill>
        <p:spPr>
          <a:xfrm>
            <a:off x="5076720" y="393372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Спасо-Преображенский монастырь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Это главная достопримечательность Ярославля. Настоящего кремля в Ярославле нет, в Ярославле его заменяет бывший Спасский монастырь. Обитель была построена в 12 веке с целью защиты границ города. Впоследствии в монастыре было открыто первое на северо-востоке Руси училище, благодаря чему ширилось собрание славянских и греческих рукописей. В монастырской библиотеке хранилось собрание старопечатных книг и рукописей. Среди них был список древнерусской поэмы «Слово о полку Игореве», в конце 18-го начале 19 века найденный и опубликованный А.И. Мусиным-Пушкиным. Монастырь был окружен толстыми и высокими каменными стенами, сюда в 16-м веке была перенесена государственная казна. В памятном 1612-м году монастырь становится штабом Минина и Пожарского во время ополчения Суздаля, Костромы, Владимира и других городов. К 1764 г. храм вошел в число шестнадцати крупнейших монастырей. Центральное сооружение монастыря - Спасо-Преображенский собор - стало усыпальницей не только князей, но и богатых горожан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На центральной площади монастыря с восточной стороны расположилась звонница, построенная в 16-м веке. Не забудьте посетить звонницу Спасского монастыря - эту великолепную смотровую площадку. Отсюда перед вами открывается чудесный вид на славный город Ярославль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Именно в Спасо-Преображенского монастыре находятся мощи правящих в конце 13-го века святых князей Федора Черного и его сыновей Давида и Константина. Они почитались всегда у ярославцев как покровители город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В стенах Спасо-Преображенского монастыря расположен Ярославский государственный историко-архитектурный и художественный музей-заповедник. Музей был создан в 1865 г. и является крупнейшим музеем области. Богатейшая коллекция включает в себя иконы, драгоценные ткани, церковную утварь и рукописи. Многие произведения древнерусского искусства 15-19 веков из фондов музея успешно экспонировались в Европе, Японии и СШ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7" descr="2"/>
          <p:cNvPicPr/>
          <p:nvPr/>
        </p:nvPicPr>
        <p:blipFill>
          <a:blip r:embed="rId1"/>
          <a:stretch/>
        </p:blipFill>
        <p:spPr>
          <a:xfrm>
            <a:off x="457200" y="1844640"/>
            <a:ext cx="3683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Церковь Ильи Пророк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ожно не заметить в центре Ярославля Церковь Ильи Пророка - она расположилась на улице Советская. Возведенная на месте двух деревянных храмов церковь стала одним из главных архитектурных сооружений города и центром административной площади Ярославля. Это настоящая сокровищница древнерусского искусства, над ее внутренним и внешним убранством работали лучшие мастера своего време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ковь была построена в середине 17-го века на средства скупщиков пушнины братьев Аникея и Нифантея Скрипиных. Эта церковь сильнейшим образом повлияла на развитие ярославской школы архитектуры и живописи. Росписи стен посвящены житию Ильи Пророка и его ученика Елисея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рам является одним из наиболее полно сохранившихся памятников Ярославля. В 1898—1904 гг. в церкви была проведена масштабная реставрация. С 1920 года и вплоть до наших дней храм функционирует как музе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Храм Архангела Михаи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лепие гарнизонного храма в Ярославле - Храма Архангела Михаила также не оставит вас равнодушными. Храм был построен на средства горожан во второй половине 17 века, внутренним оформлением занимались местные мастера, имена которых написаны на южной стене. В храме в свое время хранились несколько особо почитаемых икон, среди которых был образ Богоматери Владимирс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7" descr="2"/>
          <p:cNvPicPr/>
          <p:nvPr/>
        </p:nvPicPr>
        <p:blipFill>
          <a:blip r:embed="rId1"/>
          <a:stretch/>
        </p:blipFill>
        <p:spPr>
          <a:xfrm>
            <a:off x="457200" y="2060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Успенский кафедральный собор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ентябре 2010 года Ярославль с размахом отметил свое 1000-летие со дня основания. К этому грандиозному юбилею в городе появился ряд новых объектов, которые по праву стали новыми и прекрасными достопримечательностями Ярославля. В Ярославле был во всем великолепии восстановлен Успенский кафедральный собор. Этот новый для города памятник архитектуры и место поклонения для многих православных христиан 12 сентября 2010 года, в день памяти святого благоверного князя Александра Невского, освятил Патриарх Московский и всея Руси Кирилл. Успенский кафедральный собор просто необходимо увидеть, если вы собираетесь в Ярославл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27f4c"/>
                </a:solidFill>
                <a:latin typeface="Tahoma"/>
              </a:rPr>
              <a:t>Толгский монастырь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лгский монастырь (основан в 1314 г. в устье реки Толги) всегда привлекал своей красотой и убранством как ярославцев, так и туристов. Посетите его, чтобы лицезреть один из лучших ярославских архитектурных ансамблей, сложившийся во второй половине XVII - начале XVIII веков. В истории русского искусства монастырь известен также связанными с ним иконами "Толгская богоматерь" начала 14 века и более поздними их повторения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нование Толгского монастыря связано с чудесным явлением Толгской иконы Богоматери. Эта икона, положившая начало обители, сохранилась и доныне. Постепенно чудеса и исцеления, совершаемые иконой, сделали монастырь известным. Часто посещали монастырь члены царствующей фамилии, которые были также и вкладчиками монастыря. Периодически посещают монастырь и руководители современного российского государст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7" descr="ЯРОСЛ"/>
          <p:cNvPicPr/>
          <p:nvPr/>
        </p:nvPicPr>
        <p:blipFill>
          <a:blip r:embed="rId1"/>
          <a:stretch/>
        </p:blipFill>
        <p:spPr>
          <a:xfrm>
            <a:off x="826920" y="2060640"/>
            <a:ext cx="3600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8:49:36Z</dcterms:created>
  <dc:creator>kristina</dc:creator>
  <dc:description/>
  <dc:language>en-US</dc:language>
  <cp:lastModifiedBy>ТарасоваЛА</cp:lastModifiedBy>
  <dcterms:modified xsi:type="dcterms:W3CDTF">2012-11-27T12:45:01Z</dcterms:modified>
  <cp:revision>3</cp:revision>
  <dc:subject/>
  <dc:title>ЯРОСЛАВЛЬ.</dc:title>
</cp:coreProperties>
</file>