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0.jpeg" ContentType="image/jpeg"/>
  <Override PartName="/ppt/media/image11.jpeg" ContentType="image/jpeg"/>
  <Override PartName="/ppt/media/image13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1D30-0A86-47EE-8B3D-741B954C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A559-24EA-411E-9204-B277848E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582E-F2B3-473C-A654-C4373854C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D5E3-1D43-49DD-8EF6-D7C400453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06C8-31A5-4267-8061-57C1BB2D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DE83-14F5-4396-B5A5-C5FF8B97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5E1A-02C2-46DA-A528-C88A16B0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521A-AD2C-4B11-9247-0B60881C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DC74-1CFE-4C0C-837A-BFFE21D2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90CF-6BD6-4855-AEA3-B96313B6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A42A-A164-4278-AEB6-C4C6F25F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5836-A5DE-49F0-B160-D40B6F7C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1603-EA61-4FB2-95E5-C39C93578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6.xml"/><Relationship Id="rId3" Type="http://schemas.openxmlformats.org/officeDocument/2006/relationships/slide" Target="slide28.xm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29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2.xml"/><Relationship Id="rId3" Type="http://schemas.openxmlformats.org/officeDocument/2006/relationships/slide" Target="slide31.xm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htus.ru/chron/22003/15b.jp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coport.org.ua/files/1_726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биологии: Галковская И.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 учебнику Константинова В.М., Бабенко В.Г., Кучменко В.С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62120" y="2209680"/>
            <a:ext cx="754380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66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рненожки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66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66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меба обыкновенн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66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280" y="-39600"/>
            <a:ext cx="86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разовательное учреждение Петровская средня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щеобразовательная школа Урюпинский район Волгоград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ставь слово в пред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Амеба размножается…………..пут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За сутки деление амебы происходит…………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В неблагоприятных условиях амеба образует…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Циста служит для перенесения неблагоприятных условий и для………………амеб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В состоянии цисты амеба переживает повышенные и пониженные температуры, а так же ………………..водо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1106640"/>
            <a:ext cx="1619280" cy="459720"/>
          </a:xfrm>
          <a:prstGeom prst="rect">
            <a:avLst/>
          </a:prstGeom>
          <a:solidFill>
            <a:srgbClr val="8dc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спол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2173320"/>
            <a:ext cx="866520" cy="459720"/>
          </a:xfrm>
          <a:prstGeom prst="rect">
            <a:avLst/>
          </a:prstGeom>
          <a:solidFill>
            <a:srgbClr val="8dc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42120" y="3240000"/>
            <a:ext cx="971640" cy="459720"/>
          </a:xfrm>
          <a:prstGeom prst="rect">
            <a:avLst/>
          </a:prstGeom>
          <a:solidFill>
            <a:srgbClr val="8dc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30240" y="4687920"/>
            <a:ext cx="1843560" cy="459720"/>
          </a:xfrm>
          <a:prstGeom prst="rect">
            <a:avLst/>
          </a:prstGeom>
          <a:solidFill>
            <a:srgbClr val="8dc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19880" y="6059520"/>
            <a:ext cx="1762560" cy="459720"/>
          </a:xfrm>
          <a:prstGeom prst="rect">
            <a:avLst/>
          </a:prstGeom>
          <a:solidFill>
            <a:srgbClr val="8dc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сых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447920" y="2209680"/>
            <a:ext cx="61722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66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ногообразие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66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ковинные аме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ковинка – наружный скелет аме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267080" cy="2666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" y="3581280"/>
            <a:ext cx="5981760" cy="3030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52027" t="0" r="0" b="0"/>
          <a:stretch/>
        </p:blipFill>
        <p:spPr>
          <a:xfrm>
            <a:off x="6705720" y="3962520"/>
            <a:ext cx="2108160" cy="26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диоля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елет чаще из кремнезема, выполняет защитную функцию и увеличивает площадь поверхности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80920" y="1600200"/>
            <a:ext cx="318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876920" y="4648320"/>
            <a:ext cx="335268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аминиф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ружный скелет известковый или из сцементированных песчи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устые раковинки образуют осадочные по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4038480" cy="2700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" y="4076640"/>
            <a:ext cx="4000680" cy="2781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181480" y="4791240"/>
            <a:ext cx="3048120" cy="2066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990720" y="1981080"/>
            <a:ext cx="7391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dc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х,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dc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dc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ятерочка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dc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15000" y="2286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371600" y="48006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1295280" y="2819520"/>
            <a:ext cx="6172200" cy="533160"/>
          </a:xfrm>
          <a:prstGeom prst="flowChartTerminator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- одноклет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бери правильный 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Простейшие в большинстве своем животн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1219320" y="3657600"/>
            <a:ext cx="6172200" cy="457200"/>
          </a:xfrm>
          <a:prstGeom prst="flowChartTerminator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- Колониа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3" action="ppaction://hlinksldjump"/>
          </p:cNvPr>
          <p:cNvSpPr/>
          <p:nvPr/>
        </p:nvSpPr>
        <p:spPr>
          <a:xfrm>
            <a:off x="1295280" y="4419720"/>
            <a:ext cx="6172200" cy="457200"/>
          </a:xfrm>
          <a:prstGeom prst="flowChartTerminator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- многоклет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8229600" y="5181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64105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торой 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олько видов простейших известно в настоящее врем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990720" y="2971800"/>
            <a:ext cx="6172200" cy="533520"/>
          </a:xfrm>
          <a:prstGeom prst="flowChartTerminator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– 30 тыся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2" action="ppaction://hlinksldjump"/>
          </p:cNvPr>
          <p:cNvSpPr/>
          <p:nvPr/>
        </p:nvSpPr>
        <p:spPr>
          <a:xfrm>
            <a:off x="990720" y="3809880"/>
            <a:ext cx="6172200" cy="533520"/>
          </a:xfrm>
          <a:prstGeom prst="flowChartTerminator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– 70 тыся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3" action="ppaction://hlinksldjump"/>
          </p:cNvPr>
          <p:cNvSpPr/>
          <p:nvPr/>
        </p:nvSpPr>
        <p:spPr>
          <a:xfrm>
            <a:off x="1066680" y="4724280"/>
            <a:ext cx="6172200" cy="533520"/>
          </a:xfrm>
          <a:prstGeom prst="flowChartTerminator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– 100 тыся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7620120" y="5410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64105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етий 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 одноклеточные живут в в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990720" y="2971800"/>
            <a:ext cx="6172200" cy="533520"/>
          </a:xfrm>
          <a:prstGeom prst="flowChartTerminator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– 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990720" y="3886200"/>
            <a:ext cx="6172200" cy="533520"/>
          </a:xfrm>
          <a:prstGeom prst="flowChartTerminator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–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772400" y="5105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64105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твертый 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иста необходима амебе для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838080" y="2209680"/>
            <a:ext cx="6867720" cy="1371600"/>
          </a:xfrm>
          <a:prstGeom prst="flowChartTerminator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– перенесения неблагоприят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ловий среды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685800" y="3886200"/>
            <a:ext cx="6781680" cy="1219320"/>
          </a:xfrm>
          <a:prstGeom prst="flowChartTerminator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– расселения на дале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тоя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rId3" action="ppaction://hlinksldjump"/>
          </p:cNvPr>
          <p:cNvSpPr/>
          <p:nvPr/>
        </p:nvSpPr>
        <p:spPr>
          <a:xfrm>
            <a:off x="762120" y="5334120"/>
            <a:ext cx="6629400" cy="1295280"/>
          </a:xfrm>
          <a:prstGeom prst="flowChartTerminator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– верны оба предыдущ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792468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64105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ассификац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52280" y="1219320"/>
            <a:ext cx="8762400" cy="5333040"/>
            <a:chOff x="152280" y="1219320"/>
            <a:chExt cx="8762400" cy="5333040"/>
          </a:xfrm>
        </p:grpSpPr>
        <p:cxnSp>
          <p:nvCxnSpPr>
            <p:cNvPr id="46" name="_s6151"/>
            <p:cNvCxnSpPr>
              <a:stCxn id="47" idx="1"/>
              <a:endCxn id="48" idx="2"/>
            </p:cNvCxnSpPr>
            <p:nvPr/>
          </p:nvCxnSpPr>
          <p:spPr>
            <a:xfrm rot="10800000">
              <a:off x="5506920" y="4266000"/>
              <a:ext cx="487080" cy="762480"/>
            </a:xfrm>
            <a:prstGeom prst="bentConnector2">
              <a:avLst/>
            </a:prstGeom>
            <a:ln w="28440">
              <a:solidFill>
                <a:srgbClr val="666666"/>
              </a:solidFill>
              <a:miter/>
            </a:ln>
          </p:spPr>
        </p:cxnSp>
        <p:cxnSp>
          <p:nvCxnSpPr>
            <p:cNvPr id="49" name="_s6152"/>
            <p:cNvCxnSpPr>
              <a:stCxn id="50" idx="1"/>
              <a:endCxn id="51" idx="2"/>
            </p:cNvCxnSpPr>
            <p:nvPr/>
          </p:nvCxnSpPr>
          <p:spPr>
            <a:xfrm rot="10800000">
              <a:off x="1612440" y="4266000"/>
              <a:ext cx="487080" cy="1905480"/>
            </a:xfrm>
            <a:prstGeom prst="bentConnector2">
              <a:avLst/>
            </a:prstGeom>
            <a:ln w="28440">
              <a:solidFill>
                <a:srgbClr val="666666"/>
              </a:solidFill>
              <a:miter/>
            </a:ln>
          </p:spPr>
        </p:cxnSp>
        <p:cxnSp>
          <p:nvCxnSpPr>
            <p:cNvPr id="52" name="_s6153"/>
            <p:cNvCxnSpPr>
              <a:stCxn id="53" idx="1"/>
              <a:endCxn id="51" idx="2"/>
            </p:cNvCxnSpPr>
            <p:nvPr/>
          </p:nvCxnSpPr>
          <p:spPr>
            <a:xfrm rot="10800000">
              <a:off x="1612440" y="4266000"/>
              <a:ext cx="487080" cy="762480"/>
            </a:xfrm>
            <a:prstGeom prst="bentConnector2">
              <a:avLst/>
            </a:prstGeom>
            <a:ln w="28440">
              <a:solidFill>
                <a:srgbClr val="666666"/>
              </a:solidFill>
              <a:miter/>
            </a:ln>
          </p:spPr>
        </p:cxnSp>
        <p:cxnSp>
          <p:nvCxnSpPr>
            <p:cNvPr id="54" name="_s6154"/>
            <p:cNvCxnSpPr>
              <a:stCxn id="48" idx="0"/>
              <a:endCxn id="55" idx="2"/>
            </p:cNvCxnSpPr>
            <p:nvPr/>
          </p:nvCxnSpPr>
          <p:spPr>
            <a:xfrm flipV="1" rot="16200000">
              <a:off x="4348800" y="2346480"/>
              <a:ext cx="368280" cy="1947960"/>
            </a:xfrm>
            <a:prstGeom prst="bentConnector3">
              <a:avLst>
                <a:gd name="adj1" fmla="val 31115"/>
              </a:avLst>
            </a:prstGeom>
            <a:ln w="28440">
              <a:solidFill>
                <a:srgbClr val="666666"/>
              </a:solidFill>
              <a:miter/>
            </a:ln>
          </p:spPr>
        </p:cxnSp>
        <p:cxnSp>
          <p:nvCxnSpPr>
            <p:cNvPr id="56" name="_s6155"/>
            <p:cNvCxnSpPr>
              <a:stCxn id="51" idx="0"/>
              <a:endCxn id="55" idx="2"/>
            </p:cNvCxnSpPr>
            <p:nvPr/>
          </p:nvCxnSpPr>
          <p:spPr>
            <a:xfrm flipH="1" flipV="1" rot="5400000">
              <a:off x="2401920" y="2346480"/>
              <a:ext cx="368280" cy="1947960"/>
            </a:xfrm>
            <a:prstGeom prst="bentConnector3">
              <a:avLst>
                <a:gd name="adj1" fmla="val 31115"/>
              </a:avLst>
            </a:prstGeom>
            <a:ln w="28440">
              <a:solidFill>
                <a:srgbClr val="666666"/>
              </a:solidFill>
              <a:miter/>
            </a:ln>
          </p:spPr>
        </p:cxnSp>
        <p:cxnSp>
          <p:nvCxnSpPr>
            <p:cNvPr id="57" name="_s6156"/>
            <p:cNvCxnSpPr>
              <a:stCxn id="55" idx="0"/>
              <a:endCxn id="58" idx="2"/>
            </p:cNvCxnSpPr>
            <p:nvPr/>
          </p:nvCxnSpPr>
          <p:spPr>
            <a:xfrm flipV="1">
              <a:off x="3559680" y="1999080"/>
              <a:ext cx="3600" cy="349560"/>
            </a:xfrm>
            <a:prstGeom prst="bentConnector2">
              <a:avLst/>
            </a:prstGeom>
            <a:ln w="28440">
              <a:solidFill>
                <a:srgbClr val="666666"/>
              </a:solidFill>
              <a:miter/>
            </a:ln>
          </p:spPr>
        </p:cxnSp>
        <p:sp>
          <p:nvSpPr>
            <p:cNvPr id="58" name="_s6157"/>
            <p:cNvSpPr/>
            <p:nvPr/>
          </p:nvSpPr>
          <p:spPr>
            <a:xfrm>
              <a:off x="2099520" y="1219320"/>
              <a:ext cx="2920680" cy="761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666666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Царст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Живот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6158"/>
            <p:cNvSpPr/>
            <p:nvPr/>
          </p:nvSpPr>
          <p:spPr>
            <a:xfrm>
              <a:off x="2099520" y="2361960"/>
              <a:ext cx="2920680" cy="761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666666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Подцарст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Одноклеточ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6159"/>
            <p:cNvSpPr/>
            <p:nvPr/>
          </p:nvSpPr>
          <p:spPr>
            <a:xfrm>
              <a:off x="152280" y="3504960"/>
              <a:ext cx="2920680" cy="761760"/>
            </a:xfrm>
            <a:prstGeom prst="roundRect">
              <a:avLst>
                <a:gd name="adj" fmla="val 16667"/>
              </a:avLst>
            </a:prstGeom>
            <a:solidFill>
              <a:srgbClr val="ebebeb"/>
            </a:solidFill>
            <a:ln w="3240">
              <a:solidFill>
                <a:srgbClr val="666666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Тип Саркодовые и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Жгутиконосц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6160"/>
            <p:cNvSpPr/>
            <p:nvPr/>
          </p:nvSpPr>
          <p:spPr>
            <a:xfrm>
              <a:off x="4046760" y="3504960"/>
              <a:ext cx="2920680" cy="761760"/>
            </a:xfrm>
            <a:prstGeom prst="roundRect">
              <a:avLst>
                <a:gd name="adj" fmla="val 16667"/>
              </a:avLst>
            </a:prstGeom>
            <a:solidFill>
              <a:srgbClr val="ebebeb"/>
            </a:solidFill>
            <a:ln w="3240">
              <a:solidFill>
                <a:srgbClr val="666666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Тип Инфузори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6161"/>
            <p:cNvSpPr/>
            <p:nvPr/>
          </p:nvSpPr>
          <p:spPr>
            <a:xfrm>
              <a:off x="2099520" y="4647960"/>
              <a:ext cx="2920680" cy="761760"/>
            </a:xfrm>
            <a:prstGeom prst="roundRect">
              <a:avLst>
                <a:gd name="adj" fmla="val 16667"/>
              </a:avLst>
            </a:prstGeom>
            <a:solidFill>
              <a:srgbClr val="d9d9d9"/>
            </a:solidFill>
            <a:ln w="3240">
              <a:solidFill>
                <a:srgbClr val="666666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Класс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Саркодов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6162"/>
            <p:cNvSpPr/>
            <p:nvPr/>
          </p:nvSpPr>
          <p:spPr>
            <a:xfrm>
              <a:off x="2099520" y="5790600"/>
              <a:ext cx="2920680" cy="761760"/>
            </a:xfrm>
            <a:prstGeom prst="roundRect">
              <a:avLst>
                <a:gd name="adj" fmla="val 16667"/>
              </a:avLst>
            </a:prstGeom>
            <a:solidFill>
              <a:srgbClr val="d9d9d9"/>
            </a:solidFill>
            <a:ln w="3240">
              <a:solidFill>
                <a:srgbClr val="666666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Клас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Жгутиконосц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6163"/>
            <p:cNvSpPr/>
            <p:nvPr/>
          </p:nvSpPr>
          <p:spPr>
            <a:xfrm>
              <a:off x="5994000" y="4647960"/>
              <a:ext cx="2920680" cy="761760"/>
            </a:xfrm>
            <a:prstGeom prst="roundRect">
              <a:avLst>
                <a:gd name="adj" fmla="val 16667"/>
              </a:avLst>
            </a:prstGeom>
            <a:solidFill>
              <a:srgbClr val="d9d9d9"/>
            </a:solidFill>
            <a:ln w="3240">
              <a:solidFill>
                <a:srgbClr val="666666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Клас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Инфузори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ятый 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кратительная вакуоль необходима амебе для выведения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2971800"/>
            <a:ext cx="6172200" cy="533520"/>
          </a:xfrm>
          <a:prstGeom prst="flowChartTerminator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бытка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4191120"/>
            <a:ext cx="6172200" cy="761760"/>
          </a:xfrm>
          <a:prstGeom prst="flowChartTerminator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бытка воды и растворе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дны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5334120"/>
            <a:ext cx="6172200" cy="533160"/>
          </a:xfrm>
          <a:prstGeom prst="flowChartTerminator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переваренных остат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848720" y="5257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64105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523880" y="1447920"/>
            <a:ext cx="57150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66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е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66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867280" y="42670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 иллюстра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www.help-rus-student.ru/icon/icon26670.ht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www.zooeco.com/0-dom/0-dom-o3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levkonoe.dreamwidth.org/2008/01/08/?style=ligh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kuraev.ru/smf/index.php?topic=499930.msg654995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523880" y="1600200"/>
            <a:ext cx="62485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авильно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79246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981080" y="2133720"/>
            <a:ext cx="541044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верно!!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">
            <a:hlinkClick r:id="rId1" action="ppaction://hlinksldjump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133720" y="2286000"/>
            <a:ext cx="50292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66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верно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66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7696080" y="5562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523880" y="1600200"/>
            <a:ext cx="62485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66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авильно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66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79246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981080" y="2133720"/>
            <a:ext cx="541044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66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верно!!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66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133720" y="2286000"/>
            <a:ext cx="50292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66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верно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66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7696080" y="5562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523880" y="1600200"/>
            <a:ext cx="62485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66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авильно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66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79246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едвижение и внешний ви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1204920"/>
            <a:ext cx="68580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981080" y="2133720"/>
            <a:ext cx="541044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66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верно!!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66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2" name="">
            <a:hlinkClick r:id="rId1" action="ppaction://hlinksldjump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523880" y="1600200"/>
            <a:ext cx="62485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авильно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79246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981080" y="2133720"/>
            <a:ext cx="541044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верно!!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133720" y="2286000"/>
            <a:ext cx="50292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верно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96080" y="5562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523880" y="1600200"/>
            <a:ext cx="62485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66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авильно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66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9246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2133720"/>
            <a:ext cx="541044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66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верно!!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66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оение аме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Картинка 14 из 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39800" y="1219320"/>
            <a:ext cx="4732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3581280" y="954000"/>
            <a:ext cx="3465000" cy="646200"/>
            <a:chOff x="3581280" y="954000"/>
            <a:chExt cx="3465000" cy="646200"/>
          </a:xfrm>
        </p:grpSpPr>
        <p:sp>
          <p:nvSpPr>
            <p:cNvPr id="64" name=""/>
            <p:cNvSpPr/>
            <p:nvPr/>
          </p:nvSpPr>
          <p:spPr>
            <a:xfrm flipH="1">
              <a:off x="3581280" y="1219320"/>
              <a:ext cx="32004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96360" y="954000"/>
              <a:ext cx="349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486040" y="1106640"/>
            <a:ext cx="2398680" cy="1255680"/>
            <a:chOff x="5486040" y="1106640"/>
            <a:chExt cx="2398680" cy="1255680"/>
          </a:xfrm>
        </p:grpSpPr>
        <p:sp>
          <p:nvSpPr>
            <p:cNvPr id="67" name=""/>
            <p:cNvSpPr/>
            <p:nvPr/>
          </p:nvSpPr>
          <p:spPr>
            <a:xfrm flipH="1">
              <a:off x="5486040" y="1371600"/>
              <a:ext cx="205740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534800" y="1106640"/>
              <a:ext cx="349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343400" y="4078440"/>
            <a:ext cx="3465000" cy="459720"/>
            <a:chOff x="4343400" y="4078440"/>
            <a:chExt cx="3465000" cy="459720"/>
          </a:xfrm>
        </p:grpSpPr>
        <p:sp>
          <p:nvSpPr>
            <p:cNvPr id="70" name=""/>
            <p:cNvSpPr/>
            <p:nvPr/>
          </p:nvSpPr>
          <p:spPr>
            <a:xfrm flipH="1" flipV="1">
              <a:off x="4343400" y="4190760"/>
              <a:ext cx="312408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58480" y="4078440"/>
              <a:ext cx="349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495320" y="5983200"/>
            <a:ext cx="2932200" cy="459720"/>
            <a:chOff x="4495320" y="5983200"/>
            <a:chExt cx="2932200" cy="459720"/>
          </a:xfrm>
        </p:grpSpPr>
        <p:sp>
          <p:nvSpPr>
            <p:cNvPr id="73" name=""/>
            <p:cNvSpPr/>
            <p:nvPr/>
          </p:nvSpPr>
          <p:spPr>
            <a:xfrm flipH="1" flipV="1">
              <a:off x="4495320" y="6171840"/>
              <a:ext cx="25146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077600" y="5983200"/>
              <a:ext cx="349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52760" y="801720"/>
            <a:ext cx="3057120" cy="1484280"/>
            <a:chOff x="752760" y="801720"/>
            <a:chExt cx="3057120" cy="1484280"/>
          </a:xfrm>
        </p:grpSpPr>
        <p:sp>
          <p:nvSpPr>
            <p:cNvPr id="76" name=""/>
            <p:cNvSpPr/>
            <p:nvPr/>
          </p:nvSpPr>
          <p:spPr>
            <a:xfrm>
              <a:off x="1066680" y="1219320"/>
              <a:ext cx="274320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2760" y="801720"/>
              <a:ext cx="349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057680" y="2401920"/>
            <a:ext cx="2904840" cy="1027080"/>
            <a:chOff x="1057680" y="2401920"/>
            <a:chExt cx="2904840" cy="1027080"/>
          </a:xfrm>
        </p:grpSpPr>
        <p:sp>
          <p:nvSpPr>
            <p:cNvPr id="79" name=""/>
            <p:cNvSpPr/>
            <p:nvPr/>
          </p:nvSpPr>
          <p:spPr>
            <a:xfrm>
              <a:off x="1447920" y="2666880"/>
              <a:ext cx="251460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57680" y="2401920"/>
              <a:ext cx="349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1905120"/>
            <a:ext cx="8305560" cy="178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66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цессы жизнедеятельнос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66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2" name="" descr="Картинка 18 из 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3809880"/>
            <a:ext cx="388620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итание и выделение у амеб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66680" y="1243080"/>
            <a:ext cx="670572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станови правильную последова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– непереваренное содержимое пищеварительной вакуоли выбрасывается нару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 – захват добычи ложноножками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– Пищеварительная вакуоль подходит к поверхности тела амеб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 – образование пищеварительной вакуо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 – переваривание пищ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1360" y="2935440"/>
            <a:ext cx="349920" cy="459720"/>
          </a:xfrm>
          <a:prstGeom prst="rect">
            <a:avLst/>
          </a:prstGeom>
          <a:solidFill>
            <a:srgbClr val="8dc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53640" y="4535640"/>
            <a:ext cx="349920" cy="459720"/>
          </a:xfrm>
          <a:prstGeom prst="rect">
            <a:avLst/>
          </a:prstGeom>
          <a:solidFill>
            <a:srgbClr val="8dc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72560" y="5602320"/>
            <a:ext cx="349920" cy="459720"/>
          </a:xfrm>
          <a:prstGeom prst="rect">
            <a:avLst/>
          </a:prstGeom>
          <a:solidFill>
            <a:srgbClr val="8dc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10640" y="3544920"/>
            <a:ext cx="349920" cy="459720"/>
          </a:xfrm>
          <a:prstGeom prst="rect">
            <a:avLst/>
          </a:prstGeom>
          <a:solidFill>
            <a:srgbClr val="8dc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467840" y="1563840"/>
            <a:ext cx="349920" cy="459720"/>
          </a:xfrm>
          <a:prstGeom prst="rect">
            <a:avLst/>
          </a:prstGeom>
          <a:solidFill>
            <a:srgbClr val="8dc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бери номер правильного утвер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В организме амебы несколько сократительных вакуо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Сократительная вакуоль необходима амебе для удаления непереваренных остатков пи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Избыток воды из тела амебы выводится с помощью сократительной вакуо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Вода из окружающей среды постоянно поступает внутрь тела аме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Не у всех простейших имеются сократительные вакуо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8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9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змножение аме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00200" y="1233360"/>
            <a:ext cx="6324480" cy="51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1-10-23T09:05:59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