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5CE-262B-4124-B243-D1214AB8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3C7-0CD8-45E8-9A50-9827C081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FEC-A11B-4B9E-800B-A30453DA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673-3E75-4A24-BEA9-2535F86C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7DD-7F40-4489-8452-8A169AD5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B05-C380-476E-B25A-7AE809B0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0C5-9017-4391-97DE-B3035530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F21-718D-4952-9EB7-A0D66626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453-24F5-4F3B-B348-240C6261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8D6-CB5F-4220-BF8F-FC2077F6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EB7-F104-455C-A76A-4FF4CD9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B39-C445-49C4-A8C7-79C88E00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6C25-5876-417A-B936-6D56276AA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6.xml"/><Relationship Id="rId3" Type="http://schemas.openxmlformats.org/officeDocument/2006/relationships/slide" Target="slide28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slide" Target="slide31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htus.ru/chron/22003/15b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coport.org.ua/files/1_726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Галковская И.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учебнику Константинова В.М., Бабенко В.Г., Кучменко В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2209680"/>
            <a:ext cx="75438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рненожки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меба обыкновенн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80" y="-39600"/>
            <a:ext cx="86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тавь слово в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Амеба размножается…………..пу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За сутки деление амебы происходит…………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В неблагоприятных условиях амеба образует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Циста служит для перенесения неблагоприятных условий и для………………ам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В состоянии цисты амеба переживает повышенные и пониженные температуры, а так же ………………..водо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1106640"/>
            <a:ext cx="161928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по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2173320"/>
            <a:ext cx="8665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2120" y="3240000"/>
            <a:ext cx="97164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0240" y="4687920"/>
            <a:ext cx="184356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19880" y="6059520"/>
            <a:ext cx="176256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47920" y="2209680"/>
            <a:ext cx="6172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ногообразие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ковинные аме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ковинка – наружный скелет аме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67080" cy="266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5981760" cy="3030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52027" t="0" r="0" b="0"/>
          <a:stretch/>
        </p:blipFill>
        <p:spPr>
          <a:xfrm>
            <a:off x="6705720" y="3962520"/>
            <a:ext cx="2108160" cy="26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диоля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елет чаще из кремнезема, выполняет защитную функцию и увеличивает площадь поверхност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80920" y="1600200"/>
            <a:ext cx="318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4648320"/>
            <a:ext cx="3352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аминиф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ужный скелет известковый или из сцементированных песч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ые раковинки образуют осадочные п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038480" cy="27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4076640"/>
            <a:ext cx="4000680" cy="2781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181480" y="4791240"/>
            <a:ext cx="3048120" cy="2066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90720" y="19810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dc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х,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dc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dc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ятерочка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dc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1295280" y="2819520"/>
            <a:ext cx="6172200" cy="53316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- однокле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ери правильный 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Простейшие в большинстве своем живот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1219320" y="3657600"/>
            <a:ext cx="6172200" cy="45720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- Колони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1295280" y="4419720"/>
            <a:ext cx="6172200" cy="45720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- многокле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22960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6410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торо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видов простейших известно в настоящее вре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990720" y="297180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30 тыс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990720" y="380988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70 тыс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1066680" y="472428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100 тыс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6201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64105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т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одноклеточные живут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990720" y="297180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990720" y="388620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7724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6410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ерты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ста необходима амебе для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838080" y="2209680"/>
            <a:ext cx="6867720" cy="137160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перенесения неблагоприя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вий среды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3886200"/>
            <a:ext cx="6781680" cy="12193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расселения на дале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762120" y="5334120"/>
            <a:ext cx="6629400" cy="129528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– верны оба предыду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9246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6410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219320"/>
            <a:ext cx="8762400" cy="5333040"/>
            <a:chOff x="152280" y="1219320"/>
            <a:chExt cx="8762400" cy="5333040"/>
          </a:xfrm>
        </p:grpSpPr>
        <p:cxnSp>
          <p:nvCxnSpPr>
            <p:cNvPr id="46" name="_s6151"/>
            <p:cNvCxnSpPr>
              <a:stCxn id="47" idx="1"/>
              <a:endCxn id="48" idx="2"/>
            </p:cNvCxnSpPr>
            <p:nvPr/>
          </p:nvCxnSpPr>
          <p:spPr>
            <a:xfrm rot="10800000">
              <a:off x="5506920" y="4266000"/>
              <a:ext cx="487080" cy="76248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49" name="_s6152"/>
            <p:cNvCxnSpPr>
              <a:stCxn id="50" idx="1"/>
              <a:endCxn id="51" idx="2"/>
            </p:cNvCxnSpPr>
            <p:nvPr/>
          </p:nvCxnSpPr>
          <p:spPr>
            <a:xfrm rot="10800000">
              <a:off x="1612440" y="4266000"/>
              <a:ext cx="487080" cy="190548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52" name="_s6153"/>
            <p:cNvCxnSpPr>
              <a:stCxn id="53" idx="1"/>
              <a:endCxn id="51" idx="2"/>
            </p:cNvCxnSpPr>
            <p:nvPr/>
          </p:nvCxnSpPr>
          <p:spPr>
            <a:xfrm rot="10800000">
              <a:off x="1612440" y="4266000"/>
              <a:ext cx="487080" cy="76248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54" name="_s6154"/>
            <p:cNvCxnSpPr>
              <a:stCxn id="48" idx="0"/>
              <a:endCxn id="55" idx="2"/>
            </p:cNvCxnSpPr>
            <p:nvPr/>
          </p:nvCxnSpPr>
          <p:spPr>
            <a:xfrm flipV="1" rot="16200000">
              <a:off x="4348800" y="2346480"/>
              <a:ext cx="368280" cy="1947960"/>
            </a:xfrm>
            <a:prstGeom prst="bentConnector3">
              <a:avLst>
                <a:gd name="adj1" fmla="val 31115"/>
              </a:avLst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56" name="_s6155"/>
            <p:cNvCxnSpPr>
              <a:stCxn id="51" idx="0"/>
              <a:endCxn id="55" idx="2"/>
            </p:cNvCxnSpPr>
            <p:nvPr/>
          </p:nvCxnSpPr>
          <p:spPr>
            <a:xfrm flipH="1" flipV="1" rot="5400000">
              <a:off x="2401920" y="2346480"/>
              <a:ext cx="368280" cy="1947960"/>
            </a:xfrm>
            <a:prstGeom prst="bentConnector3">
              <a:avLst>
                <a:gd name="adj1" fmla="val 31115"/>
              </a:avLst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57" name="_s6156"/>
            <p:cNvCxnSpPr>
              <a:stCxn id="55" idx="0"/>
              <a:endCxn id="58" idx="2"/>
            </p:cNvCxnSpPr>
            <p:nvPr/>
          </p:nvCxnSpPr>
          <p:spPr>
            <a:xfrm flipV="1">
              <a:off x="3559680" y="1999080"/>
              <a:ext cx="3600" cy="34956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sp>
          <p:nvSpPr>
            <p:cNvPr id="58" name="_s6157"/>
            <p:cNvSpPr/>
            <p:nvPr/>
          </p:nvSpPr>
          <p:spPr>
            <a:xfrm>
              <a:off x="2099520" y="121932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Цар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Живот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58"/>
            <p:cNvSpPr/>
            <p:nvPr/>
          </p:nvSpPr>
          <p:spPr>
            <a:xfrm>
              <a:off x="2099520" y="2361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Подцар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дноклеточ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6159"/>
            <p:cNvSpPr/>
            <p:nvPr/>
          </p:nvSpPr>
          <p:spPr>
            <a:xfrm>
              <a:off x="152280" y="3504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ebebeb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Тип Саркодовые 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Жгутиконосц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6160"/>
            <p:cNvSpPr/>
            <p:nvPr/>
          </p:nvSpPr>
          <p:spPr>
            <a:xfrm>
              <a:off x="4046760" y="3504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ebebeb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Тип Инфузор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6161"/>
            <p:cNvSpPr/>
            <p:nvPr/>
          </p:nvSpPr>
          <p:spPr>
            <a:xfrm>
              <a:off x="2099520" y="4647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Класс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Саркодов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6162"/>
            <p:cNvSpPr/>
            <p:nvPr/>
          </p:nvSpPr>
          <p:spPr>
            <a:xfrm>
              <a:off x="2099520" y="579060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Клас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Жгутиконосц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6163"/>
            <p:cNvSpPr/>
            <p:nvPr/>
          </p:nvSpPr>
          <p:spPr>
            <a:xfrm>
              <a:off x="5994000" y="4647960"/>
              <a:ext cx="2920680" cy="76176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3240">
              <a:solidFill>
                <a:srgbClr val="666666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Клас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Инфузор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яты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кратительная вакуоль необходима амебе для выведения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971800"/>
            <a:ext cx="6172200" cy="53352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а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191120"/>
            <a:ext cx="6172200" cy="76176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а воды и раствор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д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334120"/>
            <a:ext cx="6172200" cy="533160"/>
          </a:xfrm>
          <a:prstGeom prst="flowChartTerminator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ереваренных оста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8487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6410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523880" y="1447920"/>
            <a:ext cx="5715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www.help-rus-student.ru/icon/icon26670.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www.zooeco.com/0-dom/0-dom-o3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levkonoe.dreamwidth.org/2008/01/08/?style=ligh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kuraev.ru/smf/index.php?topic=499930.msg654995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33720" y="2286000"/>
            <a:ext cx="5029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33720" y="2286000"/>
            <a:ext cx="5029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движение и внешний в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1204920"/>
            <a:ext cx="6858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133720" y="2286000"/>
            <a:ext cx="5029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3880" y="16002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246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2133720"/>
            <a:ext cx="541044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аме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39800" y="1219320"/>
            <a:ext cx="4732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3581280" y="954000"/>
            <a:ext cx="3465000" cy="646200"/>
            <a:chOff x="3581280" y="954000"/>
            <a:chExt cx="3465000" cy="646200"/>
          </a:xfrm>
        </p:grpSpPr>
        <p:sp>
          <p:nvSpPr>
            <p:cNvPr id="64" name=""/>
            <p:cNvSpPr/>
            <p:nvPr/>
          </p:nvSpPr>
          <p:spPr>
            <a:xfrm flipH="1">
              <a:off x="3581280" y="1219320"/>
              <a:ext cx="32004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96360" y="95400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486040" y="1106640"/>
            <a:ext cx="2398680" cy="1255680"/>
            <a:chOff x="5486040" y="1106640"/>
            <a:chExt cx="2398680" cy="1255680"/>
          </a:xfrm>
        </p:grpSpPr>
        <p:sp>
          <p:nvSpPr>
            <p:cNvPr id="67" name=""/>
            <p:cNvSpPr/>
            <p:nvPr/>
          </p:nvSpPr>
          <p:spPr>
            <a:xfrm flipH="1">
              <a:off x="5486040" y="1371600"/>
              <a:ext cx="20574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34800" y="110664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343400" y="4078440"/>
            <a:ext cx="3465000" cy="459720"/>
            <a:chOff x="4343400" y="4078440"/>
            <a:chExt cx="3465000" cy="459720"/>
          </a:xfrm>
        </p:grpSpPr>
        <p:sp>
          <p:nvSpPr>
            <p:cNvPr id="70" name=""/>
            <p:cNvSpPr/>
            <p:nvPr/>
          </p:nvSpPr>
          <p:spPr>
            <a:xfrm flipH="1" flipV="1">
              <a:off x="4343400" y="4190760"/>
              <a:ext cx="3124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8480" y="407844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495320" y="5983200"/>
            <a:ext cx="2932200" cy="459720"/>
            <a:chOff x="4495320" y="5983200"/>
            <a:chExt cx="2932200" cy="459720"/>
          </a:xfrm>
        </p:grpSpPr>
        <p:sp>
          <p:nvSpPr>
            <p:cNvPr id="73" name=""/>
            <p:cNvSpPr/>
            <p:nvPr/>
          </p:nvSpPr>
          <p:spPr>
            <a:xfrm flipH="1" flipV="1">
              <a:off x="4495320" y="6171840"/>
              <a:ext cx="2514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77600" y="598320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52760" y="801720"/>
            <a:ext cx="3057120" cy="1484280"/>
            <a:chOff x="752760" y="801720"/>
            <a:chExt cx="3057120" cy="1484280"/>
          </a:xfrm>
        </p:grpSpPr>
        <p:sp>
          <p:nvSpPr>
            <p:cNvPr id="76" name=""/>
            <p:cNvSpPr/>
            <p:nvPr/>
          </p:nvSpPr>
          <p:spPr>
            <a:xfrm>
              <a:off x="1066680" y="1219320"/>
              <a:ext cx="27432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2760" y="80172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057680" y="2401920"/>
            <a:ext cx="2904840" cy="1027080"/>
            <a:chOff x="1057680" y="2401920"/>
            <a:chExt cx="2904840" cy="1027080"/>
          </a:xfrm>
        </p:grpSpPr>
        <p:sp>
          <p:nvSpPr>
            <p:cNvPr id="79" name=""/>
            <p:cNvSpPr/>
            <p:nvPr/>
          </p:nvSpPr>
          <p:spPr>
            <a:xfrm>
              <a:off x="1447920" y="2666880"/>
              <a:ext cx="251460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57680" y="240192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1905120"/>
            <a:ext cx="8305560" cy="17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цессы жизнедеятельнос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" descr="Картинка 18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809880"/>
            <a:ext cx="38862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тание и выделение у аме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1243080"/>
            <a:ext cx="670572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танови правильную последова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– непереваренное содержимое пищеварительной вакуоли выбрасывается нару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 – захват добычи ложноножкам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– Пищеварительная вакуоль подходит к поверхности тела ам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 – образование пищеварительной ваку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 – переваривание п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1360" y="293544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53640" y="453564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2560" y="560232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640" y="354492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840" y="1563840"/>
            <a:ext cx="349920" cy="459720"/>
          </a:xfrm>
          <a:prstGeom prst="rect">
            <a:avLst/>
          </a:prstGeom>
          <a:solidFill>
            <a:srgbClr val="8dc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ери номер правильного утвер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В организме амебы несколько сократительных вакуо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Сократительная вакуоль необходима амебе для удаления непереваренных остатков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Избыток воды из тела амебы выводится с помощью сократительной ваку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Вода из окружающей среды постоянно поступает внутрь тела аме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Не у всех простейших имеются сократительные ваку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ножение аме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1233360"/>
            <a:ext cx="632448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10-23T09:05:5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