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924-5BEF-4B67-9CC5-AB8B5F09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19D-C5A1-4020-9AF0-EA9604C3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DFF-505D-402B-83CC-41FF579D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37F-8F74-4E21-9D50-68512BB0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764-D121-452D-9B24-80BC8B8F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733-F4E5-4DC0-820C-8A703F81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C63-AB80-4A82-BA42-698709EF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31E-6343-409B-A2A2-B2CF16D1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49D-7A4B-4550-8F38-6BDB4F4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577-093D-4FA3-9551-1C2D0EE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EC5-D042-4C69-A71C-460A7A7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B11-6116-48DE-A078-00DA8557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B0A-675D-4750-A2C9-B7D899F3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slide" Target="slide3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htus.ru/chron/22003/15b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oport.org.ua/files/1_72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Галковская И.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чебнику Константинова В.М., Бабенко В.Г., Кучменко В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2209680"/>
            <a:ext cx="75438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неножки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меба обыкновенн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80" y="-39600"/>
            <a:ext cx="86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тавь слово в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Амеба размножается…………..пу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За сутки деление амебы происходит…………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В неблагоприятных условиях амеба образует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Циста служит для перенесения неблагоприятных условий и для………………ам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В состоянии цисты амеба переживает повышенные и пониженные температуры, а так же ………………..водо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1106640"/>
            <a:ext cx="161928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о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173320"/>
            <a:ext cx="8665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2120" y="3240000"/>
            <a:ext cx="97164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0240" y="4687920"/>
            <a:ext cx="184356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880" y="6059520"/>
            <a:ext cx="176256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47920" y="2209680"/>
            <a:ext cx="6172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ногообразие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ковинны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ковинка – наружный скелет аме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266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5981760" cy="30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2027" t="0" r="0" b="0"/>
          <a:stretch/>
        </p:blipFill>
        <p:spPr>
          <a:xfrm>
            <a:off x="6705720" y="3962520"/>
            <a:ext cx="210816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диоля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елет чаще из кремнезема, выполняет защитную функцию и увеличивает площадь поверхно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0920" y="1600200"/>
            <a:ext cx="318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4648320"/>
            <a:ext cx="3352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амини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жный скелет известковый или из сцементированных песч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ые раковинки образуют осадочные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076640"/>
            <a:ext cx="4000680" cy="278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81480" y="4791240"/>
            <a:ext cx="3048120" cy="2066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1981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dc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х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dc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dc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ятерочка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dc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295280" y="2819520"/>
            <a:ext cx="6172200" cy="5331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- одн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правильный 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Простейшие в большинстве своем живот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1219320" y="3657600"/>
            <a:ext cx="6172200" cy="4572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- Колон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1295280" y="4419720"/>
            <a:ext cx="6172200" cy="4572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- мног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2296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410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видов простейших известно в настояще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99072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3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990720" y="380988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7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066680" y="472428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10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620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410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т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одноклеточные живут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99072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990720" y="38862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7724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6410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ерты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ста необходима амебе дл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38080" y="2209680"/>
            <a:ext cx="6867720" cy="13716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перенесения неблагоприя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й сред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3886200"/>
            <a:ext cx="6781680" cy="12193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расселения на дале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62120" y="5334120"/>
            <a:ext cx="6629400" cy="129528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– верны оба предыду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9246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410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219320"/>
            <a:ext cx="8762400" cy="5333040"/>
            <a:chOff x="152280" y="1219320"/>
            <a:chExt cx="8762400" cy="5333040"/>
          </a:xfrm>
        </p:grpSpPr>
        <p:cxnSp>
          <p:nvCxnSpPr>
            <p:cNvPr id="46" name="_s6151"/>
            <p:cNvCxnSpPr>
              <a:stCxn id="47" idx="1"/>
              <a:endCxn id="48" idx="2"/>
            </p:cNvCxnSpPr>
            <p:nvPr/>
          </p:nvCxnSpPr>
          <p:spPr>
            <a:xfrm rot="10800000">
              <a:off x="5506920" y="4266000"/>
              <a:ext cx="487080" cy="762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49" name="_s6152"/>
            <p:cNvCxnSpPr>
              <a:stCxn id="50" idx="1"/>
              <a:endCxn id="51" idx="2"/>
            </p:cNvCxnSpPr>
            <p:nvPr/>
          </p:nvCxnSpPr>
          <p:spPr>
            <a:xfrm rot="10800000">
              <a:off x="1612440" y="4266000"/>
              <a:ext cx="487080" cy="1905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2" name="_s6153"/>
            <p:cNvCxnSpPr>
              <a:stCxn id="53" idx="1"/>
              <a:endCxn id="51" idx="2"/>
            </p:cNvCxnSpPr>
            <p:nvPr/>
          </p:nvCxnSpPr>
          <p:spPr>
            <a:xfrm rot="10800000">
              <a:off x="1612440" y="4266000"/>
              <a:ext cx="487080" cy="762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4" name="_s6154"/>
            <p:cNvCxnSpPr>
              <a:stCxn id="48" idx="0"/>
              <a:endCxn id="55" idx="2"/>
            </p:cNvCxnSpPr>
            <p:nvPr/>
          </p:nvCxnSpPr>
          <p:spPr>
            <a:xfrm flipV="1" rot="16200000">
              <a:off x="4348800" y="2346480"/>
              <a:ext cx="368280" cy="1947960"/>
            </a:xfrm>
            <a:prstGeom prst="bentConnector3">
              <a:avLst>
                <a:gd name="adj1" fmla="val 31115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6" name="_s6155"/>
            <p:cNvCxnSpPr>
              <a:stCxn id="51" idx="0"/>
              <a:endCxn id="55" idx="2"/>
            </p:cNvCxnSpPr>
            <p:nvPr/>
          </p:nvCxnSpPr>
          <p:spPr>
            <a:xfrm flipH="1" flipV="1" rot="5400000">
              <a:off x="2401920" y="2346480"/>
              <a:ext cx="368280" cy="1947960"/>
            </a:xfrm>
            <a:prstGeom prst="bentConnector3">
              <a:avLst>
                <a:gd name="adj1" fmla="val 31115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7" name="_s6156"/>
            <p:cNvCxnSpPr>
              <a:stCxn id="55" idx="0"/>
              <a:endCxn id="58" idx="2"/>
            </p:cNvCxnSpPr>
            <p:nvPr/>
          </p:nvCxnSpPr>
          <p:spPr>
            <a:xfrm flipV="1">
              <a:off x="3559680" y="1999080"/>
              <a:ext cx="3600" cy="34956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58" name="_s6157"/>
            <p:cNvSpPr/>
            <p:nvPr/>
          </p:nvSpPr>
          <p:spPr>
            <a:xfrm>
              <a:off x="2099520" y="121932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ивот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58"/>
            <p:cNvSpPr/>
            <p:nvPr/>
          </p:nvSpPr>
          <p:spPr>
            <a:xfrm>
              <a:off x="2099520" y="2361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одц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дноклето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9"/>
            <p:cNvSpPr/>
            <p:nvPr/>
          </p:nvSpPr>
          <p:spPr>
            <a:xfrm>
              <a:off x="152280" y="3504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ebebeb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Тип Саркодовые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гутиконосц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60"/>
            <p:cNvSpPr/>
            <p:nvPr/>
          </p:nvSpPr>
          <p:spPr>
            <a:xfrm>
              <a:off x="4046760" y="3504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ebebeb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Тип Инфузо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61"/>
            <p:cNvSpPr/>
            <p:nvPr/>
          </p:nvSpPr>
          <p:spPr>
            <a:xfrm>
              <a:off x="2099520" y="4647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Саркод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62"/>
            <p:cNvSpPr/>
            <p:nvPr/>
          </p:nvSpPr>
          <p:spPr>
            <a:xfrm>
              <a:off x="2099520" y="579060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гутиконосц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63"/>
            <p:cNvSpPr/>
            <p:nvPr/>
          </p:nvSpPr>
          <p:spPr>
            <a:xfrm>
              <a:off x="5994000" y="4647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Инфузо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яты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ительная вакуоль необходима амебе для выведени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191120"/>
            <a:ext cx="6172200" cy="7617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а воды и раствор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д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334120"/>
            <a:ext cx="6172200" cy="5331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ереваренных оста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48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6410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523880" y="1447920"/>
            <a:ext cx="5715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help-rus-student.ru/icon/icon26670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zooeco.com/0-dom/0-dom-o3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levkonoe.dreamwidth.org/2008/01/08/?style=ligh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kuraev.ru/smf/index.php?topic=499930.msg654995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движение и внешний в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204920"/>
            <a:ext cx="6858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39800" y="1219320"/>
            <a:ext cx="4732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81280" y="954000"/>
            <a:ext cx="3465000" cy="646200"/>
            <a:chOff x="3581280" y="954000"/>
            <a:chExt cx="3465000" cy="646200"/>
          </a:xfrm>
        </p:grpSpPr>
        <p:sp>
          <p:nvSpPr>
            <p:cNvPr id="64" name=""/>
            <p:cNvSpPr/>
            <p:nvPr/>
          </p:nvSpPr>
          <p:spPr>
            <a:xfrm flipH="1">
              <a:off x="3581280" y="1219320"/>
              <a:ext cx="32004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96360" y="95400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486040" y="1106640"/>
            <a:ext cx="2398680" cy="1255680"/>
            <a:chOff x="5486040" y="1106640"/>
            <a:chExt cx="2398680" cy="1255680"/>
          </a:xfrm>
        </p:grpSpPr>
        <p:sp>
          <p:nvSpPr>
            <p:cNvPr id="67" name=""/>
            <p:cNvSpPr/>
            <p:nvPr/>
          </p:nvSpPr>
          <p:spPr>
            <a:xfrm flipH="1">
              <a:off x="5486040" y="1371600"/>
              <a:ext cx="20574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34800" y="110664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43400" y="4078440"/>
            <a:ext cx="3465000" cy="459720"/>
            <a:chOff x="4343400" y="4078440"/>
            <a:chExt cx="3465000" cy="459720"/>
          </a:xfrm>
        </p:grpSpPr>
        <p:sp>
          <p:nvSpPr>
            <p:cNvPr id="70" name=""/>
            <p:cNvSpPr/>
            <p:nvPr/>
          </p:nvSpPr>
          <p:spPr>
            <a:xfrm flipH="1" flipV="1">
              <a:off x="4343400" y="4190760"/>
              <a:ext cx="3124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8480" y="407844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495320" y="5983200"/>
            <a:ext cx="2932200" cy="459720"/>
            <a:chOff x="4495320" y="5983200"/>
            <a:chExt cx="2932200" cy="459720"/>
          </a:xfrm>
        </p:grpSpPr>
        <p:sp>
          <p:nvSpPr>
            <p:cNvPr id="73" name=""/>
            <p:cNvSpPr/>
            <p:nvPr/>
          </p:nvSpPr>
          <p:spPr>
            <a:xfrm flipH="1" flipV="1">
              <a:off x="4495320" y="6171840"/>
              <a:ext cx="2514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77600" y="598320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52760" y="801720"/>
            <a:ext cx="3057120" cy="1484280"/>
            <a:chOff x="752760" y="801720"/>
            <a:chExt cx="3057120" cy="1484280"/>
          </a:xfrm>
        </p:grpSpPr>
        <p:sp>
          <p:nvSpPr>
            <p:cNvPr id="76" name=""/>
            <p:cNvSpPr/>
            <p:nvPr/>
          </p:nvSpPr>
          <p:spPr>
            <a:xfrm>
              <a:off x="1066680" y="1219320"/>
              <a:ext cx="27432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2760" y="80172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057680" y="2401920"/>
            <a:ext cx="2904840" cy="1027080"/>
            <a:chOff x="1057680" y="2401920"/>
            <a:chExt cx="2904840" cy="1027080"/>
          </a:xfrm>
        </p:grpSpPr>
        <p:sp>
          <p:nvSpPr>
            <p:cNvPr id="79" name=""/>
            <p:cNvSpPr/>
            <p:nvPr/>
          </p:nvSpPr>
          <p:spPr>
            <a:xfrm>
              <a:off x="1447920" y="2666880"/>
              <a:ext cx="25146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57680" y="240192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1905120"/>
            <a:ext cx="830556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сы жизнедеятель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" descr="Картинка 18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809880"/>
            <a:ext cx="3886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тание и выделение у аме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1243080"/>
            <a:ext cx="67057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и правильную последов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непереваренное содержимое пищеварительной вакуоли выбрасывается нару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 – захват добычи ложноножкам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Пищеварительная вакуоль подходит к поверхности тела ам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 – образование пищеварительной ваку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– переваривание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1360" y="29354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53640" y="45356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560" y="560232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640" y="354492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840" y="15638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ери номер правильного утвер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 организме амебы несколько сократительных ваку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Сократительная вакуоль необходима амебе для удаления непереваренных остатков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Избыток воды из тела амебы выводится с помощью сократительной ваку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Вода из окружающей среды постоянно поступает внутрь тела аме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Не у всех простейших имеются сократительные ваку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ножени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233360"/>
            <a:ext cx="632448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0-23T09:05:5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