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EAB-15BB-4319-A686-DC3B4F04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0AD-A731-4A5D-A17D-07B73A3B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EE0-BF5D-4149-9F83-6E0BFF98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B4D-DEFF-4FED-B3DE-AC8427ED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9D53-CF93-4369-AFA4-3238FD48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10BB-D151-4E06-AD36-956FD387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6849-3C4F-45D7-BD39-B2A5D0C0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522D-9806-4D84-B2B9-126DB0F4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1682-F342-4E2B-BC34-62C61EAC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30A9-9F70-4AB6-8084-CC357DA1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C920-EDE7-4F14-9EC1-D970C221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F35-B69E-44A9-BC4B-6921F46F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D8F2-6A63-4D6B-BA46-BA7571F8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9E9D-124F-4974-BD4E-BC4F10EC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36E6-BBB9-46E3-BB85-CAD53631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8763-1EA4-452F-B988-9D7D453B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3514-9CF7-4127-A0DC-3A1B578B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4D6-246F-493B-AA34-A9203B5B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2BE-3011-4A5F-A6E9-E8B53DBD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674-3E8E-44EB-9463-7A894B90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D26-CE09-4CEE-988C-065A2AEC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2E3-5C40-4554-B580-3424194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63E-B68A-4623-8251-2EC5703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293-2F58-4001-9834-B96758E2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2345-D762-4C30-8CD7-2C70FB24DE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F194-755B-4F95-89FF-02A9D2C9B9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rythroxylum_coc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udu_pudu_AB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100;" TargetMode="External"/><Relationship Id="rId2" Type="http://schemas.openxmlformats.org/officeDocument/2006/relationships/hyperlink" Target="http://ru.wikipedia.org/wiki/&#1063;&#1080;&#1083;&#1080;" TargetMode="External"/><Relationship Id="rId3" Type="http://schemas.openxmlformats.org/officeDocument/2006/relationships/hyperlink" Target="http://ru.wikipedia.org/wiki/&#1046;&#1077;&#1083;&#1077;&#1079;&#1086;" TargetMode="External"/><Relationship Id="rId4" Type="http://schemas.openxmlformats.org/officeDocument/2006/relationships/hyperlink" Target="http://ru.wikipedia.org/wiki/&#1041;&#1086;&#1083;&#1080;&#1074;&#1080;&#1103;" TargetMode="External"/><Relationship Id="rId5" Type="http://schemas.openxmlformats.org/officeDocument/2006/relationships/hyperlink" Target="http://ru.wikipedia.org/wiki/&#1047;&#1086;&#1083;&#1086;&#1090;&#1086;" TargetMode="External"/><Relationship Id="rId6" Type="http://schemas.openxmlformats.org/officeDocument/2006/relationships/hyperlink" Target="http://ru.wikipedia.org/wiki/&#1050;&#1086;&#1083;&#1091;&#1084;&#1073;&#1080;&#1103;" TargetMode="External"/><Relationship Id="rId7" Type="http://schemas.openxmlformats.org/officeDocument/2006/relationships/hyperlink" Target="http://ru.wikipedia.org/wiki/&#1048;&#1079;&#1091;&#1084;&#1088;&#1091;&#1076;" TargetMode="External"/><Relationship Id="rId8" Type="http://schemas.openxmlformats.org/officeDocument/2006/relationships/hyperlink" Target="http://ru.wikipedia.org/wiki/&#1050;&#1086;&#1083;&#1091;&#1084;&#1073;&#1080;&#1103;" TargetMode="External"/><Relationship Id="rId9" Type="http://schemas.openxmlformats.org/officeDocument/2006/relationships/hyperlink" Target="http://ru.wikipedia.org/wiki/&#1042;&#1086;&#1083;&#1100;&#1092;&#1088;&#1072;&#1084;" TargetMode="External"/><Relationship Id="rId10" Type="http://schemas.openxmlformats.org/officeDocument/2006/relationships/hyperlink" Target="http://ru.wikipedia.org/wiki/&#1054;&#1083;&#1086;&#1074;&#1086;" TargetMode="External"/><Relationship Id="rId11" Type="http://schemas.openxmlformats.org/officeDocument/2006/relationships/hyperlink" Target="http://ru.wikipedia.org/wiki/&#1057;&#1077;&#1088;&#1077;&#1073;&#1088;&#1086;" TargetMode="External"/><Relationship Id="rId12" Type="http://schemas.openxmlformats.org/officeDocument/2006/relationships/hyperlink" Target="http://ru.wikipedia.org/wiki/&#1053;&#1077;&#1092;&#1090;&#1100;" TargetMode="External"/><Relationship Id="rId13" Type="http://schemas.openxmlformats.org/officeDocument/2006/relationships/hyperlink" Target="http://ru.wikipedia.org/wiki/&#1040;&#1088;&#1075;&#1077;&#1085;&#1090;&#1080;&#1085;&#1072;" TargetMode="Externa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ndes_Chile_Argentina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ol&#237;var_usgs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60;&#1072;&#1081;&#1083;:Araucaria_columnaris1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tacama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60;&#1072;&#1081;&#1083;:TDFNP-SendaCostera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86;&#1085;&#1082;&#1072;&#1075;&#1091;&#1072;" TargetMode="External"/><Relationship Id="rId2" Type="http://schemas.openxmlformats.org/officeDocument/2006/relationships/hyperlink" Target="http://ru.wikipedia.org/wiki/&#1060;&#1072;&#1081;&#1083;:Aconcagua_-_Argentina_-_January_2005_-_by_Sergio_Schmiegelow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ru.wikipedia.org/wiki/&#1060;&#1072;&#1081;&#1083;:Andes_Chile_Argentina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н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14560" y="3357360"/>
            <a:ext cx="44290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виницын Владими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оедова М.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ров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7920" y="115920"/>
            <a:ext cx="4186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ительност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24000" y="0"/>
            <a:ext cx="561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тительный покров Анд очень разнообразен. Это обусловлено большими высотами гор, значительной разницей в увлажнении западных и восточных склонов. Высотная поясность в Андах выражена чётко. Выделяют три высотных пояса. Анды — родина хинного дерева, кока, табака, картофеля, томатов и других ценных раст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7" descr="150px-Erythroxylum_co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949320"/>
            <a:ext cx="39243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80000" y="260280"/>
            <a:ext cx="3394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вотн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252720" y="115920"/>
            <a:ext cx="5832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Андах обитают ламы и альпаки, цепкохвостые обезьяны, реликтовый очковый медведь, олени пуду голубая лисица, магелланова собака, эндемичный грызун туко-туко и др. Особенностью Анд является большое видовое разнообразие амфибий (свыше 900 видов). Также в Андах насчитывается около 600 видов млекопитающих, свыше 1700 видов птиц и около 400 видов пресноводных ры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200px-Pudu_pudu_A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981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6786"/>
          <p:cNvPicPr/>
          <p:nvPr/>
        </p:nvPicPr>
        <p:blipFill>
          <a:blip r:embed="rId3"/>
          <a:stretch/>
        </p:blipFill>
        <p:spPr>
          <a:xfrm>
            <a:off x="5651640" y="3645000"/>
            <a:ext cx="2247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зяйств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96720" y="620640"/>
            <a:ext cx="9540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дна из наиболее значительных в Андах отраслей хозяйства — горнодобывающая промышленность. Разрабатываются месторождения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мед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Чил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желез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Болив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золот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Колумб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и др.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изумрудо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Колумб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вольфрам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олов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сереб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нефт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краевых прогибах и межгорных впадинах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Аргентин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Боливии, Венесуэлы, Перу и др.). См. также раздел «Геологическое строение и рельеф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ран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24000" y="549000"/>
            <a:ext cx="3672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ды протянулись через территории семи государств Южной Америки — Венесуэлы, Колумбии, Эквадора, Перу, Боливии, Чили и Аргенти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0" t="0" r="48" b="0"/>
          <a:stretch/>
        </p:blipFill>
        <p:spPr>
          <a:xfrm>
            <a:off x="3419640" y="907920"/>
            <a:ext cx="2304720" cy="1330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rcRect l="0" t="0" r="-22" b="330"/>
          <a:stretch/>
        </p:blipFill>
        <p:spPr>
          <a:xfrm>
            <a:off x="6227640" y="836640"/>
            <a:ext cx="216072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3"/>
          <a:srcRect l="0" t="0" r="214" b="-116"/>
          <a:stretch/>
        </p:blipFill>
        <p:spPr>
          <a:xfrm>
            <a:off x="468360" y="5432400"/>
            <a:ext cx="2303280" cy="142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4"/>
          <a:srcRect l="0" t="0" r="-182" b="-116"/>
          <a:stretch/>
        </p:blipFill>
        <p:spPr>
          <a:xfrm>
            <a:off x="6227640" y="2708280"/>
            <a:ext cx="2232000" cy="131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5"/>
          <a:srcRect l="0" t="0" r="214" b="-309"/>
          <a:stretch/>
        </p:blipFill>
        <p:spPr>
          <a:xfrm>
            <a:off x="3419640" y="2637000"/>
            <a:ext cx="2232000" cy="1382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/>
          <p:cNvPicPr/>
          <p:nvPr/>
        </p:nvPicPr>
        <p:blipFill>
          <a:blip r:embed="rId6"/>
          <a:srcRect l="0" t="0" r="87" b="-116"/>
          <a:stretch/>
        </p:blipFill>
        <p:spPr>
          <a:xfrm>
            <a:off x="3419640" y="450864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7"/>
          <a:srcRect l="0" t="0" r="-182" b="-116"/>
          <a:stretch/>
        </p:blipFill>
        <p:spPr>
          <a:xfrm>
            <a:off x="6227640" y="4508640"/>
            <a:ext cx="23050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116000" y="1557360"/>
            <a:ext cx="712800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ибо за внимание 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3780000" y="189000"/>
            <a:ext cx="5219640" cy="15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708360" y="1699920"/>
            <a:ext cx="590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нды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- горная систем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тягивающаяся узкой полосой на западной окраине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Южной Америки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. Хребты Анд при пересечении друг с другом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разуют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воеобразные узлы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с высочайшими пиками. Здесь много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тухших и действующих вулканов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9" descr="Nasa_anden"/>
          <p:cNvPicPr/>
          <p:nvPr/>
        </p:nvPicPr>
        <p:blipFill>
          <a:blip r:embed="rId1"/>
          <a:stretch/>
        </p:blipFill>
        <p:spPr>
          <a:xfrm>
            <a:off x="0" y="0"/>
            <a:ext cx="36496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02. richard clyderman - moon river.mp3" descr=""/>
          <p:cNvPicPr/>
          <p:nvPr/>
        </p:nvPicPr>
        <p:blipFill>
          <a:blip r:embed="rId2"/>
          <a:stretch/>
        </p:blipFill>
        <p:spPr>
          <a:xfrm>
            <a:off x="817236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5040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самая длинная (9000 км) и одна из самых высоких  горных систем Земли, окаймляющая с севера и запада всю Южную Америку. Средняя высота — около 4000 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a_075"/>
          <p:cNvPicPr/>
          <p:nvPr/>
        </p:nvPicPr>
        <p:blipFill>
          <a:blip r:embed="rId1"/>
          <a:stretch/>
        </p:blipFill>
        <p:spPr>
          <a:xfrm>
            <a:off x="4859280" y="260280"/>
            <a:ext cx="4213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4680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ды являются крупным межокеанским водоразделом; к востоку от Анд текут реки бассейна Атлантического океана (в Андах берут начало истоки и многие крупные притоки Амазонки, а также притоки Ориноко, Парагвая, Параны, реки Магдалена и реки Патагонии), к западу — бассейна Тихого океана (преимущественно коротки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250px-Andes_Chile_Argent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998880"/>
            <a:ext cx="4230720" cy="2859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36720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нды – климатический барье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96720" y="549360"/>
            <a:ext cx="9540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нды служат важнейшим в Южной Америке климатическим барьером, изолирующим территории к востоку от Главной Кордильеры от влияния Атлантического океана, к западу — от влияния Тихого океана. Горы лежат в 6 климатических поясах (экваториальном, северном и южном субэкваториальном, южном тропическом, субтропическом и умеренном) и отличаются (особенно в центральной части) резкими контрастами в увлажнении восточных (подветренных) и западных (наветренных) склон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нды богаты рудами главным образом цветных металлов (вольфрама, олова, свинца, цинка, сурьмы и др.);; на территории Чили — крупные медные месторождения. В передовых и предгорных прогибах имеются нефть и газ (в пределах Венесуэлы, Перу, Боливии, Аргентины), в корах выветривания — бокситы. В Андах есть также месторождения железа (в Боливии), натриевой селитры (в Чили), золота, платины и изумрудов (в Колумби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63640" y="115560"/>
            <a:ext cx="36212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еверные Анд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252360" y="549360"/>
            <a:ext cx="59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северным Андам относятся Эквадорские Анды (в Эквадоре) и Северо-Западные Анды (на западе Венесуэлы и в Колумбии). Наиболее высокие гребни Северных Анд имеют небольшие современные ледники, на вулканических конусах — вечные снега. Вдоль разломов — одна из высочайших в мире вулканических цепей (наиболее высоки вулканы Чимборасо, 6267 м, Котопахи, 5897 м). Эти вулканы, а также вулканы Колумбии, образуют первую вулканическую область Ан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220px-Bol%C3%ADvar_us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836640"/>
            <a:ext cx="3457440" cy="229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150px-Araucaria_columnaris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3357720"/>
            <a:ext cx="2189160" cy="3168360"/>
          </a:xfrm>
          <a:prstGeom prst="rect">
            <a:avLst/>
          </a:prstGeom>
          <a:ln w="0">
            <a:noFill/>
          </a:ln>
        </p:spPr>
      </p:pic>
      <p:pic>
        <p:nvPicPr>
          <p:cNvPr id="139" name="10. max greger - alla figaro.mp3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6400" y="0"/>
            <a:ext cx="5997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нтральные Анд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000" y="333360"/>
            <a:ext cx="662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Ц. Андах наблюдается ярко выраженная асимметрия в распределении осадков по склонам: западные склоны увлажнены значительно слабее восточных. К западу от Главной Кордильеры — пустынный тропический климат, рек очень мало. На небольших высотах, при крайне небольшом количестве дождей, значительная (до 80 %) влажность воздуха, поэтому часты туманы и росы. Крупное озеро Титикака оказывает смягчающее воздействие на клима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200px-Atacam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549360"/>
            <a:ext cx="3187800" cy="2151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0px-TDFNP-SendaCoste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14172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84720" y="115560"/>
            <a:ext cx="3959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Южные Анд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24000" y="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Южных Андах, простирающихся к югу от 28° ю.ш., выделяют две части — северную (Субтропические Анды) и южную (Патагонские Анды). В Субтропических Андах, сужающихся к югу, ярко выражено трёхчленное строение. В них находится высочайшая вершина Анд, гора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конкагу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6960 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200px-Aconcagua_-_Argentina_-_January_2005_-_by_Sergio_Schmiege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76500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50px-Andes_Chile_Argentin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3933720"/>
            <a:ext cx="40672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8:30:32Z</dcterms:created>
  <dc:creator>Admin</dc:creator>
  <dc:description/>
  <dc:language>en-US</dc:language>
  <cp:lastModifiedBy>Вова</cp:lastModifiedBy>
  <dcterms:modified xsi:type="dcterms:W3CDTF">2010-11-13T12:13:50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9000000000001024140</vt:lpwstr>
  </property>
  <property fmtid="{D5CDD505-2E9C-101B-9397-08002B2CF9AE}" pid="3" name="Version">
    <vt:r8>7</vt:r8>
  </property>
</Properties>
</file>