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EBA-FAE5-458F-AD1A-FA3F4136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4AD-1C65-43CF-A496-308E61D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CE4-D899-42C7-98E7-FBFAEA43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D99-92EB-4696-AFFE-6216D92E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939-F79F-4A5A-811E-55884C01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2120-E2F5-40C9-9F09-1F5D7221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298F-0EC4-4554-9334-1DABE9F3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119-CA0F-4D3F-BC0C-EB48EDA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17D6-BC08-45B7-82C5-6B3110B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7BE3-8B27-4720-B258-8A12CA01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CDA-0180-4510-89EC-5F997B6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3E8-04EA-4ED9-87F0-E198F30C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CA00-777B-4F03-BECB-10E58911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645D-3B5D-45D5-B153-5080AF4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8D56-EDEE-4D80-A5EA-B74D497F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B8A3-6DF6-466A-8E80-E0328BDE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2648-8E59-4144-A121-CD703654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49E-129A-45E7-928F-6CE17F59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A39-A346-42BB-A1FC-E4ECC99D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5AE-7F0D-41DA-9187-D3052BB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12F-59A2-421E-AFA0-B399D1F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D92-AFA3-489B-8C94-0EF95F3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8FF-544C-41F1-A2E4-6F15DAB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70B-372A-4D02-82F1-01BABE0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A11-3F4C-42C3-A214-E17804BBD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80E-3902-44A3-A46C-D30AF6B778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Erythroxylum_coc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udu_pudu_AB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100;" TargetMode="External"/><Relationship Id="rId2" Type="http://schemas.openxmlformats.org/officeDocument/2006/relationships/hyperlink" Target="http://ru.wikipedia.org/wiki/&#1063;&#1080;&#1083;&#1080;" TargetMode="External"/><Relationship Id="rId3" Type="http://schemas.openxmlformats.org/officeDocument/2006/relationships/hyperlink" Target="http://ru.wikipedia.org/wiki/&#1046;&#1077;&#1083;&#1077;&#1079;&#1086;" TargetMode="External"/><Relationship Id="rId4" Type="http://schemas.openxmlformats.org/officeDocument/2006/relationships/hyperlink" Target="http://ru.wikipedia.org/wiki/&#1041;&#1086;&#1083;&#1080;&#1074;&#1080;&#1103;" TargetMode="External"/><Relationship Id="rId5" Type="http://schemas.openxmlformats.org/officeDocument/2006/relationships/hyperlink" Target="http://ru.wikipedia.org/wiki/&#1047;&#1086;&#1083;&#1086;&#1090;&#1086;" TargetMode="External"/><Relationship Id="rId6" Type="http://schemas.openxmlformats.org/officeDocument/2006/relationships/hyperlink" Target="http://ru.wikipedia.org/wiki/&#1050;&#1086;&#1083;&#1091;&#1084;&#1073;&#1080;&#1103;" TargetMode="External"/><Relationship Id="rId7" Type="http://schemas.openxmlformats.org/officeDocument/2006/relationships/hyperlink" Target="http://ru.wikipedia.org/wiki/&#1048;&#1079;&#1091;&#1084;&#1088;&#1091;&#1076;" TargetMode="External"/><Relationship Id="rId8" Type="http://schemas.openxmlformats.org/officeDocument/2006/relationships/hyperlink" Target="http://ru.wikipedia.org/wiki/&#1050;&#1086;&#1083;&#1091;&#1084;&#1073;&#1080;&#1103;" TargetMode="External"/><Relationship Id="rId9" Type="http://schemas.openxmlformats.org/officeDocument/2006/relationships/hyperlink" Target="http://ru.wikipedia.org/wiki/&#1042;&#1086;&#1083;&#1100;&#1092;&#1088;&#1072;&#1084;" TargetMode="External"/><Relationship Id="rId10" Type="http://schemas.openxmlformats.org/officeDocument/2006/relationships/hyperlink" Target="http://ru.wikipedia.org/wiki/&#1054;&#1083;&#1086;&#1074;&#1086;" TargetMode="External"/><Relationship Id="rId11" Type="http://schemas.openxmlformats.org/officeDocument/2006/relationships/hyperlink" Target="http://ru.wikipedia.org/wiki/&#1057;&#1077;&#1088;&#1077;&#1073;&#1088;&#1086;" TargetMode="External"/><Relationship Id="rId12" Type="http://schemas.openxmlformats.org/officeDocument/2006/relationships/hyperlink" Target="http://ru.wikipedia.org/wiki/&#1053;&#1077;&#1092;&#1090;&#1100;" TargetMode="External"/><Relationship Id="rId13" Type="http://schemas.openxmlformats.org/officeDocument/2006/relationships/hyperlink" Target="http://ru.wikipedia.org/wiki/&#1040;&#1088;&#1075;&#1077;&#1085;&#1090;&#1080;&#1085;&#1072;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des_Chile_Argentina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ol&#237;var_usg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Araucaria_columnaris1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tacama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0;&#1072;&#1081;&#1083;:TDFNP-SendaCostera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86;&#1085;&#1082;&#1072;&#1075;&#1091;&#1072;" TargetMode="External"/><Relationship Id="rId2" Type="http://schemas.openxmlformats.org/officeDocument/2006/relationships/hyperlink" Target="http://ru.wikipedia.org/wiki/&#1060;&#1072;&#1081;&#1083;:Aconcagua_-_Argentina_-_January_2005_-_by_Sergio_Schmiegelow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ru.wikipedia.org/wiki/&#1060;&#1072;&#1081;&#1083;:Andes_Chile_Argentin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д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14560" y="3357360"/>
            <a:ext cx="44290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виницын Владими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оедова М.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ров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7920" y="115920"/>
            <a:ext cx="4186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тительнос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6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ительный покров Анд очень разнообразен. Это обусловлено большими высотами гор, значительной разницей в увлажнении западных и восточных склонов. Высотная поясность в Андах выражена чётко. Выделяют три высотных пояса. Анды — родина хинного дерева, кока, табака, картофеля, томатов и других ценных раст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150px-Erythroxylum_co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949320"/>
            <a:ext cx="3924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80000" y="260280"/>
            <a:ext cx="3394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тн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252720" y="115920"/>
            <a:ext cx="5832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дах обитают ламы и альпаки, цепкохвостые обезьяны, реликтовый очковый медведь, олени пуду голубая лисица, магелланова собака, эндемичный грызун туко-туко и др. Особенностью Анд является большое видовое разнообразие амфибий (свыше 900 видов). Также в Андах насчитывается около 600 видов млекопитающих, свыше 1700 видов птиц и около 400 видов пресноводных ры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200px-Pudu_pudu_A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981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6786"/>
          <p:cNvPicPr/>
          <p:nvPr/>
        </p:nvPicPr>
        <p:blipFill>
          <a:blip r:embed="rId3"/>
          <a:stretch/>
        </p:blipFill>
        <p:spPr>
          <a:xfrm>
            <a:off x="5651640" y="3645000"/>
            <a:ext cx="2247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зяйст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96720" y="620640"/>
            <a:ext cx="9540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дна из наиболее значительных в Андах отраслей хозяйства — горнодобывающая промышленность. Разрабатываются месторождения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ед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Чил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желез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Болив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золот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и др.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7"/>
              </a:rPr>
              <a:t>изумрудо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8"/>
              </a:rPr>
              <a:t>Колумб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9"/>
              </a:rPr>
              <a:t>вольфрам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0"/>
              </a:rPr>
              <a:t>олов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1"/>
              </a:rPr>
              <a:t>сереб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2"/>
              </a:rPr>
              <a:t>нефт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(в краевых прогибах и межгорных впадинах 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hlinkClick r:id="rId13"/>
              </a:rPr>
              <a:t>Аргентин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Боливии, Венесуэлы, Перу и др.). См. также раздел «Геологическое строение и рельеф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ан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24000" y="549000"/>
            <a:ext cx="3672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протянулись через территории семи государств Южной Америки — Венесуэлы, Колумбии, Эквадора, Перу, Боливии, Чили и Аргент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48" b="0"/>
          <a:stretch/>
        </p:blipFill>
        <p:spPr>
          <a:xfrm>
            <a:off x="3419640" y="907920"/>
            <a:ext cx="2304720" cy="133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rcRect l="0" t="0" r="-22" b="330"/>
          <a:stretch/>
        </p:blipFill>
        <p:spPr>
          <a:xfrm>
            <a:off x="6227640" y="83664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3"/>
          <a:srcRect l="0" t="0" r="214" b="-116"/>
          <a:stretch/>
        </p:blipFill>
        <p:spPr>
          <a:xfrm>
            <a:off x="468360" y="5432400"/>
            <a:ext cx="2303280" cy="142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4"/>
          <a:srcRect l="0" t="0" r="-182" b="-116"/>
          <a:stretch/>
        </p:blipFill>
        <p:spPr>
          <a:xfrm>
            <a:off x="6227640" y="2708280"/>
            <a:ext cx="2232000" cy="131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5"/>
          <a:srcRect l="0" t="0" r="214" b="-309"/>
          <a:stretch/>
        </p:blipFill>
        <p:spPr>
          <a:xfrm>
            <a:off x="3419640" y="2637000"/>
            <a:ext cx="2232000" cy="1382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6"/>
          <a:srcRect l="0" t="0" r="87" b="-116"/>
          <a:stretch/>
        </p:blipFill>
        <p:spPr>
          <a:xfrm>
            <a:off x="3419640" y="450864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rcRect l="0" t="0" r="-182" b="-116"/>
          <a:stretch/>
        </p:blipFill>
        <p:spPr>
          <a:xfrm>
            <a:off x="6227640" y="4508640"/>
            <a:ext cx="23050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116000" y="1557360"/>
            <a:ext cx="712800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ибо за внимание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780000" y="189000"/>
            <a:ext cx="5219640" cy="15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708360" y="1699920"/>
            <a:ext cx="590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нд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- горная систем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тягивающаяся узкой полосой на западной окраине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Южной Америки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Хребты Анд при пересечении друг с другом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уют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воеобразные узлы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с высочайшими пиками. Здесь мног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тухших и действующих вулкано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9" descr="Nasa_anden"/>
          <p:cNvPicPr/>
          <p:nvPr/>
        </p:nvPicPr>
        <p:blipFill>
          <a:blip r:embed="rId1"/>
          <a:stretch/>
        </p:blipFill>
        <p:spPr>
          <a:xfrm>
            <a:off x="0" y="0"/>
            <a:ext cx="3649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02. richard clyderman - moon river.mp3" descr=""/>
          <p:cNvPicPr/>
          <p:nvPr/>
        </p:nvPicPr>
        <p:blipFill>
          <a:blip r:embed="rId2"/>
          <a:stretch/>
        </p:blipFill>
        <p:spPr>
          <a:xfrm>
            <a:off x="817236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5040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, самая длинная (9000 км) и одна из самых высоких  горных систем Земли, окаймляющая с севера и запада всю Южную Америку. Средняя высота — около 4000 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a_075"/>
          <p:cNvPicPr/>
          <p:nvPr/>
        </p:nvPicPr>
        <p:blipFill>
          <a:blip r:embed="rId1"/>
          <a:stretch/>
        </p:blipFill>
        <p:spPr>
          <a:xfrm>
            <a:off x="4859280" y="260280"/>
            <a:ext cx="4213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ы являются крупным межокеанским водоразделом; к востоку от Анд текут реки бассейна Атлантического океана (в Андах берут начало истоки и многие крупные притоки Амазонки, а также притоки Ориноко, Парагвая, Параны, реки Магдалена и реки Патагонии), к западу — бассейна Тихого океана (преимущественно коротки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250px-Andes_Chile_Argent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998880"/>
            <a:ext cx="4230720" cy="285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36720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нды – климатический барье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96720" y="549360"/>
            <a:ext cx="9540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служат важнейшим в Южной Америке климатическим барьером, изолирующим территории к востоку от Главной Кордильеры от влияния Атлантического океана, к западу — от влияния Тихого океана. Горы лежат в 6 климатических поясах (экваториальном, северном и южном субэкваториальном, южном тропическом, субтропическом и умеренном) и отличаются (особенно в центральной части) резкими контрастами в увлажнении восточных (подветренных) и западных (наветренных) склон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нды богаты рудами главным образом цветных металлов (вольфрама, олова, свинца, цинка, сурьмы и др.);; на территории Чили — крупные медные месторождения. В передовых и предгорных прогибах имеются нефть и газ (в пределах Венесуэлы, Перу, Боливии, Аргентины), в корах выветривания — бокситы. В Андах есть также месторождения железа (в Боливии), натриевой селитры (в Чили), золота, платины и изумрудов (в Колумби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6212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верные Анд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252360" y="549360"/>
            <a:ext cx="59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северным Андам относятся Эквадорские Анды (в Эквадоре) и Северо-Западные Анды (на западе Венесуэлы и в Колумбии). Наиболее высокие гребни Северных Анд имеют небольшие современные ледники, на вулканических конусах — вечные снега. Вдоль разломов — одна из высочайших в мире вулканических цепей (наиболее высоки вулканы Чимборасо, 6267 м, Котопахи, 5897 м). Эти вулканы, а также вулканы Колумбии, образуют первую вулканическую область Ан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220px-Bol%C3%ADvar_us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836640"/>
            <a:ext cx="345744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50px-Araucaria_columnari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3357720"/>
            <a:ext cx="2189160" cy="3168360"/>
          </a:xfrm>
          <a:prstGeom prst="rect">
            <a:avLst/>
          </a:prstGeom>
          <a:ln w="0">
            <a:noFill/>
          </a:ln>
        </p:spPr>
      </p:pic>
      <p:pic>
        <p:nvPicPr>
          <p:cNvPr id="139" name="10. max greger - alla figaro.mp3" descr=""/>
          <p:cNvPicPr/>
          <p:nvPr/>
        </p:nvPicPr>
        <p:blipFill>
          <a:blip r:embed="rId5"/>
          <a:stretch/>
        </p:blipFill>
        <p:spPr>
          <a:xfrm>
            <a:off x="61128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6400" y="0"/>
            <a:ext cx="5997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траль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000" y="333360"/>
            <a:ext cx="662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. Андах наблюдается ярко выраженная асимметрия в распределении осадков по склонам: западные склоны увлажнены значительно слабее восточных. К западу от Главной Кордильеры — пустынный тропический климат, рек очень мало. На небольших высотах, при крайне небольшом количестве дождей, значительная (до 80 %) влажность воздуха, поэтому часты туманы и росы. Крупное озеро Титикака оказывает смягчающее воздействие на клима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200px-Atacam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49360"/>
            <a:ext cx="3187800" cy="2151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0px-TDFNP-SendaCoste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14172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84720" y="115560"/>
            <a:ext cx="3959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Южные Анды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24000" y="0"/>
            <a:ext cx="54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Южных Андах, простирающихся к югу от 28° ю.ш., выделяют две части — северную (Субтропические Анды) и южную (Патагонские Анды). В Субтропических Андах, сужающихся к югу, ярко выражено трёхчленное строение. В них находится высочайшая вершина Анд, гора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конкагу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6960 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200px-Aconcagua_-_Argentina_-_January_2005_-_by_Sergio_Schmiege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7650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50px-Andes_Chile_Argentin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933720"/>
            <a:ext cx="40672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8:30:32Z</dcterms:created>
  <dc:creator>Admin</dc:creator>
  <dc:description/>
  <dc:language>en-US</dc:language>
  <cp:lastModifiedBy>Вова</cp:lastModifiedBy>
  <dcterms:modified xsi:type="dcterms:W3CDTF">2010-11-13T12:13:50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9000000000001024140</vt:lpwstr>
  </property>
  <property fmtid="{D5CDD505-2E9C-101B-9397-08002B2CF9AE}" pid="3" name="Version">
    <vt:r8>7</vt:r8>
  </property>
</Properties>
</file>