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290-EC6F-466A-9836-68BF45A4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50F-41F3-4203-98D8-E612A8EB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91E-B2B3-4B4B-BD3B-F26DBAD7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87E-E43A-4FE4-A9C5-C5B3E830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183-6C44-4DF4-8707-E0E39B28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BBC-0DB6-4B37-936A-DC11F4D7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74E-243A-4667-B95E-B3581F7A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CD0-8F6F-44BB-9CCC-D0736AC7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C74-DCD2-4A6F-BF67-E4514A2A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452-7AAE-4989-AC87-02BA213D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C32-36BA-4E1B-BC17-10451268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8FF-2DA9-42EB-9790-4F950C3D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B386-5815-48E6-AADF-8EB8E3B2B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5400000">
            <a:off x="-1442520" y="2891520"/>
            <a:ext cx="6048360" cy="93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635280" y="1773360"/>
            <a:ext cx="50403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44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6012000" cy="14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NA01143_"/>
          <p:cNvPicPr/>
          <p:nvPr/>
        </p:nvPicPr>
        <p:blipFill>
          <a:blip r:embed="rId3"/>
          <a:stretch/>
        </p:blipFill>
        <p:spPr>
          <a:xfrm>
            <a:off x="6443640" y="4724280"/>
            <a:ext cx="2308320" cy="127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IN00349_"/>
          <p:cNvPicPr/>
          <p:nvPr/>
        </p:nvPicPr>
        <p:blipFill>
          <a:blip r:embed="rId4"/>
          <a:stretch/>
        </p:blipFill>
        <p:spPr>
          <a:xfrm>
            <a:off x="3419640" y="162864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3276720" y="638172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муниципальной Новлянской СОШ Лебедева Е.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3786120" y="5643720"/>
            <a:ext cx="2214720" cy="42840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Picture 4" descr="Ах 1946г"/>
          <p:cNvPicPr/>
          <p:nvPr/>
        </p:nvPicPr>
        <p:blipFill>
          <a:blip r:embed="rId2"/>
          <a:stretch/>
        </p:blipFill>
        <p:spPr>
          <a:xfrm>
            <a:off x="324000" y="1484280"/>
            <a:ext cx="2592360" cy="4105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419640" y="1341360"/>
            <a:ext cx="549252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Вопросы для обсу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Семибратова считает, что «величаво и трагично начинает Ахматова своё свидетельство очевидца о том времени- подлинный документ эпохи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Как вы понимаете определение «документ эпохи»? Правомерно ли, на ваш взгляд, использование этого определения относительно поэмы «Реквием»? Почему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гласны ли вы с тем, что ахматовский «Реквием» погружает читателя в бездну ужаса и отчаяния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 «Реквиеме» трудно говорить и писать. Каждое слово, каждая строка поэмы кровоточит. Её невозможно читать без боли и содрогания. Эта поэма могла быть написана только женщиной, матерью, женой. Крик, вопль, плачь, проклятия – все слилось, невозможно разобрать, где голос автора, а где стоны живых и мольба об отмщении мертвых»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 А.С.Крюков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Расскажите о своих чувствах при чтении поэмы. Они совпадают с теми, о которых пишет ученый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4286160" y="59292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Admin</cp:lastModifiedBy>
  <dcterms:modified xsi:type="dcterms:W3CDTF">2012-07-20T20:53:33Z</dcterms:modified>
  <cp:revision>41</cp:revision>
  <dc:subject/>
  <dc:title>Слайд 1</dc:title>
</cp:coreProperties>
</file>