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738-4C16-4375-8295-56A8E99F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27B-9F39-4B8A-962B-3A4A204D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A65-5D4E-4511-831A-8CB4BF06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16D-9BB8-44A3-93EF-0FCDA175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713-5B0C-4661-82BC-2FC4093D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7A5-4AF6-4088-AA7B-28BF3D0B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370-AF56-4993-AE7D-3E3A7F98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624-D208-4A4F-B50C-17EFCD8C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183-EF3B-4853-87A8-B59FE4BA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0DE-7B6B-47D1-9ED1-B887CFB9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EA0-3D60-49DB-A851-5515E815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247-656F-408A-9204-A455FFBB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DDC3-4399-4D42-BAFC-2AC688442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5400000">
            <a:off x="-1442520" y="2891520"/>
            <a:ext cx="6048360" cy="93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635280" y="1773360"/>
            <a:ext cx="5040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44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6012000" cy="14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NA01143_"/>
          <p:cNvPicPr/>
          <p:nvPr/>
        </p:nvPicPr>
        <p:blipFill>
          <a:blip r:embed="rId3"/>
          <a:stretch/>
        </p:blipFill>
        <p:spPr>
          <a:xfrm>
            <a:off x="6443640" y="4724280"/>
            <a:ext cx="2308320" cy="127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IN00349_"/>
          <p:cNvPicPr/>
          <p:nvPr/>
        </p:nvPicPr>
        <p:blipFill>
          <a:blip r:embed="rId4"/>
          <a:stretch/>
        </p:blipFill>
        <p:spPr>
          <a:xfrm>
            <a:off x="3419640" y="162864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3276720" y="638172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муниципальной Новлянской СОШ Лебедева Е.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3786120" y="5643720"/>
            <a:ext cx="2214720" cy="42840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Picture 4" descr="Ах 1946г"/>
          <p:cNvPicPr/>
          <p:nvPr/>
        </p:nvPicPr>
        <p:blipFill>
          <a:blip r:embed="rId2"/>
          <a:stretch/>
        </p:blipFill>
        <p:spPr>
          <a:xfrm>
            <a:off x="324000" y="1484280"/>
            <a:ext cx="2592360" cy="410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419640" y="1341360"/>
            <a:ext cx="549252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опросы для обсу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Семибратова считает, что «величаво и трагично начинает Ахматова своё свидетельство очевидца о том времени- подлинный документ эпох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Как вы понимаете определение «документ эпохи»? Правомерно ли, на ваш взгляд, использование этого определения относительно поэмы «Реквием»? Почему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гласны ли вы с тем, что ахматовский «Реквием» погружает читателя в бездну ужаса и отчаяния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 «Реквиеме» трудно говорить и писать. Каждое слово, каждая строка поэмы кровоточит. Её невозможно читать без боли и содрогания. Эта поэма могла быть написана только женщиной, матерью, женой. Крик, вопль, плачь, проклятия – все слилось, невозможно разобрать, где голос автора, а где стоны живых и мольба об отмщении мертвых»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 А.С.Крюков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Расскажите о своих чувствах при чтении поэмы. Они совпадают с теми, о которых пишет ученый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4286160" y="59292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Admin</cp:lastModifiedBy>
  <dcterms:modified xsi:type="dcterms:W3CDTF">2012-07-20T20:53:33Z</dcterms:modified>
  <cp:revision>41</cp:revision>
  <dc:subject/>
  <dc:title>Слайд 1</dc:title>
</cp:coreProperties>
</file>