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B30-C51D-4D27-83BF-36751251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A60A-AEA4-4168-81D6-BDCC1B92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207-462F-4A83-A185-F1C9F8D4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8A6-3D16-4B4C-9F1A-2E7EFA1E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27B-654B-4F93-B124-93A6E44B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038A-D055-4581-A91C-069F60B7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54B3-F14E-4511-83B6-AF73D945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05FC-8278-4505-8518-F52FDFAE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579-D40C-477C-BD18-B9BB384D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40D-5896-41AB-AB4E-E2827EEF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E74B-553A-4CF1-8822-032F68B3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CBD-AA01-4DCF-B2BF-F5CF170A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DFBF-3DEF-42B2-A071-789EE5E313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hyperlink" Target="http://prezentacii.com/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 rot="5400000">
            <a:off x="-1442520" y="2891520"/>
            <a:ext cx="6048360" cy="932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квием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635280" y="1773360"/>
            <a:ext cx="504036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Анна Ахмат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44" name="Picture 7" descr="ahmatova_pic_02"/>
          <p:cNvPicPr/>
          <p:nvPr/>
        </p:nvPicPr>
        <p:blipFill>
          <a:blip r:embed="rId2"/>
          <a:stretch/>
        </p:blipFill>
        <p:spPr>
          <a:xfrm>
            <a:off x="3132000" y="0"/>
            <a:ext cx="6012000" cy="144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NA01143_"/>
          <p:cNvPicPr/>
          <p:nvPr/>
        </p:nvPicPr>
        <p:blipFill>
          <a:blip r:embed="rId3"/>
          <a:stretch/>
        </p:blipFill>
        <p:spPr>
          <a:xfrm>
            <a:off x="6443640" y="4724280"/>
            <a:ext cx="2308320" cy="127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IN00349_"/>
          <p:cNvPicPr/>
          <p:nvPr/>
        </p:nvPicPr>
        <p:blipFill>
          <a:blip r:embed="rId4"/>
          <a:stretch/>
        </p:blipFill>
        <p:spPr>
          <a:xfrm>
            <a:off x="3419640" y="162864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3276720" y="6381720"/>
            <a:ext cx="57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итель муниципальной Новлянской СОШ Лебедева Е.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3786120" y="5643720"/>
            <a:ext cx="2214720" cy="42840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4" name="Picture 4" descr="Ах 1946г"/>
          <p:cNvPicPr/>
          <p:nvPr/>
        </p:nvPicPr>
        <p:blipFill>
          <a:blip r:embed="rId2"/>
          <a:stretch/>
        </p:blipFill>
        <p:spPr>
          <a:xfrm>
            <a:off x="324000" y="1484280"/>
            <a:ext cx="2592360" cy="4105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3419640" y="1341360"/>
            <a:ext cx="549252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Вопросы для обсужд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Семибратова считает, что «величаво и трагично начинает Ахматова своё свидетельство очевидца о том времени- подлинный документ эпохи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Как вы понимаете определение «документ эпохи»? Правомерно ли, на ваш взгляд, использование этого определения относительно поэмы «Реквием»? Почему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гласны ли вы с тем, что ахматовский «Реквием» погружает читателя в бездну ужаса и отчаяния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О «Реквиеме» трудно говорить и писать. Каждое слово, каждая строка поэмы кровоточит. Её невозможно читать без боли и содрогания. Эта поэма могла быть написана только женщиной, матерью, женой. Крик, вопль, плачь, проклятия – все слилось, невозможно разобрать, где голос автора, а где стоны живых и мольба об отмщении мертвых»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 А.С.Крюков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Расскажите о своих чувствах при чтении поэмы. Они совпадают с теми, о которых пишет ученый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327480" y="1433520"/>
            <a:ext cx="5637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Вторя часть «Эпилога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развивает тему Памятника, хорошо известную в русской литературе по Державину и Пушкину, но приобретающую под пером Ахматовой совершенно необычный – глубоко трагический – облик и смысл. Никогда , ни в русской , ни в мировой литературе, не возникало столь необычного образа – Памятника Поэту, стоящему, по его желанию и завещанию, у Тюремной Стены. Это – поистине памятник всем жертвам репрессий, замученных в 30-е и иные страшные г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Гумилевы"/>
          <p:cNvPicPr/>
          <p:nvPr/>
        </p:nvPicPr>
        <p:blipFill>
          <a:blip r:embed="rId2"/>
          <a:stretch/>
        </p:blipFill>
        <p:spPr>
          <a:xfrm>
            <a:off x="250920" y="1628640"/>
            <a:ext cx="2700360" cy="36007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7"/>
          <p:cNvSpPr/>
          <p:nvPr/>
        </p:nvSpPr>
        <p:spPr>
          <a:xfrm>
            <a:off x="4286160" y="592920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Ахматова=="/>
          <p:cNvPicPr/>
          <p:nvPr/>
        </p:nvPicPr>
        <p:blipFill>
          <a:blip r:embed="rId2"/>
          <a:stretch/>
        </p:blipFill>
        <p:spPr>
          <a:xfrm>
            <a:off x="179280" y="1484280"/>
            <a:ext cx="2660760" cy="3959280"/>
          </a:xfrm>
          <a:prstGeom prst="rect">
            <a:avLst/>
          </a:prstGeom>
          <a:ln w="0">
            <a:noFill/>
          </a:ln>
        </p:spPr>
      </p:pic>
      <p:sp>
        <p:nvSpPr>
          <p:cNvPr id="51" name="WordArt 4"/>
          <p:cNvSpPr txBox="1"/>
          <p:nvPr/>
        </p:nvSpPr>
        <p:spPr>
          <a:xfrm>
            <a:off x="3851280" y="189000"/>
            <a:ext cx="475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3419640" y="1989000"/>
            <a:ext cx="5400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ет, и не под чуждым небосв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не под защитой чуждых крыл,-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 была тогда с моим нар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м, где мой народ, к несчастью, был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7093080" y="479736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А.Ахматов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Ахматова-"/>
          <p:cNvPicPr/>
          <p:nvPr/>
        </p:nvPicPr>
        <p:blipFill>
          <a:blip r:embed="rId2"/>
          <a:stretch/>
        </p:blipFill>
        <p:spPr>
          <a:xfrm>
            <a:off x="324000" y="1557360"/>
            <a:ext cx="2666880" cy="3724200"/>
          </a:xfrm>
          <a:prstGeom prst="rect">
            <a:avLst/>
          </a:prstGeom>
          <a:ln w="0">
            <a:noFill/>
          </a:ln>
        </p:spPr>
      </p:pic>
      <p:sp>
        <p:nvSpPr>
          <p:cNvPr id="56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635280" y="1484280"/>
            <a:ext cx="5327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авным творческим и гражданским достижением Ахматовой в 30-е г.г. явилось создание ею поэмы «Реквием», посвященной годам «большого террора» - страданиям репрессированного народ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я в очереди у стен тюрьмы, где был заточен ее сын, Ахматова услыхала полушепотом произнесенный вопрос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А это вы можете описать?» - и ответила: «Могу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рождались стихотворения, вместе составившие «Реквием» - поэму, которая стала данью скорбной памяти о всех безвинно загубленных в годы сталинского произво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419640" y="1484280"/>
            <a:ext cx="54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ять лет с перерывами работала Ахматова над этим произведением. Создавалась поэма в нечеловеческих условиях. Окончательно эти стихи были скомпонованы в единое произведение лишь осенью 1962 г., когда оно впервые было написано на бумаге.  Л.Чуковская в «Записках об Анне Ахматовой» сообщает, что в этот день Ахматова торжественно сообщила: «Реквием» знали наизусть 11 человек, и никто меня не предал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Ах 1940г"/>
          <p:cNvPicPr/>
          <p:nvPr/>
        </p:nvPicPr>
        <p:blipFill>
          <a:blip r:embed="rId2"/>
          <a:stretch/>
        </p:blipFill>
        <p:spPr>
          <a:xfrm>
            <a:off x="324000" y="1484280"/>
            <a:ext cx="25495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492360" y="1700280"/>
            <a:ext cx="549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стоит из 10 стихотворений, прозаического Предисловия, названного Ахматовой «Вместо Предисловия», Посвящения, Вступления и двухчастного Эпил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был опубликован через 22 г. после смерти Ахматовой, т.е. в 1988 г., причем сразу в двух изданиях: в журнале «Октябрь» и «Нев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здавался не единовременно, а в разные годы, с 1935 по 1940 г.г. и только «Вместо предисловия» и эпиграф помечены 1957 и 1961 г.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attach"/>
          <p:cNvPicPr/>
          <p:nvPr/>
        </p:nvPicPr>
        <p:blipFill>
          <a:blip r:embed="rId2"/>
          <a:stretch/>
        </p:blipFill>
        <p:spPr>
          <a:xfrm>
            <a:off x="250920" y="1700280"/>
            <a:ext cx="263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635280" y="2276640"/>
            <a:ext cx="498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квием – католическое богослужение по умершем, также траурное музыкальное произвед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1" name="Picture 4" descr="Ах"/>
          <p:cNvPicPr/>
          <p:nvPr/>
        </p:nvPicPr>
        <p:blipFill>
          <a:blip r:embed="rId2"/>
          <a:stretch/>
        </p:blipFill>
        <p:spPr>
          <a:xfrm>
            <a:off x="324000" y="1628640"/>
            <a:ext cx="2538360" cy="3961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3419640" y="1413000"/>
            <a:ext cx="541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пиграфом к «Реквиему» служит отрывок из стихотворения Ахматовой «Так не зря мы вместе бедовали» (1961 г.). Стихотворение было впервые опубликовано в журнале «Знамя» в 198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492360" y="321300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аков смысл эпиграф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276720" y="4005360"/>
            <a:ext cx="586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самого начала автор подчеркивает, что поэма затрагивает не только ее несчастье как матери, но касается общенародного горя. Этот сплав личного и общего выделен в афористичных строчках эпиграф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Я была тогда с моим народ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м, где мой народ, к несчастью, был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400560" y="1433520"/>
            <a:ext cx="549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«Вместо предисловия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писано прозой: и содержание, и непривычная форма этого текста приковывают к себе особое внимание. Рассказ о семнадцати месяцах, проведенных в очередях возле тюрьмы, как бы конкретизирует эпиграф. Поэт клянется, что сможет написать о пережитом, и сам текст «Реквиема» служит этому подтвержд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эма – овеществленная клятва, реализация высочайшей миссии, взятой на себя художн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Ахматова Ан="/>
          <p:cNvPicPr/>
          <p:nvPr/>
        </p:nvPicPr>
        <p:blipFill>
          <a:blip r:embed="rId2"/>
          <a:stretch/>
        </p:blipFill>
        <p:spPr>
          <a:xfrm>
            <a:off x="179280" y="1557360"/>
            <a:ext cx="2789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492360" y="1844640"/>
            <a:ext cx="541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колай Иванович Ежов – нарком внутренних дел с 1936 по 1938 год. Годы ежовщины страшны жестокими репрессиями. Ежов был казнен 1 апреля 1940 г. по приговору Военной коллегии Верховного суда СССР. Формулировка приговора была следующая: « За необоснованные репрессии против советского народ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4:56:56Z</dcterms:created>
  <dc:creator>Евгения</dc:creator>
  <dc:description/>
  <dc:language>en-US</dc:language>
  <cp:lastModifiedBy>Admin</cp:lastModifiedBy>
  <dcterms:modified xsi:type="dcterms:W3CDTF">2012-07-20T20:53:33Z</dcterms:modified>
  <cp:revision>41</cp:revision>
  <dc:subject/>
  <dc:title>Слайд 1</dc:title>
</cp:coreProperties>
</file>