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B38-8F23-4631-B99C-F0A352ED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86D-8503-4270-9645-D920C21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B52B-CD2A-4917-AD5F-FEE0E71A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E5264-716F-423B-8812-20EFB21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C97E7-2C30-47FA-9B32-58C41838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64C7-4A25-44E8-97DA-82710F1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C9E68-327F-4C4B-95F3-84CBBBA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06B89-05E4-4B98-911E-7173DCA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CD0E5-AB8B-448E-A71A-81C5011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5094-42C5-4C23-87BA-AF48982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5B26-BFF0-43D7-9809-6C8C9F1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B7C12-53FD-4941-9750-5663F861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126-4A18-411F-BC81-11DDAE37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CDF7B-4E4F-4F0E-B554-1763A2B1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B9E07-2EF6-4FAE-A316-44FE3F49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D32B-C7A2-42ED-8362-8D3822BE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A2962-687A-4877-B34A-A90949DF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0DF4-4F4F-4867-9883-5B8C1F6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482E1-8C1B-473E-9B68-6A1946D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196E8-27A0-4E16-9C67-979F093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4B9C6-9B32-44A6-8557-9FCB40D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6754D-4A3C-4420-94AD-E798CBFD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46AD9-B5A9-4710-928B-267B8C7C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80E-23C7-4D2F-BAB9-5C47DFFF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AEE5A-768E-4E24-9802-B9E1D7F5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F526F-FF3E-4272-93B5-2D68AA22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ED6D-AF0C-47A8-8BC7-5EA8D334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92B04-5667-47FC-B97D-0D8C2E1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1B84-8904-41E5-A182-6134A8EA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2EE44-95DB-4A53-84E5-94C0D262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1DE3-13BD-4A63-8E7E-8779635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1A4DC-D029-4539-8FE7-91E1E4E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165F-B5BC-4212-BCCD-AF9BD4B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EB686-C225-49C7-AF8D-0AA855E7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A872-9D5E-4080-B91D-2EF2117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3EAFD-214F-40FA-8C7F-9D18CF0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044A0-DE2F-4A2C-BEC1-2F1AEF40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DB6F1-2389-4569-85C9-1B2DBE43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84264-9051-4466-A110-EFA2A413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B493-E288-469C-B121-92483A20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13AAE-321D-4AAE-8183-15734139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F100F-4540-4A4E-AC2D-7F125DA6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C03F6-8321-4A3E-993A-0B809B89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D653F-1ACC-48D1-8D67-4383502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2DE64-8EBA-4C33-BD33-FAD5204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11E8-6D9F-4504-83DF-1DE95A8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76152-3E05-4BA7-B779-A77AF27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4FCB0-F80A-4A06-98CF-8D2A939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F0978-AC97-48E1-8C53-655AB97C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4FF39-EB39-477F-9755-E2CA948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EB100-A96F-4B90-B957-F323F5E7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5E565-6BEE-4BA8-B4A5-EF422175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69522-00AB-4F91-A856-A621A7C6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BF314-846E-4F31-800D-DC44ECE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4F205-9FBC-4A71-803E-6ACF84CE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82027-077E-41A1-BC04-656702F4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2C9-45DB-4F8F-ACBD-C6AEC8AD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7958D-7FB7-44B6-9B43-6B3DBA91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82957-FAF6-4142-8BF8-6A86A96E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7078B-9A28-4F23-B820-A04B4A7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408CB-7997-49CC-B2EC-C2B778B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134D6-32D3-4EEE-982F-E864566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35C87-A29F-4B97-A5F5-8C6B7C1A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C3ADE-2697-4EF2-8049-E2992548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523A-91F0-42D0-B107-8E64A28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B18-92E6-4C57-8D86-84E5454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3996-D2FD-4998-B439-97646697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267-6952-4738-A6CB-5B63AC0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D6B-C20E-43EE-AA44-07C5D4D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B09F-E91C-4B31-96D3-87D765A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B0F-A10C-4A5B-B98F-AB50737C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7A3-0A57-42FF-B1F9-3C26B937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B96A-8F38-4D64-8E0B-76E7C066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2F8-7D6E-476C-80A4-B69A3338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A1B7-8FAF-455A-A0AE-1A5755C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BA3A-9BB9-4EF5-A2D3-03B6C1F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EEEB-505A-4BE3-9FB3-1C602B1D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4793-1FA8-4E46-9C5E-68AF700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8384-3930-4862-BEE0-1D43871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223-E149-4BA2-ACF4-AD23ED8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A26F-D95F-4EEA-947B-49ED76D8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031E-B27E-4CDA-B9C1-1ABBCD57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313E-87FE-465F-A74E-D55E191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B88F-0F2D-40E9-A354-7E3C3CB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C263-40D5-4FB8-A5F0-D8690A5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AD60-0560-448A-8F94-78C955E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D0B1-5DCB-40C8-B044-EAFC57AB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2964-41D6-4204-ABEA-F966DA3E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2D77-1C93-4A1F-B846-33DA98A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B233-078F-4969-BAD2-6449D6C0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5BB-9294-4C11-AC35-DB3386D3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3160-786F-4154-BCE7-43A0259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12CF-A810-4EB3-83EC-F88A020A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47A7-9089-4798-97B9-1A0426BC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D3964-20AE-4832-AA80-59D254D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005F-165C-48EB-B083-09888D1C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929C-1DD8-490F-8638-8A59F03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8079-8BA5-4257-8CCD-3F8C2B0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C2FE-62BB-4279-984E-FE0B327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104A8-92FD-41A8-8867-34A31B81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F9A0-A900-4196-A5AA-D7D816E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57F-E27F-4930-92D9-F137C833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F5DF-7D39-4BA5-9771-CC1A6D7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2C31-3390-4D8E-A928-C1CF5A8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1F42-E6A7-4BE9-B5FE-9CC01BD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9F96-0793-4491-943C-6E8E70C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95C5-8432-404B-9925-EDD6168E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27C1-FEAD-4A1E-9CA7-4BA399E4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8999-1831-458B-B6ED-F6AD6A04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F525-BF99-4CDF-BF40-32257F9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8D01-CBEE-4719-9139-93550084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8AF3F-3FC7-46B9-993E-81A38A4C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F8-4BF0-4C55-9C9E-22EEB7BE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0E87-E1DE-4CB4-9A85-8EE4CC40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7CDBA-B5AC-40A3-BE0C-2987E8AE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9DBD-D121-423C-843D-1F7211C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EFBE-B25F-4853-BEFE-9A450526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08AEA-24CF-439B-9200-DA93824D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FB04-AE71-4E7B-9F7D-E01A03A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0D75-E3A5-4A8B-8023-45748934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6D92-6135-438B-B8FC-D5C1846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88E72-10D0-4CE8-8821-B24E813E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BC89-3DA6-4F5D-B0EF-5CB9C0D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2F7-3BAB-440C-B63E-E84C66A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32C30-5F3D-4F66-B13B-4457BB3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62DE-E6BD-4ED0-94C8-A8F97DAA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E46E4-E79E-4ABE-B76E-17EBF581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00E3-07A4-41BA-A042-AF6B8315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6972D-7915-40A7-8EE6-BCBCB23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6D85-583C-4BD5-8163-5C261FC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FF0D-60FC-47D9-80B7-9B09FC5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AECA6-A3E3-4BA7-A37D-BA7BE209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31DA-481A-4CB4-9715-38DD97C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E956F-0BC3-4FE2-86E2-13C23A1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321-CF03-4526-9E8F-84D8A2D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AFC7-1CE0-4C6F-9D2E-04CAEA1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FE2F-B4FE-45D3-9193-415B0431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4ACFC-6EEC-4065-A269-849F90F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E66E-1EF6-4399-A352-9EB20F21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B155E-A2F0-494A-A276-B9D7F2A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4DD03-4B8D-4A5C-94A7-BAB785D5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5CD9-59C5-40A7-8432-B27090C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61193-F324-45A5-9BE4-3B02651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FA62-3335-4D7A-96AD-DCC60A5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3F31-8EC3-4BE8-8680-766F0B5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676-57EA-46DB-A1A8-FDF79DD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0379-5FB4-40DA-ADC1-A6431FE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6F6DB-DB12-4917-8F05-9C783B8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A01B-7DA5-461E-969E-6A142F0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561B8-DB9D-49C2-A8EA-C512DBB6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1F585-92F7-4607-92DB-26299E9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FBA5-F958-40F3-B268-C2FEB3B5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BC34-C34A-4654-A5E8-D83CC85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A3FB-F74C-4AD9-95CA-E7F119E8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8296-E32D-4AD6-B20A-979A920E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9968B-7D56-4A5D-B0DD-5036A180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A1AC-FF28-4383-87D6-F2E81362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2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11D-141E-4AC9-8683-4BD0CF1914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7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7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8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A84E-DD9B-4D86-802A-9495E9D39C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697C-7FEE-4EA9-94D8-72AC75B7CB9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AD1-49AD-4D08-B8B9-9D01A567A7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A9A-E104-475F-A86F-13274CB0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EA2-82DF-43AE-8CFA-B7DF7DB67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B72F-C048-40D1-9CE9-AC3D05356C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34F1-D0E1-4B90-8272-FE90A5D5E9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3732-E034-45E4-8A11-E2C15193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875-EEFF-48F1-BE9E-8CB1778B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005-62EB-4480-9635-E39C190798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C58-3EB4-4C5D-BAFA-637732A253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kursegorod.ru/sites/default/files/159813288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353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5. Говорить о хорош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Ведь совсем скоро Новый год и двухнедельные каникулы. По выходным всей семьей можно готовиться к праздникам, обсудить, какие подарки выбрать для своих друзей, одноклассников, родственников. Вместе попробовать смастерить их своими руками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95280" y="4548240"/>
            <a:ext cx="47023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Бодрое предпраздничное настроение, предвкушение веселья и сюрпризов - лучшая защита от усталости и депресс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Картинка 65 из 11771"/>
          <p:cNvPicPr/>
          <p:nvPr/>
        </p:nvPicPr>
        <p:blipFill>
          <a:blip r:embed="rId2"/>
          <a:stretch/>
        </p:blipFill>
        <p:spPr>
          <a:xfrm>
            <a:off x="4859280" y="2492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6. Выключить телевизор и компьютер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a4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Эти технические средства утомляют глаза, портят осанку и забирают время, которое школьник мог бы потратить на прогулку или занятия спортом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71640" y="3789000"/>
            <a:ext cx="426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Первоклашкам не стоит разрешать сидеть перед телевизором или играть на компьютере больше часа в ден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Картинка 9 из 572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39076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74328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716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a4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9966ff"/>
                </a:solidFill>
                <a:latin typeface="Arial"/>
              </a:rPr>
              <a:t>Со старшеклассниками все намного сложнее.   Для них монитор и процессор - рабочие инструменты, которые помогают в написании реферата, доклада, контрольн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211640" cy="25257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371680" cy="309564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627280" y="3213000"/>
            <a:ext cx="3384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дросток просто вынужден заниматься за компьютером часами, необходимы перерывы, зарядка для глаз и комплекс упражнений для спины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3059280" cy="2462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66ff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79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7. Заваривать травяные сборы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Иногда дети, перегруженные знаниями и огромным количеством новой, сложной информации, не могут уснуть по ночам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635280" y="4221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После школы или перед сном нужно дать ученику успокаивающий травяной чай (предварительно обсудив это с врачом). Он поможет школьнику расслабиться и снять эмоциональное напряжение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Verdana"/>
              </a:rPr>
              <a:t>8. Не требовать слишком многого!</a:t>
            </a: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i="1" lang="en-US" sz="2200" spc="-1" strike="noStrike">
                <a:solidFill>
                  <a:srgbClr val="003300"/>
                </a:solidFill>
                <a:latin typeface="Verdana"/>
              </a:rPr>
              <a:t>Выдающимися математиками и физиками становятся далеко не все. Не надо упрекать ребенка, что его оценки гораздо хуже, чем у других, или что он снова схватил трояк за контрольную.</a:t>
            </a:r>
            <a:r>
              <a:rPr b="0" i="1" lang="en-US" sz="22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79280" y="2637000"/>
            <a:ext cx="4105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стоянно внушать ребенку комплекс неполноценности, психоэмоциональная нагрузка только возрастет. Возможно он сможет проявить себя в чем-то другом - например, в рисовании, музыке или фотографии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608360" cy="2782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7" nodeType="afterEffect" fill="hold" presetClass="entr" presetID="3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6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23640" y="234936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Здоровье школьника – проблема , касающаяся всех. Нынешние ученики – завтрашнее будущее нашей страны. Нужно сделать все, чтобы оно было здоровым, успешным и благополучн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7" name="Заголов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50428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ПАСИБО ЗА ВНИМАНИЕ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cover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ahoma"/>
              </a:rPr>
              <a:t>ШКОЛА И ЗДОРОВЬ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1547640" y="350028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ВЫПОЛНИЛ УЧЕНИК 7 «А»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ДУБЯГА 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ПРЕПОДАВАТЕЛЬ  БИОЛОГИ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ФРОЛ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3" descr="C:\Users\Юлия\Pictures\Картинки\ВИДЫ ПРИРОДЫ\Nature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0" name="Заголовок 1" descr=""/>
          <p:cNvPicPr/>
          <p:nvPr/>
        </p:nvPicPr>
        <p:blipFill>
          <a:blip r:embed="rId2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pic>
        <p:nvPicPr>
          <p:cNvPr id="881" name="Содержимое 2" descr=""/>
          <p:cNvPicPr/>
          <p:nvPr/>
        </p:nvPicPr>
        <p:blipFill>
          <a:blip r:embed="rId3"/>
          <a:stretch/>
        </p:blipFill>
        <p:spPr>
          <a:xfrm>
            <a:off x="0" y="1844640"/>
            <a:ext cx="1338120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reeform 4"/>
          <p:cNvSpPr/>
          <p:nvPr/>
        </p:nvSpPr>
        <p:spPr>
          <a:xfrm flipH="1">
            <a:off x="1116000" y="549360"/>
            <a:ext cx="3206880" cy="2719440"/>
          </a:xfrm>
          <a:prstGeom prst="pie">
            <a:avLst/>
          </a:prstGeom>
          <a:solidFill>
            <a:srgbClr val="ff99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4587840" y="533520"/>
            <a:ext cx="3489480" cy="2719440"/>
          </a:xfrm>
          <a:prstGeom prst="pie">
            <a:avLst/>
          </a:prstGeom>
          <a:solidFill>
            <a:srgbClr val="00ff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6"/>
          <p:cNvSpPr/>
          <p:nvPr/>
        </p:nvSpPr>
        <p:spPr>
          <a:xfrm>
            <a:off x="1219320" y="3538440"/>
            <a:ext cx="3130560" cy="2633760"/>
          </a:xfrm>
          <a:prstGeom prst="pie">
            <a:avLst/>
          </a:prstGeom>
          <a:solidFill>
            <a:srgbClr val="3366ff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7"/>
          <p:cNvSpPr/>
          <p:nvPr/>
        </p:nvSpPr>
        <p:spPr>
          <a:xfrm flipH="1">
            <a:off x="4571280" y="3573360"/>
            <a:ext cx="3489480" cy="2633760"/>
          </a:xfrm>
          <a:prstGeom prst="pie">
            <a:avLst/>
          </a:prstGeom>
          <a:solidFill>
            <a:srgbClr val="ff99cc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8"/>
          <p:cNvSpPr/>
          <p:nvPr/>
        </p:nvSpPr>
        <p:spPr>
          <a:xfrm>
            <a:off x="2666880" y="1600200"/>
            <a:ext cx="3657600" cy="3657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1666080" y="11890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5095440" y="111276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СИХ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2"/>
          <p:cNvSpPr/>
          <p:nvPr/>
        </p:nvSpPr>
        <p:spPr>
          <a:xfrm flipV="1" rot="12673800">
            <a:off x="2483640" y="1699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81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3"/>
          <p:cNvSpPr/>
          <p:nvPr/>
        </p:nvSpPr>
        <p:spPr>
          <a:xfrm flipV="1" rot="8266800">
            <a:off x="2362320" y="4189680"/>
            <a:ext cx="1296720" cy="756000"/>
          </a:xfrm>
          <a:prstGeom prst="rightArrow">
            <a:avLst>
              <a:gd name="adj1" fmla="val 46509"/>
              <a:gd name="adj2" fmla="val 376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4"/>
          <p:cNvSpPr/>
          <p:nvPr/>
        </p:nvSpPr>
        <p:spPr>
          <a:xfrm flipV="1" rot="19226400">
            <a:off x="5257440" y="17514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5"/>
          <p:cNvSpPr/>
          <p:nvPr/>
        </p:nvSpPr>
        <p:spPr>
          <a:xfrm flipV="1" rot="1656600">
            <a:off x="5257800" y="411444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4"/>
          <p:cNvSpPr/>
          <p:nvPr/>
        </p:nvSpPr>
        <p:spPr>
          <a:xfrm>
            <a:off x="-175320" y="6324480"/>
            <a:ext cx="9439200" cy="368280"/>
          </a:xfrm>
          <a:prstGeom prst="rect">
            <a:avLst/>
          </a:prstGeom>
          <a:solidFill>
            <a:srgbClr val="a3d872"/>
          </a:solidFill>
          <a:ln w="19080">
            <a:solidFill>
              <a:srgbClr val="0c6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Comic Sans MS"/>
              </a:rPr>
              <a:t>Все части здоровья нам очень важны. Все виды здоровья нам очень ну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5"/>
          <p:cNvSpPr/>
          <p:nvPr/>
        </p:nvSpPr>
        <p:spPr>
          <a:xfrm>
            <a:off x="5106240" y="522756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1296720" y="525780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ИН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7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ee941c"/>
                </a:solidFill>
                <a:latin typeface="Arial"/>
              </a:rPr>
              <a:t>Летние каникулы закончились! После отдыха ученикам снова придется вставать на уроки ни свет ни заря, по полдня сидеть за партами и допоздна корпеть над домашними заданиями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0920" y="1700280"/>
            <a:ext cx="4105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А это не так-то просто. Тем более что день сейчас очень короткий, а погода - холодная и промозглая. Ребята практически не видят естественного света и мало гуля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427640" cy="31622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3851280" y="5084640"/>
            <a:ext cx="4465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Как же помочь школьнику выдержать неподъемную учебную нагрузку и при этом сохранить здоровь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322884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облюдать режим дня!</a:t>
            </a: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правляться с учебными нагрузками гораздо легче, если школьник будет вставать, есть, гулять, делать уроки и спать примерно в одно и то же врем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4000" y="2708280"/>
            <a:ext cx="3743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Младшие не должны ложиться спать позже 21 - 22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таршеклассникам тоже надо хорошо высыпаться, поэтому - не позднее 23 ча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460836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23640" y="4508280"/>
            <a:ext cx="583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Хорошо записаться в спортивную секцию, которая будет по душе. Обычно детям больше всего нравятся плавание и спортивные иг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Например, я выбрал фехто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611280" y="115560"/>
            <a:ext cx="82310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2. Чередовать нагрузки!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200" spc="-1" strike="noStrike">
                <a:solidFill>
                  <a:srgbClr val="ffcc00"/>
                </a:solidFill>
                <a:latin typeface="Arial"/>
              </a:rPr>
              <a:t>Почти полдня ребенок проводит в сидячем, малоподвижном положении. Кровь из-за этого циркулирует плохо, а в мозг попадает мало кислорода. От усталости и переутомления спасет чередование умственных и физических нагрузо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Картинка 100 из 125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060640"/>
            <a:ext cx="3384720" cy="2143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6372360" y="2565360"/>
            <a:ext cx="23446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3. Пить витамины!</a:t>
            </a:r>
            <a:r>
              <a:rPr b="0" i="1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Осенью надо особенно заботиться о здоровье. Ведь организм еще не до конца привык к низким температурам, и можно с легкостью подхватить простуду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5280" y="508428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a4"/>
                </a:solidFill>
                <a:latin typeface="Arial"/>
              </a:rPr>
              <a:t>А частые болезни, как известно, изматывают и усиливают усталость. Следовательно, посоветовавшись с врачом, необходимо  приобрести комплекс витами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0" name="" descr="Картинка 95 из 2234"/>
          <p:cNvPicPr/>
          <p:nvPr/>
        </p:nvPicPr>
        <p:blipFill>
          <a:blip r:embed="rId2"/>
          <a:stretch/>
        </p:blipFill>
        <p:spPr>
          <a:xfrm>
            <a:off x="468360" y="2492280"/>
            <a:ext cx="3887640" cy="24829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Картинка 4 из 364"/>
          <p:cNvPicPr/>
          <p:nvPr/>
        </p:nvPicPr>
        <p:blipFill>
          <a:blip r:embed="rId3"/>
          <a:stretch/>
        </p:blipFill>
        <p:spPr>
          <a:xfrm>
            <a:off x="4716360" y="2492280"/>
            <a:ext cx="410364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353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4. Правильно питатьс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Чтобы ученик лучше справлялся с нагрузками, питание должно быть разнообразным, полноценным, богатым витаминами и микроэлемент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олезны для нормальной работы головного мозга мясо, рыба, яйца, творог, кефир, бананы и морепродукты. А вот уплетать много сладкого – нельз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0920" y="3645000"/>
            <a:ext cx="468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ереизбыток сладкого, вопреки распространенному мнению, только мешает школьнику быть бодрым и активным. А вот кусочек черного шоколада не навреди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180040" y="2825640"/>
            <a:ext cx="3578040" cy="38433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Картинка 35 из 35399"/>
          <p:cNvPicPr/>
          <p:nvPr/>
        </p:nvPicPr>
        <p:blipFill>
          <a:blip r:embed="rId3"/>
          <a:stretch/>
        </p:blipFill>
        <p:spPr>
          <a:xfrm>
            <a:off x="4500720" y="2781360"/>
            <a:ext cx="43718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8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05:17Z</dcterms:created>
  <dc:creator>ndubyaga</dc:creator>
  <dc:description/>
  <dc:language>en-US</dc:language>
  <cp:lastModifiedBy>КарМаН</cp:lastModifiedBy>
  <dcterms:modified xsi:type="dcterms:W3CDTF">2011-10-22T13:27:15Z</dcterms:modified>
  <cp:revision>17</cp:revision>
  <dc:subject/>
  <dc:title>Слайд 1</dc:title>
</cp:coreProperties>
</file>