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E40-A0B2-42D2-95A2-434AECF1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0D0-A8AA-4AAB-87CE-A23FEB60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89359-3D23-41E9-A22E-F62BD2AD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4A8E8-AF50-40EF-879D-2934489E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BBBC9-E79F-493B-8D7B-9D052082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51EA1-EB38-4B2A-9B74-4A7E99C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68785-A06F-45CF-B782-DD837C4F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30CD9-752B-4BB7-B215-A5084F08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729D8-892A-420F-888C-8C6DFA13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B2823-8EE0-4AFE-AF58-2968746E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D678E-707E-47C6-8A45-CA465DAC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291F4-7717-4528-86B3-DB2AF2F4E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E89-14A6-4021-950C-5BF384E7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493B6-6359-46B7-B83F-4A921D05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E104B-95CB-4EBA-A31F-F063792C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1BF49-6AA0-477C-BFB7-E044F559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E6552-DB78-4816-AFB5-C6D76E18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1234A-455A-4ECF-9CBF-3C955D93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9F614-2E67-41ED-A8F1-40D7B6DD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174A1-C0FA-4EF7-AAAD-A052C6F8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7A99A-2661-46A3-A60C-AC1E5AD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46825-F582-4008-A15C-AE12C461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3B69F-5983-45E9-B85D-D16544E2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E93-F55C-4D21-9E2C-901E667B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9AC5A-F6B7-4DDA-9EC8-02E8325E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B5112-1767-46CC-851A-44027C60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A4A9-9FB6-4E2A-83EC-A303008B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F0EBE-B8C5-4411-939B-47C8D9A5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F0A1F-4307-4C45-BB82-31FA90CE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617C4-79D7-45B8-808E-24695D94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995A7-366C-487D-97EF-E5906772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96D9B-E264-492F-9D03-8DE41866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AF807-D953-44C8-A440-48618BEE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B940D-7006-47F9-A646-49EE9EB0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2CE5-2300-44DB-99DD-642CF450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A2FD5-312C-464D-AB4B-F6584EDD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DA62E-494C-44D4-A161-C0DBDE54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D460-C115-4F65-9034-9E851D93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8A7F5-5BAB-4BD0-A079-47DA9D90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0C28E-F323-4C33-B460-7AFA9FFF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7E293-F55C-4C43-92AD-AE4A85D8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7A0C9-9AD0-4303-8C14-46C79292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DE329-F60A-4507-A2EA-321DE190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7A32B-499B-4666-9C3D-8816CEE9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DC495-92A0-4340-BE16-18E192B4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BAD0-B871-48EB-9B4B-C4753C6C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1C625-68FA-4CFA-B51F-83D8CFDE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B605F-8275-4B5E-8A4D-E1A70366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497D5-2D02-49AB-B430-6FC24FF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90C69-A2FE-4FAC-8217-FF96F968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311BE-C24B-4B04-A7B7-9FA5C574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EAFEE-2365-4380-B276-23B1E6CB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AEDEE-B7D6-4578-B9D5-6674705B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4DC59-B93C-49EE-B81D-E09CB4F9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702EA-1471-450D-8A3D-F5EB104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B4DAF-8F2E-4BF2-96DD-B2D28D78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68B3-7B5B-43D1-BB2E-38D67313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A558B-B02D-4C30-90C2-857B209E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5BFF3-3229-4CBE-AE9C-68F3C2C1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67F8D-D160-4BE8-954A-5B9A6AA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6523E-33B1-4B1B-B818-D4FE6488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B7510-EB42-4DF1-912B-4B1765A4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430DD-F020-4F12-BDB6-45C9048D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17427-E72A-4A11-AD49-BFD546C6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5ADD-FEC1-4CCB-9732-AEE73CD3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6BEB-0750-445D-A610-1E4EF109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0C30-1847-4CCA-9930-947ABDD6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1680-16E9-44FA-802C-7F9D2FF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729-FF10-462B-A5F6-43EB2D16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B5A3-8E91-46A2-B290-7E97761C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6FF2-C72D-42E5-A791-42D0E6B3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70A1-8706-47A9-9CD9-175B0D4D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32DA-9D75-4A3C-8C1F-471F8618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3AE4-8F80-4244-846E-E295A795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19DD6-E382-42DA-86C1-34BDDF51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2FE09-6A81-441D-911C-6C9D2A1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E295-060E-4EA6-A120-52AFEC18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B086-4D61-451C-9648-A7D412B4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EC611-7A56-4929-92FE-9D8025E1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E6B-78F0-4F23-A552-459BBCA7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9C57-D8A4-4D9C-879B-A2BD160B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EB93-5DA1-40C4-ACF5-243C559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8CAD-E7C7-4023-8410-85F791E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30E4-62A4-4D99-BB78-AA1F1E41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9046-A8BC-4533-B0E1-9BF1E04D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C829-9F02-41ED-B864-6427AB7C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014E5-1CA2-4024-B9D9-4D7CEB9A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EFC1-277A-4F9D-98C4-B0DE98CF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3FAD-60FB-4E2B-85E4-6B537A73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84E1B-C5B8-4523-8B62-723B0F43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FA4-2E95-4169-87B8-DE62A18B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0CC4-1BE7-4460-A083-497556D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D9D1-EECE-4C48-BB47-CB2C0D7F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8F0C-55CB-4DF4-A8B9-72A89090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A96FE-6CF3-47D7-B378-9842CB0E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01A1E-97A5-4A12-8136-DB24475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569E0-A1AB-4995-B44A-17A168F5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433D-1598-4A57-9EC5-8AD27EA1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A24C-E86A-48CD-9021-A7A8567E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956D-67DF-495B-A0E2-C9346D5C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0FB8B-9FBD-4B43-B067-6A078EBA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496-A349-4D5A-B734-998A5143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03720-DA59-4AFE-97D1-F6EA8FBD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C8571-27B1-4383-9346-58D0E81C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AF6D-0E06-4A60-BFB6-1989D7C1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CD9EE-E4BF-4CF0-B00E-7983F000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C1AA2-5F6C-404F-AB83-E14CFEC7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8F875-E650-4DD3-BE61-104EF9A4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3A0C1-C041-4D7A-BB88-77AF799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F27D6-3782-4E6B-B216-885CA80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E34D-51DD-4D68-9F36-DB700DDA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F2537-2B14-4240-8A7C-8406CC08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CFF-D04D-4A25-B9A6-1C4F0134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41591-DBB3-45C0-91A0-86DF25BF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E544-A721-4928-8DA8-DFC78ED4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51565-2470-4852-930E-292F7220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D48F9-4A69-4787-B888-6E72776E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C9F7-C990-4EA0-9852-5D147606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3059-2F35-4A5F-8843-490ABAE1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B58F-80EB-44D9-A9E5-F5D90084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33FC-2061-46BA-AD54-BD9430C3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647CD-2F85-42FB-BEEE-08B4ABDA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5B0A1-366F-453F-BE49-59978B7C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44A-F33C-4BF4-8527-54409AE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2764-2CA2-43D0-B809-D301ED34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5DCC-66C0-4E1A-B573-789631BF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0A01A-4AAF-44A7-83AE-36BCFE0B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1F974-7194-476E-9ED3-91D2F918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93586-C8C1-4308-81EA-2D3563C7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03D98-DD18-4A53-A0A9-CFAA3C7F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D2F38-4A62-4EDC-915F-29A699E5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DF0C-BB46-44A5-91A0-980F11CA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8A8B0-25AF-4394-94FF-EB2B13F9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D3F81-16EA-4D9C-B1C3-8E7804CB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770-5D62-4D21-AAB5-6D218716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2DD99-B7E5-4558-873B-881B236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D9C78-7EAE-465D-BB26-84E5637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42F1E-B19E-44B6-BB14-368DCBCD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2DCE-516B-4FBE-8294-95110674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7EE85-53F4-47DD-BF40-672BF9BA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25E10-D4D1-4607-A3FA-75D74511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0FDEE-CB47-4BC2-B845-5FCBC8B3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3FB69-4F35-4356-80DD-183B038E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B7752-D0E0-4D08-BCD0-1771477F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4F062-E0A1-42EC-9322-A588DE4E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FC5-D5BD-49F2-A7EF-8665CC55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A7631-92C2-4DC5-9CA9-4E77DE3D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97D66-7DE8-43CD-B89A-4390FD9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EE5B9-B77A-451E-9A63-0F7863A1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3CD83-6441-491C-8BF8-84F2990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B5405-6188-4A50-AA10-5FF0ED06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68F52-F343-4DDB-8EA8-86739FE7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A2164-F660-4A96-A868-108E5A1A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A09B2-2F88-4205-A236-3C5B67C2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EAE5B-0080-452C-B27A-48F345E9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783C3-2CC2-41C7-BCB2-D90B5CDE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F55F-DAA0-49FA-AB27-3DC624E20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2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C760-7818-4A45-939E-8CC4A1AA0E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7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7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8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3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0DBE-775D-465B-B2EE-6C8F8E6854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2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3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3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3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76FD-165C-4E85-A785-F8EC960139B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0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0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9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1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2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79C8-FC7F-4939-8FF9-4D21209B56D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782E-E0FB-442C-8B97-F0393B52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3AEF-2F71-4680-9236-3B6737A10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9BFF-C802-4320-96F3-EDB8130939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6D8E-4781-4185-862A-C24450655A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1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9280-47C2-41C5-BF40-086CB178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969A-E1C3-4DA7-BEDA-B302795E1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917E-F012-41CF-A06A-A3DEC41E23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957A-7694-4C14-B546-F163EE122C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kursegorod.ru/sites/default/files/159813288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3534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5. Говорить о хороше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Ведь совсем скоро Новый год и двухнедельные каникулы. По выходным всей семьей можно готовиться к праздникам, обсудить, какие подарки выбрать для своих друзей, одноклассников, родственников. Вместе попробовать смастерить их своими руками.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95280" y="4548240"/>
            <a:ext cx="47023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a4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0000a4"/>
                </a:solidFill>
                <a:latin typeface="Arial"/>
              </a:rPr>
              <a:t>Бодрое предпраздничное настроение, предвкушение веселья и сюрпризов - лучшая защита от усталости и депресс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Картинка 65 из 11771"/>
          <p:cNvPicPr/>
          <p:nvPr/>
        </p:nvPicPr>
        <p:blipFill>
          <a:blip r:embed="rId2"/>
          <a:stretch/>
        </p:blipFill>
        <p:spPr>
          <a:xfrm>
            <a:off x="4859280" y="2492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1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46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6. Выключить телевизор и компьютер!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a4"/>
                </a:solidFill>
                <a:latin typeface="Arial"/>
              </a:rPr>
              <a:t>           </a:t>
            </a:r>
            <a:r>
              <a:rPr b="0" i="1" lang="en-US" sz="2200" spc="-1" strike="noStrike">
                <a:solidFill>
                  <a:srgbClr val="0000a4"/>
                </a:solidFill>
                <a:latin typeface="Arial"/>
              </a:rPr>
              <a:t>Эти технические средства утомляют глаза, портят осанку и забирают время, которое школьник мог бы потратить на прогулку или занятия спортом.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571640" y="3789000"/>
            <a:ext cx="426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Первоклашкам не стоит разрешать сидеть перед телевизором или играть на компьютере больше часа в ден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" descr="Картинка 9 из 572"/>
          <p:cNvPicPr/>
          <p:nvPr/>
        </p:nvPicPr>
        <p:blipFill>
          <a:blip r:embed="rId2"/>
          <a:stretch/>
        </p:blipFill>
        <p:spPr>
          <a:xfrm>
            <a:off x="4859280" y="620640"/>
            <a:ext cx="3600360" cy="239076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374328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4716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a4"/>
                </a:solidFill>
                <a:latin typeface="Arial"/>
              </a:rPr>
              <a:t>              </a:t>
            </a:r>
            <a:r>
              <a:rPr b="0" i="1" lang="en-US" sz="2200" spc="-1" strike="noStrike">
                <a:solidFill>
                  <a:srgbClr val="9966ff"/>
                </a:solidFill>
                <a:latin typeface="Arial"/>
              </a:rPr>
              <a:t>Со старшеклассниками все намного сложнее.   Для них монитор и процессор - рабочие инструменты, которые помогают в написании реферата, доклада, контрольно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211640" cy="252576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371680" cy="309564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2627280" y="3213000"/>
            <a:ext cx="33847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Если подросток просто вынужден заниматься за компьютером часами, необходимы перерывы, зарядка для глаз и комплекс упражнений для спины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5940360" y="3860640"/>
            <a:ext cx="3059280" cy="2462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66ff"/>
            </a:gs>
            <a:gs pos="100000">
              <a:srgbClr val="00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539280" y="404640"/>
            <a:ext cx="7993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7. Заваривать травяные сборы!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Иногда дети, перегруженные знаниями и огромным количеством новой, сложной информации, не могут уснуть по ночам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635280" y="4221000"/>
            <a:ext cx="550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ffff66"/>
                </a:solidFill>
                <a:latin typeface="Arial"/>
              </a:rPr>
              <a:t>После школы или перед сном нужно дать ученику успокаивающий травяной чай (предварительно обсудив это с врачом). Он поможет школьнику расслабиться и снять эмоциональное напряжение.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240360" cy="216036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543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7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147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Verdana"/>
              </a:rPr>
              <a:t>8. Не требовать слишком многого!</a:t>
            </a:r>
            <a:r>
              <a:rPr b="0" i="1" lang="en-US" sz="2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r>
              <a:rPr b="0" i="1" lang="en-US" sz="2200" spc="-1" strike="noStrike">
                <a:solidFill>
                  <a:srgbClr val="003300"/>
                </a:solidFill>
                <a:latin typeface="Verdana"/>
              </a:rPr>
              <a:t>Выдающимися математиками и физиками становятся далеко не все. Не надо упрекать ребенка, что его оценки гораздо хуже, чем у других, или что он снова схватил трояк за контрольную.</a:t>
            </a:r>
            <a:r>
              <a:rPr b="0" i="1" lang="en-US" sz="2200" spc="-1" strike="noStrike">
                <a:solidFill>
                  <a:srgbClr val="ff99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179280" y="2637000"/>
            <a:ext cx="4105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Если постоянно внушать ребенку комплекс неполноценности, психоэмоциональная нагрузка только возрастет. Возможно он сможет проявить себя в чем-то другом - например, в рисовании, музыке или фотографии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4608360" cy="2782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7" nodeType="afterEffect" fill="hold" presetClass="entr" presetID="3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6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23640" y="2349360"/>
            <a:ext cx="85690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Здоровье школьника – проблема , касающаяся всех. Нынешние ученики – завтрашнее будущее нашей страны. Нужно сделать все, чтобы оно было здоровым, успешным и благополучны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7" name="Заголовок 1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504280" cy="146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5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685800" y="2565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ПАСИБО ЗА ВНИМАНИЕ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cover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xit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7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ahoma"/>
              </a:rPr>
              <a:t>ШКОЛА И ЗДОРОВЬ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1547640" y="3500280"/>
            <a:ext cx="640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ВЫПОЛНИЛ УЧЕНИК 7 «А»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                              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ДУБЯГА  МАКС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ПРЕПОДАВАТЕЛЬ  БИОЛОГИИ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                                                      </a:t>
            </a:r>
            <a:r>
              <a:rPr b="1" i="1" lang="en-US" sz="2000" spc="-1" strike="noStrike">
                <a:solidFill>
                  <a:srgbClr val="ccff99"/>
                </a:solidFill>
                <a:latin typeface="Arial"/>
              </a:rPr>
              <a:t>ФРОЛ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6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3" descr="C:\Users\Юлия\Pictures\Картинки\ВИДЫ ПРИРОДЫ\Nature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0" name="Заголовок 1" descr=""/>
          <p:cNvPicPr/>
          <p:nvPr/>
        </p:nvPicPr>
        <p:blipFill>
          <a:blip r:embed="rId2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pic>
        <p:nvPicPr>
          <p:cNvPr id="881" name="Содержимое 2" descr=""/>
          <p:cNvPicPr/>
          <p:nvPr/>
        </p:nvPicPr>
        <p:blipFill>
          <a:blip r:embed="rId3"/>
          <a:stretch/>
        </p:blipFill>
        <p:spPr>
          <a:xfrm>
            <a:off x="0" y="1844640"/>
            <a:ext cx="1338120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Freeform 4"/>
          <p:cNvSpPr/>
          <p:nvPr/>
        </p:nvSpPr>
        <p:spPr>
          <a:xfrm flipH="1">
            <a:off x="1116000" y="549360"/>
            <a:ext cx="3206880" cy="2719440"/>
          </a:xfrm>
          <a:prstGeom prst="pie">
            <a:avLst/>
          </a:prstGeom>
          <a:solidFill>
            <a:srgbClr val="ff9900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5"/>
          <p:cNvSpPr/>
          <p:nvPr/>
        </p:nvSpPr>
        <p:spPr>
          <a:xfrm>
            <a:off x="4587840" y="533520"/>
            <a:ext cx="3489480" cy="2719440"/>
          </a:xfrm>
          <a:prstGeom prst="pie">
            <a:avLst/>
          </a:prstGeom>
          <a:solidFill>
            <a:srgbClr val="00ff00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6"/>
          <p:cNvSpPr/>
          <p:nvPr/>
        </p:nvSpPr>
        <p:spPr>
          <a:xfrm>
            <a:off x="1219320" y="3538440"/>
            <a:ext cx="3130560" cy="2633760"/>
          </a:xfrm>
          <a:prstGeom prst="pie">
            <a:avLst/>
          </a:prstGeom>
          <a:solidFill>
            <a:srgbClr val="3366ff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7"/>
          <p:cNvSpPr/>
          <p:nvPr/>
        </p:nvSpPr>
        <p:spPr>
          <a:xfrm flipH="1">
            <a:off x="4571280" y="3573360"/>
            <a:ext cx="3489480" cy="2633760"/>
          </a:xfrm>
          <a:prstGeom prst="pie">
            <a:avLst/>
          </a:prstGeom>
          <a:solidFill>
            <a:srgbClr val="ff99cc"/>
          </a:soli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8"/>
          <p:cNvSpPr/>
          <p:nvPr/>
        </p:nvSpPr>
        <p:spPr>
          <a:xfrm>
            <a:off x="2666880" y="1600200"/>
            <a:ext cx="3657600" cy="365760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0"/>
          <p:cNvSpPr/>
          <p:nvPr/>
        </p:nvSpPr>
        <p:spPr>
          <a:xfrm>
            <a:off x="1666080" y="11890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1"/>
          <p:cNvSpPr/>
          <p:nvPr/>
        </p:nvSpPr>
        <p:spPr>
          <a:xfrm>
            <a:off x="5095440" y="111276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СИХ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12"/>
          <p:cNvSpPr/>
          <p:nvPr/>
        </p:nvSpPr>
        <p:spPr>
          <a:xfrm flipV="1" rot="12673800">
            <a:off x="2483640" y="169920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81c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13"/>
          <p:cNvSpPr/>
          <p:nvPr/>
        </p:nvSpPr>
        <p:spPr>
          <a:xfrm flipV="1" rot="8266800">
            <a:off x="2362320" y="4189680"/>
            <a:ext cx="1296720" cy="756000"/>
          </a:xfrm>
          <a:prstGeom prst="rightArrow">
            <a:avLst>
              <a:gd name="adj1" fmla="val 46509"/>
              <a:gd name="adj2" fmla="val 376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4"/>
          <p:cNvSpPr/>
          <p:nvPr/>
        </p:nvSpPr>
        <p:spPr>
          <a:xfrm flipV="1" rot="19226400">
            <a:off x="5257440" y="175140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15"/>
          <p:cNvSpPr/>
          <p:nvPr/>
        </p:nvSpPr>
        <p:spPr>
          <a:xfrm flipV="1" rot="1656600">
            <a:off x="5257800" y="411444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4"/>
          <p:cNvSpPr/>
          <p:nvPr/>
        </p:nvSpPr>
        <p:spPr>
          <a:xfrm>
            <a:off x="-175320" y="6324480"/>
            <a:ext cx="9439200" cy="368280"/>
          </a:xfrm>
          <a:prstGeom prst="rect">
            <a:avLst/>
          </a:prstGeom>
          <a:solidFill>
            <a:srgbClr val="a3d872"/>
          </a:solidFill>
          <a:ln w="19080">
            <a:solidFill>
              <a:srgbClr val="0c6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a4"/>
                </a:solidFill>
                <a:latin typeface="Comic Sans MS"/>
              </a:rPr>
              <a:t>Все части здоровья нам очень важны. Все виды здоровья нам очень нуж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5"/>
          <p:cNvSpPr/>
          <p:nvPr/>
        </p:nvSpPr>
        <p:spPr>
          <a:xfrm>
            <a:off x="5106240" y="522756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РАВ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6"/>
          <p:cNvSpPr/>
          <p:nvPr/>
        </p:nvSpPr>
        <p:spPr>
          <a:xfrm>
            <a:off x="1296720" y="525780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ИН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500"/>
                            </p:stCondLst>
                            <p:childTnLst>
                              <p:par>
                                <p:cTn id="9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7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ee941c"/>
                </a:solidFill>
                <a:latin typeface="Arial"/>
              </a:rPr>
              <a:t>Летние каникулы закончились! После отдыха ученикам снова придется вставать на уроки ни свет ни заря, по полдня сидеть за партами и допоздна корпеть над домашними заданиями.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50920" y="1700280"/>
            <a:ext cx="4105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А это не так-то просто. Тем более что день сейчас очень короткий, а погода - холодная и промозглая. Ребята практически не видят естественного света и мало гуляю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427640" cy="316224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3851280" y="5084640"/>
            <a:ext cx="4465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Как же помочь школьнику выдержать неподъемную учебную нагрузку и при этом сохранить здоровь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3"/>
          <a:stretch/>
        </p:blipFill>
        <p:spPr>
          <a:xfrm>
            <a:off x="611280" y="4508640"/>
            <a:ext cx="322884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1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705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3300"/>
                </a:solidFill>
                <a:uFillTx/>
                <a:latin typeface="Arial"/>
              </a:rPr>
              <a:t>1.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Соблюдать режим дня!</a:t>
            </a: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Справляться с учебными нагрузками гораздо легче, если школьник будет вставать, есть, гулять, делать уроки и спать примерно в одно и то же врем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4000" y="2708280"/>
            <a:ext cx="3743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Младшие не должны ложиться спать позже 21 - 22 ча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3399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Старшеклассникам тоже надо хорошо высыпаться, поэтому - не позднее 23 ча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4284720" y="2421000"/>
            <a:ext cx="4608360" cy="390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23640" y="4508280"/>
            <a:ext cx="5832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Хорошо записаться в спортивную секцию, которая будет по душе. Обычно детям больше всего нравятся плавание и спортивные игр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Например, я выбрал фехто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/>
          </p:nvPr>
        </p:nvSpPr>
        <p:spPr>
          <a:xfrm>
            <a:off x="611280" y="115560"/>
            <a:ext cx="823104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2. Чередовать нагрузки!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200" spc="-1" strike="noStrike">
                <a:solidFill>
                  <a:srgbClr val="ffcc00"/>
                </a:solidFill>
                <a:latin typeface="Arial"/>
              </a:rPr>
              <a:t>Почти полдня ребенок проводит в сидячем, малоподвижном положении. Кровь из-за этого циркулирует плохо, а в мозг попадает мало кислорода. От усталости и переутомления спасет чередование умственных и физических нагрузо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Картинка 100 из 1255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060640"/>
            <a:ext cx="3384720" cy="2143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6372360" y="2565360"/>
            <a:ext cx="234468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2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3. Пить витамины!</a:t>
            </a:r>
            <a:r>
              <a:rPr b="0" i="1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en-US" sz="2200" spc="-1" strike="noStrike">
                <a:solidFill>
                  <a:srgbClr val="66ffff"/>
                </a:solidFill>
                <a:latin typeface="Arial"/>
              </a:rPr>
              <a:t>Осенью надо особенно заботиться о здоровье. Ведь организм еще не до конца привык к низким температурам, и можно с легкостью подхватить простуду.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5280" y="508428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0000a4"/>
                </a:solidFill>
                <a:latin typeface="Arial"/>
              </a:rPr>
              <a:t>А частые болезни, как известно, изматывают и усиливают усталость. Следовательно, посоветовавшись с врачом, необходимо  приобрести комплекс витами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0" name="" descr="Картинка 95 из 2234"/>
          <p:cNvPicPr/>
          <p:nvPr/>
        </p:nvPicPr>
        <p:blipFill>
          <a:blip r:embed="rId2"/>
          <a:stretch/>
        </p:blipFill>
        <p:spPr>
          <a:xfrm>
            <a:off x="468360" y="2492280"/>
            <a:ext cx="3887640" cy="248292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Картинка 4 из 364"/>
          <p:cNvPicPr/>
          <p:nvPr/>
        </p:nvPicPr>
        <p:blipFill>
          <a:blip r:embed="rId3"/>
          <a:stretch/>
        </p:blipFill>
        <p:spPr>
          <a:xfrm>
            <a:off x="4716360" y="2492280"/>
            <a:ext cx="410364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353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4. Правильно питаться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Чтобы ученик лучше справлялся с нагрузками, питание должно быть разнообразным, полноценным, богатым витаминами и микроэлементам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Полезны для нормальной работы головного мозга мясо, рыба, яйца, творог, кефир, бананы и морепродукты. А вот уплетать много сладкого – нельз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50920" y="3645000"/>
            <a:ext cx="4680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Переизбыток сладкого, вопреки распространенному мнению, только мешает школьнику быть бодрым и активным. А вот кусочек черного шоколада не навреди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5180040" y="2825640"/>
            <a:ext cx="3578040" cy="384336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Картинка 35 из 35399"/>
          <p:cNvPicPr/>
          <p:nvPr/>
        </p:nvPicPr>
        <p:blipFill>
          <a:blip r:embed="rId3"/>
          <a:stretch/>
        </p:blipFill>
        <p:spPr>
          <a:xfrm>
            <a:off x="4500720" y="2781360"/>
            <a:ext cx="43718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8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4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1:05:17Z</dcterms:created>
  <dc:creator>ndubyaga</dc:creator>
  <dc:description/>
  <dc:language>en-US</dc:language>
  <cp:lastModifiedBy>КарМаН</cp:lastModifiedBy>
  <dcterms:modified xsi:type="dcterms:W3CDTF">2011-10-22T13:27:15Z</dcterms:modified>
  <cp:revision>17</cp:revision>
  <dc:subject/>
  <dc:title>Слайд 1</dc:title>
</cp:coreProperties>
</file>