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3D4B-A907-4F7A-9E3D-E3E34DD8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8E2A-8229-466D-A52C-CB9CD397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99812-7C77-40AF-ADE0-1C912944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D607C-C831-4471-88D7-2D43E43D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7D692-BB65-41B8-87D4-F9D7C6CE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50F7C-A19C-4713-8ACB-A2EE584B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A314E-4C46-431F-AE41-7D5A151B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FF898-28CB-41F8-9C4F-F10674B4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F2C4B-938C-4D01-9C77-47A094BA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DBBA1-EC17-4148-8DF6-C88630CE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F7F9F-9939-4FEC-9FA2-C9E54481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FD54D-60C8-4BE9-A699-7FB4ED52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BC2E-1484-4DF4-80D3-A3758DD2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74DA3-0735-4716-93D8-3D02379D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D72B4-3F8C-468A-8811-917875E6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76127-9D58-4A82-A929-AD1640F2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B7461-BC4F-439C-B7CD-45713F5B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1AD44-FF3B-420B-A9D2-53E581A8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AB486-9CAB-433A-8B2F-B19967E7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8BC72-3C9B-4230-9E28-E69B5A23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A1535-EEB8-4734-9C7D-FB5778A9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E02E6-BA47-4F73-8706-795B346C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3D8A9-5FF3-4C5A-BEDD-31362A2A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83CF-88FA-428B-B5A4-0CE3FD4F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419DD-C55D-4510-866B-EEE39F7B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1F9A0-5942-4BB5-B878-5A07124E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41ECC-9223-4B69-8D9C-11C18C1F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83C29-938B-4133-9F6D-78B5D422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21E8C-4ED8-4E70-A043-FD37F735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8310E-EEE5-43B2-AF93-B55B435D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06767-814A-4AB4-AA6E-EFAB7EEE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A982B-0C80-4D4B-B548-0D5CC0B0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852B9-D278-45B0-9504-FCF1E601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581D2-A41F-4F5E-81C2-9E4B2BDC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3730-B07D-46B7-BD78-48BC86D4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86F49-F150-42AD-9052-E06D403D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B1AD7-B9C0-4429-9188-4E4F03C7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3E26B-2EC1-4780-8FCC-E02F231C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CCCF4-5370-481E-8492-9F3781B1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A86AB-85F1-44A9-AD93-82DC8EED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98B1C-0F12-40F2-9668-D62B1F5F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7CA73-CB4C-48CA-976D-2E69FCC1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2E679-0EE3-4C17-8284-C189F5FC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E350B-DDE0-4785-8C11-D92BAEA8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5349E-7F1B-4BB8-9E83-67704BDF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F4C0-D09A-4148-A17B-51595C34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EAC9F-ED64-4968-A0C7-3C236D50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4F31C-D277-440F-8E3F-A4805649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40D5E-9185-4A10-B58B-5DF92DA5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36AA7-950F-4859-94B2-7ABD2026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1529C-CB6F-4E34-9053-7BC85738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3D911F-A854-4FEC-BE41-ACD38AEB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4B354F-EC01-4266-B336-B49ADC4B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5C0511-22D8-4054-9AA9-863084EF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DFFFF8-1642-471E-920B-4B4A4462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1E4624-C682-4BC6-80E5-98B2F2D7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245E-82F6-47C4-A54E-AC33238D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8AFAD1-9167-4ED1-9A45-12A1EE54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EF9FEC-1E1B-47D5-AED6-F0238437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BBC41-08E3-459A-917D-8BF04DA2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8A79E1-3BCE-4ECC-8B59-1AC9D0FE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687CCF-35F0-4F15-815B-86D78730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4082AB-A8A2-4747-8387-F4436621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95C8A4-0A26-465C-8841-8431D43F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A056-021E-4628-B1EF-BA4DCDA4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428F-6B3A-405D-85BC-76F11844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6D98-612C-436E-A723-C5A5F033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69B4-BC53-4431-B3A8-892D1B4C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76BB-EE78-442F-9BE3-D8472BD0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C387-D4CB-4FDF-8F76-C7974945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25D2-5362-4816-90FB-92483301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D38E-2F90-45FA-9489-FB755C93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43BB-28C0-4ED8-B6FC-80DE5240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3B43-C87C-42BB-885B-EBF8BEF6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6B3B8-4581-449D-B988-1F139DC2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3FF2E-3A22-4CEB-A689-CAD4AD29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4F8CB-F90D-4CB2-B66B-4A07B4D4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A2074-4688-42A4-B638-6768FB47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DC8E9-1E10-4807-BE7B-BEA3767C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A3EF-912C-4C63-8145-9B81794F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0E2EC-F42A-4E69-BFFE-98F883F5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FDEB8-D867-44E1-AE16-F3D2E74A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DD449-E9DF-4F45-B96B-4B318CA8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3B9EF-2504-4B04-A815-C0731AA4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7E7C6-46AB-40A0-B238-D31CDDE6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31F3F-0216-47D7-98DE-34172B43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26ED4-EF99-41D0-98F2-5BAA7D30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7F504-78CB-400D-9782-2A393505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85426-0A8D-40A7-87FB-4082899F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94BE4-8873-4C50-9BF9-284AC6BD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4B28-855B-4B4C-8424-81C0060F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31525-13D9-4277-87C5-11DBF145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92D59-33EA-4340-9F59-2907BC09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2E47E-01FB-4F7B-9821-59BC2D80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397ED-4E00-4B6B-8909-37255450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93C8F-6D18-4234-8044-15320CD0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7D2E8-9C70-44E8-A792-BC30B23B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67D5E-6BB8-447B-A5A3-1C500868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AB157-4A6D-4FFF-8437-7D219685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8F65A-AADB-4063-B8D5-245DBD20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B5894-2B52-429B-836B-3E3A3C3C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44EF-D4CF-41A2-B840-5058FB16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97BCE-F03D-4596-8913-3413DCD1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CB9E5-CB7B-4DED-AF03-EC2C6614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8CC14-D99D-4BD8-879F-01787E89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BDC1B-26C6-4339-811B-BF8156C7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E427B-187B-4745-985F-C2F1CA4D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D670C-96B8-4385-A3F5-2182582E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3E776-44B7-49BC-82E4-03403A8D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B5706-A779-4E29-8F99-5C62B500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AEB80-EE04-4DE6-9532-F57C7ABC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9C4EC-CB15-4291-9C9D-7735A7B4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EE80-976B-441D-A078-05036DE7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A3F39-7361-4255-A18F-1EDA6ADD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FF7C5-9EB5-44F1-BB63-BE1896FC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95441-89D5-4BAA-9ACF-EBC3FE27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654B7-82C1-41DC-BFCF-6D92D1FB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A0091-0FFB-4DC3-861C-15FCBD74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E38FB-0992-48B3-8014-AEA92515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3FD1E-6315-4290-95D8-38FC7E24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11460-8A9D-4411-AC59-814D229F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CA980-639B-4F66-A4E4-7A9F7340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E7E9A-67F6-4A5C-B27D-D6CDE124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595B-02C5-4AEA-8744-C827EB53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FBB04-6BA3-4562-8BFD-3C743F3D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76687-0F40-491F-91A3-1EA73C06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BBDA9-25F9-46AB-8E75-8E9B8C4D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45097-3623-4C33-B412-92441A8C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CFDD1-8343-4B17-B759-AA806E62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8CDF0-B9EA-4172-8579-FC534D30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09D36-9BED-4007-9ABC-179FBB37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DAAE5-7B0C-4F39-BA62-1D606A0E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5007D-1D79-421A-8781-7B61AF80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AE14D-7567-441D-88A7-60B08283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EBAE-EF92-4453-B291-6118FBD4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B08DA-413E-4A54-9CA0-57D5FF3B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1138B-0463-4B34-8C7F-74C6C04F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15158-B3A1-43A0-AF1A-0C0E2C5C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B9958-B306-49AC-9BB8-2655388C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7FB41-E581-4067-A7AB-C726C4E0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9FD4F-6749-4638-82FE-B3D1975A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0A06C-A9B5-4B79-AE55-1B1FB096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CAE41-308B-4DB5-9E59-8EFB33AF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CF581-2C94-4165-AA64-9331E5A6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7F148-7E76-47D2-8E04-4CFD29E6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471E-B9DE-404D-88EF-59B62D88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CE880-CAE4-4323-8957-AE02E140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EEFB4-D558-4E33-850C-0A0CCC66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35D36-B5F0-4253-82E6-001E5545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F8586-3548-4F5A-8D0D-F50F9C22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FED14-CE26-4243-8A30-5E02F864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FA9EF-279C-45A9-BDC2-7130D35A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DF1A2-7C1E-465E-A603-D59EF30A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3652A-0E84-488E-AE26-83C7449E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BF074-1649-4F5B-A33F-CBF0F248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34FB8-AF61-46EB-9461-24865E20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96FA-72E7-444D-882F-E4AEA57E1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2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2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8A15-0C8C-4631-9F4E-0123367C31A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7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7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48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dt" idx="3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3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3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88B9-C7B9-4106-9547-AAE3469B839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529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530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33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536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39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43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2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5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8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7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0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3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604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6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8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3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6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627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9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2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633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5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8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639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1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9A85-6991-4F95-830E-918E00C8885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705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06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09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10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11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3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14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15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18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21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3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24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9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30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2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33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5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36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8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39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42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4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45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7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48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0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51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3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54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5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6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57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9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60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2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63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4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8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69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1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72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4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75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7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80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89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1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92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4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95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6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7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98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0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01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3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04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6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07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8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9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10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12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13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14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1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2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23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0200-F235-4B9A-873A-2CAB0F763FA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9D1E-ED85-4113-A35C-B4F2EB4B2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FBAA-F2AC-468E-9AE0-C09AA0EE2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2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ECA7-F56F-40FC-BB1E-2711FC34EAA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6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B033-0BC1-4ADB-A9E2-0B13F9A67D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1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B8BC-07D3-4A76-9C89-863BF5741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6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76F5-DD17-4A26-8965-0F90A0083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0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15B1-06D3-445D-B8E8-CE42A9BA0A9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6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C2EC-BECE-41A7-96E8-C86D6B5F209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kursegorod.ru/sites/default/files/159813288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353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5. Говорить о хороше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Ведь совсем скоро Новый год и двухнедельные каникулы. По выходным всей семьей можно готовиться к праздникам, обсудить, какие подарки выбрать для своих друзей, одноклассников, родственников. Вместе попробовать смастерить их своими руками.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395280" y="4548240"/>
            <a:ext cx="470232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a4"/>
                </a:solidFill>
                <a:latin typeface="Arial"/>
              </a:rPr>
              <a:t>            </a:t>
            </a:r>
            <a:r>
              <a:rPr b="0" i="1" lang="en-US" sz="2200" spc="-1" strike="noStrike">
                <a:solidFill>
                  <a:srgbClr val="0000a4"/>
                </a:solidFill>
                <a:latin typeface="Arial"/>
              </a:rPr>
              <a:t>Бодрое предпраздничное настроение, предвкушение веселья и сюрпризов - лучшая защита от усталости и депресси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Картинка 65 из 11771"/>
          <p:cNvPicPr/>
          <p:nvPr/>
        </p:nvPicPr>
        <p:blipFill>
          <a:blip r:embed="rId2"/>
          <a:stretch/>
        </p:blipFill>
        <p:spPr>
          <a:xfrm>
            <a:off x="4859280" y="24922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21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5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2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4464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6. Выключить телевизор и компьютер!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a4"/>
                </a:solidFill>
                <a:latin typeface="Arial"/>
              </a:rPr>
              <a:t>           </a:t>
            </a:r>
            <a:r>
              <a:rPr b="0" i="1" lang="en-US" sz="2200" spc="-1" strike="noStrike">
                <a:solidFill>
                  <a:srgbClr val="0000a4"/>
                </a:solidFill>
                <a:latin typeface="Arial"/>
              </a:rPr>
              <a:t>Эти технические средства утомляют глаза, портят осанку и забирают время, которое школьник мог бы потратить на прогулку или занятия спортом.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4571640" y="3789000"/>
            <a:ext cx="42656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Первоклашкам не стоит разрешать сидеть перед телевизором или играть на компьютере больше часа в день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2" name="" descr="Картинка 9 из 572"/>
          <p:cNvPicPr/>
          <p:nvPr/>
        </p:nvPicPr>
        <p:blipFill>
          <a:blip r:embed="rId2"/>
          <a:stretch/>
        </p:blipFill>
        <p:spPr>
          <a:xfrm>
            <a:off x="4859280" y="620640"/>
            <a:ext cx="3600360" cy="239076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3"/>
          <a:stretch/>
        </p:blipFill>
        <p:spPr>
          <a:xfrm>
            <a:off x="684360" y="3789360"/>
            <a:ext cx="3743280" cy="2336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2000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2000"/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6" presetSubtype="16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6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9500"/>
                            </p:stCondLst>
                            <p:childTnLst>
                              <p:par>
                                <p:cTn id="348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0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6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3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47163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a4"/>
                </a:solidFill>
                <a:latin typeface="Arial"/>
              </a:rPr>
              <a:t>              </a:t>
            </a:r>
            <a:r>
              <a:rPr b="0" i="1" lang="en-US" sz="2200" spc="-1" strike="noStrike">
                <a:solidFill>
                  <a:srgbClr val="9966ff"/>
                </a:solidFill>
                <a:latin typeface="Arial"/>
              </a:rPr>
              <a:t>Со старшеклассниками все намного сложнее.   Для них монитор и процессор - рабочие инструменты, которые помогают в написании реферата, доклада, контрольно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4716360" y="333360"/>
            <a:ext cx="4211640" cy="252576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2371680" cy="3095640"/>
          </a:xfrm>
          <a:prstGeom prst="rect">
            <a:avLst/>
          </a:prstGeom>
          <a:ln w="0">
            <a:noFill/>
          </a:ln>
        </p:spPr>
      </p:pic>
      <p:sp>
        <p:nvSpPr>
          <p:cNvPr id="927" name=""/>
          <p:cNvSpPr/>
          <p:nvPr/>
        </p:nvSpPr>
        <p:spPr>
          <a:xfrm>
            <a:off x="2627280" y="3213000"/>
            <a:ext cx="33847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Если подросток просто вынужден заниматься за компьютером часами, необходимы перерывы, зарядка для глаз и комплекс упражнений для спины.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3"/>
          <a:stretch/>
        </p:blipFill>
        <p:spPr>
          <a:xfrm>
            <a:off x="5940360" y="3860640"/>
            <a:ext cx="3059280" cy="2462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2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9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66ff"/>
            </a:gs>
            <a:gs pos="100000">
              <a:srgbClr val="00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/>
          </p:nvPr>
        </p:nvSpPr>
        <p:spPr>
          <a:xfrm>
            <a:off x="539280" y="404640"/>
            <a:ext cx="7993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7. Заваривать травяные сборы!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Иногда дети, перегруженные знаниями и огромным количеством новой, сложной информации, не могут уснуть по ночам.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3635280" y="4221000"/>
            <a:ext cx="5508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2200" spc="-1" strike="noStrike">
                <a:solidFill>
                  <a:srgbClr val="ffff66"/>
                </a:solidFill>
                <a:latin typeface="Arial"/>
              </a:rPr>
              <a:t>После школы или перед сном нужно дать ученику успокаивающий травяной чай (предварительно обсудив это с врачом). Он поможет школьнику расслабиться и снять эмоциональное напряжение.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5364000" y="1916280"/>
            <a:ext cx="3240360" cy="2160360"/>
          </a:xfrm>
          <a:prstGeom prst="rect">
            <a:avLst/>
          </a:prstGeom>
          <a:ln w="0">
            <a:noFill/>
          </a:ln>
        </p:spPr>
      </p:pic>
      <p:pic>
        <p:nvPicPr>
          <p:cNvPr id="932" name="" descr=""/>
          <p:cNvPicPr/>
          <p:nvPr/>
        </p:nvPicPr>
        <p:blipFill>
          <a:blip r:embed="rId2"/>
          <a:stretch/>
        </p:blipFill>
        <p:spPr>
          <a:xfrm>
            <a:off x="1187280" y="2205000"/>
            <a:ext cx="254340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50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500"/>
                            </p:stCondLst>
                            <p:childTnLst>
                              <p:par>
                                <p:cTn id="401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7" nodeType="afterEffect" fill="hold" presetClass="entr" presetID="1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8147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Verdana"/>
              </a:rPr>
              <a:t>8. Не требовать слишком многого!</a:t>
            </a:r>
            <a:r>
              <a:rPr b="0" i="1" lang="en-US" sz="2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eaeaea"/>
                </a:solidFill>
                <a:latin typeface="Verdana"/>
              </a:rPr>
              <a:t>               </a:t>
            </a:r>
            <a:r>
              <a:rPr b="0" i="1" lang="en-US" sz="2200" spc="-1" strike="noStrike">
                <a:solidFill>
                  <a:srgbClr val="003300"/>
                </a:solidFill>
                <a:latin typeface="Verdana"/>
              </a:rPr>
              <a:t>Выдающимися математиками и физиками становятся далеко не все. Не надо упрекать ребенка, что его оценки гораздо хуже, чем у других, или что он снова схватил трояк за контрольную.</a:t>
            </a:r>
            <a:r>
              <a:rPr b="0" i="1" lang="en-US" sz="2200" spc="-1" strike="noStrike">
                <a:solidFill>
                  <a:srgbClr val="ff99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179280" y="2637000"/>
            <a:ext cx="41054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Если постоянно внушать ребенку комплекс неполноценности, психоэмоциональная нагрузка только возрастет. Возможно он сможет проявить себя в чем-то другом - например, в рисовании, музыке или фотографии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2"/>
          <a:stretch/>
        </p:blipFill>
        <p:spPr>
          <a:xfrm>
            <a:off x="4211640" y="2708280"/>
            <a:ext cx="4608360" cy="2782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53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2500"/>
                            </p:stCondLst>
                            <p:childTnLst>
                              <p:par>
                                <p:cTn id="437" nodeType="afterEffect" fill="hold" presetClass="entr" presetID="3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6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6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6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 txBox="1"/>
          <p:nvPr/>
        </p:nvSpPr>
        <p:spPr>
          <a:xfrm>
            <a:off x="323640" y="2349360"/>
            <a:ext cx="856908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Здоровье школьника – проблема , касающаяся всех. Нынешние ученики – завтрашнее будущее нашей страны. Нужно сделать все, чтобы оно было здоровым, успешным и благополучным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7" name="Заголовок 1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504280" cy="1461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" nodeType="afterEffect" fill="hold" presetClass="entr" presetID="5" presetSubtype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2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/>
          </p:nvPr>
        </p:nvSpPr>
        <p:spPr>
          <a:xfrm>
            <a:off x="685800" y="2565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СПАСИБО ЗА ВНИМАНИЕ 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cover dir="r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38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750"/>
                            </p:stCondLst>
                            <p:childTnLst>
                              <p:par>
                                <p:cTn id="475" nodeType="afterEffect" fill="hold" presetClass="exit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47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4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95280" y="1413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ahoma"/>
              </a:rPr>
              <a:t>ШКОЛА И ЗДОРОВЬЕ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1547640" y="3500280"/>
            <a:ext cx="6400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1" i="1" lang="en-US" sz="2000" spc="-1" strike="noStrike">
                <a:solidFill>
                  <a:srgbClr val="ccff99"/>
                </a:solidFill>
                <a:latin typeface="Arial"/>
              </a:rPr>
              <a:t>ВЫПОЛНИЛ УЧЕНИК 7 «А»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ff99"/>
                </a:solidFill>
                <a:latin typeface="Arial"/>
              </a:rPr>
              <a:t>                                                      </a:t>
            </a:r>
            <a:r>
              <a:rPr b="1" i="1" lang="en-US" sz="2000" spc="-1" strike="noStrike">
                <a:solidFill>
                  <a:srgbClr val="ccff99"/>
                </a:solidFill>
                <a:latin typeface="Arial"/>
              </a:rPr>
              <a:t>ДУБЯГА  МАКС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ff99"/>
                </a:solidFill>
                <a:latin typeface="Arial"/>
              </a:rPr>
              <a:t>                        </a:t>
            </a:r>
            <a:r>
              <a:rPr b="1" i="1" lang="en-US" sz="2000" spc="-1" strike="noStrike">
                <a:solidFill>
                  <a:srgbClr val="ccff99"/>
                </a:solidFill>
                <a:latin typeface="Arial"/>
              </a:rPr>
              <a:t>ПРЕПОДАВАТЕЛЬ  БИОЛОГИИ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ff99"/>
                </a:solidFill>
                <a:latin typeface="Arial"/>
              </a:rPr>
              <a:t>                                                      </a:t>
            </a:r>
            <a:r>
              <a:rPr b="1" i="1" lang="en-US" sz="2000" spc="-1" strike="noStrike">
                <a:solidFill>
                  <a:srgbClr val="ccff99"/>
                </a:solidFill>
                <a:latin typeface="Arial"/>
              </a:rPr>
              <a:t>ФРОЛОВА Н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6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6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3" descr="C:\Users\Юлия\Pictures\Картинки\ВИДЫ ПРИРОДЫ\Nature_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0" name="Заголовок 1" descr=""/>
          <p:cNvPicPr/>
          <p:nvPr/>
        </p:nvPicPr>
        <p:blipFill>
          <a:blip r:embed="rId2"/>
          <a:stretch/>
        </p:blipFill>
        <p:spPr>
          <a:xfrm>
            <a:off x="208080" y="281160"/>
            <a:ext cx="8240760" cy="1407960"/>
          </a:xfrm>
          <a:prstGeom prst="rect">
            <a:avLst/>
          </a:prstGeom>
          <a:ln w="0">
            <a:noFill/>
          </a:ln>
        </p:spPr>
      </p:pic>
      <p:pic>
        <p:nvPicPr>
          <p:cNvPr id="881" name="Содержимое 2" descr=""/>
          <p:cNvPicPr/>
          <p:nvPr/>
        </p:nvPicPr>
        <p:blipFill>
          <a:blip r:embed="rId3"/>
          <a:stretch/>
        </p:blipFill>
        <p:spPr>
          <a:xfrm>
            <a:off x="0" y="1844640"/>
            <a:ext cx="13381200" cy="4668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Freeform 4"/>
          <p:cNvSpPr/>
          <p:nvPr/>
        </p:nvSpPr>
        <p:spPr>
          <a:xfrm flipH="1">
            <a:off x="1116000" y="549360"/>
            <a:ext cx="3206880" cy="2719440"/>
          </a:xfrm>
          <a:prstGeom prst="pie">
            <a:avLst/>
          </a:prstGeom>
          <a:solidFill>
            <a:srgbClr val="ff9900"/>
          </a:soli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5"/>
          <p:cNvSpPr/>
          <p:nvPr/>
        </p:nvSpPr>
        <p:spPr>
          <a:xfrm>
            <a:off x="4587840" y="533520"/>
            <a:ext cx="3489480" cy="2719440"/>
          </a:xfrm>
          <a:prstGeom prst="pie">
            <a:avLst/>
          </a:prstGeom>
          <a:solidFill>
            <a:srgbClr val="00ff00"/>
          </a:soli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6"/>
          <p:cNvSpPr/>
          <p:nvPr/>
        </p:nvSpPr>
        <p:spPr>
          <a:xfrm>
            <a:off x="1219320" y="3538440"/>
            <a:ext cx="3130560" cy="2633760"/>
          </a:xfrm>
          <a:prstGeom prst="pie">
            <a:avLst/>
          </a:prstGeom>
          <a:solidFill>
            <a:srgbClr val="3366ff"/>
          </a:soli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reeform 7"/>
          <p:cNvSpPr/>
          <p:nvPr/>
        </p:nvSpPr>
        <p:spPr>
          <a:xfrm flipH="1">
            <a:off x="4571280" y="3573360"/>
            <a:ext cx="3489480" cy="2633760"/>
          </a:xfrm>
          <a:prstGeom prst="pie">
            <a:avLst/>
          </a:prstGeom>
          <a:solidFill>
            <a:srgbClr val="ff99cc"/>
          </a:soli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8"/>
          <p:cNvSpPr/>
          <p:nvPr/>
        </p:nvSpPr>
        <p:spPr>
          <a:xfrm>
            <a:off x="2666880" y="1600200"/>
            <a:ext cx="3657600" cy="3657600"/>
          </a:xfrm>
          <a:prstGeom prst="ellipse">
            <a:avLst/>
          </a:prstGeom>
          <a:solidFill>
            <a:srgbClr val="feffff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ШК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10"/>
          <p:cNvSpPr/>
          <p:nvPr/>
        </p:nvSpPr>
        <p:spPr>
          <a:xfrm>
            <a:off x="1666080" y="11890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1"/>
          <p:cNvSpPr/>
          <p:nvPr/>
        </p:nvSpPr>
        <p:spPr>
          <a:xfrm>
            <a:off x="5095440" y="1112760"/>
            <a:ext cx="25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СИХ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AutoShape 12"/>
          <p:cNvSpPr/>
          <p:nvPr/>
        </p:nvSpPr>
        <p:spPr>
          <a:xfrm flipV="1" rot="12673800">
            <a:off x="2483640" y="1699200"/>
            <a:ext cx="1297080" cy="755640"/>
          </a:xfrm>
          <a:prstGeom prst="rightArrow">
            <a:avLst>
              <a:gd name="adj1" fmla="val 46509"/>
              <a:gd name="adj2" fmla="val 37716"/>
            </a:avLst>
          </a:prstGeom>
          <a:solidFill>
            <a:srgbClr val="81c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AutoShape 13"/>
          <p:cNvSpPr/>
          <p:nvPr/>
        </p:nvSpPr>
        <p:spPr>
          <a:xfrm flipV="1" rot="8266800">
            <a:off x="2362320" y="4189680"/>
            <a:ext cx="1296720" cy="756000"/>
          </a:xfrm>
          <a:prstGeom prst="rightArrow">
            <a:avLst>
              <a:gd name="adj1" fmla="val 46509"/>
              <a:gd name="adj2" fmla="val 376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utoShape 14"/>
          <p:cNvSpPr/>
          <p:nvPr/>
        </p:nvSpPr>
        <p:spPr>
          <a:xfrm flipV="1" rot="19226400">
            <a:off x="5257440" y="1751400"/>
            <a:ext cx="1297080" cy="755640"/>
          </a:xfrm>
          <a:prstGeom prst="rightArrow">
            <a:avLst>
              <a:gd name="adj1" fmla="val 46509"/>
              <a:gd name="adj2" fmla="val 37716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15"/>
          <p:cNvSpPr/>
          <p:nvPr/>
        </p:nvSpPr>
        <p:spPr>
          <a:xfrm flipV="1" rot="1656600">
            <a:off x="5257800" y="4114440"/>
            <a:ext cx="1297080" cy="755640"/>
          </a:xfrm>
          <a:prstGeom prst="rightArrow">
            <a:avLst>
              <a:gd name="adj1" fmla="val 46509"/>
              <a:gd name="adj2" fmla="val 37716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34"/>
          <p:cNvSpPr/>
          <p:nvPr/>
        </p:nvSpPr>
        <p:spPr>
          <a:xfrm>
            <a:off x="-175320" y="6324480"/>
            <a:ext cx="9439200" cy="368280"/>
          </a:xfrm>
          <a:prstGeom prst="rect">
            <a:avLst/>
          </a:prstGeom>
          <a:solidFill>
            <a:srgbClr val="a3d872"/>
          </a:solidFill>
          <a:ln w="19080">
            <a:solidFill>
              <a:srgbClr val="0c6e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a4"/>
                </a:solidFill>
                <a:latin typeface="Comic Sans MS"/>
              </a:rPr>
              <a:t>Все части здоровья нам очень важны. Все виды здоровья нам очень нуж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35"/>
          <p:cNvSpPr/>
          <p:nvPr/>
        </p:nvSpPr>
        <p:spPr>
          <a:xfrm>
            <a:off x="5106240" y="522756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РАВСТВЕ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36"/>
          <p:cNvSpPr/>
          <p:nvPr/>
        </p:nvSpPr>
        <p:spPr>
          <a:xfrm>
            <a:off x="1296720" y="525780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ИНЕТ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4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4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500"/>
                            </p:stCondLst>
                            <p:childTnLst>
                              <p:par>
                                <p:cTn id="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entr" presetID="4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9500"/>
                            </p:stCondLst>
                            <p:childTnLst>
                              <p:par>
                                <p:cTn id="9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5" nodeType="afterEffect" fill="hold" presetClass="entr" presetID="4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67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/>
          </p:nvPr>
        </p:nvSpPr>
        <p:spPr>
          <a:xfrm>
            <a:off x="394920" y="188640"/>
            <a:ext cx="8280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ee941c"/>
                </a:solidFill>
                <a:latin typeface="Arial"/>
              </a:rPr>
              <a:t>Летние каникулы закончились! После отдыха ученикам снова придется вставать на уроки ни свет ни заря, по полдня сидеть за партами и допоздна корпеть над домашними заданиями.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50920" y="1700280"/>
            <a:ext cx="4105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А это не так-то просто. Тем более что день сейчас очень короткий, а погода - холодная и промозглая. Ребята практически не видят естественного света и мало гуляю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4427640" cy="316224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3851280" y="5084640"/>
            <a:ext cx="4465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Как же помочь школьнику выдержать неподъемную учебную нагрузку и при этом сохранить здоровье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3"/>
          <a:stretch/>
        </p:blipFill>
        <p:spPr>
          <a:xfrm>
            <a:off x="611280" y="4508640"/>
            <a:ext cx="322884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10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30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6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6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6" nodeType="afterEffect" fill="hold" presetClass="entr" presetID="5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2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/>
          </p:nvPr>
        </p:nvSpPr>
        <p:spPr>
          <a:xfrm>
            <a:off x="755280" y="259920"/>
            <a:ext cx="7705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3300"/>
                </a:solidFill>
                <a:uFillTx/>
                <a:latin typeface="Arial"/>
              </a:rPr>
              <a:t>1.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Соблюдать режим дня!</a:t>
            </a:r>
            <a:r>
              <a:rPr b="0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3399"/>
                </a:solidFill>
                <a:latin typeface="Arial"/>
              </a:rPr>
              <a:t>       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Справляться с учебными нагрузками гораздо легче, если школьник будет вставать, есть, гулять, делать уроки и спать примерно в одно и то же время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4000" y="2708280"/>
            <a:ext cx="37432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3399"/>
                </a:solidFill>
                <a:latin typeface="Arial"/>
              </a:rPr>
              <a:t>       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Младшие не должны ложиться спать позже 21 - 22 ча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3399"/>
                </a:solidFill>
                <a:latin typeface="Arial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3399"/>
                </a:solidFill>
                <a:latin typeface="Arial"/>
              </a:rPr>
              <a:t>        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Старшеклассникам тоже надо хорошо высыпаться, поэтому - не позднее 23 час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4284720" y="2421000"/>
            <a:ext cx="4608360" cy="3905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1000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1000"/>
                                        <p:tgtEl>
                                          <p:spTgt spid="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4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 txBox="1"/>
          <p:nvPr/>
        </p:nvSpPr>
        <p:spPr>
          <a:xfrm>
            <a:off x="323640" y="4508280"/>
            <a:ext cx="5832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Хорошо записаться в спортивную секцию, которая будет по душе. Обычно детям больше всего нравятся плавание и спортивные игр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Например, я выбрал фехтова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/>
          </p:nvPr>
        </p:nvSpPr>
        <p:spPr>
          <a:xfrm>
            <a:off x="611280" y="115560"/>
            <a:ext cx="823104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2. Чередовать нагрузки!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i="1" lang="en-US" sz="2200" spc="-1" strike="noStrike">
                <a:solidFill>
                  <a:srgbClr val="ffcc00"/>
                </a:solidFill>
                <a:latin typeface="Arial"/>
              </a:rPr>
              <a:t>Почти полдня ребенок проводит в сидячем, малоподвижном положении. Кровь из-за этого циркулирует плохо, а в мозг попадает мало кислорода. От усталости и переутомления спасет чередование умственных и физических нагрузок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6" name="" descr="Картинка 100 из 1255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060640"/>
            <a:ext cx="3384720" cy="214308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3"/>
          <a:stretch/>
        </p:blipFill>
        <p:spPr>
          <a:xfrm>
            <a:off x="6372360" y="2565360"/>
            <a:ext cx="2344680" cy="395928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4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5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5" nodeType="afterEffect" fill="hold" presetClass="entr" presetID="3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3500"/>
                            </p:stCondLst>
                            <p:childTnLst>
                              <p:par>
                                <p:cTn id="222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/>
          </p:nvPr>
        </p:nvSpPr>
        <p:spPr>
          <a:xfrm>
            <a:off x="301320" y="549360"/>
            <a:ext cx="83026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3. Пить витамины!</a:t>
            </a:r>
            <a:r>
              <a:rPr b="0" i="1" lang="en-US" sz="24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en-US" sz="2200" spc="-1" strike="noStrike">
                <a:solidFill>
                  <a:srgbClr val="66ffff"/>
                </a:solidFill>
                <a:latin typeface="Arial"/>
              </a:rPr>
              <a:t>Осенью надо особенно заботиться о здоровье. Ведь организм еще не до конца привык к низким температурам, и можно с легкостью подхватить простуду.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395280" y="508428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en-US" sz="2400" spc="-1" strike="noStrike">
                <a:solidFill>
                  <a:srgbClr val="0000a4"/>
                </a:solidFill>
                <a:latin typeface="Arial"/>
              </a:rPr>
              <a:t>А частые болезни, как известно, изматывают и усиливают усталость. Следовательно, посоветовавшись с врачом, необходимо  приобрести комплекс витамин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0" name="" descr="Картинка 95 из 2234"/>
          <p:cNvPicPr/>
          <p:nvPr/>
        </p:nvPicPr>
        <p:blipFill>
          <a:blip r:embed="rId2"/>
          <a:stretch/>
        </p:blipFill>
        <p:spPr>
          <a:xfrm>
            <a:off x="468360" y="2492280"/>
            <a:ext cx="3887640" cy="248292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Картинка 4 из 364"/>
          <p:cNvPicPr/>
          <p:nvPr/>
        </p:nvPicPr>
        <p:blipFill>
          <a:blip r:embed="rId3"/>
          <a:stretch/>
        </p:blipFill>
        <p:spPr>
          <a:xfrm>
            <a:off x="4716360" y="2492280"/>
            <a:ext cx="4103640" cy="2487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4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"/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50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8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35344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4. Правильно питаться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Чтобы ученик лучше справлялся с нагрузками, питание должно быть разнообразным, полноценным, богатым витаминами и микроэлементам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Полезны для нормальной работы головного мозга мясо, рыба, яйца, творог, кефир, бананы и морепродукты. А вот уплетать много сладкого – нельз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250920" y="3645000"/>
            <a:ext cx="4680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Переизбыток сладкого, вопреки распространенному мнению, только мешает школьнику быть бодрым и активным. А вот кусочек черного шоколада не навредит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2"/>
          <a:stretch/>
        </p:blipFill>
        <p:spPr>
          <a:xfrm>
            <a:off x="5180040" y="2825640"/>
            <a:ext cx="3578040" cy="384336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Картинка 35 из 35399"/>
          <p:cNvPicPr/>
          <p:nvPr/>
        </p:nvPicPr>
        <p:blipFill>
          <a:blip r:embed="rId3"/>
          <a:stretch/>
        </p:blipFill>
        <p:spPr>
          <a:xfrm>
            <a:off x="4500720" y="2781360"/>
            <a:ext cx="437184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5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8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4" nodeType="afterEffect" fill="hold" presetClass="entr" presetID="4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1000"/>
                            </p:stCondLst>
                            <p:childTnLst>
                              <p:par>
                                <p:cTn id="302" nodeType="afterEffect" fill="hold" presetClass="entr" presetID="2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1:05:17Z</dcterms:created>
  <dc:creator>ndubyaga</dc:creator>
  <dc:description/>
  <dc:language>en-US</dc:language>
  <cp:lastModifiedBy>КарМаН</cp:lastModifiedBy>
  <dcterms:modified xsi:type="dcterms:W3CDTF">2011-10-22T13:27:15Z</dcterms:modified>
  <cp:revision>17</cp:revision>
  <dc:subject/>
  <dc:title>Слайд 1</dc:title>
</cp:coreProperties>
</file>