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10018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5675040" y="-360"/>
            <a:ext cx="43434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3287520" y="515520"/>
            <a:ext cx="3446280" cy="258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-36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5675040" y="6541560"/>
            <a:ext cx="43434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9D43-FD08-46C9-9B29-A865B1164F1D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5675400" y="6541920"/>
            <a:ext cx="4343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6CA0-C5D3-4FBE-A164-1F2F4FBEDE2F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6280" cy="25844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5675400" y="6541920"/>
            <a:ext cx="4343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251B-9B4C-4877-82AB-87609383C65F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6280" cy="25844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5675400" y="6541920"/>
            <a:ext cx="4343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9626-4BFA-4750-A0A9-6CDBC473CA92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6280" cy="25844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5675400" y="6541920"/>
            <a:ext cx="4343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CAAE-02B7-4FEA-A085-2519D47913F8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6280" cy="25844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5675400" y="6541920"/>
            <a:ext cx="4343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EFA7-2FBD-42D7-A5C4-7D3242960236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6280" cy="25844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5675400" y="6541920"/>
            <a:ext cx="4343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02BF-6FFE-4D90-938A-8914DDA8B865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6280" cy="25844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333A-6180-495F-B28B-F6C2AB06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AC24-D179-4BDF-967D-FC66E1F2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C6208-3E02-47F2-866D-E5879877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5E935-3BF5-466E-BB94-5B0A4FDF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20EBB-296F-406F-B15E-9D2E3C99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59A71-A2D0-4E77-B85B-971662DC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ECA28-F95F-4A3F-BE2C-6D75B743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C6D1C-ED44-452C-B194-B4B95C9B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B123D-516E-4203-9110-67378959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6CC83-3854-4D4F-AA16-8930910C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583CC-AB51-46DE-8E7B-5A9ED96E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719D-381A-42AB-B9B5-90F58987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95F4-6F50-4098-ADC0-884D8AF7B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7805-B885-4408-853B-524554D73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F1A9-ABE6-4C84-9290-ABD6ABBC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0FF8-1CEC-43F7-A273-97E0FE40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DCA9-8943-4ECD-B894-BAC21337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B51A-91B3-442C-A595-9594FC89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9E50-A3B2-453C-93B6-CC619211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D0D0-96F2-4432-9880-7B969E64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8FF0-48F9-4C1A-8081-62082F71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12CC-F76F-4B88-9984-9171C33F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8304-8E7A-460E-B9A7-D4742582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1649-5A1D-4EA7-8A23-4A1A946A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9E25-787C-4A06-8922-60C0A891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A913-C677-40A8-8098-6D4059E3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6224B-CD58-4B7A-8871-35E4ECAC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4E2D2-9141-47F5-A87C-0DE813C0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8EB66-352E-4CE9-948F-F217FAB9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5AA5B-AAF7-4AFF-A5E6-10468523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99A79-EEFF-4386-9AFA-57B7962B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AEFE-C3B7-4764-9A6E-0801FD4C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8A94F-AFB1-4E34-B6B3-1A22E115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AB1B1-6C83-498E-B53B-36BAB5A8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16B62-21D0-431A-9C18-B27725CB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7F2BD-F6B7-4DDF-8BBD-A4734F05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2856D-C501-4B5C-944F-FBE01C4E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EE920-8259-41CD-ADD2-B7EF84E0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8A749-53F1-4124-BFDE-D485380F4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DFC20-8E56-4B56-8613-93B140FC7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6D4DF-B94B-4D1B-8D29-EA6B21FF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E04FA-18CA-4D1C-8B26-4580EFD6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A44E-54E7-4780-B233-2483BF93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EF6C9-80E8-4744-A78B-9B49CF3C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F61E5-C3CB-4489-B2F9-09732E5C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C85A4-B8DD-48E1-B561-843DF2BD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7D508-AD89-4E59-9189-A9D77C67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692C3-11F2-4261-8858-77E391A2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16A1C-1185-44A6-BBCC-83A1A751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A7763-D226-4EAB-90F0-4480288B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9EB5A-5DAE-41BE-872C-2759F709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F6292-8F4D-4BA2-A1D9-3C50015D2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65096-6B59-4C8B-86A5-ADFBFBE3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E672-5EED-45A0-9A3F-F6EA3A06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6451B-B111-449B-A348-950BC620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6D750-3A8F-4FF4-911B-B80459E5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06024-6E67-461D-B109-07598D91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7CC28-FBD3-439D-8933-BD21DDD6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34366-B27F-4133-9529-EE9CC44E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E0B6D-93DF-4575-94DC-EB58ED90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B5296-6086-4D29-B1C6-9F8B63C9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F8FCE-4439-4027-82D1-61432466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BDF03-60B2-4901-A1FB-AAD82858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49DFF-CCAD-48D8-B43A-BF8C27579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CB7A-7296-46CF-AEC3-C7A517D7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8C9A0-E2A4-4A39-9876-A05B6B365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09B83-F311-4CF5-9B6F-C79096D8D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6B634-0D16-4A5C-9EB5-C5AD9FAC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43985-15CA-4898-AB4A-800A2A28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2EAFD-F470-4AAD-AE67-3C799F01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B4645-12B1-471B-B931-348D528A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DA450-CFD6-4AA4-B087-6FA4006F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BEE4D-D119-4EFD-88CD-3BD41AE5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CE4AA-B84A-4A8D-AA3B-83298263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52F76-F325-4FB1-9EB2-E2AEA037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D73B-855B-46F6-9FF2-696A44C6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5059D-1DED-4C28-9809-4AA21E72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088FD-DA36-4C90-ADF1-75FFC6E4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2B0D8-B57A-46E4-8CAC-02753E5E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BCB15-E4E2-40DB-A21A-69F050CA9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4F875-2D17-4743-B78C-75CACA28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D4EB3-4F9C-45CD-8078-EAA5F326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B6A30-BF05-4022-B995-8F938476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EE29A-FF9B-4AB0-8CAC-3D8C8B70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BC009-682C-4203-A1DB-A50868BF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7903E-95FE-4A24-A8ED-482A7D24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19B5-8722-4095-AF2A-80678846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F67CE-0C4B-4D52-B631-F8A7103D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DFCF2-9888-47D2-B9E2-09ACD834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72749-9CC8-4201-8196-2E84E187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04945-D192-44B6-A71C-B554E9F9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5E195-768F-44A7-8596-E003DA9D9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A6AFA-888B-41E6-92EC-93272C92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8934A-31B5-44E3-8A6D-57136FAB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423E4-A9F2-48D5-AE3C-C5B15081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7CF58-F8FF-48F4-9650-66EDBEE8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D85DE-C259-4428-8A07-B03992CB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5BCA-07A7-47FB-BC52-EB4D865D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D557C-7882-4EA1-80C6-ED19E49E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25B30-F4A4-4B88-8B23-189E72A6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7CA25-3DC3-42EA-8D26-4008AD91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7A3CE-6867-4D7D-A5EF-C9BF3444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FDC2D-8399-4FCC-9944-F5F58CF0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5165E-B48B-46B2-9843-AD482ABCA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E6955-4A0D-43C4-B9F9-B250DE37F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596D8-7A5D-44A6-828E-4CB1CE448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4303E-5588-4B75-9402-560526AB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606A1-4B0F-482B-AF03-094F9081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75AF-0C84-4D99-B3D0-E2EA5F5F387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5822-CCC5-4AC1-AD61-BD9447E052E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2F16-6B30-432A-AC2C-9B6EEA9F679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96A4-9868-4DAE-807E-0285D216221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9F00-00E5-4262-850D-035998E47D1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7511-34F0-4485-9119-17E71C9B5B4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E1F9-3AD4-4545-A93D-73C3113FE18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BA19-2960-453D-96AF-370CD4C59C6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7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7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E770-93B8-4F0C-836F-7FB415A526B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259840" cy="220032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64646"/>
                </a:solidFill>
                <a:latin typeface="Lucida Sans Unicode"/>
              </a:rPr>
              <a:t>Занятие №2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2" descr="Копия screen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5" name="Rectangle 3" descr=""/>
          <p:cNvPicPr/>
          <p:nvPr/>
        </p:nvPicPr>
        <p:blipFill>
          <a:blip r:embed="rId2"/>
          <a:stretch/>
        </p:blipFill>
        <p:spPr>
          <a:xfrm>
            <a:off x="189000" y="285840"/>
            <a:ext cx="8540640" cy="136692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Опора на опыт советской и российской школы, лучший мировой опыт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Результаты предшествующих реформ и проектов (модернизации образования, РЕОИС,  займов МБРР, Приоритетного национального проекта «Образование», различных проектов ФЦПРО и пр.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Развитие отечественных научных теорий и концепций(развивающего обучения, «ядра и оболочки» и пр.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Копия screen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8" name="Rectangle 3" descr=""/>
          <p:cNvPicPr/>
          <p:nvPr/>
        </p:nvPicPr>
        <p:blipFill>
          <a:blip r:embed="rId2"/>
          <a:stretch/>
        </p:blipFill>
        <p:spPr>
          <a:xfrm>
            <a:off x="146160" y="274680"/>
            <a:ext cx="8540640" cy="136512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ебования к результатам </a:t>
            </a:r>
            <a:r>
              <a:rPr b="1" lang="ru-RU" sz="2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освоения основной образовательной программы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ебования к структуре  </a:t>
            </a:r>
            <a:r>
              <a:rPr b="1" lang="ru-RU" sz="2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основной образовательной  программы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ебования к условиям </a:t>
            </a:r>
            <a:r>
              <a:rPr b="1" lang="ru-RU" sz="2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освоения основной образовательной программы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Копия screen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1" name="Rectangle 3" descr=""/>
          <p:cNvPicPr/>
          <p:nvPr/>
        </p:nvPicPr>
        <p:blipFill>
          <a:blip r:embed="rId2"/>
          <a:stretch/>
        </p:blipFill>
        <p:spPr>
          <a:xfrm>
            <a:off x="-103320" y="433440"/>
            <a:ext cx="8998200" cy="21207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2500200" y="2714760"/>
            <a:ext cx="822960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Личностным</a:t>
            </a:r>
            <a:endParaRPr b="0" lang="en-US" sz="3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Метапредметным</a:t>
            </a:r>
            <a:endParaRPr b="0" lang="en-US" sz="3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Предметным</a:t>
            </a:r>
            <a:r>
              <a:rPr b="1" lang="ru-RU" sz="40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Копия screen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4" name="Rectangle 3" descr=""/>
          <p:cNvPicPr/>
          <p:nvPr/>
        </p:nvPicPr>
        <p:blipFill>
          <a:blip r:embed="rId2"/>
          <a:stretch/>
        </p:blipFill>
        <p:spPr>
          <a:xfrm>
            <a:off x="-49320" y="384120"/>
            <a:ext cx="8944200" cy="153036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394920" y="1628640"/>
            <a:ext cx="8605800" cy="48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количеству и наименованию </a:t>
            </a:r>
            <a:r>
              <a:rPr b="1" lang="ru-RU" sz="22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разделов (НОО-9,ООО-3), в том числе к учебному плану общеобразовательного учреждения;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минимальному и максимальному </a:t>
            </a:r>
            <a:r>
              <a:rPr b="1" lang="ru-RU" sz="22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количеству учебных часов(НОО_от 2904 до 3210 за 4 года, ООО от </a:t>
            </a:r>
            <a:r>
              <a:rPr b="1" lang="ru-RU" sz="2200" spc="-1" strike="noStrike">
                <a:solidFill>
                  <a:srgbClr val="da1f28"/>
                </a:solidFill>
                <a:latin typeface="Times New Roman"/>
              </a:rPr>
              <a:t>5267 до 6020 </a:t>
            </a:r>
            <a:r>
              <a:rPr b="1" lang="ru-RU" sz="22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за 5 лет );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содержанию </a:t>
            </a:r>
            <a:r>
              <a:rPr b="1" lang="ru-RU" sz="22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каждого из разделов;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соотношению частей </a:t>
            </a:r>
            <a:r>
              <a:rPr b="1" lang="ru-RU" sz="22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основной общеобразовательной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2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программы (80/20% для НОО,70/30% ООО);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организации </a:t>
            </a:r>
            <a:r>
              <a:rPr b="1" lang="ru-RU" sz="22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внеурочной деятельности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EF9A-072D-4F8A-9340-499FB28E27A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Номер слайда 5"/>
          <p:cNvSpPr/>
          <p:nvPr/>
        </p:nvSpPr>
        <p:spPr>
          <a:xfrm>
            <a:off x="5364000" y="5013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Rectangle 23"/>
          <p:cNvSpPr/>
          <p:nvPr/>
        </p:nvSpPr>
        <p:spPr>
          <a:xfrm>
            <a:off x="324000" y="189000"/>
            <a:ext cx="8496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b61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Lucida Sans Unicode"/>
              </a:rPr>
              <a:t>Требования к структуре ООП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AutoShape 26"/>
          <p:cNvSpPr/>
          <p:nvPr/>
        </p:nvSpPr>
        <p:spPr>
          <a:xfrm>
            <a:off x="250920" y="836640"/>
            <a:ext cx="864216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Структура основной образовательной программы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Lucida Sans Unicode"/>
              </a:rPr>
              <a:t>Начальное и основное общее образование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AutoShape 8"/>
          <p:cNvSpPr/>
          <p:nvPr/>
        </p:nvSpPr>
        <p:spPr>
          <a:xfrm>
            <a:off x="179280" y="2565360"/>
            <a:ext cx="2232000" cy="719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AutoShape 8"/>
          <p:cNvSpPr/>
          <p:nvPr/>
        </p:nvSpPr>
        <p:spPr>
          <a:xfrm>
            <a:off x="179280" y="3573360"/>
            <a:ext cx="2232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AutoShape 8"/>
          <p:cNvSpPr/>
          <p:nvPr/>
        </p:nvSpPr>
        <p:spPr>
          <a:xfrm>
            <a:off x="2843280" y="2637000"/>
            <a:ext cx="3600360" cy="115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AutoShape 8"/>
          <p:cNvSpPr/>
          <p:nvPr/>
        </p:nvSpPr>
        <p:spPr>
          <a:xfrm>
            <a:off x="179280" y="4437000"/>
            <a:ext cx="2232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AutoShape 8"/>
          <p:cNvSpPr/>
          <p:nvPr/>
        </p:nvSpPr>
        <p:spPr>
          <a:xfrm>
            <a:off x="6732720" y="5300640"/>
            <a:ext cx="216036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План внеурочной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деятельности1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AutoShape 8"/>
          <p:cNvSpPr/>
          <p:nvPr/>
        </p:nvSpPr>
        <p:spPr>
          <a:xfrm>
            <a:off x="6732720" y="2708280"/>
            <a:ext cx="216036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Lucida Sans Unicode"/>
              </a:rPr>
              <a:t>Учебный план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словия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реализации ООП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AutoShape 8"/>
          <p:cNvSpPr/>
          <p:nvPr/>
        </p:nvSpPr>
        <p:spPr>
          <a:xfrm>
            <a:off x="179280" y="1844640"/>
            <a:ext cx="223200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Lucida Sans Unicode"/>
              </a:rPr>
              <a:t>Целевой раздел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AutoShape 8"/>
          <p:cNvSpPr/>
          <p:nvPr/>
        </p:nvSpPr>
        <p:spPr>
          <a:xfrm>
            <a:off x="6732720" y="1844640"/>
            <a:ext cx="2151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Lucida Sans Unicode"/>
              </a:rPr>
              <a:t>Организационный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Lucida Sans Unicode"/>
              </a:rPr>
              <a:t>раздел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ебный план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AutoShape 8"/>
          <p:cNvSpPr/>
          <p:nvPr/>
        </p:nvSpPr>
        <p:spPr>
          <a:xfrm>
            <a:off x="2843280" y="1844640"/>
            <a:ext cx="35290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Lucida Sans Unicode"/>
              </a:rPr>
              <a:t>Содержательный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Lucida Sans Unicode"/>
              </a:rPr>
              <a:t>раздел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Прямоугольник 15"/>
          <p:cNvSpPr/>
          <p:nvPr/>
        </p:nvSpPr>
        <p:spPr>
          <a:xfrm>
            <a:off x="324000" y="2708280"/>
            <a:ext cx="20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ояснительная записка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Прямоугольник 16"/>
          <p:cNvSpPr/>
          <p:nvPr/>
        </p:nvSpPr>
        <p:spPr>
          <a:xfrm>
            <a:off x="2916360" y="2708280"/>
            <a:ext cx="3600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Программа развития УУД: включает формирование компетенций в области учебно-исследовательской  и проектной деятельности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Прямоугольник 17"/>
          <p:cNvSpPr/>
          <p:nvPr/>
        </p:nvSpPr>
        <p:spPr>
          <a:xfrm>
            <a:off x="324000" y="3573360"/>
            <a:ext cx="165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ланируемые результаты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Прямоугольник 18"/>
          <p:cNvSpPr/>
          <p:nvPr/>
        </p:nvSpPr>
        <p:spPr>
          <a:xfrm>
            <a:off x="324000" y="4653000"/>
            <a:ext cx="200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Система оценки</a:t>
            </a:r>
            <a:r>
              <a:rPr b="0" lang="ru-RU" sz="1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AutoShape 8"/>
          <p:cNvSpPr/>
          <p:nvPr/>
        </p:nvSpPr>
        <p:spPr>
          <a:xfrm>
            <a:off x="2843280" y="4005360"/>
            <a:ext cx="3600360" cy="287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AutoShape 8"/>
          <p:cNvSpPr/>
          <p:nvPr/>
        </p:nvSpPr>
        <p:spPr>
          <a:xfrm flipV="1">
            <a:off x="2771640" y="4508640"/>
            <a:ext cx="3745080" cy="1512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Прямоугольник 25"/>
          <p:cNvSpPr/>
          <p:nvPr/>
        </p:nvSpPr>
        <p:spPr>
          <a:xfrm>
            <a:off x="2916360" y="4005360"/>
            <a:ext cx="35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Программы учебных предметов, курсов</a:t>
            </a: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Прямоугольник 26"/>
          <p:cNvSpPr/>
          <p:nvPr/>
        </p:nvSpPr>
        <p:spPr>
          <a:xfrm>
            <a:off x="2771640" y="4581360"/>
            <a:ext cx="36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Программа духовно-нравственного развития, воспитания и социализации, включает : духовно-нравственное развитие и воспитание, социальную деятельность,, профориентацию, формирование культуры, здорового и безопасного образа жизни , экологической культуры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Прямоугольник 27"/>
          <p:cNvSpPr/>
          <p:nvPr/>
        </p:nvSpPr>
        <p:spPr>
          <a:xfrm>
            <a:off x="2987640" y="6165720"/>
            <a:ext cx="338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Программа  работы с обучающимися с ОВЗ, инвалидами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AutoShape 8"/>
          <p:cNvSpPr/>
          <p:nvPr/>
        </p:nvSpPr>
        <p:spPr>
          <a:xfrm>
            <a:off x="2771640" y="6165720"/>
            <a:ext cx="3745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AutoShape 8"/>
          <p:cNvSpPr/>
          <p:nvPr/>
        </p:nvSpPr>
        <p:spPr>
          <a:xfrm>
            <a:off x="6732720" y="4005360"/>
            <a:ext cx="216036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2" descr="Копия screen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1" name="Rectangle 3" descr=""/>
          <p:cNvPicPr/>
          <p:nvPr/>
        </p:nvPicPr>
        <p:blipFill>
          <a:blip r:embed="rId2"/>
          <a:stretch/>
        </p:blipFill>
        <p:spPr>
          <a:xfrm>
            <a:off x="-231840" y="401760"/>
            <a:ext cx="9199800" cy="15364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1000080" y="2214720"/>
            <a:ext cx="778680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3412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Кадровы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1280" indent="3412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Финансово-экономически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1280" indent="3412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Материально-технически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1280" indent="3412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Психолого-педагогически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1280" indent="3412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Информационно-методически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Заголовок 9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Lucida Sans Unicode"/>
              </a:rPr>
              <a:t>Проблемы отечественного образования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Lucida Sans Unicode"/>
              </a:rPr>
              <a:t>Как ФГОС помогает решить эти проблемы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Заголовок 1" descr=""/>
          <p:cNvPicPr/>
          <p:nvPr/>
        </p:nvPicPr>
        <p:blipFill>
          <a:blip r:embed="rId1"/>
          <a:stretch/>
        </p:blipFill>
        <p:spPr>
          <a:xfrm>
            <a:off x="457200" y="585720"/>
            <a:ext cx="8229600" cy="113364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 txBox="1"/>
          <p:nvPr/>
        </p:nvSpPr>
        <p:spPr>
          <a:xfrm>
            <a:off x="45720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Задание: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пределение значимости нового образовательного стандарта для детей и педагогов (форма работы: в мини-группах): слушателям предлагается сформулировать не менее 3-х преимуществ, которые обеспечивает ФГОС для разных участников образовательного процесс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педагог, ученик).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Вопрос: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Какие трудности могут возникнуть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Вопрос: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Способы их предупреждения, преодоления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8" name=""/>
          <p:cNvGraphicFramePr/>
          <p:nvPr/>
        </p:nvGraphicFramePr>
        <p:xfrm>
          <a:off x="76320" y="1571760"/>
          <a:ext cx="9067680" cy="3352680"/>
        </p:xfrm>
        <a:graphic>
          <a:graphicData uri="http://schemas.openxmlformats.org/drawingml/2006/table">
            <a:tbl>
              <a:tblPr/>
              <a:tblGrid>
                <a:gridCol w="1928520"/>
                <a:gridCol w="2357640"/>
                <a:gridCol w="642960"/>
                <a:gridCol w="642960"/>
                <a:gridCol w="642960"/>
                <a:gridCol w="428400"/>
                <a:gridCol w="500040"/>
                <a:gridCol w="357480"/>
                <a:gridCol w="357120"/>
                <a:gridCol w="423720"/>
                <a:gridCol w="436680"/>
                <a:gridCol w="349200"/>
              </a:tblGrid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ч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ич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кеты работ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ходящие 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ич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 выполнения рабо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 rowSpan="3"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оект дорожной карты на 2013-2020г.г.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оект плана разработки ООП ООО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оставить примерный перечень единичных проектов, которые предлагает школьная команда в качестве итоговых  работ на курсах повышения квалификаци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ойти электронное тестирование по основным теоретическим вопросам, вынесенным на внутришкольное (заочное обучение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0" name="Заголовок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0" y="158760"/>
            <a:ext cx="9144000" cy="149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7" name=""/>
          <p:cNvGraphicFramePr/>
          <p:nvPr/>
        </p:nvGraphicFramePr>
        <p:xfrm>
          <a:off x="0" y="1413000"/>
          <a:ext cx="9144000" cy="5729040"/>
        </p:xfrm>
        <a:graphic>
          <a:graphicData uri="http://schemas.openxmlformats.org/drawingml/2006/table">
            <a:tbl>
              <a:tblPr/>
              <a:tblGrid>
                <a:gridCol w="684360"/>
                <a:gridCol w="6191280"/>
                <a:gridCol w="736560"/>
                <a:gridCol w="799920"/>
                <a:gridCol w="731880"/>
              </a:tblGrid>
              <a:tr h="64260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 том чис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Лекц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ь 1 (инвариантный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ые государственные образовательные стандарты: назначение, структура, содерж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261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ОС в контексте приоритетов государственной политики в образовании. Содержательно-методологические основы стандартов основного общего образования. Базовые документы стандар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ОС как инновационный проект. Основные этапы реализации инновационного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ая образовательная программа ООО как комплексный прое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ирование и защита единичных про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орожная карта» введения ФГОС в ОУ. План саморазвития педаг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457200" y="665280"/>
            <a:ext cx="8229600" cy="11826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Оцените, пожалуйста, степень своей готовности к введению ФГОС по отдельным компонентам по 5-ти балльной шкале («1» - …, «5» - …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0" y="3357720"/>
          <a:ext cx="9144000" cy="3363840"/>
        </p:xfrm>
        <a:graphic>
          <a:graphicData uri="http://schemas.openxmlformats.org/drawingml/2006/table">
            <a:tbl>
              <a:tblPr/>
              <a:tblGrid>
                <a:gridCol w="5940360"/>
                <a:gridCol w="576360"/>
                <a:gridCol w="576360"/>
                <a:gridCol w="647640"/>
                <a:gridCol w="718920"/>
                <a:gridCol w="684360"/>
              </a:tblGrid>
              <a:tr h="84132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онен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ни компетент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ивационный компон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нитивный компон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онально-технологический компон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вный компон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sp>
        <p:nvSpPr>
          <p:cNvPr id="431" name="Управляющая кнопка: назад 4">
            <a:hlinkClick r:id="rId2" action="ppaction://hlinksldjump"/>
          </p:cNvPr>
          <p:cNvSpPr/>
          <p:nvPr/>
        </p:nvSpPr>
        <p:spPr>
          <a:xfrm>
            <a:off x="8672400" y="6500880"/>
            <a:ext cx="471600" cy="357120"/>
          </a:xfrm>
          <a:custGeom>
            <a:avLst/>
            <a:gdLst>
              <a:gd name="textAreaLeft" fmla="*/ 23040 w 471600"/>
              <a:gd name="textAreaRight" fmla="*/ 448560 w 4716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8517" h="21600">
                <a:moveTo>
                  <a:pt x="0" y="0"/>
                </a:moveTo>
                <a:lnTo>
                  <a:pt x="28517" y="0"/>
                </a:lnTo>
                <a:lnTo>
                  <a:pt x="28517" y="21600"/>
                </a:lnTo>
                <a:lnTo>
                  <a:pt x="0" y="21600"/>
                </a:lnTo>
                <a:close/>
              </a:path>
              <a:path fill="lightenLess" w="28517" h="21600">
                <a:moveTo>
                  <a:pt x="0" y="0"/>
                </a:moveTo>
                <a:lnTo>
                  <a:pt x="28517" y="0"/>
                </a:lnTo>
                <a:lnTo>
                  <a:pt x="27117" y="1400"/>
                </a:lnTo>
                <a:lnTo>
                  <a:pt x="1400" y="1400"/>
                </a:lnTo>
                <a:close/>
              </a:path>
              <a:path fill="darken" w="28517" h="21600">
                <a:moveTo>
                  <a:pt x="28517" y="0"/>
                </a:moveTo>
                <a:lnTo>
                  <a:pt x="28517" y="21600"/>
                </a:lnTo>
                <a:lnTo>
                  <a:pt x="27117" y="20200"/>
                </a:lnTo>
                <a:lnTo>
                  <a:pt x="27117" y="1400"/>
                </a:lnTo>
                <a:close/>
              </a:path>
              <a:path fill="darkenLess" w="28517" h="21600">
                <a:moveTo>
                  <a:pt x="285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117" y="20200"/>
                </a:lnTo>
                <a:close/>
              </a:path>
              <a:path fill="lighten" w="285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517" h="21600">
                <a:moveTo>
                  <a:pt x="7252" y="10800"/>
                </a:moveTo>
                <a:lnTo>
                  <a:pt x="21265" y="3794"/>
                </a:lnTo>
                <a:lnTo>
                  <a:pt x="21265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469800" y="-79200"/>
            <a:ext cx="8229600" cy="12682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собенности урока в связи с ФГОС, посещение уроков, реализующих системно-деятельностный подход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личия стандартов начального и среднего образования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актическая помощь в разработке основной  программы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зультаты апробации ФГОС в начальной школе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рганизация работы со слабоуспевающими учениками в рамках обучения по новым стандартам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собенности стандартов второго поколения в сравнении со стандартами первого поколения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верить свои возможности в освоении ФГОС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собенности введения ФГОС: урочная и внеурочная деятельность по предмету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истема оценивания по новым стандартам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дготовка рабочих программ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ормативно-правовые документы, которые необходимо разработать (для ОУ, для педагога)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оль службы сопровождения во введении ФГОС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граммы внеурочной деятельности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Итоговая аттестация выпускников основной школы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рганизация методической работы по введению ФГОС (сетевое взаимодействие, внутришкольное обучение)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истема контроля и оценивания обучающихся, форма итоговой аттестации выпускников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4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5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4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5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4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0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4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75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4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8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4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285840" y="160020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Федеральные государственные образовательные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ндарты </a:t>
            </a:r>
            <a:r>
              <a:rPr b="1" lang="ru-RU" sz="40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его образования</a:t>
            </a:r>
            <a:r>
              <a:rPr b="1" lang="ru-RU" sz="40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 в контексте государственной политики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6" descr=""/>
          <p:cNvPicPr/>
          <p:nvPr/>
        </p:nvPicPr>
        <p:blipFill>
          <a:blip r:embed="rId1"/>
          <a:stretch/>
        </p:blipFill>
        <p:spPr>
          <a:xfrm>
            <a:off x="115920" y="285840"/>
            <a:ext cx="8540640" cy="13669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285480" y="1285560"/>
            <a:ext cx="871524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1 год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Концепция модернизации российского образования на период до 2010 год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ts val="216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Распоряжение правительства №1756-р от 29.12 2001г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4 год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Федеральный компонент государственных образовательных стандартов начального общего, основного общего, среднего (полного) общего образования</a:t>
            </a:r>
            <a:r>
              <a:rPr b="1" lang="ru-RU" sz="24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ts val="216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Приказ Минобр России № 1019 от 5 марта 2004г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1"/>
          <a:stretch/>
        </p:blipFill>
        <p:spPr>
          <a:xfrm>
            <a:off x="115920" y="244440"/>
            <a:ext cx="8540640" cy="13590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285840" y="128592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6 год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Социологические исследования образовательных потребностей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Концепция ФГОС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7 год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Изменения в закон «Об образовании» (Ст.№7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Разработка документов и материалов обеспечивающих ФГОС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8 год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Апробация ФГОС начального общего образования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9 год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Постановление правительства о порядке разработки и утверждения ФГОС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Утверждение ФГОС начального общего образования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Заголовок 1" descr=""/>
          <p:cNvPicPr/>
          <p:nvPr/>
        </p:nvPicPr>
        <p:blipFill>
          <a:blip r:embed="rId1"/>
          <a:stretch/>
        </p:blipFill>
        <p:spPr>
          <a:xfrm>
            <a:off x="115920" y="244440"/>
            <a:ext cx="8540640" cy="13590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285480" y="1285920"/>
            <a:ext cx="83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10 год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Национальная инициатива «Наша новая школа»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Введение ФГОС в начальной школе (в инициативном порядке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Создание координационного совета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Примерная основная образовательная программа начального общего образования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Распоряжение правительства о плане действий по модернизации общего образования на 2011 - 2015 годы. (№1507-Р от 07.09.2010 г.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Утверждение ФГОС основного общего образования (приказ №1897 17.12.2010 г.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Копия screen2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2" name="Rectangle 3" descr=""/>
          <p:cNvPicPr/>
          <p:nvPr/>
        </p:nvPicPr>
        <p:blipFill>
          <a:blip r:embed="rId2"/>
          <a:stretch/>
        </p:blipFill>
        <p:spPr>
          <a:xfrm>
            <a:off x="-115920" y="360360"/>
            <a:ext cx="9047160" cy="117648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6"/>
          <p:cNvSpPr/>
          <p:nvPr/>
        </p:nvSpPr>
        <p:spPr>
          <a:xfrm>
            <a:off x="539640" y="162864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1. ФГОС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чального общего образования </a:t>
            </a:r>
            <a:r>
              <a:rPr b="1" lang="ru-RU" sz="24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утвержден приказом от 6 октября 2009 года №373 (зарегистрирован Минюстом России 22 декабря 2009 года №15785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2. ФГОС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ого общего образования </a:t>
            </a:r>
            <a:r>
              <a:rPr b="1" lang="ru-RU" sz="24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утвержден приказом от 17 декабря 2010 года №1897 (зарегистрирован Минюстом России 01 февраля 2011 года №19644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3. ФГОС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еднего (полного) </a:t>
            </a:r>
            <a:r>
              <a:rPr b="1" lang="ru-RU" sz="24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общего образования – в </a:t>
            </a:r>
            <a:r>
              <a:rPr b="1" lang="ru-RU" sz="24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стадии разработки и обсуждения </a:t>
            </a:r>
            <a:r>
              <a:rPr b="1" lang="ru-RU" sz="24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(внесен  в Совет при Министерстве –в ноябре  2010 года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3:32:50Z</dcterms:created>
  <dc:creator>Пользователь</dc:creator>
  <dc:description/>
  <dc:language>en-US</dc:language>
  <cp:lastModifiedBy>Сергуня</cp:lastModifiedBy>
  <cp:lastPrinted>2013-04-05T17:44:23Z</cp:lastPrinted>
  <dcterms:modified xsi:type="dcterms:W3CDTF">2013-04-05T17:46:11Z</dcterms:modified>
  <cp:revision>18</cp:revision>
  <dc:subject/>
  <dc:title>Внутришкольное обучение</dc:title>
</cp:coreProperties>
</file>