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5675040" y="-3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62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5675040" y="65415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1570-D72A-49DB-AF5A-874FC87B648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41A5-B694-4253-B790-BA09D6862E7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7A3-E9ED-411C-A7F9-455DF1AD9C8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F53B-EBE4-4828-B501-FE0A77393C6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1D18-FD39-4D38-ADB1-B3AF0A249C2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E411-7E98-49F8-B255-4AEB1E9B808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73AC-E6F1-4D23-93A4-657E5EB8DE4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964-1D65-4579-8C31-A8DCB630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1DC-3E50-4FE5-8A96-558AD87B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7D79D-9B43-4438-A4C9-30B48EBD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075A8-8A32-4E3D-8EB5-F629298F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03A89-D991-4438-A074-3FB6DE41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B82A9-5DB3-4B54-8F89-91A92530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5A107-F50D-4F10-A2D0-2E8FEB80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BEF5B-8C1D-4CBF-856D-7E392FB2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58777-C1F3-4635-83B2-E44983AA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88CE6-9C0E-4E74-A1E5-BDBAF31D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6A069-2EC9-4608-B239-E525A757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FC5-0E91-4C32-B3D3-0DB2FC5A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1DA-2313-4133-B9A4-3E52F97E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D837-7450-47E6-AF1C-F140F6DF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8A46-4783-42F6-AAA0-11BCF7FC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4B59-3B8F-47DB-966C-45791EA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E836-A2CE-4902-9EA6-BED57E22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36F9-5580-4729-8BA4-D818A3D7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5287-941D-4543-9746-4117880A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FB68-07D3-479D-8769-0E32522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0A9-A26E-43E2-9B76-38433109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33E3-FB6B-4F37-8A36-D147625A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830-85B3-4E82-BDB2-54439C0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498F-C30E-44BB-A2B1-92E945D5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861B-1CA6-447D-B7CF-FC1FC4D3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CBEA-F4E5-4D90-B7E9-271D4AD2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5EB7-95DC-4A32-8334-81ADF3F4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BBE23-4A92-4A04-819F-ABFE6D0D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2A2D-C69D-43A1-93EC-5F0D5CDB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7E05-2867-41F3-BC58-BCA10E34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6BB1-8BA5-488A-A1E0-E62E8422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31F-E01A-48FB-ACEE-91331A01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5EA4-5F2E-400E-A39D-863738A1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6F99-C953-4332-8850-89D3A483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2309-599E-407F-AD5F-6E8F2BBB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2147-60AC-414E-8BC2-6B0AC0B3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009A-4EBE-4CA1-A2A3-7C20147A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D630-953A-4B15-BB6C-297F99E6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6D29-A604-43EC-8B07-366E6B8E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8A34-3F07-49C3-8034-3E27BAA0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13E0-1BCD-491A-92B8-5EA62D2A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C9CA0-A8B0-41EB-84C5-04DB7024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70D-56A2-4DD0-8044-F824355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D12AE-4D0F-4C95-BA11-3051E429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0F69E-CBA6-47B7-8932-F4C68A1C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B54E4-4D62-4E96-B506-A9603AD9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A16C-9B04-4FE6-944B-2A06465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63C3-3E21-4A11-A787-3FD5D098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5C14-30EF-4C67-812A-EE040AB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E19EA-0550-4FE8-99DB-A575DABA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40BB-BFAD-46EF-A713-0BB8FF07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1079-829A-4CEE-84F3-78B5295B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A957-9EFE-4306-BA21-613A1D07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DDD-A61F-41C5-B36F-B07C44C6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281C-1C9F-4E30-B961-DE1A378C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EFAEF-8045-4AA7-9427-2F661D49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3EEF-2D7A-4BE2-97CD-39640A2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5BD7D-41C8-476F-8873-8AFD12BC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6146-E618-4E7B-B6B0-F7014F85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0392-EE66-455F-9052-7941D30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D334-97A7-4BE3-B4C6-D3DDB3B5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94216-EA36-406C-B377-67646E1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63512-BE87-48B8-B56D-24AFE1C6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47F76-E591-4F95-928D-CF105FFB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832-4CD7-48B2-9E43-5AD9A34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8DDEF-5AA0-46FA-BD2E-70C6ADC5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1B902-9A20-4B45-9787-636CF224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33FB3-13F6-4BDF-8EDC-FB10AE5F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2635B-7908-471A-AFBA-FB41EB05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8D77-99C8-4126-BB0B-09D15FC0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8039A-C2DB-4B0D-A5F2-3343EE00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73EAA-4908-4377-90BD-8FEE71EF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498FF-DD7C-4927-9185-070F9227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EAF47-D3FB-496B-AA01-5D9F765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4D62D-C701-4839-88C3-FD77935E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B2B-F7F0-42F0-B154-B229CF75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44E6-407D-4E26-832F-7A10AB8A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62878-D0D3-418F-BF98-DCD23C1B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45D4-C12C-4341-BDD0-6A9CDE9C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76687-274F-4E61-8605-7BF036C5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EEBB-F6AF-4C55-A3D1-E03FC640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97092-6732-4140-A8E3-862DEBAD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D37EF-9A68-4C96-981E-E3D60067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83EE6-B3C8-4593-A44A-097801BA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CDE20-254B-4A69-AAC9-1BE22D31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2B887-C4CC-4607-9962-9B8BD53C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32E-678D-4D78-9CFA-F5B903A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FE8F2-9F85-4705-9F87-A4D6F179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FD811-B8C4-4532-AF9E-D3A544ED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1AD5F-466D-4644-8B3A-E5E4DA04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E58DB-13B6-4762-BFF8-7C16ACB4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8425F-6EFC-403C-B017-08AC3428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8C9EB-3652-4442-A902-88F839BA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F0B4-958E-4AB0-BD3E-ED21FE11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1D46E-F557-4F05-AD65-F49D7B6B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11F26-A706-493E-8954-31866F10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E7B43-15E4-41D9-A29E-E524F2E2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3DE-4B5C-4F78-8FC2-DD9EB05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1E06-FC81-4BD0-A9C1-6F17CFC2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5C46-5F96-46BD-8090-64FB8F05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E6448-1F04-44DD-8164-95D9BC81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29C07-3BBE-4A46-BAD2-79AA92A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13579-CC4A-4DAD-AC67-85C2EFD0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A9F72-5944-48AD-AA42-D66DB86E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B710F-6A37-4AA1-9ED7-4AF17698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CE4FC-2B51-4272-9830-B7FADF6D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AAF5A-5630-4B7A-A7B5-CA1183A4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77E7E-3D58-4660-807D-D1B36C1B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E1CA-4299-4E08-906D-128A8B8B94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5BAC-18AE-424F-A033-07C28EBA07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B09F-C818-4AA2-B000-520A60A555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1026-5EED-41E2-985C-0617AEAF58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3DCA-B464-4055-8ED4-DB8523370D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E153-486E-4820-A111-F4FF202915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B2AC-6016-4E7F-910E-0E5567CEC7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7A0D-08F0-458B-834A-E068CFD4AA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E620-4809-41FF-A552-34C4677E23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59840" cy="22003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64646"/>
                </a:solidFill>
                <a:latin typeface="Lucida Sans Unicode"/>
              </a:rPr>
              <a:t>Занятие №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Rectangle 3" descr=""/>
          <p:cNvPicPr/>
          <p:nvPr/>
        </p:nvPicPr>
        <p:blipFill>
          <a:blip r:embed="rId2"/>
          <a:stretch/>
        </p:blipFill>
        <p:spPr>
          <a:xfrm>
            <a:off x="189000" y="285840"/>
            <a:ext cx="8540640" cy="13669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пора на опыт советской и российской школы, лучший мировой опы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Результаты предшествующих реформ и проектов (модернизации образования, РЕОИС,  займов МБРР, Приоритетного национального проекта «Образование», различных проектов ФЦПРО и пр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Развитие отечественных научных теорий и концепций(развивающего обучения, «ядра и оболочки» и пр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3" descr=""/>
          <p:cNvPicPr/>
          <p:nvPr/>
        </p:nvPicPr>
        <p:blipFill>
          <a:blip r:embed="rId2"/>
          <a:stretch/>
        </p:blipFill>
        <p:spPr>
          <a:xfrm>
            <a:off x="146160" y="274680"/>
            <a:ext cx="8540640" cy="13651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результатам </a:t>
            </a: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воения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структуре  </a:t>
            </a: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новной образовательной  программ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условиям </a:t>
            </a: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воения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3" descr=""/>
          <p:cNvPicPr/>
          <p:nvPr/>
        </p:nvPicPr>
        <p:blipFill>
          <a:blip r:embed="rId2"/>
          <a:stretch/>
        </p:blipFill>
        <p:spPr>
          <a:xfrm>
            <a:off x="-103320" y="433440"/>
            <a:ext cx="8998200" cy="21207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2500200" y="27147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Личностным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Метапредметным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редметным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4" name="Rectangle 3" descr=""/>
          <p:cNvPicPr/>
          <p:nvPr/>
        </p:nvPicPr>
        <p:blipFill>
          <a:blip r:embed="rId2"/>
          <a:stretch/>
        </p:blipFill>
        <p:spPr>
          <a:xfrm>
            <a:off x="-49320" y="384120"/>
            <a:ext cx="8944200" cy="15303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6058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количеству и наименованию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разделов (НОО-9,ООО-3), в том числе к учебному плану общеобразовательного учреждения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минимальному и максимальному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количеству учебных часов(НОО_от 2904 до 3210 за 4 года, ООО от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</a:rPr>
              <a:t>5267 до 6020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за 5 лет )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одержанию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каждого из разделов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оотношению частей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новной общеобразовательной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рограммы (80/20% для НОО,70/30% ООО)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организации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неурочной деятельност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AC7A-9009-4563-9EEE-0355CD2ACD3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Номер слайда 5"/>
          <p:cNvSpPr/>
          <p:nvPr/>
        </p:nvSpPr>
        <p:spPr>
          <a:xfrm>
            <a:off x="5364000" y="5013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324000" y="189000"/>
            <a:ext cx="849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Lucida Sans Unicode"/>
              </a:rPr>
              <a:t>Требования к структуре ООП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AutoShape 26"/>
          <p:cNvSpPr/>
          <p:nvPr/>
        </p:nvSpPr>
        <p:spPr>
          <a:xfrm>
            <a:off x="250920" y="836640"/>
            <a:ext cx="86421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труктура основной образовательной программ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Lucida Sans Unicode"/>
              </a:rPr>
              <a:t>Начальное и основное общее образован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79280" y="2565360"/>
            <a:ext cx="223200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179280" y="357336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AutoShape 8"/>
          <p:cNvSpPr/>
          <p:nvPr/>
        </p:nvSpPr>
        <p:spPr>
          <a:xfrm>
            <a:off x="2843280" y="2637000"/>
            <a:ext cx="360036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179280" y="443700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732720" y="5300640"/>
            <a:ext cx="216036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лан внеурочной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деятельности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6732720" y="2708280"/>
            <a:ext cx="21603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Учебный план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слов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ализации ОО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179280" y="1844640"/>
            <a:ext cx="2232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Целевой раз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6732720" y="1844640"/>
            <a:ext cx="2151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Организационный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раз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ебный пла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2843280" y="1844640"/>
            <a:ext cx="352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Содержательный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раз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Прямоугольник 15"/>
          <p:cNvSpPr/>
          <p:nvPr/>
        </p:nvSpPr>
        <p:spPr>
          <a:xfrm>
            <a:off x="324000" y="270828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Прямоугольник 16"/>
          <p:cNvSpPr/>
          <p:nvPr/>
        </p:nvSpPr>
        <p:spPr>
          <a:xfrm>
            <a:off x="2916360" y="2708280"/>
            <a:ext cx="36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рограмма развития УУД: включает формирование компетенций в области учебно-исследовательской  и проектной деятельност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Прямоугольник 17"/>
          <p:cNvSpPr/>
          <p:nvPr/>
        </p:nvSpPr>
        <p:spPr>
          <a:xfrm>
            <a:off x="324000" y="357336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нируемые результаты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Прямоугольник 18"/>
          <p:cNvSpPr/>
          <p:nvPr/>
        </p:nvSpPr>
        <p:spPr>
          <a:xfrm>
            <a:off x="324000" y="465300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оценки</a:t>
            </a: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2843280" y="4005360"/>
            <a:ext cx="360036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AutoShape 8"/>
          <p:cNvSpPr/>
          <p:nvPr/>
        </p:nvSpPr>
        <p:spPr>
          <a:xfrm flipV="1">
            <a:off x="2771640" y="4508640"/>
            <a:ext cx="3745080" cy="151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Прямоугольник 25"/>
          <p:cNvSpPr/>
          <p:nvPr/>
        </p:nvSpPr>
        <p:spPr>
          <a:xfrm>
            <a:off x="2916360" y="4005360"/>
            <a:ext cx="35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рограммы учебных предметов, курсов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Прямоугольник 26"/>
          <p:cNvSpPr/>
          <p:nvPr/>
        </p:nvSpPr>
        <p:spPr>
          <a:xfrm>
            <a:off x="2771640" y="4581360"/>
            <a:ext cx="36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рограмма духовно-нравственного развития, воспитания и социализации, включает : духовно-нравственное развитие и воспитание, социальную деятельность,, профориентацию, формирование культуры, здорового и безопасного образа жизни , экологической культуры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Прямоугольник 27"/>
          <p:cNvSpPr/>
          <p:nvPr/>
        </p:nvSpPr>
        <p:spPr>
          <a:xfrm>
            <a:off x="2987640" y="6165720"/>
            <a:ext cx="338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рограмма  работы с обучающимися с ОВЗ, инвалидам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AutoShape 8"/>
          <p:cNvSpPr/>
          <p:nvPr/>
        </p:nvSpPr>
        <p:spPr>
          <a:xfrm>
            <a:off x="2771640" y="6165720"/>
            <a:ext cx="374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6732720" y="4005360"/>
            <a:ext cx="2160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1" name="Rectangle 3" descr=""/>
          <p:cNvPicPr/>
          <p:nvPr/>
        </p:nvPicPr>
        <p:blipFill>
          <a:blip r:embed="rId2"/>
          <a:stretch/>
        </p:blipFill>
        <p:spPr>
          <a:xfrm>
            <a:off x="-231840" y="401760"/>
            <a:ext cx="9199800" cy="15364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1000080" y="221472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Кадровы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Финансово-эконом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Материально-техн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сихолого-педагог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Информационно-метод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9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ucida Sans Unicode"/>
              </a:rPr>
              <a:t>Проблемы отечественного образова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Lucida Sans Unicode"/>
              </a:rPr>
              <a:t>Как ФГОС помогает решить эти проблемы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1" descr=""/>
          <p:cNvPicPr/>
          <p:nvPr/>
        </p:nvPicPr>
        <p:blipFill>
          <a:blip r:embed="rId1"/>
          <a:stretch/>
        </p:blipFill>
        <p:spPr>
          <a:xfrm>
            <a:off x="457200" y="585720"/>
            <a:ext cx="8229600" cy="1133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Задание: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ределение значимости нового образовательного стандарта для детей и педагогов (форма работы: в мини-группах): слушателям предлагается сформулировать не менее 3-х преимуществ, которые обеспечивает ФГОС для разных участников образовательного проце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педагог, ученик).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опрос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Какие трудности могут возникнуть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опрос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пособы их предупреждения, преодолени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76320" y="1571760"/>
          <a:ext cx="9067680" cy="3352680"/>
        </p:xfrm>
        <a:graphic>
          <a:graphicData uri="http://schemas.openxmlformats.org/drawingml/2006/table">
            <a:tbl>
              <a:tblPr/>
              <a:tblGrid>
                <a:gridCol w="1928520"/>
                <a:gridCol w="2357640"/>
                <a:gridCol w="642960"/>
                <a:gridCol w="642960"/>
                <a:gridCol w="642960"/>
                <a:gridCol w="428400"/>
                <a:gridCol w="500040"/>
                <a:gridCol w="357480"/>
                <a:gridCol w="357120"/>
                <a:gridCol w="423720"/>
                <a:gridCol w="436680"/>
                <a:gridCol w="349200"/>
              </a:tblGrid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рабо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ящие 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ч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выполнения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ект дорожной карты на 2013-2020г.г.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ект плана разработки ООП ОО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оставить примерный перечень единичных проектов, которые предлагает школьная команда в качестве итоговых  работ на курсах повышения квалифика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йти электронное тестирование по основным теоретическим вопросам, вынесенным на внутришкольное (заочное обучение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0" y="1413000"/>
          <a:ext cx="9144000" cy="5729040"/>
        </p:xfrm>
        <a:graphic>
          <a:graphicData uri="http://schemas.openxmlformats.org/drawingml/2006/table">
            <a:tbl>
              <a:tblPr/>
              <a:tblGrid>
                <a:gridCol w="684360"/>
                <a:gridCol w="6191280"/>
                <a:gridCol w="736560"/>
                <a:gridCol w="799920"/>
                <a:gridCol w="731880"/>
              </a:tblGrid>
              <a:tr h="6426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ек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 (инвариантный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е государственные образовательные стандарты: назначение, структура, 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в контексте приоритетов государственной политики в образовании. Содержательно-методологические основы стандартов основного общего образования. Базовые документы станда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как инновационный проект. Основные этапы реализации инновационн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образовательная программа ООО как комплексны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е и защита единичных 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рожная карта» введения ФГОС в ОУ. План саморазвития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6652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цените, пожалуйста, степень своей готовности к введению ФГОС по отдельным компонентам по 5-ти балльной шкале («1» - …, «5» - …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0" y="3357720"/>
          <a:ext cx="9144000" cy="3363840"/>
        </p:xfrm>
        <a:graphic>
          <a:graphicData uri="http://schemas.openxmlformats.org/drawingml/2006/table">
            <a:tbl>
              <a:tblPr/>
              <a:tblGrid>
                <a:gridCol w="5940360"/>
                <a:gridCol w="576360"/>
                <a:gridCol w="576360"/>
                <a:gridCol w="647640"/>
                <a:gridCol w="718920"/>
                <a:gridCol w="684360"/>
              </a:tblGrid>
              <a:tr h="8413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компетен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он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нитив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онально-технологически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31" name="Управляющая кнопка: назад 4">
            <a:hlinkClick r:id="rId2" action="ppaction://hlinksldjump"/>
          </p:cNvPr>
          <p:cNvSpPr/>
          <p:nvPr/>
        </p:nvSpPr>
        <p:spPr>
          <a:xfrm>
            <a:off x="8672400" y="6500880"/>
            <a:ext cx="471600" cy="357120"/>
          </a:xfrm>
          <a:custGeom>
            <a:avLst/>
            <a:gdLst>
              <a:gd name="textAreaLeft" fmla="*/ 23040 w 471600"/>
              <a:gd name="textAreaRight" fmla="*/ 448560 w 4716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8517" h="21600">
                <a:moveTo>
                  <a:pt x="0" y="0"/>
                </a:moveTo>
                <a:lnTo>
                  <a:pt x="28517" y="0"/>
                </a:lnTo>
                <a:lnTo>
                  <a:pt x="28517" y="21600"/>
                </a:lnTo>
                <a:lnTo>
                  <a:pt x="0" y="21600"/>
                </a:lnTo>
                <a:close/>
              </a:path>
              <a:path fill="lightenLess" w="28517" h="21600">
                <a:moveTo>
                  <a:pt x="0" y="0"/>
                </a:moveTo>
                <a:lnTo>
                  <a:pt x="28517" y="0"/>
                </a:lnTo>
                <a:lnTo>
                  <a:pt x="27117" y="1400"/>
                </a:lnTo>
                <a:lnTo>
                  <a:pt x="1400" y="1400"/>
                </a:lnTo>
                <a:close/>
              </a:path>
              <a:path fill="darken" w="28517" h="21600">
                <a:moveTo>
                  <a:pt x="28517" y="0"/>
                </a:moveTo>
                <a:lnTo>
                  <a:pt x="28517" y="21600"/>
                </a:lnTo>
                <a:lnTo>
                  <a:pt x="27117" y="20200"/>
                </a:lnTo>
                <a:lnTo>
                  <a:pt x="27117" y="1400"/>
                </a:lnTo>
                <a:close/>
              </a:path>
              <a:path fill="darkenLess" w="28517" h="21600">
                <a:moveTo>
                  <a:pt x="28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17" y="20200"/>
                </a:lnTo>
                <a:close/>
              </a:path>
              <a:path fill="lighten" w="28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17" h="21600">
                <a:moveTo>
                  <a:pt x="7252" y="10800"/>
                </a:moveTo>
                <a:lnTo>
                  <a:pt x="21265" y="3794"/>
                </a:lnTo>
                <a:lnTo>
                  <a:pt x="21265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469800" y="-7920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и урока в связи с ФГОС, посещение уроков, реализующих системно-деятельностный подхо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личия стандартов начального и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актическая помощь в разработке основной  программ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зультаты апробации ФГОС в начальной школ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рганизация работы со слабоуспевающими учениками в рамках обучения по новым стандарта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и стандартов второго поколения в сравнении со стандартами первого поколен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верить свои возможности в освоении ФГОС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и введения ФГОС: урочная и внеурочная деятельность по предмету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истема оценивания по новым стандарта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дготовка рабочих програм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ормативно-правовые документы, которые необходимо разработать (для ОУ, для педагога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ль службы сопровождения во введении ФГОС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граммы внеурочной деятельност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тоговая аттестация выпускников основной школ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рганизация методической работы по введению ФГОС (сетевое взаимодействие, внутришкольное обучение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истема контроля и оценивания обучающихся, форма итоговой аттестации выпускников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Федеральные государственные образовательны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дарты 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го образования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в контексте государственной политики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6" descr=""/>
          <p:cNvPicPr/>
          <p:nvPr/>
        </p:nvPicPr>
        <p:blipFill>
          <a:blip r:embed="rId1"/>
          <a:stretch/>
        </p:blipFill>
        <p:spPr>
          <a:xfrm>
            <a:off x="115920" y="285840"/>
            <a:ext cx="8540640" cy="13669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5480" y="1285560"/>
            <a:ext cx="8715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1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Концепция модернизации российского образования на период до 2010 год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ts val="216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Распоряжение правительства №1756-р от 29.12 2001г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4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Федеральный компонент государственных образовательных стандартов начального общего, основного общего, среднего (полного) общего образования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ts val="216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риказ Минобр России № 1019 от 5 марта 2004г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15920" y="244440"/>
            <a:ext cx="8540640" cy="1359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285840" y="12859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6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Социологические исследования образовательных потребност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Концепция ФГО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Изменения в закон «Об образовании» (Ст.№7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Разработка документов и материалов обеспечивающих ФГО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8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Апробация ФГОС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9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остановление правительства о порядке разработки и утверждения ФГО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Утверждение ФГОС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15920" y="244440"/>
            <a:ext cx="8540640" cy="1359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285480" y="128592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0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Национальная инициатива «Наша новая школа»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Введение ФГОС в начальной школе (в инициативном порядке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Создание координационного совета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римерная основная образовательная программа начального общего образова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Распоряжение правительства о плане действий по модернизации общего образования на 2011 - 2015 годы. (№1507-Р от 07.09.2010 г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Утверждение ФГОС основного общего образования (приказ №1897 17.12.2010 г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Копия screen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3" descr=""/>
          <p:cNvPicPr/>
          <p:nvPr/>
        </p:nvPicPr>
        <p:blipFill>
          <a:blip r:embed="rId2"/>
          <a:stretch/>
        </p:blipFill>
        <p:spPr>
          <a:xfrm>
            <a:off x="-115920" y="360360"/>
            <a:ext cx="9047160" cy="11764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539640" y="162864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1. ФГО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ого общего образования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утвержден приказом от 6 октября 2009 года №373 (зарегистрирован Минюстом России 22 декабря 2009 года №15785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2. ФГО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го общего образования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утвержден приказом от 17 декабря 2010 года №1897 (зарегистрирован Минюстом России 01 февраля 2011 года №19644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3. ФГО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его (полного)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бщего образования – в 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стадии разработки и обсуждения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(внесен  в Совет при Министерстве –в ноябре  2010 год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32:50Z</dcterms:created>
  <dc:creator>Пользователь</dc:creator>
  <dc:description/>
  <dc:language>en-US</dc:language>
  <cp:lastModifiedBy>Сергуня</cp:lastModifiedBy>
  <cp:lastPrinted>2013-04-05T17:44:23Z</cp:lastPrinted>
  <dcterms:modified xsi:type="dcterms:W3CDTF">2013-04-05T17:46:11Z</dcterms:modified>
  <cp:revision>18</cp:revision>
  <dc:subject/>
  <dc:title>Внутришкольное обучение</dc:title>
</cp:coreProperties>
</file>