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5675040" y="-3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628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5675040" y="65415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5F83-0768-4FD4-BA1E-0EC40A0EF45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2297-1236-480E-914A-70627B1EC3E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D922-9CBD-47CD-872F-310E5D56376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F781-6059-41AB-9F35-A22F71C5BBDB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5AFF-7CD4-4F17-B6B0-125A88ABD8A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32A1-4B44-4A97-B77D-7EABECCB4CD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2CB9-B2B4-47AD-B9B5-04A0B4DA09D8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6280" cy="2584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CA0-6E53-4ACE-BCB5-4AD12CE3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9F9-EE35-44FA-B341-486963F9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09A7A-F5D6-4B34-A409-7DD5129B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06423-03EA-4DBD-952F-F157D177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2C72B-5CF4-4BCB-B397-D69D46C1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956CA-CD5B-406F-9F0C-1304E936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18358-04AA-4A20-BC2A-3EF1C7FC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E3634-E1BA-48E3-BCA5-396ED29B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5F34D-8AC2-4674-873F-0B4F7394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90D3A-9ADB-47D5-A3A2-E1320AF1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BD577-A050-44BC-98BA-E7130E37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811-5DD9-40B0-B55A-EF761A95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91F-B72F-450A-83BE-94E7BF91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51BB-7A48-49E5-8278-E890A7BD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1B0A-0AC9-42BA-9A4C-0DA0F449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78A0-03F1-43B5-A823-46A460A4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1875-6D41-4864-8358-A4F20544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2A40-83C6-44E2-AC1C-922AE0F0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5223-31A0-4B21-A223-A5326F4F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A629-3213-4418-B52D-CCAB2627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780-516A-494B-B285-E9B0A504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C9C0-909C-4BB5-BAD4-57D57807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9922-03C4-4071-8A10-C1D90BDF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CEDD-49EF-4FCF-938B-0756563E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02C8-A580-41DA-9100-A19582D4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8B16-678D-4EDD-8C0F-4EC0A03D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6C674-6DE2-4FC3-910D-05AF9DF9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E9D95-4FD4-4137-80E1-4A55B23C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E319-96C9-4A41-B242-E29AAB73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F8B14-F6BA-4FCB-8CFF-F464A36A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79F2F-FFBE-4FDD-9308-98617841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CFB-B7F1-410B-A7F2-017574AE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9D44C-7EB2-4E28-A72D-37926245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B32A-46B0-49CB-A1D0-2B4D0E8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5D1D-D857-4D22-9926-C8193D62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D113-E283-4E70-8CA3-FB1CA933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6BA4-339A-4E50-8B7D-CB3F15C4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A93E-F1E8-4170-BFFF-2BB38706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4F064-1F18-4681-83E5-9AF1EE5D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712EA-72A7-4200-8953-16D234F9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BA89-E649-40F9-BF73-C9640A7A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355A7-95F2-4436-9CA1-ADF91E15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4D4-E025-477A-B53E-5CC51131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D2BC4-5A32-4632-BFAF-8E8BA9D1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4294E-9630-4528-8FC6-84F6C8CD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00F95-A638-418C-9AEC-B40AFF2A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55CFE-C7D0-4FD6-8166-4A7A8AA5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1BACC-2E40-4799-8583-05444008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F27E6-51E4-4F5A-948E-992CFA93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D7E35-1CCE-425A-8B5E-BD78B811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0AA94-6C23-43C5-A8ED-D1464387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74175-FCC4-4E93-A355-D279EA1B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DC3B4-C6A8-4E76-AC9F-5035E1D9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9B6-B3BB-40FE-BA0E-48300320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B08DE-F9D7-4AEB-B44B-043C67DF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7A6F2-1E5E-47B0-8661-EF864807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FCF07-2E9C-4ABA-903D-07B97236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7DE9F-5813-4D6E-A75A-8514D34D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6DE35-9641-4E0E-922C-F64AEF05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0D4F-E968-42E4-B1E8-C6580FBD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2C9B7-FA85-4BDC-9252-57256038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74D96-52D0-40A1-A8B4-15982D64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F389C-0CFB-4941-8354-2E4F8C61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778F-FBBF-48C8-999B-5BBE5376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15C-5C0F-4585-9601-6FD006F5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6599B-7883-4C18-9AAC-EAAFC4D1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ECFB3-0E14-4B4E-B2A7-267354D2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87545-C1C3-4FE1-9AC3-10431FD1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33E81-93C3-479D-81B2-F76415FE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88AAE-11BA-47E6-9D05-3C86033C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8860E-40B9-4C32-8C97-D861FEC9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C8317-988A-45A1-A8F0-FC11AF45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C37C6-BB7E-4B06-A573-746153FA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5204F-71A9-4545-AD69-BDBB7E5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C7A12-0B48-46D0-B6DB-0E03F46E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12F-C97C-4C81-AC67-15BE49AF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ADD20-F84E-4A9E-A350-C60B4E68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71799-8DF6-4421-8108-45ED95E6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11E90-9B47-46AD-B059-A5E1455C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2B833-B9A2-424F-9881-4E368E55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B0E5E-48D4-45F9-8733-87CAD52A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C210E-5D88-414C-8BB4-FC13EB52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F5642-4B13-45E4-870C-3051767A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831C4-3E1F-4AB0-800C-8764F26A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E39C7-0434-48FD-91C0-82DEBC24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77810-1728-4840-8B41-ECE66F5F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425-CFE1-4515-9D58-132A4F75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26570-41FC-4F92-98E3-B8E78564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DD9B4-B051-456A-912E-9AAD9F8B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AFFE9-67A1-451D-BADE-9B4A484E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F4042-C1C6-4A37-9AB7-88F93DCB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75C18-8326-40AE-9C4F-01B97985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AEBE8-6D79-465D-921C-6D6E78DD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70930-0A38-4834-B12C-DEFA1137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F5BEA-CB78-41A1-ACD6-ECDD9881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25C78-98A9-43B8-B8AB-522A317C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6B4BE-F964-453A-A599-3ADFEF89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AED-C6CD-466A-90CE-6CC9D73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4C3B7-8278-4232-8080-D09A8BA7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86487-E848-481A-BB28-9A25204E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9CFEA-3800-45EE-9E5D-9F3562DD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799B6-1765-4F18-B177-9C805248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E45DC-1DB2-4B16-B59F-50CF676D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A601C-3C2A-478C-97BB-2D43B4C1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D0773-6264-4B3E-AA43-5F0500F6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DDA54-C5C5-4294-A02A-73FB87FE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71EDB-2F87-41BA-85EB-69672570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1B5E8-E9DC-4845-A6B9-E07892B4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AE25-AE50-4F12-8601-AE7DAEF661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1CDB-6C3B-40B0-BF54-5244254337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BA99-8CF8-4288-A5D3-35308077A0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D36D-AD3A-4D10-BE74-313D885AB3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F633-60CD-43A7-8DE0-67A39C59B5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5DAC-C395-43EE-9248-963CD2EEF3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B15C-F5D7-406E-ACAE-0DB67B7025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D924-F6FC-4DCC-8796-A1BFD4F21A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9D21-8BE4-46C8-B329-7697A99DC3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259840" cy="22003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64646"/>
                </a:solidFill>
                <a:latin typeface="Lucida Sans Unicode"/>
              </a:rPr>
              <a:t>Занятие №2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5" name="Rectangle 3" descr=""/>
          <p:cNvPicPr/>
          <p:nvPr/>
        </p:nvPicPr>
        <p:blipFill>
          <a:blip r:embed="rId2"/>
          <a:stretch/>
        </p:blipFill>
        <p:spPr>
          <a:xfrm>
            <a:off x="189000" y="285840"/>
            <a:ext cx="8540640" cy="13669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пора на опыт советской и российской школы, лучший мировой опы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Результаты предшествующих реформ и проектов (модернизации образования, РЕОИС,  займов МБРР, Приоритетного национального проекта «Образование», различных проектов ФЦПРО и пр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Развитие отечественных научных теорий и концепций(развивающего обучения, «ядра и оболочки» и пр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8" name="Rectangle 3" descr=""/>
          <p:cNvPicPr/>
          <p:nvPr/>
        </p:nvPicPr>
        <p:blipFill>
          <a:blip r:embed="rId2"/>
          <a:stretch/>
        </p:blipFill>
        <p:spPr>
          <a:xfrm>
            <a:off x="146160" y="274680"/>
            <a:ext cx="8540640" cy="136512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ния к результатам </a:t>
            </a: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своения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ния к структуре  </a:t>
            </a: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сновной образовательной  программ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бования к условиям </a:t>
            </a:r>
            <a:r>
              <a:rPr b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своения основной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1" name="Rectangle 3" descr=""/>
          <p:cNvPicPr/>
          <p:nvPr/>
        </p:nvPicPr>
        <p:blipFill>
          <a:blip r:embed="rId2"/>
          <a:stretch/>
        </p:blipFill>
        <p:spPr>
          <a:xfrm>
            <a:off x="-103320" y="433440"/>
            <a:ext cx="8998200" cy="21207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2500200" y="271476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Личностным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Метапредметным</a:t>
            </a:r>
            <a:endParaRPr b="0" lang="en-US" sz="3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Предметным</a:t>
            </a:r>
            <a:r>
              <a:rPr b="1" lang="ru-RU" sz="40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4" name="Rectangle 3" descr=""/>
          <p:cNvPicPr/>
          <p:nvPr/>
        </p:nvPicPr>
        <p:blipFill>
          <a:blip r:embed="rId2"/>
          <a:stretch/>
        </p:blipFill>
        <p:spPr>
          <a:xfrm>
            <a:off x="-49320" y="384120"/>
            <a:ext cx="8944200" cy="15303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94920" y="1628640"/>
            <a:ext cx="86058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количеству и наименованию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разделов (НОО-9,ООО-3), в том числе к учебному плану общеобразовательного учреждения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минимальному и максимальному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количеству учебных часов(НОО_от 2904 до 3210 за 4 года, ООО от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</a:rPr>
              <a:t>5267 до 6020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за 5 лет )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содержанию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каждого из разделов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соотношению частей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сновной общеобразовательной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программы (80/20% для НОО,70/30% ООО)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организации </a:t>
            </a:r>
            <a:r>
              <a:rPr b="1" lang="ru-RU" sz="22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неурочной деятельности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C5FB-886C-429A-951E-3D200C63541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Номер слайда 5"/>
          <p:cNvSpPr/>
          <p:nvPr/>
        </p:nvSpPr>
        <p:spPr>
          <a:xfrm>
            <a:off x="5364000" y="5013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Rectangle 23"/>
          <p:cNvSpPr/>
          <p:nvPr/>
        </p:nvSpPr>
        <p:spPr>
          <a:xfrm>
            <a:off x="324000" y="189000"/>
            <a:ext cx="8496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Lucida Sans Unicode"/>
              </a:rPr>
              <a:t>Требования к структуре ООП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AutoShape 26"/>
          <p:cNvSpPr/>
          <p:nvPr/>
        </p:nvSpPr>
        <p:spPr>
          <a:xfrm>
            <a:off x="250920" y="836640"/>
            <a:ext cx="864216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труктура основной образовательной программ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Lucida Sans Unicode"/>
              </a:rPr>
              <a:t>Начальное и основное общее образовани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79280" y="2565360"/>
            <a:ext cx="2232000" cy="719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179280" y="3573360"/>
            <a:ext cx="2232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AutoShape 8"/>
          <p:cNvSpPr/>
          <p:nvPr/>
        </p:nvSpPr>
        <p:spPr>
          <a:xfrm>
            <a:off x="2843280" y="2637000"/>
            <a:ext cx="360036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179280" y="4437000"/>
            <a:ext cx="2232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732720" y="5300640"/>
            <a:ext cx="216036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лан внеурочной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деятельности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6732720" y="2708280"/>
            <a:ext cx="216036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Учебный план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слов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ализации ОО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AutoShape 8"/>
          <p:cNvSpPr/>
          <p:nvPr/>
        </p:nvSpPr>
        <p:spPr>
          <a:xfrm>
            <a:off x="179280" y="1844640"/>
            <a:ext cx="2232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Целевой разде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6732720" y="1844640"/>
            <a:ext cx="2151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Организационный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разде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ебный пла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2843280" y="1844640"/>
            <a:ext cx="352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Содержательный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Lucida Sans Unicode"/>
              </a:rPr>
              <a:t>раздел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Прямоугольник 15"/>
          <p:cNvSpPr/>
          <p:nvPr/>
        </p:nvSpPr>
        <p:spPr>
          <a:xfrm>
            <a:off x="324000" y="270828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ояснительная записка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Прямоугольник 16"/>
          <p:cNvSpPr/>
          <p:nvPr/>
        </p:nvSpPr>
        <p:spPr>
          <a:xfrm>
            <a:off x="2916360" y="2708280"/>
            <a:ext cx="360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рограмма развития УУД: включает формирование компетенций в области учебно-исследовательской  и проектной деятельност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Прямоугольник 17"/>
          <p:cNvSpPr/>
          <p:nvPr/>
        </p:nvSpPr>
        <p:spPr>
          <a:xfrm>
            <a:off x="324000" y="357336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ланируемые результаты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Прямоугольник 18"/>
          <p:cNvSpPr/>
          <p:nvPr/>
        </p:nvSpPr>
        <p:spPr>
          <a:xfrm>
            <a:off x="324000" y="465300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оценки</a:t>
            </a: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AutoShape 8"/>
          <p:cNvSpPr/>
          <p:nvPr/>
        </p:nvSpPr>
        <p:spPr>
          <a:xfrm>
            <a:off x="2843280" y="4005360"/>
            <a:ext cx="360036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AutoShape 8"/>
          <p:cNvSpPr/>
          <p:nvPr/>
        </p:nvSpPr>
        <p:spPr>
          <a:xfrm flipV="1">
            <a:off x="2771640" y="4508640"/>
            <a:ext cx="3745080" cy="151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Прямоугольник 25"/>
          <p:cNvSpPr/>
          <p:nvPr/>
        </p:nvSpPr>
        <p:spPr>
          <a:xfrm>
            <a:off x="2916360" y="4005360"/>
            <a:ext cx="35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рограммы учебных предметов, курсов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Прямоугольник 26"/>
          <p:cNvSpPr/>
          <p:nvPr/>
        </p:nvSpPr>
        <p:spPr>
          <a:xfrm>
            <a:off x="2771640" y="4581360"/>
            <a:ext cx="36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рограмма духовно-нравственного развития, воспитания и социализации, включает : духовно-нравственное развитие и воспитание, социальную деятельность,, профориентацию, формирование культуры, здорового и безопасного образа жизни , экологической культуры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Прямоугольник 27"/>
          <p:cNvSpPr/>
          <p:nvPr/>
        </p:nvSpPr>
        <p:spPr>
          <a:xfrm>
            <a:off x="2987640" y="6165720"/>
            <a:ext cx="338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Программа  работы с обучающимися с ОВЗ, инвалидам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AutoShape 8"/>
          <p:cNvSpPr/>
          <p:nvPr/>
        </p:nvSpPr>
        <p:spPr>
          <a:xfrm>
            <a:off x="2771640" y="6165720"/>
            <a:ext cx="374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AutoShape 8"/>
          <p:cNvSpPr/>
          <p:nvPr/>
        </p:nvSpPr>
        <p:spPr>
          <a:xfrm>
            <a:off x="6732720" y="4005360"/>
            <a:ext cx="2160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Копия screen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1" name="Rectangle 3" descr=""/>
          <p:cNvPicPr/>
          <p:nvPr/>
        </p:nvPicPr>
        <p:blipFill>
          <a:blip r:embed="rId2"/>
          <a:stretch/>
        </p:blipFill>
        <p:spPr>
          <a:xfrm>
            <a:off x="-231840" y="401760"/>
            <a:ext cx="9199800" cy="15364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1000080" y="2214720"/>
            <a:ext cx="77868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Кадровы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Финансово-экономически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Материально-технически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Психолого-педагогически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341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Информационно-методически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9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Lucida Sans Unicode"/>
              </a:rPr>
              <a:t>Проблемы отечественного образова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Lucida Sans Unicode"/>
              </a:rPr>
              <a:t>Как ФГОС помогает решить эти проблемы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1" descr=""/>
          <p:cNvPicPr/>
          <p:nvPr/>
        </p:nvPicPr>
        <p:blipFill>
          <a:blip r:embed="rId1"/>
          <a:stretch/>
        </p:blipFill>
        <p:spPr>
          <a:xfrm>
            <a:off x="457200" y="585720"/>
            <a:ext cx="8229600" cy="11336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Задание: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ределение значимости нового образовательного стандарта для детей и педагогов (форма работы: в мини-группах): слушателям предлагается сформулировать не менее 3-х преимуществ, которые обеспечивает ФГОС для разных участников образовательного процес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педагог, ученик).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Вопрос: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Какие трудности могут возникнуть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Вопрос: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пособы их предупреждения, преодоления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76320" y="1571760"/>
          <a:ext cx="9067680" cy="3352680"/>
        </p:xfrm>
        <a:graphic>
          <a:graphicData uri="http://schemas.openxmlformats.org/drawingml/2006/table">
            <a:tbl>
              <a:tblPr/>
              <a:tblGrid>
                <a:gridCol w="1928520"/>
                <a:gridCol w="2357640"/>
                <a:gridCol w="642960"/>
                <a:gridCol w="642960"/>
                <a:gridCol w="642960"/>
                <a:gridCol w="428400"/>
                <a:gridCol w="500040"/>
                <a:gridCol w="357480"/>
                <a:gridCol w="357120"/>
                <a:gridCol w="423720"/>
                <a:gridCol w="436680"/>
                <a:gridCol w="349200"/>
              </a:tblGrid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ч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ч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ы работ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ящие 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ч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выполнения раб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rowSpan="3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ект дорожной карты на 2013-2020г.г.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ект плана разработки ООП ОО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оставить примерный перечень единичных проектов, которые предлагает школьная команда в качестве итоговых  работ на курсах повышения квалификаци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йти электронное тестирование по основным теоретическим вопросам, вынесенным на внутришкольное (заочное обучение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0" y="158760"/>
            <a:ext cx="9144000" cy="149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0" y="1413000"/>
          <a:ext cx="9144000" cy="5729040"/>
        </p:xfrm>
        <a:graphic>
          <a:graphicData uri="http://schemas.openxmlformats.org/drawingml/2006/table">
            <a:tbl>
              <a:tblPr/>
              <a:tblGrid>
                <a:gridCol w="684360"/>
                <a:gridCol w="6191280"/>
                <a:gridCol w="736560"/>
                <a:gridCol w="799920"/>
                <a:gridCol w="731880"/>
              </a:tblGrid>
              <a:tr h="6426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Лек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1 (инвариантный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е государственные образовательные стандарты: назначение, структура, 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в контексте приоритетов государственной политики в образовании. Содержательно-методологические основы стандартов основного общего образования. Базовые документы стандар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как инновационный проект. Основные этапы реализации инновационн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образовательная программа ООО как комплексны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ирование и защита единичных 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орожная карта» введения ФГОС в ОУ. План саморазвития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6652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цените, пожалуйста, степень своей готовности к введению ФГОС по отдельным компонентам по 5-ти балльной шкале («1» - …, «5» - …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0" y="3357720"/>
          <a:ext cx="9144000" cy="3363840"/>
        </p:xfrm>
        <a:graphic>
          <a:graphicData uri="http://schemas.openxmlformats.org/drawingml/2006/table">
            <a:tbl>
              <a:tblPr/>
              <a:tblGrid>
                <a:gridCol w="5940360"/>
                <a:gridCol w="576360"/>
                <a:gridCol w="576360"/>
                <a:gridCol w="647640"/>
                <a:gridCol w="718920"/>
                <a:gridCol w="684360"/>
              </a:tblGrid>
              <a:tr h="8413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компетент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онны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нитивны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онально-технологически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ый компон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31" name="Управляющая кнопка: назад 4">
            <a:hlinkClick r:id="rId2" action="ppaction://hlinksldjump"/>
          </p:cNvPr>
          <p:cNvSpPr/>
          <p:nvPr/>
        </p:nvSpPr>
        <p:spPr>
          <a:xfrm>
            <a:off x="8672400" y="6500880"/>
            <a:ext cx="471600" cy="357120"/>
          </a:xfrm>
          <a:custGeom>
            <a:avLst/>
            <a:gdLst>
              <a:gd name="textAreaLeft" fmla="*/ 23040 w 471600"/>
              <a:gd name="textAreaRight" fmla="*/ 448560 w 4716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8517" h="21600">
                <a:moveTo>
                  <a:pt x="0" y="0"/>
                </a:moveTo>
                <a:lnTo>
                  <a:pt x="28517" y="0"/>
                </a:lnTo>
                <a:lnTo>
                  <a:pt x="28517" y="21600"/>
                </a:lnTo>
                <a:lnTo>
                  <a:pt x="0" y="21600"/>
                </a:lnTo>
                <a:close/>
              </a:path>
              <a:path fill="lightenLess" w="28517" h="21600">
                <a:moveTo>
                  <a:pt x="0" y="0"/>
                </a:moveTo>
                <a:lnTo>
                  <a:pt x="28517" y="0"/>
                </a:lnTo>
                <a:lnTo>
                  <a:pt x="27117" y="1400"/>
                </a:lnTo>
                <a:lnTo>
                  <a:pt x="1400" y="1400"/>
                </a:lnTo>
                <a:close/>
              </a:path>
              <a:path fill="darken" w="28517" h="21600">
                <a:moveTo>
                  <a:pt x="28517" y="0"/>
                </a:moveTo>
                <a:lnTo>
                  <a:pt x="28517" y="21600"/>
                </a:lnTo>
                <a:lnTo>
                  <a:pt x="27117" y="20200"/>
                </a:lnTo>
                <a:lnTo>
                  <a:pt x="27117" y="1400"/>
                </a:lnTo>
                <a:close/>
              </a:path>
              <a:path fill="darkenLess" w="28517" h="21600">
                <a:moveTo>
                  <a:pt x="28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17" y="20200"/>
                </a:lnTo>
                <a:close/>
              </a:path>
              <a:path fill="lighten" w="28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517" h="21600">
                <a:moveTo>
                  <a:pt x="7252" y="10800"/>
                </a:moveTo>
                <a:lnTo>
                  <a:pt x="21265" y="3794"/>
                </a:lnTo>
                <a:lnTo>
                  <a:pt x="21265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469800" y="-7920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сти урока в связи с ФГОС, посещение уроков, реализующих системно-деятельностный подхо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личия стандартов начального и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актическая помощь в разработке основной  программы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зультаты апробации ФГОС в начальной школе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рганизация работы со слабоуспевающими учениками в рамках обучения по новым стандарта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сти стандартов второго поколения в сравнении со стандартами первого поколения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верить свои возможности в освоении ФГОС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сти введения ФГОС: урочная и внеурочная деятельность по предмету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истема оценивания по новым стандарта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дготовка рабочих програм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ормативно-правовые документы, которые необходимо разработать (для ОУ, для педагога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оль службы сопровождения во введении ФГОС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граммы внеурочной деятельности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тоговая аттестация выпускников основной школы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рганизация методической работы по введению ФГОС (сетевое взаимодействие, внутришкольное обучение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истема контроля и оценивания обучающихся, форма итоговой аттестации выпускников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Федеральные государственные образовательные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ндарты </a:t>
            </a:r>
            <a:r>
              <a:rPr b="1" lang="ru-RU" sz="40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го образования</a:t>
            </a:r>
            <a:r>
              <a:rPr b="1" lang="ru-RU" sz="40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в контексте государственной политики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6" descr=""/>
          <p:cNvPicPr/>
          <p:nvPr/>
        </p:nvPicPr>
        <p:blipFill>
          <a:blip r:embed="rId1"/>
          <a:stretch/>
        </p:blipFill>
        <p:spPr>
          <a:xfrm>
            <a:off x="115920" y="285840"/>
            <a:ext cx="8540640" cy="13669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85480" y="1285560"/>
            <a:ext cx="87152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1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Концепция модернизации российского образования на период до 2010 год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ts val="216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Распоряжение правительства №1756-р от 29.12 2001г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4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Федеральный компонент государственных образовательных стандартов начального общего, основного общего, среднего (полного) общего образования</a:t>
            </a: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ts val="216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Приказ Минобр России № 1019 от 5 марта 2004г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15920" y="244440"/>
            <a:ext cx="8540640" cy="1359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285840" y="128592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6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Социологические исследования образовательных потребносте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Концепция ФГО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7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Изменения в закон «Об образовании» (Ст.№7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Разработка документов и материалов обеспечивающих ФГО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8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Апробация ФГОС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9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Постановление правительства о порядке разработки и утверждения ФГО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Утверждение ФГОС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115920" y="244440"/>
            <a:ext cx="8540640" cy="1359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285480" y="1285920"/>
            <a:ext cx="837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0 го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Национальная инициатива «Наша новая школа»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Введение ФГОС в начальной школе (в инициативном порядке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Создание координационного совета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Примерная основная образовательная программа начального общего образова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Распоряжение правительства о плане действий по модернизации общего образования на 2011 - 2015 годы. (№1507-Р от 07.09.2010 г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Утверждение ФГОС основного общего образования (приказ №1897 17.12.2010 г.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Копия screen2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2" name="Rectangle 3" descr=""/>
          <p:cNvPicPr/>
          <p:nvPr/>
        </p:nvPicPr>
        <p:blipFill>
          <a:blip r:embed="rId2"/>
          <a:stretch/>
        </p:blipFill>
        <p:spPr>
          <a:xfrm>
            <a:off x="-115920" y="360360"/>
            <a:ext cx="9047160" cy="11764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6"/>
          <p:cNvSpPr/>
          <p:nvPr/>
        </p:nvSpPr>
        <p:spPr>
          <a:xfrm>
            <a:off x="539640" y="162864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1. ФГОС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ьного общего образования </a:t>
            </a: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утвержден приказом от 6 октября 2009 года №373 (зарегистрирован Минюстом России 22 декабря 2009 года №15785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2. ФГОС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ого общего образования </a:t>
            </a: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утвержден приказом от 17 декабря 2010 года №1897 (зарегистрирован Минюстом России 01 февраля 2011 года №19644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3. ФГОС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него (полного) </a:t>
            </a: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общего образования – в </a:t>
            </a:r>
            <a:r>
              <a:rPr b="1" lang="ru-RU" sz="2400" spc="-1" strike="noStrike">
                <a:solidFill>
                  <a:srgbClr val="110397"/>
                </a:solidFill>
                <a:latin typeface="Times New Roman"/>
                <a:ea typeface="Times New Roman"/>
              </a:rPr>
              <a:t>стадии разработки и обсуждения </a:t>
            </a:r>
            <a:r>
              <a:rPr b="1" lang="ru-RU" sz="24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(внесен  в Совет при Министерстве –в ноябре  2010 год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3:32:50Z</dcterms:created>
  <dc:creator>Пользователь</dc:creator>
  <dc:description/>
  <dc:language>en-US</dc:language>
  <cp:lastModifiedBy>Сергуня</cp:lastModifiedBy>
  <cp:lastPrinted>2013-04-05T17:44:23Z</cp:lastPrinted>
  <dcterms:modified xsi:type="dcterms:W3CDTF">2013-04-05T17:46:11Z</dcterms:modified>
  <cp:revision>18</cp:revision>
  <dc:subject/>
  <dc:title>Внутришкольное обучение</dc:title>
</cp:coreProperties>
</file>