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14D-0BDA-4662-BDB7-520A8CDA84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B521-9B33-4ECD-ABC6-71382BBC9B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4A0-4F57-4266-BA96-AE21A959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AE5-EEF2-4BF6-B7A5-BB08C2F1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851-0F31-423B-B1B6-BBA63965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E8E-E804-414C-BF4B-06CC1B53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E644-189E-442C-B0F7-68FE2DF7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ADA5-0E8E-44C4-92CF-6FF4280E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8A02-DDEE-4D44-A4DA-A55E0FB9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373-0222-44BE-AF49-0BEB176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6989-AD12-4F2A-9BB3-DF215525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3746-3E36-458F-8278-B356124A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0B9-7A1B-4CA0-8588-208C78D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1C2-1CA9-4D88-AD34-77ABEFCB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BD0-9B9B-44CC-ADB7-8A3F69E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DC0D-B68D-4010-94FC-C8E5DDE2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DBFF-E95C-4423-9F63-889F961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98A-1CB3-457A-816B-E1BE065E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D98E-94CB-4AC0-84F0-2B540962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740-FF55-4FEB-91B7-50424F6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F73-1737-40F5-B3A8-1887B53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E05-AADD-4301-B6A6-00B8A944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7BF-2BA8-49CE-8821-2356E16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0CE-FBE2-4851-993F-F4D21A27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A00-FB45-4F33-A553-3F55CBB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BB5-E08C-4986-B4FE-16854A7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D27-54CB-428D-B439-30136500AC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E155-DA8F-4A85-9343-78C021F6EC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7 класс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5444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 СОШ с. Кормеж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ибкалиева Жанглен Мирал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063600" y="2811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Лаборатор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547640" y="663480"/>
            <a:ext cx="86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62825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37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284720" y="269712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Без сомнения, всё наше знание начинается с опы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Кант  Иммануил                                                                                 (Немецкий философ, 1724-180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7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Это интересно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182030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вание суд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051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1668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j0289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юдей всегда интересовал вопро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092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j0178676"/>
          <p:cNvPicPr/>
          <p:nvPr/>
        </p:nvPicPr>
        <p:blipFill>
          <a:blip r:embed="rId2"/>
          <a:stretch/>
        </p:blipFill>
        <p:spPr>
          <a:xfrm>
            <a:off x="0" y="1484280"/>
            <a:ext cx="4629240" cy="301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j0255514"/>
          <p:cNvPicPr/>
          <p:nvPr/>
        </p:nvPicPr>
        <p:blipFill>
          <a:blip r:embed="rId3"/>
          <a:stretch/>
        </p:blipFill>
        <p:spPr>
          <a:xfrm>
            <a:off x="0" y="4468680"/>
            <a:ext cx="4643280" cy="238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77467 - копия"/>
          <p:cNvPicPr/>
          <p:nvPr/>
        </p:nvPicPr>
        <p:blipFill>
          <a:blip r:embed="rId4"/>
          <a:stretch/>
        </p:blipFill>
        <p:spPr>
          <a:xfrm>
            <a:off x="4716360" y="4365720"/>
            <a:ext cx="442764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ревнегреческий учены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287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 нашей э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6E26F477"/>
          <p:cNvPicPr/>
          <p:nvPr/>
        </p:nvPicPr>
        <p:blipFill>
          <a:blip r:embed="rId1"/>
          <a:srcRect l="48478" t="3253" r="36306" b="7774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291960"/>
            <a:ext cx="8002440" cy="191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перва собирать факты и только после этого связывать их мыслью»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48360" y="2997360"/>
            <a:ext cx="399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Аристо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384-322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до н.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67C6FBC1"/>
          <p:cNvPicPr/>
          <p:nvPr/>
        </p:nvPicPr>
        <p:blipFill>
          <a:blip r:embed="rId1"/>
          <a:srcRect l="57009" t="9881" r="16869" b="64270"/>
          <a:stretch/>
        </p:blipFill>
        <p:spPr>
          <a:xfrm>
            <a:off x="0" y="2060640"/>
            <a:ext cx="5364000" cy="47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j0182639"/>
          <p:cNvPicPr/>
          <p:nvPr/>
        </p:nvPicPr>
        <p:blipFill>
          <a:blip r:embed="rId1"/>
          <a:stretch/>
        </p:blipFill>
        <p:spPr>
          <a:xfrm>
            <a:off x="324000" y="404640"/>
            <a:ext cx="3657600" cy="6048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067280" y="54936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ед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Дельфин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324000" y="260280"/>
            <a:ext cx="88200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т чего зависит глубина погружения тела в жидк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ыдвижение гипотез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3F00EA5"/>
          <p:cNvPicPr/>
          <p:nvPr/>
        </p:nvPicPr>
        <p:blipFill>
          <a:blip r:embed="rId1"/>
          <a:srcRect l="44387" t="1953" r="40866" b="78533"/>
          <a:stretch/>
        </p:blipFill>
        <p:spPr>
          <a:xfrm>
            <a:off x="4140360" y="765000"/>
            <a:ext cx="5003640" cy="6093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Tahoma"/>
              </a:rPr>
              <a:t>Ломоносов Михаил Василье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1916280"/>
            <a:ext cx="47880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Один опыт я ставлю выше, чем тысячу мнений, рожденных только воображением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br>
              <a:rPr sz="4000"/>
            </a:b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Сравнение плотности вещества и плотности  жидкост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бол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равна плотности жидкости –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мен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ила Архимеда больше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Сила Архимеда равна силе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ила Архимеда меньше 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476280"/>
            <a:ext cx="8459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 Архимедовой силы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ы тяже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45Z</dcterms:created>
  <dc:creator>Компьютер</dc:creator>
  <dc:description/>
  <dc:language>en-US</dc:language>
  <cp:lastModifiedBy>User</cp:lastModifiedBy>
  <dcterms:modified xsi:type="dcterms:W3CDTF">2012-10-17T19:25:20Z</dcterms:modified>
  <cp:revision>5</cp:revision>
  <dc:subject/>
  <dc:title>    7 класс  2008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