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4710-3A8A-43C4-BECD-8212A8679C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1B14-7935-40F2-BA26-06AE953F45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731-07C7-4AE4-8E6E-F6475BBF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465-4646-46FB-9002-55F6C30C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52F-BC7C-478D-B6C0-8D47E3DC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FA9-A616-4523-8CF8-795E988F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17FD-A5E0-45F8-B1FD-CF4C256C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F467-EB6E-4565-8D6E-45B81709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7ABF-14ED-4831-9C7E-692C97E4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2975-6D08-4B00-B52B-60DFA294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349C-9AE5-4115-BB64-DC8DE32C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5B8E-7FB8-4385-ABFF-0F7E6215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45F0-95C4-465E-881E-03D04DB9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C32-A073-40E4-A4AB-C7567D01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FAEE-E282-4E56-8607-806C7F6B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24F5-36B0-4745-BC02-8A9A87C4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83C6-9558-411C-BF34-134CCA83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9DDA-5B3A-4C12-AC02-FE48C465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F07A-1803-4DA3-A86A-24B2BBFF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DFA-6AFD-491A-8A3D-211BDA87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544-A8DD-457F-BA0D-9D113268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485-25AE-4A92-B5D2-D905076F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B70-770D-4AAE-BDDB-67D8E40C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8C1-58C7-437E-9EFE-3CC99D6A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043-9489-456A-A81B-AABC0150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BFA-69D8-4E48-AC3E-E6FAD6FE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D40D-8F10-4A8C-AEA4-7049EF9C5E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CA39-8BBA-4E8D-AA1E-5BD8821BB5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7 класс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9280" y="5444640"/>
            <a:ext cx="8280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 СОШ с. Кормеж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ей 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тибкалиева Жанглен Мирал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063600" y="28116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Лаборатор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547640" y="663480"/>
            <a:ext cx="86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Условия плавания т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j0262825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27370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4284720" y="2697120"/>
            <a:ext cx="48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ecff"/>
                </a:solidFill>
                <a:latin typeface="Arial"/>
              </a:rPr>
              <a:t>Без сомнения, всё наше знание начинается с опы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ecff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ccecff"/>
                </a:solidFill>
                <a:latin typeface="Arial"/>
              </a:rPr>
              <a:t>Кант  Иммануил                                                                                 (Немецкий философ, 1724-1804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76908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Это интересно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j0182030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вание суд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4" descr="051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216684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j02892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Спасибо за урок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юдей всегда интересовал вопрос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5" descr="092"/>
          <p:cNvPicPr/>
          <p:nvPr/>
        </p:nvPicPr>
        <p:blipFill>
          <a:blip r:embed="rId1"/>
          <a:stretch/>
        </p:blipFill>
        <p:spPr>
          <a:xfrm>
            <a:off x="4788000" y="1484280"/>
            <a:ext cx="4356000" cy="2952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j0178676"/>
          <p:cNvPicPr/>
          <p:nvPr/>
        </p:nvPicPr>
        <p:blipFill>
          <a:blip r:embed="rId2"/>
          <a:stretch/>
        </p:blipFill>
        <p:spPr>
          <a:xfrm>
            <a:off x="0" y="1484280"/>
            <a:ext cx="4629240" cy="3014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j0255514"/>
          <p:cNvPicPr/>
          <p:nvPr/>
        </p:nvPicPr>
        <p:blipFill>
          <a:blip r:embed="rId3"/>
          <a:stretch/>
        </p:blipFill>
        <p:spPr>
          <a:xfrm>
            <a:off x="0" y="4468680"/>
            <a:ext cx="4643280" cy="238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0177467 - копия"/>
          <p:cNvPicPr/>
          <p:nvPr/>
        </p:nvPicPr>
        <p:blipFill>
          <a:blip r:embed="rId4"/>
          <a:stretch/>
        </p:blipFill>
        <p:spPr>
          <a:xfrm>
            <a:off x="4716360" y="4365720"/>
            <a:ext cx="4427640" cy="249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716000" y="549360"/>
            <a:ext cx="4427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ревнегреческий ученый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Архимед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ивш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287 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 нашей э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6E26F477"/>
          <p:cNvPicPr/>
          <p:nvPr/>
        </p:nvPicPr>
        <p:blipFill>
          <a:blip r:embed="rId1"/>
          <a:srcRect l="48478" t="3253" r="36306" b="7774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000" y="291960"/>
            <a:ext cx="8002440" cy="191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Сперва собирать факты и только после этого связывать их мыслью»</a:t>
            </a:r>
            <a:br>
              <a:rPr sz="3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5148360" y="2997360"/>
            <a:ext cx="39956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ahoma"/>
              </a:rPr>
              <a:t>Аристо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ahoma"/>
              </a:rPr>
              <a:t>384-322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ahoma"/>
              </a:rPr>
              <a:t>до н.э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67C6FBC1"/>
          <p:cNvPicPr/>
          <p:nvPr/>
        </p:nvPicPr>
        <p:blipFill>
          <a:blip r:embed="rId1"/>
          <a:srcRect l="57009" t="9881" r="16869" b="64270"/>
          <a:stretch/>
        </p:blipFill>
        <p:spPr>
          <a:xfrm>
            <a:off x="0" y="2060640"/>
            <a:ext cx="5364000" cy="47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j0182639"/>
          <p:cNvPicPr/>
          <p:nvPr/>
        </p:nvPicPr>
        <p:blipFill>
          <a:blip r:embed="rId1"/>
          <a:stretch/>
        </p:blipFill>
        <p:spPr>
          <a:xfrm>
            <a:off x="324000" y="404640"/>
            <a:ext cx="3657600" cy="6048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4067280" y="549360"/>
            <a:ext cx="468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сходные ф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Гипоте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ледст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ксперим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сходные ф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Дельфин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324000" y="260280"/>
            <a:ext cx="882000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От чего зависит глубина погружения тела в жидкос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ыдвижение гипотез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13F00EA5"/>
          <p:cNvPicPr/>
          <p:nvPr/>
        </p:nvPicPr>
        <p:blipFill>
          <a:blip r:embed="rId1"/>
          <a:srcRect l="44387" t="1953" r="40866" b="78533"/>
          <a:stretch/>
        </p:blipFill>
        <p:spPr>
          <a:xfrm>
            <a:off x="4140360" y="765000"/>
            <a:ext cx="5003640" cy="6093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Tahoma"/>
              </a:rPr>
              <a:t>Ломоносов Михаил Васильеви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1916280"/>
            <a:ext cx="4788000" cy="43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Один опыт я ставлю выше, чем тысячу мнений, рожденных только воображением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Условия плавания тел</a:t>
            </a:r>
            <a:br>
              <a:rPr sz="4000"/>
            </a:b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Сравнение плотности вещества и плотности  жидкост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вещества больше плотности жидко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он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вещества равна плотности жидкости –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лавает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жидк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вещества меньше плотности жидко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сплыв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ила Архимеда больше силы тяже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сплыв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Сила Архимеда равна силе тяже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лава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жидк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ила Архимеда меньше  силы тяже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он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476280"/>
            <a:ext cx="84596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ение Архимедовой силы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ы тяже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45Z</dcterms:created>
  <dc:creator>Компьютер</dc:creator>
  <dc:description/>
  <dc:language>en-US</dc:language>
  <cp:lastModifiedBy>User</cp:lastModifiedBy>
  <dcterms:modified xsi:type="dcterms:W3CDTF">2012-10-17T19:25:20Z</dcterms:modified>
  <cp:revision>5</cp:revision>
  <dc:subject/>
  <dc:title>    7 класс  2008г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