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076F-509C-4DE4-BB31-0980C0C3F4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2C3C-A728-4387-9234-B5559D68B7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20D2-2F9D-4AF1-A1AF-30A97C7E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1401-39B9-4A32-90ED-CC6163B6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F3D4-7E20-4611-A5D6-B0CBBCE23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868B-7331-4850-A761-B1163ECF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434E-B6DE-41EF-96F2-7DFD7D30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B06D-AFF3-4A07-84E9-2AAF76F7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AC52-A1AA-4102-AF3F-D71EF824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1B59-3425-41D5-AF05-C54F6904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4D5F-E6DA-4D8A-8F13-D0253FA2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F63D-5CA9-45C4-A7CA-BDBA91E0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B68A-85AB-4C82-9C52-721E471F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5767-9EDE-497C-8A9E-424129C1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CD75-AC93-411C-94B6-CC2AB781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5B9F-E69E-49AC-B3D2-60B253EC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290D-A469-4E68-A9C3-201BFD67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B17C-9B02-4FD0-BE0B-2673A8821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E0BD-949A-47C3-AF57-41B390588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CD15-01B3-4656-AE6A-7395E86F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2227-AF8A-4E9C-BDB9-2A3B86F3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BE2A-BB42-4DF2-A34E-039FF227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A18B-B50B-4493-AADD-24150950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5BEA-0246-4F6C-900D-A0E37A8E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5A23-2571-4628-AD28-3CB6BF16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420A-5CF8-460E-BCD6-4712A892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4B74-1D6F-4582-A8C6-09EEE750EC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FB74-A751-4524-A020-0545BCF6F5F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ccecff"/>
                </a:solidFill>
                <a:latin typeface="Arial"/>
              </a:rPr>
              <a:t>7 класс 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39280" y="5444640"/>
            <a:ext cx="828036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физи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БОУ  СОШ с. Кормеж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сшей квалификационной категор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тибкалиева Жанглен Мирале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3063600" y="281160"/>
            <a:ext cx="381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Лабораторная раб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1547640" y="663480"/>
            <a:ext cx="867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Arial"/>
              </a:rPr>
              <a:t>Условия плавания те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6" descr="j0262825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27370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7"/>
          <p:cNvSpPr/>
          <p:nvPr/>
        </p:nvSpPr>
        <p:spPr>
          <a:xfrm>
            <a:off x="4284720" y="2697120"/>
            <a:ext cx="485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ecff"/>
                </a:solidFill>
                <a:latin typeface="Arial"/>
              </a:rPr>
              <a:t>Без сомнения, всё наше знание начинается с опы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ecff"/>
                </a:solidFill>
                <a:latin typeface="Arial"/>
              </a:rPr>
              <a:t>                                       </a:t>
            </a:r>
            <a:r>
              <a:rPr b="1" i="1" lang="ru-RU" sz="1800" spc="-1" strike="noStrike">
                <a:solidFill>
                  <a:srgbClr val="ccecff"/>
                </a:solidFill>
                <a:latin typeface="Arial"/>
              </a:rPr>
              <a:t>Кант  Иммануил                                                                                 (Немецкий философ, 1724-1804г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676908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ecff"/>
                </a:solidFill>
                <a:latin typeface="Arial"/>
              </a:rPr>
              <a:t>Это интересно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4" descr="j0182030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лавание суд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Picture 4" descr="051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7200" y="216684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5" descr="j02892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</a:rPr>
              <a:t>Спасибо за урок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Людей всегда интересовал вопрос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Picture 5" descr="092"/>
          <p:cNvPicPr/>
          <p:nvPr/>
        </p:nvPicPr>
        <p:blipFill>
          <a:blip r:embed="rId1"/>
          <a:stretch/>
        </p:blipFill>
        <p:spPr>
          <a:xfrm>
            <a:off x="4788000" y="1484280"/>
            <a:ext cx="4356000" cy="2952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j0178676"/>
          <p:cNvPicPr/>
          <p:nvPr/>
        </p:nvPicPr>
        <p:blipFill>
          <a:blip r:embed="rId2"/>
          <a:stretch/>
        </p:blipFill>
        <p:spPr>
          <a:xfrm>
            <a:off x="0" y="1484280"/>
            <a:ext cx="4629240" cy="3014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j0255514"/>
          <p:cNvPicPr/>
          <p:nvPr/>
        </p:nvPicPr>
        <p:blipFill>
          <a:blip r:embed="rId3"/>
          <a:stretch/>
        </p:blipFill>
        <p:spPr>
          <a:xfrm>
            <a:off x="0" y="4468680"/>
            <a:ext cx="4643280" cy="2389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j0177467 - копия"/>
          <p:cNvPicPr/>
          <p:nvPr/>
        </p:nvPicPr>
        <p:blipFill>
          <a:blip r:embed="rId4"/>
          <a:stretch/>
        </p:blipFill>
        <p:spPr>
          <a:xfrm>
            <a:off x="4716360" y="4365720"/>
            <a:ext cx="4427640" cy="2492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716000" y="549360"/>
            <a:ext cx="4427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ревнегреческий ученый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Архимед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живш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287 г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о нашей эр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3" descr="6E26F477"/>
          <p:cNvPicPr/>
          <p:nvPr/>
        </p:nvPicPr>
        <p:blipFill>
          <a:blip r:embed="rId1"/>
          <a:srcRect l="48478" t="3253" r="36306" b="77741"/>
          <a:stretch/>
        </p:blipFill>
        <p:spPr>
          <a:xfrm>
            <a:off x="0" y="0"/>
            <a:ext cx="49086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4000" y="291960"/>
            <a:ext cx="8002440" cy="191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«</a:t>
            </a: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Сперва собирать факты и только после этого связывать их мыслью»</a:t>
            </a:r>
            <a:br>
              <a:rPr sz="32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5148360" y="2997360"/>
            <a:ext cx="399564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ahoma"/>
              </a:rPr>
              <a:t>Аристоте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Tahoma"/>
              </a:rPr>
              <a:t>384-322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Tahoma"/>
              </a:rPr>
              <a:t>до н.э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4" descr="67C6FBC1"/>
          <p:cNvPicPr/>
          <p:nvPr/>
        </p:nvPicPr>
        <p:blipFill>
          <a:blip r:embed="rId1"/>
          <a:srcRect l="57009" t="9881" r="16869" b="64270"/>
          <a:stretch/>
        </p:blipFill>
        <p:spPr>
          <a:xfrm>
            <a:off x="0" y="2060640"/>
            <a:ext cx="5364000" cy="479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j0182639"/>
          <p:cNvPicPr/>
          <p:nvPr/>
        </p:nvPicPr>
        <p:blipFill>
          <a:blip r:embed="rId1"/>
          <a:stretch/>
        </p:blipFill>
        <p:spPr>
          <a:xfrm>
            <a:off x="324000" y="404640"/>
            <a:ext cx="3657600" cy="60487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3"/>
          <p:cNvSpPr/>
          <p:nvPr/>
        </p:nvSpPr>
        <p:spPr>
          <a:xfrm>
            <a:off x="4067280" y="549360"/>
            <a:ext cx="468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Исходные фак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Гипотез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ледств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Эксперимен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Исходные фак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Дельфин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43657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5"/>
          <p:cNvSpPr/>
          <p:nvPr/>
        </p:nvSpPr>
        <p:spPr>
          <a:xfrm>
            <a:off x="324000" y="260280"/>
            <a:ext cx="8820000" cy="29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От чего зависит глубина погружения тела в жидкость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Выдвижение гипотез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13F00EA5"/>
          <p:cNvPicPr/>
          <p:nvPr/>
        </p:nvPicPr>
        <p:blipFill>
          <a:blip r:embed="rId1"/>
          <a:srcRect l="44387" t="1953" r="40866" b="78533"/>
          <a:stretch/>
        </p:blipFill>
        <p:spPr>
          <a:xfrm>
            <a:off x="4140360" y="765000"/>
            <a:ext cx="5003640" cy="60930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ecff"/>
                </a:solidFill>
                <a:uFillTx/>
                <a:latin typeface="Tahoma"/>
              </a:rPr>
              <a:t>Ломоносов Михаил Васильеви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0" y="1916280"/>
            <a:ext cx="4788000" cy="43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«Один опыт я ставлю выше, чем тысячу мнений, рожденных только воображением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Arial"/>
              </a:rPr>
              <a:t>Условия плавания тел</a:t>
            </a:r>
            <a:br>
              <a:rPr sz="4000"/>
            </a:br>
            <a:r>
              <a:rPr b="1" i="1" lang="ru-RU" sz="2800" spc="-1" strike="noStrike">
                <a:solidFill>
                  <a:srgbClr val="ccecff"/>
                </a:solidFill>
                <a:latin typeface="Arial"/>
              </a:rPr>
              <a:t>Сравнение плотности вещества и плотности  жидкости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-450720">
              <a:lnSpc>
                <a:spcPct val="8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1330200"/>
                <a:tab algn="l" pos="1538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тность вещества больше плотности жидкости – тело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тон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1330200"/>
                <a:tab algn="l" pos="1538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тность вещества равна плотности жидкости –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тело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лавает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жидк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1330200"/>
                <a:tab algn="l" pos="1538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тность вещества меньше плотности жидкости – тело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всплыва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1330200"/>
                <a:tab algn="l" pos="1538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1330200"/>
                <a:tab algn="l" pos="1538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330200"/>
                <a:tab algn="l" pos="1538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330200"/>
                <a:tab algn="l" pos="1538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ила Архимеда больше силы тяжести – тело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всплыва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 Сила Архимеда равна силе тяжести – тело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лавае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 жидк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Сила Архимеда меньше  силы тяжести – тело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тон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84360" y="476280"/>
            <a:ext cx="84596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авнение Архимедовой силы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лы тяжест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8:42:45Z</dcterms:created>
  <dc:creator>Компьютер</dc:creator>
  <dc:description/>
  <dc:language>en-US</dc:language>
  <cp:lastModifiedBy>User</cp:lastModifiedBy>
  <dcterms:modified xsi:type="dcterms:W3CDTF">2012-10-17T19:25:20Z</dcterms:modified>
  <cp:revision>5</cp:revision>
  <dc:subject/>
  <dc:title>    7 класс  2008г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