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827B-DA2A-465A-915E-310F4E96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D24E-A663-46FA-9945-BED4E343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F774-F8F9-40B6-8C76-E22388A8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9DC7-53A5-44BF-BF6E-86F5E2BA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B21E-E469-425A-B881-8F58F2EC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836D-47DF-4BD1-9061-DA2BC187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AFC1-95DB-447D-8DEC-E2C6EB90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6003-BAA6-4948-BC58-7C7BBBD3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8182-B7B1-4F24-828E-CC12C6B0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D8BD-2302-41C7-B89E-91B37598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2549-7A09-426A-9A9D-41684A29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0C72-0EC6-4B4F-93A2-48CFDAFC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4EE8-C1C2-4B59-9AE3-B4DE5E67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1237-C181-4985-99C7-0AF54933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FB12-34A2-4CE7-A158-AE693F4D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24AD-6942-4E58-B544-DFB7528F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C2CF-61E6-4082-A911-860FA0B0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71CB6-A80B-4309-AF76-397C1F27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97BCF-CF3D-4623-BE9D-0D9707EC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D4126-6819-4381-8F19-EA3F70C4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E70D1-EF06-47D2-8CAE-A710AB2C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5929C-414D-4D47-948A-B7749F22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5242-F87E-4CF5-B2DB-7D533E64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420185-232B-492E-9B7E-3A1B9D6F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ABBA1-E150-412E-907D-A23F5404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339A0F-D1B7-485D-8456-7D1AB07C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4263FD-650E-4CFA-B9DB-23950F04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15449-C65D-4191-BB5E-9821F045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93E1D-D9EE-434A-8268-E4FF45CE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5427B-EE08-4BDA-AC65-A235CBB2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56B1C-396E-4646-876D-6B2023E4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6EF21-340B-47D7-A3D3-803F6E35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6EDA0-6C93-437F-BF84-08C63BF2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5FFD-8D75-4547-9083-CD95DD35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8496E-11AB-44D3-A5E3-BF67D65A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ABDA4-746F-4C74-AA00-5F8E226C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BBA74-4285-4460-A812-FB2F194F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7198F-4402-4A28-928E-34666B93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8AFFF-F4BA-42AA-8F11-1E240C1E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93146-ECF0-49DF-9C84-197DF3C3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33001-B4C4-4B80-AEF1-105F7B1E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AA98B-A1D6-4951-A45E-50882E0D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F5B84-6E61-4402-825B-6184C33D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30C9E-C669-4F5B-B084-2B4B51B8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5D54-921F-49EE-8EA2-A106CDE4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55CE3-537B-454F-8AB4-45CF5008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A9D15-5065-4331-A08E-39ECE537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08216-9FD0-4F19-8C42-0B04FC70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8DD01-D16B-4D47-B76B-F67042F6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E6C38-DC39-412E-B5BE-D9C28ADA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7D08D-0176-4682-8FB2-A273BEE3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3AF4C-9890-4EA2-81AB-B294877D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8138D-CED4-4E12-B867-A66426F7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AB844-46C3-42D1-ADAB-40F31FF3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3C865-3AED-4D32-95F1-1E65FE50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9EA4-F809-4637-A735-86B6FDEA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94BEE-B3BB-4D02-A285-B08DF7A4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E5BEE-6AF6-4228-A548-12270A70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B2B32-5D17-4B06-A9CE-B1076F2F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EC442-346F-499A-AE27-6EDBA082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C6073-1FE3-4DAC-BDF7-85A75887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6628C-087B-4B50-BCDE-36427768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BF067-4BB8-4CED-A16F-F8AE1ABC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B45EE-3EC2-49C5-8757-DE23193C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5CD28-FC56-4A04-BECC-A933A778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9823E-0C47-4326-8B8B-AFEA3248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CCC-47DF-471E-95A7-5B6E8766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FC129-9CDF-47B5-AC03-A5BF9A3A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8B5FB-C32E-4B7F-8F44-02ECEC35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DB1F9-9BF2-4AA6-BED0-C0C3C210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D9339-E682-49C5-9D1F-3A850C77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76786-C9F5-43DC-A613-94FAF1B0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E0B35-BB8B-4E4C-BB8A-A81BC82D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3EDFC-8029-4EDE-859D-C3C506FD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19970-7D46-4C27-BF91-0A98EB1B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04636-D402-4895-BE76-09B9A192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C313F-83F9-4F5A-A779-A00DDA55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FC81-0178-474D-9936-43ED0B26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49B76-09A8-4C2A-B06D-CD8F7B01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0466F-8D62-4F25-8164-DC088C82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21A65-770F-47C5-80D7-ED1A87EE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D28AC-B343-4029-8BA7-D82C4B6F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B05C3-1174-4727-860B-FC8E108E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92508-4B81-4B4A-A581-A7A80436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50D51-BBD1-4F99-9C38-53A878E4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1DB69-FCBA-4A68-A78D-1A20E0EE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ED167-B745-46C8-9C49-5C34EAA9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39FCB-2612-4916-953B-F9091909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A05-7134-4E88-91C8-B83231CD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021D9-A220-4A78-898D-1CDD4F7D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50A37-A857-4E40-817B-358B868A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A18FB-6425-4D8B-BF95-14EC9CED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9295B-37EC-4AE9-94BA-8AC9AD64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51DFE-7ABB-45E6-98A9-55786E34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CF368-C9F4-4E76-A840-29E517FE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FC80B-B824-4A67-86F6-575D34A4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1C48-A750-4877-911C-80CED5324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FDC0-0C80-4E17-A67E-8F7DDDED1E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279C-1F2D-4217-9BD8-5C4F50E0E3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B585-5366-4A2D-A8E0-19E143E21C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9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1020-199E-4E4F-A88C-B0830E9FA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3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4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4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875D-A819-40E8-AF70-DBD8D34C97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9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2DCC-60D3-4BAF-B9A2-5037701320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2191-85E2-4750-863A-2B895FA41D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Тема:</a:t>
            </a:r>
            <a:r>
              <a:rPr b="1" lang="en-US" sz="36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Baskerville Old Face"/>
              </a:rPr>
              <a:t>Площадь параллелограмма и  </a:t>
            </a:r>
            <a:r>
              <a:rPr b="1" lang="en-US" sz="3600" spc="-1" strike="noStrike">
                <a:solidFill>
                  <a:srgbClr val="ff0000"/>
                </a:solidFill>
                <a:latin typeface="Baskerville Old Face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Baskerville Old Face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Baskerville Old Face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Baskerville Old Face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Baskerville Old Face"/>
              </a:rPr>
              <a:t>   треугольник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ести формулы для вычисления площади параллелограмма и треугольн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7c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ать задачи на применение формул площад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; свойств площ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1476360" y="5445000"/>
            <a:ext cx="2016000" cy="936720"/>
          </a:xfrm>
          <a:prstGeom prst="parallelogram">
            <a:avLst>
              <a:gd name="adj" fmla="val 53805"/>
            </a:avLst>
          </a:prstGeom>
          <a:solidFill>
            <a:srgbClr val="8eaafa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d6ede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8"/>
          <p:cNvSpPr/>
          <p:nvPr/>
        </p:nvSpPr>
        <p:spPr>
          <a:xfrm>
            <a:off x="3708360" y="5300640"/>
            <a:ext cx="1224000" cy="1224000"/>
          </a:xfrm>
          <a:prstGeom prst="ellipse">
            <a:avLst/>
          </a:prstGeom>
          <a:solidFill>
            <a:srgbClr val="8bb3c7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7"/>
          <p:cNvSpPr/>
          <p:nvPr/>
        </p:nvSpPr>
        <p:spPr>
          <a:xfrm>
            <a:off x="5292720" y="4869000"/>
            <a:ext cx="1152360" cy="15127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d6ede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 flipH="1">
            <a:off x="899280" y="1844640"/>
            <a:ext cx="2233800" cy="1295280"/>
          </a:xfrm>
          <a:prstGeom prst="parallelogram">
            <a:avLst>
              <a:gd name="adj" fmla="val 4311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476360" y="184464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73080" y="3213000"/>
            <a:ext cx="7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12720" y="141300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33800" y="306864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629080" y="148428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476360" y="14130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901440" y="2924280"/>
            <a:ext cx="863640" cy="43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51" y="14"/>
                </a:moveTo>
                <a:arcTo wR="10800" hR="10800" stAng="-5224478" swAng="5224478"/>
                <a:lnTo>
                  <a:pt x="10800" y="10800"/>
                </a:lnTo>
                <a:close/>
              </a:path>
              <a:path fill="none" w="21600" h="21600">
                <a:moveTo>
                  <a:pt x="11351" y="14"/>
                </a:moveTo>
                <a:arcTo wR="10800" hR="10800" stAng="-5224478" swAng="522447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549440" y="2708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635280" y="1773360"/>
            <a:ext cx="518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D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ллелограм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 = 8, 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Rectangle 8"/>
              <p:cNvSpPr txBox="1"/>
              <p:nvPr/>
            </p:nvSpPr>
            <p:spPr>
              <a:xfrm>
                <a:off x="5867280" y="1844640"/>
                <a:ext cx="23832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Rectangle 8"/>
              <p:cNvSpPr txBox="1"/>
              <p:nvPr/>
            </p:nvSpPr>
            <p:spPr>
              <a:xfrm>
                <a:off x="4211640" y="3213000"/>
                <a:ext cx="3533760" cy="28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rPr>
                            <m:lit/>
                            <m:nor/>
                          </m:rPr>
                          <m:t xml:space="preserve">свойству</m:t>
                        </m:r>
                        <m:r>
                          <m:rPr>
                            <m:lit/>
                            <m:nor/>
                          </m:rPr>
                          <m:t xml:space="preserve">пара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51280" y="1773360"/>
            <a:ext cx="4402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D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ллелограм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, ВМ =3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Rectangle 8"/>
              <p:cNvSpPr txBox="1"/>
              <p:nvPr/>
            </p:nvSpPr>
            <p:spPr>
              <a:xfrm>
                <a:off x="4427640" y="2133720"/>
                <a:ext cx="24480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BH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4" name=""/>
          <p:cNvSpPr/>
          <p:nvPr/>
        </p:nvSpPr>
        <p:spPr>
          <a:xfrm>
            <a:off x="2916360" y="1557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95280" y="1557360"/>
            <a:ext cx="2867040" cy="2014920"/>
            <a:chOff x="395280" y="1557360"/>
            <a:chExt cx="2867040" cy="2014920"/>
          </a:xfrm>
        </p:grpSpPr>
        <p:grpSp>
          <p:nvGrpSpPr>
            <p:cNvPr id="606" name=""/>
            <p:cNvGrpSpPr/>
            <p:nvPr/>
          </p:nvGrpSpPr>
          <p:grpSpPr>
            <a:xfrm>
              <a:off x="610920" y="2070720"/>
              <a:ext cx="2376360" cy="928080"/>
              <a:chOff x="610920" y="2070720"/>
              <a:chExt cx="2376360" cy="928080"/>
            </a:xfrm>
          </p:grpSpPr>
          <p:sp>
            <p:nvSpPr>
              <p:cNvPr id="607" name=""/>
              <p:cNvSpPr/>
              <p:nvPr/>
            </p:nvSpPr>
            <p:spPr>
              <a:xfrm>
                <a:off x="1023480" y="2070720"/>
                <a:ext cx="0" cy="92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023480" y="2070720"/>
                <a:ext cx="1654200" cy="61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1280" y="2998800"/>
                <a:ext cx="1963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2574720" y="2070720"/>
                <a:ext cx="412200" cy="92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610920" y="2070720"/>
                <a:ext cx="412200" cy="92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023480" y="2070720"/>
                <a:ext cx="1963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395280" y="3204000"/>
              <a:ext cx="72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5640" y="1557360"/>
              <a:ext cx="4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11280" y="310176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00360" y="24836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26920" y="31017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899640" y="279288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00000" y="279288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27280" y="2381760"/>
              <a:ext cx="14436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2556000" y="2381760"/>
              <a:ext cx="71280" cy="20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22" name="Rectangle 8"/>
              <p:cNvSpPr txBox="1"/>
              <p:nvPr/>
            </p:nvSpPr>
            <p:spPr>
              <a:xfrm>
                <a:off x="4249800" y="3330720"/>
                <a:ext cx="2554200" cy="35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CD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для повторения к глав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– 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59(б), № 46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ести формулу площади дельтои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Подведение итогов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4360" y="4076640"/>
            <a:ext cx="58179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  Площадь треугольника равна полов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изведения его высоты на сторону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торой она провед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 =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·a =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·b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 =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ru-RU" sz="2400" spc="-1" strike="noStrike" baseline="-25000">
                <a:solidFill>
                  <a:srgbClr val="0000ff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·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Rectangle 8"/>
              <p:cNvSpPr txBox="1"/>
              <p:nvPr/>
            </p:nvSpPr>
            <p:spPr>
              <a:xfrm>
                <a:off x="3132000" y="4941720"/>
                <a:ext cx="1954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4140360" y="4941720"/>
                <a:ext cx="1872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195640" y="4941720"/>
                <a:ext cx="1951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0" name=""/>
          <p:cNvGrpSpPr/>
          <p:nvPr/>
        </p:nvGrpSpPr>
        <p:grpSpPr>
          <a:xfrm>
            <a:off x="6300720" y="3860280"/>
            <a:ext cx="1800000" cy="1879920"/>
            <a:chOff x="6300720" y="3860280"/>
            <a:chExt cx="1800000" cy="1879920"/>
          </a:xfrm>
        </p:grpSpPr>
        <p:grpSp>
          <p:nvGrpSpPr>
            <p:cNvPr id="631" name=""/>
            <p:cNvGrpSpPr/>
            <p:nvPr/>
          </p:nvGrpSpPr>
          <p:grpSpPr>
            <a:xfrm>
              <a:off x="6372000" y="3860280"/>
              <a:ext cx="1728720" cy="1368720"/>
              <a:chOff x="6372000" y="3860280"/>
              <a:chExt cx="1728720" cy="1368720"/>
            </a:xfrm>
          </p:grpSpPr>
          <p:sp>
            <p:nvSpPr>
              <p:cNvPr id="632" name=""/>
              <p:cNvSpPr/>
              <p:nvPr/>
            </p:nvSpPr>
            <p:spPr>
              <a:xfrm>
                <a:off x="6372000" y="5229000"/>
                <a:ext cx="17287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6372000" y="3860280"/>
                <a:ext cx="504720" cy="1368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876720" y="3860640"/>
                <a:ext cx="1224000" cy="1368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6876720" y="386064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6371640" y="4221000"/>
              <a:ext cx="79236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6659280" y="4508280"/>
              <a:ext cx="14414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19640" y="537192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300720" y="4292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524720" y="4292280"/>
              <a:ext cx="2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524720" y="40762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64360" y="4868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88000" y="4868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876720" y="4221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5508720" y="1700280"/>
            <a:ext cx="3166200" cy="1790280"/>
            <a:chOff x="5508720" y="1700280"/>
            <a:chExt cx="3166200" cy="1790280"/>
          </a:xfrm>
        </p:grpSpPr>
        <p:sp>
          <p:nvSpPr>
            <p:cNvPr id="646" name="Line 28"/>
            <p:cNvSpPr/>
            <p:nvPr/>
          </p:nvSpPr>
          <p:spPr>
            <a:xfrm flipV="1">
              <a:off x="5508720" y="1700280"/>
              <a:ext cx="803520" cy="1408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5508720" y="1700280"/>
              <a:ext cx="3166200" cy="1790280"/>
              <a:chOff x="5508720" y="1700280"/>
              <a:chExt cx="3166200" cy="1790280"/>
            </a:xfrm>
          </p:grpSpPr>
          <p:grpSp>
            <p:nvGrpSpPr>
              <p:cNvPr id="648" name="Group 32"/>
              <p:cNvGrpSpPr/>
              <p:nvPr/>
            </p:nvGrpSpPr>
            <p:grpSpPr>
              <a:xfrm>
                <a:off x="5508720" y="1700280"/>
                <a:ext cx="3166200" cy="1408320"/>
                <a:chOff x="5508720" y="1700280"/>
                <a:chExt cx="3166200" cy="1408320"/>
              </a:xfrm>
            </p:grpSpPr>
            <p:sp>
              <p:nvSpPr>
                <p:cNvPr id="649" name="Line 27"/>
                <p:cNvSpPr/>
                <p:nvPr/>
              </p:nvSpPr>
              <p:spPr>
                <a:xfrm>
                  <a:off x="5508720" y="3108600"/>
                  <a:ext cx="236304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29"/>
                <p:cNvSpPr/>
                <p:nvPr/>
              </p:nvSpPr>
              <p:spPr>
                <a:xfrm>
                  <a:off x="6311880" y="1700280"/>
                  <a:ext cx="236304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Line 31"/>
                <p:cNvSpPr/>
                <p:nvPr/>
              </p:nvSpPr>
              <p:spPr>
                <a:xfrm flipV="1">
                  <a:off x="7871760" y="1700280"/>
                  <a:ext cx="803160" cy="14083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2" name="Line 33"/>
              <p:cNvSpPr/>
              <p:nvPr/>
            </p:nvSpPr>
            <p:spPr>
              <a:xfrm>
                <a:off x="6312240" y="1700280"/>
                <a:ext cx="1738080" cy="1118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34"/>
              <p:cNvSpPr/>
              <p:nvPr/>
            </p:nvSpPr>
            <p:spPr>
              <a:xfrm>
                <a:off x="6312240" y="1700280"/>
                <a:ext cx="0" cy="14083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43"/>
              <p:cNvSpPr/>
              <p:nvPr/>
            </p:nvSpPr>
            <p:spPr>
              <a:xfrm flipH="1">
                <a:off x="6088320" y="2867040"/>
                <a:ext cx="22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44"/>
              <p:cNvSpPr/>
              <p:nvPr/>
            </p:nvSpPr>
            <p:spPr>
              <a:xfrm flipV="1">
                <a:off x="6088680" y="2867040"/>
                <a:ext cx="0" cy="24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7871400" y="2527200"/>
                <a:ext cx="89640" cy="14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961040" y="2527200"/>
                <a:ext cx="178560" cy="14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550120" y="1960920"/>
                <a:ext cx="22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355440" y="2381400"/>
                <a:ext cx="574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8000"/>
                    </a:solidFill>
                    <a:latin typeface="Arial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8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605640" y="3091680"/>
                <a:ext cx="401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255440" y="1872720"/>
                <a:ext cx="574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2" name=""/>
          <p:cNvSpPr/>
          <p:nvPr/>
        </p:nvSpPr>
        <p:spPr>
          <a:xfrm>
            <a:off x="684360" y="1628640"/>
            <a:ext cx="525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69440" indent="-469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параллел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а произведению выс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ограмма на высо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которой она провед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 = 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·a =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·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900000" y="1773360"/>
            <a:ext cx="777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5000"/>
          </a:bodyPr>
          <a:p>
            <a:pPr marL="133200" indent="-1332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Следствие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лощадь прямоугольно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реугольника равна половине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изведения его кат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Подведение итогов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Rectangle 8"/>
              <p:cNvSpPr txBox="1"/>
              <p:nvPr/>
            </p:nvSpPr>
            <p:spPr>
              <a:xfrm>
                <a:off x="2762280" y="37576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Rectangle 8"/>
              <p:cNvSpPr txBox="1"/>
              <p:nvPr/>
            </p:nvSpPr>
            <p:spPr>
              <a:xfrm>
                <a:off x="6724800" y="25858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755640" y="4005360"/>
            <a:ext cx="7920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Следствие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высоты двух треугольников равны, то их площа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носятся как осн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050920" y="2349360"/>
            <a:ext cx="2160720" cy="1295640"/>
          </a:xfrm>
          <a:prstGeom prst="rtTriangl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763640" y="352116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763640" y="3357720"/>
            <a:ext cx="459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835280" y="2060640"/>
            <a:ext cx="3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119480" y="3448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18000" y="280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111480" y="352116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219640" y="26370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 =    a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·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Rectangle 8"/>
              <p:cNvSpPr txBox="1"/>
              <p:nvPr/>
            </p:nvSpPr>
            <p:spPr>
              <a:xfrm>
                <a:off x="5651640" y="2565360"/>
                <a:ext cx="222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2050920" y="3429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268360" y="342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042920" y="4724280"/>
            <a:ext cx="2737080" cy="129708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484360" y="45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411280" y="472428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411280" y="4724280"/>
            <a:ext cx="93672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411280" y="5805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556000" y="58053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55640" y="582444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08360" y="58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124000" y="43848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257640" y="5969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268360" y="59500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716360" y="508464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</a:rPr>
              <a:t>ACD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: S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</a:rPr>
              <a:t>DCB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= AD :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Times New Roman"/>
              </a:rPr>
              <a:t>Задача: Периметр квадрата </a:t>
            </a:r>
            <a:r>
              <a:rPr b="1" i="1" lang="en-US" sz="1800" spc="-1" strike="noStrike">
                <a:solidFill>
                  <a:srgbClr val="330033"/>
                </a:solidFill>
                <a:latin typeface="Times New Roman"/>
              </a:rPr>
              <a:t>РТМК</a:t>
            </a:r>
            <a:r>
              <a:rPr b="0" lang="en-US" sz="1800" spc="-1" strike="noStrike">
                <a:solidFill>
                  <a:srgbClr val="330033"/>
                </a:solidFill>
                <a:latin typeface="Times New Roman"/>
              </a:rPr>
              <a:t> равен  48 см. Найдите площадь пятиугольника </a:t>
            </a:r>
            <a:r>
              <a:rPr b="1" i="1" lang="en-US" sz="1800" spc="-1" strike="noStrike">
                <a:solidFill>
                  <a:srgbClr val="330033"/>
                </a:solidFill>
                <a:latin typeface="Times New Roman"/>
              </a:rPr>
              <a:t>РТМОК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492360" y="2923920"/>
            <a:ext cx="5329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Т=ТМ=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=Р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=48:4=12 (см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TM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12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2 = 144 (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T=OP=OK=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T=TM=MK=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∆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=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P =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OK =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KOM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 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P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K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M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144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 = 36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KP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144 – 36 = 108 (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вет: 108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635280" y="1557360"/>
            <a:ext cx="381024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ТМК – квадра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ТМК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= 48 с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М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ТК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йти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ТМ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1332000" y="2349360"/>
            <a:ext cx="1871640" cy="1871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9"/>
          <p:cNvSpPr/>
          <p:nvPr/>
        </p:nvSpPr>
        <p:spPr>
          <a:xfrm>
            <a:off x="1332000" y="2349360"/>
            <a:ext cx="1871640" cy="187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0"/>
          <p:cNvSpPr/>
          <p:nvPr/>
        </p:nvSpPr>
        <p:spPr>
          <a:xfrm flipH="1">
            <a:off x="1331640" y="2349360"/>
            <a:ext cx="1871640" cy="187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1"/>
          <p:cNvSpPr/>
          <p:nvPr/>
        </p:nvSpPr>
        <p:spPr>
          <a:xfrm>
            <a:off x="2266920" y="314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3132000" y="2062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3132000" y="41497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10429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1042920" y="2062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8"/>
          <p:cNvSpPr/>
          <p:nvPr/>
        </p:nvSpPr>
        <p:spPr>
          <a:xfrm>
            <a:off x="140328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9"/>
          <p:cNvSpPr/>
          <p:nvPr/>
        </p:nvSpPr>
        <p:spPr>
          <a:xfrm>
            <a:off x="147492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0"/>
          <p:cNvSpPr/>
          <p:nvPr/>
        </p:nvSpPr>
        <p:spPr>
          <a:xfrm>
            <a:off x="154764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1"/>
          <p:cNvSpPr/>
          <p:nvPr/>
        </p:nvSpPr>
        <p:spPr>
          <a:xfrm>
            <a:off x="161928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2"/>
          <p:cNvSpPr/>
          <p:nvPr/>
        </p:nvSpPr>
        <p:spPr>
          <a:xfrm>
            <a:off x="169056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3"/>
          <p:cNvSpPr/>
          <p:nvPr/>
        </p:nvSpPr>
        <p:spPr>
          <a:xfrm>
            <a:off x="176364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4"/>
          <p:cNvSpPr/>
          <p:nvPr/>
        </p:nvSpPr>
        <p:spPr>
          <a:xfrm>
            <a:off x="183528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25"/>
          <p:cNvSpPr/>
          <p:nvPr/>
        </p:nvSpPr>
        <p:spPr>
          <a:xfrm>
            <a:off x="190656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26"/>
          <p:cNvSpPr/>
          <p:nvPr/>
        </p:nvSpPr>
        <p:spPr>
          <a:xfrm>
            <a:off x="197820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7"/>
          <p:cNvSpPr/>
          <p:nvPr/>
        </p:nvSpPr>
        <p:spPr>
          <a:xfrm>
            <a:off x="205092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8"/>
          <p:cNvSpPr/>
          <p:nvPr/>
        </p:nvSpPr>
        <p:spPr>
          <a:xfrm>
            <a:off x="212256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9"/>
          <p:cNvSpPr/>
          <p:nvPr/>
        </p:nvSpPr>
        <p:spPr>
          <a:xfrm>
            <a:off x="219384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0"/>
          <p:cNvSpPr/>
          <p:nvPr/>
        </p:nvSpPr>
        <p:spPr>
          <a:xfrm>
            <a:off x="2266920" y="234936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1"/>
          <p:cNvSpPr/>
          <p:nvPr/>
        </p:nvSpPr>
        <p:spPr>
          <a:xfrm>
            <a:off x="2340000" y="2349360"/>
            <a:ext cx="144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2411280" y="2349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33"/>
          <p:cNvSpPr/>
          <p:nvPr/>
        </p:nvSpPr>
        <p:spPr>
          <a:xfrm>
            <a:off x="2482920" y="234936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4"/>
          <p:cNvSpPr/>
          <p:nvPr/>
        </p:nvSpPr>
        <p:spPr>
          <a:xfrm>
            <a:off x="2556000" y="23493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5"/>
          <p:cNvSpPr/>
          <p:nvPr/>
        </p:nvSpPr>
        <p:spPr>
          <a:xfrm>
            <a:off x="2627280" y="2349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36"/>
          <p:cNvSpPr/>
          <p:nvPr/>
        </p:nvSpPr>
        <p:spPr>
          <a:xfrm>
            <a:off x="2698920" y="234936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37"/>
          <p:cNvSpPr/>
          <p:nvPr/>
        </p:nvSpPr>
        <p:spPr>
          <a:xfrm>
            <a:off x="2771640" y="23493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8"/>
          <p:cNvSpPr/>
          <p:nvPr/>
        </p:nvSpPr>
        <p:spPr>
          <a:xfrm>
            <a:off x="2843280" y="234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0"/>
          <p:cNvSpPr/>
          <p:nvPr/>
        </p:nvSpPr>
        <p:spPr>
          <a:xfrm>
            <a:off x="3132000" y="23493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42"/>
          <p:cNvSpPr/>
          <p:nvPr/>
        </p:nvSpPr>
        <p:spPr>
          <a:xfrm>
            <a:off x="298764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43"/>
          <p:cNvSpPr/>
          <p:nvPr/>
        </p:nvSpPr>
        <p:spPr>
          <a:xfrm>
            <a:off x="3059280" y="23493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45"/>
          <p:cNvSpPr/>
          <p:nvPr/>
        </p:nvSpPr>
        <p:spPr>
          <a:xfrm>
            <a:off x="2916360" y="2349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6"/>
          <p:cNvSpPr/>
          <p:nvPr/>
        </p:nvSpPr>
        <p:spPr>
          <a:xfrm flipV="1">
            <a:off x="2340000" y="335736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47"/>
          <p:cNvSpPr/>
          <p:nvPr/>
        </p:nvSpPr>
        <p:spPr>
          <a:xfrm flipV="1">
            <a:off x="2411280" y="34300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48"/>
          <p:cNvSpPr/>
          <p:nvPr/>
        </p:nvSpPr>
        <p:spPr>
          <a:xfrm flipV="1">
            <a:off x="2482920" y="35020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9"/>
          <p:cNvSpPr/>
          <p:nvPr/>
        </p:nvSpPr>
        <p:spPr>
          <a:xfrm flipV="1">
            <a:off x="2556000" y="35748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50"/>
          <p:cNvSpPr/>
          <p:nvPr/>
        </p:nvSpPr>
        <p:spPr>
          <a:xfrm flipV="1">
            <a:off x="2627280" y="36460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51"/>
          <p:cNvSpPr/>
          <p:nvPr/>
        </p:nvSpPr>
        <p:spPr>
          <a:xfrm flipV="1">
            <a:off x="2698920" y="37180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52"/>
          <p:cNvSpPr/>
          <p:nvPr/>
        </p:nvSpPr>
        <p:spPr>
          <a:xfrm flipV="1">
            <a:off x="2771640" y="37908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53"/>
          <p:cNvSpPr/>
          <p:nvPr/>
        </p:nvSpPr>
        <p:spPr>
          <a:xfrm flipV="1">
            <a:off x="2843280" y="3862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8"/>
          <p:cNvSpPr/>
          <p:nvPr/>
        </p:nvSpPr>
        <p:spPr>
          <a:xfrm>
            <a:off x="3132000" y="41497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59"/>
          <p:cNvSpPr/>
          <p:nvPr/>
        </p:nvSpPr>
        <p:spPr>
          <a:xfrm>
            <a:off x="3059280" y="40784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60"/>
          <p:cNvSpPr/>
          <p:nvPr/>
        </p:nvSpPr>
        <p:spPr>
          <a:xfrm>
            <a:off x="2987640" y="40068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61"/>
          <p:cNvSpPr/>
          <p:nvPr/>
        </p:nvSpPr>
        <p:spPr>
          <a:xfrm>
            <a:off x="2916360" y="39337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859280" y="2276640"/>
                <a:ext cx="21132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2952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Задача №44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924360" y="836640"/>
            <a:ext cx="4330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Дано: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ABCD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- прямоугольник;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AE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BC = M; AM = ME;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DE 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BC = N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Доказать: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3300"/>
                </a:solidFill>
                <a:latin typeface="Arial"/>
              </a:rPr>
              <a:t>ABCD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= S</a:t>
            </a:r>
            <a:r>
              <a:rPr b="0" lang="en-US" sz="1600" spc="-1" strike="noStrike" baseline="-25000">
                <a:solidFill>
                  <a:srgbClr val="003300"/>
                </a:solidFill>
                <a:latin typeface="Arial"/>
              </a:rPr>
              <a:t>AED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Доказательство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95280" y="907920"/>
            <a:ext cx="2952720" cy="3105360"/>
            <a:chOff x="395280" y="907920"/>
            <a:chExt cx="2952720" cy="3105360"/>
          </a:xfrm>
        </p:grpSpPr>
        <p:sp>
          <p:nvSpPr>
            <p:cNvPr id="449" name="Rectangle 5"/>
            <p:cNvSpPr/>
            <p:nvPr/>
          </p:nvSpPr>
          <p:spPr>
            <a:xfrm>
              <a:off x="682560" y="2419560"/>
              <a:ext cx="2160720" cy="1152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6"/>
            <p:cNvSpPr/>
            <p:nvPr/>
          </p:nvSpPr>
          <p:spPr>
            <a:xfrm>
              <a:off x="1546200" y="1268280"/>
              <a:ext cx="0" cy="2303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 flipV="1">
              <a:off x="682560" y="2419200"/>
              <a:ext cx="431640" cy="115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 flipV="1">
              <a:off x="1114200" y="1268280"/>
              <a:ext cx="432000" cy="115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1546200" y="1268280"/>
              <a:ext cx="1297080" cy="230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10"/>
            <p:cNvSpPr/>
            <p:nvPr/>
          </p:nvSpPr>
          <p:spPr>
            <a:xfrm>
              <a:off x="826920" y="2852640"/>
              <a:ext cx="14472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1"/>
            <p:cNvSpPr/>
            <p:nvPr/>
          </p:nvSpPr>
          <p:spPr>
            <a:xfrm>
              <a:off x="1187280" y="1916280"/>
              <a:ext cx="1429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12"/>
            <p:cNvSpPr/>
            <p:nvPr/>
          </p:nvSpPr>
          <p:spPr>
            <a:xfrm>
              <a:off x="466560" y="357192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13"/>
            <p:cNvSpPr/>
            <p:nvPr/>
          </p:nvSpPr>
          <p:spPr>
            <a:xfrm>
              <a:off x="395280" y="21319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14"/>
            <p:cNvSpPr/>
            <p:nvPr/>
          </p:nvSpPr>
          <p:spPr>
            <a:xfrm>
              <a:off x="2771640" y="2060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16"/>
            <p:cNvSpPr/>
            <p:nvPr/>
          </p:nvSpPr>
          <p:spPr>
            <a:xfrm>
              <a:off x="2771640" y="35719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7"/>
            <p:cNvSpPr/>
            <p:nvPr/>
          </p:nvSpPr>
          <p:spPr>
            <a:xfrm>
              <a:off x="826920" y="2419560"/>
              <a:ext cx="0" cy="14436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8"/>
            <p:cNvSpPr/>
            <p:nvPr/>
          </p:nvSpPr>
          <p:spPr>
            <a:xfrm flipH="1">
              <a:off x="682200" y="2563920"/>
              <a:ext cx="14436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9"/>
            <p:cNvSpPr/>
            <p:nvPr/>
          </p:nvSpPr>
          <p:spPr>
            <a:xfrm>
              <a:off x="1546200" y="2203560"/>
              <a:ext cx="14436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20"/>
            <p:cNvSpPr/>
            <p:nvPr/>
          </p:nvSpPr>
          <p:spPr>
            <a:xfrm>
              <a:off x="1690560" y="2203560"/>
              <a:ext cx="0" cy="21600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21"/>
            <p:cNvSpPr/>
            <p:nvPr/>
          </p:nvSpPr>
          <p:spPr>
            <a:xfrm>
              <a:off x="826920" y="2060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22"/>
            <p:cNvSpPr/>
            <p:nvPr/>
          </p:nvSpPr>
          <p:spPr>
            <a:xfrm>
              <a:off x="2122560" y="2060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3"/>
            <p:cNvSpPr/>
            <p:nvPr/>
          </p:nvSpPr>
          <p:spPr>
            <a:xfrm>
              <a:off x="1474560" y="90792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89"/>
            <p:cNvSpPr/>
            <p:nvPr/>
          </p:nvSpPr>
          <p:spPr>
            <a:xfrm>
              <a:off x="1546200" y="1916280"/>
              <a:ext cx="504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330200" y="36450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46200" y="3427560"/>
              <a:ext cx="14436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90560" y="3427560"/>
              <a:ext cx="0" cy="14436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4932360" y="1484280"/>
                <a:ext cx="15228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4932360" y="1197000"/>
                <a:ext cx="15228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259280" y="21081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Любые два равновеликих  многоугольника  равносоставленны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353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Теорема Бойяи – Гервина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Ф.Бойяи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енгерский математик, доказал это утверждение в 183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.Герв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емецкий математик–любитель, независимо от Ф.Бойяи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л её в 1833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ствие: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любой многоугольник можно разрезать на такие части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з которых можно составить равновеликий эт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многоугольнику квадр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тельство теоремы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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литератур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Ф.Каган «О преобразовании многогранников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Г.Болтянский «Равновеликие и равносоставленные фигуры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08000" y="1628640"/>
            <a:ext cx="6480360" cy="0"/>
          </a:xfrm>
          <a:prstGeom prst="line">
            <a:avLst/>
          </a:prstGeom>
          <a:ln w="57240">
            <a:solidFill>
              <a:srgbClr val="99003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195640" y="1341360"/>
            <a:ext cx="5905440" cy="287280"/>
            <a:chOff x="2195640" y="1341360"/>
            <a:chExt cx="5905440" cy="287280"/>
          </a:xfrm>
        </p:grpSpPr>
        <p:sp>
          <p:nvSpPr>
            <p:cNvPr id="478" name=""/>
            <p:cNvSpPr/>
            <p:nvPr/>
          </p:nvSpPr>
          <p:spPr>
            <a:xfrm flipV="1">
              <a:off x="2195640" y="1341360"/>
              <a:ext cx="0" cy="287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916360" y="1341360"/>
              <a:ext cx="0" cy="287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3708360" y="1341360"/>
              <a:ext cx="0" cy="287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4572000" y="1341360"/>
              <a:ext cx="0" cy="287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5435640" y="1341360"/>
              <a:ext cx="0" cy="287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7308720" y="1341360"/>
              <a:ext cx="0" cy="287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6372360" y="1341360"/>
              <a:ext cx="0" cy="287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8101080" y="1341360"/>
              <a:ext cx="0" cy="287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Дано:  АВС 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– параллелограмм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ВМ      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D,    CN      AD,  BC = 9 c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м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, 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ВМ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 = 4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см.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76720" y="1600200"/>
            <a:ext cx="36720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ти:  - равновелики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игур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BC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BC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37"/>
          <p:cNvGrpSpPr/>
          <p:nvPr/>
        </p:nvGrpSpPr>
        <p:grpSpPr>
          <a:xfrm>
            <a:off x="684360" y="1773360"/>
            <a:ext cx="4897080" cy="2727360"/>
            <a:chOff x="684360" y="1773360"/>
            <a:chExt cx="4897080" cy="2727360"/>
          </a:xfrm>
        </p:grpSpPr>
        <p:grpSp>
          <p:nvGrpSpPr>
            <p:cNvPr id="489" name="Group 7"/>
            <p:cNvGrpSpPr/>
            <p:nvPr/>
          </p:nvGrpSpPr>
          <p:grpSpPr>
            <a:xfrm>
              <a:off x="1889640" y="2184840"/>
              <a:ext cx="2890080" cy="1949040"/>
              <a:chOff x="1889640" y="2184840"/>
              <a:chExt cx="2890080" cy="1949040"/>
            </a:xfrm>
          </p:grpSpPr>
          <p:sp>
            <p:nvSpPr>
              <p:cNvPr id="490" name="Line 5"/>
              <p:cNvSpPr/>
              <p:nvPr/>
            </p:nvSpPr>
            <p:spPr>
              <a:xfrm flipH="1">
                <a:off x="1889640" y="2184840"/>
                <a:ext cx="28900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6"/>
              <p:cNvSpPr/>
              <p:nvPr/>
            </p:nvSpPr>
            <p:spPr>
              <a:xfrm flipH="1">
                <a:off x="3896280" y="2184840"/>
                <a:ext cx="883440" cy="1949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9"/>
            <p:cNvGrpSpPr/>
            <p:nvPr/>
          </p:nvGrpSpPr>
          <p:grpSpPr>
            <a:xfrm>
              <a:off x="1006560" y="2184840"/>
              <a:ext cx="2889720" cy="1949040"/>
              <a:chOff x="1006560" y="2184840"/>
              <a:chExt cx="2889720" cy="1949040"/>
            </a:xfrm>
          </p:grpSpPr>
          <p:sp>
            <p:nvSpPr>
              <p:cNvPr id="493" name="Line 10"/>
              <p:cNvSpPr/>
              <p:nvPr/>
            </p:nvSpPr>
            <p:spPr>
              <a:xfrm>
                <a:off x="1006560" y="4133880"/>
                <a:ext cx="2889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11"/>
              <p:cNvSpPr/>
              <p:nvPr/>
            </p:nvSpPr>
            <p:spPr>
              <a:xfrm flipV="1">
                <a:off x="1006560" y="2184840"/>
                <a:ext cx="883080" cy="1949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Line 20"/>
            <p:cNvSpPr/>
            <p:nvPr/>
          </p:nvSpPr>
          <p:spPr>
            <a:xfrm flipH="1">
              <a:off x="1006560" y="2184840"/>
              <a:ext cx="882720" cy="194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21"/>
            <p:cNvSpPr/>
            <p:nvPr/>
          </p:nvSpPr>
          <p:spPr>
            <a:xfrm>
              <a:off x="1889640" y="2184840"/>
              <a:ext cx="1800" cy="1947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22"/>
            <p:cNvSpPr/>
            <p:nvPr/>
          </p:nvSpPr>
          <p:spPr>
            <a:xfrm flipH="1">
              <a:off x="1006560" y="4132440"/>
              <a:ext cx="882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23"/>
            <p:cNvSpPr/>
            <p:nvPr/>
          </p:nvSpPr>
          <p:spPr>
            <a:xfrm flipV="1">
              <a:off x="3895200" y="2184480"/>
              <a:ext cx="882720" cy="19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24"/>
            <p:cNvSpPr/>
            <p:nvPr/>
          </p:nvSpPr>
          <p:spPr>
            <a:xfrm>
              <a:off x="4777920" y="2184840"/>
              <a:ext cx="1800" cy="1947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25"/>
            <p:cNvSpPr/>
            <p:nvPr/>
          </p:nvSpPr>
          <p:spPr>
            <a:xfrm>
              <a:off x="3895200" y="4132440"/>
              <a:ext cx="88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26"/>
            <p:cNvSpPr/>
            <p:nvPr/>
          </p:nvSpPr>
          <p:spPr>
            <a:xfrm flipH="1">
              <a:off x="4537080" y="3824640"/>
              <a:ext cx="240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27"/>
            <p:cNvSpPr/>
            <p:nvPr/>
          </p:nvSpPr>
          <p:spPr>
            <a:xfrm>
              <a:off x="4537080" y="3824640"/>
              <a:ext cx="180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28"/>
            <p:cNvSpPr/>
            <p:nvPr/>
          </p:nvSpPr>
          <p:spPr>
            <a:xfrm flipH="1">
              <a:off x="1646640" y="3824640"/>
              <a:ext cx="242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29"/>
            <p:cNvSpPr/>
            <p:nvPr/>
          </p:nvSpPr>
          <p:spPr>
            <a:xfrm>
              <a:off x="1647000" y="3824640"/>
              <a:ext cx="180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31"/>
            <p:cNvSpPr/>
            <p:nvPr/>
          </p:nvSpPr>
          <p:spPr>
            <a:xfrm>
              <a:off x="684360" y="3824640"/>
              <a:ext cx="72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32"/>
            <p:cNvSpPr/>
            <p:nvPr/>
          </p:nvSpPr>
          <p:spPr>
            <a:xfrm>
              <a:off x="1567440" y="1773360"/>
              <a:ext cx="4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33"/>
            <p:cNvSpPr/>
            <p:nvPr/>
          </p:nvSpPr>
          <p:spPr>
            <a:xfrm>
              <a:off x="3735720" y="4132440"/>
              <a:ext cx="48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34"/>
            <p:cNvSpPr/>
            <p:nvPr/>
          </p:nvSpPr>
          <p:spPr>
            <a:xfrm>
              <a:off x="4698720" y="1773360"/>
              <a:ext cx="88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35"/>
            <p:cNvSpPr/>
            <p:nvPr/>
          </p:nvSpPr>
          <p:spPr>
            <a:xfrm>
              <a:off x="4618800" y="4132440"/>
              <a:ext cx="5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36"/>
            <p:cNvSpPr/>
            <p:nvPr/>
          </p:nvSpPr>
          <p:spPr>
            <a:xfrm>
              <a:off x="1647000" y="4132440"/>
              <a:ext cx="8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41"/>
          <p:cNvGrpSpPr/>
          <p:nvPr/>
        </p:nvGrpSpPr>
        <p:grpSpPr>
          <a:xfrm>
            <a:off x="1476360" y="1052280"/>
            <a:ext cx="287280" cy="216000"/>
            <a:chOff x="1476360" y="1052280"/>
            <a:chExt cx="287280" cy="216000"/>
          </a:xfrm>
        </p:grpSpPr>
        <p:sp>
          <p:nvSpPr>
            <p:cNvPr id="512" name="Line 38"/>
            <p:cNvSpPr/>
            <p:nvPr/>
          </p:nvSpPr>
          <p:spPr>
            <a:xfrm>
              <a:off x="1476360" y="126828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40"/>
            <p:cNvSpPr/>
            <p:nvPr/>
          </p:nvSpPr>
          <p:spPr>
            <a:xfrm flipV="1">
              <a:off x="1620720" y="105228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45"/>
          <p:cNvGrpSpPr/>
          <p:nvPr/>
        </p:nvGrpSpPr>
        <p:grpSpPr>
          <a:xfrm>
            <a:off x="2987640" y="1052280"/>
            <a:ext cx="287280" cy="216000"/>
            <a:chOff x="2987640" y="1052280"/>
            <a:chExt cx="287280" cy="216000"/>
          </a:xfrm>
        </p:grpSpPr>
        <p:sp>
          <p:nvSpPr>
            <p:cNvPr id="515" name="Line 46"/>
            <p:cNvSpPr/>
            <p:nvPr/>
          </p:nvSpPr>
          <p:spPr>
            <a:xfrm>
              <a:off x="2987640" y="126828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47"/>
            <p:cNvSpPr/>
            <p:nvPr/>
          </p:nvSpPr>
          <p:spPr>
            <a:xfrm flipV="1">
              <a:off x="3132000" y="105228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7724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Площадь параллелограмма    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         и  треугольни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1619280" y="2997360"/>
            <a:ext cx="5113440" cy="2087280"/>
          </a:xfrm>
          <a:prstGeom prst="parallelogram">
            <a:avLst>
              <a:gd name="adj" fmla="val 61245"/>
            </a:avLst>
          </a:prstGeom>
          <a:solidFill>
            <a:srgbClr val="cc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3"/>
          <p:cNvSpPr/>
          <p:nvPr/>
        </p:nvSpPr>
        <p:spPr>
          <a:xfrm flipV="1">
            <a:off x="2627280" y="1125000"/>
            <a:ext cx="1440000" cy="23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39"/>
          <p:cNvSpPr/>
          <p:nvPr/>
        </p:nvSpPr>
        <p:spPr>
          <a:xfrm flipH="1">
            <a:off x="4427640" y="5084640"/>
            <a:ext cx="1008000" cy="16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33"/>
          <p:cNvSpPr/>
          <p:nvPr/>
        </p:nvSpPr>
        <p:spPr>
          <a:xfrm>
            <a:off x="2916360" y="2997360"/>
            <a:ext cx="2808000" cy="165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4"/>
          <p:cNvSpPr/>
          <p:nvPr/>
        </p:nvSpPr>
        <p:spPr>
          <a:xfrm>
            <a:off x="2916360" y="2997360"/>
            <a:ext cx="0" cy="20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37"/>
          <p:cNvSpPr/>
          <p:nvPr/>
        </p:nvSpPr>
        <p:spPr>
          <a:xfrm>
            <a:off x="1619280" y="5084640"/>
            <a:ext cx="2808360" cy="1656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41"/>
          <p:cNvSpPr/>
          <p:nvPr/>
        </p:nvSpPr>
        <p:spPr>
          <a:xfrm flipH="1" flipV="1">
            <a:off x="4284720" y="630864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42"/>
          <p:cNvSpPr/>
          <p:nvPr/>
        </p:nvSpPr>
        <p:spPr>
          <a:xfrm flipH="1">
            <a:off x="4140000" y="6308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43"/>
          <p:cNvSpPr/>
          <p:nvPr/>
        </p:nvSpPr>
        <p:spPr>
          <a:xfrm flipH="1">
            <a:off x="255564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44"/>
          <p:cNvSpPr/>
          <p:nvPr/>
        </p:nvSpPr>
        <p:spPr>
          <a:xfrm flipV="1">
            <a:off x="2556000" y="472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45"/>
          <p:cNvSpPr/>
          <p:nvPr/>
        </p:nvSpPr>
        <p:spPr>
          <a:xfrm flipV="1">
            <a:off x="5364000" y="407628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46"/>
          <p:cNvSpPr/>
          <p:nvPr/>
        </p:nvSpPr>
        <p:spPr>
          <a:xfrm>
            <a:off x="5580000" y="407664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6"/>
          <p:cNvSpPr/>
          <p:nvPr/>
        </p:nvSpPr>
        <p:spPr>
          <a:xfrm flipV="1">
            <a:off x="1619280" y="2997360"/>
            <a:ext cx="0" cy="2087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27"/>
          <p:cNvSpPr/>
          <p:nvPr/>
        </p:nvSpPr>
        <p:spPr>
          <a:xfrm flipH="1">
            <a:off x="1042560" y="299736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0"/>
          <p:cNvSpPr/>
          <p:nvPr/>
        </p:nvSpPr>
        <p:spPr>
          <a:xfrm>
            <a:off x="1619280" y="328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1"/>
          <p:cNvSpPr/>
          <p:nvPr/>
        </p:nvSpPr>
        <p:spPr>
          <a:xfrm flipH="1" flipV="1">
            <a:off x="1906560" y="2997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2"/>
          <p:cNvSpPr/>
          <p:nvPr/>
        </p:nvSpPr>
        <p:spPr>
          <a:xfrm>
            <a:off x="5435640" y="50864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3"/>
          <p:cNvSpPr/>
          <p:nvPr/>
        </p:nvSpPr>
        <p:spPr>
          <a:xfrm>
            <a:off x="3924360" y="1341360"/>
            <a:ext cx="2808360" cy="1656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36"/>
          <p:cNvSpPr/>
          <p:nvPr/>
        </p:nvSpPr>
        <p:spPr>
          <a:xfrm flipV="1">
            <a:off x="6732720" y="2997360"/>
            <a:ext cx="0" cy="20872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7"/>
          <p:cNvSpPr/>
          <p:nvPr/>
        </p:nvSpPr>
        <p:spPr>
          <a:xfrm flipH="1">
            <a:off x="3995280" y="148428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8"/>
          <p:cNvSpPr/>
          <p:nvPr/>
        </p:nvSpPr>
        <p:spPr>
          <a:xfrm flipH="1" flipV="1">
            <a:off x="3779640" y="1557000"/>
            <a:ext cx="215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9"/>
          <p:cNvSpPr/>
          <p:nvPr/>
        </p:nvSpPr>
        <p:spPr>
          <a:xfrm flipH="1">
            <a:off x="6516720" y="48704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40"/>
          <p:cNvSpPr/>
          <p:nvPr/>
        </p:nvSpPr>
        <p:spPr>
          <a:xfrm>
            <a:off x="6516720" y="4870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2627280" y="2997360"/>
            <a:ext cx="2808360" cy="2087280"/>
            <a:chOff x="2627280" y="2997360"/>
            <a:chExt cx="2808360" cy="2087280"/>
          </a:xfrm>
        </p:grpSpPr>
        <p:sp>
          <p:nvSpPr>
            <p:cNvPr id="542" name="Line 41"/>
            <p:cNvSpPr/>
            <p:nvPr/>
          </p:nvSpPr>
          <p:spPr>
            <a:xfrm flipV="1">
              <a:off x="5435640" y="2997360"/>
              <a:ext cx="0" cy="208728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33"/>
            <p:cNvSpPr/>
            <p:nvPr/>
          </p:nvSpPr>
          <p:spPr>
            <a:xfrm>
              <a:off x="2627280" y="3429000"/>
              <a:ext cx="2808360" cy="165564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Line 47"/>
          <p:cNvSpPr/>
          <p:nvPr/>
        </p:nvSpPr>
        <p:spPr>
          <a:xfrm>
            <a:off x="5651640" y="299736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48"/>
          <p:cNvSpPr/>
          <p:nvPr/>
        </p:nvSpPr>
        <p:spPr>
          <a:xfrm flipH="1">
            <a:off x="5435640" y="3213000"/>
            <a:ext cx="2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700360" y="3573360"/>
            <a:ext cx="1555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1116000" y="5157720"/>
            <a:ext cx="50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5435640" y="5084640"/>
            <a:ext cx="50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6732720" y="2492280"/>
            <a:ext cx="50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2340000" y="2492280"/>
            <a:ext cx="50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2484360" y="36446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47640" y="18900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Сколько высот можно провести в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параллелограмме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250" autoRev="1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animClr clrSpc="rgb">
                                      <p:cBhvr>
                                        <p:cTn id="183" dur="250" autoRev="1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4" dur="250" autoRev="1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animClr clrSpc="rgb">
                                      <p:cBhvr>
                                        <p:cTn id="202" dur="250" autoRev="1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03" dur="250" autoRev="1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50" autoRev="1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animClr clrSpc="rgb">
                                      <p:cBhvr>
                                        <p:cTn id="222" dur="250" autoRev="1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23" dur="250" autoRev="1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250" autoRev="1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animClr clrSpc="rgb">
                                      <p:cBhvr>
                                        <p:cTn id="244" dur="250" autoRev="1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45" dur="250" autoRev="1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500"/>
                            </p:stCondLst>
                            <p:childTnLst>
                              <p:par>
                                <p:cTn id="263" nodeType="after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26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250" autoRev="1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animClr clrSpc="rgb">
                                      <p:cBhvr>
                                        <p:cTn id="268" dur="250" autoRev="1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69" dur="250" autoRev="1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500"/>
                            </p:stCondLst>
                            <p:childTnLst>
                              <p:par>
                                <p:cTn id="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75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8000"/>
                            </p:stCondLst>
                            <p:childTnLst>
                              <p:par>
                                <p:cTn id="28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9000"/>
                            </p:stCondLst>
                            <p:childTnLst>
                              <p:par>
                                <p:cTn id="29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250" autoRev="1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animClr clrSpc="rgb">
                                      <p:cBhvr>
                                        <p:cTn id="294" dur="250" autoRev="1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95" dur="250" autoRev="1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9500"/>
                            </p:stCondLst>
                            <p:childTnLst>
                              <p:par>
                                <p:cTn id="2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 = a·h</a:t>
            </a:r>
            <a:r>
              <a:rPr b="0" lang="en-US" sz="3600" spc="-1" strike="noStrike" baseline="-25000">
                <a:solidFill>
                  <a:srgbClr val="330033"/>
                </a:solidFill>
                <a:latin typeface="Times New Roman"/>
              </a:rPr>
              <a:t>a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= b·h</a:t>
            </a:r>
            <a:r>
              <a:rPr b="0" lang="en-US" sz="3600" spc="-1" strike="noStrike" baseline="-25000">
                <a:solidFill>
                  <a:srgbClr val="330033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1619280" y="2997360"/>
            <a:ext cx="5113440" cy="2691720"/>
            <a:chOff x="1619280" y="2997360"/>
            <a:chExt cx="5113440" cy="2691720"/>
          </a:xfrm>
        </p:grpSpPr>
        <p:sp>
          <p:nvSpPr>
            <p:cNvPr id="555" name="Line 28"/>
            <p:cNvSpPr/>
            <p:nvPr/>
          </p:nvSpPr>
          <p:spPr>
            <a:xfrm flipV="1">
              <a:off x="1619280" y="2997360"/>
              <a:ext cx="1297080" cy="2087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1619280" y="2997360"/>
              <a:ext cx="5113440" cy="2691720"/>
              <a:chOff x="1619280" y="2997360"/>
              <a:chExt cx="5113440" cy="2691720"/>
            </a:xfrm>
          </p:grpSpPr>
          <p:grpSp>
            <p:nvGrpSpPr>
              <p:cNvPr id="557" name="Group 32"/>
              <p:cNvGrpSpPr/>
              <p:nvPr/>
            </p:nvGrpSpPr>
            <p:grpSpPr>
              <a:xfrm>
                <a:off x="1619280" y="2997360"/>
                <a:ext cx="5113440" cy="2087280"/>
                <a:chOff x="1619280" y="2997360"/>
                <a:chExt cx="5113440" cy="2087280"/>
              </a:xfrm>
            </p:grpSpPr>
            <p:sp>
              <p:nvSpPr>
                <p:cNvPr id="558" name="Line 27"/>
                <p:cNvSpPr/>
                <p:nvPr/>
              </p:nvSpPr>
              <p:spPr>
                <a:xfrm>
                  <a:off x="1619280" y="5084640"/>
                  <a:ext cx="381636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Line 29"/>
                <p:cNvSpPr/>
                <p:nvPr/>
              </p:nvSpPr>
              <p:spPr>
                <a:xfrm>
                  <a:off x="2916360" y="2997360"/>
                  <a:ext cx="381636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1"/>
                <p:cNvSpPr/>
                <p:nvPr/>
              </p:nvSpPr>
              <p:spPr>
                <a:xfrm flipV="1">
                  <a:off x="5435640" y="2997360"/>
                  <a:ext cx="1297080" cy="20872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" name="Line 33"/>
              <p:cNvSpPr/>
              <p:nvPr/>
            </p:nvSpPr>
            <p:spPr>
              <a:xfrm>
                <a:off x="2916360" y="2997360"/>
                <a:ext cx="2808000" cy="1655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34"/>
              <p:cNvSpPr/>
              <p:nvPr/>
            </p:nvSpPr>
            <p:spPr>
              <a:xfrm>
                <a:off x="2916360" y="2997360"/>
                <a:ext cx="0" cy="2087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43"/>
              <p:cNvSpPr/>
              <p:nvPr/>
            </p:nvSpPr>
            <p:spPr>
              <a:xfrm flipH="1">
                <a:off x="2555640" y="472428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44"/>
              <p:cNvSpPr/>
              <p:nvPr/>
            </p:nvSpPr>
            <p:spPr>
              <a:xfrm flipV="1">
                <a:off x="2556000" y="472392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5435640" y="4221000"/>
                <a:ext cx="14436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580000" y="4221000"/>
                <a:ext cx="28728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500720" y="3500280"/>
                <a:ext cx="647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835280" y="3716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987640" y="4005360"/>
                <a:ext cx="647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564000" y="5229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1" name="Line 39"/>
          <p:cNvSpPr/>
          <p:nvPr/>
        </p:nvSpPr>
        <p:spPr>
          <a:xfrm flipH="1">
            <a:off x="4427640" y="5084640"/>
            <a:ext cx="1008000" cy="16560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7"/>
          <p:cNvSpPr/>
          <p:nvPr/>
        </p:nvSpPr>
        <p:spPr>
          <a:xfrm>
            <a:off x="1619280" y="5084640"/>
            <a:ext cx="2808360" cy="16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41"/>
          <p:cNvSpPr/>
          <p:nvPr/>
        </p:nvSpPr>
        <p:spPr>
          <a:xfrm flipH="1" flipV="1">
            <a:off x="4284720" y="6165720"/>
            <a:ext cx="358560" cy="2160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42"/>
          <p:cNvSpPr/>
          <p:nvPr/>
        </p:nvSpPr>
        <p:spPr>
          <a:xfrm flipH="1">
            <a:off x="4067280" y="6165720"/>
            <a:ext cx="217440" cy="3589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779640" y="155700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араллелограм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 = 10,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=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C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Rectangle 8"/>
              <p:cNvSpPr txBox="1"/>
              <p:nvPr/>
            </p:nvSpPr>
            <p:spPr>
              <a:xfrm>
                <a:off x="4087800" y="2997360"/>
                <a:ext cx="3870360" cy="16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1258920" y="2060640"/>
            <a:ext cx="2017800" cy="936720"/>
          </a:xfrm>
          <a:prstGeom prst="parallelogram">
            <a:avLst>
              <a:gd name="adj" fmla="val 5385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763640" y="2060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03280" y="2781360"/>
            <a:ext cx="85680" cy="216000"/>
          </a:xfrm>
          <a:custGeom>
            <a:avLst/>
            <a:gdLst/>
            <a:ahLst/>
            <a:rect l="l" t="t" r="r" b="b"/>
            <a:pathLst>
              <a:path w="54" h="136">
                <a:moveTo>
                  <a:pt x="0" y="0"/>
                </a:moveTo>
                <a:cubicBezTo>
                  <a:pt x="19" y="15"/>
                  <a:pt x="38" y="30"/>
                  <a:pt x="46" y="45"/>
                </a:cubicBezTo>
                <a:cubicBezTo>
                  <a:pt x="54" y="60"/>
                  <a:pt x="46" y="75"/>
                  <a:pt x="46" y="90"/>
                </a:cubicBezTo>
                <a:cubicBezTo>
                  <a:pt x="46" y="105"/>
                  <a:pt x="46" y="128"/>
                  <a:pt x="46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332000" y="26370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116000" y="29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547640" y="17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0364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0036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619280" y="3068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050920" y="263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11600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Rectangle 8"/>
              <p:cNvSpPr txBox="1"/>
              <p:nvPr/>
            </p:nvSpPr>
            <p:spPr>
              <a:xfrm>
                <a:off x="5724360" y="1916280"/>
                <a:ext cx="22716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4788000" y="5373720"/>
                <a:ext cx="361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1:19:18Z</dcterms:created>
  <dc:creator>User</dc:creator>
  <dc:description/>
  <dc:language>en-US</dc:language>
  <cp:lastModifiedBy>1</cp:lastModifiedBy>
  <dcterms:modified xsi:type="dcterms:W3CDTF">2008-04-04T05:53:39Z</dcterms:modified>
  <cp:revision>44</cp:revision>
  <dc:subject/>
  <dc:title>Тема: Площадь параллелограмма и           треугольника.</dc:title>
</cp:coreProperties>
</file>