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FDB8-EF40-4204-93E4-271E1A64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FD8A-88A5-4D3F-BBC8-7C513036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6384-417B-4E66-92DE-893D787E1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AB09-0D1E-453C-B17A-74B8E4BC8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9C13-7CA2-4026-928E-3C84C916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59CD-9D2D-4291-8CCF-460D1A50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D27C-3F1B-461E-A910-F50462D1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7636-C2D2-4A4B-B1BD-18E1DAFC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C8B2-D1CC-4BB2-B90F-1537BA22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C7EC-8309-49C0-98D8-D3D22985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775B-9A73-417C-A9A8-FB78B6A8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BE59-70CC-4AB4-99D8-4A80102A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13C9-C9EB-40EF-9CC8-5406AEE9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2D44-D581-4CB3-A518-7C3DBF3A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CED5-E77F-49C8-A4C6-45F743DB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47EE-C98C-462C-846B-63362FFE2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8E8A-ABFD-4C2D-9701-7AB58BB32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5783AF-AC73-42E2-884F-322C03F01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485CA0-9C0E-47CE-9EF7-7AEC7939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78D55D-8A7A-4C59-8558-8B3B9705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F5007E-3FC8-4B12-909A-3998A798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559F94-F555-41AD-AB5A-09FB2DC6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E193-CF78-4510-B994-67139204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4D3548-4417-4D27-9021-E5737857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DBB264-F15C-4946-869D-D90DC1DF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C01C35-57BA-472B-95DF-227759A4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CCB858-C551-4466-B1F5-A0737C75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58D6F7-0C19-47D0-A884-9206781C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287E94-114A-4561-9E3E-0A51578CF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0724CB-6AFD-4352-9D57-1C5B4B27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9430A-27D2-4DAE-9F00-8658D4627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9F7CA-76E6-4877-ACA2-90DA3349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C028C-9EF4-4D71-93FD-81A5A7DF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3BD9-F672-43C8-85D8-5905DA55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72695-8B4E-4D05-B0B8-53CE36B8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23328-1DFA-4D54-8FA9-B0AE74F9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E5C3A-BF05-4752-8362-65055B85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13B94-8382-463C-8D42-7B0A5221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CF129-E826-43E2-BFB1-97C037EF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F2075-BFCA-4D39-A2F6-D278A448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BECAA-775A-457F-A022-874F3A53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0FF6A-AC54-494D-8347-D5ABD189B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8EAA9-5DEE-485C-8E18-26C33744D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2850B-BB06-4787-8425-8C998B968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2253-F71D-46E3-B2F7-D7C0C66A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2AFF4-AB16-49D9-B2B2-49C13BBA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F425E-6207-46FD-A261-7B69F374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E6D45-45BE-4006-8F76-38D149A7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846A9-A1CA-4B13-892B-9B7EC3FB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3D707-5424-49F6-A5DF-81888B9E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69551-3119-44FF-A988-5C9636EF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4EAFB-9F41-4A1F-9D9B-312BBCC3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9DB85-0D9A-4615-8681-E52E2C8B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642CF-0675-4BE3-9583-49FC7B9F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7F8DA-E007-40B1-830A-D74EC5B4D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8919-224E-47EF-9EA8-C0A4D666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676F9-E7A1-4425-B8C6-E6A8EA61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7C952-E2BA-40F4-AEF9-18611E212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C7B35-FDF0-4582-A602-76B72ADE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42F4D-DD6E-46AF-BCD9-B06B98C5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31323-2D3E-4F5B-A0EE-1CD569A2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45931-CED7-4C80-AD4D-899168FD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FF5F0-FD9D-49F8-B94A-488FA1C6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CA1FB-E703-4853-B0D6-4684C2B2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366EC-A9D0-4ACE-9823-8680F491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6B84C-A1AB-4CA5-B57F-4DAFFA20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354E-C4DC-4BBE-ABA4-B2DA90E1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DBE23-3AB4-4D88-999C-F0CC9BC5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AD40A-C321-4F64-98E1-E57CD440B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A4F9A-CFFC-44EA-907F-1D635E92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987A9-DF5E-42FF-9341-CC8B5005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4B3F3-A8E1-41A8-91FE-A991534D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91EDE-9502-413E-B86A-CC382651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13384-25E1-4A68-91A8-FA6CC561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D75AF-E70E-4878-9C3D-9290450D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5820C-E854-47A8-9C3C-31E97301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3FF72-B979-4558-8CF5-CC96409E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EC66-3517-45D3-BAC5-EF7FA831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7F360-8E75-48AD-A95E-998FED0A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BDE55-649F-403F-9D0F-57DC958C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79652-9869-4FBC-9CF7-9627CB8D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79369-A925-44BE-8288-FA9A69E2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4C922-C142-4622-B1F0-DCC2F93E0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8FC27-5D16-4CF9-8AF4-7922295A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0C1CF-8BD0-481B-9DAF-33EB14A5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24DE3-36AB-430A-8229-89F26DE6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E540B-2E04-43FC-B519-4966F4E0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45411-4C57-4C49-B51B-34005885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8360-1DCB-4494-8C0D-32E23D83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746A6-C897-4608-928B-E9F29126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473CE-71E6-4EA5-83EE-1108CBFC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8974B-9EDA-4DED-98EC-63DE2448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5C554-3206-462D-872D-5B83B25C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48D7A-0186-4BE9-98F9-36E6AC03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6FCD0-6697-4611-A3A6-C643D9E8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CA341-19F3-4621-8CC4-9B71B6052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E3EE-0989-4BAA-80C3-4A500DFFA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9280-3625-45A0-9765-387D1A07B8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3831-2C72-4D4D-99BA-76A80103E1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60ED-F9A7-4425-BD80-B3FB60FA6A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90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BE96-788B-469D-A9B4-3B5F5EFE9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3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4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4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F8F9-5441-4578-ABF9-0AB17C1B1B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8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9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2F16-D94B-4C04-8EDE-2B6207465E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733B-A106-4A80-9B60-D4459C66ED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Тема:</a:t>
            </a:r>
            <a:r>
              <a:rPr b="1" lang="en-US" sz="36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Baskerville Old Face"/>
              </a:rPr>
              <a:t>Площадь параллелограмма и  </a:t>
            </a:r>
            <a:r>
              <a:rPr b="1" lang="en-US" sz="3600" spc="-1" strike="noStrike">
                <a:solidFill>
                  <a:srgbClr val="ff0000"/>
                </a:solidFill>
                <a:latin typeface="Baskerville Old Face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Baskerville Old Face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Baskerville Old Face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Baskerville Old Face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Baskerville Old Face"/>
              </a:rPr>
              <a:t>   треугольника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7c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ести формулы для вычисления площади параллелограмма и треугольни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7c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ать задачи на применение формул площад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гур; свойств площ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6"/>
          <p:cNvSpPr/>
          <p:nvPr/>
        </p:nvSpPr>
        <p:spPr>
          <a:xfrm>
            <a:off x="1476360" y="5445000"/>
            <a:ext cx="2016000" cy="936720"/>
          </a:xfrm>
          <a:prstGeom prst="parallelogram">
            <a:avLst>
              <a:gd name="adj" fmla="val 53805"/>
            </a:avLst>
          </a:prstGeom>
          <a:solidFill>
            <a:srgbClr val="8eaafa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d6ede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8"/>
          <p:cNvSpPr/>
          <p:nvPr/>
        </p:nvSpPr>
        <p:spPr>
          <a:xfrm>
            <a:off x="3708360" y="5300640"/>
            <a:ext cx="1224000" cy="1224000"/>
          </a:xfrm>
          <a:prstGeom prst="ellipse">
            <a:avLst/>
          </a:prstGeom>
          <a:solidFill>
            <a:srgbClr val="8bb3c7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7"/>
          <p:cNvSpPr/>
          <p:nvPr/>
        </p:nvSpPr>
        <p:spPr>
          <a:xfrm>
            <a:off x="5292720" y="4869000"/>
            <a:ext cx="1152360" cy="15127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d6ede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 flipH="1">
            <a:off x="899280" y="1844640"/>
            <a:ext cx="2233800" cy="1295280"/>
          </a:xfrm>
          <a:prstGeom prst="parallelogram">
            <a:avLst>
              <a:gd name="adj" fmla="val 4311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476360" y="184464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973080" y="3213000"/>
            <a:ext cx="7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12720" y="1413000"/>
            <a:ext cx="4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133800" y="306864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629080" y="148428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476360" y="14130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901440" y="2924280"/>
            <a:ext cx="863640" cy="43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51" y="14"/>
                </a:moveTo>
                <a:arcTo wR="10800" hR="10800" stAng="-5224478" swAng="5224478"/>
                <a:lnTo>
                  <a:pt x="10800" y="10800"/>
                </a:lnTo>
                <a:close/>
              </a:path>
              <a:path fill="none" w="21600" h="21600">
                <a:moveTo>
                  <a:pt x="11351" y="14"/>
                </a:moveTo>
                <a:arcTo wR="10800" hR="10800" stAng="-5224478" swAng="522447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549440" y="2708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635280" y="1773360"/>
            <a:ext cx="518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D 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аллелограмм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 = 8, 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A 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Rectangle 8"/>
              <p:cNvSpPr txBox="1"/>
              <p:nvPr/>
            </p:nvSpPr>
            <p:spPr>
              <a:xfrm>
                <a:off x="5867280" y="1844640"/>
                <a:ext cx="23832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Rectangle 8"/>
              <p:cNvSpPr txBox="1"/>
              <p:nvPr/>
            </p:nvSpPr>
            <p:spPr>
              <a:xfrm>
                <a:off x="4211640" y="3213000"/>
                <a:ext cx="3533760" cy="28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rPr>
                            <m:lit/>
                            <m:nor/>
                          </m:rPr>
                          <m:t xml:space="preserve">свойству</m:t>
                        </m:r>
                        <m:r>
                          <m:rPr>
                            <m:lit/>
                            <m:nor/>
                          </m:rPr>
                          <m:t xml:space="preserve">пара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51280" y="1773360"/>
            <a:ext cx="4402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D 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аллелограмм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В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, ВМ =3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Rectangle 8"/>
              <p:cNvSpPr txBox="1"/>
              <p:nvPr/>
            </p:nvSpPr>
            <p:spPr>
              <a:xfrm>
                <a:off x="4427640" y="2133720"/>
                <a:ext cx="24480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M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BH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4" name=""/>
          <p:cNvSpPr/>
          <p:nvPr/>
        </p:nvSpPr>
        <p:spPr>
          <a:xfrm>
            <a:off x="2916360" y="1557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395280" y="1557360"/>
            <a:ext cx="2867040" cy="2014920"/>
            <a:chOff x="395280" y="1557360"/>
            <a:chExt cx="2867040" cy="2014920"/>
          </a:xfrm>
        </p:grpSpPr>
        <p:grpSp>
          <p:nvGrpSpPr>
            <p:cNvPr id="606" name=""/>
            <p:cNvGrpSpPr/>
            <p:nvPr/>
          </p:nvGrpSpPr>
          <p:grpSpPr>
            <a:xfrm>
              <a:off x="610920" y="2070720"/>
              <a:ext cx="2376360" cy="928080"/>
              <a:chOff x="610920" y="2070720"/>
              <a:chExt cx="2376360" cy="928080"/>
            </a:xfrm>
          </p:grpSpPr>
          <p:sp>
            <p:nvSpPr>
              <p:cNvPr id="607" name=""/>
              <p:cNvSpPr/>
              <p:nvPr/>
            </p:nvSpPr>
            <p:spPr>
              <a:xfrm>
                <a:off x="1023480" y="2070720"/>
                <a:ext cx="0" cy="92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023480" y="2070720"/>
                <a:ext cx="1654200" cy="61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1280" y="2998800"/>
                <a:ext cx="1963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2574720" y="2070720"/>
                <a:ext cx="412200" cy="928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610920" y="2070720"/>
                <a:ext cx="412200" cy="928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023480" y="2070720"/>
                <a:ext cx="1963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395280" y="3204000"/>
              <a:ext cx="72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55640" y="1557360"/>
              <a:ext cx="4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411280" y="3101760"/>
              <a:ext cx="48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700360" y="24836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26920" y="31017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899640" y="279288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900000" y="2792880"/>
              <a:ext cx="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627280" y="2381760"/>
              <a:ext cx="14436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2556000" y="2381760"/>
              <a:ext cx="71280" cy="20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22" name="Rectangle 8"/>
              <p:cNvSpPr txBox="1"/>
              <p:nvPr/>
            </p:nvSpPr>
            <p:spPr>
              <a:xfrm>
                <a:off x="4249800" y="3330720"/>
                <a:ext cx="2554200" cy="35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M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CD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Домашнее задани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ы для повторения к глав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– 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59(б), № 46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вести формулу площади дельтои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Подведение итогов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4360" y="4076640"/>
            <a:ext cx="58179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  Площадь треугольника равна полов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изведения его высоты на сторону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торой она проведе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 =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·a =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·b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 =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ru-RU" sz="2400" spc="-1" strike="noStrike" baseline="-25000">
                <a:solidFill>
                  <a:srgbClr val="0000ff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·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Rectangle 8"/>
              <p:cNvSpPr txBox="1"/>
              <p:nvPr/>
            </p:nvSpPr>
            <p:spPr>
              <a:xfrm>
                <a:off x="3132000" y="4941720"/>
                <a:ext cx="1954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4140360" y="4941720"/>
                <a:ext cx="1872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2195640" y="4941720"/>
                <a:ext cx="1951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30" name=""/>
          <p:cNvGrpSpPr/>
          <p:nvPr/>
        </p:nvGrpSpPr>
        <p:grpSpPr>
          <a:xfrm>
            <a:off x="6300720" y="3860280"/>
            <a:ext cx="1800000" cy="1879920"/>
            <a:chOff x="6300720" y="3860280"/>
            <a:chExt cx="1800000" cy="1879920"/>
          </a:xfrm>
        </p:grpSpPr>
        <p:grpSp>
          <p:nvGrpSpPr>
            <p:cNvPr id="631" name=""/>
            <p:cNvGrpSpPr/>
            <p:nvPr/>
          </p:nvGrpSpPr>
          <p:grpSpPr>
            <a:xfrm>
              <a:off x="6372000" y="3860280"/>
              <a:ext cx="1728720" cy="1368720"/>
              <a:chOff x="6372000" y="3860280"/>
              <a:chExt cx="1728720" cy="1368720"/>
            </a:xfrm>
          </p:grpSpPr>
          <p:sp>
            <p:nvSpPr>
              <p:cNvPr id="632" name=""/>
              <p:cNvSpPr/>
              <p:nvPr/>
            </p:nvSpPr>
            <p:spPr>
              <a:xfrm>
                <a:off x="6372000" y="5229000"/>
                <a:ext cx="17287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6372000" y="3860280"/>
                <a:ext cx="504720" cy="1368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876720" y="3860640"/>
                <a:ext cx="1224000" cy="1368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5" name=""/>
            <p:cNvSpPr/>
            <p:nvPr/>
          </p:nvSpPr>
          <p:spPr>
            <a:xfrm>
              <a:off x="6876720" y="386064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6371640" y="4221000"/>
              <a:ext cx="79236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 flipV="1">
              <a:off x="6659280" y="4508280"/>
              <a:ext cx="14414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019640" y="537192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300720" y="4292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524720" y="4292280"/>
              <a:ext cx="21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524720" y="40762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64360" y="48686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88000" y="48686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876720" y="4221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5508720" y="1700280"/>
            <a:ext cx="3166200" cy="1790280"/>
            <a:chOff x="5508720" y="1700280"/>
            <a:chExt cx="3166200" cy="1790280"/>
          </a:xfrm>
        </p:grpSpPr>
        <p:sp>
          <p:nvSpPr>
            <p:cNvPr id="646" name="Line 28"/>
            <p:cNvSpPr/>
            <p:nvPr/>
          </p:nvSpPr>
          <p:spPr>
            <a:xfrm flipV="1">
              <a:off x="5508720" y="1700280"/>
              <a:ext cx="803520" cy="1408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"/>
            <p:cNvGrpSpPr/>
            <p:nvPr/>
          </p:nvGrpSpPr>
          <p:grpSpPr>
            <a:xfrm>
              <a:off x="5508720" y="1700280"/>
              <a:ext cx="3166200" cy="1790280"/>
              <a:chOff x="5508720" y="1700280"/>
              <a:chExt cx="3166200" cy="1790280"/>
            </a:xfrm>
          </p:grpSpPr>
          <p:grpSp>
            <p:nvGrpSpPr>
              <p:cNvPr id="648" name="Group 32"/>
              <p:cNvGrpSpPr/>
              <p:nvPr/>
            </p:nvGrpSpPr>
            <p:grpSpPr>
              <a:xfrm>
                <a:off x="5508720" y="1700280"/>
                <a:ext cx="3166200" cy="1408320"/>
                <a:chOff x="5508720" y="1700280"/>
                <a:chExt cx="3166200" cy="1408320"/>
              </a:xfrm>
            </p:grpSpPr>
            <p:sp>
              <p:nvSpPr>
                <p:cNvPr id="649" name="Line 27"/>
                <p:cNvSpPr/>
                <p:nvPr/>
              </p:nvSpPr>
              <p:spPr>
                <a:xfrm>
                  <a:off x="5508720" y="3108600"/>
                  <a:ext cx="236304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Line 29"/>
                <p:cNvSpPr/>
                <p:nvPr/>
              </p:nvSpPr>
              <p:spPr>
                <a:xfrm>
                  <a:off x="6311880" y="1700280"/>
                  <a:ext cx="236304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Line 31"/>
                <p:cNvSpPr/>
                <p:nvPr/>
              </p:nvSpPr>
              <p:spPr>
                <a:xfrm flipV="1">
                  <a:off x="7871760" y="1700280"/>
                  <a:ext cx="803160" cy="14083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2" name="Line 33"/>
              <p:cNvSpPr/>
              <p:nvPr/>
            </p:nvSpPr>
            <p:spPr>
              <a:xfrm>
                <a:off x="6312240" y="1700280"/>
                <a:ext cx="1738080" cy="1118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34"/>
              <p:cNvSpPr/>
              <p:nvPr/>
            </p:nvSpPr>
            <p:spPr>
              <a:xfrm>
                <a:off x="6312240" y="1700280"/>
                <a:ext cx="0" cy="140832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43"/>
              <p:cNvSpPr/>
              <p:nvPr/>
            </p:nvSpPr>
            <p:spPr>
              <a:xfrm flipH="1">
                <a:off x="6088320" y="2867040"/>
                <a:ext cx="22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44"/>
              <p:cNvSpPr/>
              <p:nvPr/>
            </p:nvSpPr>
            <p:spPr>
              <a:xfrm flipV="1">
                <a:off x="6088680" y="2867040"/>
                <a:ext cx="0" cy="24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7871400" y="2527200"/>
                <a:ext cx="89640" cy="14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961040" y="2527200"/>
                <a:ext cx="178560" cy="14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550120" y="1960920"/>
                <a:ext cx="22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355440" y="2381400"/>
                <a:ext cx="574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8000"/>
                    </a:solidFill>
                    <a:latin typeface="Arial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8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605640" y="3091680"/>
                <a:ext cx="401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255440" y="1872720"/>
                <a:ext cx="574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h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2" name=""/>
          <p:cNvSpPr/>
          <p:nvPr/>
        </p:nvSpPr>
        <p:spPr>
          <a:xfrm>
            <a:off x="684360" y="1628640"/>
            <a:ext cx="5256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69440" indent="-469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щадь параллел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а произведению выс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ограмма на высот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которой она проведе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 = 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·a =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·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900000" y="1773360"/>
            <a:ext cx="777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5000"/>
          </a:bodyPr>
          <a:p>
            <a:pPr marL="133200" indent="-1332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Следствие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лощадь прямоугольног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реугольника равна половине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изведения его кат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Подведение итогов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Rectangle 8"/>
              <p:cNvSpPr txBox="1"/>
              <p:nvPr/>
            </p:nvSpPr>
            <p:spPr>
              <a:xfrm>
                <a:off x="2762280" y="375768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Rectangle 8"/>
              <p:cNvSpPr txBox="1"/>
              <p:nvPr/>
            </p:nvSpPr>
            <p:spPr>
              <a:xfrm>
                <a:off x="6724800" y="258588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755640" y="4005360"/>
            <a:ext cx="7920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Следствие 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сли высоты двух треугольников равны, то их площа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носятся как осн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050920" y="2349360"/>
            <a:ext cx="2160720" cy="1295640"/>
          </a:xfrm>
          <a:prstGeom prst="rtTriangl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763640" y="352116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763640" y="3357720"/>
            <a:ext cx="459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835280" y="2060640"/>
            <a:ext cx="3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119480" y="3448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18000" y="2800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111480" y="352116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219640" y="26370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S =    a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·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Rectangle 8"/>
              <p:cNvSpPr txBox="1"/>
              <p:nvPr/>
            </p:nvSpPr>
            <p:spPr>
              <a:xfrm>
                <a:off x="5651640" y="2565360"/>
                <a:ext cx="2221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7" name=""/>
          <p:cNvSpPr/>
          <p:nvPr/>
        </p:nvSpPr>
        <p:spPr>
          <a:xfrm>
            <a:off x="2050920" y="3429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268360" y="3429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042920" y="4724280"/>
            <a:ext cx="2737080" cy="1297080"/>
          </a:xfrm>
          <a:prstGeom prst="triangle">
            <a:avLst>
              <a:gd name="adj" fmla="val 50000"/>
            </a:avLst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48436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411280" y="4724280"/>
            <a:ext cx="0" cy="129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411280" y="4724280"/>
            <a:ext cx="936720" cy="129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411280" y="5805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556000" y="58053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55640" y="582444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708360" y="58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124000" y="43848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257640" y="5969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268360" y="59500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716360" y="5084640"/>
            <a:ext cx="34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</a:rPr>
              <a:t>ACD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: S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</a:rPr>
              <a:t>DCB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= AD :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33"/>
                </a:solidFill>
                <a:latin typeface="Times New Roman"/>
              </a:rPr>
              <a:t>Задача: Периметр квадрата </a:t>
            </a:r>
            <a:r>
              <a:rPr b="1" i="1" lang="en-US" sz="1800" spc="-1" strike="noStrike">
                <a:solidFill>
                  <a:srgbClr val="330033"/>
                </a:solidFill>
                <a:latin typeface="Times New Roman"/>
              </a:rPr>
              <a:t>РТМК</a:t>
            </a:r>
            <a:r>
              <a:rPr b="0" lang="en-US" sz="1800" spc="-1" strike="noStrike">
                <a:solidFill>
                  <a:srgbClr val="330033"/>
                </a:solidFill>
                <a:latin typeface="Times New Roman"/>
              </a:rPr>
              <a:t> равен  48 см. Найдите площадь пятиугольника </a:t>
            </a:r>
            <a:r>
              <a:rPr b="1" i="1" lang="en-US" sz="1800" spc="-1" strike="noStrike">
                <a:solidFill>
                  <a:srgbClr val="330033"/>
                </a:solidFill>
                <a:latin typeface="Times New Roman"/>
              </a:rPr>
              <a:t>РТМОК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492360" y="2923920"/>
            <a:ext cx="5329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Т=ТМ=М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=Р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=48:4=12 (см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TM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12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2 = 144 (c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T=OP=OK=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T=TM=MK=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∆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T=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P =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OK =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KOM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 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P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K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M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144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 = 36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KP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144 – 36 = 108 (c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твет: 108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635280" y="1557360"/>
            <a:ext cx="381024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ано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ТМК – квадра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РТМК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= 48 с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М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ТК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йти: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РТМ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1332000" y="2349360"/>
            <a:ext cx="1871640" cy="1871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9"/>
          <p:cNvSpPr/>
          <p:nvPr/>
        </p:nvSpPr>
        <p:spPr>
          <a:xfrm>
            <a:off x="1332000" y="2349360"/>
            <a:ext cx="1871640" cy="187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0"/>
          <p:cNvSpPr/>
          <p:nvPr/>
        </p:nvSpPr>
        <p:spPr>
          <a:xfrm flipH="1">
            <a:off x="1331640" y="2349360"/>
            <a:ext cx="1871640" cy="187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1"/>
          <p:cNvSpPr/>
          <p:nvPr/>
        </p:nvSpPr>
        <p:spPr>
          <a:xfrm>
            <a:off x="2266920" y="3141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3132000" y="2062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3132000" y="414972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104292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1042920" y="20620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8"/>
          <p:cNvSpPr/>
          <p:nvPr/>
        </p:nvSpPr>
        <p:spPr>
          <a:xfrm>
            <a:off x="1403280" y="234936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9"/>
          <p:cNvSpPr/>
          <p:nvPr/>
        </p:nvSpPr>
        <p:spPr>
          <a:xfrm>
            <a:off x="1474920" y="234936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0"/>
          <p:cNvSpPr/>
          <p:nvPr/>
        </p:nvSpPr>
        <p:spPr>
          <a:xfrm>
            <a:off x="1547640" y="234936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21"/>
          <p:cNvSpPr/>
          <p:nvPr/>
        </p:nvSpPr>
        <p:spPr>
          <a:xfrm>
            <a:off x="1619280" y="234936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22"/>
          <p:cNvSpPr/>
          <p:nvPr/>
        </p:nvSpPr>
        <p:spPr>
          <a:xfrm>
            <a:off x="1690560" y="234936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23"/>
          <p:cNvSpPr/>
          <p:nvPr/>
        </p:nvSpPr>
        <p:spPr>
          <a:xfrm>
            <a:off x="1763640" y="234936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24"/>
          <p:cNvSpPr/>
          <p:nvPr/>
        </p:nvSpPr>
        <p:spPr>
          <a:xfrm>
            <a:off x="1835280" y="234936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25"/>
          <p:cNvSpPr/>
          <p:nvPr/>
        </p:nvSpPr>
        <p:spPr>
          <a:xfrm>
            <a:off x="1906560" y="234936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26"/>
          <p:cNvSpPr/>
          <p:nvPr/>
        </p:nvSpPr>
        <p:spPr>
          <a:xfrm>
            <a:off x="1978200" y="234936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7"/>
          <p:cNvSpPr/>
          <p:nvPr/>
        </p:nvSpPr>
        <p:spPr>
          <a:xfrm>
            <a:off x="2050920" y="234936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8"/>
          <p:cNvSpPr/>
          <p:nvPr/>
        </p:nvSpPr>
        <p:spPr>
          <a:xfrm>
            <a:off x="2122560" y="234936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29"/>
          <p:cNvSpPr/>
          <p:nvPr/>
        </p:nvSpPr>
        <p:spPr>
          <a:xfrm>
            <a:off x="2193840" y="234936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30"/>
          <p:cNvSpPr/>
          <p:nvPr/>
        </p:nvSpPr>
        <p:spPr>
          <a:xfrm>
            <a:off x="2266920" y="234936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31"/>
          <p:cNvSpPr/>
          <p:nvPr/>
        </p:nvSpPr>
        <p:spPr>
          <a:xfrm>
            <a:off x="2340000" y="2349360"/>
            <a:ext cx="144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2411280" y="23493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33"/>
          <p:cNvSpPr/>
          <p:nvPr/>
        </p:nvSpPr>
        <p:spPr>
          <a:xfrm>
            <a:off x="2482920" y="234936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4"/>
          <p:cNvSpPr/>
          <p:nvPr/>
        </p:nvSpPr>
        <p:spPr>
          <a:xfrm>
            <a:off x="2556000" y="234936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35"/>
          <p:cNvSpPr/>
          <p:nvPr/>
        </p:nvSpPr>
        <p:spPr>
          <a:xfrm>
            <a:off x="2627280" y="2349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36"/>
          <p:cNvSpPr/>
          <p:nvPr/>
        </p:nvSpPr>
        <p:spPr>
          <a:xfrm>
            <a:off x="2698920" y="234936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37"/>
          <p:cNvSpPr/>
          <p:nvPr/>
        </p:nvSpPr>
        <p:spPr>
          <a:xfrm>
            <a:off x="2771640" y="234936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38"/>
          <p:cNvSpPr/>
          <p:nvPr/>
        </p:nvSpPr>
        <p:spPr>
          <a:xfrm>
            <a:off x="2843280" y="234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40"/>
          <p:cNvSpPr/>
          <p:nvPr/>
        </p:nvSpPr>
        <p:spPr>
          <a:xfrm>
            <a:off x="3132000" y="23493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42"/>
          <p:cNvSpPr/>
          <p:nvPr/>
        </p:nvSpPr>
        <p:spPr>
          <a:xfrm>
            <a:off x="298764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43"/>
          <p:cNvSpPr/>
          <p:nvPr/>
        </p:nvSpPr>
        <p:spPr>
          <a:xfrm>
            <a:off x="3059280" y="234936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45"/>
          <p:cNvSpPr/>
          <p:nvPr/>
        </p:nvSpPr>
        <p:spPr>
          <a:xfrm>
            <a:off x="2916360" y="23493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46"/>
          <p:cNvSpPr/>
          <p:nvPr/>
        </p:nvSpPr>
        <p:spPr>
          <a:xfrm flipV="1">
            <a:off x="2340000" y="3357360"/>
            <a:ext cx="14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47"/>
          <p:cNvSpPr/>
          <p:nvPr/>
        </p:nvSpPr>
        <p:spPr>
          <a:xfrm flipV="1">
            <a:off x="2411280" y="34300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48"/>
          <p:cNvSpPr/>
          <p:nvPr/>
        </p:nvSpPr>
        <p:spPr>
          <a:xfrm flipV="1">
            <a:off x="2482920" y="35020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49"/>
          <p:cNvSpPr/>
          <p:nvPr/>
        </p:nvSpPr>
        <p:spPr>
          <a:xfrm flipV="1">
            <a:off x="2556000" y="357480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50"/>
          <p:cNvSpPr/>
          <p:nvPr/>
        </p:nvSpPr>
        <p:spPr>
          <a:xfrm flipV="1">
            <a:off x="2627280" y="36460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51"/>
          <p:cNvSpPr/>
          <p:nvPr/>
        </p:nvSpPr>
        <p:spPr>
          <a:xfrm flipV="1">
            <a:off x="2698920" y="37180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52"/>
          <p:cNvSpPr/>
          <p:nvPr/>
        </p:nvSpPr>
        <p:spPr>
          <a:xfrm flipV="1">
            <a:off x="2771640" y="379080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53"/>
          <p:cNvSpPr/>
          <p:nvPr/>
        </p:nvSpPr>
        <p:spPr>
          <a:xfrm flipV="1">
            <a:off x="2843280" y="38620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58"/>
          <p:cNvSpPr/>
          <p:nvPr/>
        </p:nvSpPr>
        <p:spPr>
          <a:xfrm>
            <a:off x="3132000" y="41497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59"/>
          <p:cNvSpPr/>
          <p:nvPr/>
        </p:nvSpPr>
        <p:spPr>
          <a:xfrm>
            <a:off x="3059280" y="40784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60"/>
          <p:cNvSpPr/>
          <p:nvPr/>
        </p:nvSpPr>
        <p:spPr>
          <a:xfrm>
            <a:off x="2987640" y="40068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61"/>
          <p:cNvSpPr/>
          <p:nvPr/>
        </p:nvSpPr>
        <p:spPr>
          <a:xfrm>
            <a:off x="2916360" y="39337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4859280" y="2276640"/>
                <a:ext cx="21132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627280" y="0"/>
            <a:ext cx="2952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Задача №44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924360" y="836640"/>
            <a:ext cx="4330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Дано: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ABCD 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- прямоугольник;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AE 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 BC = M; AM = ME;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DE  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BC = N.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Доказать: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3300"/>
                </a:solidFill>
                <a:latin typeface="Arial"/>
              </a:rPr>
              <a:t>ABCD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 = S</a:t>
            </a:r>
            <a:r>
              <a:rPr b="0" lang="en-US" sz="1600" spc="-1" strike="noStrike" baseline="-25000">
                <a:solidFill>
                  <a:srgbClr val="003300"/>
                </a:solidFill>
                <a:latin typeface="Arial"/>
              </a:rPr>
              <a:t>AED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Доказательство.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395280" y="907920"/>
            <a:ext cx="2952720" cy="3105360"/>
            <a:chOff x="395280" y="907920"/>
            <a:chExt cx="2952720" cy="3105360"/>
          </a:xfrm>
        </p:grpSpPr>
        <p:sp>
          <p:nvSpPr>
            <p:cNvPr id="449" name="Rectangle 5"/>
            <p:cNvSpPr/>
            <p:nvPr/>
          </p:nvSpPr>
          <p:spPr>
            <a:xfrm>
              <a:off x="682560" y="2419560"/>
              <a:ext cx="2160720" cy="1152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6"/>
            <p:cNvSpPr/>
            <p:nvPr/>
          </p:nvSpPr>
          <p:spPr>
            <a:xfrm>
              <a:off x="1546200" y="1268280"/>
              <a:ext cx="0" cy="2303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7"/>
            <p:cNvSpPr/>
            <p:nvPr/>
          </p:nvSpPr>
          <p:spPr>
            <a:xfrm flipV="1">
              <a:off x="682560" y="2419200"/>
              <a:ext cx="431640" cy="1152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 flipV="1">
              <a:off x="1114200" y="1268280"/>
              <a:ext cx="432000" cy="115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9"/>
            <p:cNvSpPr/>
            <p:nvPr/>
          </p:nvSpPr>
          <p:spPr>
            <a:xfrm>
              <a:off x="1546200" y="1268280"/>
              <a:ext cx="1297080" cy="230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10"/>
            <p:cNvSpPr/>
            <p:nvPr/>
          </p:nvSpPr>
          <p:spPr>
            <a:xfrm>
              <a:off x="826920" y="2852640"/>
              <a:ext cx="14472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11"/>
            <p:cNvSpPr/>
            <p:nvPr/>
          </p:nvSpPr>
          <p:spPr>
            <a:xfrm>
              <a:off x="1187280" y="1916280"/>
              <a:ext cx="1429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12"/>
            <p:cNvSpPr/>
            <p:nvPr/>
          </p:nvSpPr>
          <p:spPr>
            <a:xfrm>
              <a:off x="466560" y="357192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13"/>
            <p:cNvSpPr/>
            <p:nvPr/>
          </p:nvSpPr>
          <p:spPr>
            <a:xfrm>
              <a:off x="395280" y="21319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14"/>
            <p:cNvSpPr/>
            <p:nvPr/>
          </p:nvSpPr>
          <p:spPr>
            <a:xfrm>
              <a:off x="2771640" y="2060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16"/>
            <p:cNvSpPr/>
            <p:nvPr/>
          </p:nvSpPr>
          <p:spPr>
            <a:xfrm>
              <a:off x="2771640" y="357192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7"/>
            <p:cNvSpPr/>
            <p:nvPr/>
          </p:nvSpPr>
          <p:spPr>
            <a:xfrm>
              <a:off x="826920" y="2419560"/>
              <a:ext cx="0" cy="14436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8"/>
            <p:cNvSpPr/>
            <p:nvPr/>
          </p:nvSpPr>
          <p:spPr>
            <a:xfrm flipH="1">
              <a:off x="682200" y="2563920"/>
              <a:ext cx="144360" cy="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19"/>
            <p:cNvSpPr/>
            <p:nvPr/>
          </p:nvSpPr>
          <p:spPr>
            <a:xfrm>
              <a:off x="1546200" y="2203560"/>
              <a:ext cx="144360" cy="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20"/>
            <p:cNvSpPr/>
            <p:nvPr/>
          </p:nvSpPr>
          <p:spPr>
            <a:xfrm>
              <a:off x="1690560" y="2203560"/>
              <a:ext cx="0" cy="21600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21"/>
            <p:cNvSpPr/>
            <p:nvPr/>
          </p:nvSpPr>
          <p:spPr>
            <a:xfrm>
              <a:off x="826920" y="206064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22"/>
            <p:cNvSpPr/>
            <p:nvPr/>
          </p:nvSpPr>
          <p:spPr>
            <a:xfrm>
              <a:off x="2122560" y="20606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23"/>
            <p:cNvSpPr/>
            <p:nvPr/>
          </p:nvSpPr>
          <p:spPr>
            <a:xfrm>
              <a:off x="1474560" y="90792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189"/>
            <p:cNvSpPr/>
            <p:nvPr/>
          </p:nvSpPr>
          <p:spPr>
            <a:xfrm>
              <a:off x="1546200" y="1916280"/>
              <a:ext cx="504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330200" y="36450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546200" y="3427560"/>
              <a:ext cx="144360" cy="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690560" y="3427560"/>
              <a:ext cx="0" cy="14436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4932360" y="1484280"/>
                <a:ext cx="15228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4932360" y="1197000"/>
                <a:ext cx="15228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1259280" y="21081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Любые два равновеликих  многоугольника  равносоставленны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353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Теорема Бойяи – Гервина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Ф.Бойяи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венгерский математик, доказал это утверждение в 183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.Герв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емецкий математик–любитель, независимо от Ф.Бойяи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азал её в 1833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ствие: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любой многоугольник можно разрезать на такие части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з которых можно составить равновеликий это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многоугольнику квадр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азательство теоремы </a:t>
            </a:r>
            <a:r>
              <a:rPr b="0" lang="ru-RU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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литератур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Ф.Каган «О преобразовании многогранников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Г.Болтянский «Равновеликие и равносоставленные фигуры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908000" y="1628640"/>
            <a:ext cx="6480360" cy="0"/>
          </a:xfrm>
          <a:prstGeom prst="line">
            <a:avLst/>
          </a:prstGeom>
          <a:ln w="57240">
            <a:solidFill>
              <a:srgbClr val="990033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2195640" y="1341360"/>
            <a:ext cx="5905440" cy="287280"/>
            <a:chOff x="2195640" y="1341360"/>
            <a:chExt cx="5905440" cy="287280"/>
          </a:xfrm>
        </p:grpSpPr>
        <p:sp>
          <p:nvSpPr>
            <p:cNvPr id="478" name=""/>
            <p:cNvSpPr/>
            <p:nvPr/>
          </p:nvSpPr>
          <p:spPr>
            <a:xfrm flipV="1">
              <a:off x="2195640" y="1341360"/>
              <a:ext cx="0" cy="2872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2916360" y="1341360"/>
              <a:ext cx="0" cy="2872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3708360" y="1341360"/>
              <a:ext cx="0" cy="2872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4572000" y="1341360"/>
              <a:ext cx="0" cy="2872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5435640" y="1341360"/>
              <a:ext cx="0" cy="2872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7308720" y="1341360"/>
              <a:ext cx="0" cy="2872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6372360" y="1341360"/>
              <a:ext cx="0" cy="2872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8101080" y="1341360"/>
              <a:ext cx="0" cy="2872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Дано:  АВС </a:t>
            </a:r>
            <a:r>
              <a:rPr b="0" lang="en-US" sz="2000" spc="-1" strike="noStrike">
                <a:solidFill>
                  <a:srgbClr val="330033"/>
                </a:solidFill>
                <a:latin typeface="Times New Roman"/>
              </a:rPr>
              <a:t>D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– параллелограмм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ВМ      </a:t>
            </a:r>
            <a:r>
              <a:rPr b="0" lang="en-US" sz="2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А</a:t>
            </a:r>
            <a:r>
              <a:rPr b="0" lang="en-US" sz="2000" spc="-1" strike="noStrike">
                <a:solidFill>
                  <a:srgbClr val="330033"/>
                </a:solidFill>
                <a:latin typeface="Times New Roman"/>
              </a:rPr>
              <a:t>D,    CN      AD,  BC = 9 c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м</a:t>
            </a:r>
            <a:r>
              <a:rPr b="0" lang="en-US" sz="2000" spc="-1" strike="noStrike">
                <a:solidFill>
                  <a:srgbClr val="330033"/>
                </a:solidFill>
                <a:latin typeface="Times New Roman"/>
              </a:rPr>
              <a:t>,  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ВМ</a:t>
            </a:r>
            <a:r>
              <a:rPr b="0" lang="en-US" sz="2000" spc="-1" strike="noStrike">
                <a:solidFill>
                  <a:srgbClr val="330033"/>
                </a:solidFill>
                <a:latin typeface="Times New Roman"/>
              </a:rPr>
              <a:t> = 4 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см.</a:t>
            </a:r>
            <a:r>
              <a:rPr b="0" lang="en-US" sz="20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76720" y="1600200"/>
            <a:ext cx="36720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йти:  - равновелики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игуры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S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BC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S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BC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37"/>
          <p:cNvGrpSpPr/>
          <p:nvPr/>
        </p:nvGrpSpPr>
        <p:grpSpPr>
          <a:xfrm>
            <a:off x="684360" y="1773360"/>
            <a:ext cx="4897080" cy="2727360"/>
            <a:chOff x="684360" y="1773360"/>
            <a:chExt cx="4897080" cy="2727360"/>
          </a:xfrm>
        </p:grpSpPr>
        <p:grpSp>
          <p:nvGrpSpPr>
            <p:cNvPr id="489" name="Group 7"/>
            <p:cNvGrpSpPr/>
            <p:nvPr/>
          </p:nvGrpSpPr>
          <p:grpSpPr>
            <a:xfrm>
              <a:off x="1889640" y="2184840"/>
              <a:ext cx="2890080" cy="1949040"/>
              <a:chOff x="1889640" y="2184840"/>
              <a:chExt cx="2890080" cy="1949040"/>
            </a:xfrm>
          </p:grpSpPr>
          <p:sp>
            <p:nvSpPr>
              <p:cNvPr id="490" name="Line 5"/>
              <p:cNvSpPr/>
              <p:nvPr/>
            </p:nvSpPr>
            <p:spPr>
              <a:xfrm flipH="1">
                <a:off x="1889640" y="2184840"/>
                <a:ext cx="28900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Line 6"/>
              <p:cNvSpPr/>
              <p:nvPr/>
            </p:nvSpPr>
            <p:spPr>
              <a:xfrm flipH="1">
                <a:off x="3896280" y="2184840"/>
                <a:ext cx="883440" cy="19490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9"/>
            <p:cNvGrpSpPr/>
            <p:nvPr/>
          </p:nvGrpSpPr>
          <p:grpSpPr>
            <a:xfrm>
              <a:off x="1006560" y="2184840"/>
              <a:ext cx="2889720" cy="1949040"/>
              <a:chOff x="1006560" y="2184840"/>
              <a:chExt cx="2889720" cy="1949040"/>
            </a:xfrm>
          </p:grpSpPr>
          <p:sp>
            <p:nvSpPr>
              <p:cNvPr id="493" name="Line 10"/>
              <p:cNvSpPr/>
              <p:nvPr/>
            </p:nvSpPr>
            <p:spPr>
              <a:xfrm>
                <a:off x="1006560" y="4133880"/>
                <a:ext cx="2889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Line 11"/>
              <p:cNvSpPr/>
              <p:nvPr/>
            </p:nvSpPr>
            <p:spPr>
              <a:xfrm flipV="1">
                <a:off x="1006560" y="2184840"/>
                <a:ext cx="883080" cy="19490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5" name="Line 20"/>
            <p:cNvSpPr/>
            <p:nvPr/>
          </p:nvSpPr>
          <p:spPr>
            <a:xfrm flipH="1">
              <a:off x="1006560" y="2184840"/>
              <a:ext cx="882720" cy="194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21"/>
            <p:cNvSpPr/>
            <p:nvPr/>
          </p:nvSpPr>
          <p:spPr>
            <a:xfrm>
              <a:off x="1889640" y="2184840"/>
              <a:ext cx="1800" cy="1947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22"/>
            <p:cNvSpPr/>
            <p:nvPr/>
          </p:nvSpPr>
          <p:spPr>
            <a:xfrm flipH="1">
              <a:off x="1006560" y="4132440"/>
              <a:ext cx="882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23"/>
            <p:cNvSpPr/>
            <p:nvPr/>
          </p:nvSpPr>
          <p:spPr>
            <a:xfrm flipV="1">
              <a:off x="3895200" y="2184480"/>
              <a:ext cx="882720" cy="19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24"/>
            <p:cNvSpPr/>
            <p:nvPr/>
          </p:nvSpPr>
          <p:spPr>
            <a:xfrm>
              <a:off x="4777920" y="2184840"/>
              <a:ext cx="1800" cy="1947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25"/>
            <p:cNvSpPr/>
            <p:nvPr/>
          </p:nvSpPr>
          <p:spPr>
            <a:xfrm>
              <a:off x="3895200" y="4132440"/>
              <a:ext cx="88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26"/>
            <p:cNvSpPr/>
            <p:nvPr/>
          </p:nvSpPr>
          <p:spPr>
            <a:xfrm flipH="1">
              <a:off x="4537080" y="3824640"/>
              <a:ext cx="2404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27"/>
            <p:cNvSpPr/>
            <p:nvPr/>
          </p:nvSpPr>
          <p:spPr>
            <a:xfrm>
              <a:off x="4537080" y="3824640"/>
              <a:ext cx="1800" cy="30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28"/>
            <p:cNvSpPr/>
            <p:nvPr/>
          </p:nvSpPr>
          <p:spPr>
            <a:xfrm flipH="1">
              <a:off x="1646640" y="3824640"/>
              <a:ext cx="242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29"/>
            <p:cNvSpPr/>
            <p:nvPr/>
          </p:nvSpPr>
          <p:spPr>
            <a:xfrm>
              <a:off x="1647000" y="3824640"/>
              <a:ext cx="1800" cy="30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31"/>
            <p:cNvSpPr/>
            <p:nvPr/>
          </p:nvSpPr>
          <p:spPr>
            <a:xfrm>
              <a:off x="684360" y="3824640"/>
              <a:ext cx="72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32"/>
            <p:cNvSpPr/>
            <p:nvPr/>
          </p:nvSpPr>
          <p:spPr>
            <a:xfrm>
              <a:off x="1567440" y="1773360"/>
              <a:ext cx="4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33"/>
            <p:cNvSpPr/>
            <p:nvPr/>
          </p:nvSpPr>
          <p:spPr>
            <a:xfrm>
              <a:off x="3735720" y="4132440"/>
              <a:ext cx="48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34"/>
            <p:cNvSpPr/>
            <p:nvPr/>
          </p:nvSpPr>
          <p:spPr>
            <a:xfrm>
              <a:off x="4698720" y="1773360"/>
              <a:ext cx="88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35"/>
            <p:cNvSpPr/>
            <p:nvPr/>
          </p:nvSpPr>
          <p:spPr>
            <a:xfrm>
              <a:off x="4618800" y="4132440"/>
              <a:ext cx="56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36"/>
            <p:cNvSpPr/>
            <p:nvPr/>
          </p:nvSpPr>
          <p:spPr>
            <a:xfrm>
              <a:off x="1647000" y="4132440"/>
              <a:ext cx="8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Group 41"/>
          <p:cNvGrpSpPr/>
          <p:nvPr/>
        </p:nvGrpSpPr>
        <p:grpSpPr>
          <a:xfrm>
            <a:off x="1476360" y="1052280"/>
            <a:ext cx="287280" cy="216000"/>
            <a:chOff x="1476360" y="1052280"/>
            <a:chExt cx="287280" cy="216000"/>
          </a:xfrm>
        </p:grpSpPr>
        <p:sp>
          <p:nvSpPr>
            <p:cNvPr id="512" name="Line 38"/>
            <p:cNvSpPr/>
            <p:nvPr/>
          </p:nvSpPr>
          <p:spPr>
            <a:xfrm>
              <a:off x="1476360" y="126828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40"/>
            <p:cNvSpPr/>
            <p:nvPr/>
          </p:nvSpPr>
          <p:spPr>
            <a:xfrm flipV="1">
              <a:off x="1620720" y="1052280"/>
              <a:ext cx="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45"/>
          <p:cNvGrpSpPr/>
          <p:nvPr/>
        </p:nvGrpSpPr>
        <p:grpSpPr>
          <a:xfrm>
            <a:off x="2987640" y="1052280"/>
            <a:ext cx="287280" cy="216000"/>
            <a:chOff x="2987640" y="1052280"/>
            <a:chExt cx="287280" cy="216000"/>
          </a:xfrm>
        </p:grpSpPr>
        <p:sp>
          <p:nvSpPr>
            <p:cNvPr id="515" name="Line 46"/>
            <p:cNvSpPr/>
            <p:nvPr/>
          </p:nvSpPr>
          <p:spPr>
            <a:xfrm>
              <a:off x="2987640" y="126828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47"/>
            <p:cNvSpPr/>
            <p:nvPr/>
          </p:nvSpPr>
          <p:spPr>
            <a:xfrm flipV="1">
              <a:off x="3132000" y="1052280"/>
              <a:ext cx="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900000" y="1628280"/>
            <a:ext cx="77724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Площадь параллелограмма    </a:t>
            </a: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         и  треугольни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1619280" y="2997360"/>
            <a:ext cx="5113440" cy="2087280"/>
          </a:xfrm>
          <a:prstGeom prst="parallelogram">
            <a:avLst>
              <a:gd name="adj" fmla="val 61245"/>
            </a:avLst>
          </a:prstGeom>
          <a:solidFill>
            <a:srgbClr val="cc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33"/>
          <p:cNvSpPr/>
          <p:nvPr/>
        </p:nvSpPr>
        <p:spPr>
          <a:xfrm flipV="1">
            <a:off x="2627280" y="1125000"/>
            <a:ext cx="1440000" cy="23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39"/>
          <p:cNvSpPr/>
          <p:nvPr/>
        </p:nvSpPr>
        <p:spPr>
          <a:xfrm flipH="1">
            <a:off x="4427640" y="5084640"/>
            <a:ext cx="1008000" cy="165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33"/>
          <p:cNvSpPr/>
          <p:nvPr/>
        </p:nvSpPr>
        <p:spPr>
          <a:xfrm>
            <a:off x="2916360" y="2997360"/>
            <a:ext cx="2808000" cy="165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34"/>
          <p:cNvSpPr/>
          <p:nvPr/>
        </p:nvSpPr>
        <p:spPr>
          <a:xfrm>
            <a:off x="2916360" y="2997360"/>
            <a:ext cx="0" cy="20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37"/>
          <p:cNvSpPr/>
          <p:nvPr/>
        </p:nvSpPr>
        <p:spPr>
          <a:xfrm>
            <a:off x="1619280" y="5084640"/>
            <a:ext cx="2808360" cy="1656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41"/>
          <p:cNvSpPr/>
          <p:nvPr/>
        </p:nvSpPr>
        <p:spPr>
          <a:xfrm flipH="1" flipV="1">
            <a:off x="4284720" y="6308640"/>
            <a:ext cx="287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42"/>
          <p:cNvSpPr/>
          <p:nvPr/>
        </p:nvSpPr>
        <p:spPr>
          <a:xfrm flipH="1">
            <a:off x="4140000" y="6308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43"/>
          <p:cNvSpPr/>
          <p:nvPr/>
        </p:nvSpPr>
        <p:spPr>
          <a:xfrm flipH="1">
            <a:off x="255564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44"/>
          <p:cNvSpPr/>
          <p:nvPr/>
        </p:nvSpPr>
        <p:spPr>
          <a:xfrm flipV="1">
            <a:off x="2556000" y="472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45"/>
          <p:cNvSpPr/>
          <p:nvPr/>
        </p:nvSpPr>
        <p:spPr>
          <a:xfrm flipV="1">
            <a:off x="5364000" y="407628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46"/>
          <p:cNvSpPr/>
          <p:nvPr/>
        </p:nvSpPr>
        <p:spPr>
          <a:xfrm>
            <a:off x="5580000" y="407664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26"/>
          <p:cNvSpPr/>
          <p:nvPr/>
        </p:nvSpPr>
        <p:spPr>
          <a:xfrm flipV="1">
            <a:off x="1619280" y="2997360"/>
            <a:ext cx="0" cy="2087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27"/>
          <p:cNvSpPr/>
          <p:nvPr/>
        </p:nvSpPr>
        <p:spPr>
          <a:xfrm flipH="1">
            <a:off x="1042560" y="299736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0"/>
          <p:cNvSpPr/>
          <p:nvPr/>
        </p:nvSpPr>
        <p:spPr>
          <a:xfrm>
            <a:off x="1619280" y="328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31"/>
          <p:cNvSpPr/>
          <p:nvPr/>
        </p:nvSpPr>
        <p:spPr>
          <a:xfrm flipH="1" flipV="1">
            <a:off x="1906560" y="2997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32"/>
          <p:cNvSpPr/>
          <p:nvPr/>
        </p:nvSpPr>
        <p:spPr>
          <a:xfrm>
            <a:off x="5435640" y="50864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33"/>
          <p:cNvSpPr/>
          <p:nvPr/>
        </p:nvSpPr>
        <p:spPr>
          <a:xfrm>
            <a:off x="3924360" y="1341360"/>
            <a:ext cx="2808360" cy="1656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36"/>
          <p:cNvSpPr/>
          <p:nvPr/>
        </p:nvSpPr>
        <p:spPr>
          <a:xfrm flipV="1">
            <a:off x="6732720" y="2997360"/>
            <a:ext cx="0" cy="20872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7"/>
          <p:cNvSpPr/>
          <p:nvPr/>
        </p:nvSpPr>
        <p:spPr>
          <a:xfrm flipH="1">
            <a:off x="3995280" y="148428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38"/>
          <p:cNvSpPr/>
          <p:nvPr/>
        </p:nvSpPr>
        <p:spPr>
          <a:xfrm flipH="1" flipV="1">
            <a:off x="3779640" y="1557000"/>
            <a:ext cx="215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39"/>
          <p:cNvSpPr/>
          <p:nvPr/>
        </p:nvSpPr>
        <p:spPr>
          <a:xfrm flipH="1">
            <a:off x="6516720" y="48704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40"/>
          <p:cNvSpPr/>
          <p:nvPr/>
        </p:nvSpPr>
        <p:spPr>
          <a:xfrm>
            <a:off x="6516720" y="48704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2627280" y="2997360"/>
            <a:ext cx="2808360" cy="2087280"/>
            <a:chOff x="2627280" y="2997360"/>
            <a:chExt cx="2808360" cy="2087280"/>
          </a:xfrm>
        </p:grpSpPr>
        <p:sp>
          <p:nvSpPr>
            <p:cNvPr id="542" name="Line 41"/>
            <p:cNvSpPr/>
            <p:nvPr/>
          </p:nvSpPr>
          <p:spPr>
            <a:xfrm flipV="1">
              <a:off x="5435640" y="2997360"/>
              <a:ext cx="0" cy="208728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33"/>
            <p:cNvSpPr/>
            <p:nvPr/>
          </p:nvSpPr>
          <p:spPr>
            <a:xfrm>
              <a:off x="2627280" y="3429000"/>
              <a:ext cx="2808360" cy="165564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Line 47"/>
          <p:cNvSpPr/>
          <p:nvPr/>
        </p:nvSpPr>
        <p:spPr>
          <a:xfrm>
            <a:off x="5651640" y="299736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48"/>
          <p:cNvSpPr/>
          <p:nvPr/>
        </p:nvSpPr>
        <p:spPr>
          <a:xfrm flipH="1">
            <a:off x="5435640" y="3213000"/>
            <a:ext cx="21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2700360" y="3573360"/>
            <a:ext cx="1555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1116000" y="5157720"/>
            <a:ext cx="50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5435640" y="5084640"/>
            <a:ext cx="50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6732720" y="2492280"/>
            <a:ext cx="50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2340000" y="2492280"/>
            <a:ext cx="50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2484360" y="364464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47640" y="18900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Сколько высот можно провести в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параллелограмме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250" autoRev="1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animClr clrSpc="rgb">
                                      <p:cBhvr>
                                        <p:cTn id="183" dur="250" autoRev="1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4" dur="250" autoRev="1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250" autoRev="1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animClr clrSpc="rgb">
                                      <p:cBhvr>
                                        <p:cTn id="202" dur="250" autoRev="1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03" dur="250" autoRev="1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50" autoRev="1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animClr clrSpc="rgb">
                                      <p:cBhvr>
                                        <p:cTn id="222" dur="250" autoRev="1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23" dur="250" autoRev="1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250" autoRev="1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animClr clrSpc="rgb">
                                      <p:cBhvr>
                                        <p:cTn id="244" dur="250" autoRev="1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45" dur="250" autoRev="1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500"/>
                            </p:stCondLst>
                            <p:childTnLst>
                              <p:par>
                                <p:cTn id="263" nodeType="after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264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250" autoRev="1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animClr clrSpc="rgb">
                                      <p:cBhvr>
                                        <p:cTn id="268" dur="250" autoRev="1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69" dur="250" autoRev="1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500"/>
                            </p:stCondLst>
                            <p:childTnLst>
                              <p:par>
                                <p:cTn id="2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7000"/>
                            </p:stCondLst>
                            <p:childTnLst>
                              <p:par>
                                <p:cTn id="2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750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8000"/>
                            </p:stCondLst>
                            <p:childTnLst>
                              <p:par>
                                <p:cTn id="28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9000"/>
                            </p:stCondLst>
                            <p:childTnLst>
                              <p:par>
                                <p:cTn id="29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250" autoRev="1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animClr clrSpc="rgb">
                                      <p:cBhvr>
                                        <p:cTn id="294" dur="250" autoRev="1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95" dur="250" autoRev="1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9500"/>
                            </p:stCondLst>
                            <p:childTnLst>
                              <p:par>
                                <p:cTn id="2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 = a·h</a:t>
            </a:r>
            <a:r>
              <a:rPr b="0" lang="en-US" sz="3600" spc="-1" strike="noStrike" baseline="-25000">
                <a:solidFill>
                  <a:srgbClr val="330033"/>
                </a:solidFill>
                <a:latin typeface="Times New Roman"/>
              </a:rPr>
              <a:t>a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= b·h</a:t>
            </a:r>
            <a:r>
              <a:rPr b="0" lang="en-US" sz="3600" spc="-1" strike="noStrike" baseline="-25000">
                <a:solidFill>
                  <a:srgbClr val="330033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1619280" y="2997360"/>
            <a:ext cx="5113440" cy="2691720"/>
            <a:chOff x="1619280" y="2997360"/>
            <a:chExt cx="5113440" cy="2691720"/>
          </a:xfrm>
        </p:grpSpPr>
        <p:sp>
          <p:nvSpPr>
            <p:cNvPr id="555" name="Line 28"/>
            <p:cNvSpPr/>
            <p:nvPr/>
          </p:nvSpPr>
          <p:spPr>
            <a:xfrm flipV="1">
              <a:off x="1619280" y="2997360"/>
              <a:ext cx="1297080" cy="2087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1619280" y="2997360"/>
              <a:ext cx="5113440" cy="2691720"/>
              <a:chOff x="1619280" y="2997360"/>
              <a:chExt cx="5113440" cy="2691720"/>
            </a:xfrm>
          </p:grpSpPr>
          <p:grpSp>
            <p:nvGrpSpPr>
              <p:cNvPr id="557" name="Group 32"/>
              <p:cNvGrpSpPr/>
              <p:nvPr/>
            </p:nvGrpSpPr>
            <p:grpSpPr>
              <a:xfrm>
                <a:off x="1619280" y="2997360"/>
                <a:ext cx="5113440" cy="2087280"/>
                <a:chOff x="1619280" y="2997360"/>
                <a:chExt cx="5113440" cy="2087280"/>
              </a:xfrm>
            </p:grpSpPr>
            <p:sp>
              <p:nvSpPr>
                <p:cNvPr id="558" name="Line 27"/>
                <p:cNvSpPr/>
                <p:nvPr/>
              </p:nvSpPr>
              <p:spPr>
                <a:xfrm>
                  <a:off x="1619280" y="5084640"/>
                  <a:ext cx="381636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Line 29"/>
                <p:cNvSpPr/>
                <p:nvPr/>
              </p:nvSpPr>
              <p:spPr>
                <a:xfrm>
                  <a:off x="2916360" y="2997360"/>
                  <a:ext cx="381636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1"/>
                <p:cNvSpPr/>
                <p:nvPr/>
              </p:nvSpPr>
              <p:spPr>
                <a:xfrm flipV="1">
                  <a:off x="5435640" y="2997360"/>
                  <a:ext cx="1297080" cy="20872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1" name="Line 33"/>
              <p:cNvSpPr/>
              <p:nvPr/>
            </p:nvSpPr>
            <p:spPr>
              <a:xfrm>
                <a:off x="2916360" y="2997360"/>
                <a:ext cx="2808000" cy="1655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34"/>
              <p:cNvSpPr/>
              <p:nvPr/>
            </p:nvSpPr>
            <p:spPr>
              <a:xfrm>
                <a:off x="2916360" y="2997360"/>
                <a:ext cx="0" cy="2087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Line 43"/>
              <p:cNvSpPr/>
              <p:nvPr/>
            </p:nvSpPr>
            <p:spPr>
              <a:xfrm flipH="1">
                <a:off x="2555640" y="472428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44"/>
              <p:cNvSpPr/>
              <p:nvPr/>
            </p:nvSpPr>
            <p:spPr>
              <a:xfrm flipV="1">
                <a:off x="2556000" y="472392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5435640" y="4221000"/>
                <a:ext cx="14436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580000" y="4221000"/>
                <a:ext cx="28728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500720" y="3500280"/>
                <a:ext cx="647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835280" y="37162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987640" y="4005360"/>
                <a:ext cx="647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564000" y="52293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1" name="Line 39"/>
          <p:cNvSpPr/>
          <p:nvPr/>
        </p:nvSpPr>
        <p:spPr>
          <a:xfrm flipH="1">
            <a:off x="4427640" y="5084640"/>
            <a:ext cx="1008000" cy="165600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37"/>
          <p:cNvSpPr/>
          <p:nvPr/>
        </p:nvSpPr>
        <p:spPr>
          <a:xfrm>
            <a:off x="1619280" y="5084640"/>
            <a:ext cx="2808360" cy="16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41"/>
          <p:cNvSpPr/>
          <p:nvPr/>
        </p:nvSpPr>
        <p:spPr>
          <a:xfrm flipH="1" flipV="1">
            <a:off x="4284720" y="6165720"/>
            <a:ext cx="358560" cy="216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42"/>
          <p:cNvSpPr/>
          <p:nvPr/>
        </p:nvSpPr>
        <p:spPr>
          <a:xfrm flipH="1">
            <a:off x="4067280" y="6165720"/>
            <a:ext cx="217440" cy="3589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500"/>
                            </p:stCondLst>
                            <p:childTnLst>
                              <p:par>
                                <p:cTn id="3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779640" y="155700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о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араллелограм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 = 10,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= 1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=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C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Rectangle 8"/>
              <p:cNvSpPr txBox="1"/>
              <p:nvPr/>
            </p:nvSpPr>
            <p:spPr>
              <a:xfrm>
                <a:off x="4087800" y="2997360"/>
                <a:ext cx="3870360" cy="16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7" name=""/>
          <p:cNvSpPr/>
          <p:nvPr/>
        </p:nvSpPr>
        <p:spPr>
          <a:xfrm>
            <a:off x="1258920" y="2060640"/>
            <a:ext cx="2017800" cy="936720"/>
          </a:xfrm>
          <a:prstGeom prst="parallelogram">
            <a:avLst>
              <a:gd name="adj" fmla="val 53853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763640" y="2060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403280" y="2781360"/>
            <a:ext cx="85680" cy="216000"/>
          </a:xfrm>
          <a:custGeom>
            <a:avLst/>
            <a:gdLst/>
            <a:ahLst/>
            <a:rect l="l" t="t" r="r" b="b"/>
            <a:pathLst>
              <a:path w="54" h="136">
                <a:moveTo>
                  <a:pt x="0" y="0"/>
                </a:moveTo>
                <a:cubicBezTo>
                  <a:pt x="19" y="15"/>
                  <a:pt x="38" y="30"/>
                  <a:pt x="46" y="45"/>
                </a:cubicBezTo>
                <a:cubicBezTo>
                  <a:pt x="54" y="60"/>
                  <a:pt x="46" y="75"/>
                  <a:pt x="46" y="90"/>
                </a:cubicBezTo>
                <a:cubicBezTo>
                  <a:pt x="46" y="105"/>
                  <a:pt x="46" y="128"/>
                  <a:pt x="46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332000" y="26370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30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116000" y="299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547640" y="17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203640" y="17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700360" y="299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619280" y="3068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050920" y="263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116000" y="22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Rectangle 8"/>
              <p:cNvSpPr txBox="1"/>
              <p:nvPr/>
            </p:nvSpPr>
            <p:spPr>
              <a:xfrm>
                <a:off x="5724360" y="1916280"/>
                <a:ext cx="227160" cy="2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4788000" y="5373720"/>
                <a:ext cx="3618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1:19:18Z</dcterms:created>
  <dc:creator>User</dc:creator>
  <dc:description/>
  <dc:language>en-US</dc:language>
  <cp:lastModifiedBy>1</cp:lastModifiedBy>
  <dcterms:modified xsi:type="dcterms:W3CDTF">2008-04-04T05:53:39Z</dcterms:modified>
  <cp:revision>44</cp:revision>
  <dc:subject/>
  <dc:title>Тема: Площадь параллелограмма и           треугольника.</dc:title>
</cp:coreProperties>
</file>