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184-E1D6-4562-9709-D687FB5C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33A-F9FC-4749-B159-245B0E1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E8AF-E83C-4148-B7A9-605811F9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E63-CE28-4FA8-AC87-D05FB106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1AFE-A4D2-4829-991F-A98FAA88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3AE3-F50E-44FD-ABFF-29F8694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F12A-9868-4F5C-8D9E-6C96A85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7350-108D-4151-B43E-1C134A0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2FBB-B65C-4A86-BC3F-65E8D8F4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04A-0835-4412-991D-BB67729E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8C38-BFC3-4CF7-A29F-6BC9998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125-3C2E-4831-9E43-A7AFF1B0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CC7-5779-41C4-92F7-6F3B265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67A-A472-4ADB-A8EA-C3A2D63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30A3-9717-401C-8312-5344F6F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391D-7F9A-4F21-9C7B-79C87CC9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8328-A8BF-42EC-82A3-9E68B737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86A14-FE52-4764-999B-A9307CD7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FE422-30B6-492C-807B-7D0A1F9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4D181-40E3-4347-A321-717D8C7D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3BADC-E613-4069-90FB-DCAEC45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AEF21-A85E-4544-8985-48FDA901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F73-59E4-4529-9909-B6C6FC1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0F32F-87EF-4508-91AD-8072883F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24889-E750-41C2-8334-E7086838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411B7-4359-487E-8565-23316CE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EBACC-F6B1-4A81-83E7-137BCB1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A4923-AE1C-408E-A73F-0604B3E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68176-DB64-4234-A0C3-4E6487B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81187-579D-4655-BB58-2E0ED9A5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315F-74B6-4979-952D-14F10F36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BDCB-F1EA-4962-A067-3254BBD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77EF-C08A-48A9-B158-A52636D6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E3C-AA65-448D-BA48-A17F4D38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25FC-B0C3-4247-A835-6E91C6B7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0665-3D73-404A-BFD6-88DA247A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A0C4-4B37-4603-8A90-0BDE04F1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C2C0-3E00-4645-B33A-DCBAB79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46D9-59E5-4F9F-982E-951BF8B9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D0A1-473B-4765-B967-B084AF6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1AC8-92EF-4D47-BAEF-289747E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5140-3B38-4602-AA9E-727146F1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F37A-88B5-4ED7-A87F-15EB7A6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A1DD-B652-4AB8-BB4D-627284FF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02C-8CA5-4DB6-A864-A395DB94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9F741-BABD-4853-95D2-2778202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EA9B-DB7A-4217-AB04-94E2787C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C63E2-3A9C-4B9E-8437-3ECB1269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01AF-EAB4-4725-A89B-4E182708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D94DA-FE7E-4B92-B0FE-C1BC48B8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8330-2634-48A6-B8D5-09B1ED7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134A5-F3DE-4D69-A609-DC223D65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C3CC-0BF2-442D-B8C2-5EEAA20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DCE5-BB5F-410B-876A-7598712D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538B-E9CE-4E73-AD77-F9BE9280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E88-548E-48A3-A492-5B0F2039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68B9-DE73-4783-B903-2B272DD2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6D397-5A2C-4E62-9AC3-0163A30F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CBEFE-A880-46A6-9407-7EA2B62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55AE9-DFEC-43BB-989A-B9758DA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9F2F-68A4-4759-B7BB-768F836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66684-51FF-41FE-8F1E-7C73DC0B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ADC2B-4BA2-4CBA-87AD-58C0DCE2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7005-3B85-43F6-A89C-FAE01E5A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24AF-07A9-4F4D-818C-669EB93B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1A4A-45E2-4C05-AAE1-1031419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00B-4288-4D25-B22F-85501C7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ECA1-1291-435A-9BB9-4FEC1B1D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2269-90EC-4267-A7F6-162D78AB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1CD72-BFF8-49F3-855B-46DCC261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FE04-1FA5-4F58-8293-6B6B3DDA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3076-9163-4D30-A057-05CA577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236A-99EB-4A03-80F9-5F425992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1A8CB-7DC1-433D-833F-6123B6C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FCC1-603F-4FAB-AFDE-1C888E4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29E5-26E1-4BA1-8322-412ECC99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BFB9-1888-4DD7-946D-25129DD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617-6912-482A-8FBD-BFB94B0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D1EC-13CB-46E5-81A8-45CC1EA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4440D-E855-4762-9A77-D42E171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8437-93DB-4402-AAB7-E89A8356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E104-32DA-40D1-BAEC-BB2E7E74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CDC0-E2D4-40E7-B933-E235F95C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D2E6B-81D2-440B-B455-6526CD77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2F46F-9A84-46FF-8DEE-119F2C3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815BE-F99C-4099-94D4-8437C44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5CD4-E6DF-4DED-AC01-F30297CB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D9DC-2792-4206-BE26-3556073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31F-20D9-48B9-9D69-22C7747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855FA-8C48-45D7-B0EC-C12E609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6E6D-7097-4980-8DA8-C7893AF5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453F-7874-4B58-B66F-4FBB549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ED49-22F5-48CE-B909-339709E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DA8AE-9143-4130-A36B-934EC42A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69A08-8803-489A-86FC-6C327411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2007A-AD95-49D8-AA95-C62FEE05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AFF-1520-416A-A34A-474E880A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5ECC-C133-4876-86FE-FD42A10F6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C0D-0C8B-477B-A4BD-26000FE0F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953F-5858-430D-BD9A-203BDA7F1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DC5-97BA-457E-8088-B3970B96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9D1-B5FD-468F-A600-82DA7ACA6F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9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6905-924F-4325-8CC2-C9AB341A0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86A5-6E19-4C50-87FB-B5346B230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Тема:</a:t>
            </a: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Площадь параллелограмма и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треугольни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ести формулы для вычисления площади параллелограмма и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ть задачи на применение формул площ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; свойств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1476360" y="5445000"/>
            <a:ext cx="2016000" cy="936720"/>
          </a:xfrm>
          <a:prstGeom prst="parallelogram">
            <a:avLst>
              <a:gd name="adj" fmla="val 53805"/>
            </a:avLst>
          </a:prstGeom>
          <a:solidFill>
            <a:srgbClr val="8eaafa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3708360" y="5300640"/>
            <a:ext cx="1224000" cy="1224000"/>
          </a:xfrm>
          <a:prstGeom prst="ellipse">
            <a:avLst/>
          </a:prstGeom>
          <a:solidFill>
            <a:srgbClr val="8bb3c7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5292720" y="4869000"/>
            <a:ext cx="115236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>
            <a:off x="899280" y="1844640"/>
            <a:ext cx="2233800" cy="1295280"/>
          </a:xfrm>
          <a:prstGeom prst="parallelogram">
            <a:avLst>
              <a:gd name="adj" fmla="val 4311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76360" y="1844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73080" y="321300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2720" y="14130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33800" y="306864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29080" y="148428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76360" y="1413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01440" y="2924280"/>
            <a:ext cx="86364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1" y="14"/>
                </a:moveTo>
                <a:arcTo wR="10800" hR="10800" stAng="-5224478" swAng="5224478"/>
                <a:lnTo>
                  <a:pt x="10800" y="10800"/>
                </a:lnTo>
                <a:close/>
              </a:path>
              <a:path fill="none" w="21600" h="21600">
                <a:moveTo>
                  <a:pt x="11351" y="14"/>
                </a:moveTo>
                <a:arcTo wR="10800" hR="10800" stAng="-5224478" swAng="522447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4944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35280" y="1773360"/>
            <a:ext cx="518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8,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Rectangle 8"/>
              <p:cNvSpPr txBox="1"/>
              <p:nvPr/>
            </p:nvSpPr>
            <p:spPr>
              <a:xfrm>
                <a:off x="5867280" y="1844640"/>
                <a:ext cx="238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Rectangle 8"/>
              <p:cNvSpPr txBox="1"/>
              <p:nvPr/>
            </p:nvSpPr>
            <p:spPr>
              <a:xfrm>
                <a:off x="4211640" y="3213000"/>
                <a:ext cx="35337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свойству</m:t>
                        </m:r>
                        <m:r>
                          <m:rPr>
                            <m:lit/>
                            <m:nor/>
                          </m:rPr>
                          <m:t xml:space="preserve">пара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51280" y="1773360"/>
            <a:ext cx="4402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, ВМ =3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Rectangle 8"/>
              <p:cNvSpPr txBox="1"/>
              <p:nvPr/>
            </p:nvSpPr>
            <p:spPr>
              <a:xfrm>
                <a:off x="4427640" y="2133720"/>
                <a:ext cx="2448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2916360" y="1557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95280" y="1557360"/>
            <a:ext cx="2867040" cy="2014920"/>
            <a:chOff x="395280" y="1557360"/>
            <a:chExt cx="2867040" cy="2014920"/>
          </a:xfrm>
        </p:grpSpPr>
        <p:grpSp>
          <p:nvGrpSpPr>
            <p:cNvPr id="606" name=""/>
            <p:cNvGrpSpPr/>
            <p:nvPr/>
          </p:nvGrpSpPr>
          <p:grpSpPr>
            <a:xfrm>
              <a:off x="610920" y="2070720"/>
              <a:ext cx="2376360" cy="928080"/>
              <a:chOff x="610920" y="2070720"/>
              <a:chExt cx="2376360" cy="928080"/>
            </a:xfrm>
          </p:grpSpPr>
          <p:sp>
            <p:nvSpPr>
              <p:cNvPr id="607" name=""/>
              <p:cNvSpPr/>
              <p:nvPr/>
            </p:nvSpPr>
            <p:spPr>
              <a:xfrm>
                <a:off x="1023480" y="2070720"/>
                <a:ext cx="0" cy="9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23480" y="2070720"/>
                <a:ext cx="1654200" cy="6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1280" y="299880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5747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109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23480" y="207072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95280" y="320400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5640" y="1557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11280" y="310176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00360" y="24836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6920" y="31017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99640" y="27928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0000" y="27928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7280" y="2381760"/>
              <a:ext cx="14436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556000" y="2381760"/>
              <a:ext cx="7128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2" name="Rectangle 8"/>
              <p:cNvSpPr txBox="1"/>
              <p:nvPr/>
            </p:nvSpPr>
            <p:spPr>
              <a:xfrm>
                <a:off x="4249800" y="3330720"/>
                <a:ext cx="2554200" cy="35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для повторения к гла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9(б), № 46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ести формулу площади дельто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4076640"/>
            <a:ext cx="581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 Площадь треугольника равна полов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высоты на сторон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=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Rectangle 8"/>
              <p:cNvSpPr txBox="1"/>
              <p:nvPr/>
            </p:nvSpPr>
            <p:spPr>
              <a:xfrm>
                <a:off x="3132000" y="4941720"/>
                <a:ext cx="195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140360" y="4941720"/>
                <a:ext cx="187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95640" y="4941720"/>
                <a:ext cx="195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0" name=""/>
          <p:cNvGrpSpPr/>
          <p:nvPr/>
        </p:nvGrpSpPr>
        <p:grpSpPr>
          <a:xfrm>
            <a:off x="6300720" y="3860280"/>
            <a:ext cx="1800000" cy="1879920"/>
            <a:chOff x="6300720" y="3860280"/>
            <a:chExt cx="1800000" cy="1879920"/>
          </a:xfrm>
        </p:grpSpPr>
        <p:grpSp>
          <p:nvGrpSpPr>
            <p:cNvPr id="631" name=""/>
            <p:cNvGrpSpPr/>
            <p:nvPr/>
          </p:nvGrpSpPr>
          <p:grpSpPr>
            <a:xfrm>
              <a:off x="6372000" y="3860280"/>
              <a:ext cx="1728720" cy="1368720"/>
              <a:chOff x="6372000" y="3860280"/>
              <a:chExt cx="1728720" cy="1368720"/>
            </a:xfrm>
          </p:grpSpPr>
          <p:sp>
            <p:nvSpPr>
              <p:cNvPr id="632" name=""/>
              <p:cNvSpPr/>
              <p:nvPr/>
            </p:nvSpPr>
            <p:spPr>
              <a:xfrm>
                <a:off x="6372000" y="5229000"/>
                <a:ext cx="1728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372000" y="3860280"/>
                <a:ext cx="50472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76720" y="3860640"/>
                <a:ext cx="122400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6876720" y="3860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371640" y="4221000"/>
              <a:ext cx="792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6659280" y="4508280"/>
              <a:ext cx="144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19640" y="53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0720" y="42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4720" y="429228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4720" y="4076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436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800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6720" y="42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508720" y="1700280"/>
            <a:ext cx="3166200" cy="1790280"/>
            <a:chOff x="5508720" y="1700280"/>
            <a:chExt cx="3166200" cy="1790280"/>
          </a:xfrm>
        </p:grpSpPr>
        <p:sp>
          <p:nvSpPr>
            <p:cNvPr id="646" name="Line 28"/>
            <p:cNvSpPr/>
            <p:nvPr/>
          </p:nvSpPr>
          <p:spPr>
            <a:xfrm flipV="1">
              <a:off x="5508720" y="1700280"/>
              <a:ext cx="803520" cy="1408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508720" y="1700280"/>
              <a:ext cx="3166200" cy="1790280"/>
              <a:chOff x="5508720" y="1700280"/>
              <a:chExt cx="3166200" cy="1790280"/>
            </a:xfrm>
          </p:grpSpPr>
          <p:grpSp>
            <p:nvGrpSpPr>
              <p:cNvPr id="648" name="Group 32"/>
              <p:cNvGrpSpPr/>
              <p:nvPr/>
            </p:nvGrpSpPr>
            <p:grpSpPr>
              <a:xfrm>
                <a:off x="5508720" y="1700280"/>
                <a:ext cx="3166200" cy="1408320"/>
                <a:chOff x="5508720" y="1700280"/>
                <a:chExt cx="3166200" cy="1408320"/>
              </a:xfrm>
            </p:grpSpPr>
            <p:sp>
              <p:nvSpPr>
                <p:cNvPr id="649" name="Line 27"/>
                <p:cNvSpPr/>
                <p:nvPr/>
              </p:nvSpPr>
              <p:spPr>
                <a:xfrm>
                  <a:off x="5508720" y="310860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9"/>
                <p:cNvSpPr/>
                <p:nvPr/>
              </p:nvSpPr>
              <p:spPr>
                <a:xfrm>
                  <a:off x="6311880" y="170028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1"/>
                <p:cNvSpPr/>
                <p:nvPr/>
              </p:nvSpPr>
              <p:spPr>
                <a:xfrm flipV="1">
                  <a:off x="7871760" y="1700280"/>
                  <a:ext cx="803160" cy="140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33"/>
              <p:cNvSpPr/>
              <p:nvPr/>
            </p:nvSpPr>
            <p:spPr>
              <a:xfrm>
                <a:off x="6312240" y="1700280"/>
                <a:ext cx="1738080" cy="1118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4"/>
              <p:cNvSpPr/>
              <p:nvPr/>
            </p:nvSpPr>
            <p:spPr>
              <a:xfrm>
                <a:off x="6312240" y="1700280"/>
                <a:ext cx="0" cy="14083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43"/>
              <p:cNvSpPr/>
              <p:nvPr/>
            </p:nvSpPr>
            <p:spPr>
              <a:xfrm flipH="1">
                <a:off x="6088320" y="2867040"/>
                <a:ext cx="22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44"/>
              <p:cNvSpPr/>
              <p:nvPr/>
            </p:nvSpPr>
            <p:spPr>
              <a:xfrm flipV="1">
                <a:off x="6088680" y="28670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871400" y="2527200"/>
                <a:ext cx="8964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61040" y="2527200"/>
                <a:ext cx="17856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0120" y="1960920"/>
                <a:ext cx="22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55440" y="238140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8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05640" y="3091680"/>
                <a:ext cx="40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55440" y="187272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684360" y="1628640"/>
            <a:ext cx="525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произведению выс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 на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900000" y="1773360"/>
            <a:ext cx="77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ощадь прямоуголь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а равна половин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ка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Rectangle 8"/>
              <p:cNvSpPr txBox="1"/>
              <p:nvPr/>
            </p:nvSpPr>
            <p:spPr>
              <a:xfrm>
                <a:off x="2762280" y="3757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Rectangle 8"/>
              <p:cNvSpPr txBox="1"/>
              <p:nvPr/>
            </p:nvSpPr>
            <p:spPr>
              <a:xfrm>
                <a:off x="6724800" y="25858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755640" y="4005360"/>
            <a:ext cx="792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высоты двух треугольников равны, то их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носятся как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0920" y="2349360"/>
            <a:ext cx="2160720" cy="1295640"/>
          </a:xfrm>
          <a:prstGeom prst="rtTriangl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63640" y="35211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63640" y="3357720"/>
            <a:ext cx="459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206064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19480" y="3448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1800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111480" y="35211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19640" y="2637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 =    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Rectangle 8"/>
              <p:cNvSpPr txBox="1"/>
              <p:nvPr/>
            </p:nvSpPr>
            <p:spPr>
              <a:xfrm>
                <a:off x="5651640" y="256536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2050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6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42920" y="4724280"/>
            <a:ext cx="2737080" cy="12970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84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11280" y="4724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11280" y="4724280"/>
            <a:ext cx="93672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11280" y="58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56000" y="58053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58244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24000" y="4384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57640" y="596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68360" y="595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16360" y="508464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ACD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: 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DCB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= AD :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Задача: Периметр квадрат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К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равен  48 см. Найдите площадь пятиугольник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ОК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92360" y="2923920"/>
            <a:ext cx="5329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Т=ТМ=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48:4=12 (с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T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 = 144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=OP=OK=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=TM=MK=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K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O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144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= 3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144 – 36 = 108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108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35280" y="1557360"/>
            <a:ext cx="381024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ТМК – квад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48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М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К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йт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2349360"/>
            <a:ext cx="1871640" cy="187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133200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H="1">
            <a:off x="133164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226692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132000" y="206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3132000" y="4149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042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042920" y="2062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8"/>
          <p:cNvSpPr/>
          <p:nvPr/>
        </p:nvSpPr>
        <p:spPr>
          <a:xfrm>
            <a:off x="1403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1474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1547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1"/>
          <p:cNvSpPr/>
          <p:nvPr/>
        </p:nvSpPr>
        <p:spPr>
          <a:xfrm>
            <a:off x="1619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2"/>
          <p:cNvSpPr/>
          <p:nvPr/>
        </p:nvSpPr>
        <p:spPr>
          <a:xfrm>
            <a:off x="1690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>
            <a:off x="1763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1835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1906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197820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2050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2122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9"/>
          <p:cNvSpPr/>
          <p:nvPr/>
        </p:nvSpPr>
        <p:spPr>
          <a:xfrm>
            <a:off x="21938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>
            <a:off x="2266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2340000" y="2349360"/>
            <a:ext cx="14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4112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3"/>
          <p:cNvSpPr/>
          <p:nvPr/>
        </p:nvSpPr>
        <p:spPr>
          <a:xfrm>
            <a:off x="248292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2556000" y="2349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5"/>
          <p:cNvSpPr/>
          <p:nvPr/>
        </p:nvSpPr>
        <p:spPr>
          <a:xfrm>
            <a:off x="262728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6"/>
          <p:cNvSpPr/>
          <p:nvPr/>
        </p:nvSpPr>
        <p:spPr>
          <a:xfrm>
            <a:off x="2698920" y="23493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7"/>
          <p:cNvSpPr/>
          <p:nvPr/>
        </p:nvSpPr>
        <p:spPr>
          <a:xfrm>
            <a:off x="2771640" y="234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8"/>
          <p:cNvSpPr/>
          <p:nvPr/>
        </p:nvSpPr>
        <p:spPr>
          <a:xfrm>
            <a:off x="284328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>
            <a:off x="3132000" y="2349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2"/>
          <p:cNvSpPr/>
          <p:nvPr/>
        </p:nvSpPr>
        <p:spPr>
          <a:xfrm>
            <a:off x="2987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3"/>
          <p:cNvSpPr/>
          <p:nvPr/>
        </p:nvSpPr>
        <p:spPr>
          <a:xfrm>
            <a:off x="3059280" y="2349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5"/>
          <p:cNvSpPr/>
          <p:nvPr/>
        </p:nvSpPr>
        <p:spPr>
          <a:xfrm>
            <a:off x="2916360" y="234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2340000" y="335736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2411280" y="3430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2482920" y="3502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9"/>
          <p:cNvSpPr/>
          <p:nvPr/>
        </p:nvSpPr>
        <p:spPr>
          <a:xfrm flipV="1">
            <a:off x="2556000" y="3574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2627280" y="364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1"/>
          <p:cNvSpPr/>
          <p:nvPr/>
        </p:nvSpPr>
        <p:spPr>
          <a:xfrm flipV="1">
            <a:off x="2698920" y="37180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2"/>
          <p:cNvSpPr/>
          <p:nvPr/>
        </p:nvSpPr>
        <p:spPr>
          <a:xfrm flipV="1">
            <a:off x="2771640" y="37908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3"/>
          <p:cNvSpPr/>
          <p:nvPr/>
        </p:nvSpPr>
        <p:spPr>
          <a:xfrm flipV="1">
            <a:off x="2843280" y="3862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8"/>
          <p:cNvSpPr/>
          <p:nvPr/>
        </p:nvSpPr>
        <p:spPr>
          <a:xfrm>
            <a:off x="3132000" y="4149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9"/>
          <p:cNvSpPr/>
          <p:nvPr/>
        </p:nvSpPr>
        <p:spPr>
          <a:xfrm>
            <a:off x="3059280" y="4078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0"/>
          <p:cNvSpPr/>
          <p:nvPr/>
        </p:nvSpPr>
        <p:spPr>
          <a:xfrm>
            <a:off x="2987640" y="4006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1"/>
          <p:cNvSpPr/>
          <p:nvPr/>
        </p:nvSpPr>
        <p:spPr>
          <a:xfrm>
            <a:off x="2916360" y="39337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859280" y="2276640"/>
                <a:ext cx="2113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2952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Задача №44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924360" y="836640"/>
            <a:ext cx="433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ано: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BCD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- прямоугольник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E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BC = M; AM = ME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DE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BC = N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ь: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BCD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= 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ED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ельств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95280" y="907920"/>
            <a:ext cx="2952720" cy="3105360"/>
            <a:chOff x="395280" y="907920"/>
            <a:chExt cx="2952720" cy="3105360"/>
          </a:xfrm>
        </p:grpSpPr>
        <p:sp>
          <p:nvSpPr>
            <p:cNvPr id="449" name="Rectangle 5"/>
            <p:cNvSpPr/>
            <p:nvPr/>
          </p:nvSpPr>
          <p:spPr>
            <a:xfrm>
              <a:off x="682560" y="2419560"/>
              <a:ext cx="2160720" cy="115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>
              <a:off x="1546200" y="1268280"/>
              <a:ext cx="0" cy="2303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V="1">
              <a:off x="682560" y="2419200"/>
              <a:ext cx="431640" cy="11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 flipV="1">
              <a:off x="1114200" y="1268280"/>
              <a:ext cx="432000" cy="115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1546200" y="1268280"/>
              <a:ext cx="129708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826920" y="285264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187280" y="1916280"/>
              <a:ext cx="1429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2"/>
            <p:cNvSpPr/>
            <p:nvPr/>
          </p:nvSpPr>
          <p:spPr>
            <a:xfrm>
              <a:off x="466560" y="35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3"/>
            <p:cNvSpPr/>
            <p:nvPr/>
          </p:nvSpPr>
          <p:spPr>
            <a:xfrm>
              <a:off x="395280" y="2131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2771640" y="2060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2771640" y="35719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7"/>
            <p:cNvSpPr/>
            <p:nvPr/>
          </p:nvSpPr>
          <p:spPr>
            <a:xfrm>
              <a:off x="826920" y="2419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8"/>
            <p:cNvSpPr/>
            <p:nvPr/>
          </p:nvSpPr>
          <p:spPr>
            <a:xfrm flipH="1">
              <a:off x="682200" y="256392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1546200" y="2203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0"/>
            <p:cNvSpPr/>
            <p:nvPr/>
          </p:nvSpPr>
          <p:spPr>
            <a:xfrm>
              <a:off x="1690560" y="2203560"/>
              <a:ext cx="0" cy="2160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1"/>
            <p:cNvSpPr/>
            <p:nvPr/>
          </p:nvSpPr>
          <p:spPr>
            <a:xfrm>
              <a:off x="826920" y="2060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2122560" y="2060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1474560" y="907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89"/>
            <p:cNvSpPr/>
            <p:nvPr/>
          </p:nvSpPr>
          <p:spPr>
            <a:xfrm>
              <a:off x="1546200" y="1916280"/>
              <a:ext cx="50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30200" y="3645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46200" y="3427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0560" y="3427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932360" y="148428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32360" y="119700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59280" y="2108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юбые два равновеликих  многоугольника  равносоставленны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еорема Бойяи – Гервин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Ф.Бойя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нгерский математик, доказал это утверждение в 183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.Герв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мецкий математик–любитель, независимо от Ф.Бойя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л её в 1833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ствие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юбой многоугольник можно разрезать на такие части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которых можно составить равновеликий эт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ногоугольнику квад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теоремы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итерату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Ф.Каган «О преобразовании многогран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.Болтянский «Равновеликие и равносоставленные фигур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8000" y="1628640"/>
            <a:ext cx="6480360" cy="0"/>
          </a:xfrm>
          <a:prstGeom prst="line">
            <a:avLst/>
          </a:prstGeom>
          <a:ln w="57240">
            <a:solidFill>
              <a:srgbClr val="9900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195640" y="1341360"/>
            <a:ext cx="5905440" cy="287280"/>
            <a:chOff x="2195640" y="1341360"/>
            <a:chExt cx="5905440" cy="287280"/>
          </a:xfrm>
        </p:grpSpPr>
        <p:sp>
          <p:nvSpPr>
            <p:cNvPr id="478" name=""/>
            <p:cNvSpPr/>
            <p:nvPr/>
          </p:nvSpPr>
          <p:spPr>
            <a:xfrm flipV="1">
              <a:off x="219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16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708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7200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43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30872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372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810108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Дано:  АВС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– параллелограм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     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,    CN      AD,  BC = 9 c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,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= 4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см.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72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:  - равновелик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гур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BC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C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7"/>
          <p:cNvGrpSpPr/>
          <p:nvPr/>
        </p:nvGrpSpPr>
        <p:grpSpPr>
          <a:xfrm>
            <a:off x="684360" y="1773360"/>
            <a:ext cx="4897080" cy="2727360"/>
            <a:chOff x="684360" y="1773360"/>
            <a:chExt cx="4897080" cy="2727360"/>
          </a:xfrm>
        </p:grpSpPr>
        <p:grpSp>
          <p:nvGrpSpPr>
            <p:cNvPr id="489" name="Group 7"/>
            <p:cNvGrpSpPr/>
            <p:nvPr/>
          </p:nvGrpSpPr>
          <p:grpSpPr>
            <a:xfrm>
              <a:off x="1889640" y="2184840"/>
              <a:ext cx="2890080" cy="1949040"/>
              <a:chOff x="1889640" y="2184840"/>
              <a:chExt cx="2890080" cy="1949040"/>
            </a:xfrm>
          </p:grpSpPr>
          <p:sp>
            <p:nvSpPr>
              <p:cNvPr id="490" name="Line 5"/>
              <p:cNvSpPr/>
              <p:nvPr/>
            </p:nvSpPr>
            <p:spPr>
              <a:xfrm flipH="1">
                <a:off x="1889640" y="2184840"/>
                <a:ext cx="2890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 flipH="1">
                <a:off x="3896280" y="2184840"/>
                <a:ext cx="88344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1006560" y="2184840"/>
              <a:ext cx="2889720" cy="1949040"/>
              <a:chOff x="1006560" y="2184840"/>
              <a:chExt cx="2889720" cy="194904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1006560" y="4133880"/>
                <a:ext cx="2889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V="1">
                <a:off x="1006560" y="2184840"/>
                <a:ext cx="88308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Line 20"/>
            <p:cNvSpPr/>
            <p:nvPr/>
          </p:nvSpPr>
          <p:spPr>
            <a:xfrm flipH="1">
              <a:off x="1006560" y="2184840"/>
              <a:ext cx="882720" cy="19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188964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 flipH="1">
              <a:off x="1006560" y="4132440"/>
              <a:ext cx="88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 flipV="1">
              <a:off x="3895200" y="2184480"/>
              <a:ext cx="882720" cy="19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477792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3895200" y="4132440"/>
              <a:ext cx="8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 flipH="1">
              <a:off x="4537080" y="3824640"/>
              <a:ext cx="240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453708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 flipH="1">
              <a:off x="1646640" y="3824640"/>
              <a:ext cx="24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64700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1"/>
            <p:cNvSpPr/>
            <p:nvPr/>
          </p:nvSpPr>
          <p:spPr>
            <a:xfrm>
              <a:off x="684360" y="382464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2"/>
            <p:cNvSpPr/>
            <p:nvPr/>
          </p:nvSpPr>
          <p:spPr>
            <a:xfrm>
              <a:off x="1567440" y="1773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3"/>
            <p:cNvSpPr/>
            <p:nvPr/>
          </p:nvSpPr>
          <p:spPr>
            <a:xfrm>
              <a:off x="3735720" y="4132440"/>
              <a:ext cx="4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4698720" y="1773360"/>
              <a:ext cx="8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5"/>
            <p:cNvSpPr/>
            <p:nvPr/>
          </p:nvSpPr>
          <p:spPr>
            <a:xfrm>
              <a:off x="4618800" y="4132440"/>
              <a:ext cx="5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36"/>
            <p:cNvSpPr/>
            <p:nvPr/>
          </p:nvSpPr>
          <p:spPr>
            <a:xfrm>
              <a:off x="1647000" y="413244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1"/>
          <p:cNvGrpSpPr/>
          <p:nvPr/>
        </p:nvGrpSpPr>
        <p:grpSpPr>
          <a:xfrm>
            <a:off x="1476360" y="1052280"/>
            <a:ext cx="287280" cy="216000"/>
            <a:chOff x="1476360" y="1052280"/>
            <a:chExt cx="287280" cy="216000"/>
          </a:xfrm>
        </p:grpSpPr>
        <p:sp>
          <p:nvSpPr>
            <p:cNvPr id="512" name="Line 38"/>
            <p:cNvSpPr/>
            <p:nvPr/>
          </p:nvSpPr>
          <p:spPr>
            <a:xfrm>
              <a:off x="147636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0"/>
            <p:cNvSpPr/>
            <p:nvPr/>
          </p:nvSpPr>
          <p:spPr>
            <a:xfrm flipV="1">
              <a:off x="162072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5"/>
          <p:cNvGrpSpPr/>
          <p:nvPr/>
        </p:nvGrpSpPr>
        <p:grpSpPr>
          <a:xfrm>
            <a:off x="2987640" y="1052280"/>
            <a:ext cx="287280" cy="216000"/>
            <a:chOff x="2987640" y="1052280"/>
            <a:chExt cx="287280" cy="216000"/>
          </a:xfrm>
        </p:grpSpPr>
        <p:sp>
          <p:nvSpPr>
            <p:cNvPr id="515" name="Line 46"/>
            <p:cNvSpPr/>
            <p:nvPr/>
          </p:nvSpPr>
          <p:spPr>
            <a:xfrm>
              <a:off x="298764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47"/>
            <p:cNvSpPr/>
            <p:nvPr/>
          </p:nvSpPr>
          <p:spPr>
            <a:xfrm flipV="1">
              <a:off x="313200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лощадь параллелограмма   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       и  тре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19280" y="2997360"/>
            <a:ext cx="5113440" cy="2087280"/>
          </a:xfrm>
          <a:prstGeom prst="parallelogram">
            <a:avLst>
              <a:gd name="adj" fmla="val 61245"/>
            </a:avLst>
          </a:prstGeom>
          <a:solidFill>
            <a:srgbClr val="cc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3"/>
          <p:cNvSpPr/>
          <p:nvPr/>
        </p:nvSpPr>
        <p:spPr>
          <a:xfrm flipV="1">
            <a:off x="2627280" y="1125000"/>
            <a:ext cx="144000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>
            <a:off x="2916360" y="2997360"/>
            <a:ext cx="280800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4"/>
          <p:cNvSpPr/>
          <p:nvPr/>
        </p:nvSpPr>
        <p:spPr>
          <a:xfrm>
            <a:off x="2916360" y="299736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1"/>
          <p:cNvSpPr/>
          <p:nvPr/>
        </p:nvSpPr>
        <p:spPr>
          <a:xfrm flipH="1" flipV="1">
            <a:off x="4284720" y="630864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2"/>
          <p:cNvSpPr/>
          <p:nvPr/>
        </p:nvSpPr>
        <p:spPr>
          <a:xfrm flipH="1">
            <a:off x="4140000" y="630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3"/>
          <p:cNvSpPr/>
          <p:nvPr/>
        </p:nvSpPr>
        <p:spPr>
          <a:xfrm flipH="1">
            <a:off x="255564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4"/>
          <p:cNvSpPr/>
          <p:nvPr/>
        </p:nvSpPr>
        <p:spPr>
          <a:xfrm flipV="1">
            <a:off x="2556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5"/>
          <p:cNvSpPr/>
          <p:nvPr/>
        </p:nvSpPr>
        <p:spPr>
          <a:xfrm flipV="1">
            <a:off x="5364000" y="4076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6"/>
          <p:cNvSpPr/>
          <p:nvPr/>
        </p:nvSpPr>
        <p:spPr>
          <a:xfrm>
            <a:off x="5580000" y="4076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6"/>
          <p:cNvSpPr/>
          <p:nvPr/>
        </p:nvSpPr>
        <p:spPr>
          <a:xfrm flipV="1">
            <a:off x="1619280" y="2997360"/>
            <a:ext cx="0" cy="208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7"/>
          <p:cNvSpPr/>
          <p:nvPr/>
        </p:nvSpPr>
        <p:spPr>
          <a:xfrm flipH="1">
            <a:off x="104256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161928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 flipH="1" flipV="1">
            <a:off x="1906560" y="2997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2"/>
          <p:cNvSpPr/>
          <p:nvPr/>
        </p:nvSpPr>
        <p:spPr>
          <a:xfrm>
            <a:off x="5435640" y="50864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>
            <a:off x="3924360" y="1341360"/>
            <a:ext cx="280836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6732720" y="2997360"/>
            <a:ext cx="0" cy="2087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3995280" y="1484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 flipH="1" flipV="1">
            <a:off x="3779640" y="155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6516720" y="4870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6516720" y="4870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627280" y="2997360"/>
            <a:ext cx="2808360" cy="2087280"/>
            <a:chOff x="2627280" y="2997360"/>
            <a:chExt cx="2808360" cy="2087280"/>
          </a:xfrm>
        </p:grpSpPr>
        <p:sp>
          <p:nvSpPr>
            <p:cNvPr id="542" name="Line 41"/>
            <p:cNvSpPr/>
            <p:nvPr/>
          </p:nvSpPr>
          <p:spPr>
            <a:xfrm flipV="1">
              <a:off x="5435640" y="2997360"/>
              <a:ext cx="0" cy="20872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3"/>
            <p:cNvSpPr/>
            <p:nvPr/>
          </p:nvSpPr>
          <p:spPr>
            <a:xfrm>
              <a:off x="2627280" y="3429000"/>
              <a:ext cx="2808360" cy="1655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47"/>
          <p:cNvSpPr/>
          <p:nvPr/>
        </p:nvSpPr>
        <p:spPr>
          <a:xfrm>
            <a:off x="5651640" y="2997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8"/>
          <p:cNvSpPr/>
          <p:nvPr/>
        </p:nvSpPr>
        <p:spPr>
          <a:xfrm flipH="1">
            <a:off x="5435640" y="3213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00360" y="3573360"/>
            <a:ext cx="1555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116000" y="515772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5435640" y="508464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6732720" y="2492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340000" y="24922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484360" y="364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764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Сколько высот можно провести в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араллелограмме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69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 = a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= b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619280" y="2997360"/>
            <a:ext cx="5113440" cy="2691720"/>
            <a:chOff x="1619280" y="2997360"/>
            <a:chExt cx="5113440" cy="2691720"/>
          </a:xfrm>
        </p:grpSpPr>
        <p:sp>
          <p:nvSpPr>
            <p:cNvPr id="555" name="Line 28"/>
            <p:cNvSpPr/>
            <p:nvPr/>
          </p:nvSpPr>
          <p:spPr>
            <a:xfrm flipV="1">
              <a:off x="1619280" y="2997360"/>
              <a:ext cx="1297080" cy="20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619280" y="2997360"/>
              <a:ext cx="5113440" cy="2691720"/>
              <a:chOff x="1619280" y="2997360"/>
              <a:chExt cx="5113440" cy="2691720"/>
            </a:xfrm>
          </p:grpSpPr>
          <p:grpSp>
            <p:nvGrpSpPr>
              <p:cNvPr id="557" name="Group 32"/>
              <p:cNvGrpSpPr/>
              <p:nvPr/>
            </p:nvGrpSpPr>
            <p:grpSpPr>
              <a:xfrm>
                <a:off x="1619280" y="2997360"/>
                <a:ext cx="5113440" cy="2087280"/>
                <a:chOff x="1619280" y="2997360"/>
                <a:chExt cx="5113440" cy="2087280"/>
              </a:xfrm>
            </p:grpSpPr>
            <p:sp>
              <p:nvSpPr>
                <p:cNvPr id="558" name="Line 27"/>
                <p:cNvSpPr/>
                <p:nvPr/>
              </p:nvSpPr>
              <p:spPr>
                <a:xfrm>
                  <a:off x="1619280" y="508464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9"/>
                <p:cNvSpPr/>
                <p:nvPr/>
              </p:nvSpPr>
              <p:spPr>
                <a:xfrm>
                  <a:off x="2916360" y="299736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1"/>
                <p:cNvSpPr/>
                <p:nvPr/>
              </p:nvSpPr>
              <p:spPr>
                <a:xfrm flipV="1">
                  <a:off x="5435640" y="2997360"/>
                  <a:ext cx="1297080" cy="2087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Line 33"/>
              <p:cNvSpPr/>
              <p:nvPr/>
            </p:nvSpPr>
            <p:spPr>
              <a:xfrm>
                <a:off x="2916360" y="2997360"/>
                <a:ext cx="2808000" cy="165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4"/>
              <p:cNvSpPr/>
              <p:nvPr/>
            </p:nvSpPr>
            <p:spPr>
              <a:xfrm>
                <a:off x="2916360" y="2997360"/>
                <a:ext cx="0" cy="20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43"/>
              <p:cNvSpPr/>
              <p:nvPr/>
            </p:nvSpPr>
            <p:spPr>
              <a:xfrm flipH="1">
                <a:off x="2555640" y="4724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44"/>
              <p:cNvSpPr/>
              <p:nvPr/>
            </p:nvSpPr>
            <p:spPr>
              <a:xfrm flipV="1">
                <a:off x="2556000" y="47239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35640" y="4221000"/>
                <a:ext cx="144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80000" y="4221000"/>
                <a:ext cx="287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500720" y="350028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528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87640" y="400536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64000" y="522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 flipH="1" flipV="1">
            <a:off x="4284720" y="6165720"/>
            <a:ext cx="358560" cy="216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2"/>
          <p:cNvSpPr/>
          <p:nvPr/>
        </p:nvSpPr>
        <p:spPr>
          <a:xfrm flipH="1">
            <a:off x="4067280" y="6165720"/>
            <a:ext cx="217440" cy="358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779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аралле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= 10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C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Rectangle 8"/>
              <p:cNvSpPr txBox="1"/>
              <p:nvPr/>
            </p:nvSpPr>
            <p:spPr>
              <a:xfrm>
                <a:off x="4087800" y="2997360"/>
                <a:ext cx="387036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258920" y="2060640"/>
            <a:ext cx="2017800" cy="936720"/>
          </a:xfrm>
          <a:prstGeom prst="parallelogram">
            <a:avLst>
              <a:gd name="adj" fmla="val 5385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636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03280" y="2781360"/>
            <a:ext cx="85680" cy="216000"/>
          </a:xfrm>
          <a:custGeom>
            <a:avLst/>
            <a:gdLst/>
            <a:ahLst/>
            <a:rect l="l" t="t" r="r" b="b"/>
            <a:pathLst>
              <a:path w="54" h="136">
                <a:moveTo>
                  <a:pt x="0" y="0"/>
                </a:moveTo>
                <a:cubicBezTo>
                  <a:pt x="19" y="15"/>
                  <a:pt x="38" y="30"/>
                  <a:pt x="46" y="45"/>
                </a:cubicBezTo>
                <a:cubicBezTo>
                  <a:pt x="54" y="60"/>
                  <a:pt x="46" y="75"/>
                  <a:pt x="46" y="90"/>
                </a:cubicBezTo>
                <a:cubicBezTo>
                  <a:pt x="46" y="105"/>
                  <a:pt x="46" y="128"/>
                  <a:pt x="4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637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476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00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1928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50920" y="26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116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Rectangle 8"/>
              <p:cNvSpPr txBox="1"/>
              <p:nvPr/>
            </p:nvSpPr>
            <p:spPr>
              <a:xfrm>
                <a:off x="5724360" y="1916280"/>
                <a:ext cx="22716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4788000" y="5373720"/>
                <a:ext cx="361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9:18Z</dcterms:created>
  <dc:creator>User</dc:creator>
  <dc:description/>
  <dc:language>en-US</dc:language>
  <cp:lastModifiedBy>1</cp:lastModifiedBy>
  <dcterms:modified xsi:type="dcterms:W3CDTF">2008-04-04T05:53:39Z</dcterms:modified>
  <cp:revision>44</cp:revision>
  <dc:subject/>
  <dc:title>Тема: Площадь параллелограмма и           треугольника.</dc:title>
</cp:coreProperties>
</file>