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C5C0-2171-48E0-9094-F7B352C2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197C-ECD3-483C-9BD5-5600A985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C1DBC-7597-4B4A-8B55-0BDC8432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3E4F9-0C25-4D93-8A52-E5792D92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08E72-28AE-407B-BD9A-B1DF7FF0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0FA4B-9567-4508-977E-B2AD3CDD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FA6EE-7463-422C-BE8B-57DF49AD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310C1-ACA5-437D-B7C8-BD238C82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DE76D-0E27-4D50-8BDB-96C09832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E8EBD-AC06-452A-BFCD-AD34368E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2EDDA-6F29-410F-B2AF-28B72BEB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BEE8-9A5A-4061-81B7-752B9832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CD6F-B811-41E6-879E-BDAE7FF3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6F0B-1513-434A-AE6C-2233775C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E7A9-2B4B-488A-BABD-E8983A8D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74BE-39DC-4A1D-B50B-3E8CA154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C56C-3C37-4194-9FF1-B66F56F0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B32C-0F1C-42C1-86E6-1016B983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04F2-709F-4DA2-9C32-8A170E0B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87B9-8495-4FF7-8693-9E4937B7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24A1-A99F-4043-A0B6-5C156674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8E6B-1B6E-4EDF-A559-A5543D0C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B8D9-5D41-4B18-B00A-074DCD21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15EE-4B35-469A-8BA9-724272BF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6712-C373-4C8C-AD5F-E728DD25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2E84-6F46-4A68-8E29-3B45BC5E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19B62-5AED-4E98-ADE9-EC8B733C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5C732-750A-4C7D-8645-99F2A26A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9053F-6708-4246-88B3-2EE7023A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E210E-3E9E-4B4A-B691-729FE76D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725E8-21A2-469A-84DC-586F534F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49EC-E070-4B29-A26A-7D6AAEF2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8F146-1719-4F68-9902-035CB0C9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9AE42-F602-4442-80F9-70C8864F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34264-AC02-49B2-BADA-9CAB935E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F68EA-D9F8-4499-BFB6-52FDE013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B5E4F-69D2-4A0C-AACA-E8DE31D4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BC75B-630E-4C49-B98B-82AADE07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7C9EF-CC40-4D4C-A59D-491002CA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D2B52E-589E-4A14-B15F-8CC81073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AFFD5B-B3C2-4F67-8E31-C3E9C9BF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85558D-27FB-4EBB-A8DE-E6B87B54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D553-906D-4B21-BE72-41553C0E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E4C0F2-8627-4E20-AB0F-4C708EAD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364152-52B5-4055-8503-3AFA0D7F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15AD33-0879-4BDD-8EC7-20F2D9E3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792D69-807D-49DD-8EBD-34A66B42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6E6BD2-4CD8-4C3E-AE7E-50052CF2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0637A0-0A4B-44F1-AE8D-BF8ACB82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0B8FA7-3572-484C-B850-A35A7FC0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081B68-A1E3-4896-B4E5-A554FF15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4B1718-BD27-407D-BCBA-621645DD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28334-52C0-4F80-A912-67CE1816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009B-6C46-457C-9AA6-275F39B0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3FE50-EC41-4240-BE6F-315BBB9E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26F3E-3A20-4FA1-9EE8-193E2CF0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6BD32-7DD1-488F-AC8F-92A0B8C7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F1172-2103-48E9-8A02-3D28CDD1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D443A-FF98-4437-88FD-652E1679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99C7D-95FD-4AEC-A61E-85C1F365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37739-F645-4767-8EAD-9DE0F8AC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AA879-86BE-4D3E-81C6-97EC0E7D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7352E-A504-4D93-8F69-7ECF4A01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363F4-0E02-4F72-81C7-B0213DF6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B139-A0D6-4A02-B0D8-0CCC77FF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8B607-E5EB-4DBC-BFBB-1918DD87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EF4763-73FE-4C2F-9089-8DEDB254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1E5767-9CDD-4B54-8E9C-F46E440D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0FB55C-E93B-4E94-9D79-4EA16AFA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A23DB2-FD3F-4066-B52B-878E5FB0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432EF7-6884-4CBF-9C16-06914BBC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335A81-44E6-4768-BAB9-0A4C71F2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D5657F-F084-4C84-8B3F-7EDB1907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8BBDBE-1F2D-4663-88C5-465ED110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40D791-C07A-4CE9-9CE7-6E43EA72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C902-41D3-417C-99BB-3591F334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F3B53C-3E54-4A4C-A6D0-3762D2B5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29B823-7FA4-45C9-BD50-0BF7FAA1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F7737B-CBD9-4C5B-B9A1-7D351123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6628F0-4C5B-4544-8141-D6F86172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D7A273-E5F2-454B-9B08-B490FB73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2308E0-2B3F-4730-AD26-657E3C25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528C0D-A5F6-4C2E-BC8E-E662FAEC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FAD714-6352-422C-905C-C76C25F9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AF602D-0A22-470F-BA2C-1D7CFBB8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BAD983-2DD1-44D9-9548-DA53B704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A9D7-5D6D-47F4-95D0-C74912A1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3ACFE0-73BD-4908-B67B-C2175AB1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1426F9-EEE0-4F83-A75E-05AD04BF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9E7739-5F94-4E91-B443-4600EE0C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480236-76A8-4D30-82CE-8C0EB507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A1C001-4AE2-4E37-BF31-18362F53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199159-31D7-432D-A764-955BB27F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880B11-FF32-4AC1-8881-E81116D7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55FECE-0437-4B2C-947C-2830A187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31A667-6222-467F-9E26-503446CC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4177A4-DC99-479F-ABDC-303748F1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CE82-78C4-4754-BE2C-46775B6D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30C9AE-F76D-44BB-B682-16A3C6E1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7BA6DB-E854-4CBF-A239-9DDF5E75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727339-7B62-4658-9689-11071789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455118-9FEF-4FE1-9BD3-5583B21D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7A8BF7-DE75-4294-AA0E-A4D17B35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138050-506C-4FAB-8581-EAE4DC49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9F57B1-1FC6-4E80-A9A3-A4141F60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0BFDB-05D2-4F32-8611-44415453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13289-36B0-4A44-9BD7-9D4C28E6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8B0E7-1FF0-41B2-83B4-356EC9CB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5D4B-AA60-4DBC-A29F-32C4F3FC755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6DB5-075E-46B4-87C3-C96048032A2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31D1-FEC7-47E3-96EC-C9B5C54752C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6D28-490D-48C2-8306-81C7AE66EA9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6B1C-8057-4721-9B2E-7DA47B7D27D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ED53-4F91-4113-AA59-5E0A2BE56CF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8DCA-0FBE-4804-BF28-81C7E8A498A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BE2F-D7FE-4A7F-8CCE-E6B89220574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C675-A27F-4078-B37C-2D840D88930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23640" y="1356840"/>
            <a:ext cx="63342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b5395"/>
                </a:solidFill>
                <a:latin typeface="Century Schoolbook"/>
              </a:rPr>
              <a:t>ОРИЕНТИРОВАНИЕ НА МЕСТНОСТИ. КОМПАС.</a:t>
            </a:r>
            <a:endParaRPr b="0" lang="en-US" sz="4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285640" y="3214800"/>
            <a:ext cx="61722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e9632"/>
                </a:solidFill>
                <a:latin typeface="Century Schoolbook"/>
              </a:rPr>
              <a:t>      </a:t>
            </a:r>
            <a:r>
              <a:rPr b="1" lang="ru-RU" sz="1800" spc="-1" strike="noStrike">
                <a:solidFill>
                  <a:srgbClr val="7e9632"/>
                </a:solidFill>
                <a:latin typeface="Century Schoolbook"/>
              </a:rPr>
              <a:t>География. 6 класс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e9632"/>
                </a:solidFill>
                <a:latin typeface="Century Schoolbook"/>
              </a:rPr>
              <a:t>Подготовила учитель географии и биологии: Харитонова Лидия Владимиро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395280" y="404640"/>
            <a:ext cx="835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енное образовательное учреждение «Горковская специальная (коррекционная) общеобразовательная школа-интернат для обучающихся, воспитанников с ограниченными возможностями здоровь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2000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384120" y="1073160"/>
            <a:ext cx="8186760" cy="32130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"/>
          <p:cNvPicPr/>
          <p:nvPr/>
        </p:nvPicPr>
        <p:blipFill>
          <a:blip r:embed="rId2"/>
          <a:stretch/>
        </p:blipFill>
        <p:spPr>
          <a:xfrm>
            <a:off x="4429080" y="3500280"/>
            <a:ext cx="3881520" cy="2071800"/>
          </a:xfrm>
          <a:prstGeom prst="rect">
            <a:avLst/>
          </a:prstGeom>
          <a:ln w="0">
            <a:noFill/>
          </a:ln>
        </p:spPr>
      </p:pic>
      <p:pic>
        <p:nvPicPr>
          <p:cNvPr id="451" name="Прямоугольник 3" descr=""/>
          <p:cNvPicPr/>
          <p:nvPr/>
        </p:nvPicPr>
        <p:blipFill>
          <a:blip r:embed="rId3"/>
          <a:stretch/>
        </p:blipFill>
        <p:spPr>
          <a:xfrm>
            <a:off x="4071960" y="5645160"/>
            <a:ext cx="2273400" cy="689040"/>
          </a:xfrm>
          <a:prstGeom prst="rect">
            <a:avLst/>
          </a:prstGeom>
          <a:ln w="0">
            <a:noFill/>
          </a:ln>
        </p:spPr>
      </p:pic>
      <p:pic>
        <p:nvPicPr>
          <p:cNvPr id="452" name="Прямоугольник 4" descr=""/>
          <p:cNvPicPr/>
          <p:nvPr/>
        </p:nvPicPr>
        <p:blipFill>
          <a:blip r:embed="rId4"/>
          <a:stretch/>
        </p:blipFill>
        <p:spPr>
          <a:xfrm>
            <a:off x="6497640" y="5645160"/>
            <a:ext cx="2219400" cy="68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262080" y="360360"/>
            <a:ext cx="8521560" cy="6137280"/>
          </a:xfrm>
          <a:prstGeom prst="rect">
            <a:avLst/>
          </a:prstGeom>
          <a:ln w="0">
            <a:noFill/>
          </a:ln>
        </p:spPr>
      </p:pic>
      <p:sp>
        <p:nvSpPr>
          <p:cNvPr id="454" name="Прямоугольник 3"/>
          <p:cNvSpPr/>
          <p:nvPr/>
        </p:nvSpPr>
        <p:spPr>
          <a:xfrm>
            <a:off x="2448000" y="3000240"/>
            <a:ext cx="431172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4" descr=""/>
          <p:cNvPicPr/>
          <p:nvPr/>
        </p:nvPicPr>
        <p:blipFill>
          <a:blip r:embed="rId2"/>
          <a:stretch/>
        </p:blipFill>
        <p:spPr>
          <a:xfrm>
            <a:off x="5643720" y="857160"/>
            <a:ext cx="3219120" cy="32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457200" y="712800"/>
            <a:ext cx="8186760" cy="2682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"/>
          <p:cNvPicPr/>
          <p:nvPr/>
        </p:nvPicPr>
        <p:blipFill>
          <a:blip r:embed="rId2"/>
          <a:srcRect l="0" t="0" r="2328" b="0"/>
          <a:stretch/>
        </p:blipFill>
        <p:spPr>
          <a:xfrm>
            <a:off x="1214280" y="3429000"/>
            <a:ext cx="6000840" cy="30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1" descr=""/>
          <p:cNvPicPr/>
          <p:nvPr/>
        </p:nvPicPr>
        <p:blipFill>
          <a:blip r:embed="rId1"/>
          <a:stretch/>
        </p:blipFill>
        <p:spPr>
          <a:xfrm>
            <a:off x="208080" y="1212840"/>
            <a:ext cx="8588160" cy="25113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"/>
          <p:cNvPicPr/>
          <p:nvPr/>
        </p:nvPicPr>
        <p:blipFill>
          <a:blip r:embed="rId2"/>
          <a:stretch/>
        </p:blipFill>
        <p:spPr>
          <a:xfrm>
            <a:off x="2357280" y="3643200"/>
            <a:ext cx="492948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1"/>
          <a:stretch/>
        </p:blipFill>
        <p:spPr>
          <a:xfrm>
            <a:off x="426960" y="858960"/>
            <a:ext cx="8356680" cy="17874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/>
          </p:nvPr>
        </p:nvSpPr>
        <p:spPr>
          <a:xfrm rot="10800000">
            <a:off x="722160" y="471420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62" name="Picture 2" descr=""/>
          <p:cNvPicPr/>
          <p:nvPr/>
        </p:nvPicPr>
        <p:blipFill>
          <a:blip r:embed="rId2"/>
          <a:srcRect l="0" t="0" r="0" b="8698"/>
          <a:stretch/>
        </p:blipFill>
        <p:spPr>
          <a:xfrm>
            <a:off x="560520" y="3214800"/>
            <a:ext cx="2939760" cy="30002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" descr=""/>
          <p:cNvPicPr/>
          <p:nvPr/>
        </p:nvPicPr>
        <p:blipFill>
          <a:blip r:embed="rId3"/>
          <a:srcRect l="0" t="0" r="720" b="8696"/>
          <a:stretch/>
        </p:blipFill>
        <p:spPr>
          <a:xfrm>
            <a:off x="3821040" y="3214800"/>
            <a:ext cx="4894200" cy="30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Заголовок 1" descr=""/>
          <p:cNvPicPr/>
          <p:nvPr/>
        </p:nvPicPr>
        <p:blipFill>
          <a:blip r:embed="rId1"/>
          <a:stretch/>
        </p:blipFill>
        <p:spPr>
          <a:xfrm>
            <a:off x="712800" y="689040"/>
            <a:ext cx="7645320" cy="31575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"/>
          <p:cNvPicPr/>
          <p:nvPr/>
        </p:nvPicPr>
        <p:blipFill>
          <a:blip r:embed="rId2"/>
          <a:srcRect l="8910" t="0" r="15842" b="2953"/>
          <a:stretch/>
        </p:blipFill>
        <p:spPr>
          <a:xfrm>
            <a:off x="1357200" y="3571920"/>
            <a:ext cx="6072480" cy="29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Заголовок 1" descr=""/>
          <p:cNvPicPr/>
          <p:nvPr/>
        </p:nvPicPr>
        <p:blipFill>
          <a:blip r:embed="rId1"/>
          <a:stretch/>
        </p:blipFill>
        <p:spPr>
          <a:xfrm>
            <a:off x="360360" y="1054080"/>
            <a:ext cx="8326440" cy="16826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" descr=""/>
          <p:cNvPicPr/>
          <p:nvPr/>
        </p:nvPicPr>
        <p:blipFill>
          <a:blip r:embed="rId2"/>
          <a:srcRect l="0" t="0" r="13761" b="784"/>
          <a:stretch/>
        </p:blipFill>
        <p:spPr>
          <a:xfrm>
            <a:off x="1857240" y="2643120"/>
            <a:ext cx="5357880" cy="372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тон</cp:lastModifiedBy>
  <dcterms:modified xsi:type="dcterms:W3CDTF">2012-11-21T12:20:51Z</dcterms:modified>
  <cp:revision>45</cp:revision>
  <dc:subject/>
  <dc:title>ОРИЕНТИРОВАНИЕ НА МЕСТНОСТИ. АЗИМУТ.</dc:title>
</cp:coreProperties>
</file>