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3715-3C27-4912-A100-ACB54462E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71C8-A7D1-4892-B1D1-E12A20D3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C6837-A8C9-47CA-86A0-B75AB35C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BDD726-55F2-4F9F-A569-42BC89EB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21789-F5A7-4D5B-A59D-5C0330B4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CABAD4-7B57-4822-952A-CD572CD2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3E8573-3CA9-4EF5-ABA9-A2C7FC76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1616A-F29F-43BF-9BE7-30C8723F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98CD70-F330-4497-89BD-5429F7F6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370109-DD56-48A5-B2B0-517F1D99B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6A7D45-FC86-4B50-A521-9E73B272F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87B5-574B-4095-8FEF-8E617D58D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3936-6763-491C-A764-45B1CFBE9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11B1-1D26-4D18-9ED3-DC548C322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8B0AB-42E1-4DA0-B298-7A9A8434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4647C-6D67-46F2-A94D-8B66EB88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4E20-B138-424E-9F28-CD572A8A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D712E-5D54-4EEA-921D-69397B6D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2B50-4D3B-4E66-B60A-E43832AA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2BA5-C9F7-4AA0-B331-0D0137ED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E64C-AC9D-46D9-BD05-D48F2082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885D-1BC0-4223-BFCF-EEC5A3EE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A470-7CF4-44A6-B045-EA114D5C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B502-5607-4F92-A5AD-A6752D34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E39D-C73F-425D-88F2-FCFA20AAA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BD6C2-4C6C-4E5B-9744-3A9A17C15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74E67-B7A2-495F-9A5D-2E7E1D506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B38BC-75E3-49EE-BA96-914C12C7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3788E-0689-4782-97E7-EC62335D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6ABFA-574A-44AF-84FE-778C9A1A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5CF9F-3E3B-464F-A6C0-5B4DC9FE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6E3B-7AE9-4679-8108-5703E4D7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C6E5E-B3DF-4F43-90B2-BA5A871F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A6431-5826-42E4-87D1-A4FF1AD6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74C4A-AAC2-4F46-86DD-9E101973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E4612-FFCF-49CD-8B56-188E9EF3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3B408-827A-40C2-B2E3-12AA5F56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A186E-2E37-442E-A3D9-77356788F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B5C20-2F35-4FAA-9C93-61392CB3A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404047-89B1-4911-819F-3FC94918D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DAC963-245E-4476-9D0C-F364EB6E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760412-94F6-4834-8A0C-A1138F10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8009-1904-40F3-A5FD-8B9268D9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5E0E71-B375-4D7F-A303-D81D76BE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102023-CD99-49B1-8D47-7A72A5AF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1D45FE-7BEA-46B2-9893-A67016EA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43DD8B-F43C-46CF-B1F6-EA7BA6C1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047874-B175-436C-9153-6F4AEFE1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EDCE13-5357-4BE2-A0C9-7509934A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203E52-CD9D-452A-912C-A9DAD0C3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AF8A63-7228-4915-9A91-1F347B255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61E216-DF84-4926-A2AA-C527C641F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B1715-BED8-4C7D-A65B-E1EC0A774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E70C-22EE-4A5F-879C-00C7D645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E7E46-6056-46C8-870C-56FF4C4A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391D9-3831-4620-B41D-B06163DD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F1005-6003-4F2C-BD05-06027C44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C10BA-81AD-4B00-B0B0-945200DE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21680-F7DE-49A7-B899-54AC0022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21018-BDEB-43F0-8658-7520D315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EC004-7A6A-4E99-8122-443DA728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E03E6-6A9E-4B6C-81CC-95F2D575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05369-A628-498C-A7A0-16532484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1F52A-93E1-454E-AAB1-70F94BC5D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81DD-0209-4184-9F05-8F05E7AA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37372-4EC8-4F53-8041-D39D15D70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7ED619-2C13-4790-BD83-97232B77D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B3C4F3-A4FB-4192-AB74-9D815DCC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489477-C220-4EA2-9A1C-9A786828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86B221-23E8-4D6D-867F-D250E55E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4F90C8-B971-4715-9E1F-616E41A1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2FA49C-6D2F-4020-8325-99933DE4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EF0AF3-148D-4183-927F-34DF4910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428196-9C1E-49F9-897E-7933C127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0B5741-2B19-4AA2-AB76-A6C15089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F0AA-7113-4D40-BF25-E3F3BE70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69A476-EE82-4AEB-B0BD-AFE230CD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6096DA-0526-4609-AB8E-880FBFEFD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12DDE8-4A56-46C8-A446-BEC0D106C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B74AAE-4736-406A-9043-A45DD1E4A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5B99EB-7931-4367-A7C6-2B5A16DE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FC65D7-4E0F-49DE-9333-7C1B9453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98CF4C-6D81-48CE-A001-182DF64F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5F9D0C-EEB8-4395-B099-04E87C2C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1BB699-52ED-4CD1-809A-3D41DFF5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0DB601-C3F4-4E39-83B4-C62387B8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6A86-AD97-4DA9-B131-976F8934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3E2AFA-B40B-42D5-AA7A-86301E25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51CB5A-5B16-4B94-8C61-0519F627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9D1137-498B-4E6D-8FA3-932C72CC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CAF04F-C7A4-4C02-B073-F579BDBFF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3BAF89-C0B2-4987-B921-DE9C50CB1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076AC7-C920-4462-B6D5-CF82FF767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583F7A-5FAB-4F2E-BD9F-7F45E4AE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CBA3E8-DE6F-4F8F-8E33-545E79F5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DD9BDF-099D-43B2-8992-5D091B28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84CD8C-F0CE-4134-AA8C-F23DE1B2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9439-A0E5-4AE8-99AE-FA34673F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E70F75-AA4C-4959-AB99-1DCC516D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69F352-03C8-4A2B-B8ED-429AFF96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713883-BB6D-48DA-97CC-811FF466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FA9A08-5E00-405E-B1ED-831133AF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FCB31F-B3EA-47D7-A77E-4A34BF2F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5CD492-BD5A-4768-957C-DF5B1830F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1B7C21-1610-4863-B54D-C1E7E1F22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2FA98E-A397-49E7-9FE5-345191869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6EBD8C-A2D4-4052-A6D1-112B3054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92885B-8383-42E7-AC76-9985131D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3c7"/>
            </a:gs>
            <a:gs pos="100000">
              <a:srgbClr val="eefa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44F4-ACFF-4D36-A773-B805703DF83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6EEC-7216-46E9-BC3A-F17612F3881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3c7"/>
            </a:gs>
            <a:gs pos="100000">
              <a:srgbClr val="eefa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786F-0151-4AC1-BD97-4C1B50A354F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3c7"/>
            </a:gs>
            <a:gs pos="100000">
              <a:srgbClr val="eefa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BDC6-33E5-4405-B2DB-4084429F3F0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3c7"/>
            </a:gs>
            <a:gs pos="100000">
              <a:srgbClr val="eefa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3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4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5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1758-76FF-46E9-B2C6-67EEB85BD37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3c7"/>
            </a:gs>
            <a:gs pos="100000">
              <a:srgbClr val="eefa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9A5B-F962-4F80-8983-2CF8E3705DA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3c7"/>
            </a:gs>
            <a:gs pos="100000">
              <a:srgbClr val="eefa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71C4-FB7C-4169-B622-7EE3706647A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3c7"/>
            </a:gs>
            <a:gs pos="100000">
              <a:srgbClr val="eefa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sldNum" idx="2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7261-1EF7-4A7C-B495-DD4C70E02BD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ftr" idx="2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2F2F-1641-415E-B54C-21C52E29FBE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123640" y="1356840"/>
            <a:ext cx="63342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b5395"/>
                </a:solidFill>
                <a:latin typeface="Century Schoolbook"/>
              </a:rPr>
              <a:t>ОРИЕНТИРОВАНИЕ НА МЕСТНОСТИ. КОМПАС.</a:t>
            </a:r>
            <a:endParaRPr b="0" lang="en-US" sz="4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285640" y="3214800"/>
            <a:ext cx="617220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e9632"/>
                </a:solidFill>
                <a:latin typeface="Century Schoolbook"/>
              </a:rPr>
              <a:t>      </a:t>
            </a:r>
            <a:r>
              <a:rPr b="1" lang="ru-RU" sz="1800" spc="-1" strike="noStrike">
                <a:solidFill>
                  <a:srgbClr val="7e9632"/>
                </a:solidFill>
                <a:latin typeface="Century Schoolbook"/>
              </a:rPr>
              <a:t>География. 6 класс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e9632"/>
                </a:solidFill>
                <a:latin typeface="Century Schoolbook"/>
              </a:rPr>
              <a:t>Подготовила учитель географии и биологии: Харитонова Лидия Владимировн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395280" y="404640"/>
            <a:ext cx="8353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казенное образовательное учреждение «Горковская специальная (коррекционная) общеобразовательная школа-интернат для обучающихся, воспитанников с ограниченными возможностями здоровь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20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2000"/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Заголовок 1" descr=""/>
          <p:cNvPicPr/>
          <p:nvPr/>
        </p:nvPicPr>
        <p:blipFill>
          <a:blip r:embed="rId1"/>
          <a:stretch/>
        </p:blipFill>
        <p:spPr>
          <a:xfrm>
            <a:off x="384120" y="1073160"/>
            <a:ext cx="8186760" cy="32130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3" descr=""/>
          <p:cNvPicPr/>
          <p:nvPr/>
        </p:nvPicPr>
        <p:blipFill>
          <a:blip r:embed="rId2"/>
          <a:stretch/>
        </p:blipFill>
        <p:spPr>
          <a:xfrm>
            <a:off x="4429080" y="3500280"/>
            <a:ext cx="3881520" cy="2071800"/>
          </a:xfrm>
          <a:prstGeom prst="rect">
            <a:avLst/>
          </a:prstGeom>
          <a:ln w="0">
            <a:noFill/>
          </a:ln>
        </p:spPr>
      </p:pic>
      <p:pic>
        <p:nvPicPr>
          <p:cNvPr id="451" name="Прямоугольник 3" descr=""/>
          <p:cNvPicPr/>
          <p:nvPr/>
        </p:nvPicPr>
        <p:blipFill>
          <a:blip r:embed="rId3"/>
          <a:stretch/>
        </p:blipFill>
        <p:spPr>
          <a:xfrm>
            <a:off x="4071960" y="5645160"/>
            <a:ext cx="2273400" cy="689040"/>
          </a:xfrm>
          <a:prstGeom prst="rect">
            <a:avLst/>
          </a:prstGeom>
          <a:ln w="0">
            <a:noFill/>
          </a:ln>
        </p:spPr>
      </p:pic>
      <p:pic>
        <p:nvPicPr>
          <p:cNvPr id="452" name="Прямоугольник 4" descr=""/>
          <p:cNvPicPr/>
          <p:nvPr/>
        </p:nvPicPr>
        <p:blipFill>
          <a:blip r:embed="rId4"/>
          <a:stretch/>
        </p:blipFill>
        <p:spPr>
          <a:xfrm>
            <a:off x="6497640" y="5645160"/>
            <a:ext cx="2219400" cy="68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Заголовок 1" descr=""/>
          <p:cNvPicPr/>
          <p:nvPr/>
        </p:nvPicPr>
        <p:blipFill>
          <a:blip r:embed="rId1"/>
          <a:stretch/>
        </p:blipFill>
        <p:spPr>
          <a:xfrm>
            <a:off x="262080" y="360360"/>
            <a:ext cx="8521560" cy="6137280"/>
          </a:xfrm>
          <a:prstGeom prst="rect">
            <a:avLst/>
          </a:prstGeom>
          <a:ln w="0">
            <a:noFill/>
          </a:ln>
        </p:spPr>
      </p:pic>
      <p:sp>
        <p:nvSpPr>
          <p:cNvPr id="454" name="Прямоугольник 3"/>
          <p:cNvSpPr/>
          <p:nvPr/>
        </p:nvSpPr>
        <p:spPr>
          <a:xfrm>
            <a:off x="2448000" y="3000240"/>
            <a:ext cx="431172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4" descr=""/>
          <p:cNvPicPr/>
          <p:nvPr/>
        </p:nvPicPr>
        <p:blipFill>
          <a:blip r:embed="rId2"/>
          <a:stretch/>
        </p:blipFill>
        <p:spPr>
          <a:xfrm>
            <a:off x="5643720" y="857160"/>
            <a:ext cx="3219120" cy="32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Заголовок 1" descr=""/>
          <p:cNvPicPr/>
          <p:nvPr/>
        </p:nvPicPr>
        <p:blipFill>
          <a:blip r:embed="rId1"/>
          <a:stretch/>
        </p:blipFill>
        <p:spPr>
          <a:xfrm>
            <a:off x="457200" y="712800"/>
            <a:ext cx="8186760" cy="26827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" descr=""/>
          <p:cNvPicPr/>
          <p:nvPr/>
        </p:nvPicPr>
        <p:blipFill>
          <a:blip r:embed="rId2"/>
          <a:srcRect l="0" t="0" r="2328" b="0"/>
          <a:stretch/>
        </p:blipFill>
        <p:spPr>
          <a:xfrm>
            <a:off x="1214280" y="3429000"/>
            <a:ext cx="6000840" cy="30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Заголовок 1" descr=""/>
          <p:cNvPicPr/>
          <p:nvPr/>
        </p:nvPicPr>
        <p:blipFill>
          <a:blip r:embed="rId1"/>
          <a:stretch/>
        </p:blipFill>
        <p:spPr>
          <a:xfrm>
            <a:off x="208080" y="1212840"/>
            <a:ext cx="8588160" cy="25113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" descr=""/>
          <p:cNvPicPr/>
          <p:nvPr/>
        </p:nvPicPr>
        <p:blipFill>
          <a:blip r:embed="rId2"/>
          <a:stretch/>
        </p:blipFill>
        <p:spPr>
          <a:xfrm>
            <a:off x="2357280" y="3643200"/>
            <a:ext cx="4929480" cy="29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Заголовок 1" descr=""/>
          <p:cNvPicPr/>
          <p:nvPr/>
        </p:nvPicPr>
        <p:blipFill>
          <a:blip r:embed="rId1"/>
          <a:stretch/>
        </p:blipFill>
        <p:spPr>
          <a:xfrm>
            <a:off x="426960" y="858960"/>
            <a:ext cx="8356680" cy="178740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/>
          </p:nvPr>
        </p:nvSpPr>
        <p:spPr>
          <a:xfrm rot="10800000">
            <a:off x="722160" y="4714200"/>
            <a:ext cx="7772400" cy="2143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62" name="Picture 2" descr=""/>
          <p:cNvPicPr/>
          <p:nvPr/>
        </p:nvPicPr>
        <p:blipFill>
          <a:blip r:embed="rId2"/>
          <a:srcRect l="0" t="0" r="0" b="8698"/>
          <a:stretch/>
        </p:blipFill>
        <p:spPr>
          <a:xfrm>
            <a:off x="560520" y="3214800"/>
            <a:ext cx="2939760" cy="30002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2" descr=""/>
          <p:cNvPicPr/>
          <p:nvPr/>
        </p:nvPicPr>
        <p:blipFill>
          <a:blip r:embed="rId3"/>
          <a:srcRect l="0" t="0" r="720" b="8696"/>
          <a:stretch/>
        </p:blipFill>
        <p:spPr>
          <a:xfrm>
            <a:off x="3821040" y="3214800"/>
            <a:ext cx="4894200" cy="300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Заголовок 1" descr=""/>
          <p:cNvPicPr/>
          <p:nvPr/>
        </p:nvPicPr>
        <p:blipFill>
          <a:blip r:embed="rId1"/>
          <a:stretch/>
        </p:blipFill>
        <p:spPr>
          <a:xfrm>
            <a:off x="712800" y="689040"/>
            <a:ext cx="7645320" cy="315756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2" descr=""/>
          <p:cNvPicPr/>
          <p:nvPr/>
        </p:nvPicPr>
        <p:blipFill>
          <a:blip r:embed="rId2"/>
          <a:srcRect l="8910" t="0" r="15842" b="2953"/>
          <a:stretch/>
        </p:blipFill>
        <p:spPr>
          <a:xfrm>
            <a:off x="1357200" y="3571920"/>
            <a:ext cx="6072480" cy="293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Заголовок 1" descr=""/>
          <p:cNvPicPr/>
          <p:nvPr/>
        </p:nvPicPr>
        <p:blipFill>
          <a:blip r:embed="rId1"/>
          <a:stretch/>
        </p:blipFill>
        <p:spPr>
          <a:xfrm>
            <a:off x="360360" y="1054080"/>
            <a:ext cx="8326440" cy="16826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2" descr=""/>
          <p:cNvPicPr/>
          <p:nvPr/>
        </p:nvPicPr>
        <p:blipFill>
          <a:blip r:embed="rId2"/>
          <a:srcRect l="0" t="0" r="13761" b="784"/>
          <a:stretch/>
        </p:blipFill>
        <p:spPr>
          <a:xfrm>
            <a:off x="1857240" y="2643120"/>
            <a:ext cx="5357880" cy="372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тон</cp:lastModifiedBy>
  <dcterms:modified xsi:type="dcterms:W3CDTF">2012-11-21T12:20:51Z</dcterms:modified>
  <cp:revision>45</cp:revision>
  <dc:subject/>
  <dc:title>ОРИЕНТИРОВАНИЕ НА МЕСТНОСТИ. АЗИМУТ.</dc:title>
</cp:coreProperties>
</file>