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602-B3CC-49AB-AFCE-1D292A79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FD3-7838-4972-9B4E-2F05BA5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2BE9F-88C3-41FE-B114-06D0C692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3A983-C516-4025-A6F7-FB3C5FA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A169B-9E7B-4133-BC3A-F48B8AC1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24AA6-DED2-4555-8219-9ED4D79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082EB-D7FF-472C-8D72-EB0DD4F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7FB15-DED4-4753-B361-9CC27F1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5AF37-4991-4CC0-95D6-68076B5B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1A02E-A220-4EA3-9360-FDC1EDE7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9C22-9773-450E-BB19-5278BA70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5CA-CA38-4E41-B848-5E04BE7E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947-8ACA-41BE-B601-D5A6D716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3B14-4BF2-4725-9541-543EE2EF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93A3-4956-4176-A621-7419D95A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092C-4273-462F-8D6F-733CE450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5EC6-3732-453F-B1F1-05777C4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6F3B-311C-423E-9FF5-ED7AABAE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9432-6AC0-4456-9DC1-EE42CCF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3B4A-7802-4032-A55E-05ABC455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25A-EEAF-420A-84BA-35A5038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800B-9A37-4754-B314-2E116D19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4F0-EE83-498C-9D22-FF74BF08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4F1A-7A90-4598-A7BC-7C66639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570B-B4DF-4D1E-A5AD-93E0C057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20C7-9D9D-4332-88F6-2EB289DA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A9DA-CEDF-438D-BDE9-67B8B6B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691E-6812-490B-9C66-FB7560F8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71C4-650F-4CA4-8EFA-E4E822ED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5190-2DC0-4683-95C7-6229C5CC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A23E-004B-4654-B878-3B66E5A8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DD5-3EA1-4C72-87EF-24F6F937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14DA-31DC-4E16-9712-F6E373B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1AD4-1EF0-4E4F-BD5D-E648615D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633B-2451-47D4-9034-128BA36A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6308-41C4-43AB-B043-AEF9CE1B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6FCD-34E3-4239-85E6-86EB425A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1F3CA-C815-4338-A469-5C94117E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B59E-3B4E-4B46-BD60-FFFDCEE6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264B3-87D5-4B18-BC54-92B8666A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E19F5-3C84-4642-904F-88A1C259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31EBA-5F59-417C-81AB-C153F15D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655-3B2F-4A82-95E4-6125A794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1F258-DBD3-43B7-AC7E-BB1D585B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1E5B1-76E6-4D9B-9799-D7570D6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6F68B-8C44-4C75-9293-9CBAF12C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D5371-5875-4C21-B284-AE99BDE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A3C0F-D8F9-4BAE-9C17-248F5DF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B2B5B-7F7D-4FF8-81C1-E939FD09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956FC-ABFD-4059-B494-3C8D625F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FC790-4F43-45F8-BAC7-A4DB0AAA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3F515-C77F-41FE-B758-E76F8681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77C28-96A3-4C92-99FC-CE91EC6A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54D-CE3F-446F-BB16-33175053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8D24D-4654-4224-8D50-4F9330EB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DD6C-E53B-4AF2-BCB3-CDF1E13C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02A4-A5AD-48C8-9B0D-DBE77B97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E280-9E26-424D-84E1-03C3A02B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07E1-9F62-48CE-879E-A84749E9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6621-7BFD-4803-982B-4F6ADCF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F04E2-1C60-4242-84EB-B9280C87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5428-7E14-4191-A6FA-73D9F294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1199-070A-4CE1-A989-0F884CE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00182-1227-4385-9C8A-29C2554B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F36-8591-4A0C-85DB-4C974A7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FA50-6B88-43AC-8288-2E533AD7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4F6C0-E550-4E6B-99FA-E2EDB080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8D7A5-87CB-4EAE-9FDC-EE815D5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92BBD-526D-4E82-AF29-5E8BC43B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3B377-AEBB-4A4A-A430-7C6ED14B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53D5E-2DD7-44A6-BFAF-662D62C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82A0C-CBED-404C-B01D-C920823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79812-F43F-447B-A967-D2D30A26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CB9C2-B706-4BE5-B941-F4E303A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D35A9-DDCA-45C5-8D2E-64CA4A0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6BA-EF33-42CE-B027-70021AA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EC3A8-5149-49C5-897D-8842EA9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5F968-7970-45C3-B522-B710D8AF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C1DD4-A571-413B-9B43-0C0DE574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D55EE-2ECD-4395-AA43-098CF86F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900E4-DFFF-4B4D-A254-C84F128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58028-83F2-4F28-93E7-00A17B0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B5F17-6E1B-4D52-8ABE-5C64EDAB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67E5F-0F3E-455F-8436-3CBDC5D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E2C0F-5F8A-448C-8CD4-B68944A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9D0BB-CFAC-41DE-95BA-00A57877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28F-EF5F-4850-BAC1-A018855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7CFAE-DBA5-4D19-A68F-02105F75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9664B-AE96-40AA-8F5A-2B3D783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901BE-F11E-4998-9A4C-A20A65BF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4CF2F-82D7-4B1C-831C-0382BCB2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D8510-162C-45DD-AF49-6EED6C14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D3D9B-5FCE-4B89-AE3B-A00491B0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374DD5-A66D-4802-87C5-BFB68BB5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AD513-1BDC-40F3-AE30-71926DAC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63CD0-3813-438C-8773-47EC7E2A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093A4D-4539-45CA-9336-A356459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518-AA15-4155-9CDE-BC3B669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9AEBE-CD3D-4883-96D4-F688A1E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E7060-BF86-447A-8ADA-C10D284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8792C7-1DE2-4E6A-93C5-CE927A1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8B8F0-8944-4168-BD00-4FD9B32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8EA16-67B8-458C-A5D4-3C0D303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58446D-6E30-46B6-BDAB-72BB2634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C41D85-B5DA-4C8E-9C3D-F6584DC5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2FA0B-119A-4D65-9261-57ABFDEC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5DAFB-169E-4068-9D06-C573EEE8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CA755-8D15-41EB-B76E-18141351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F072-693F-40AA-A5F1-4BC265EE6D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39E3-281F-41DD-9805-CFBBBAC5665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B48B-BE2F-4CD2-9BD7-740286FBC9A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AE1E-4D48-414C-91B1-C614E6645E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2137-9CD9-46C6-BCE2-F267A5135B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A53B-24C6-445D-9FAC-7D5F638AAB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F66A-A41E-4E3A-BD29-5A4983F00F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3c7"/>
            </a:gs>
            <a:gs pos="100000">
              <a:srgbClr val="eefa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4512-A432-4736-9BB5-A8924A4F8A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C3D9-1BF6-4972-A537-A801E41656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23640" y="1356840"/>
            <a:ext cx="63342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Century Schoolbook"/>
              </a:rPr>
              <a:t>ОРИЕНТИРОВАНИЕ НА МЕСТНОСТИ. КОМПАС.</a:t>
            </a:r>
            <a:endParaRPr b="0" lang="en-US" sz="4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85640" y="3214800"/>
            <a:ext cx="61722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География. 6 класс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9632"/>
                </a:solidFill>
                <a:latin typeface="Century Schoolbook"/>
              </a:rPr>
              <a:t>Подготовила учитель географии и биологии: Харитонова Лидия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395280" y="404640"/>
            <a:ext cx="835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ное образовательное учреждение «Горковская специальная (коррекционная) общеобразовательная школа-интернат для обучающихся, воспитанников с ограниченными возможностями здоров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84120" y="1073160"/>
            <a:ext cx="8186760" cy="3213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4429080" y="3500280"/>
            <a:ext cx="3881520" cy="207180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" descr=""/>
          <p:cNvPicPr/>
          <p:nvPr/>
        </p:nvPicPr>
        <p:blipFill>
          <a:blip r:embed="rId3"/>
          <a:stretch/>
        </p:blipFill>
        <p:spPr>
          <a:xfrm>
            <a:off x="4071960" y="5645160"/>
            <a:ext cx="2273400" cy="68904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4" descr=""/>
          <p:cNvPicPr/>
          <p:nvPr/>
        </p:nvPicPr>
        <p:blipFill>
          <a:blip r:embed="rId4"/>
          <a:stretch/>
        </p:blipFill>
        <p:spPr>
          <a:xfrm>
            <a:off x="6497640" y="5645160"/>
            <a:ext cx="2219400" cy="6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262080" y="360360"/>
            <a:ext cx="8521560" cy="61372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3"/>
          <p:cNvSpPr/>
          <p:nvPr/>
        </p:nvSpPr>
        <p:spPr>
          <a:xfrm>
            <a:off x="2448000" y="3000240"/>
            <a:ext cx="4311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5643720" y="857160"/>
            <a:ext cx="32191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457200" y="712800"/>
            <a:ext cx="8186760" cy="2682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rcRect l="0" t="0" r="2328" b="0"/>
          <a:stretch/>
        </p:blipFill>
        <p:spPr>
          <a:xfrm>
            <a:off x="1214280" y="3429000"/>
            <a:ext cx="600084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208080" y="1212840"/>
            <a:ext cx="8588160" cy="2511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492948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426960" y="858960"/>
            <a:ext cx="8356680" cy="1787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 rot="10800000">
            <a:off x="722160" y="47142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rcRect l="0" t="0" r="0" b="8698"/>
          <a:stretch/>
        </p:blipFill>
        <p:spPr>
          <a:xfrm>
            <a:off x="560520" y="3214800"/>
            <a:ext cx="2939760" cy="3000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"/>
          <p:cNvPicPr/>
          <p:nvPr/>
        </p:nvPicPr>
        <p:blipFill>
          <a:blip r:embed="rId3"/>
          <a:srcRect l="0" t="0" r="720" b="8696"/>
          <a:stretch/>
        </p:blipFill>
        <p:spPr>
          <a:xfrm>
            <a:off x="3821040" y="3214800"/>
            <a:ext cx="489420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712800" y="689040"/>
            <a:ext cx="7645320" cy="31575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2"/>
          <a:srcRect l="8910" t="0" r="15842" b="2953"/>
          <a:stretch/>
        </p:blipFill>
        <p:spPr>
          <a:xfrm>
            <a:off x="1357200" y="3571920"/>
            <a:ext cx="60724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360360" y="1054080"/>
            <a:ext cx="8326440" cy="1682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2"/>
          <a:srcRect l="0" t="0" r="13761" b="784"/>
          <a:stretch/>
        </p:blipFill>
        <p:spPr>
          <a:xfrm>
            <a:off x="1857240" y="2643120"/>
            <a:ext cx="5357880" cy="37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11-21T12:20:51Z</dcterms:modified>
  <cp:revision>45</cp:revision>
  <dc:subject/>
  <dc:title>ОРИЕНТИРОВАНИЕ НА МЕСТНОСТИ. АЗИМУТ.</dc:title>
</cp:coreProperties>
</file>