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54C-B90C-422B-8A0E-AFE0E049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0D3-31B2-4928-BAB2-34160BD0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AC5-44C6-4733-8EFC-42D426C5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1D7-BB6F-43D0-94D3-238512A9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C0FF-AC29-4457-892B-93E73287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637A-FFAA-4EBD-9825-DE6A5728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8660-0F19-448A-928E-EF5F8E0C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4710-7B5A-418C-ABB6-DFF846EB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1F95-9247-4357-A5A1-293F3C42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A023-0C27-4258-BAB0-0F291AA3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44C8-EB1C-4210-893C-7616D412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2A4-6727-4AE7-8B7A-39CA89A0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0FFA-CA72-408A-A6E0-1F7FE727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43D7-3017-4A21-B59C-B031126F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7F84-9680-498C-A284-8DB152FE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505E-55B9-431D-84F7-3B49A47B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3C9E-D751-4847-BC36-E88C8711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A67-78FD-402C-BB23-7568BD18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ADA-DCA6-472C-B631-2D3C81F9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7FA-1458-4D3F-86EE-8B731410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384-4DB4-4AA4-B881-C01D96E9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6A2-8129-4173-9A74-9FB7B9D9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19E-B362-417A-A75C-6E435C3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1E8-6BD9-4EDF-B9FA-D12BF4A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503B-0D1C-494C-BFA5-FEEE4BD967E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7F1A-A432-416D-942A-72406FB8AB3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ousespace.ru/image/2-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рок № 30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Тема: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«В каком пространстве мы обитаем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11" descr="2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357720"/>
            <a:ext cx="4419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440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Выполните задания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ворческое задание: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думайте ситуации, которые демонстрируют нарушение общественного пространства. Прокомментируйте и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ворческие группы, составьте правила поведения человека на общественной территории. Свой выбор аргу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6948000" y="5445000"/>
            <a:ext cx="131760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2. Домашняя территори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мы подразумеваем под домашней территорией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омашняя территория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это то место, где живут семейными интересами и удовлетворением личных потребност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чем вы видите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тличие между общественным и домашним пространствам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ую роль играет дом в вашей жизн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4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4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одведем итоги…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человек чувствует себя свободне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мы восстанавливаем свои силы: физические и моральны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мы отдыхаем от городской суеты, занимаемся любимыми дел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ма общаемся с родными и близкими людь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4" name="Picture 5" descr="А 56"/>
          <p:cNvPicPr/>
          <p:nvPr/>
        </p:nvPicPr>
        <p:blipFill>
          <a:blip r:embed="rId1"/>
          <a:stretch/>
        </p:blipFill>
        <p:spPr>
          <a:xfrm>
            <a:off x="7020000" y="544500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Представьте ситуацию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ася пришел после школы и, почувствовав усталость, решил отдохнуть. Он на полную громкость включил свой домашний музыкальный центр и с наслаждением стал слушать модный сборник любимой рок-группы. От громкой музыки сотрясались стены, Вася наслаждался. Но внезапно в дверь раздался звонок. В проеме двери стояла соседка снизу, на голове у нее была повязка. Она тихо попросила уменьшить звук, поскольку мучается от головной боли. Но Вася знал законы и гордо ответил, что он имеет право до 22 часов вечера слушать музыку, приглашать шумные компании, громко включать телевизор. Женщина ничего не сказала мальчику, только тяжело вздохнула и уш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ася ликовал: он сумел отстоять свое домашнее пространств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Verdana"/>
              </a:rPr>
              <a:t>Вопросы к классу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. Прав ли Вася в данной ситуации? По закону? По совести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Как бы вы поступили на его месте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ворческие группы, составьте правила поведения человека на домашней  территории. Свой выбор аргу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3851280" y="443664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5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3. Личное пространство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мы подразумеваем под личным пространством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Личное пространство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ласть с невидимыми для глаза границами, которая окружает тело человека и в которую никто не может вторгать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Задание: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приведите примеры соблюдения личного пространства в наиболее посещаемых местах. Свой выбор проком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ри творческие группы, опишите и охарактеризуйте  примеры соблюдения личного пространств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ервая группа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скамейке в парк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торая группа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автобус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ретья группа –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вашей квартир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3780000" y="5013000"/>
            <a:ext cx="15332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читаете ли вы справедливым то, что папа или мама контролируют жизненное пространство внутри семьи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 вы относитесь к древнему обычаю наших предков, по которому отец как глава семьи имел привилегии в пище, одежде, имел большую площадь по сравнению с другими членами семьи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читаете ли вы этот обычай справедливым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ет ли личное пространство превратиться в общественное, и наоборот? Приведите пример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 вы считаете, какие факторы влияют на личное пространство? Почему в одних семьях подростки и взрослые ощущают себя прекрасно, в доме царят теплота и взаимоуважение, а в других – вечные склоки, конфликты и обиды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адание: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обсудим следующую ситуац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 8 марта сбылась давняя мечта Тани: бабушка подарила ей альбом-дневник. Девочке очень понравился подарок, она с восторгом рассматривала яркую обложку, золотистые буквы, замочек. Она пообещала бабушке каждый день записывать в свой дневник свои мысли, наблюдения, даже самые сокровенные. Свое обещание девочка выполняла до того дня, как поняла, что кто-то заглядывает без ее разрешения в дневник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ама, это ты читаешь мои записи? – спросила Тан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у и что? Я твоя мать и имею право, – ответила ей м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ама, но это же мои личные записи, ты не имеешь права, – возмутилась доч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 каких правах ты говоришь? Кто ты такая, чтобы матери делать замечание? Тут ничего твоего нет, – в сердцах сказала мама Тан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опросы к классу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. Прокомментируйте ситуац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Кто из героев прав?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 Почему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 Как бы вы поступили на месте Тани? Свой выбор обоснуйт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рупповое задание: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творческие группы, составьте правила поведения человека на личной территории. Свой выбор аргументируйт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6" name="Picture 5" descr="i?id=158946371-07"/>
          <p:cNvPicPr/>
          <p:nvPr/>
        </p:nvPicPr>
        <p:blipFill>
          <a:blip r:embed="rId1"/>
          <a:stretch/>
        </p:blipFill>
        <p:spPr>
          <a:xfrm>
            <a:off x="2050920" y="3429000"/>
            <a:ext cx="2765520" cy="2265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?id=79765407-06"/>
          <p:cNvPicPr/>
          <p:nvPr/>
        </p:nvPicPr>
        <p:blipFill>
          <a:blip r:embed="rId2"/>
          <a:stretch/>
        </p:blipFill>
        <p:spPr>
          <a:xfrm>
            <a:off x="4788000" y="3429000"/>
            <a:ext cx="28749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Жилище во все времена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и у всех народов играло важную роль в жизни человека. Ученые подсчитали, что люди проводят в своем домашнем укрытии до 70 % времени. У англичан существует поговорка «Мой дом – моя крепость». Их жизнь наглухо скрыта от посторонних взоров. Кроме дома, мы еще существуем в своем микрорайоне и в прилегающем к нему пространств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временный мир – результат взаимодействия социальных, экономических, политических, технических, культурных, национальных и других фактор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ченые, характеризуя жизнь людей в современном мире, ввели понятие «социальное пространство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нципиальное отличие понятия «социальное пространство» от других пространственных форм состоит в том, что его возникновение и существование всецело связано с деятельностью человека, обусловлено этой деятельностью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 качестве синонимов социального пространства используются такие понятия, как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«общественное пространство», «пространство жизни человека», «пространство социальной деятельности», «жизненное пространство»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и др.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пробуем исследовать пространства обитания челове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4. Социальное пространство подростков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ы поняли, что у каждого человека есть свое жизненное пространство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 что представляет собой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оциальное пространств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подростк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де он реализует себ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124000" y="4221000"/>
            <a:ext cx="4824360" cy="648000"/>
          </a:xfrm>
          <a:prstGeom prst="beve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циальное пространство подростков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24000" y="4221000"/>
            <a:ext cx="1511280" cy="648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воры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7236000" y="4221000"/>
            <a:ext cx="1511280" cy="648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улицы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395280" y="5229360"/>
            <a:ext cx="2376360" cy="647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естничные клетк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3348000" y="5300640"/>
            <a:ext cx="2232000" cy="647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мные алле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6012000" y="5300640"/>
            <a:ext cx="2232000" cy="647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ъез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0"/>
          <p:cNvSpPr/>
          <p:nvPr/>
        </p:nvSpPr>
        <p:spPr>
          <a:xfrm flipH="1">
            <a:off x="1835280" y="4581360"/>
            <a:ext cx="28872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6948360" y="4581360"/>
            <a:ext cx="28764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484360" y="4869000"/>
            <a:ext cx="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4427640" y="486900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6443640" y="486900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7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7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7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7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53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бившись на группы, обсудите положительные и отрицательные моменты в данных объектах социального пространства подростков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3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3851280" y="458100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8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слушайте фрагмент письма одного подростка, который оказался в колонии. Он очень откровенно объясняет, какие ошибки сделал, почему попал в места лишения свободы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Фрагмент пись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еня спасло бы от тюрьмы, если бы я был чем-то занят. Начинается все с малого. Сначала ты начинаешь курить, пить, потом допоздна гулять. Ты хочешь легких денег, но в этой жизни ничего легко не бывает. Тебе нравятся твои старшие «друзья». Ты хочешь показаться «крутым». Ты вывертываешься весь перед ними, хочешь, чтобы они с тобой считались. Но для этого им нужны деньги. Вот оно, твое первое преступление, а потом еще и еще. И тогда тебя сажают. Ты думаешь, что твои «друзья» тебя вытащат. Но ты им не нужен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от тут ты все понимаешь, кто на самом деле тебе друг. Начинаешь задумываться над своей прожитой жизнью, благо времени у тебя достаточно. Ты понимаешь, что ты делал неправильно. Ты поменял своих родных, отца и мать, на улицу. К чему тебя это привело? Да ни к чему хорошему. Ты хочешь все исправить, но уже поздно, надо было раньше думать, учиться, работать, помогать матери. И вот тут ты понимаешь, думаешь о том, как жить дальш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ужно не ходить по улицам, а учиться и получать профессию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Вопросы к классу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1. Какое отношение имеет это письмо к вопросу социального пространства подростка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2. Какие проблемы социального пространства подростков оно выявляет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3. Какие проблемы вы можете еще назвать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4. Видите ли пути решения данных проблем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5.   Сосуществование людей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ченые считают, что сосуществование людей в ограниченном пространстве – это, возможно, самая сложная проблема и одно из самых тяжелых испытаний, выпавших на долю челове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выдумаете, какие причины вызывают трудности в сосуществовании люде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 можно ли избежать этих проблем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7" name="Picture 4" descr="416bd29ec4c2"/>
          <p:cNvPicPr/>
          <p:nvPr/>
        </p:nvPicPr>
        <p:blipFill>
          <a:blip r:embed="rId1"/>
          <a:stretch/>
        </p:blipFill>
        <p:spPr>
          <a:xfrm>
            <a:off x="3203640" y="4869000"/>
            <a:ext cx="20098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0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оветы и рекомендации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учитесь уступать друг друг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Мы ссоримся – значит, мы не правы!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учитесь управлять своими эмоция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являйте чувство юм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ставьте себя на место противоположной сторон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могайте друг другу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Жалейте друг друга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носитесь друг к другу с уважение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9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9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9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9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9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6840"/>
                            </p:stCondLst>
                            <p:childTnLst>
                              <p:par>
                                <p:cTn id="9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9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6. Перенаселение и его последстви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ботая с материалом  учебника, ответьте на следующие вопросы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ая проблема общественного, домашнего и личного пространства чаще всего вызывает конфликты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Что такое переуплотненность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ведите примеры переуплотненности в нашей стране и за границ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чему перенаселенное жилье многим европейцам напоминает «домашнее столпотворение»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 обстоит дело со строительством жилья в Российской Федерации в наши дни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 влияет фактор переуплотненности на взаимоотношения в семье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огласны ли вы с мнением авторов учебника относительно того, что у каждого должно быть свое личное пространство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огда возрастает и без того напряженный фактор переуплотненности?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кой выход из создавшегося положения вы видите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0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0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0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0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0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0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10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10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10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9240"/>
                            </p:stCondLst>
                            <p:childTnLst>
                              <p:par>
                                <p:cTn id="10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10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одведение итогов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вопросы мы исследовали на урок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ясните смысл понятий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бщественная территория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домашняя территория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личное пространств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4" name="Picture 5" descr="А 56"/>
          <p:cNvPicPr/>
          <p:nvPr/>
        </p:nvPicPr>
        <p:blipFill>
          <a:blip r:embed="rId1"/>
          <a:stretch/>
        </p:blipFill>
        <p:spPr>
          <a:xfrm>
            <a:off x="6732720" y="494172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0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10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10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0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1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Задание: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спределите перечисленные места по видам территорий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Шко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хожая в дом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омната в общежит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инотеат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втобус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бочий кабинет дом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тдельная спальн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анная комнат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Улиц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уз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ухня в дом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портивная площад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ерритор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бщественная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Домашняя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Лична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_____________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______________    ___________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_____________    ______________    ___________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_____________    ______________    ___________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0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ведите примеры из своей жизни или жизни знакомых, которые иллюстрируют пословиц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Мой дом – моя крепость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Дома и стены помогают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Не дом красит человека, а человек – дом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Каково на дому – таково и самому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одолжите фразу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Я уютно себя чувствую _________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nodeType="clickEffect" fill="hold">
                      <p:stCondLst>
                        <p:cond delay="0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Домашнее задание: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ыучить § 28 и выполнить разноуровневые задани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 вариан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 ответьте на вопрос, что такое социальное пространство? Какие его виды вы знаете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 вариант: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ставьте развернутый план ответа на тему «Подросток и его среда обитания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 вариант :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в книге «Малыш и Карлсон» шведской писательницы Астрид Линдгрен Карлсон уверял, что в его домике на крыше есть две тысячи паровых машин, тысяча картин с петухами и еще много всего интересног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Что должно находиться в вашей комнате, чтобы вам было уютно и хорошо?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ставьте план комнаты и опишите самые важные и интересные вещ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9" name="Picture 4" descr="AG00495_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nodeType="clickEffect" fill="hold">
                      <p:stCondLst>
                        <p:cond delay="0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Цели и задачи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Понимать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начение  социальной среды в формировании личности подростка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отиворечивость влияния социальной среды на процесс социализации подростк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Знать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термины и понятия «общественная территория», «домашняя территория», «личное пространство», «переуплотненность»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собенности социального пространства подростков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временные трактовки психологической науки о влиянии социальной среды на поведение и подростков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Уметь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вать характеристику  и объяснять особенности поведения на общественной, домашней и личной территори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ыявлять последствия перенаселения люде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ысказывать суждения на обществоведческие темы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работать в группе, доказывать свою точку зрения, выступать публично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смысливать теоретический материал, решать познавательные и проблемные задани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Отношения, ценности, внутренние установки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задуматься над проблемой пропаганды здорового образа жизн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бъяснять поведение людей с точки зрения обществознания и психологи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5" descr="Рисунок122"/>
          <p:cNvPicPr/>
          <p:nvPr/>
        </p:nvPicPr>
        <p:blipFill>
          <a:blip r:embed="rId1"/>
          <a:stretch/>
        </p:blipFill>
        <p:spPr>
          <a:xfrm>
            <a:off x="7192800" y="0"/>
            <a:ext cx="1951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752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952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52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152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252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352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452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52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652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Желаю успехов!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                         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1" name="Picture 4" descr="H:\МАМА\Презентации\Сашина презентация\359504974.gif"/>
          <p:cNvPicPr/>
          <p:nvPr/>
        </p:nvPicPr>
        <p:blipFill>
          <a:blip r:embed="rId1"/>
          <a:stretch/>
        </p:blipFill>
        <p:spPr>
          <a:xfrm>
            <a:off x="1895400" y="1989000"/>
            <a:ext cx="49816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nodeType="clickEffect" fill="hold">
                      <p:stCondLst>
                        <p:cond delay="0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План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 Общественная территор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Домашняя территор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 Личное пространств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 Социальное пространство подростк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5. Сосуществование люд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6. Перенаселение и его последств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detia-745"/>
          <p:cNvPicPr/>
          <p:nvPr/>
        </p:nvPicPr>
        <p:blipFill>
          <a:blip r:embed="rId1"/>
          <a:stretch/>
        </p:blipFill>
        <p:spPr>
          <a:xfrm>
            <a:off x="6372360" y="260280"/>
            <a:ext cx="216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Введение в новый материа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 определении границ социального пространства исследователи исходили из того, что к нему может быть отнесено все, что непосредственно обеспечивает защиту социальных интересов человека, реализацию его потребност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аким образом, социальное пространство нельзя увидеть, дотронуться до него или перенести с одного места на друго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сего выделяют три территории, в которых обитает человек: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бщественную, домашнюю, личну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1937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24364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1. Общественная территори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подразумевают ученые под понятием «общественная территория»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Общественная территория 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место в городской среде, доступное всем жителя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может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ключать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 себя общественная территори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3276720" y="2708280"/>
            <a:ext cx="2735280" cy="1297080"/>
          </a:xfrm>
          <a:prstGeom prst="beve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бщественная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территор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971640" y="105264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ерекрестк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635280" y="573408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вор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3635280" y="18900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ородские улиц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79280" y="2852640"/>
            <a:ext cx="2664000" cy="936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лубные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портивны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мещ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1692360" y="4508640"/>
            <a:ext cx="252072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жилые зда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5076720" y="4508640"/>
            <a:ext cx="266400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лестничные пролеты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ъезд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6372360" y="2997360"/>
            <a:ext cx="2520720" cy="8632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нутридомовы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мещ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5867280" y="1268280"/>
            <a:ext cx="2521080" cy="8636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кверы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лощади, вокзал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13"/>
          <p:cNvSpPr/>
          <p:nvPr/>
        </p:nvSpPr>
        <p:spPr>
          <a:xfrm flipV="1">
            <a:off x="3276720" y="1916280"/>
            <a:ext cx="0" cy="792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4716360" y="1052280"/>
            <a:ext cx="0" cy="1655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15"/>
          <p:cNvSpPr/>
          <p:nvPr/>
        </p:nvSpPr>
        <p:spPr>
          <a:xfrm flipV="1">
            <a:off x="6012000" y="2133720"/>
            <a:ext cx="0" cy="57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6012000" y="3429000"/>
            <a:ext cx="36036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Line 17"/>
          <p:cNvSpPr/>
          <p:nvPr/>
        </p:nvSpPr>
        <p:spPr>
          <a:xfrm flipH="1">
            <a:off x="2771280" y="3429000"/>
            <a:ext cx="50508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3276720" y="4005360"/>
            <a:ext cx="0" cy="503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6012000" y="4005360"/>
            <a:ext cx="0" cy="503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4643280" y="4005360"/>
            <a:ext cx="0" cy="172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Задание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вы думаете, как должен себя вести человек на общественной территори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1187280" y="3789360"/>
            <a:ext cx="2951280" cy="2232000"/>
          </a:xfrm>
          <a:prstGeom prst="foldedCorner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Человек согласуе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вое повед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 общепринятым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рмами и правилами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4788000" y="3645000"/>
            <a:ext cx="3384360" cy="2305080"/>
          </a:xfrm>
          <a:prstGeom prst="foldedCorner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Человек находитс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од пристальным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тролем других люде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2556000" y="3141720"/>
            <a:ext cx="431640" cy="5745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440 h 574560"/>
              <a:gd name="textAreaBottom" fmla="*/ 41652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5940360" y="2924280"/>
            <a:ext cx="503280" cy="576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5" descr="C:\Documents and Settings\АЛЕКСАНДР\Local Settings\Temp\Rar$DI20.796\аним1.gif"/>
          <p:cNvPicPr/>
          <p:nvPr/>
        </p:nvPicPr>
        <p:blipFill>
          <a:blip r:embed="rId1"/>
          <a:stretch/>
        </p:blipFill>
        <p:spPr>
          <a:xfrm rot="20896800">
            <a:off x="6877080" y="18864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итуация.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ыслушав ее, выскажите,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какие правила общественного пространства нарушали «герои» действ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Свои выводы аргументируйт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лучай в кинотеатр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о время сеанса кинофильма группа подростков 16–17 лет громко комментировала происходящее на экране, нецензурно выражалась, распивала спиртные напитки, тем самым мешая другим зрителям просматривать фильм. Работники кинотеатра вызвали наряд милиции, который, к удивлению подростков, проводил их в отделение милиции, где составили протокол о наличии в действиях подростков административного наруш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–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 что? Что мы такого совершили? Ну, пошумели чуть-чуть… Пиво пили, так мы же никому не мешали… Ругались, так  между собой, – искренне недоумевали подрост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8:35:23Z</dcterms:created>
  <dc:creator>Paradise</dc:creator>
  <dc:description/>
  <dc:language>en-US</dc:language>
  <cp:lastModifiedBy>Денис</cp:lastModifiedBy>
  <dcterms:modified xsi:type="dcterms:W3CDTF">2011-02-04T07:29:14Z</dcterms:modified>
  <cp:revision>7</cp:revision>
  <dc:subject/>
  <dc:title>Урок  № 30</dc:title>
</cp:coreProperties>
</file>