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F96-A7A3-4AF0-AA0D-6A4FC8D0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BF4-22A0-4E9C-A3F1-D3C303F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6EE-2EE1-4CAC-B070-C83B691D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31E-E948-4163-92E9-79C0CD4E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AA3-DF44-4AC7-9E02-6237F0C2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79D6-A67F-4C5C-ADF9-1746D59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421-3FED-41CD-A295-185ED26A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DC96-E660-440B-9412-6F505BE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2C70-9BC4-4F0E-AE46-DE6FCF06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7F6-82EA-48FD-88D2-D5806A15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D99-1A4F-4FD1-B3A5-56655FE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321-27BE-4477-9844-ED9BCE7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988D-7C90-4F58-9D36-F7B3C55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E828-687C-4344-97A0-08B7B1D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57FE-3D07-4C42-8EB8-0C30D12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5126-AFB8-47D1-A00B-A6A84EE7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603-0276-41DC-8D74-AB5EFC17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075-38A1-4474-9A13-A2E7FE7E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FAD-44D1-46B5-9391-4167AB17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1A6-D1A3-40EA-BB5A-A868D655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600-172F-4109-809A-E0A2440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1F8-D778-4B68-B06E-4704C2C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159-F6E5-434A-BEB2-4BC228A6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784-0D94-4CBC-8340-0C14CD9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3D4-D33A-41F3-8619-33CF24C3733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0212-4063-46B5-8B98-9558875A508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ousespace.ru/image/2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рок № 3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Тема: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В каком пространстве мы обитаем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11" descr="2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35772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Выполните задан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ворческое задание: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думайте ситуации, которые демонстрируют нарушение общественного пространства. Прокомментируйте и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обществен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948000" y="5445000"/>
            <a:ext cx="13176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2. Домашняя территор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домашней территорией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о то место, где живут семейными интересами и удовлетворением личных потребност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чем вы видит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тличие между общественным и домашним пространствам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ую роль играет дом в вашей жиз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м итоги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человек чувствует себя свободне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восстанавливаем свои силы: физические и моральны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отдыхаем от городской суеты, занимаемся любимыми дел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общаемся с родными и близкими люд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5" descr="А 56"/>
          <p:cNvPicPr/>
          <p:nvPr/>
        </p:nvPicPr>
        <p:blipFill>
          <a:blip r:embed="rId1"/>
          <a:stretch/>
        </p:blipFill>
        <p:spPr>
          <a:xfrm>
            <a:off x="7020000" y="544500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редставьте ситуацию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пришел после школы и, почувствовав усталость, решил отдохнуть. Он на полную громкость включил свой домашний музыкальный центр и с наслаждением стал слушать модный сборник любимой рок-группы. От громкой музыки сотрясались стены, Вася наслаждался. Но внезапно в дверь раздался звонок. В проеме двери стояла соседка снизу, на голове у нее была повязка. Она тихо попросила уменьшить звук, поскольку мучается от головной боли. Но Вася знал законы и гордо ответил, что он имеет право до 22 часов вечера слушать музыку, приглашать шумные компании, громко включать телевизор. Женщина ничего не сказала мальчику, только тяжело вздохнула и уш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ликовал: он сумел отстоять свое домашнее пространств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ав ли Вася в данной ситуации? По закону? По совест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ак бы вы поступили на его мес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домашней 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436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3. Личное пространство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личным пространств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ласть с невидимыми для глаза границами, которая окружает тело человека и в которую никто не может вторг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риведите примеры соблюдения личного пространства в наиболее посещаемых местах. Свой выбор проком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ри творческие группы, опишите и охарактеризуйте  примеры соблюдения личного пространст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ерв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скамейке в пар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тор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автобус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еть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вашей квартир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780000" y="5013000"/>
            <a:ext cx="1533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справедливым то, что папа или мама контролируют жизненное пространство внутр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относитесь к древнему обычаю наших предков, по которому отец как глава семьи имел привилегии в пище, одежде, имел большую площадь по сравнению с другими членам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этот обычай справедливы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ет ли личное пространство превратиться в общественное, и наоборот? Приведите приме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считаете, какие факторы влияют на личное пространство? Почему в одних семьях подростки и взрослые ощущают себя прекрасно, в доме царят теплота и взаимоуважение, а в других – вечные склоки, конфликты и обиды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обсудим следующую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 8 марта сбылась давняя мечта Тани: бабушка подарила ей альбом-дневник. Девочке очень понравился подарок, она с восторгом рассматривала яркую обложку, золотистые буквы, замочек. Она пообещала бабушке каждый день записывать в свой дневник свои мысли, наблюдения, даже самые сокровенные. Свое обещание девочка выполняла до того дня, как поняла, что кто-то заглядывает без ее разрешения в дневник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это ты читаешь мои записи? – спросила Та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у и что? Я твоя мать и имею право, – ответила ей м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но это же мои личные записи, ты не имеешь права, – возмутилась доч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 каких правах ты говоришь? Кто ты такая, чтобы матери делать замечание? Тут ничего твоего нет, – в сердцах сказала мама Та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окомментируйте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то из героев прав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Почему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Как бы вы поступили на месте Тани? Свой выбор обоснуйт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лич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5" descr="i?id=158946371-07"/>
          <p:cNvPicPr/>
          <p:nvPr/>
        </p:nvPicPr>
        <p:blipFill>
          <a:blip r:embed="rId1"/>
          <a:stretch/>
        </p:blipFill>
        <p:spPr>
          <a:xfrm>
            <a:off x="2050920" y="3429000"/>
            <a:ext cx="2765520" cy="226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?id=79765407-06"/>
          <p:cNvPicPr/>
          <p:nvPr/>
        </p:nvPicPr>
        <p:blipFill>
          <a:blip r:embed="rId2"/>
          <a:stretch/>
        </p:blipFill>
        <p:spPr>
          <a:xfrm>
            <a:off x="4788000" y="3429000"/>
            <a:ext cx="28749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Жилище во все времена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у всех народов играло важную роль в жизни человека. Ученые подсчитали, что люди проводят в своем домашнем укрытии до 70 % времени. У англичан существует поговорка «Мой дом – моя крепость». Их жизнь наглухо скрыта от посторонних взоров. Кроме дома, мы еще существуем в своем микрорайоне и в прилегающем к нему пространств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временный мир – результат взаимодействия социальных, экономических, политических, технических, культурных, национальных и других фактор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ные, характеризуя жизнь людей в современном мире, ввели понятие «социальное пространство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нципиальное отличие понятия «социальное пространство» от других пространственных форм состоит в том, что его возникновение и существование всецело связано с деятельностью человека, обусловлено этой деятельностью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качестве синонимов социального пространства используются такие понятия, как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«общественное пространство», «пространство жизни человека», «пространство социальной деятельности», «жизненное пространство»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др.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пробуем исследовать пространства обитания челове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4. Социальное пространство подростков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поняли, что у каждого человека есть свое жизненное пространств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 что представляет собой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циаль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одростк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де он реализует себ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124000" y="4221000"/>
            <a:ext cx="4824360" cy="64800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циальное пространство подростков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24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7236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лиц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95280" y="5229360"/>
            <a:ext cx="237636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клетк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3348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мные алле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6012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1835280" y="458136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6948360" y="4581360"/>
            <a:ext cx="28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484360" y="486900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427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6443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53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группы, обсудите положительные и отрицательные моменты в данных объектах социального пространства подростк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58100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8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лушайте фрагмент письма одного подростка, который оказался в колонии. Он очень откровенно объясняет, какие ошибки сделал, почему попал в места лишения свобод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Фрагмент пись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ня спасло бы от тюрьмы, если бы я был чем-то занят. Начинается все с малого. Сначала ты начинаешь курить, пить, потом допоздна гулять. Ты хочешь легких денег, но в этой жизни ничего легко не бывает. Тебе нравятся твои старшие «друзья». Ты хочешь показаться «крутым». Ты вывертываешься весь перед ними, хочешь, чтобы они с тобой считались. Но для этого им нужны деньги. Вот оно, твое первое преступление, а потом еще и еще. И тогда тебя сажают. Ты думаешь, что твои «друзья» тебя вытащат. Но ты им не нужен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т тут ты все понимаешь, кто на самом деле тебе друг. Начинаешь задумываться над своей прожитой жизнью, благо времени у тебя достаточно. Ты понимаешь, что ты делал неправильно. Ты поменял своих родных, отца и мать, на улицу. К чему тебя это привело? Да ни к чему хорошему. Ты хочешь все исправить, но уже поздно, надо было раньше думать, учиться, работать, помогать матери. И вот тут ты понимаешь, думаешь о том, как жить дальш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ужно не ходить по улицам, а учиться и получать профессию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. Какое отношение имеет это письмо к вопросу социального пространства подростка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2. Какие проблемы социального пространства подростков оно выявляет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3. Какие проблемы вы можете еще назвать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. Видите ли пути решения данных проблем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5.   Сосуществование люд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еные считают, что сосуществование людей в ограниченном пространстве – это, возможно, самая сложная проблема и одно из самых тяжелых испытаний, выпавших на долю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выдумаете, какие причины вызывают трудности в сосуществовании люде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 можно ли избежать этих пробл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4" descr="416bd29ec4c2"/>
          <p:cNvPicPr/>
          <p:nvPr/>
        </p:nvPicPr>
        <p:blipFill>
          <a:blip r:embed="rId1"/>
          <a:stretch/>
        </p:blipFill>
        <p:spPr>
          <a:xfrm>
            <a:off x="3203640" y="4869000"/>
            <a:ext cx="2009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0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оветы и рекомендаци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ступать друг дру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ы ссоримся – значит, мы не правы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правлять своими эмоция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являйте чувство юм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ставьте себя на место противоположной сторо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огайте друг другу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Жалейте друг друг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носитесь друг к другу с уважени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9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9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6. Перенаселение и его последств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я с материалом  учебника, ответьте на следующие вопрос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ая проблема общественного, домашнего и личного пространства чаще всего вызывает конфликты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то такое переуплотненнос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ведите примеры переуплотненности в нашей стране и за границ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чему перенаселенное жилье многим европейцам напоминает «домашнее столпотворение»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обстоит дело со строительством жилья в Российской Федерации в наши дн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влияет фактор переуплотненности на взаимоотношения в семь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гласны ли вы с мнением авторов учебника относительно того, что у каждого должно быть свое личное пространство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гда возрастает и без того напряженный фактор переуплотненности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ой выход из создавшегося положения вы види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0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0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0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0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0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0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10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ние итог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вопросы мы исследовали на урок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ясните смысл понятий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Picture 5" descr="А 56"/>
          <p:cNvPicPr/>
          <p:nvPr/>
        </p:nvPicPr>
        <p:blipFill>
          <a:blip r:embed="rId1"/>
          <a:stretch/>
        </p:blipFill>
        <p:spPr>
          <a:xfrm>
            <a:off x="6732720" y="494172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0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0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0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пределите перечисленные места по видам территорий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Шко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хожа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мната в общежит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инотеат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втобу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бочий кабинет дом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дельная спаль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нная комна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лиц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уз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ухн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портивная площад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бщественна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Домашня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Лична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0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ведите примеры из своей жизни или жизни знакомых, которые иллюстрируют пословиц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Мой дом – моя крепость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ома и стены помогают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Не дом красит человека, а человек – дом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Каково на дому – таково и самому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должите фраз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Я уютно себя чувствую 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0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омашнее задание: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учить § 28 и выполнить разноуровневые зада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 вариан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 ответьте на вопрос, что такое социальное пространство? Какие его виды вы знаете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 вариант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развернутый план ответа на тему «Подросток и его среда обитания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 вариант 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 книге «Малыш и Карлсон» шведской писательницы Астрид Линдгрен Карлсон уверял, что в его домике на крыше есть две тысячи паровых машин, тысяча картин с петухами и еще много всего интересно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то должно находиться в вашей комнате, чтобы вам было уютно и хорошо?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план комнаты и опишите самые важные и интересные вещ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Picture 4" descr="AG00495_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0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Цели и задач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оним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начение  социальной среды в формировании личности подрост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отиворечивость влияния социальной среды на процесс социализации подрост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Зн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рмины и понятия «общественная территория», «домашняя территория», «личное пространство», «переуплотненность»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обенности социального пространства подростков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временные трактовки психологической науки о влиянии социальной среды на поведение и подрост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Уметь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вать характеристику  и объяснять особенности поведения на общественной, домашней и личной территори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являть последствия перенаселения люд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сказывать суждения на обществоведческие темы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ботать в группе, доказывать свою точку зрения, выступать публич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мысливать теоретический материал, решать познавательные и проблемные задан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Отношения, ценности, внутренние установк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думаться над проблемой пропаганды здорового образа жиз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яснять поведение людей с точки зрения обществознания и психологи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2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52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352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52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елаю успехов!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                   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1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1895400" y="1989000"/>
            <a:ext cx="49816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nodeType="clickEffect" fill="hold">
                      <p:stCondLst>
                        <p:cond delay="0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ла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Общественна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Домашня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Личное простран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Социальное пространство подрост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 Сосуществование люд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6. Перенаселение и его последств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detia-745"/>
          <p:cNvPicPr/>
          <p:nvPr/>
        </p:nvPicPr>
        <p:blipFill>
          <a:blip r:embed="rId1"/>
          <a:stretch/>
        </p:blipFill>
        <p:spPr>
          <a:xfrm>
            <a:off x="6372360" y="26028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Введение в новый материа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определении границ социального пространства исследователи исходили из того, что к нему может быть отнесено все, что непосредственно обеспечивает защиту социальных интересов человека, реализацию его потребност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аким образом, социальное пространство нельзя увидеть, дотронуться до него или перенести с одного места на друго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го выделяют три территории, в которых обитает человек: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бщественную, домашнюю, личну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1. Общественная территор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подразумевают ученые под понятием «общественная территория»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 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есто в городской среде, доступное всем жителя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ожет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ключат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 себя общественная территори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3276720" y="2708280"/>
            <a:ext cx="2735280" cy="129708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бщественна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71640" y="1052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ерекрест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57340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635280" y="18900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ородские улиц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79280" y="2852640"/>
            <a:ext cx="266400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лубны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портивн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1692360" y="4508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жилые зд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5076720" y="4508640"/>
            <a:ext cx="266400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пролет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372360" y="2997360"/>
            <a:ext cx="2520720" cy="8632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нутридомов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867280" y="12682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веры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лощади, вокзал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3276720" y="1916280"/>
            <a:ext cx="0" cy="79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4716360" y="1052280"/>
            <a:ext cx="0" cy="165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6012000" y="213372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012000" y="3429000"/>
            <a:ext cx="36036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17"/>
          <p:cNvSpPr/>
          <p:nvPr/>
        </p:nvSpPr>
        <p:spPr>
          <a:xfrm flipH="1">
            <a:off x="2771280" y="3429000"/>
            <a:ext cx="505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327672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601200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643280" y="4005360"/>
            <a:ext cx="0" cy="172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вы думаете, как должен себя вести человек на общественной территори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187280" y="3789360"/>
            <a:ext cx="2951280" cy="223200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согласу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вое пове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 общепринятым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рмами и правил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788000" y="3645000"/>
            <a:ext cx="3384360" cy="230508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находитс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 пристальным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тролем других люд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2556000" y="3141720"/>
            <a:ext cx="431640" cy="5745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940360" y="2924280"/>
            <a:ext cx="503280" cy="576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877080" y="188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итуация.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слушав ее, выскажите,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акие правила общественного пространства нарушали «герои» действ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Свои выводы аргументируй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лучай в кинотеатр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 время сеанса кинофильма группа подростков 16–17 лет громко комментировала происходящее на экране, нецензурно выражалась, распивала спиртные напитки, тем самым мешая другим зрителям просматривать фильм. Работники кинотеатра вызвали наряд милиции, который, к удивлению подростков, проводил их в отделение милиции, где составили протокол о наличии в действиях подростков административного наруш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 что? Что мы такого совершили? Ну, пошумели чуть-чуть… Пиво пили, так мы же никому не мешали… Ругались, так  между собой, – искренне недоумевали подрост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5:23Z</dcterms:created>
  <dc:creator>Paradise</dc:creator>
  <dc:description/>
  <dc:language>en-US</dc:language>
  <cp:lastModifiedBy>Денис</cp:lastModifiedBy>
  <dcterms:modified xsi:type="dcterms:W3CDTF">2011-02-04T07:29:14Z</dcterms:modified>
  <cp:revision>7</cp:revision>
  <dc:subject/>
  <dc:title>Урок  № 30</dc:title>
</cp:coreProperties>
</file>