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C92-C9FD-40B5-9ED8-CB623A80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90B-B26D-40C5-9DC5-97ACB09D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DEC-8E2E-43DB-ABDE-BA55A3D4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2AA-ED38-4182-89F7-BF4DF69F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0C6D9-1C71-4B4E-8F07-CB214D7F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1B3F5-5CF1-4D6A-B69F-DC1C33D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D0968-C93A-40E6-8AD8-89F51C04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5F353-8C4D-4755-9B28-BB4B9C04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8CC56-CA74-4F05-A757-63A79C3B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E8EB1-A30D-484D-A558-076F99C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96E82-3C43-42BA-9F83-1A5AC23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4DB-459E-4208-AF87-02B7445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FE3D1-A8F7-4A7B-9A8D-F4FC6650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EA7F5-5C97-4DB9-BAC0-DFAA596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C91F-C3D1-4D28-A36F-3A508F3E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8C1EB-C643-4DDA-8DE5-CA7A7046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B89C-6065-4B4D-AD06-BC9CF4FF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F70-09ED-459E-826F-964E1C9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E69-702A-4CAB-AF10-F30282C2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B83-AECE-4CEB-B688-3784D030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219-7D39-41FB-8EE8-445FCDD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1AA-C867-4CD9-868E-97060E1A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3EE-EB3B-419A-B390-177FE9F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592-BA51-422F-92FF-5E687992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E872-856D-4F4B-B431-291A5476A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B1D9-EE52-463B-9FE5-597B354F8A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4103640" y="0"/>
            <a:ext cx="5040360" cy="3357720"/>
          </a:xfrm>
          <a:prstGeom prst="foldedCorner">
            <a:avLst>
              <a:gd name="adj" fmla="val 2196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8"/>
          <p:cNvSpPr txBox="1"/>
          <p:nvPr/>
        </p:nvSpPr>
        <p:spPr>
          <a:xfrm rot="21045600">
            <a:off x="179280" y="3573000"/>
            <a:ext cx="831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1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У Меленковская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редняя общеобразовательная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школа № 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0" y="0"/>
            <a:ext cx="4643280" cy="3429000"/>
          </a:xfrm>
          <a:prstGeom prst="foldedCorner">
            <a:avLst>
              <a:gd name="adj" fmla="val 2196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Система поддержки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талантливой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молодеж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713800" cy="13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Выявление одаренных  детей через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school05-16"/>
          <p:cNvPicPr/>
          <p:nvPr/>
        </p:nvPicPr>
        <p:blipFill>
          <a:blip r:embed="rId1"/>
          <a:stretch/>
        </p:blipFill>
        <p:spPr>
          <a:xfrm>
            <a:off x="108000" y="433440"/>
            <a:ext cx="331164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675000" y="3645000"/>
            <a:ext cx="7682760" cy="39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ебную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неурочную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ворческие конкурсы и олимпиа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портивные соревн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Проявление талант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ебята проявляют свой талант в различных областях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курс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ференц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лимпиа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ревнова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 flipV="1">
            <a:off x="3492360" y="5095800"/>
            <a:ext cx="96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ребя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Ожидаемые результат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азвитие способностей, удовлетворение интересов и потребностей каждого  учащегося школы</a:t>
            </a: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частие  в олимпиадах, творческих конкурсах, спортивных соревнованиях различного уровня</a:t>
            </a: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еализация способностей детей за порогом школы, в интересах их личного роста и об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Georgia"/>
              </a:rPr>
              <a:t>Развитие учительского                 </a:t>
            </a:r>
            <a:br>
              <a:rPr sz="4000"/>
            </a:br>
            <a:r>
              <a:rPr b="0" lang="ru-RU" sz="4000" spc="-1" strike="noStrike">
                <a:solidFill>
                  <a:srgbClr val="a50021"/>
                </a:solidFill>
                <a:latin typeface="Georgia"/>
              </a:rPr>
              <a:t>            потенциала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школе работает трудолюбивый, творческий,  доброжелательный коллекти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Достаточно высокий уровень квалификации, отсутствие текучести кадров, ориентация на принципе гуманистической педагогики позволяет коллективу стабильно и интересно работать.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school10-01"/>
          <p:cNvPicPr/>
          <p:nvPr/>
        </p:nvPicPr>
        <p:blipFill>
          <a:blip r:embed="rId1"/>
          <a:stretch/>
        </p:blipFill>
        <p:spPr>
          <a:xfrm>
            <a:off x="6588000" y="476280"/>
            <a:ext cx="1979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46200" y="1052640"/>
            <a:ext cx="8497800" cy="33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17 – высшую квалификационную категорию- (36,3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20 – первую квалификационную категорию  - (47,7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5 – вторую квалификационную категорию  -  (11,3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2-  без категории(молодые специалисты)    -   (4,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476360" y="620640"/>
            <a:ext cx="57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Обучение  осуществляют 44 педагога, из них име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50920" y="765000"/>
            <a:ext cx="8569080" cy="58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педагогов имеют звание: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Отличник народного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вещения»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Почетный работник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го образования РФ"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5" descr="school08-01"/>
          <p:cNvPicPr/>
          <p:nvPr/>
        </p:nvPicPr>
        <p:blipFill>
          <a:blip r:embed="rId2"/>
          <a:stretch/>
        </p:blipFill>
        <p:spPr>
          <a:xfrm>
            <a:off x="468360" y="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Современная школьная инфраструктур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24000" y="3112560"/>
            <a:ext cx="9468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Находиться в школе ребенку должно быть комфортно как психологически, так и физиче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ы стараемся изменить облик школы как по форме, так и по содерж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ые кабинеты оснащены новым современ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 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рудованием и наглядными пособиями. В 5-ти кабинетах установлены  мультимедийные проекторы и компьютеры , в 2-х - интерактивные доски. Компьютеры  кабинета информатики подключены  к сети Интерн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school19-11"/>
          <p:cNvPicPr/>
          <p:nvPr/>
        </p:nvPicPr>
        <p:blipFill>
          <a:blip r:embed="rId1"/>
          <a:stretch/>
        </p:blipFill>
        <p:spPr>
          <a:xfrm>
            <a:off x="900000" y="1197000"/>
            <a:ext cx="1368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Обеспечение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безопасности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в школе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349360"/>
            <a:ext cx="9001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целях обеспечения  безопасного проведения образов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оцесса в школе и сохранности школьн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функционируют :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«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ТРЕВОЖНАЯ КНОП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                      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ПОЖАРНАЯ СИГНАЛ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                      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ПРЯМАЯ ТЕЛЕФОННАЯ СВЯЗЬ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Контроль по обслуживанию  данных установок осуществляе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ответствующими орга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системе проводятся следующие мероприя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 учебная эвакуация обучающихся и сотрудников не  менее четырех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в течение года проводятся мероприятия по изучению и отработке навы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езопасного поведения  на дорог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обучение педагогического коллектива защите от опасностей, возникающих при чрезвычайных ситу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photos0-800x600"/>
          <p:cNvPicPr/>
          <p:nvPr/>
        </p:nvPicPr>
        <p:blipFill>
          <a:blip r:embed="rId1"/>
          <a:stretch/>
        </p:blipFill>
        <p:spPr>
          <a:xfrm>
            <a:off x="4859280" y="260280"/>
            <a:ext cx="294660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Здоровье школьников</a:t>
            </a: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Дети проводят в школе значительную часть дня, поэтому сохранение, укрепление их физического, психического здоровья - дело не только семьи, но и педаг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Горячее питание, медицинское обслуживание, спортивные занятия, в том числе внеурочные, реализация профилактических программ, обсуждение с детьми вопросов здорового образа жизни - все это будет влиять на улучшение их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4768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Здоровьесберегающий компонент школы (из программы «Здоровье»)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1044720" y="2205000"/>
            <a:ext cx="761760" cy="665280"/>
            <a:chOff x="1044720" y="2205000"/>
            <a:chExt cx="761760" cy="665280"/>
          </a:xfrm>
        </p:grpSpPr>
        <p:sp>
          <p:nvSpPr>
            <p:cNvPr id="174" name="AutoShape 4"/>
            <p:cNvSpPr/>
            <p:nvPr/>
          </p:nvSpPr>
          <p:spPr>
            <a:xfrm>
              <a:off x="1050840" y="22161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1044720" y="2205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AutoShape 6"/>
            <p:cNvSpPr/>
            <p:nvPr/>
          </p:nvSpPr>
          <p:spPr>
            <a:xfrm>
              <a:off x="1089000" y="224460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7"/>
          <p:cNvGrpSpPr/>
          <p:nvPr/>
        </p:nvGrpSpPr>
        <p:grpSpPr>
          <a:xfrm>
            <a:off x="1044720" y="3070080"/>
            <a:ext cx="761400" cy="665280"/>
            <a:chOff x="1044720" y="3070080"/>
            <a:chExt cx="761400" cy="665280"/>
          </a:xfrm>
        </p:grpSpPr>
        <p:sp>
          <p:nvSpPr>
            <p:cNvPr id="178" name="AutoShape 8"/>
            <p:cNvSpPr/>
            <p:nvPr/>
          </p:nvSpPr>
          <p:spPr>
            <a:xfrm>
              <a:off x="1050840" y="30812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1044720" y="3070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089000" y="310968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Line 11"/>
          <p:cNvSpPr/>
          <p:nvPr/>
        </p:nvSpPr>
        <p:spPr>
          <a:xfrm>
            <a:off x="1763640" y="2854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403280" y="184464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243440" y="230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1692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763640" y="213372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Медицинский блок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спецмедгрупп, диагностика, лечебно-оздоровительные процедуры, встречи с медработник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1243440" y="3168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1044720" y="3962520"/>
            <a:ext cx="761760" cy="664920"/>
            <a:chOff x="1044720" y="3962520"/>
            <a:chExt cx="761760" cy="664920"/>
          </a:xfrm>
        </p:grpSpPr>
        <p:sp>
          <p:nvSpPr>
            <p:cNvPr id="188" name="AutoShape 18"/>
            <p:cNvSpPr/>
            <p:nvPr/>
          </p:nvSpPr>
          <p:spPr>
            <a:xfrm>
              <a:off x="1050840" y="39736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AutoShape 19"/>
            <p:cNvSpPr/>
            <p:nvPr/>
          </p:nvSpPr>
          <p:spPr>
            <a:xfrm>
              <a:off x="1044720" y="3962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1089000" y="400212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1" name="Group 21"/>
          <p:cNvGrpSpPr/>
          <p:nvPr/>
        </p:nvGrpSpPr>
        <p:grpSpPr>
          <a:xfrm>
            <a:off x="1044720" y="4876920"/>
            <a:ext cx="761400" cy="664920"/>
            <a:chOff x="1044720" y="4876920"/>
            <a:chExt cx="761400" cy="664920"/>
          </a:xfrm>
        </p:grpSpPr>
        <p:sp>
          <p:nvSpPr>
            <p:cNvPr id="192" name="AutoShape 22"/>
            <p:cNvSpPr/>
            <p:nvPr/>
          </p:nvSpPr>
          <p:spPr>
            <a:xfrm>
              <a:off x="1050840" y="488808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AutoShape 23"/>
            <p:cNvSpPr/>
            <p:nvPr/>
          </p:nvSpPr>
          <p:spPr>
            <a:xfrm>
              <a:off x="1044720" y="48769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AutoShape 24"/>
            <p:cNvSpPr/>
            <p:nvPr/>
          </p:nvSpPr>
          <p:spPr>
            <a:xfrm>
              <a:off x="1089000" y="491652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Line 25"/>
          <p:cNvSpPr/>
          <p:nvPr/>
        </p:nvSpPr>
        <p:spPr>
          <a:xfrm>
            <a:off x="1692360" y="4654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1908000" y="3860640"/>
            <a:ext cx="63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Учебно-воспитательный бло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именение здоровьесберегающих педтехнологий, система классных часов по здоровому образу жизни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243440" y="406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1692360" y="558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763640" y="472428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Методический блок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ыпуск санитарных бюллетеней, санитарно-просветительская работа с родителями, освоение и внедрение здоровьесберегающих педтехнолог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1243440" y="497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31"/>
          <p:cNvSpPr/>
          <p:nvPr/>
        </p:nvSpPr>
        <p:spPr>
          <a:xfrm>
            <a:off x="539640" y="907920"/>
            <a:ext cx="6912000" cy="1081080"/>
          </a:xfrm>
          <a:custGeom>
            <a:avLst/>
            <a:gdLst>
              <a:gd name="textAreaLeft" fmla="*/ 1209600 w 6912000"/>
              <a:gd name="textAreaRight" fmla="*/ 5011200 w 691200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WordArt 32"/>
          <p:cNvGrpSpPr/>
          <p:nvPr/>
        </p:nvGrpSpPr>
        <p:grpSpPr>
          <a:xfrm>
            <a:off x="3992400" y="768240"/>
            <a:ext cx="4322520" cy="1365480"/>
            <a:chOff x="3992400" y="768240"/>
            <a:chExt cx="4322520" cy="1365480"/>
          </a:xfrm>
        </p:grpSpPr>
        <p:pic>
          <p:nvPicPr>
            <p:cNvPr id="203" name="WordArt 32" descr=""/>
            <p:cNvPicPr/>
            <p:nvPr/>
          </p:nvPicPr>
          <p:blipFill>
            <a:blip r:embed="rId1"/>
            <a:stretch/>
          </p:blipFill>
          <p:spPr>
            <a:xfrm>
              <a:off x="3992400" y="771120"/>
              <a:ext cx="432108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995280" y="768240"/>
              <a:ext cx="431964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труктур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здоровительной работы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 школ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Text Box 33"/>
          <p:cNvSpPr/>
          <p:nvPr/>
        </p:nvSpPr>
        <p:spPr>
          <a:xfrm>
            <a:off x="1763640" y="2997360"/>
            <a:ext cx="68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Спортивно-оздоровительный блок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уроки физического воспитания, дни здоровья, спортивные соревнования и праздники, походы, секции, часы здоровь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34"/>
          <p:cNvSpPr/>
          <p:nvPr/>
        </p:nvSpPr>
        <p:spPr>
          <a:xfrm>
            <a:off x="971640" y="5229360"/>
            <a:ext cx="7704000" cy="1628640"/>
          </a:xfrm>
          <a:prstGeom prst="horizontalScroll">
            <a:avLst>
              <a:gd name="adj" fmla="val 22013"/>
            </a:avLst>
          </a:prstGeom>
          <a:gradFill rotWithShape="0">
            <a:gsLst>
              <a:gs pos="0">
                <a:srgbClr val="08f8bf"/>
              </a:gs>
              <a:gs pos="50000">
                <a:srgbClr val="a50021"/>
              </a:gs>
              <a:gs pos="100000">
                <a:srgbClr val="08f8bf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Прогнозируемый результат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доровый физически, психичес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нравственно, адекватно оценивающий своё мест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и предназначение в жизни выпускни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аттестация 125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45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Наш путь </a:t>
            </a:r>
            <a:br>
              <a:rPr sz="7200"/>
            </a:b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к новой </a:t>
            </a:r>
            <a:br>
              <a:rPr sz="7200"/>
            </a:b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школе</a:t>
            </a:r>
            <a:endParaRPr b="0" lang="en-US" sz="7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468360" y="333360"/>
            <a:ext cx="820728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Школа – это вечный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двигатель общества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Если в школ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хорошо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то хорошо 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в обществ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9" descr="normal_serif-in-education"/>
          <p:cNvPicPr/>
          <p:nvPr/>
        </p:nvPicPr>
        <p:blipFill>
          <a:blip r:embed="rId1"/>
          <a:stretch/>
        </p:blipFill>
        <p:spPr>
          <a:xfrm>
            <a:off x="5435640" y="2276640"/>
            <a:ext cx="300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       </a:t>
            </a: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Школа</a:t>
            </a:r>
            <a:r>
              <a:rPr b="0" lang="ru-RU" sz="36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- это мастерская, 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где формируется мысл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подрастающего поколения.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Надо крепко держать её 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в руках, если не хочешь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выпустить из рук </a:t>
            </a: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будуще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                        Анри Барбю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Равнение на качество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44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ша школа уже не один год решает  одну из основных задач – дать высокое качество образования, т. е. выпускать из стен школы знающих, творческих, компетентных граждан. А это значит, что школа неустанно работает над созданием всех самых необходимых условий для раскрытия способностей своих учащихся, подготовке их к жизни в высокотехнологичном конкурентном мире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Инновационная деятельность ОУ -  одно из основных условий нового качества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3300"/>
                </a:solidFill>
                <a:latin typeface="Tahoma"/>
              </a:rPr>
              <a:t>Ключевые направления развития       школы:</a:t>
            </a:r>
            <a:endParaRPr b="0" lang="en-US" sz="35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77300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1. Обновление образовательных стандар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2. Система поддержки  талантливой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 молоде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3. Развитие учительского потенци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4. Современная школьная инфраструк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5. Здоровье школьников.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school19-16"/>
          <p:cNvPicPr/>
          <p:nvPr/>
        </p:nvPicPr>
        <p:blipFill>
          <a:blip r:embed="rId1"/>
          <a:stretch/>
        </p:blipFill>
        <p:spPr>
          <a:xfrm>
            <a:off x="6732720" y="4869000"/>
            <a:ext cx="16794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Georgia"/>
              </a:rPr>
              <a:t>Обновление образовательных стандартов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В ходе курсовой подготовки  и  работы МО идет знакомство с требования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структуре образовательных програм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условиям реализации образоват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програм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результатам их осво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Оснащаются: учебно- методическ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и  материально – техническая б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emblema"/>
          <p:cNvPicPr/>
          <p:nvPr/>
        </p:nvPicPr>
        <p:blipFill>
          <a:blip r:embed="rId1"/>
          <a:stretch/>
        </p:blipFill>
        <p:spPr>
          <a:xfrm>
            <a:off x="7380360" y="836640"/>
            <a:ext cx="1547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686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a50021"/>
                </a:solidFill>
                <a:latin typeface="Times New Roman"/>
              </a:rPr>
              <a:t>На сегодняшний день функционируют:</a:t>
            </a:r>
            <a:endParaRPr b="0" lang="en-US" sz="35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ультимедийные  проекторы  - 5 шт.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нтерактивные  доски  – 2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омпьютеры- 26 шт.;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идеокамера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ифровой фотоаппарат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узыкальный центр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ктивная акустическая система  -1 шт.;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ножительная техника – 10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интезатор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ысокоскоростной  доступ в сеть Interne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иблиотека располагает книжным фондом, который составляет более 22 тыс.экземпля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Одной из основных задач является пополнение информационно-техн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азы, дающей возможность всем обучающимся пользоваться компьюте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school11-06"/>
          <p:cNvPicPr/>
          <p:nvPr/>
        </p:nvPicPr>
        <p:blipFill>
          <a:blip r:embed="rId1"/>
          <a:stretch/>
        </p:blipFill>
        <p:spPr>
          <a:xfrm>
            <a:off x="4643280" y="1413000"/>
            <a:ext cx="3816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Georgia"/>
              </a:rPr>
              <a:t>Дополнительное  образование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9680" y="981000"/>
            <a:ext cx="8373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Новый стандарт предусматривает внеаудиторную занятость: кружки, спортив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екции, различного рода творческие заня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снову дополнительного образования в школе составля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бразовательный блок, компенсирующий 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коммуникативных, творческих и иных потребностей обучающихся 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не реализованных в рамках предметного об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соответствии с нормативными документами цель дополните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бразования в школе - развитие мотивации детей к познанию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творчеству, реализация дополнительных образовательных програм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и услуг в интересах личности, общества,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настоящее время система дополнительн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еализуется в 29 образовательных программах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азвивается по следующим направления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художественно-эстет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физкультурно-оздоровительн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военно-патриот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социально-педагог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эколого-биологическ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14"/>
          <p:cNvPicPr/>
          <p:nvPr/>
        </p:nvPicPr>
        <p:blipFill>
          <a:blip r:embed="rId1"/>
          <a:stretch/>
        </p:blipFill>
        <p:spPr>
          <a:xfrm>
            <a:off x="6084720" y="4317840"/>
            <a:ext cx="2808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 rot="17973000">
            <a:off x="4825080" y="2385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4"/>
          <p:cNvSpPr/>
          <p:nvPr/>
        </p:nvSpPr>
        <p:spPr>
          <a:xfrm rot="3465600">
            <a:off x="4967280" y="4472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5"/>
          <p:cNvSpPr/>
          <p:nvPr/>
        </p:nvSpPr>
        <p:spPr>
          <a:xfrm rot="14368800">
            <a:off x="3528000" y="23850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113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116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119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" name="Group 19"/>
          <p:cNvGrpSpPr/>
          <p:nvPr/>
        </p:nvGrpSpPr>
        <p:grpSpPr>
          <a:xfrm>
            <a:off x="5364000" y="1773360"/>
            <a:ext cx="360360" cy="360360"/>
            <a:chOff x="5364000" y="1773360"/>
            <a:chExt cx="360360" cy="360360"/>
          </a:xfrm>
        </p:grpSpPr>
        <p:sp>
          <p:nvSpPr>
            <p:cNvPr id="122" name="Oval 20"/>
            <p:cNvSpPr/>
            <p:nvPr/>
          </p:nvSpPr>
          <p:spPr>
            <a:xfrm>
              <a:off x="5364000" y="1773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379840" y="1803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125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128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524560" y="49716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29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>
                  <a:alpha val="32156"/>
                </a:srgbClr>
              </a:gs>
              <a:gs pos="100000">
                <a:srgbClr val="76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3635280" y="27813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32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Oval 33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blipFill rotWithShape="0">
            <a:blip r:embed="rId1">
              <a:alphaModFix amt="38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999240" y="3645000"/>
            <a:ext cx="12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Лич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ребё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6084720" y="1413000"/>
            <a:ext cx="273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звитию навы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овершенствования дет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8280" y="1484280"/>
            <a:ext cx="3612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частие в работе секций Н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«Развитие творческ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 исследовательской деятель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через участие в конкурс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 проектах лингвист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правленно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«Высшая лига» («Физиолог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астений», «Оставь свой сле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истории», «Компьютерн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графика»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6589800" y="3068640"/>
            <a:ext cx="255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Развитие творчес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и исследовательс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пособностей (интел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лектуальные марафон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редметные недел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олимпиады, конкурс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810760" y="5013360"/>
            <a:ext cx="3327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амоуправление по возрастны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Группам (школьные республ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Планета «Радужная» (1-4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«Бригантина» (5-9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«РОСТ» (10-11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5760" y="4149720"/>
            <a:ext cx="247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амоопредел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 самоорганиза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(кружки, классные час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клубы по интересам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689760" y="5373720"/>
            <a:ext cx="265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Воспитание граждан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и патриота (програм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«Я  - гражданин России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Музей « История школы»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WordArt 44"/>
          <p:cNvSpPr txBox="1"/>
          <p:nvPr/>
        </p:nvSpPr>
        <p:spPr>
          <a:xfrm>
            <a:off x="826920" y="189000"/>
            <a:ext cx="746316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равления в развити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х способностей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ьника во внеклассной работ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7:09Z</dcterms:created>
  <dc:creator>usver</dc:creator>
  <dc:description/>
  <dc:language>en-US</dc:language>
  <cp:lastModifiedBy>Коля</cp:lastModifiedBy>
  <dcterms:modified xsi:type="dcterms:W3CDTF">2013-04-09T14:16:27Z</dcterms:modified>
  <cp:revision>45</cp:revision>
  <dc:subject/>
  <dc:title>Наш путь к новой школе</dc:title>
</cp:coreProperties>
</file>