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FA6-0934-4808-9624-D4C69274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050-231E-493C-BD13-92776766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733-0A30-45A5-8ACC-28F439D2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6A9-C79B-4C45-B8BB-70B6B96B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D9E15-6E4E-43AB-827A-41BAD02B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3530A-1815-4D7D-875C-24B460F2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974F3-5904-40EC-BE18-B069A74C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BF66D-1F5F-4C13-A300-1AE1FAF1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8DDBD-519D-45AB-9C47-3269181C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F541C-3D1B-435E-B817-5D42A38E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7ECEC-6972-4319-BC9D-662039FE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1D1-AE9E-4F2F-9A91-54FFA334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87B40-524C-4ED2-91A9-F9630F08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0958E-358B-4AA1-B287-DCF324C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05313-05DE-49EC-BE05-FF4CF39C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06EA7-6D38-495A-BADA-08D8C1DF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9DD4D-A5B6-4DD1-8AE3-4FBF42BB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B8C-8D61-428A-B573-1A4956F6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C7C-640E-43F6-B3D2-3C7FA0C4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398-6AB4-48AD-BEDA-4B12D6F3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B4F-E9F5-4842-BDEF-50127BC6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931-F961-4553-A8EF-B8308D56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2A2-57CA-46A6-A9B0-3A98044E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97E-CDA3-4FFB-8305-078021BF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28D3-AE6E-48CA-ACBC-7A5C5AB45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0FBD-4F0A-4570-8A17-E73DE8600A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7"/>
          <p:cNvSpPr/>
          <p:nvPr/>
        </p:nvSpPr>
        <p:spPr>
          <a:xfrm>
            <a:off x="4103640" y="0"/>
            <a:ext cx="5040360" cy="3357720"/>
          </a:xfrm>
          <a:prstGeom prst="foldedCorner">
            <a:avLst>
              <a:gd name="adj" fmla="val 2196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8"/>
          <p:cNvSpPr txBox="1"/>
          <p:nvPr/>
        </p:nvSpPr>
        <p:spPr>
          <a:xfrm rot="21045600">
            <a:off x="179280" y="3573000"/>
            <a:ext cx="831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1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952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У Меленковская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952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952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редняя общеобразовательная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952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952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школа № 1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952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0" y="0"/>
            <a:ext cx="4643280" cy="3429000"/>
          </a:xfrm>
          <a:prstGeom prst="foldedCorner">
            <a:avLst>
              <a:gd name="adj" fmla="val 2196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6778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Система поддержки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 талантливой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 молодежи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713800" cy="13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Выявление одаренных  детей через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6" descr="school05-16"/>
          <p:cNvPicPr/>
          <p:nvPr/>
        </p:nvPicPr>
        <p:blipFill>
          <a:blip r:embed="rId1"/>
          <a:stretch/>
        </p:blipFill>
        <p:spPr>
          <a:xfrm>
            <a:off x="108000" y="433440"/>
            <a:ext cx="3311640" cy="2286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675000" y="3645000"/>
            <a:ext cx="7682760" cy="39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99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чебную деяте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неурочную деяте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ворческие конкурсы и олимпиад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портивные соревн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Проявление талант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ебята проявляют свой талант в различных областях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онкурс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неклассных мероприят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конференц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олимпиад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ревнован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 flipV="1">
            <a:off x="3492360" y="5095800"/>
            <a:ext cx="96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ребя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Ожидаемые результат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Развитие способностей, удовлетворение интересов и потребностей каждого  учащегося школы</a:t>
            </a: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Участие  в олимпиадах, творческих конкурсах, спортивных соревнованиях различного уровня</a:t>
            </a: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eorgia"/>
              </a:rPr>
              <a:t>Реализация способностей детей за порогом школы, в интересах их личного роста и об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Georgia"/>
              </a:rPr>
              <a:t>Развитие учительского                 </a:t>
            </a:r>
            <a:br>
              <a:rPr sz="4000"/>
            </a:br>
            <a:r>
              <a:rPr b="0" lang="ru-RU" sz="4000" spc="-1" strike="noStrike">
                <a:solidFill>
                  <a:srgbClr val="a50021"/>
                </a:solidFill>
                <a:latin typeface="Georgia"/>
              </a:rPr>
              <a:t>            потенциала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</a:t>
            </a: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школе работает трудолюбивый, творческий,  доброжелательный коллекти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Достаточно высокий уровень квалификации, отсутствие текучести кадров, ориентация на принципе гуманистической педагогики позволяет коллективу стабильно и интересно работать.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school10-01"/>
          <p:cNvPicPr/>
          <p:nvPr/>
        </p:nvPicPr>
        <p:blipFill>
          <a:blip r:embed="rId1"/>
          <a:stretch/>
        </p:blipFill>
        <p:spPr>
          <a:xfrm>
            <a:off x="6588000" y="476280"/>
            <a:ext cx="1979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46200" y="1052640"/>
            <a:ext cx="8497800" cy="33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17 – высшую квалификационную категорию- (36,3%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20 – первую квалификационную категорию  - (47,7%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5 – вторую квалификационную категорию  -  (11,3%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ahoma"/>
              </a:rPr>
              <a:t>2-  без категории(молодые специалисты)    -   (4,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476360" y="620640"/>
            <a:ext cx="578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Обучение  осуществляют 44 педагога, из них име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250920" y="765000"/>
            <a:ext cx="8569080" cy="580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2 педагогов имеют звание: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Отличник народного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вещения»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Почетный работник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щего образования РФ"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Picture 5" descr="school08-01"/>
          <p:cNvPicPr/>
          <p:nvPr/>
        </p:nvPicPr>
        <p:blipFill>
          <a:blip r:embed="rId2"/>
          <a:stretch/>
        </p:blipFill>
        <p:spPr>
          <a:xfrm>
            <a:off x="468360" y="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eorgia"/>
              </a:rPr>
              <a:t>Современная школьная инфраструктур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24000" y="3112560"/>
            <a:ext cx="9468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Находиться в школе ребенку должно быть комфортно как психологически, так и физичес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ы стараемся изменить облик школы как по форме, так и по содержа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ые кабинеты оснащены новым современны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 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орудованием и наглядными пособиями. В 5-ти кабинетах установлены  мультимедийные проекторы и компьютеры , в 2-х - интерактивные доски. Компьютеры  кабинета информатики подключены  к сети Интерн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school19-11"/>
          <p:cNvPicPr/>
          <p:nvPr/>
        </p:nvPicPr>
        <p:blipFill>
          <a:blip r:embed="rId1"/>
          <a:stretch/>
        </p:blipFill>
        <p:spPr>
          <a:xfrm>
            <a:off x="900000" y="1197000"/>
            <a:ext cx="1368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Tahoma"/>
              </a:rPr>
              <a:t>Обеспечение </a:t>
            </a:r>
            <a:br>
              <a:rPr sz="4000"/>
            </a:br>
            <a:r>
              <a:rPr b="1" i="1" lang="ru-RU" sz="4000" spc="-1" strike="noStrike">
                <a:solidFill>
                  <a:srgbClr val="993300"/>
                </a:solidFill>
                <a:latin typeface="Tahoma"/>
              </a:rPr>
              <a:t>безопасности </a:t>
            </a:r>
            <a:br>
              <a:rPr sz="4000"/>
            </a:br>
            <a:r>
              <a:rPr b="1" i="1" lang="ru-RU" sz="4000" spc="-1" strike="noStrike">
                <a:solidFill>
                  <a:srgbClr val="993300"/>
                </a:solidFill>
                <a:latin typeface="Tahoma"/>
              </a:rPr>
              <a:t>в школе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2349360"/>
            <a:ext cx="90010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целях обеспечения  безопасного проведения образовате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оцесса в школе и сохранности школьного иму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функционируют :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000099"/>
                </a:solidFill>
                <a:latin typeface="Georgia"/>
              </a:rPr>
              <a:t>«</a:t>
            </a: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ТРЕВОЖНАЯ КНОП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                                   </a:t>
            </a: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ПОЖАРНАЯ СИГНАЛИЗ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                                   </a:t>
            </a:r>
            <a:r>
              <a:rPr b="1" i="1" lang="ru-RU" sz="1800" spc="-1" strike="noStrike">
                <a:solidFill>
                  <a:srgbClr val="a50021"/>
                </a:solidFill>
                <a:latin typeface="Georgia"/>
              </a:rPr>
              <a:t>ПРЯМАЯ ТЕЛЕФОННАЯ СВЯЗЬ</a:t>
            </a: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Контроль по обслуживанию  данных установок осуществляет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ответствующими орга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В системе проводятся следующие мероприя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- учебная эвакуация обучающихся и сотрудников не  менее четырех раз в г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-в течение года проводятся мероприятия по изучению и отработке навы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безопасного поведения  на дорог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-обучение педагогического коллектива защите от опасностей, возникающих при чрезвычайных ситуа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6" descr="photos0-800x600"/>
          <p:cNvPicPr/>
          <p:nvPr/>
        </p:nvPicPr>
        <p:blipFill>
          <a:blip r:embed="rId1"/>
          <a:stretch/>
        </p:blipFill>
        <p:spPr>
          <a:xfrm>
            <a:off x="4859280" y="260280"/>
            <a:ext cx="294660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         </a:t>
            </a: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Здоровье школьников</a:t>
            </a:r>
            <a:br>
              <a:rPr sz="4000"/>
            </a:b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Дети проводят в школе значительную часть дня, поэтому сохранение, укрепление их физического, психического здоровья - дело не только семьи, но и педагог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Горячее питание, медицинское обслуживание, спортивные занятия, в том числе внеурочные, реализация профилактических программ, обсуждение с детьми вопросов здорового образа жизни - все это будет влиять на улучшение их здоро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4768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Здоровьесберегающий компонент школы (из программы «Здоровье»)</a:t>
            </a:r>
            <a:endParaRPr b="0" lang="en-US" sz="2800" spc="-1" strike="noStrike">
              <a:solidFill>
                <a:srgbClr val="a50021"/>
              </a:solidFill>
              <a:latin typeface="Tahoma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1044720" y="2205000"/>
            <a:ext cx="761760" cy="665280"/>
            <a:chOff x="1044720" y="2205000"/>
            <a:chExt cx="761760" cy="665280"/>
          </a:xfrm>
        </p:grpSpPr>
        <p:sp>
          <p:nvSpPr>
            <p:cNvPr id="174" name="AutoShape 4"/>
            <p:cNvSpPr/>
            <p:nvPr/>
          </p:nvSpPr>
          <p:spPr>
            <a:xfrm>
              <a:off x="1050840" y="22161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AutoShape 5"/>
            <p:cNvSpPr/>
            <p:nvPr/>
          </p:nvSpPr>
          <p:spPr>
            <a:xfrm>
              <a:off x="1044720" y="2205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AutoShape 6"/>
            <p:cNvSpPr/>
            <p:nvPr/>
          </p:nvSpPr>
          <p:spPr>
            <a:xfrm>
              <a:off x="1089000" y="224460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7"/>
          <p:cNvGrpSpPr/>
          <p:nvPr/>
        </p:nvGrpSpPr>
        <p:grpSpPr>
          <a:xfrm>
            <a:off x="1044720" y="3070080"/>
            <a:ext cx="761400" cy="665280"/>
            <a:chOff x="1044720" y="3070080"/>
            <a:chExt cx="761400" cy="665280"/>
          </a:xfrm>
        </p:grpSpPr>
        <p:sp>
          <p:nvSpPr>
            <p:cNvPr id="178" name="AutoShape 8"/>
            <p:cNvSpPr/>
            <p:nvPr/>
          </p:nvSpPr>
          <p:spPr>
            <a:xfrm>
              <a:off x="1050840" y="308124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AutoShape 9"/>
            <p:cNvSpPr/>
            <p:nvPr/>
          </p:nvSpPr>
          <p:spPr>
            <a:xfrm>
              <a:off x="1044720" y="30700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AutoShape 10"/>
            <p:cNvSpPr/>
            <p:nvPr/>
          </p:nvSpPr>
          <p:spPr>
            <a:xfrm>
              <a:off x="1089000" y="310968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1" name="Line 11"/>
          <p:cNvSpPr/>
          <p:nvPr/>
        </p:nvSpPr>
        <p:spPr>
          <a:xfrm>
            <a:off x="1763640" y="2854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403280" y="1844640"/>
            <a:ext cx="58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1243440" y="230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1692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1763640" y="2133720"/>
            <a:ext cx="68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Медицинский блок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работа спецмедгрупп, диагностика, лечебно-оздоровительные процедуры, встречи с медработник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1243440" y="3168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7" name="Group 17"/>
          <p:cNvGrpSpPr/>
          <p:nvPr/>
        </p:nvGrpSpPr>
        <p:grpSpPr>
          <a:xfrm>
            <a:off x="1044720" y="3962520"/>
            <a:ext cx="761760" cy="664920"/>
            <a:chOff x="1044720" y="3962520"/>
            <a:chExt cx="761760" cy="664920"/>
          </a:xfrm>
        </p:grpSpPr>
        <p:sp>
          <p:nvSpPr>
            <p:cNvPr id="188" name="AutoShape 18"/>
            <p:cNvSpPr/>
            <p:nvPr/>
          </p:nvSpPr>
          <p:spPr>
            <a:xfrm>
              <a:off x="1050840" y="39736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AutoShape 19"/>
            <p:cNvSpPr/>
            <p:nvPr/>
          </p:nvSpPr>
          <p:spPr>
            <a:xfrm>
              <a:off x="1044720" y="3962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AutoShape 20"/>
            <p:cNvSpPr/>
            <p:nvPr/>
          </p:nvSpPr>
          <p:spPr>
            <a:xfrm>
              <a:off x="1089000" y="400212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2f1800"/>
                </a:gs>
                <a:gs pos="100000">
                  <a:srgbClr val="6633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1" name="Group 21"/>
          <p:cNvGrpSpPr/>
          <p:nvPr/>
        </p:nvGrpSpPr>
        <p:grpSpPr>
          <a:xfrm>
            <a:off x="1044720" y="4876920"/>
            <a:ext cx="761400" cy="664920"/>
            <a:chOff x="1044720" y="4876920"/>
            <a:chExt cx="761400" cy="664920"/>
          </a:xfrm>
        </p:grpSpPr>
        <p:sp>
          <p:nvSpPr>
            <p:cNvPr id="192" name="AutoShape 22"/>
            <p:cNvSpPr/>
            <p:nvPr/>
          </p:nvSpPr>
          <p:spPr>
            <a:xfrm>
              <a:off x="1050840" y="488808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AutoShape 23"/>
            <p:cNvSpPr/>
            <p:nvPr/>
          </p:nvSpPr>
          <p:spPr>
            <a:xfrm>
              <a:off x="1044720" y="48769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AutoShape 24"/>
            <p:cNvSpPr/>
            <p:nvPr/>
          </p:nvSpPr>
          <p:spPr>
            <a:xfrm>
              <a:off x="1089000" y="491652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Line 25"/>
          <p:cNvSpPr/>
          <p:nvPr/>
        </p:nvSpPr>
        <p:spPr>
          <a:xfrm>
            <a:off x="1692360" y="4654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1908000" y="3860640"/>
            <a:ext cx="633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Учебно-воспитательный бло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применение здоровьесберегающих педтехнологий, система классных часов по здоровому образу жизни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1243440" y="4060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1692360" y="558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1763640" y="4724280"/>
            <a:ext cx="67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Методический блок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ыпуск санитарных бюллетеней, санитарно-просветительская работа с родителями, освоение и внедрение здоровьесберегающих педтехнолог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1243440" y="4975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31"/>
          <p:cNvSpPr/>
          <p:nvPr/>
        </p:nvSpPr>
        <p:spPr>
          <a:xfrm>
            <a:off x="539640" y="907920"/>
            <a:ext cx="6912000" cy="1081080"/>
          </a:xfrm>
          <a:custGeom>
            <a:avLst/>
            <a:gdLst>
              <a:gd name="textAreaLeft" fmla="*/ 1209600 w 6912000"/>
              <a:gd name="textAreaRight" fmla="*/ 5011200 w 6912000"/>
              <a:gd name="textAreaTop" fmla="*/ 144720 h 1081080"/>
              <a:gd name="textAreaBottom" fmla="*/ 9363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WordArt 32"/>
          <p:cNvGrpSpPr/>
          <p:nvPr/>
        </p:nvGrpSpPr>
        <p:grpSpPr>
          <a:xfrm>
            <a:off x="3992400" y="768240"/>
            <a:ext cx="4322520" cy="1365480"/>
            <a:chOff x="3992400" y="768240"/>
            <a:chExt cx="4322520" cy="1365480"/>
          </a:xfrm>
        </p:grpSpPr>
        <p:pic>
          <p:nvPicPr>
            <p:cNvPr id="203" name="WordArt 32" descr=""/>
            <p:cNvPicPr/>
            <p:nvPr/>
          </p:nvPicPr>
          <p:blipFill>
            <a:blip r:embed="rId1"/>
            <a:stretch/>
          </p:blipFill>
          <p:spPr>
            <a:xfrm>
              <a:off x="3992400" y="771120"/>
              <a:ext cx="432108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995280" y="768240"/>
              <a:ext cx="4319640" cy="13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труктур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здоровительной работы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 школ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Text Box 33"/>
          <p:cNvSpPr/>
          <p:nvPr/>
        </p:nvSpPr>
        <p:spPr>
          <a:xfrm>
            <a:off x="1763640" y="2997360"/>
            <a:ext cx="68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Спортивно-оздоровительный блок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уроки физического воспитания, дни здоровья, спортивные соревнования и праздники, походы, секции, часы здоровь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34"/>
          <p:cNvSpPr/>
          <p:nvPr/>
        </p:nvSpPr>
        <p:spPr>
          <a:xfrm>
            <a:off x="971640" y="5229360"/>
            <a:ext cx="7704000" cy="1628640"/>
          </a:xfrm>
          <a:prstGeom prst="horizontalScroll">
            <a:avLst>
              <a:gd name="adj" fmla="val 22013"/>
            </a:avLst>
          </a:prstGeom>
          <a:gradFill rotWithShape="0">
            <a:gsLst>
              <a:gs pos="0">
                <a:srgbClr val="08f8bf"/>
              </a:gs>
              <a:gs pos="50000">
                <a:srgbClr val="a50021"/>
              </a:gs>
              <a:gs pos="100000">
                <a:srgbClr val="08f8bf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Прогнозируемый результат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здоровый физически, психичес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нравственно, адекватно оценивающий своё мест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и предназначение в жизни выпускник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a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аттестация 125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450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9900"/>
                </a:solidFill>
                <a:latin typeface="Georgia"/>
              </a:rPr>
              <a:t>Наш путь </a:t>
            </a:r>
            <a:br>
              <a:rPr sz="7200"/>
            </a:br>
            <a:r>
              <a:rPr b="1" i="1" lang="ru-RU" sz="7200" spc="-1" strike="noStrike">
                <a:solidFill>
                  <a:srgbClr val="ff9900"/>
                </a:solidFill>
                <a:latin typeface="Georgia"/>
              </a:rPr>
              <a:t>к новой </a:t>
            </a:r>
            <a:br>
              <a:rPr sz="7200"/>
            </a:br>
            <a:r>
              <a:rPr b="1" i="1" lang="ru-RU" sz="7200" spc="-1" strike="noStrike">
                <a:solidFill>
                  <a:srgbClr val="ff9900"/>
                </a:solidFill>
                <a:latin typeface="Georgia"/>
              </a:rPr>
              <a:t>школе</a:t>
            </a:r>
            <a:endParaRPr b="0" lang="en-US" sz="72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468360" y="333360"/>
            <a:ext cx="8207280" cy="68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Школа – это вечный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двигатель общества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Если в школ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хорошо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то хорошо и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4" marL="7174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 </a:t>
            </a:r>
            <a:r>
              <a:rPr b="0" lang="ru-RU" sz="4800" spc="-1" strike="noStrike">
                <a:solidFill>
                  <a:srgbClr val="a50021"/>
                </a:solidFill>
                <a:latin typeface="Georgia"/>
              </a:rPr>
              <a:t>в обществ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buClr>
                <a:srgbClr val="663300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9" descr="normal_serif-in-education"/>
          <p:cNvPicPr/>
          <p:nvPr/>
        </p:nvPicPr>
        <p:blipFill>
          <a:blip r:embed="rId1"/>
          <a:stretch/>
        </p:blipFill>
        <p:spPr>
          <a:xfrm>
            <a:off x="5435640" y="2276640"/>
            <a:ext cx="300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       </a:t>
            </a: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Школа</a:t>
            </a:r>
            <a:r>
              <a:rPr b="0" lang="ru-RU" sz="36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- это мастерская, 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где формируется мысл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   подрастающего поколения.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Надо крепко держать её 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в руках, если не хочешь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выпустить из рук </a:t>
            </a: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будущее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                           Анри Барбю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Равнение на качество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44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ша школа уже не один год решает  одну из основных задач – дать высокое качество образования, т. е. выпускать из стен школы знающих, творческих, компетентных граждан. А это значит, что школа неустанно работает над созданием всех самых необходимых условий для раскрытия способностей своих учащихся, подготовке их к жизни в высокотехнологичном конкурентном мире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Инновационная деятельность ОУ -  одно из основных условий нового качества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3300"/>
                </a:solidFill>
                <a:latin typeface="Tahoma"/>
              </a:rPr>
              <a:t>Ключевые направления развития       школы:</a:t>
            </a:r>
            <a:endParaRPr b="0" lang="en-US" sz="35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77300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1. Обновление образовательных стандар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2. Система поддержки  талантливой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 молоде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3. Развитие учительского потенци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4. Современная школьная инфраструкту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5. Здоровье школьников.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Georgia"/>
              </a:rPr>
              <a:t>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school19-16"/>
          <p:cNvPicPr/>
          <p:nvPr/>
        </p:nvPicPr>
        <p:blipFill>
          <a:blip r:embed="rId1"/>
          <a:stretch/>
        </p:blipFill>
        <p:spPr>
          <a:xfrm>
            <a:off x="6732720" y="4869000"/>
            <a:ext cx="167940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Georgia"/>
              </a:rPr>
              <a:t>Обновление образовательных стандартов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В ходе курсовой подготовки  и  работы МО идет знакомство с требованиям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к структуре образовательных програм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к условиям реализации образователь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програм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к результатам их осво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Оснащаются: учебно- методическая б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и  материально – техническая б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emblema"/>
          <p:cNvPicPr/>
          <p:nvPr/>
        </p:nvPicPr>
        <p:blipFill>
          <a:blip r:embed="rId1"/>
          <a:stretch/>
        </p:blipFill>
        <p:spPr>
          <a:xfrm>
            <a:off x="7380360" y="836640"/>
            <a:ext cx="1547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6868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a50021"/>
                </a:solidFill>
                <a:latin typeface="Times New Roman"/>
              </a:rPr>
              <a:t>На сегодняшний день функционируют:</a:t>
            </a:r>
            <a:endParaRPr b="0" lang="en-US" sz="35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68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ультимедийные  проекторы  - 5 шт.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нтерактивные  доски  – 2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компьютеры- 26 шт.;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идеокамера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ифровой фотоаппарат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узыкальный центр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ктивная акустическая система  -1 шт.;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ножительная техника – 10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интезатор -1 шт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ысокоскоростной  доступ в сеть Interne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Библиотека располагает книжным фондом, который составляет более 22 тыс.экземпляр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Одной из основных задач является пополнение информационно-техниче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базы, дающей возможность всем обучающимся пользоваться компьютер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school11-06"/>
          <p:cNvPicPr/>
          <p:nvPr/>
        </p:nvPicPr>
        <p:blipFill>
          <a:blip r:embed="rId1"/>
          <a:stretch/>
        </p:blipFill>
        <p:spPr>
          <a:xfrm>
            <a:off x="4643280" y="1413000"/>
            <a:ext cx="3816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Georgia"/>
              </a:rPr>
              <a:t>Дополнительное  образование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9680" y="981000"/>
            <a:ext cx="8373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Новый стандарт предусматривает внеаудиторную занятость: кружки, спортив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секции, различного рода творческие занят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Основу дополнительного образования в школе составля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образовательный блок, компенсирующий удовлетво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коммуникативных, творческих и иных потребностей обучающихся 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не реализованных в рамках предметного обуч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 соответствии с нормативными документами цель дополните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образования в школе - развитие мотивации детей к познанию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творчеству, реализация дополнительных образовательных програм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и услуг в интересах личности, общества, государ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 настоящее время система дополнительного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реализуется в 29 образовательных программах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развивается по следующим направления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художественно-эстетическ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физкультурно-оздоровительн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военно-патриотическ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социально-педагогическо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* эколого-биологическо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14"/>
          <p:cNvPicPr/>
          <p:nvPr/>
        </p:nvPicPr>
        <p:blipFill>
          <a:blip r:embed="rId1"/>
          <a:stretch/>
        </p:blipFill>
        <p:spPr>
          <a:xfrm>
            <a:off x="6084720" y="4317840"/>
            <a:ext cx="2808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 rot="17973000">
            <a:off x="4825080" y="2385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4"/>
          <p:cNvSpPr/>
          <p:nvPr/>
        </p:nvSpPr>
        <p:spPr>
          <a:xfrm rot="3465600">
            <a:off x="4967280" y="4472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5"/>
          <p:cNvSpPr/>
          <p:nvPr/>
        </p:nvSpPr>
        <p:spPr>
          <a:xfrm rot="14368800">
            <a:off x="3528000" y="23850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6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8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93001d">
                  <a:alpha val="0"/>
                </a:srgbClr>
              </a:gs>
              <a:gs pos="100000">
                <a:srgbClr val="a500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" name="Group 10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113" name="Oval 11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116" name="Oval 14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" name="Group 16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119" name="Oval 17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18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" name="Group 19"/>
          <p:cNvGrpSpPr/>
          <p:nvPr/>
        </p:nvGrpSpPr>
        <p:grpSpPr>
          <a:xfrm>
            <a:off x="5364000" y="1773360"/>
            <a:ext cx="360360" cy="360360"/>
            <a:chOff x="5364000" y="1773360"/>
            <a:chExt cx="360360" cy="360360"/>
          </a:xfrm>
        </p:grpSpPr>
        <p:sp>
          <p:nvSpPr>
            <p:cNvPr id="122" name="Oval 20"/>
            <p:cNvSpPr/>
            <p:nvPr/>
          </p:nvSpPr>
          <p:spPr>
            <a:xfrm>
              <a:off x="5364000" y="1773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5379840" y="1803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" name="Group 22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125" name="Oval 23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7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128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5524560" y="49716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bbaa9"/>
                </a:gs>
                <a:gs pos="100000">
                  <a:srgbClr val="6633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Oval 28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Oval 29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00">
                  <a:alpha val="32156"/>
                </a:srgbClr>
              </a:gs>
              <a:gs pos="100000">
                <a:srgbClr val="765e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Oval 30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6e00"/>
              </a:gs>
              <a:gs pos="50000">
                <a:srgbClr val="ffcc00"/>
              </a:gs>
              <a:gs pos="100000">
                <a:srgbClr val="8a6e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Oval 31"/>
          <p:cNvSpPr/>
          <p:nvPr/>
        </p:nvSpPr>
        <p:spPr>
          <a:xfrm>
            <a:off x="3635280" y="27813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a28200"/>
              </a:gs>
              <a:gs pos="100000">
                <a:srgbClr val="ffcc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32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Oval 33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blipFill rotWithShape="0">
            <a:blip r:embed="rId1">
              <a:alphaModFix amt="38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3999240" y="3645000"/>
            <a:ext cx="12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Лич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99"/>
                </a:solidFill>
                <a:latin typeface="Arial"/>
              </a:rPr>
              <a:t>ребён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6084720" y="1413000"/>
            <a:ext cx="273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развитию навык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овершенствования дет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8280" y="1484280"/>
            <a:ext cx="3612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Участие в работе секций НО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«Развитие творческ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 исследовательской деятельно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через участие в конкурс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 проектах лингвист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правленност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«Высшая лига» («Физиолог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растений», «Оставь свой сле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истории», «Компьютерна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графика»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6589800" y="3068640"/>
            <a:ext cx="2554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Развитие творческ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и исследовательски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пособностей (интел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лектуальные марафон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предметные недел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олимпиады, конкурсы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810760" y="5013360"/>
            <a:ext cx="3327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Самоуправление по возрастны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Группам (школьные республ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Планета «Радужная» (1-4 кл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«Бригантина» (5-9 кл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«РОСТ» (10-11 кл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42"/>
          <p:cNvSpPr/>
          <p:nvPr/>
        </p:nvSpPr>
        <p:spPr>
          <a:xfrm>
            <a:off x="5760" y="4149720"/>
            <a:ext cx="247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Самоопределен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и самоорганизац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(кружки, классные час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клубы по интересам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689760" y="5373720"/>
            <a:ext cx="265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Воспитание граждан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и патриота (програм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«Я  - гражданин России»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Музей « История школы»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WordArt 44"/>
          <p:cNvSpPr txBox="1"/>
          <p:nvPr/>
        </p:nvSpPr>
        <p:spPr>
          <a:xfrm>
            <a:off x="826920" y="189000"/>
            <a:ext cx="746316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правления в развити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ческих способностей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ьника во внеклассной работ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7:09Z</dcterms:created>
  <dc:creator>usver</dc:creator>
  <dc:description/>
  <dc:language>en-US</dc:language>
  <cp:lastModifiedBy>Коля</cp:lastModifiedBy>
  <dcterms:modified xsi:type="dcterms:W3CDTF">2013-04-09T14:16:27Z</dcterms:modified>
  <cp:revision>45</cp:revision>
  <dc:subject/>
  <dc:title>Наш путь к новой школе</dc:title>
</cp:coreProperties>
</file>