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704-CCBE-4B65-B6C3-F62D84D3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E93-51DC-4C39-92BA-F536ADB5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BFA-93FA-40ED-8164-B05B00D2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906-FFF6-4A9E-8450-486261F0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BE73-39B7-4784-8373-F5CB6B2E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B0AF-36DB-4ED2-88E4-5E35A981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3E92-BECF-4323-AA7B-22B6052C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2410-B57C-4EE9-8998-9F19E4C3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89E9-6180-4039-80D0-828C93E0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083D-08C2-4CA1-B8C9-A5DD24C1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A01C-26B8-4EFC-89CE-92A2096D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265-E123-4907-A513-63E36A5A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8332-E61E-41B2-A01B-56674585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31F7-F204-4C14-BC00-060831D0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ABD5-F6D9-4FD7-8A34-3D5C0815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0670-897D-4A6A-AE69-A9A927FA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8D99-7EC8-4BEA-94F3-D915A71F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C3E34-5206-4521-B3C7-5F9374E0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35085-AE01-437B-832D-F1957B38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49769-77B6-4657-8E24-99611025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1D697-22E2-43E5-A1B9-41F2BBDC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2AC1C-3477-451E-929E-3C8587E5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75F0-FB50-433E-9D91-B7CDCC7A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73FDC-5468-42AC-8916-DECEA6EE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5B52D-6DB9-4FB3-8F98-A9FA8590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0F235-71D3-43A7-9DD8-FBF400FD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341BA-818C-4A27-BA2B-42E49730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C9819-88D4-4EA9-8027-97C69FCC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ACA0B-3D29-4EEF-958C-B9DCED34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2BA1A-6817-41C4-9141-B479F7A0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276A0-3FF3-4429-B72C-F5DA416C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CC87D-FA30-4395-88C2-85BF423C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7E853-5FA8-4B89-96D9-FF2855C1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7EE-45E0-4AE4-88B6-8C273B89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0C671-8ACE-4514-8BC8-432CDCA4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9E14D-B733-43CC-A7B4-E9499B69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FF568-A9B0-4C63-9D4C-4221B9A0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2D453-6888-42D1-A64E-3AA36B17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2F415-A0FC-4F88-A72E-5D879F5D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77F09-489F-4C3C-B340-974F7BB0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B1E32-CAE5-4CC2-83EF-006D4FE0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57EDE-B58F-48A4-BFB7-0E554CB5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5CBEC-F299-4BBA-8295-B0AF7251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FF2-30A7-4457-8703-1AEDC64D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2BA-C4E5-49AF-A047-65C6E3DB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BA4-4D08-4894-9603-F4CC96DB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3E0-4740-4022-8FCC-635F6391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34B-1989-4600-821E-47165448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3C88-497E-46EF-B336-E229B73E84E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C061-5495-476E-A72F-34E63272A63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1BFE-8E6D-4FE2-ACEC-E03E87E8B53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943F-308D-4F2C-9BE6-DFAD78AC1AA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4102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ФЕДЕРАЛЬНАЯ СЛУЖБА ПО НАДЗОРУ В СФЕРЕ ЗАЩИТ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становлени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от 29 декабря 2010 г. N 18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Зарегистрировано в Минюсте РФ 03.03.2011 N 1999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50560" y="76464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11. Для предупреждения переутомления и сохранения оптимального уровня работоспособности в течение недели обучающиеся должны име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блегченный учебный день в четверг или пятниц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12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одолжительность перемен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ежду уроками составляет не мене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0 мину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большой перемен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после 2 или 3 уроков) 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0 - 30 мину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Вместо одной большой перемены допускается после 2 и 3 уроков устанавли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ве перемены по 20 минут кажда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23640" y="83628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20. Для удовлетворения биологической потребности в движении независимо от возраста обучающих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екомендуетс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ровод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 менее 3-х уроков физической культуры в недел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редусмотренных в объеме максимально допустимой недельной нагрузки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аменять уроки физической культуры другими предметами не допускаетс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30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бъем домашних заданий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по всем предметам) должен быть таким, чтобы затраты времени на его выполнение не превышали (в астрономических часах): во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 - 3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лассах 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,5 ч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в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4 - 5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лассах 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 ч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32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Вес ежедневного комплекта учебник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письменных принадлежностей не должен превышать: для учащих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 - 2-х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лассов - боле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,5 кг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          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3 - 4-х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лассов - боле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 кг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33. В целях профилактики нарушения осанки обучающих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екомендуется для начальных классов иметь два комплекта учебник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один - для использования на уроках в общеобразовательном учреждении, второй - для приготовления домашних зада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СанПиН 2.4.2.2821-10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вводятся в действие с 1 сентября 2011 год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560" y="1934640"/>
            <a:ext cx="889308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анитарные правила устанавливают требования к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размещению О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территории О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зданию О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оборудованию помещений О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воздушно-тепловому режиму О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естественному и искусственному освещению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водоснабжению и канализац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помещениям и оборудованию ОУ, размещенных в приспособленных зданиях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режиму образовательного процесс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организации медицинского обслуживания обучающихс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санитарному состоянию и содержанию О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- соблюдению санитарных правил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X. Гигиенические требования к режиму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разовательного процесс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56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1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птимальный возрас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чала школьного обучения 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 ранее 7 ле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В 1-е классы принимают детей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8-го или 7-го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да жизни. Прием детей 7-го года жизни осуществляют при достижении им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 1 сентябр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ебного года возраста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 менее 6 лет 6 месяце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полняемость класс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за исключением классов компенсирующего обучения,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 должна превышать 25 челов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2. Обучение детей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, не достигших 6 лет 6 месяце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началу учебного года, следует проводить в условиях дошкольного образовательного учрежде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X. Гигиенические требования к режиму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разовательного процесс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.3. Для профилактики переутомления обучающихся в годовом календарном учебном план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комендуется предусмотреть равномерное распределение периодов учебного времени и канику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.4. Учебные занятия следует начина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ранее 8 час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Проведе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улевых уроков не допускаетс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чреждениях с углубленным изучением отдельных предметов, лицеях и гимназиях обучение проводя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лько в первую смен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чреждениях, работающих в две смены, обуче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-х, 5-х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ускны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 и 11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ов и классо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мпенсирующего обуч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олжно быть организовано в первую смен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3 смен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бщеобразовательных учреждения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допускает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8000" y="549000"/>
            <a:ext cx="90360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10.5. Гигиенические требования к максимальным величинам недельной образовательной нагрузк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0" y="1916280"/>
          <a:ext cx="9144000" cy="4938480"/>
        </p:xfrm>
        <a:graphic>
          <a:graphicData uri="http://schemas.openxmlformats.org/drawingml/2006/table">
            <a:tbl>
              <a:tblPr/>
              <a:tblGrid>
                <a:gridCol w="3000240"/>
                <a:gridCol w="3071880"/>
                <a:gridCol w="3071880"/>
              </a:tblGrid>
              <a:tr h="701640">
                <a:tc rowSpan="2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 допустимая недельная нагрузка в академических час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 6-дневной неделе, не бол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 5-дневной неделе, не бол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7928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6. Образовательную недельную нагрузку необходимо равномерно распределять в течение учебной недели, при этом объем максимальной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опустимой нагрузки в течение дн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лжен составлять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для обучающих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-х класс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не должен превышать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4 урок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 день в недел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 более 5 урок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за счет урока физической культур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обучающих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2 - 4 класс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 более 5 урок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дин раз в неделю 6 урок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 счет урока физической культуры при 6-дневной учебной неде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акультативные занятия следует планировать на дни с наименьшим количеством обязательных урок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08000" y="765000"/>
            <a:ext cx="9036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7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списание урок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авляют с учетом дневной и недельной умственной работоспособности обучающихся и шкалой трудности учебных предме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79280" y="2421000"/>
          <a:ext cx="8640720" cy="4252680"/>
        </p:xfrm>
        <a:graphic>
          <a:graphicData uri="http://schemas.openxmlformats.org/drawingml/2006/table">
            <a:tbl>
              <a:tblPr/>
              <a:tblGrid>
                <a:gridCol w="5977080"/>
                <a:gridCol w="2663640"/>
              </a:tblGrid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щеобразовательные предметы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личество бал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анг трудност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усский (национальный, иностранный язык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родоведение, инфор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усская (национальная) 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стория (4 классо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исование и музык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у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изическая культура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50560" y="836640"/>
            <a:ext cx="8785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8. При составлении расписания уроков следует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редовать различные по сложности предметы в течение дня и недел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ля обучающихся I ступени образования основные предметы (математика, русский и иностранный язык, природоведение, информатика) чередовать с уроками музыки, изобразительного искусства, труда, физической культу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обучающих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 классо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иболе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рудные предмет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лжны провод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а 2 урок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; 2 - 4 классов - 2 - 3 урок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начальных классах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двоенные уроки не проводятс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течение учебного дня не следует проводить более одной контрольной работы. Контрольные работы рекомендуется проводить на 2 - 4 урок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79280" y="836280"/>
            <a:ext cx="8856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.9.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должительность урок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академический час) во всех классах не должна превышать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45 мину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за исключением 1 класс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.10.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бучение в 1-м класс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уществляется с соблюдением следующих дополнительных требований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ые занятия проводятся по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5-дневной учебной недел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только в первую смен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пользование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ступенчатого» режима обучения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ервом полугодии (в сентябре, октябре - по 3 урока в день по 35 минут каждый, в ноябре-декабре - по 4 урока по 35 минут каждый; январь - май – по 4 урока по 45 минут каждый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екомендуетс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организация в середине учебного дня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инамической паузы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должительностью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е менее 40 мину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для посещающих группу продленного дня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еобходима организация дневного сн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не менее 1 часа), 3-разового питания и прогулок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обучение проводится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без балльного оценивания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наний обучающихся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 домашних задани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ополнительные недельные каникулы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ередине третьей четверти при традиционном режиме обуче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4:54:22Z</dcterms:created>
  <dc:creator>Федор</dc:creator>
  <dc:description/>
  <dc:language>en-US</dc:language>
  <cp:lastModifiedBy>Коля</cp:lastModifiedBy>
  <dcterms:modified xsi:type="dcterms:W3CDTF">2013-04-12T17:08:28Z</dcterms:modified>
  <cp:revision>29</cp:revision>
  <dc:subject/>
  <dc:title>Слайд 1</dc:title>
</cp:coreProperties>
</file>