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AF0-8E44-434B-ADAD-3C7CBFA0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4B3-BFB4-4CD0-B9CB-B4290090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4F0-6F0D-4768-AE13-45EADD3E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365-5B54-4A31-A3A1-CFC82734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825-54CD-4D54-8577-1B7AAE0A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6F3A-5199-44DC-AC90-833AE2C8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0B94-3E6C-4044-B930-4BC9FAD2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0960-37C0-480A-ACDB-4A9F21B9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0088-60BB-4E9E-8714-012D9C8E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05F4-2010-467F-ADA9-85BA9D14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0ECB-A221-40E6-89B9-5AE7FD67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B82-6DD9-4544-9733-5D289935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4494-4606-4682-83B1-EBD9F8D2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ADBA-9559-4FB6-9033-60BAAB04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9BAA-1523-4BC8-AE82-34B52431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4807-EB2B-40B8-9920-EA64B7A8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BB2F-90D7-45B4-B790-5ED252A0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DBA04-9A1F-4456-9F74-2D57118B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2351-738A-4CC6-AED9-577EB5FC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DB1CB-584B-48FF-BF91-88D27B61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2973-96B0-427E-953D-677E94B3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6E45-069D-46BB-9E31-7326336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B17-EE6B-4716-808C-83BA873B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B3D9F-2F38-4179-9A3E-BF610F09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A325-529B-45FE-A5F2-8818ED80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5F2A-479C-43B9-93EF-2FC36F8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888B-8E51-4869-80BC-FAAEB91B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98DD-72AA-4855-B174-C6A46DC0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1798C-A8B8-4136-B007-A5FF7306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B4D9-5A03-42CA-AFF2-2732D50D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17CB-4C3B-434F-BEEE-EBF746A9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38A44-A891-4605-81D1-A4A8AF76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1059-AB26-4326-A28D-E38F0088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225-F93F-463E-8BCB-BD48642D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90A7-FF33-42F4-BE33-7B1B0E3F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B720-EC87-4058-881E-CE40AA7D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F3383-1F13-4679-80C8-71B2D2E6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C554E-F8CF-40ED-9C86-5C991A27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7DF85-16F3-4ECF-8A54-DB93347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22086-085E-45FA-B6C2-9E1855A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F4BA9-4A75-4F1B-8067-018A9F93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FCB3F-CF94-4F51-8BF4-4D9434BC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592D-D16C-4B82-B018-29D0801E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90E-9E45-4621-A5F6-E683ADB5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7A3-81B1-4F61-9629-1AE439BD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098-48CA-469E-9B99-0C5025A8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528-13F7-4FF3-B4BF-AD689B03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B7F-57E3-4D14-9824-7A7D72EF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8F08-86ED-424F-9774-E3BB464D7F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D934-A09E-4865-A92D-5A73C4806B9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2410-EC3C-401B-B902-23EDE9EB6D1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3DBB-6A19-478A-BD0F-12634569269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4102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ФЕДЕРАЛЬНАЯ СЛУЖБА ПО НАДЗОРУ В СФЕРЕ ЗАЩИ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становле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от 29 декабря 2010 г. N 18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Зарегистрировано в Минюсте РФ 03.03.2011 N 1999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50560" y="76464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11. Для предупреждения переутомления и сохранения оптимального уровня работоспособности в течение недели обучающиеся должны име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легченный учебный день в четверг или пятниц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12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одолжительность перемен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ду уроками составляет не мен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0 мину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ольшой перемен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осле 2 или 3 уроков)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0 - 30 мину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Вместо одной большой перемены допускается после 2 и 3 уроков устанавли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ве перемены по 20 минут кажда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23640" y="83628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20. Для удовлетворения биологической потребности в движении независимо от возраста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екомендует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ровод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менее 3-х уроков физической культуры в недел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усмотренных в объеме максимально допустимой недельной нагрузки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менять уроки физической культуры другими предметами не допускает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30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ъем домашних заданий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о всем предметам) должен быть таким, чтобы затраты времени на его выполнение не превышали (в астрономических часах): во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- 3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ах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,5 ч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4 - 5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ах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32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ес ежедневного комплекта учебни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письменных принадлежностей не должен превышать: для уча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 - 2-х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ов - бол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,5 кг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3 - 4-х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ов - бол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кг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33. В целях профилактики нарушения осанки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екомендуется для начальных классов иметь два комплекта учебник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один - для использования на уроках в общеобразовательном учреждении, второй - для приготовления домашних зада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анПиН 2.4.2.2821-10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вводятся в действие с 1 сентября 2011 год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560" y="1934640"/>
            <a:ext cx="889308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анитарные правила устанавливают требования к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размещению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территории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зданию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оборудованию помещений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воздушно-тепловому режиму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естественному и искусственному освещению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водоснабжению и канализа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помещениям и оборудованию ОУ, размещенных в приспособленных зданиях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режиму образовательного процесс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организации медицинского обслуживания обучающихс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санитарному состоянию и содержанию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соблюдению санитарных прави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X. Гигиенические требования к режиму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разователь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1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тимальный возрас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чала школьного обучения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ранее 7 ле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В 1-е классы принимают детей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8-го или 7-г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да жизни. Прием детей 7-го года жизни осуществляют при достижении им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 1 сентябр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года возраст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менее 6 лет 6 месяце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полняемость класс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 исключением классов компенсирующего обучения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должна превышать 25 челов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2. Обучение детей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, не достигших 6 лет 6 месяце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началу учебного года, следует проводить в условиях дошкольного образовательного учрежд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X. Гигиенические требования к режиму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разователь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3. Для профилактики переутомления обучающихся в годовом календарном учебном план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омендуется предусмотреть равномерное распределение периодов учебного времени и канику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4. Учебные занятия следует начин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ранее 8 час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ровед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левых уроков не допускает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чреждениях с углубленным изучением отдельных предметов, лицеях и гимназиях обучение проводя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ько в первую сме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чреждениях, работающих в две смены, об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-х, 5-х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ускн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 и 11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ов и класс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пенсирующего обуч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жно быть организовано в первую сме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3 смен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щеобразовательных учреждения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допускае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10.5. Гигиенические требования к максимальным величинам недельной образовательной нагруз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1916280"/>
          <a:ext cx="9144000" cy="4938480"/>
        </p:xfrm>
        <a:graphic>
          <a:graphicData uri="http://schemas.openxmlformats.org/drawingml/2006/table">
            <a:tbl>
              <a:tblPr/>
              <a:tblGrid>
                <a:gridCol w="3000240"/>
                <a:gridCol w="3071880"/>
                <a:gridCol w="3071880"/>
              </a:tblGrid>
              <a:tr h="701640">
                <a:tc rowSpan="2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 допустимая недельная нагрузка в академических час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 6-дневной неделе, не 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 5-дневной неделе, не 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928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6. Образовательную недельную нагрузку необходимо равномерно распределять в течение учебной недели, при этом объем максимальной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опустимой нагрузки в течение дн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лжен составлят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для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-х класс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не должен превышать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4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 день в недел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более 5 урок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 счет урока физической культу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- 4 класс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более 5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дин раз в неделю 6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 счет урока физической культуры при 6-дневной учебной неде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акультативные занятия следует планировать на дни с наименьшим количеством обязательных уро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08000" y="765000"/>
            <a:ext cx="9036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7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исание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авляют с учетом дневной и недельной умственной работоспособности обучающихся и шкалой трудности учебных предме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79280" y="2421000"/>
          <a:ext cx="8640720" cy="4252680"/>
        </p:xfrm>
        <a:graphic>
          <a:graphicData uri="http://schemas.openxmlformats.org/drawingml/2006/table">
            <a:tbl>
              <a:tblPr/>
              <a:tblGrid>
                <a:gridCol w="5977080"/>
                <a:gridCol w="2663640"/>
              </a:tblGrid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щеобразовательные предметы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ичество 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анг труднос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сский (национальный, иностранный язы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родоведение, 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сская (национальная) 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стория (4 класс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исование и музык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изическая культур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836640"/>
            <a:ext cx="8785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8. При составлении расписания уроков следу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редовать различные по сложности предметы в течение дня и неде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ля обучающихся I ступени образования основные предметы (математика, русский и иностранный язык, природоведение, информатика) чередовать с уроками музыки, изобразительного искусства, труда, физической культу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 класс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ибол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удные предмет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лжны провод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 2 урок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 2 - 4 классов - 2 - 3 урок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ачальных класса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двоенные уроки не проводят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течение учебного дня не следует проводить более одной контрольной работы. Контрольные работы рекомендуется проводить на 2 - 4 урок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79280" y="836280"/>
            <a:ext cx="8856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9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должительность урок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академический час) во всех классах не должна превышат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45 мину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 исключением 1 класс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10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учение в 1-м класс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уществляется с соблюдением следующих дополнительных требований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ые занятия проводятся по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5-дневной учебной недел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олько в первую смен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ступенчатого» режима обучен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ервом полугодии (в сентябре, октябре - по 3 урока в день по 35 минут каждый, в ноябре-декабре - по 4 урока по 35 минут каждый; январь - май – по 4 урока по 45 минут каждый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комендуетс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рганизация в середине учебного дн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инамической пауз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должительностью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 менее 40 мину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для посещающих группу продленного дн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обходима организация дневного сн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не менее 1 часа), 3-разового питания и прогулок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бучение проводит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ез балльного оцениван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наний обучающих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домашних задани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ополнительные недельные каникул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ередине третьей четверти при традиционном режиме обуч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4:54:22Z</dcterms:created>
  <dc:creator>Федор</dc:creator>
  <dc:description/>
  <dc:language>en-US</dc:language>
  <cp:lastModifiedBy>Коля</cp:lastModifiedBy>
  <dcterms:modified xsi:type="dcterms:W3CDTF">2013-04-12T17:08:28Z</dcterms:modified>
  <cp:revision>29</cp:revision>
  <dc:subject/>
  <dc:title>Слайд 1</dc:title>
</cp:coreProperties>
</file>