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FEA-E7C8-4320-81E6-A9D25A68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E8E-3527-4A78-AD99-A4736470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9A6-1F70-4EF3-A4B1-A4AE56A8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05E-B0C6-4225-BB78-0EF1C1A1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70AA-7D28-4DC5-A375-E439B745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B741-4149-4A0D-AB4A-863DF246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5CFB-7DBF-4D6E-BB4B-2C46BBB9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7FF3-66F5-4DE2-BA8B-A64782CE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1616-3A8E-46E9-A040-85615DBC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8667-6FCC-4239-B4F2-9728F8AF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3C7B-D773-4B78-99FC-69BB3BD0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8A6-B914-4AA7-8299-AAF0DD43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C6B3-EF8E-4D3E-AB69-65C099AE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C7CA-3782-4EE5-8C5E-18EDA000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A391-229D-4067-952E-7DEBE9D1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9A71-0D4C-49EE-A01A-8B084108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353F-992C-4D52-84DC-28D98932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6F74-69B2-4F9B-9E3A-254AFE95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AC571-A559-4FE9-ADAD-D0EA9678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5FE46-1FD4-4910-A682-DBC61E16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32F4-1513-4939-ADAE-FB6B06CE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EC974-B292-4D93-8CD5-DF265781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F3B-089B-4743-818A-848F2713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8B0A8-45C1-459D-9908-FCE88600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6378C-7362-4781-A5CB-7279FBCD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CBF24-8DDB-4BFC-8C9D-89DDC517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1B2A3-82F9-42DE-94C8-183D71D1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097E-2E56-44BF-966E-DB50FCAA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29526-5D0C-4548-A81E-5E03FB68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3B0D-7937-4615-A45B-B25680EC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57128-4F98-440A-A78E-84FCB8F0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8DC9-3DDE-4BA0-B0F9-003FCC03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01CF6-9DFC-4AC4-B499-66505F27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D18-EE9E-4452-99B0-B16228C4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D1945-8296-42C1-B72F-1F11F527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06B39-7C84-4C8D-B02F-2FAE0BFC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D47D7-D455-48AC-BCCA-2CCC56F0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42887-6C56-4264-8BFB-864BAA0B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9D1D1-D828-4442-9A79-E6B4FE3B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AC43F-A613-4156-80EB-8ABEDC6F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B9060-D8B8-4325-940A-94E6FA48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860DC-43DC-4EBC-BBA4-7A944657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D1066-BAC7-476D-847E-EAD22A9F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DED-CE42-45A5-916A-6DD991DD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311-6BE3-4D05-A021-A6F1D699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A59-69C0-4580-93DD-4D673BD3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287-68BE-4A58-88C3-3A8FC9DE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E68-F88F-4D13-B48F-EC02498E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3243-AD38-457E-B9E4-02A81575C12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811E-D51C-434A-AE40-7D757F76380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20C0-F9A4-461C-9729-6007D2B4AB6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732E-0A0D-459B-847D-EE357C30626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4102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ФЕДЕРАЛЬНАЯ СЛУЖБА ПО НАДЗОРУ В СФЕРЕ ЗАЩИ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становлени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от 29 декабря 2010 г. N 18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Зарегистрировано в Минюсте РФ 03.03.2011 N 1999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50560" y="76464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11. Для предупреждения переутомления и сохранения оптимального уровня работоспособности в течение недели обучающиеся должны име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блегченный учебный день в четверг или пятниц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12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одолжительность перемен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ежду уроками составляет не мене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0 мину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большой перемен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после 2 или 3 уроков) 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0 - 30 мину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Вместо одной большой перемены допускается после 2 и 3 уроков устанавли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ве перемены по 20 минут кажда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23640" y="83628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20. Для удовлетворения биологической потребности в движении независимо от возраста обучаю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екомендуетс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ровод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менее 3-х уроков физической культуры в недел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редусмотренных в объеме максимально допустимой недельной нагрузки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менять уроки физической культуры другими предметами не допускаетс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30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бъем домашних заданий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по всем предметам) должен быть таким, чтобы затраты времени на его выполнение не превышали (в астрономических часах): во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 - 3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лассах 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,5 ч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4 - 5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лассах 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 ч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32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ес ежедневного комплекта учебник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письменных принадлежностей не должен превышать: для уча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 - 2-х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лассов - боле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,5 кг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3 - 4-х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лассов - боле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 кг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33. В целях профилактики нарушения осанки обучаю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екомендуется для начальных классов иметь два комплекта учебник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один - для использования на уроках в общеобразовательном учреждении, второй - для приготовления домашних зада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СанПиН 2.4.2.2821-10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вводятся в действие с 1 сентября 2011 год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560" y="1934640"/>
            <a:ext cx="889308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анитарные правила устанавливают требования к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размещению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территории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зданию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оборудованию помещений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воздушно-тепловому режиму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естественному и искусственному освещению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водоснабжению и канализац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помещениям и оборудованию ОУ, размещенных в приспособленных зданиях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режиму образовательного процесс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организации медицинского обслуживания обучающихс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санитарному состоянию и содержанию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соблюдению санитарных правил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X. Гигиенические требования к режиму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разовательного процесс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1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птимальный возрас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чала школьного обучения 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ранее 7 ле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В 1-е классы принимают детей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8-го или 7-го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да жизни. Прием детей 7-го года жизни осуществляют при достижении им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 1 сентябр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ебного года возраста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менее 6 лет 6 месяце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полняемость класс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за исключением классов компенсирующего обучения,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должна превышать 25 челов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2. Обучение детей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, не достигших 6 лет 6 месяце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началу учебного года, следует проводить в условиях дошкольного образовательного учрежде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X. Гигиенические требования к режиму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разовательного процесс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.3. Для профилактики переутомления обучающихся в годовом календарном учебном план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комендуется предусмотреть равномерное распределение периодов учебного времени и канику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.4. Учебные занятия следует начин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ранее 8 час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Провед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улевых уроков не допускает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чреждениях с углубленным изучением отдельных предметов, лицеях и гимназиях обучение проводя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ько в первую смен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чреждениях, работающих в две смены, обуч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-х, 5-х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ускны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 и 11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ов и классо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мпенсирующего обуч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жно быть организовано в первую смен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3 смен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бщеобразовательных учреждения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допускает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8000" y="549000"/>
            <a:ext cx="9036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10.5. Гигиенические требования к максимальным величинам недельной образовательной нагрузк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1916280"/>
          <a:ext cx="9144000" cy="4938480"/>
        </p:xfrm>
        <a:graphic>
          <a:graphicData uri="http://schemas.openxmlformats.org/drawingml/2006/table">
            <a:tbl>
              <a:tblPr/>
              <a:tblGrid>
                <a:gridCol w="3000240"/>
                <a:gridCol w="3071880"/>
                <a:gridCol w="3071880"/>
              </a:tblGrid>
              <a:tr h="701640">
                <a:tc rowSpan="2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 допустимая недельная нагрузка в академических час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 6-дневной неделе, не 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 5-дневной неделе, не 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7928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6. Образовательную недельную нагрузку необходимо равномерно распределять в течение учебной недели, при этом объем максимальной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опустимой нагрузки в течение дн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лжен составлять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для обучаю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-х класс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не должен превышать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4 урок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 день в недел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более 5 урок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за счет урока физической культур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обучаю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 - 4 класс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более 5 урок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дин раз в неделю 6 урок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 счет урока физической культуры при 6-дневной учебной неде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акультативные занятия следует планировать на дни с наименьшим количеством обязательных уро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08000" y="765000"/>
            <a:ext cx="9036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7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списание урок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авляют с учетом дневной и недельной умственной работоспособности обучающихся и шкалой трудности учебных предме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79280" y="2421000"/>
          <a:ext cx="8640720" cy="4252680"/>
        </p:xfrm>
        <a:graphic>
          <a:graphicData uri="http://schemas.openxmlformats.org/drawingml/2006/table">
            <a:tbl>
              <a:tblPr/>
              <a:tblGrid>
                <a:gridCol w="5977080"/>
                <a:gridCol w="2663640"/>
              </a:tblGrid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щеобразовательные предметы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ичество 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анг трудност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усский (национальный, иностранный язы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родоведение, инфор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усская (национальная) 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стория (4 классо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исование и музык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у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изическая культур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50560" y="836640"/>
            <a:ext cx="8785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8. При составлении расписания уроков следует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редовать различные по сложности предметы в течение дня и неде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ля обучающихся I ступени образования основные предметы (математика, русский и иностранный язык, природоведение, информатика) чередовать с уроками музыки, изобразительного искусства, труда, физической культу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обучаю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 класс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иболе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рудные предмет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лжны провод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 2 урок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; 2 - 4 классов - 2 - 3 урок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начальных классах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двоенные уроки не проводятс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течение учебного дня не следует проводить более одной контрольной работы. Контрольные работы рекомендуется проводить на 2 - 4 урок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79280" y="836280"/>
            <a:ext cx="8856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.9.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должительность урок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академический час) во всех классах не должна превышать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45 мину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за исключением 1 класс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.10.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бучение в 1-м класс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уществляется с соблюдением следующих дополнительных требований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ые занятия проводятся по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5-дневной учебной недел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только в первую смен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пользование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ступенчатого» режима обучени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ервом полугодии (в сентябре, октябре - по 3 урока в день по 35 минут каждый, в ноябре-декабре - по 4 урока по 35 минут каждый; январь - май – по 4 урока по 45 минут каждый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екомендуетс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организация в середине учебного дн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инамической паузы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должительностью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е менее 40 мину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для посещающих группу продленного дн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еобходима организация дневного сн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не менее 1 часа), 3-разового питания и прогулок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обучение проводитс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без балльного оценивани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наний обучающихс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 домашних задани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ополнительные недельные каникулы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ередине третьей четверти при традиционном режиме обуче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4:54:22Z</dcterms:created>
  <dc:creator>Федор</dc:creator>
  <dc:description/>
  <dc:language>en-US</dc:language>
  <cp:lastModifiedBy>Коля</cp:lastModifiedBy>
  <dcterms:modified xsi:type="dcterms:W3CDTF">2013-04-12T17:08:28Z</dcterms:modified>
  <cp:revision>29</cp:revision>
  <dc:subject/>
  <dc:title>Слайд 1</dc:title>
</cp:coreProperties>
</file>