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0CE-3B13-4288-8511-34CA130D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ECB-C2F9-4CF7-9CDC-41B58671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120-31ED-41EB-82B9-69754B2D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517-F8FD-4A36-87EA-80A6D6F5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8B42-73AE-4F15-B736-3E11EA0D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2369-80DE-484C-B21F-99DD9547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CD4E-BB23-4750-B4C3-E77F3B8D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B32D-C655-4BCF-BE44-C7D74C97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FF04-B1FC-4C6C-9CAA-2BC5688B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72B5-9E3D-4573-A1D0-A6D71A77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2761-086C-45ED-BD94-8FD62879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5C7-D0DC-40CC-AC62-B57D7865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714D-0135-4E84-822F-51C1C90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2715-AE1C-4255-BD20-D2D4D57B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EB0B-DB7F-45F2-94D5-8DE5D4FA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D711-7688-4027-998A-E2E6D977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B11E-9880-4D26-84E2-2E7F6618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AFD-D44D-4675-AD94-DB86131F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D1E-5924-4B67-A283-1038DF90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008-A7ED-4352-84E9-C66CE1FE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47B-D43D-4BFF-A89A-E3BEA815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672-EDB0-46F3-8CFE-AD74AB84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4E1-03AE-4D8E-8078-65BDA5F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9A1-9E05-431D-B247-53C7B9AD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E9D0-CF14-4C32-ADEF-1DB8DAF28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5DF2-BC02-4DD3-B6E3-53F2FBDF40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00800" cy="28954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af4b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daf4b"/>
                </a:solidFill>
                <a:latin typeface="Comic Sans MS"/>
              </a:rPr>
              <a:t>Презентация </a:t>
            </a:r>
            <a:br>
              <a:rPr sz="3600"/>
            </a:br>
            <a:r>
              <a:rPr b="0" lang="ru-RU" sz="4400" spc="-1" strike="noStrike">
                <a:solidFill>
                  <a:srgbClr val="0daf4b"/>
                </a:solidFill>
                <a:latin typeface="Comic Sans MS"/>
              </a:rPr>
              <a:t>по геометрии</a:t>
            </a:r>
            <a:br>
              <a:rPr sz="4400"/>
            </a:br>
            <a:r>
              <a:rPr b="0" lang="ru-RU" sz="4400" spc="-1" strike="noStrike">
                <a:solidFill>
                  <a:srgbClr val="0daf4b"/>
                </a:solidFill>
                <a:latin typeface="Comic Sans MS"/>
              </a:rPr>
              <a:t>ТЕТРАЭД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95120" y="4038480"/>
            <a:ext cx="6032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: Выблин А.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подаватель: Никишкина Л. 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3772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Сегодня мы познакомимся с </a:t>
            </a:r>
            <a:r>
              <a:rPr b="1" lang="ru-RU" sz="2800" spc="-1" strike="noStrike">
                <a:solidFill>
                  <a:srgbClr val="0daf4b"/>
                </a:solidFill>
                <a:latin typeface="Comic Sans MS"/>
              </a:rPr>
              <a:t>ТЕТРАЭДР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ежде чем ввести понятие тетраэдра, вспомним, что мы понимали под многоугольником в планиметр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МНОГОУГОЛЬНИК"/>
          <p:cNvPicPr/>
          <p:nvPr/>
        </p:nvPicPr>
        <p:blipFill>
          <a:blip r:embed="rId1"/>
          <a:stretch/>
        </p:blipFill>
        <p:spPr>
          <a:xfrm>
            <a:off x="4572000" y="1066680"/>
            <a:ext cx="3657600" cy="403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7960" y="3049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Многоугольник мы рассматривали либо как замкнутую линию без самопересечений, составленную из отрезков (рис.1), либо как часть плоскости, ограниченную этой линией, включая её саму(рис. 2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2" descr="фигура"/>
          <p:cNvPicPr/>
          <p:nvPr/>
        </p:nvPicPr>
        <p:blipFill>
          <a:blip r:embed="rId1"/>
          <a:stretch/>
        </p:blipFill>
        <p:spPr>
          <a:xfrm>
            <a:off x="685800" y="392040"/>
            <a:ext cx="3772080" cy="2338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фигура 2"/>
          <p:cNvPicPr/>
          <p:nvPr/>
        </p:nvPicPr>
        <p:blipFill>
          <a:blip r:embed="rId2"/>
          <a:stretch/>
        </p:blipFill>
        <p:spPr>
          <a:xfrm>
            <a:off x="685800" y="3440160"/>
            <a:ext cx="3772080" cy="23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afterEffect" fill="hold">
                            <p:stCondLst>
                              <p:cond delay="1169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ПЕРЕЙДЕМ ТЕПЕРЬ К      ОПРЕДЕЛЕНИЮ  </a:t>
            </a:r>
            <a:r>
              <a:rPr b="0" lang="ru-RU" sz="3600" spc="-1" strike="noStrike">
                <a:solidFill>
                  <a:srgbClr val="0daf4b"/>
                </a:solidFill>
                <a:latin typeface="Comic Sans MS"/>
              </a:rPr>
              <a:t>ТЕТРАЭДР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67080" y="456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ссмотрим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роизвольный треугольник АВС и точку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D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не лежащую в плоскости этого треугольника. Соединив точку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отрезками с вершинами треугольника АВС, получим треугольники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AB, DBC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DCA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1" descr="ТЕТРАЭДР"/>
          <p:cNvPicPr/>
          <p:nvPr/>
        </p:nvPicPr>
        <p:blipFill>
          <a:blip r:embed="rId1"/>
          <a:stretch/>
        </p:blipFill>
        <p:spPr>
          <a:xfrm>
            <a:off x="304920" y="9907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Поверхность, составленная из четырёх треугольников АВС,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AB, DBC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DCA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называется </a:t>
            </a:r>
            <a:r>
              <a:rPr b="0" lang="ru-RU" sz="2800" spc="-1" strike="noStrike">
                <a:solidFill>
                  <a:srgbClr val="0daf4b"/>
                </a:solidFill>
                <a:latin typeface="Comic Sans MS"/>
              </a:rPr>
              <a:t>тетраэдром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и обозначается так: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 (рис. 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тетраэдр"/>
          <p:cNvPicPr/>
          <p:nvPr/>
        </p:nvPicPr>
        <p:blipFill>
          <a:blip r:embed="rId1"/>
          <a:stretch/>
        </p:blipFill>
        <p:spPr>
          <a:xfrm>
            <a:off x="2198520" y="2666880"/>
            <a:ext cx="4670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Треугольники, из которых состоит тетраэдр, называются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нями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их стороны –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ребрами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а вершины- вершинами тетраэдра. Тетраэдр имеет четыре грани, шесть ребер и четыре вершины. Иногда выделяют одну из граней тетраэдра и называют её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снованием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, а три другие –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боковыми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гранями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Тетраэдр изображается в виде выпуклого или невыпуклого четырёхугольника с диагоналями. При этом штриховыми линиями изображаются невидимые рёбр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ГОДНЯ МЫ ПОЗНАКОМИЛИСЬ С МНОГОГРАННИКОМ, КОТОРЫЙ НАЗЫВАЕТСЯ </a:t>
            </a:r>
            <a:r>
              <a:rPr b="0" lang="ru-RU" sz="3600" spc="-1" strike="noStrike">
                <a:solidFill>
                  <a:srgbClr val="ff00ff"/>
                </a:solidFill>
                <a:latin typeface="Comic Sans MS"/>
              </a:rPr>
              <a:t>ТЕТРАЭДР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-     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ЗАПОМНИТЕ ЕГО!!!!!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afterEffect" fill="hold">
                            <p:stCondLst>
                              <p:cond delay="54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4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