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D20-5634-4200-9A2F-76E2BFE6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9A0-0D71-4F67-966E-0A8B1EB2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6DF-CB36-4438-934F-1F4950B0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91F-C754-464A-8583-8475710B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DA5-EB1D-4E33-AE0F-5A87C257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E9A-E9F7-4460-88A6-5EC2088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3DFF-5ABB-4748-A408-95775996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D2C-C3BE-42E1-97C1-2C931742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4A6E-E686-4112-9DDF-2F80002B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DF14-0F05-4877-9F5F-355AA1BE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78B0-7507-4E62-A401-9EFA446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C24-5C94-4D90-BD22-980FC697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1B4-3B9A-4EA9-8477-D4F636BD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C4F1-1F7E-4567-AE39-58FF163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80FF-8185-475C-A055-B8AAB8F8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93CC-A8EC-42BE-8D88-69892B0C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B1D7-A69D-42B1-AF35-5A2302D3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94D-F161-47B0-AD4A-26E6B0F8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A58-0E44-4535-A1A8-E7DB3187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D62-164D-445A-AEDD-3456AC2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A94-C4EB-4EEC-959D-DEB9CAC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5AD-51B1-4925-AF4A-C1275BF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893-16B5-4FBE-B61A-AF229AAB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A41-C87A-475E-889A-9084F3E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E557-0333-4229-B4A5-8150C029F3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3DF3-5334-422D-AE17-51F3AFDAC9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00800" cy="28954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Презентация </a:t>
            </a:r>
            <a:br>
              <a:rPr sz="3600"/>
            </a:br>
            <a:r>
              <a:rPr b="0" lang="ru-RU" sz="4400" spc="-1" strike="noStrike">
                <a:solidFill>
                  <a:srgbClr val="0daf4b"/>
                </a:solidFill>
                <a:latin typeface="Comic Sans MS"/>
              </a:rPr>
              <a:t>по геометрии</a:t>
            </a:r>
            <a:br>
              <a:rPr sz="4400"/>
            </a:br>
            <a:r>
              <a:rPr b="0" lang="ru-RU" sz="4400" spc="-1" strike="noStrike">
                <a:solidFill>
                  <a:srgbClr val="0daf4b"/>
                </a:solidFill>
                <a:latin typeface="Comic Sans MS"/>
              </a:rPr>
              <a:t>ТЕТРАЭД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4038480"/>
            <a:ext cx="6032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: Выблин А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подаватель: Никишкина Л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3772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Сегодня мы познакомимся с </a:t>
            </a:r>
            <a:r>
              <a:rPr b="1" lang="ru-RU" sz="2800" spc="-1" strike="noStrike">
                <a:solidFill>
                  <a:srgbClr val="0daf4b"/>
                </a:solidFill>
                <a:latin typeface="Comic Sans MS"/>
              </a:rPr>
              <a:t>ТЕТРАЭД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ежде чем ввести понятие тетраэдра, вспомним, что мы понимали под многоугольником в планиметр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МНОГОУГОЛЬНИК"/>
          <p:cNvPicPr/>
          <p:nvPr/>
        </p:nvPicPr>
        <p:blipFill>
          <a:blip r:embed="rId1"/>
          <a:stretch/>
        </p:blipFill>
        <p:spPr>
          <a:xfrm>
            <a:off x="4572000" y="10666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угольник мы рассматривали либо как замкнутую линию без самопересечений, составленную из отрезков (рис.1), либо как часть плоскости, ограниченную этой линией, включая её саму(рис. 2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2" descr="фигура"/>
          <p:cNvPicPr/>
          <p:nvPr/>
        </p:nvPicPr>
        <p:blipFill>
          <a:blip r:embed="rId1"/>
          <a:stretch/>
        </p:blipFill>
        <p:spPr>
          <a:xfrm>
            <a:off x="685800" y="392040"/>
            <a:ext cx="3772080" cy="2338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фигура 2"/>
          <p:cNvPicPr/>
          <p:nvPr/>
        </p:nvPicPr>
        <p:blipFill>
          <a:blip r:embed="rId2"/>
          <a:stretch/>
        </p:blipFill>
        <p:spPr>
          <a:xfrm>
            <a:off x="685800" y="3440160"/>
            <a:ext cx="377208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afterEffect" fill="hold">
                            <p:stCondLst>
                              <p:cond delay="1169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ЕРЕЙДЕМ ТЕПЕРЬ К      ОПРЕДЕЛЕНИЮ  </a:t>
            </a: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ТЕТРАЭДР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67080" y="456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ссмотрим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оизвольный треугольник АВС и точку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не лежащую в плоскости этого треугольника. Соединив точку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отрезками с вершинами треугольника АВС, получим треугольники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AB, DBC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CA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1" descr="ТЕТРАЭДР"/>
          <p:cNvPicPr/>
          <p:nvPr/>
        </p:nvPicPr>
        <p:blipFill>
          <a:blip r:embed="rId1"/>
          <a:stretch/>
        </p:blipFill>
        <p:spPr>
          <a:xfrm>
            <a:off x="304920" y="9907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ерхность, составленная из четырёх треугольников АВС,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AB, DBC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CA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называется </a:t>
            </a:r>
            <a:r>
              <a:rPr b="0" lang="ru-RU" sz="2800" spc="-1" strike="noStrike">
                <a:solidFill>
                  <a:srgbClr val="0daf4b"/>
                </a:solidFill>
                <a:latin typeface="Comic Sans MS"/>
              </a:rPr>
              <a:t>тетраэдро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и обозначается так: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(рис. 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тетраэдр"/>
          <p:cNvPicPr/>
          <p:nvPr/>
        </p:nvPicPr>
        <p:blipFill>
          <a:blip r:embed="rId1"/>
          <a:stretch/>
        </p:blipFill>
        <p:spPr>
          <a:xfrm>
            <a:off x="2198520" y="2666880"/>
            <a:ext cx="467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Треугольники, из которых состоит тетраэдр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ня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х стороны –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ебрами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а вершины- вершинами тетраэдра. Тетраэдр имеет четыре грани, шесть ребер и четыре вершины. Иногда выделяют одну из граней тетраэдра и называют её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снование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а три другие –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оковы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ня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Тетраэдр изображается в виде выпуклого или невыпуклого четырёхугольника с диагоналями. При этом штриховыми линиями изображаются невидимые рёб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ГОДНЯ МЫ ПОЗНАКОМИЛИСЬ С МНОГОГРАННИКОМ, КОТОРЫЙ НАЗЫВАЕТСЯ </a:t>
            </a:r>
            <a:r>
              <a:rPr b="0" lang="ru-RU" sz="3600" spc="-1" strike="noStrike">
                <a:solidFill>
                  <a:srgbClr val="ff00ff"/>
                </a:solidFill>
                <a:latin typeface="Comic Sans MS"/>
              </a:rPr>
              <a:t>ТЕТРАЭДР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-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ОМНИТЕ ЕГО!!!!!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afterEffect" fill="hold">
                            <p:stCondLst>
                              <p:cond delay="54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4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