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F6E-F909-4871-98A6-F85E5FFA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AF0-43D2-4D19-AF4A-883464AF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8C3-93FC-453E-918E-7F9303D8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99F-B27F-4410-94EE-EED23B3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832-637D-4152-8D1A-8C7EC3B8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D1C6-672C-495D-83E2-B82BA0A3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773-B7C0-4933-851D-107A57A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C4A-A0FD-4E97-8425-0B2F1C26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21F8-F16B-4687-A11A-DB9AE0E3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E3C6-7A23-45D8-BE1B-554DAC6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AB8C-0300-4FBD-AB73-2545DC1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0EF-4670-4F29-8F1B-3ADEFBC7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4EA-7A53-44AD-80EC-1D6C98F7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FD54-1229-42BA-98B0-8FD6EDB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00E-7F68-4CD9-BA8D-1E493C1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518D-9665-42A8-BDBF-732C3A50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76A8-C12E-42BC-B3FE-F7D6222C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559-F06E-4AA4-BEB3-FB1FDE5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A4E-3083-44E3-8443-05A568E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65B-4434-47C9-9218-2C5CEADD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D13-929A-4030-BAC3-75CD547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733-509C-4103-9141-3A2D16E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A2A-5B2B-4A97-A6A0-AC1E871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CB4-A1F1-48A6-97B0-61E445C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7A88-AE1E-4F1A-B61F-97BDD9352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E39E-2131-40A3-91E3-C920D95C3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00800" cy="2895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Презентация </a:t>
            </a:r>
            <a:br>
              <a:rPr sz="3600"/>
            </a:br>
            <a:r>
              <a:rPr b="0" lang="ru-RU" sz="4400" spc="-1" strike="noStrike">
                <a:solidFill>
                  <a:srgbClr val="0daf4b"/>
                </a:solidFill>
                <a:latin typeface="Comic Sans MS"/>
              </a:rPr>
              <a:t>по геометрии</a:t>
            </a:r>
            <a:br>
              <a:rPr sz="4400"/>
            </a:br>
            <a:r>
              <a:rPr b="0" lang="ru-RU" sz="4400" spc="-1" strike="noStrike">
                <a:solidFill>
                  <a:srgbClr val="0daf4b"/>
                </a:solidFill>
                <a:latin typeface="Comic Sans MS"/>
              </a:rPr>
              <a:t>ТЕТРАЭД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4038480"/>
            <a:ext cx="6032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: Выблин А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подаватель: Никишкина Л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3772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егодня мы познакомимся с </a:t>
            </a:r>
            <a:r>
              <a:rPr b="1" lang="ru-RU" sz="2800" spc="-1" strike="noStrike">
                <a:solidFill>
                  <a:srgbClr val="0daf4b"/>
                </a:solidFill>
                <a:latin typeface="Comic Sans MS"/>
              </a:rPr>
              <a:t>ТЕТРАЭД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ежде чем ввести понятие тетраэдра, вспомним, что мы понимали под многоугольником в планиметр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МНОГОУГОЛЬНИК"/>
          <p:cNvPicPr/>
          <p:nvPr/>
        </p:nvPicPr>
        <p:blipFill>
          <a:blip r:embed="rId1"/>
          <a:stretch/>
        </p:blipFill>
        <p:spPr>
          <a:xfrm>
            <a:off x="4572000" y="10666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угольник мы рассматривали либо как замкнутую линию без самопересечений, составленную из отрезков (рис.1), либо как часть плоскости, ограниченную этой линией, включая её саму(рис. 2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2" descr="фигура"/>
          <p:cNvPicPr/>
          <p:nvPr/>
        </p:nvPicPr>
        <p:blipFill>
          <a:blip r:embed="rId1"/>
          <a:stretch/>
        </p:blipFill>
        <p:spPr>
          <a:xfrm>
            <a:off x="685800" y="392040"/>
            <a:ext cx="3772080" cy="2338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фигура 2"/>
          <p:cNvPicPr/>
          <p:nvPr/>
        </p:nvPicPr>
        <p:blipFill>
          <a:blip r:embed="rId2"/>
          <a:stretch/>
        </p:blipFill>
        <p:spPr>
          <a:xfrm>
            <a:off x="685800" y="3440160"/>
            <a:ext cx="377208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afterEffect" fill="hold">
                            <p:stCondLst>
                              <p:cond delay="1169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ЕРЕЙДЕМ ТЕПЕРЬ К      ОПРЕДЕЛЕНИЮ  </a:t>
            </a: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ТЕТРАЭДР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67080" y="456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ссмотри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оизвольный треугольник АВС и точку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не лежащую в плоскости этого треугольника. Соединив точку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отрезками с вершинами треугольника АВС, получим треугольники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AB, DBC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CA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1" descr="ТЕТРАЭДР"/>
          <p:cNvPicPr/>
          <p:nvPr/>
        </p:nvPicPr>
        <p:blipFill>
          <a:blip r:embed="rId1"/>
          <a:stretch/>
        </p:blipFill>
        <p:spPr>
          <a:xfrm>
            <a:off x="304920" y="9907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ерхность, составленная из четырёх треугольников АВС,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AB, DBC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CA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называется </a:t>
            </a:r>
            <a:r>
              <a:rPr b="0" lang="ru-RU" sz="2800" spc="-1" strike="noStrike">
                <a:solidFill>
                  <a:srgbClr val="0daf4b"/>
                </a:solidFill>
                <a:latin typeface="Comic Sans MS"/>
              </a:rPr>
              <a:t>тетраэдро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и обозначается так: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(рис. 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тетраэдр"/>
          <p:cNvPicPr/>
          <p:nvPr/>
        </p:nvPicPr>
        <p:blipFill>
          <a:blip r:embed="rId1"/>
          <a:stretch/>
        </p:blipFill>
        <p:spPr>
          <a:xfrm>
            <a:off x="2198520" y="2666880"/>
            <a:ext cx="467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Треугольники, из которых состоит тетраэдр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ня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х стороны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ебрам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а вершины- вершинами тетраэдра. Тетраэдр имеет четыре грани, шесть ребер и четыре вершины. Иногда выделяют одну из граней тетраэдра и называют её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ание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а три другие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оковы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ня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Тетраэдр изображается в виде выпуклого или невыпуклого четырёхугольника с диагоналями. При этом штриховыми линиями изображаются невидимые рёб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ГОДНЯ МЫ ПОЗНАКОМИЛИСЬ С МНОГОГРАННИКОМ, КОТОРЫЙ НАЗЫВАЕТСЯ </a:t>
            </a:r>
            <a:r>
              <a:rPr b="0" lang="ru-RU" sz="3600" spc="-1" strike="noStrike">
                <a:solidFill>
                  <a:srgbClr val="ff00ff"/>
                </a:solidFill>
                <a:latin typeface="Comic Sans MS"/>
              </a:rPr>
              <a:t>ТЕТРАЭДР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-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ОМНИТЕ ЕГО!!!!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afterEffect" fill="hold">
                            <p:stCondLst>
                              <p:cond delay="54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4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