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gif" ContentType="image/gif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7559675" cy="5327650"/>
  <p:notesSz cx="4640263" cy="65849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3640-30B1-4479-AB86-F7E59FEDF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75614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0" y="2940120"/>
            <a:ext cx="75614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DE68-2294-4219-BB26-41598AAA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74680" y="6505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0" y="29401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74680" y="29401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2097-95A9-4597-8A8D-AED8E456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243468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556720" y="650520"/>
            <a:ext cx="243468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113440" y="650520"/>
            <a:ext cx="243468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0" y="2940120"/>
            <a:ext cx="243468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556720" y="2940120"/>
            <a:ext cx="243468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113440" y="2940120"/>
            <a:ext cx="243468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DAEB-0EC6-44EC-AD66-4C6E689E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C875-19FC-4086-8952-7216C4333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650520"/>
            <a:ext cx="75614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AF6D-2436-4825-B16C-D6B7BD17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7561440" cy="4383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9328-5778-43B9-992C-4485AA87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3689640" cy="4383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874680" y="650520"/>
            <a:ext cx="3689640" cy="4383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6E5B-C2DE-4D33-9BA2-D0B65682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E0C4-3017-4330-A7A6-10CE5FD3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56144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8529-9966-430A-AA7B-79A96435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74680" y="650520"/>
            <a:ext cx="3689640" cy="4383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29401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5330-A0CB-4940-9BC2-4893FBBD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0" y="650520"/>
            <a:ext cx="75614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5658-0F5B-43C2-B61B-73E087C2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3689640" cy="4383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74680" y="6505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74680" y="29401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F45A-5283-4139-A652-126679D0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74680" y="6505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2940120"/>
            <a:ext cx="75614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44E4-EB08-4C20-80EC-DB3DE780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75614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2940120"/>
            <a:ext cx="75614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A262-1C0F-4FEC-A6DB-5B068C2A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74680" y="6505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29401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74680" y="29401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9ABA-9882-40A4-A141-2BE0B0C85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243468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556720" y="650520"/>
            <a:ext cx="243468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13440" y="650520"/>
            <a:ext cx="243468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2940120"/>
            <a:ext cx="243468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556720" y="2940120"/>
            <a:ext cx="243468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113440" y="2940120"/>
            <a:ext cx="243468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C5C0-3475-45B0-874F-EF92FF46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7561440" cy="4383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26F5-C4CC-44C4-9445-0BE5BE97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3689640" cy="4383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874680" y="650520"/>
            <a:ext cx="3689640" cy="4383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EC7D-4655-431E-B3B0-37435D8F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45EF-E6CC-4D09-A663-B9FFBDDF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56144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1BB1-1940-4DFD-A83F-BF7DA48A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874680" y="650520"/>
            <a:ext cx="3689640" cy="4383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0" y="29401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DE85-3A22-4C99-9A5D-0ACCF61D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3689640" cy="4383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74680" y="6505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74680" y="29401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7D8E-00EA-41BA-8C03-42B0A2D2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74680" y="6505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0" y="2940120"/>
            <a:ext cx="75614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2800-3611-45F9-98F3-D489B32C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900" spc="-1" strike="noStrike">
                <a:solidFill>
                  <a:srgbClr val="ffcc00"/>
                </a:solidFill>
                <a:latin typeface="Impact"/>
              </a:rPr>
              <a:t>Click to edit the title text format</a:t>
            </a: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6867360" y="0"/>
            <a:ext cx="694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800" rIns="73800" tIns="36720" bIns="36720" anchor="ctr">
            <a:noAutofit/>
          </a:bodyPr>
          <a:p>
            <a:pPr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650520"/>
            <a:ext cx="7561440" cy="4383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marL="276120" indent="-276120">
              <a:spcBef>
                <a:spcPts val="476"/>
              </a:spcBef>
              <a:buClr>
                <a:srgbClr val="808080"/>
              </a:buClr>
              <a:buSzPct val="200000"/>
              <a:buFont typeface="Tahoma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Tahoma"/>
              </a:rPr>
              <a:t>Click to edit the outline text format</a:t>
            </a: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  <a:p>
            <a:pPr lvl="1" marL="598320" indent="-230040">
              <a:spcBef>
                <a:spcPts val="476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Tahoma"/>
              </a:rPr>
              <a:t>Second Outline Level</a:t>
            </a: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  <a:p>
            <a:pPr lvl="2" marL="920880" indent="-184320">
              <a:spcBef>
                <a:spcPts val="476"/>
              </a:spcBef>
              <a:buClr>
                <a:srgbClr val="808080"/>
              </a:buClr>
              <a:buSzPct val="200000"/>
              <a:buFont typeface="Tahoma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Tahoma"/>
              </a:rPr>
              <a:t>Third Outline Level</a:t>
            </a: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  <a:p>
            <a:pPr lvl="3" marL="1289160" indent="-184320">
              <a:spcBef>
                <a:spcPts val="476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Tahoma"/>
              </a:rPr>
              <a:t>Fourth Outline Level</a:t>
            </a: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  <a:p>
            <a:pPr lvl="4" marL="1657440" indent="-184320">
              <a:spcBef>
                <a:spcPts val="476"/>
              </a:spcBef>
              <a:buClr>
                <a:srgbClr val="808080"/>
              </a:buClr>
              <a:buSzPct val="200000"/>
              <a:buFont typeface="Tahoma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Tahoma"/>
              </a:rPr>
              <a:t>Fifth Outline Level</a:t>
            </a: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  <a:p>
            <a:pPr lvl="5" marL="1657440" indent="-184320">
              <a:spcBef>
                <a:spcPts val="476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Tahoma"/>
              </a:rPr>
              <a:t>Sixth Outline Level</a:t>
            </a: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  <a:p>
            <a:pPr lvl="6" marL="1657440" indent="-184320">
              <a:spcBef>
                <a:spcPts val="476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Tahoma"/>
              </a:rPr>
              <a:t>Seventh Outline Level</a:t>
            </a: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5176440"/>
            <a:ext cx="1763640" cy="1522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83000" y="5198760"/>
            <a:ext cx="2395440" cy="12996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797440" y="5198760"/>
            <a:ext cx="1764000" cy="10476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cc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791D-3A43-4ED3-818C-658106C9FFCF}" type="slidenum">
              <a:rPr b="1" lang="en-US" sz="800" spc="-1" strike="noStrike">
                <a:solidFill>
                  <a:srgbClr val="ffcc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and_md_wht"/>
          <p:cNvPicPr/>
          <p:nvPr/>
        </p:nvPicPr>
        <p:blipFill>
          <a:blip r:embed="rId3"/>
          <a:stretch/>
        </p:blipFill>
        <p:spPr>
          <a:xfrm>
            <a:off x="6946920" y="58680"/>
            <a:ext cx="55080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900" spc="-1" strike="noStrike">
                <a:solidFill>
                  <a:srgbClr val="ffcc00"/>
                </a:solidFill>
                <a:latin typeface="Impact"/>
              </a:rPr>
              <a:t>Click to edit the title text format</a:t>
            </a: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0" y="650520"/>
            <a:ext cx="7561440" cy="4383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marL="276120" indent="-276120">
              <a:spcBef>
                <a:spcPts val="476"/>
              </a:spcBef>
              <a:buClr>
                <a:srgbClr val="808080"/>
              </a:buClr>
              <a:buSzPct val="200000"/>
              <a:buFont typeface="Tahoma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Tahoma"/>
              </a:rPr>
              <a:t>Click to edit the outline text format</a:t>
            </a: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  <a:p>
            <a:pPr lvl="1" marL="598320" indent="-230040">
              <a:spcBef>
                <a:spcPts val="476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Tahoma"/>
              </a:rPr>
              <a:t>Second Outline Level</a:t>
            </a: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  <a:p>
            <a:pPr lvl="2" marL="920880" indent="-184320">
              <a:spcBef>
                <a:spcPts val="476"/>
              </a:spcBef>
              <a:buClr>
                <a:srgbClr val="808080"/>
              </a:buClr>
              <a:buSzPct val="200000"/>
              <a:buFont typeface="Tahoma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Tahoma"/>
              </a:rPr>
              <a:t>Third Outline Level</a:t>
            </a: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  <a:p>
            <a:pPr lvl="3" marL="1289160" indent="-184320">
              <a:spcBef>
                <a:spcPts val="476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Tahoma"/>
              </a:rPr>
              <a:t>Fourth Outline Level</a:t>
            </a: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  <a:p>
            <a:pPr lvl="4" marL="1657440" indent="-184320">
              <a:spcBef>
                <a:spcPts val="476"/>
              </a:spcBef>
              <a:buClr>
                <a:srgbClr val="808080"/>
              </a:buClr>
              <a:buSzPct val="200000"/>
              <a:buFont typeface="Tahoma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Tahoma"/>
              </a:rPr>
              <a:t>Fifth Outline Level</a:t>
            </a: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  <a:p>
            <a:pPr lvl="5" marL="1657440" indent="-184320">
              <a:spcBef>
                <a:spcPts val="476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Tahoma"/>
              </a:rPr>
              <a:t>Sixth Outline Level</a:t>
            </a: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  <a:p>
            <a:pPr lvl="6" marL="1657440" indent="-184320">
              <a:spcBef>
                <a:spcPts val="476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Tahoma"/>
              </a:rPr>
              <a:t>Seventh Outline Level</a:t>
            </a: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-360" y="5198760"/>
            <a:ext cx="1763640" cy="12996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583000" y="5198760"/>
            <a:ext cx="2395440" cy="12996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797440" y="5198760"/>
            <a:ext cx="1764000" cy="12996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31F0-5DD1-457E-BCA8-8FFC0E93DBF4}" type="slidenum">
              <a:rPr b="0" lang="en-US" sz="8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-128520" y="171360"/>
            <a:ext cx="7304040" cy="40467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136440" y="4311360"/>
            <a:ext cx="414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втор: Зорина Ольга Александ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Место работы: МОУ СОШ №7 г.Новый Уренг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Должность: учитель информа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Урок информатики в 8 клас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2" descr=""/>
          <p:cNvPicPr/>
          <p:nvPr/>
        </p:nvPicPr>
        <p:blipFill>
          <a:blip r:embed="rId1"/>
          <a:stretch/>
        </p:blipFill>
        <p:spPr>
          <a:xfrm>
            <a:off x="-237960" y="-225360"/>
            <a:ext cx="7022880" cy="9936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95200" y="762120"/>
            <a:ext cx="7088400" cy="10699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man Old Style"/>
              </a:rPr>
              <a:t>К работе в кабинете информатики допускаются школьники, прошедшие инструктаж по технике безопасности, соблюдающие указания учителя, расписавшиеся в журнале регистрации инструктажа.</a:t>
            </a:r>
            <a:endParaRPr b="1" lang="en-US" sz="16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066760" y="1998720"/>
            <a:ext cx="531684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90786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907860"/>
                </a:solidFill>
                <a:latin typeface="Bookman Old Style"/>
              </a:rPr>
              <a:t>Необходимо неукоснительно соблюдать правила по технике безопас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53880" y="2760840"/>
            <a:ext cx="507996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man Old Style"/>
              </a:rPr>
              <a:t>Нарушение этих правил может привести к поражению электрическим током, к получению механических повреждений и травм, вызвать возгор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4" descr=""/>
          <p:cNvPicPr/>
          <p:nvPr/>
        </p:nvPicPr>
        <p:blipFill>
          <a:blip r:embed="rId2"/>
          <a:stretch/>
        </p:blipFill>
        <p:spPr>
          <a:xfrm>
            <a:off x="-6480" y="-201600"/>
            <a:ext cx="7570800" cy="1390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177840" y="1054080"/>
            <a:ext cx="72658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man Old Style"/>
              </a:rPr>
              <a:t>Не входить в кабинет в верхней одежде, головных уборах, грязной обуви и с громоздкими предме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77840" y="1776240"/>
            <a:ext cx="72658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man Old Style"/>
              </a:rPr>
              <a:t>Передвигаться в кабинете спокойно, не торопя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77840" y="2220840"/>
            <a:ext cx="7265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man Old Style"/>
              </a:rPr>
              <a:t>Работать разрешается только на том компьютере, который выделен на данное занят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77840" y="2886120"/>
            <a:ext cx="72658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man Old Style"/>
              </a:rPr>
              <a:t>Не разговаривать громко, не шуметь, не отвлекать других уче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77840" y="3552840"/>
            <a:ext cx="72658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man Old Style"/>
              </a:rPr>
              <a:t>Перед началом работы ученик должен убедиться в отсутствии видимых повреждений оборудования на рабочем ме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77840" y="4441680"/>
            <a:ext cx="7265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man Old Style"/>
              </a:rPr>
              <a:t>Включать и выключать компьютеры только с разрешения учите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2"/>
          <a:stretch/>
        </p:blipFill>
        <p:spPr>
          <a:xfrm>
            <a:off x="-165240" y="-133200"/>
            <a:ext cx="7431120" cy="12492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177840" y="1054080"/>
            <a:ext cx="72658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man Old Style"/>
              </a:rPr>
              <a:t>быть предельно осторожными при работе с техник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77840" y="1442880"/>
            <a:ext cx="72658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man Old Style"/>
              </a:rPr>
              <a:t>не подключать кабели, разъемы и другую аппаратуру к компьютер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77840" y="2109960"/>
            <a:ext cx="7265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man Old Style"/>
              </a:rPr>
              <a:t>соблюдать правила последовательности включения и выключения компьюте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77840" y="2774880"/>
            <a:ext cx="72658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man Old Style"/>
              </a:rPr>
              <a:t>при появлении изменений в функционировании аппаратуры, самопроизвольного ее отключения необходимо немедленно прекратить работу и сообщить об этом преподавател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77840" y="3886200"/>
            <a:ext cx="7265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man Old Style"/>
              </a:rPr>
              <a:t>контролировать расстояние до экрана и правильную осанк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177840" y="4551480"/>
            <a:ext cx="72658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man Old Style"/>
              </a:rPr>
              <a:t>не допускать работы на максимальной яркости экрана диспле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2" descr=""/>
          <p:cNvPicPr/>
          <p:nvPr/>
        </p:nvPicPr>
        <p:blipFill>
          <a:blip r:embed="rId1"/>
          <a:stretch/>
        </p:blipFill>
        <p:spPr>
          <a:xfrm>
            <a:off x="-401760" y="-365040"/>
            <a:ext cx="7966080" cy="11872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177840" y="1109520"/>
            <a:ext cx="72658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Bookman Old Style"/>
              </a:rPr>
              <a:t>при включенном напряжении сети отключать, подключать кабели, соединяющие различные устройства компьюте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77840" y="1943280"/>
            <a:ext cx="72658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Bookman Old Style"/>
              </a:rPr>
              <a:t>касаться экрана дисплея, тыльной стороны дисплея, разъемов со­единительных кабелей, токоведущих частей аппаратуры руками и/или острыми металлическими предмет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77840" y="3052800"/>
            <a:ext cx="72658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Bookman Old Style"/>
              </a:rPr>
              <a:t>самостоятельно устранять неисправность работы клавиатур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77840" y="3719520"/>
            <a:ext cx="72658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Bookman Old Style"/>
              </a:rPr>
              <a:t>передвигать системный блок и дисп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77840" y="4108320"/>
            <a:ext cx="7265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Bookman Old Style"/>
              </a:rPr>
              <a:t>работать грязными, влажными руками, во влажной одежд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77840" y="4773600"/>
            <a:ext cx="72658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Bookman Old Style"/>
              </a:rPr>
              <a:t>работать за дисплеем дольше положенного време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77840" y="722160"/>
            <a:ext cx="72658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Bookman Old Style"/>
              </a:rPr>
              <a:t>пользоваться неисправной техник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05:16:33Z</dcterms:created>
  <dc:creator>XT</dc:creator>
  <dc:description/>
  <dc:language>en-US</dc:language>
  <cp:lastModifiedBy>Ольга</cp:lastModifiedBy>
  <dcterms:modified xsi:type="dcterms:W3CDTF">2010-12-05T14:05:09Z</dcterms:modified>
  <cp:revision>32</cp:revision>
  <dc:subject/>
  <dc:title>Техника безопасности  в кабинете ИВТ</dc:title>
</cp:coreProperties>
</file>