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7559675" cy="5327650"/>
  <p:notesSz cx="4640263" cy="65849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A52-B200-492F-ADB1-87239560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75614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2940120"/>
            <a:ext cx="75614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8D3-1F5C-4759-A572-CF4CEBAF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7468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19F-7763-40D4-BE1D-A0C13AB1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556720" y="6505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13440" y="6505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29401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556720" y="29401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113440" y="29401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899-85A3-433F-9089-28C45557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9CBA-DD9D-47F2-A286-E8880E8E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650520"/>
            <a:ext cx="75614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CC2C-B854-4FF6-BA71-FD184C73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75614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A45B-F550-4059-B8B4-98679D3C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59DC-B3E0-49A8-9BEC-9976B152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D3ED-4C1A-4DED-A249-7283C2FE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56144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BC48-28DA-4ACC-B155-447ED121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49B7-A6C7-4E45-A687-74215B28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650520"/>
            <a:ext cx="75614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11A3-B8BA-406C-B95A-37280C6F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7468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EF8E-8C7B-415D-95C2-82A17967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2940120"/>
            <a:ext cx="75614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8570-D2D5-4767-A5FF-B7B53BF2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75614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2940120"/>
            <a:ext cx="75614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4E97-6E41-4FBF-9944-740E5BE0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7468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0003-0B6C-4C21-81B6-FEB78CF0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56720" y="6505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13440" y="6505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29401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556720" y="29401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113440" y="29401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0DA1-D9FE-43EC-9079-EB0AA7F5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75614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2FA-F1C0-40C5-919B-D4678B8E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99D-AC70-44EF-9157-96FB4210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366-D718-41CE-B5E1-5B61B47F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56144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BC8-B16A-4F8A-A2C1-4D6B8691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639-A677-48B1-AF04-25E24BBA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7468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858F-378A-48FA-B2C9-5DF80596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2940120"/>
            <a:ext cx="75614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8F0-FB9E-40D6-8867-46433066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9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6867360" y="0"/>
            <a:ext cx="694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6720" bIns="36720" anchor="ctr">
            <a:no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650520"/>
            <a:ext cx="75614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marL="276120" indent="-2761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1" marL="598320" indent="-23004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2" marL="920880" indent="-1843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3" marL="1289160" indent="-1843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4" marL="1657440" indent="-1843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5" marL="1657440" indent="-184320">
              <a:spcBef>
                <a:spcPts val="476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6" marL="1657440" indent="-184320">
              <a:spcBef>
                <a:spcPts val="476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5176440"/>
            <a:ext cx="1763640" cy="152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83000" y="5198760"/>
            <a:ext cx="2395440" cy="1299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797440" y="5198760"/>
            <a:ext cx="1764000" cy="1047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3FD5-3950-45BB-A1BA-8B75B99A5F24}" type="slidenum">
              <a:rPr b="1" lang="en-US" sz="800" spc="-1" strike="noStrike">
                <a:solidFill>
                  <a:srgbClr val="ffcc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and_md_wht"/>
          <p:cNvPicPr/>
          <p:nvPr/>
        </p:nvPicPr>
        <p:blipFill>
          <a:blip r:embed="rId3"/>
          <a:stretch/>
        </p:blipFill>
        <p:spPr>
          <a:xfrm>
            <a:off x="6946920" y="58680"/>
            <a:ext cx="55080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9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0" y="650520"/>
            <a:ext cx="75614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marL="276120" indent="-2761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1" marL="598320" indent="-23004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2" marL="920880" indent="-1843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3" marL="1289160" indent="-1843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4" marL="1657440" indent="-1843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5" marL="1657440" indent="-184320">
              <a:spcBef>
                <a:spcPts val="476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6" marL="1657440" indent="-184320">
              <a:spcBef>
                <a:spcPts val="476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-360" y="5198760"/>
            <a:ext cx="1763640" cy="1299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583000" y="5198760"/>
            <a:ext cx="2395440" cy="1299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797440" y="5198760"/>
            <a:ext cx="1764000" cy="1299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B019-15EC-45FB-B99B-2337AE04FADA}" type="slidenum">
              <a:rPr b="0" lang="en-US" sz="8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-128520" y="171360"/>
            <a:ext cx="7304040" cy="40467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136440" y="4311360"/>
            <a:ext cx="414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втор: Зорина Ольга Александ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есто работы: МОУ СОШ №7 г.Новый Уренг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олжность: учитель инфор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Урок информатики в 8 кла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-237960" y="-225360"/>
            <a:ext cx="7022880" cy="993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95200" y="762120"/>
            <a:ext cx="7088400" cy="10699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К работе в кабинете информатики допускаются школьники, прошедшие инструктаж по технике безопасности, соблюдающие указания учителя, расписавшиеся в журнале регистрации инструктажа.</a:t>
            </a:r>
            <a:endParaRPr b="1" lang="en-US" sz="16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066760" y="1998720"/>
            <a:ext cx="53168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90786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907860"/>
                </a:solidFill>
                <a:latin typeface="Bookman Old Style"/>
              </a:rPr>
              <a:t>Необходимо неукоснительно соблюдать правила по технике безопас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53880" y="2760840"/>
            <a:ext cx="507996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Нарушение этих правил может привести к поражению электрическим током, к получению механических повреждений и травм, вызвать возгор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4" descr=""/>
          <p:cNvPicPr/>
          <p:nvPr/>
        </p:nvPicPr>
        <p:blipFill>
          <a:blip r:embed="rId2"/>
          <a:stretch/>
        </p:blipFill>
        <p:spPr>
          <a:xfrm>
            <a:off x="-6480" y="-201600"/>
            <a:ext cx="7570800" cy="1390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177840" y="105408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Не входить в кабинет в верхней одежде, головных уборах, грязной обуви и с громоздкими предме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77840" y="1776240"/>
            <a:ext cx="72658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Передвигаться в кабинете спокойно, не торопя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77840" y="2220840"/>
            <a:ext cx="7265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Работать разрешается только на том компьютере, который выделен на данное занят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77840" y="288612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Не разговаривать громко, не шуметь, не отвлекать других уче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7840" y="355284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Перед началом работы ученик должен убедиться в отсутствии видимых повреждений оборудования на рабочем ме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77840" y="4441680"/>
            <a:ext cx="7265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Включать и выключать компьютеры только с разрешения учи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2"/>
          <a:stretch/>
        </p:blipFill>
        <p:spPr>
          <a:xfrm>
            <a:off x="-165240" y="-133200"/>
            <a:ext cx="7431120" cy="12492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177840" y="105408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быть предельно осторожными при работе с техник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77840" y="1442880"/>
            <a:ext cx="72658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не подключать кабели, разъемы и другую аппаратуру к компьютер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77840" y="2109960"/>
            <a:ext cx="726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соблюдать правила последовательности включения и выключения компьют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77840" y="277488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при появлении изменений в функционировании аппаратуры, самопроизвольного ее отключения необходимо немедленно прекратить работу и сообщить об этом преподавате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77840" y="3886200"/>
            <a:ext cx="726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контролировать расстояние до экрана и правильную осан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77840" y="4551480"/>
            <a:ext cx="72658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не допускать работы на максимальной яркости экрана диспле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-401760" y="-365040"/>
            <a:ext cx="7966080" cy="1187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77840" y="110952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Bookman Old Style"/>
              </a:rPr>
              <a:t>при включенном напряжении сети отключать, подключать кабели, соединяющие различные устройства компьют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77840" y="1943280"/>
            <a:ext cx="72658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Bookman Old Style"/>
              </a:rPr>
              <a:t>касаться экрана дисплея, тыльной стороны дисплея, разъемов со­единительных кабелей, токоведущих частей аппаратуры руками и/или острыми металлическими предме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77840" y="305280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Bookman Old Style"/>
              </a:rPr>
              <a:t>самостоятельно устранять неисправность работы клавиату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7840" y="371952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Bookman Old Style"/>
              </a:rPr>
              <a:t>передвигать системный блок и дисп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7840" y="4108320"/>
            <a:ext cx="7265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Bookman Old Style"/>
              </a:rPr>
              <a:t>работать грязными, влажными руками, во влажной одежд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77840" y="477360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Bookman Old Style"/>
              </a:rPr>
              <a:t>работать за дисплеем дольше положенног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77840" y="722160"/>
            <a:ext cx="72658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Bookman Old Style"/>
              </a:rPr>
              <a:t>пользоваться неисправной техник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5:16:33Z</dcterms:created>
  <dc:creator>XT</dc:creator>
  <dc:description/>
  <dc:language>en-US</dc:language>
  <cp:lastModifiedBy>Ольга</cp:lastModifiedBy>
  <dcterms:modified xsi:type="dcterms:W3CDTF">2010-12-05T14:05:09Z</dcterms:modified>
  <cp:revision>32</cp:revision>
  <dc:subject/>
  <dc:title>Техника безопасности  в кабинете ИВТ</dc:title>
</cp:coreProperties>
</file>