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gif" ContentType="image/gif"/>
  <Override PartName="/ppt/media/image3.jpeg" ContentType="image/jpeg"/>
  <Override PartName="/ppt/media/image4.png" ContentType="image/png"/>
  <Override PartName="/ppt/media/image8.jpeg" ContentType="image/jpeg"/>
  <Override PartName="/ppt/media/image6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7559675" cy="5327650"/>
  <p:notesSz cx="4640263" cy="65849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56E9-E39F-4BCB-A735-1C218D995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561440" cy="59220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ctr">
            <a:noAutofit/>
          </a:bodyPr>
          <a:p>
            <a:pPr indent="0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29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0" y="650520"/>
            <a:ext cx="7561440" cy="209052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1" lang="en-US" sz="19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0" y="2940120"/>
            <a:ext cx="7561440" cy="209052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1" lang="en-US" sz="19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4D7C-70AC-4DFC-8093-CB057C9E7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561440" cy="59220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ctr">
            <a:noAutofit/>
          </a:bodyPr>
          <a:p>
            <a:pPr indent="0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29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650520"/>
            <a:ext cx="3689640" cy="209052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1" lang="en-US" sz="19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874680" y="650520"/>
            <a:ext cx="3689640" cy="209052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1" lang="en-US" sz="19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0" y="2940120"/>
            <a:ext cx="3689640" cy="209052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1" lang="en-US" sz="19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874680" y="2940120"/>
            <a:ext cx="3689640" cy="209052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1" lang="en-US" sz="19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67CB-E069-49D4-A051-C99C5933A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561440" cy="59220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ctr">
            <a:noAutofit/>
          </a:bodyPr>
          <a:p>
            <a:pPr indent="0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29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0" y="650520"/>
            <a:ext cx="2434680" cy="209052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1" lang="en-US" sz="19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556720" y="650520"/>
            <a:ext cx="2434680" cy="209052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1" lang="en-US" sz="19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113440" y="650520"/>
            <a:ext cx="2434680" cy="209052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1" lang="en-US" sz="19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0" y="2940120"/>
            <a:ext cx="2434680" cy="209052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1" lang="en-US" sz="19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556720" y="2940120"/>
            <a:ext cx="2434680" cy="209052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1" lang="en-US" sz="19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113440" y="2940120"/>
            <a:ext cx="2434680" cy="209052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1" lang="en-US" sz="19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582F-7FA5-40B1-9B00-B760BCAA8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9AA4F-B24F-48E9-A29A-DCEB1769A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561440" cy="59220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ctr">
            <a:noAutofit/>
          </a:bodyPr>
          <a:p>
            <a:pPr indent="0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29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0" y="650520"/>
            <a:ext cx="756144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1" lang="en-US" sz="19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C15EA-FD73-4B67-B34C-8F4D9DB28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561440" cy="59220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ctr">
            <a:noAutofit/>
          </a:bodyPr>
          <a:p>
            <a:pPr indent="0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29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650520"/>
            <a:ext cx="7561440" cy="438300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1" lang="en-US" sz="19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44EBD-DA7B-4546-9927-E2CF092BB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561440" cy="59220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ctr">
            <a:noAutofit/>
          </a:bodyPr>
          <a:p>
            <a:pPr indent="0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29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650520"/>
            <a:ext cx="3689640" cy="438300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1" lang="en-US" sz="19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874680" y="650520"/>
            <a:ext cx="3689640" cy="438300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1" lang="en-US" sz="19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DB9CE-DCAC-452F-97D3-25819A0C2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561440" cy="59220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ctr">
            <a:noAutofit/>
          </a:bodyPr>
          <a:p>
            <a:pPr indent="0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29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01CC4-8D9A-42FB-8DEC-6B52D59CB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7561440" cy="27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1" lang="en-US" sz="19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347CB-16F2-46E7-B43C-5E394F23E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561440" cy="59220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ctr">
            <a:noAutofit/>
          </a:bodyPr>
          <a:p>
            <a:pPr indent="0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29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650520"/>
            <a:ext cx="3689640" cy="209052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1" lang="en-US" sz="19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74680" y="650520"/>
            <a:ext cx="3689640" cy="438300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1" lang="en-US" sz="19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0" y="2940120"/>
            <a:ext cx="3689640" cy="209052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1" lang="en-US" sz="19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D92AC-6D6F-4BEF-8C1D-EF8DCEE95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561440" cy="59220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ctr">
            <a:noAutofit/>
          </a:bodyPr>
          <a:p>
            <a:pPr indent="0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29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0" y="650520"/>
            <a:ext cx="756144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1" lang="en-US" sz="19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4FA2-32DD-4F37-9582-B51764529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561440" cy="59220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ctr">
            <a:noAutofit/>
          </a:bodyPr>
          <a:p>
            <a:pPr indent="0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29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650520"/>
            <a:ext cx="3689640" cy="438300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1" lang="en-US" sz="19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874680" y="650520"/>
            <a:ext cx="3689640" cy="209052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1" lang="en-US" sz="19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74680" y="2940120"/>
            <a:ext cx="3689640" cy="209052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1" lang="en-US" sz="19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6FDE2-7C09-4ACB-ACC5-A68D6F658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561440" cy="59220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ctr">
            <a:noAutofit/>
          </a:bodyPr>
          <a:p>
            <a:pPr indent="0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29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650520"/>
            <a:ext cx="3689640" cy="209052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1" lang="en-US" sz="19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74680" y="650520"/>
            <a:ext cx="3689640" cy="209052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1" lang="en-US" sz="19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0" y="2940120"/>
            <a:ext cx="7561440" cy="209052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1" lang="en-US" sz="19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E2B8F-514A-4FC7-AB1E-FED602110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561440" cy="59220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ctr">
            <a:noAutofit/>
          </a:bodyPr>
          <a:p>
            <a:pPr indent="0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29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650520"/>
            <a:ext cx="7561440" cy="209052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1" lang="en-US" sz="19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0" y="2940120"/>
            <a:ext cx="7561440" cy="209052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1" lang="en-US" sz="19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E0700-D983-4D86-AC94-C5B1A5B11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561440" cy="59220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ctr">
            <a:noAutofit/>
          </a:bodyPr>
          <a:p>
            <a:pPr indent="0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29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650520"/>
            <a:ext cx="3689640" cy="209052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1" lang="en-US" sz="19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74680" y="650520"/>
            <a:ext cx="3689640" cy="209052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1" lang="en-US" sz="19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0" y="2940120"/>
            <a:ext cx="3689640" cy="209052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1" lang="en-US" sz="19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874680" y="2940120"/>
            <a:ext cx="3689640" cy="209052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1" lang="en-US" sz="19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41785-BE96-4C1F-972C-DC22558ED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561440" cy="59220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ctr">
            <a:noAutofit/>
          </a:bodyPr>
          <a:p>
            <a:pPr indent="0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29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650520"/>
            <a:ext cx="2434680" cy="209052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1" lang="en-US" sz="19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556720" y="650520"/>
            <a:ext cx="2434680" cy="209052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1" lang="en-US" sz="19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13440" y="650520"/>
            <a:ext cx="2434680" cy="209052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1" lang="en-US" sz="19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0" y="2940120"/>
            <a:ext cx="2434680" cy="209052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1" lang="en-US" sz="19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556720" y="2940120"/>
            <a:ext cx="2434680" cy="209052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1" lang="en-US" sz="19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113440" y="2940120"/>
            <a:ext cx="2434680" cy="209052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1" lang="en-US" sz="19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7CB89-4C14-43F6-8379-3C0E17510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561440" cy="59220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ctr">
            <a:noAutofit/>
          </a:bodyPr>
          <a:p>
            <a:pPr indent="0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29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0" y="650520"/>
            <a:ext cx="7561440" cy="438300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1" lang="en-US" sz="19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57B9-1F59-4D27-BFCC-948FF34B7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561440" cy="59220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ctr">
            <a:noAutofit/>
          </a:bodyPr>
          <a:p>
            <a:pPr indent="0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29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650520"/>
            <a:ext cx="3689640" cy="438300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1" lang="en-US" sz="19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874680" y="650520"/>
            <a:ext cx="3689640" cy="438300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1" lang="en-US" sz="19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5767-CF93-4BF9-B8F3-8C9AE3D18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561440" cy="59220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ctr">
            <a:noAutofit/>
          </a:bodyPr>
          <a:p>
            <a:pPr indent="0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29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2E91-503B-4E82-93FE-B2E3579C4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7561440" cy="27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1" lang="en-US" sz="19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07F3-C159-41F8-9DFD-88F646113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561440" cy="59220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ctr">
            <a:noAutofit/>
          </a:bodyPr>
          <a:p>
            <a:pPr indent="0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29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0" y="650520"/>
            <a:ext cx="3689640" cy="209052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1" lang="en-US" sz="19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874680" y="650520"/>
            <a:ext cx="3689640" cy="438300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1" lang="en-US" sz="19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0" y="2940120"/>
            <a:ext cx="3689640" cy="209052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1" lang="en-US" sz="19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99E8-1D97-46C7-AB5F-D4747F62F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561440" cy="59220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ctr">
            <a:noAutofit/>
          </a:bodyPr>
          <a:p>
            <a:pPr indent="0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29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0" y="650520"/>
            <a:ext cx="3689640" cy="438300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1" lang="en-US" sz="19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74680" y="650520"/>
            <a:ext cx="3689640" cy="209052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1" lang="en-US" sz="19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874680" y="2940120"/>
            <a:ext cx="3689640" cy="209052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1" lang="en-US" sz="19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4A28-499C-4261-BC4A-87F14ADED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561440" cy="59220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ctr">
            <a:noAutofit/>
          </a:bodyPr>
          <a:p>
            <a:pPr indent="0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29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0" y="650520"/>
            <a:ext cx="3689640" cy="209052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1" lang="en-US" sz="19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874680" y="650520"/>
            <a:ext cx="3689640" cy="209052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1" lang="en-US" sz="19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0" y="2940120"/>
            <a:ext cx="7561440" cy="209052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1" lang="en-US" sz="19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A55C-53F2-4A38-9986-1B58E1AB8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561440" cy="59220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ctr">
            <a:noAutofit/>
          </a:bodyPr>
          <a:p>
            <a:pPr indent="0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2900" spc="-1" strike="noStrike">
                <a:solidFill>
                  <a:srgbClr val="ffcc00"/>
                </a:solidFill>
                <a:latin typeface="Impact"/>
              </a:rPr>
              <a:t>Click to edit the title text format</a:t>
            </a:r>
            <a:endParaRPr b="0" lang="en-US" sz="29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1" name="Rectangle 9"/>
          <p:cNvSpPr/>
          <p:nvPr/>
        </p:nvSpPr>
        <p:spPr>
          <a:xfrm>
            <a:off x="6867360" y="0"/>
            <a:ext cx="694080" cy="65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800" rIns="73800" tIns="36720" bIns="36720" anchor="ctr">
            <a:noAutofit/>
          </a:bodyPr>
          <a:p>
            <a:pPr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0" y="650520"/>
            <a:ext cx="7561440" cy="438300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t">
            <a:normAutofit/>
          </a:bodyPr>
          <a:p>
            <a:pPr marL="276120" indent="-276120">
              <a:spcBef>
                <a:spcPts val="476"/>
              </a:spcBef>
              <a:buClr>
                <a:srgbClr val="808080"/>
              </a:buClr>
              <a:buSzPct val="200000"/>
              <a:buFont typeface="Tahoma"/>
              <a:buChar char="•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1" lang="en-US" sz="1900" spc="-1" strike="noStrike">
                <a:solidFill>
                  <a:srgbClr val="808080"/>
                </a:solidFill>
                <a:latin typeface="Tahoma"/>
              </a:rPr>
              <a:t>Click to edit the outline text format</a:t>
            </a:r>
            <a:endParaRPr b="1" lang="en-US" sz="1900" spc="-1" strike="noStrike">
              <a:solidFill>
                <a:srgbClr val="808080"/>
              </a:solidFill>
              <a:latin typeface="Tahoma"/>
            </a:endParaRPr>
          </a:p>
          <a:p>
            <a:pPr lvl="1" marL="598320" indent="-230040">
              <a:spcBef>
                <a:spcPts val="476"/>
              </a:spcBef>
              <a:buClr>
                <a:srgbClr val="808080"/>
              </a:buClr>
              <a:buSzPct val="200000"/>
              <a:buFont typeface="Tahoma"/>
              <a:buChar char="–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1" lang="en-US" sz="1900" spc="-1" strike="noStrike">
                <a:solidFill>
                  <a:srgbClr val="808080"/>
                </a:solidFill>
                <a:latin typeface="Tahoma"/>
              </a:rPr>
              <a:t>Second Outline Level</a:t>
            </a:r>
            <a:endParaRPr b="1" lang="en-US" sz="1900" spc="-1" strike="noStrike">
              <a:solidFill>
                <a:srgbClr val="808080"/>
              </a:solidFill>
              <a:latin typeface="Tahoma"/>
            </a:endParaRPr>
          </a:p>
          <a:p>
            <a:pPr lvl="2" marL="920880" indent="-184320">
              <a:spcBef>
                <a:spcPts val="476"/>
              </a:spcBef>
              <a:buClr>
                <a:srgbClr val="808080"/>
              </a:buClr>
              <a:buSzPct val="200000"/>
              <a:buFont typeface="Tahoma"/>
              <a:buChar char="•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1" lang="en-US" sz="1900" spc="-1" strike="noStrike">
                <a:solidFill>
                  <a:srgbClr val="808080"/>
                </a:solidFill>
                <a:latin typeface="Tahoma"/>
              </a:rPr>
              <a:t>Third Outline Level</a:t>
            </a:r>
            <a:endParaRPr b="1" lang="en-US" sz="1900" spc="-1" strike="noStrike">
              <a:solidFill>
                <a:srgbClr val="808080"/>
              </a:solidFill>
              <a:latin typeface="Tahoma"/>
            </a:endParaRPr>
          </a:p>
          <a:p>
            <a:pPr lvl="3" marL="1289160" indent="-184320">
              <a:spcBef>
                <a:spcPts val="476"/>
              </a:spcBef>
              <a:buClr>
                <a:srgbClr val="808080"/>
              </a:buClr>
              <a:buSzPct val="200000"/>
              <a:buFont typeface="Tahoma"/>
              <a:buChar char="–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1" lang="en-US" sz="1900" spc="-1" strike="noStrike">
                <a:solidFill>
                  <a:srgbClr val="808080"/>
                </a:solidFill>
                <a:latin typeface="Tahoma"/>
              </a:rPr>
              <a:t>Fourth Outline Level</a:t>
            </a:r>
            <a:endParaRPr b="1" lang="en-US" sz="1900" spc="-1" strike="noStrike">
              <a:solidFill>
                <a:srgbClr val="808080"/>
              </a:solidFill>
              <a:latin typeface="Tahoma"/>
            </a:endParaRPr>
          </a:p>
          <a:p>
            <a:pPr lvl="4" marL="1657440" indent="-184320">
              <a:spcBef>
                <a:spcPts val="476"/>
              </a:spcBef>
              <a:buClr>
                <a:srgbClr val="808080"/>
              </a:buClr>
              <a:buSzPct val="200000"/>
              <a:buFont typeface="Tahoma"/>
              <a:buChar char="»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1" lang="en-US" sz="1900" spc="-1" strike="noStrike">
                <a:solidFill>
                  <a:srgbClr val="808080"/>
                </a:solidFill>
                <a:latin typeface="Tahoma"/>
              </a:rPr>
              <a:t>Fifth Outline Level</a:t>
            </a:r>
            <a:endParaRPr b="1" lang="en-US" sz="1900" spc="-1" strike="noStrike">
              <a:solidFill>
                <a:srgbClr val="808080"/>
              </a:solidFill>
              <a:latin typeface="Tahoma"/>
            </a:endParaRPr>
          </a:p>
          <a:p>
            <a:pPr lvl="5" marL="1657440" indent="-184320">
              <a:spcBef>
                <a:spcPts val="476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1" lang="en-US" sz="1900" spc="-1" strike="noStrike">
                <a:solidFill>
                  <a:srgbClr val="808080"/>
                </a:solidFill>
                <a:latin typeface="Tahoma"/>
              </a:rPr>
              <a:t>Sixth Outline Level</a:t>
            </a:r>
            <a:endParaRPr b="1" lang="en-US" sz="1900" spc="-1" strike="noStrike">
              <a:solidFill>
                <a:srgbClr val="808080"/>
              </a:solidFill>
              <a:latin typeface="Tahoma"/>
            </a:endParaRPr>
          </a:p>
          <a:p>
            <a:pPr lvl="6" marL="1657440" indent="-184320">
              <a:spcBef>
                <a:spcPts val="476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1" lang="en-US" sz="1900" spc="-1" strike="noStrike">
                <a:solidFill>
                  <a:srgbClr val="808080"/>
                </a:solidFill>
                <a:latin typeface="Tahoma"/>
              </a:rPr>
              <a:t>Seventh Outline Level</a:t>
            </a:r>
            <a:endParaRPr b="1" lang="en-US" sz="19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-360" y="5176440"/>
            <a:ext cx="1763640" cy="15228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583000" y="5198760"/>
            <a:ext cx="2395440" cy="12996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5797440" y="5198760"/>
            <a:ext cx="1764000" cy="10476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cc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02773-B169-43BD-BC09-FD76D6853607}" type="slidenum">
              <a:rPr b="1" lang="en-US" sz="800" spc="-1" strike="noStrike">
                <a:solidFill>
                  <a:srgbClr val="ffcc00"/>
                </a:solidFill>
                <a:latin typeface="Tahom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8" descr="and_md_wht"/>
          <p:cNvPicPr/>
          <p:nvPr/>
        </p:nvPicPr>
        <p:blipFill>
          <a:blip r:embed="rId3"/>
          <a:stretch/>
        </p:blipFill>
        <p:spPr>
          <a:xfrm>
            <a:off x="6946920" y="58680"/>
            <a:ext cx="550800" cy="480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561440" cy="59220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ctr">
            <a:noAutofit/>
          </a:bodyPr>
          <a:p>
            <a:pPr indent="0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2900" spc="-1" strike="noStrike">
                <a:solidFill>
                  <a:srgbClr val="ffcc00"/>
                </a:solidFill>
                <a:latin typeface="Impact"/>
              </a:rPr>
              <a:t>Click to edit the title text format</a:t>
            </a:r>
            <a:endParaRPr b="0" lang="en-US" sz="29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0" y="650520"/>
            <a:ext cx="7561440" cy="438300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t">
            <a:normAutofit/>
          </a:bodyPr>
          <a:p>
            <a:pPr marL="276120" indent="-276120">
              <a:spcBef>
                <a:spcPts val="476"/>
              </a:spcBef>
              <a:buClr>
                <a:srgbClr val="808080"/>
              </a:buClr>
              <a:buSzPct val="200000"/>
              <a:buFont typeface="Tahoma"/>
              <a:buChar char="•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1" lang="en-US" sz="1900" spc="-1" strike="noStrike">
                <a:solidFill>
                  <a:srgbClr val="808080"/>
                </a:solidFill>
                <a:latin typeface="Tahoma"/>
              </a:rPr>
              <a:t>Click to edit the outline text format</a:t>
            </a:r>
            <a:endParaRPr b="1" lang="en-US" sz="1900" spc="-1" strike="noStrike">
              <a:solidFill>
                <a:srgbClr val="808080"/>
              </a:solidFill>
              <a:latin typeface="Tahoma"/>
            </a:endParaRPr>
          </a:p>
          <a:p>
            <a:pPr lvl="1" marL="598320" indent="-230040">
              <a:spcBef>
                <a:spcPts val="476"/>
              </a:spcBef>
              <a:buClr>
                <a:srgbClr val="808080"/>
              </a:buClr>
              <a:buSzPct val="200000"/>
              <a:buFont typeface="Tahoma"/>
              <a:buChar char="–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1" lang="en-US" sz="1900" spc="-1" strike="noStrike">
                <a:solidFill>
                  <a:srgbClr val="808080"/>
                </a:solidFill>
                <a:latin typeface="Tahoma"/>
              </a:rPr>
              <a:t>Second Outline Level</a:t>
            </a:r>
            <a:endParaRPr b="1" lang="en-US" sz="1900" spc="-1" strike="noStrike">
              <a:solidFill>
                <a:srgbClr val="808080"/>
              </a:solidFill>
              <a:latin typeface="Tahoma"/>
            </a:endParaRPr>
          </a:p>
          <a:p>
            <a:pPr lvl="2" marL="920880" indent="-184320">
              <a:spcBef>
                <a:spcPts val="476"/>
              </a:spcBef>
              <a:buClr>
                <a:srgbClr val="808080"/>
              </a:buClr>
              <a:buSzPct val="200000"/>
              <a:buFont typeface="Tahoma"/>
              <a:buChar char="•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1" lang="en-US" sz="1900" spc="-1" strike="noStrike">
                <a:solidFill>
                  <a:srgbClr val="808080"/>
                </a:solidFill>
                <a:latin typeface="Tahoma"/>
              </a:rPr>
              <a:t>Third Outline Level</a:t>
            </a:r>
            <a:endParaRPr b="1" lang="en-US" sz="1900" spc="-1" strike="noStrike">
              <a:solidFill>
                <a:srgbClr val="808080"/>
              </a:solidFill>
              <a:latin typeface="Tahoma"/>
            </a:endParaRPr>
          </a:p>
          <a:p>
            <a:pPr lvl="3" marL="1289160" indent="-184320">
              <a:spcBef>
                <a:spcPts val="476"/>
              </a:spcBef>
              <a:buClr>
                <a:srgbClr val="808080"/>
              </a:buClr>
              <a:buSzPct val="200000"/>
              <a:buFont typeface="Tahoma"/>
              <a:buChar char="–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1" lang="en-US" sz="1900" spc="-1" strike="noStrike">
                <a:solidFill>
                  <a:srgbClr val="808080"/>
                </a:solidFill>
                <a:latin typeface="Tahoma"/>
              </a:rPr>
              <a:t>Fourth Outline Level</a:t>
            </a:r>
            <a:endParaRPr b="1" lang="en-US" sz="1900" spc="-1" strike="noStrike">
              <a:solidFill>
                <a:srgbClr val="808080"/>
              </a:solidFill>
              <a:latin typeface="Tahoma"/>
            </a:endParaRPr>
          </a:p>
          <a:p>
            <a:pPr lvl="4" marL="1657440" indent="-184320">
              <a:spcBef>
                <a:spcPts val="476"/>
              </a:spcBef>
              <a:buClr>
                <a:srgbClr val="808080"/>
              </a:buClr>
              <a:buSzPct val="200000"/>
              <a:buFont typeface="Tahoma"/>
              <a:buChar char="»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1" lang="en-US" sz="1900" spc="-1" strike="noStrike">
                <a:solidFill>
                  <a:srgbClr val="808080"/>
                </a:solidFill>
                <a:latin typeface="Tahoma"/>
              </a:rPr>
              <a:t>Fifth Outline Level</a:t>
            </a:r>
            <a:endParaRPr b="1" lang="en-US" sz="1900" spc="-1" strike="noStrike">
              <a:solidFill>
                <a:srgbClr val="808080"/>
              </a:solidFill>
              <a:latin typeface="Tahoma"/>
            </a:endParaRPr>
          </a:p>
          <a:p>
            <a:pPr lvl="5" marL="1657440" indent="-184320">
              <a:spcBef>
                <a:spcPts val="476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1" lang="en-US" sz="1900" spc="-1" strike="noStrike">
                <a:solidFill>
                  <a:srgbClr val="808080"/>
                </a:solidFill>
                <a:latin typeface="Tahoma"/>
              </a:rPr>
              <a:t>Sixth Outline Level</a:t>
            </a:r>
            <a:endParaRPr b="1" lang="en-US" sz="1900" spc="-1" strike="noStrike">
              <a:solidFill>
                <a:srgbClr val="808080"/>
              </a:solidFill>
              <a:latin typeface="Tahoma"/>
            </a:endParaRPr>
          </a:p>
          <a:p>
            <a:pPr lvl="6" marL="1657440" indent="-184320">
              <a:spcBef>
                <a:spcPts val="476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1" lang="en-US" sz="1900" spc="-1" strike="noStrike">
                <a:solidFill>
                  <a:srgbClr val="808080"/>
                </a:solidFill>
                <a:latin typeface="Tahoma"/>
              </a:rPr>
              <a:t>Seventh Outline Level</a:t>
            </a:r>
            <a:endParaRPr b="1" lang="en-US" sz="19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-360" y="5198760"/>
            <a:ext cx="1763640" cy="12996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583000" y="5198760"/>
            <a:ext cx="2395440" cy="12996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5797440" y="5198760"/>
            <a:ext cx="1764000" cy="12996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8F462-E0E9-4714-9487-0A92694CF33B}" type="slidenum">
              <a:rPr b="0" lang="en-US" sz="8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Rectangle 2" descr=""/>
          <p:cNvPicPr/>
          <p:nvPr/>
        </p:nvPicPr>
        <p:blipFill>
          <a:blip r:embed="rId1"/>
          <a:stretch/>
        </p:blipFill>
        <p:spPr>
          <a:xfrm>
            <a:off x="-128520" y="171360"/>
            <a:ext cx="7304040" cy="404676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4"/>
          <p:cNvSpPr/>
          <p:nvPr/>
        </p:nvSpPr>
        <p:spPr>
          <a:xfrm>
            <a:off x="136440" y="4311360"/>
            <a:ext cx="4145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Автор: Зорина Ольга Александр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Место работы: МОУ СОШ №7 г.Новый Уренго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Должность: учитель информат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Урок информатики в 8 класс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Rectangle 2" descr=""/>
          <p:cNvPicPr/>
          <p:nvPr/>
        </p:nvPicPr>
        <p:blipFill>
          <a:blip r:embed="rId1"/>
          <a:stretch/>
        </p:blipFill>
        <p:spPr>
          <a:xfrm>
            <a:off x="-237960" y="-225360"/>
            <a:ext cx="7022880" cy="9936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295200" y="762120"/>
            <a:ext cx="7088400" cy="1069920"/>
          </a:xfrm>
          <a:prstGeom prst="rect">
            <a:avLst/>
          </a:prstGeom>
          <a:noFill/>
          <a:ln w="0">
            <a:noFill/>
          </a:ln>
        </p:spPr>
        <p:txBody>
          <a:bodyPr lIns="73800" rIns="73800" tIns="36720" bIns="36720" anchor="t">
            <a:normAutofit/>
          </a:bodyPr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663300"/>
              </a:buClr>
              <a:buSzPct val="200000"/>
              <a:buFont typeface="Wingdings" charset="2"/>
              <a:buChar char="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1" i="1" lang="ru-RU" sz="1600" spc="-1" strike="noStrike">
                <a:solidFill>
                  <a:srgbClr val="663300"/>
                </a:solidFill>
                <a:latin typeface="Bookman Old Style"/>
              </a:rPr>
              <a:t>К работе в кабинете информатики допускаются школьники, прошедшие инструктаж по технике безопасности, соблюдающие указания учителя, расписавшиеся в журнале регистрации инструктажа.</a:t>
            </a:r>
            <a:endParaRPr b="1" lang="en-US" sz="16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2066760" y="1998720"/>
            <a:ext cx="5316840" cy="5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800" rIns="73800" tIns="36720" bIns="36720" anchor="t">
            <a:noAutofit/>
          </a:bodyPr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907860"/>
              </a:buClr>
              <a:buSzPct val="200000"/>
              <a:buFont typeface="Wingdings" charset="2"/>
              <a:buChar char="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1" i="1" lang="ru-RU" sz="1600" spc="-1" strike="noStrike">
                <a:solidFill>
                  <a:srgbClr val="907860"/>
                </a:solidFill>
                <a:latin typeface="Bookman Old Style"/>
              </a:rPr>
              <a:t>Необходимо неукоснительно соблюдать правила по технике безопасн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353880" y="2760840"/>
            <a:ext cx="5079960" cy="10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800" rIns="73800" tIns="36720" bIns="36720" anchor="t">
            <a:noAutofit/>
          </a:bodyPr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663300"/>
              </a:buClr>
              <a:buSzPct val="200000"/>
              <a:buFont typeface="Wingdings" charset="2"/>
              <a:buChar char="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1" i="1" lang="ru-RU" sz="1600" spc="-1" strike="noStrike">
                <a:solidFill>
                  <a:srgbClr val="663300"/>
                </a:solidFill>
                <a:latin typeface="Bookman Old Style"/>
              </a:rPr>
              <a:t>Нарушение этих правил может привести к поражению электрическим током, к получению механических повреждений и травм, вызвать возгоран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Rectangle 4" descr=""/>
          <p:cNvPicPr/>
          <p:nvPr/>
        </p:nvPicPr>
        <p:blipFill>
          <a:blip r:embed="rId2"/>
          <a:stretch/>
        </p:blipFill>
        <p:spPr>
          <a:xfrm>
            <a:off x="-6480" y="-201600"/>
            <a:ext cx="7570800" cy="139068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3"/>
          <p:cNvSpPr/>
          <p:nvPr/>
        </p:nvSpPr>
        <p:spPr>
          <a:xfrm>
            <a:off x="177840" y="1054080"/>
            <a:ext cx="726588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800" rIns="73800" tIns="36720" bIns="36720" anchor="t">
            <a:noAutofit/>
          </a:bodyPr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663300"/>
              </a:buClr>
              <a:buSzPct val="200000"/>
              <a:buFont typeface="Wingdings" charset="2"/>
              <a:buChar char="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1" i="1" lang="ru-RU" sz="1600" spc="-1" strike="noStrike">
                <a:solidFill>
                  <a:srgbClr val="663300"/>
                </a:solidFill>
                <a:latin typeface="Bookman Old Style"/>
              </a:rPr>
              <a:t>Не входить в кабинет в верхней одежде, головных уборах, грязной обуви и с громоздкими предмет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177840" y="1776240"/>
            <a:ext cx="726588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800" rIns="73800" tIns="36720" bIns="36720" anchor="t">
            <a:noAutofit/>
          </a:bodyPr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663300"/>
              </a:buClr>
              <a:buSzPct val="200000"/>
              <a:buFont typeface="Wingdings" charset="2"/>
              <a:buChar char="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1" i="1" lang="ru-RU" sz="1600" spc="-1" strike="noStrike">
                <a:solidFill>
                  <a:srgbClr val="663300"/>
                </a:solidFill>
                <a:latin typeface="Bookman Old Style"/>
              </a:rPr>
              <a:t>Передвигаться в кабинете спокойно, не торопяс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177840" y="2220840"/>
            <a:ext cx="7265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800" rIns="73800" tIns="36720" bIns="36720" anchor="t">
            <a:noAutofit/>
          </a:bodyPr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663300"/>
              </a:buClr>
              <a:buSzPct val="200000"/>
              <a:buFont typeface="Wingdings" charset="2"/>
              <a:buChar char="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1" i="1" lang="ru-RU" sz="1600" spc="-1" strike="noStrike">
                <a:solidFill>
                  <a:srgbClr val="663300"/>
                </a:solidFill>
                <a:latin typeface="Bookman Old Style"/>
              </a:rPr>
              <a:t>Работать разрешается только на том компьютере, который выделен на данное занят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177840" y="2886120"/>
            <a:ext cx="726588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800" rIns="73800" tIns="36720" bIns="36720" anchor="t">
            <a:noAutofit/>
          </a:bodyPr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663300"/>
              </a:buClr>
              <a:buSzPct val="200000"/>
              <a:buFont typeface="Wingdings" charset="2"/>
              <a:buChar char="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1" i="1" lang="ru-RU" sz="1600" spc="-1" strike="noStrike">
                <a:solidFill>
                  <a:srgbClr val="663300"/>
                </a:solidFill>
                <a:latin typeface="Bookman Old Style"/>
              </a:rPr>
              <a:t>Не разговаривать громко, не шуметь, не отвлекать других ученик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177840" y="3552840"/>
            <a:ext cx="726588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800" rIns="73800" tIns="36720" bIns="36720" anchor="t">
            <a:noAutofit/>
          </a:bodyPr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663300"/>
              </a:buClr>
              <a:buSzPct val="200000"/>
              <a:buFont typeface="Wingdings" charset="2"/>
              <a:buChar char="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1" i="1" lang="ru-RU" sz="1600" spc="-1" strike="noStrike">
                <a:solidFill>
                  <a:srgbClr val="663300"/>
                </a:solidFill>
                <a:latin typeface="Bookman Old Style"/>
              </a:rPr>
              <a:t>Перед началом работы ученик должен убедиться в отсутствии видимых повреждений оборудования на рабочем мест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177840" y="4441680"/>
            <a:ext cx="7265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800" rIns="73800" tIns="36720" bIns="36720" anchor="t">
            <a:noAutofit/>
          </a:bodyPr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663300"/>
              </a:buClr>
              <a:buSzPct val="200000"/>
              <a:buFont typeface="Wingdings" charset="2"/>
              <a:buChar char="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1" i="1" lang="ru-RU" sz="1600" spc="-1" strike="noStrike">
                <a:solidFill>
                  <a:srgbClr val="663300"/>
                </a:solidFill>
                <a:latin typeface="Bookman Old Style"/>
              </a:rPr>
              <a:t>Включать и выключать компьютеры только с разрешения учител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Rectangle 2" descr=""/>
          <p:cNvPicPr/>
          <p:nvPr/>
        </p:nvPicPr>
        <p:blipFill>
          <a:blip r:embed="rId2"/>
          <a:stretch/>
        </p:blipFill>
        <p:spPr>
          <a:xfrm>
            <a:off x="-165240" y="-133200"/>
            <a:ext cx="7431120" cy="124920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3"/>
          <p:cNvSpPr/>
          <p:nvPr/>
        </p:nvSpPr>
        <p:spPr>
          <a:xfrm>
            <a:off x="177840" y="1054080"/>
            <a:ext cx="726588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800" rIns="73800" tIns="36720" bIns="36720" anchor="t">
            <a:noAutofit/>
          </a:bodyPr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663300"/>
              </a:buClr>
              <a:buSzPct val="200000"/>
              <a:buFont typeface="Wingdings" charset="2"/>
              <a:buChar char="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1" i="1" lang="ru-RU" sz="1600" spc="-1" strike="noStrike">
                <a:solidFill>
                  <a:srgbClr val="663300"/>
                </a:solidFill>
                <a:latin typeface="Bookman Old Style"/>
              </a:rPr>
              <a:t>быть предельно осторожными при работе с технико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177840" y="1442880"/>
            <a:ext cx="72658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800" rIns="73800" tIns="36720" bIns="36720" anchor="t">
            <a:noAutofit/>
          </a:bodyPr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663300"/>
              </a:buClr>
              <a:buSzPct val="200000"/>
              <a:buFont typeface="Wingdings" charset="2"/>
              <a:buChar char="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1" i="1" lang="ru-RU" sz="1600" spc="-1" strike="noStrike">
                <a:solidFill>
                  <a:srgbClr val="663300"/>
                </a:solidFill>
                <a:latin typeface="Bookman Old Style"/>
              </a:rPr>
              <a:t>не подключать кабели, разъемы и другую аппаратуру к компьютеру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177840" y="2109960"/>
            <a:ext cx="7265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800" rIns="73800" tIns="36720" bIns="36720" anchor="t">
            <a:noAutofit/>
          </a:bodyPr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663300"/>
              </a:buClr>
              <a:buSzPct val="200000"/>
              <a:buFont typeface="Wingdings" charset="2"/>
              <a:buChar char="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1" i="1" lang="ru-RU" sz="1600" spc="-1" strike="noStrike">
                <a:solidFill>
                  <a:srgbClr val="663300"/>
                </a:solidFill>
                <a:latin typeface="Bookman Old Style"/>
              </a:rPr>
              <a:t>соблюдать правила последовательности включения и выключения компьютер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177840" y="2774880"/>
            <a:ext cx="726588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800" rIns="73800" tIns="36720" bIns="36720" anchor="t">
            <a:noAutofit/>
          </a:bodyPr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663300"/>
              </a:buClr>
              <a:buSzPct val="200000"/>
              <a:buFont typeface="Wingdings" charset="2"/>
              <a:buChar char="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1" i="1" lang="ru-RU" sz="1600" spc="-1" strike="noStrike">
                <a:solidFill>
                  <a:srgbClr val="663300"/>
                </a:solidFill>
                <a:latin typeface="Bookman Old Style"/>
              </a:rPr>
              <a:t>при появлении изменений в функционировании аппаратуры, самопроизвольного ее отключения необходимо немедленно прекратить работу и сообщить об этом преподавателю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177840" y="3886200"/>
            <a:ext cx="7265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800" rIns="73800" tIns="36720" bIns="36720" anchor="t">
            <a:noAutofit/>
          </a:bodyPr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663300"/>
              </a:buClr>
              <a:buSzPct val="200000"/>
              <a:buFont typeface="Wingdings" charset="2"/>
              <a:buChar char="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1" i="1" lang="ru-RU" sz="1600" spc="-1" strike="noStrike">
                <a:solidFill>
                  <a:srgbClr val="663300"/>
                </a:solidFill>
                <a:latin typeface="Bookman Old Style"/>
              </a:rPr>
              <a:t>контролировать расстояние до экрана и правильную осанку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177840" y="4551480"/>
            <a:ext cx="7265880" cy="6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800" rIns="73800" tIns="36720" bIns="36720" anchor="t">
            <a:noAutofit/>
          </a:bodyPr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663300"/>
              </a:buClr>
              <a:buSzPct val="200000"/>
              <a:buFont typeface="Wingdings" charset="2"/>
              <a:buChar char="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1" i="1" lang="ru-RU" sz="1600" spc="-1" strike="noStrike">
                <a:solidFill>
                  <a:srgbClr val="663300"/>
                </a:solidFill>
                <a:latin typeface="Bookman Old Style"/>
              </a:rPr>
              <a:t>не допускать работы на максимальной яркости экрана диспле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Rectangle 2" descr=""/>
          <p:cNvPicPr/>
          <p:nvPr/>
        </p:nvPicPr>
        <p:blipFill>
          <a:blip r:embed="rId1"/>
          <a:stretch/>
        </p:blipFill>
        <p:spPr>
          <a:xfrm>
            <a:off x="-401760" y="-365040"/>
            <a:ext cx="7966080" cy="118728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"/>
          <p:cNvSpPr/>
          <p:nvPr/>
        </p:nvSpPr>
        <p:spPr>
          <a:xfrm>
            <a:off x="177840" y="1109520"/>
            <a:ext cx="726588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800" rIns="73800" tIns="36720" bIns="36720" anchor="t">
            <a:noAutofit/>
          </a:bodyPr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200000"/>
              <a:buFont typeface="Wingdings" charset="2"/>
              <a:buChar char="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1" i="1" lang="ru-RU" sz="1600" spc="-1" strike="noStrike">
                <a:solidFill>
                  <a:srgbClr val="c00000"/>
                </a:solidFill>
                <a:latin typeface="Bookman Old Style"/>
              </a:rPr>
              <a:t>при включенном напряжении сети отключать, подключать кабели, соединяющие различные устройства компьютер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177840" y="1943280"/>
            <a:ext cx="72658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800" rIns="73800" tIns="36720" bIns="36720" anchor="t">
            <a:noAutofit/>
          </a:bodyPr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200000"/>
              <a:buFont typeface="Wingdings" charset="2"/>
              <a:buChar char="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1" i="1" lang="ru-RU" sz="1600" spc="-1" strike="noStrike">
                <a:solidFill>
                  <a:srgbClr val="cc0000"/>
                </a:solidFill>
                <a:latin typeface="Bookman Old Style"/>
              </a:rPr>
              <a:t>касаться экрана дисплея, тыльной стороны дисплея, разъемов со­единительных кабелей, токоведущих частей аппаратуры руками и/или острыми металлическими предмета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177840" y="3052800"/>
            <a:ext cx="726588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800" rIns="73800" tIns="36720" bIns="36720" anchor="t">
            <a:noAutofit/>
          </a:bodyPr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200000"/>
              <a:buFont typeface="Wingdings" charset="2"/>
              <a:buChar char="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1" i="1" lang="ru-RU" sz="1600" spc="-1" strike="noStrike">
                <a:solidFill>
                  <a:srgbClr val="c00000"/>
                </a:solidFill>
                <a:latin typeface="Bookman Old Style"/>
              </a:rPr>
              <a:t>самостоятельно устранять неисправность работы клавиатур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177840" y="3719520"/>
            <a:ext cx="726588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800" rIns="73800" tIns="36720" bIns="36720" anchor="t">
            <a:noAutofit/>
          </a:bodyPr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200000"/>
              <a:buFont typeface="Wingdings" charset="2"/>
              <a:buChar char="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1" i="1" lang="ru-RU" sz="1600" spc="-1" strike="noStrike">
                <a:solidFill>
                  <a:srgbClr val="cc0000"/>
                </a:solidFill>
                <a:latin typeface="Bookman Old Style"/>
              </a:rPr>
              <a:t>передвигать системный блок и диспле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177840" y="4108320"/>
            <a:ext cx="7265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800" rIns="73800" tIns="36720" bIns="36720" anchor="t">
            <a:noAutofit/>
          </a:bodyPr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200000"/>
              <a:buFont typeface="Wingdings" charset="2"/>
              <a:buChar char="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1" i="1" lang="ru-RU" sz="1600" spc="-1" strike="noStrike">
                <a:solidFill>
                  <a:srgbClr val="cc0000"/>
                </a:solidFill>
                <a:latin typeface="Bookman Old Style"/>
              </a:rPr>
              <a:t>работать грязными, влажными руками, во влажной одежд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177840" y="4773600"/>
            <a:ext cx="726588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800" rIns="73800" tIns="36720" bIns="36720" anchor="t">
            <a:noAutofit/>
          </a:bodyPr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200000"/>
              <a:buFont typeface="Wingdings" charset="2"/>
              <a:buChar char="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1" i="1" lang="ru-RU" sz="1600" spc="-1" strike="noStrike">
                <a:solidFill>
                  <a:srgbClr val="cc0000"/>
                </a:solidFill>
                <a:latin typeface="Bookman Old Style"/>
              </a:rPr>
              <a:t>работать за дисплеем дольше положенного времен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177840" y="722160"/>
            <a:ext cx="726588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800" rIns="73800" tIns="36720" bIns="36720" anchor="t">
            <a:noAutofit/>
          </a:bodyPr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200000"/>
              <a:buFont typeface="Wingdings" charset="2"/>
              <a:buChar char="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1" i="1" lang="ru-RU" sz="1600" spc="-1" strike="noStrike">
                <a:solidFill>
                  <a:srgbClr val="c00000"/>
                </a:solidFill>
                <a:latin typeface="Bookman Old Style"/>
              </a:rPr>
              <a:t>пользоваться неисправной технико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1T05:16:33Z</dcterms:created>
  <dc:creator>XT</dc:creator>
  <dc:description/>
  <dc:language>en-US</dc:language>
  <cp:lastModifiedBy>Ольга</cp:lastModifiedBy>
  <dcterms:modified xsi:type="dcterms:W3CDTF">2010-12-05T14:05:09Z</dcterms:modified>
  <cp:revision>32</cp:revision>
  <dc:subject/>
  <dc:title>Техника безопасности  в кабинете ИВТ</dc:title>
</cp:coreProperties>
</file>