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9.png" ContentType="image/pn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5.gif" ContentType="image/gif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5EA-57B3-46F7-854C-73F566F2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F71-6CDD-4709-AE1A-39FED531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CF3-119D-45D7-A0EF-65F95BA5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A30-2889-4A6C-90DB-461E906C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C490-D275-4137-9BD7-2F5C0AEB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0CED-59E0-43B9-8B8E-D0D12EB4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4DB6-78CC-4DB9-9ED6-B18F552D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4D93-1CB3-4C2B-B439-B5880D82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A0B1-D96A-4BA7-BD44-09C5491C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9BC2-2CB2-46B8-8A36-72693B6C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E0CB-71B9-4C2B-B32F-53A4B507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76C-CF54-404B-9DE8-C67FBAF4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C6F2-5EF3-4C79-B135-7CB20AF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1C5F-2740-478C-9A7A-568FC48D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7DF7-8344-4BB2-8EF0-661A233C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C2B2-AF81-4273-9081-CDE00D5B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6169-C493-4118-86CD-AD53C078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0A9-AFEC-43E5-BB55-714850F8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25B-FF11-43F8-A7AB-74D6DB65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1D1-45F8-4956-910C-634FDEAC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E5E-CEB4-4940-8A42-01D08F25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2DD-EFC5-4E1D-B0D4-2D491763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C0A-2FBD-4C83-8815-B39FE7E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5B6-44EB-41AD-8C4F-14042F9D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4982-80E5-4D8D-BDCE-7E523A49B95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2021-DB7F-4258-AFF9-315486D11864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8"/>
          <p:cNvSpPr txBox="1"/>
          <p:nvPr/>
        </p:nvSpPr>
        <p:spPr>
          <a:xfrm>
            <a:off x="1447920" y="1219320"/>
            <a:ext cx="73692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Художественная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культура (ч.2).</a:t>
            </a:r>
            <a:endParaRPr b="1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76720" y="691920"/>
            <a:ext cx="3990960" cy="6089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селе Дымково близ Вят-ки изготавливали гли-няные игрушки-свисту-льки в виде людей,жи-вотных,птиц.Их раскра-шивали яркими анили-новыми красками.Ха-рактерной чертой дым-ковской игрушки стали пышные воротники,обо рки,яркий геометричес-кий орнамент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хранил свое своеобра-зие гжельский орна-мент-синяя роспись на белом фаянсе и фарфо-ре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0" y="6095880"/>
            <a:ext cx="49528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Цирковой козел. Дымковская игрушка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8" descr="1"/>
          <p:cNvPicPr/>
          <p:nvPr/>
        </p:nvPicPr>
        <p:blipFill>
          <a:blip r:embed="rId2"/>
          <a:stretch/>
        </p:blipFill>
        <p:spPr>
          <a:xfrm>
            <a:off x="304920" y="762120"/>
            <a:ext cx="4311360" cy="51814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9067680" cy="25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собое место среди народных промыслов занимает хохломская роспись. По преданию она появилась благодаря старцу-раскольнику, который прячась в монастыре начал промысел, а затем передал его секреты спасшим его мужикам. В к. 19 в. Промысел, не выдерживавший конкуренцию с фабричным производством, пережил кризис, но был спасен Ниже-городским земством и вскоре стал национальной гордостью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0" name="Picture 4" descr="Рисунок1"/>
          <p:cNvPicPr/>
          <p:nvPr/>
        </p:nvPicPr>
        <p:blipFill>
          <a:blip r:embed="rId2"/>
          <a:stretch/>
        </p:blipFill>
        <p:spPr>
          <a:xfrm>
            <a:off x="3657600" y="758880"/>
            <a:ext cx="5235480" cy="34210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533520" y="1905120"/>
            <a:ext cx="259236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Братина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Хохломская роспись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05320" y="456840"/>
            <a:ext cx="312408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лан урока.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4724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2.Театр.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6" name="Picture 4" descr="ag00029_"/>
          <p:cNvPicPr/>
          <p:nvPr/>
        </p:nvPicPr>
        <p:blipFill>
          <a:blip r:embed="rId2"/>
          <a:stretch/>
        </p:blipFill>
        <p:spPr>
          <a:xfrm>
            <a:off x="228600" y="3808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609840"/>
          </a:xfrm>
          <a:prstGeom prst="rect">
            <a:avLst/>
          </a:prstGeom>
          <a:solidFill>
            <a:srgbClr val="ff0066"/>
          </a:solidFill>
          <a:ln w="76320">
            <a:solidFill>
              <a:srgbClr val="bdd7e5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дание на урок.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620120" cy="5715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</a:rPr>
              <a:t>Чем объяснить взлет русской культуры во 2-й половине 19 века?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Picture 4" descr="ag00317_"/>
          <p:cNvPicPr/>
          <p:nvPr/>
        </p:nvPicPr>
        <p:blipFill>
          <a:blip r:embed="rId2"/>
          <a:stretch/>
        </p:blipFill>
        <p:spPr>
          <a:xfrm>
            <a:off x="-7920" y="304920"/>
            <a:ext cx="1541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076720" y="304560"/>
            <a:ext cx="3990960" cy="6476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-я пол.19 века - время расцвета русской музыки. По инициативе М.Балакирева и М.Мусоргского возникла «Могучая кучка»(Ц.Кюи,А.Бородин, Н.Римский-Корса-ков).Ее члены стреми-лись передать «правду жизни» ии особенности национального характе-ра.Сюжеты опер «Борис Годунов»,«Хованщина»(Мусоргский), «Пскови-тянка»(Римский-Корса-ков»,«Князь Игорь»(Бо-родин) уходят корнями в русскую историю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312408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10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62120" y="685800"/>
            <a:ext cx="4043160" cy="51814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1295280" y="6019920"/>
            <a:ext cx="271152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.П.Мусоргский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23920" y="1295280"/>
            <a:ext cx="4343400" cy="5486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еличайший вклад в сокровищницу мирового музыкального искусства внес П.И.Чайковский. Его оперы «Евгений Онегин», «Пиковая дама»,балеты «Лебединое озеро», «Спящая красавица» и др. составляют гордость репертуара крупнейших театров во всем мир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конце века расцвел талант  С.Танеева, А.Глазунова, А.Лядова,А.Аренского,С.Рахманинова,А.Скрябина и д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257440" y="304560"/>
            <a:ext cx="297180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6" name="Picture 4" descr="Рисунок2"/>
          <p:cNvPicPr/>
          <p:nvPr/>
        </p:nvPicPr>
        <p:blipFill>
          <a:blip r:embed="rId2"/>
          <a:stretch/>
        </p:blipFill>
        <p:spPr>
          <a:xfrm>
            <a:off x="304920" y="228600"/>
            <a:ext cx="4241520" cy="60958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219320" y="6080040"/>
            <a:ext cx="25160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.И.Чайковский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Фотография 1860 г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9144000" cy="25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 театральных подмостках блистали оперные певцы -В.Петров, П. Хохлов, Б.Корсов, Д.Леонидова и д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громную роль в популяризации классической музыки сыграл Н. Рубинштейн. По его инициативе бы ли созданы Московское отделение Русского музыкального общества, симфонический оркестр, Московская консерватория (1866 г.), нотное книжное издательство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560" y="304920"/>
            <a:ext cx="2895480" cy="914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Музыка.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0" name="Picture 4" descr="Рисунок3"/>
          <p:cNvPicPr/>
          <p:nvPr/>
        </p:nvPicPr>
        <p:blipFill>
          <a:blip r:embed="rId2"/>
          <a:stretch/>
        </p:blipFill>
        <p:spPr>
          <a:xfrm>
            <a:off x="3276720" y="304920"/>
            <a:ext cx="5578200" cy="380844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01" name="Text Box 6"/>
          <p:cNvSpPr/>
          <p:nvPr/>
        </p:nvSpPr>
        <p:spPr>
          <a:xfrm>
            <a:off x="651240" y="1981080"/>
            <a:ext cx="232812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сковская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онсерватория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.19 века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876920" y="380520"/>
            <a:ext cx="399096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громную роль в культур ной жизни того времени играл театр. Он был не только местом развле-чений но и местом, где высказывались различ-ные общественные мне-ния,шли горячие фило-софские школы. Тетры действовали в 100 горо-дах. В 1865 г.по инициа-тиве А.островского и Н.Рубинштейна возник Артистический кружок-ставший центром теат-ральной жизни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600" y="76320"/>
            <a:ext cx="2743200" cy="914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Театр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4" name="Picture 4" descr="Рисунок4"/>
          <p:cNvPicPr/>
          <p:nvPr/>
        </p:nvPicPr>
        <p:blipFill>
          <a:blip r:embed="rId2"/>
          <a:stretch/>
        </p:blipFill>
        <p:spPr>
          <a:xfrm>
            <a:off x="609480" y="1066680"/>
            <a:ext cx="3926160" cy="495324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609480" y="6095880"/>
            <a:ext cx="3886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Памятник А.Н.Островскому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076720" y="380520"/>
            <a:ext cx="3990960" cy="6172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едущее место в развитии русского тетра сыграл Малый театр. Специально для него писал пьесы, а затем ставил их А.Островский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Петербурге блистал Мариинский теат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я пол.19 века дала целую плеяду выдающихся актеров,появились актерские династии-Садовские, Самойловы, Васильевы. «Звездой» русского театра стала М.Н.Ермолова–прима Малого театр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23623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Театр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8" name="Picture 4" descr="Рисунок5"/>
          <p:cNvPicPr/>
          <p:nvPr/>
        </p:nvPicPr>
        <p:blipFill>
          <a:blip r:embed="rId2"/>
          <a:stretch/>
        </p:blipFill>
        <p:spPr>
          <a:xfrm>
            <a:off x="685800" y="838080"/>
            <a:ext cx="3651120" cy="525780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09" name="Text Box 5"/>
          <p:cNvSpPr/>
          <p:nvPr/>
        </p:nvSpPr>
        <p:spPr>
          <a:xfrm>
            <a:off x="304920" y="6172200"/>
            <a:ext cx="4559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М.Н.Ермолова в роли Жанны д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’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Арк.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Рисунок6"/>
          <p:cNvPicPr/>
          <p:nvPr/>
        </p:nvPicPr>
        <p:blipFill>
          <a:blip r:embed="rId1"/>
          <a:stretch/>
        </p:blipFill>
        <p:spPr>
          <a:xfrm>
            <a:off x="3968640" y="693720"/>
            <a:ext cx="4924440" cy="2951280"/>
          </a:xfrm>
          <a:prstGeom prst="rect">
            <a:avLst/>
          </a:prstGeom>
          <a:ln w="76320">
            <a:solidFill>
              <a:srgbClr val="bdd7e5"/>
            </a:solidFill>
            <a:miter/>
          </a:ln>
        </p:spPr>
      </p:pic>
      <p:sp>
        <p:nvSpPr>
          <p:cNvPr id="111" name="Text Box 5"/>
          <p:cNvSpPr/>
          <p:nvPr/>
        </p:nvSpPr>
        <p:spPr>
          <a:xfrm>
            <a:off x="649800" y="1676520"/>
            <a:ext cx="1928880" cy="825480"/>
          </a:xfrm>
          <a:prstGeom prst="rect">
            <a:avLst/>
          </a:prstGeom>
          <a:solidFill>
            <a:srgbClr val="ffccff"/>
          </a:solidFill>
          <a:ln w="76320">
            <a:solidFill>
              <a:srgbClr val="bdd7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Богородская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игрушка.</a:t>
            </a:r>
            <a:endParaRPr b="1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067680" cy="313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bdd7e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явление крупной промышленности привело к исчезновению мелкого ремесленного производства и к превращению народных промыслов в отрасль искусства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Троице-Сергиевом Посаде были изготовлены символы России -матрешки и открыт промысел по производству Богородских игрушек из липы. В 1900 г. матрешки с триумфом были представлены на всемирной выставке в Париже. Местные мастера делали наборы, включавшие до 50 фигур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000000"/>
              </a:gs>
              <a:gs pos="100000">
                <a:srgbClr val="6699ff"/>
              </a:gs>
            </a:gsLst>
            <a:lin ang="5400000"/>
          </a:gradFill>
          <a:ln w="76320">
            <a:solidFill>
              <a:srgbClr val="bdd7e5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3.Художественные промыслы.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4:19:43Z</dcterms:created>
  <dc:creator>Чернов Алксей</dc:creator>
  <dc:description/>
  <dc:language>en-US</dc:language>
  <cp:lastModifiedBy>Коля</cp:lastModifiedBy>
  <dcterms:modified xsi:type="dcterms:W3CDTF">2013-03-20T19:38:29Z</dcterms:modified>
  <cp:revision>52</cp:revision>
  <dc:subject/>
  <dc:title>Презентация PowerPoint</dc:title>
</cp:coreProperties>
</file>