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9.png" ContentType="image/png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5.gif" ContentType="image/gif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13C9-8323-46BF-A81D-2FF26CFE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DE42-9F5E-4378-B85F-531C1685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8B5E-A074-4F6C-81AB-D72D5F4E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0AF1-497F-47AA-B401-675C7CE8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A2A9-A9BA-4CFB-B28E-59B7B990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3242-C2B1-40CA-B91B-C74E523F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F46A-BDAC-4F2B-98BA-0BACD821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4928-5478-4173-B9B8-1CB666F6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4966-93EE-4C0D-B2E9-4AE9327F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B55F-2DC7-40E5-9211-3B84B998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D10C-B09D-46B1-9771-0E043BFF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6E3E-7395-478C-828B-0A2FF680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0894-510E-4918-A4B9-4679A579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13A2-6B31-4520-90DA-1C3BF84F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6035-438B-49D2-B2BD-2F095BAA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941C-8706-4CB4-AD54-83628FAB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1930-7B4E-478C-BC2F-23E3CE84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E648-E618-4DFC-AB21-E28912D8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B20C-9891-4EED-93B7-1BDCA426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7AE3-1672-45BB-8063-F778D910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83FE-6F99-49AC-837F-8A6E99CD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4F6E-7EBF-4367-B825-99207E6A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D24D-5188-4746-A462-3B8E4D94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39A4-686F-42FF-9774-DF6A3966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51F3-1865-4C4A-8653-88C560111A1C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6BF3-59B7-4AC0-A697-B33A30D53E18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8"/>
          <p:cNvSpPr txBox="1"/>
          <p:nvPr/>
        </p:nvSpPr>
        <p:spPr>
          <a:xfrm>
            <a:off x="1447920" y="1219320"/>
            <a:ext cx="73692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Художественная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культура (ч.2).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076720" y="691920"/>
            <a:ext cx="3990960" cy="6089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bdd7e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селе Дымково близ Вят-ки изготавливали гли-няные игрушки-свисту-льки в виде людей,жи-вотных,птиц.Их раскра-шивали яркими анили-новыми красками.Ха-рактерной чертой дым-ковской игрушки стали пышные воротники,обо рки,яркий геометричес-кий орнамент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хранил свое своеобра-зие гжельский орна-мент-синяя роспись на белом фаянсе и фарфо-ре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bdd7e5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Художественные промыслы.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0" y="6095880"/>
            <a:ext cx="495288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bd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Цирковой козел. Дымковская игрушка.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7" name="Picture 8" descr="1"/>
          <p:cNvPicPr/>
          <p:nvPr/>
        </p:nvPicPr>
        <p:blipFill>
          <a:blip r:embed="rId2"/>
          <a:stretch/>
        </p:blipFill>
        <p:spPr>
          <a:xfrm>
            <a:off x="304920" y="762120"/>
            <a:ext cx="4311360" cy="5181480"/>
          </a:xfrm>
          <a:prstGeom prst="rect">
            <a:avLst/>
          </a:prstGeom>
          <a:ln w="76320">
            <a:solidFill>
              <a:srgbClr val="bdd7e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4266720"/>
            <a:ext cx="9067680" cy="2514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bdd7e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собое место среди народных промыслов занимает хохломская роспись. По преданию она появилась благодаря старцу-раскольнику, который прячась в монастыре начал промысел, а затем передал его секреты спасшим его мужикам. В к. 19 в. Промысел, не выдерживавший конкуренцию с фабричным производством, пережил кризис, но был спасен Ниже-городским земством и вскоре стал национальной гордостью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533160" y="75960"/>
            <a:ext cx="800100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bdd7e5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Художественные промыслы.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20" name="Picture 4" descr="Рисунок1"/>
          <p:cNvPicPr/>
          <p:nvPr/>
        </p:nvPicPr>
        <p:blipFill>
          <a:blip r:embed="rId2"/>
          <a:stretch/>
        </p:blipFill>
        <p:spPr>
          <a:xfrm>
            <a:off x="3657600" y="758880"/>
            <a:ext cx="5235480" cy="3421080"/>
          </a:xfrm>
          <a:prstGeom prst="rect">
            <a:avLst/>
          </a:prstGeom>
          <a:ln w="76320">
            <a:solidFill>
              <a:srgbClr val="bdd7e5"/>
            </a:solidFill>
            <a:miter/>
          </a:ln>
        </p:spPr>
      </p:pic>
      <p:sp>
        <p:nvSpPr>
          <p:cNvPr id="121" name="Text Box 5"/>
          <p:cNvSpPr/>
          <p:nvPr/>
        </p:nvSpPr>
        <p:spPr>
          <a:xfrm>
            <a:off x="533520" y="1905120"/>
            <a:ext cx="259236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bd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Братина.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Хохломская роспись.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05320" y="456840"/>
            <a:ext cx="312408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bdd7e5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лан урока.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620120" cy="4724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bdd7e5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</a:rPr>
              <a:t>1.Музыка.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</a:rPr>
              <a:t>2.Театр.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</a:rPr>
              <a:t>3.Художественные промыслы.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6" name="Picture 4" descr="ag00029_"/>
          <p:cNvPicPr/>
          <p:nvPr/>
        </p:nvPicPr>
        <p:blipFill>
          <a:blip r:embed="rId2"/>
          <a:stretch/>
        </p:blipFill>
        <p:spPr>
          <a:xfrm>
            <a:off x="228600" y="3808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solidFill>
            <a:srgbClr val="ff0066"/>
          </a:solidFill>
          <a:ln w="76320">
            <a:solidFill>
              <a:srgbClr val="bdd7e5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Задание на урок.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914040"/>
            <a:ext cx="7620120" cy="5715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bdd7e5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imes New Roman"/>
              </a:rPr>
              <a:t>Чем объяснить взлет русской культуры во 2-й половине 19 века?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Picture 4" descr="ag00317_"/>
          <p:cNvPicPr/>
          <p:nvPr/>
        </p:nvPicPr>
        <p:blipFill>
          <a:blip r:embed="rId2"/>
          <a:stretch/>
        </p:blipFill>
        <p:spPr>
          <a:xfrm>
            <a:off x="-7920" y="304920"/>
            <a:ext cx="1541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076720" y="304560"/>
            <a:ext cx="3990960" cy="6476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bdd7e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-я пол.19 века - время расцвета русской музыки. По инициативе М.Балакирева и М.Мусоргского возникла «Могучая кучка»(Ц.Кюи,А.Бородин, Н.Римский-Корса-ков).Ее члены стреми-лись передать «правду жизни» ии особенности национального характе-ра.Сюжеты опер «Борис Годунов»,«Хованщина»(Мусоргский), «Пскови-тянка»(Римский-Корса-ков»,«Князь Игорь»(Бо-родин) уходят корнями в русскую историю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371600" y="75960"/>
            <a:ext cx="312408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bdd7e5"/>
            </a:solidFill>
            <a:miter/>
          </a:ln>
        </p:spPr>
        <p:txBody>
          <a:bodyPr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1.Музыка.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2" name="Picture 10" descr="Рисунок1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762120" y="685800"/>
            <a:ext cx="4043160" cy="5181480"/>
          </a:xfrm>
          <a:prstGeom prst="rect">
            <a:avLst/>
          </a:prstGeom>
          <a:ln w="76320">
            <a:solidFill>
              <a:srgbClr val="bdd7e5"/>
            </a:solidFill>
            <a:miter/>
          </a:ln>
        </p:spPr>
      </p:pic>
      <p:sp>
        <p:nvSpPr>
          <p:cNvPr id="93" name="Text Box 11"/>
          <p:cNvSpPr/>
          <p:nvPr/>
        </p:nvSpPr>
        <p:spPr>
          <a:xfrm>
            <a:off x="1295280" y="6019920"/>
            <a:ext cx="2711520" cy="459720"/>
          </a:xfrm>
          <a:prstGeom prst="rect">
            <a:avLst/>
          </a:prstGeom>
          <a:solidFill>
            <a:srgbClr val="ffccff"/>
          </a:solidFill>
          <a:ln w="76320">
            <a:solidFill>
              <a:srgbClr val="bd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М.П.Мусоргский.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723920" y="1295280"/>
            <a:ext cx="4343400" cy="5486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bdd7e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еличайший вклад в сокровищницу мирового музыкального искусства внес П.И.Чайковский. Его оперы «Евгений Онегин», «Пиковая дама»,балеты «Лебединое озеро», «Спящая красавица» и др. составляют гордость репертуара крупнейших театров во всем мире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конце века расцвел талант  С.Танеева, А.Глазунова, А.Лядова,А.Аренского,С.Рахманинова,А.Скрябина и др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257440" y="304560"/>
            <a:ext cx="297180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bdd7e5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Музыка.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6" name="Picture 4" descr="Рисунок2"/>
          <p:cNvPicPr/>
          <p:nvPr/>
        </p:nvPicPr>
        <p:blipFill>
          <a:blip r:embed="rId2"/>
          <a:stretch/>
        </p:blipFill>
        <p:spPr>
          <a:xfrm>
            <a:off x="304920" y="228600"/>
            <a:ext cx="4241520" cy="6095880"/>
          </a:xfrm>
          <a:prstGeom prst="rect">
            <a:avLst/>
          </a:prstGeom>
          <a:ln w="76320">
            <a:solidFill>
              <a:srgbClr val="bdd7e5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1219320" y="6080040"/>
            <a:ext cx="251604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bd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П.И.Чайковский.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Фотография 1860 г.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4266720"/>
            <a:ext cx="9144000" cy="2514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bdd7e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а театральных подмостках блистали оперные певцы -В.Петров, П. Хохлов, Б.Корсов, Д.Леонидова и др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громную роль в популяризации классической музыки сыграл Н. Рубинштейн. По его инициативе бы ли созданы Московское отделение Русского музыкального общества, симфонический оркестр, Московская консерватория (1866 г.), нотное книжное издательство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04560" y="304920"/>
            <a:ext cx="2895480" cy="9144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bdd7e5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1.Музыка.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0" name="Picture 4" descr="Рисунок3"/>
          <p:cNvPicPr/>
          <p:nvPr/>
        </p:nvPicPr>
        <p:blipFill>
          <a:blip r:embed="rId2"/>
          <a:stretch/>
        </p:blipFill>
        <p:spPr>
          <a:xfrm>
            <a:off x="3276720" y="304920"/>
            <a:ext cx="5578200" cy="3808440"/>
          </a:xfrm>
          <a:prstGeom prst="rect">
            <a:avLst/>
          </a:prstGeom>
          <a:ln w="76320">
            <a:solidFill>
              <a:srgbClr val="bdd7e5"/>
            </a:solidFill>
            <a:miter/>
          </a:ln>
        </p:spPr>
      </p:pic>
      <p:sp>
        <p:nvSpPr>
          <p:cNvPr id="101" name="Text Box 6"/>
          <p:cNvSpPr/>
          <p:nvPr/>
        </p:nvSpPr>
        <p:spPr>
          <a:xfrm>
            <a:off x="651240" y="1981080"/>
            <a:ext cx="232812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bd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Московская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онсерватория.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.19 века.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876920" y="380520"/>
            <a:ext cx="3990960" cy="6172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bdd7e5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громную роль в культур ной жизни того времени играл театр. Он был не только местом развле-чений но и местом, где высказывались различ-ные общественные мне-ния,шли горячие фило-софские школы. Тетры действовали в 100 горо-дах. В 1865 г.по инициа-тиве А.островского и Н.Рубинштейна возник Артистический кружок-ставший центром теат-ральной жизни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371600" y="76320"/>
            <a:ext cx="2743200" cy="9144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bdd7e5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2.Театр.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4" name="Picture 4" descr="Рисунок4"/>
          <p:cNvPicPr/>
          <p:nvPr/>
        </p:nvPicPr>
        <p:blipFill>
          <a:blip r:embed="rId2"/>
          <a:stretch/>
        </p:blipFill>
        <p:spPr>
          <a:xfrm>
            <a:off x="609480" y="1066680"/>
            <a:ext cx="3926160" cy="4953240"/>
          </a:xfrm>
          <a:prstGeom prst="rect">
            <a:avLst/>
          </a:prstGeom>
          <a:ln w="76320">
            <a:solidFill>
              <a:srgbClr val="bdd7e5"/>
            </a:solidFill>
            <a:miter/>
          </a:ln>
        </p:spPr>
      </p:pic>
      <p:sp>
        <p:nvSpPr>
          <p:cNvPr id="105" name="Text Box 5"/>
          <p:cNvSpPr/>
          <p:nvPr/>
        </p:nvSpPr>
        <p:spPr>
          <a:xfrm>
            <a:off x="609480" y="6095880"/>
            <a:ext cx="38862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bd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Памятник А.Н.Островскому.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076720" y="380520"/>
            <a:ext cx="3990960" cy="6172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bdd7e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едущее место в развитии русского тетра сыграл Малый театр. Специально для него писал пьесы, а затем ставил их А.Островский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Петербурге блистал Мариинский театр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я пол.19 века дала целую плеяду выдающихся актеров,появились актерские династии-Садовские, Самойловы, Васильевы. «Звездой» русского театра стала М.Н.Ермолова–прима Малого театра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371600" y="75960"/>
            <a:ext cx="236232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bdd7e5"/>
            </a:solidFill>
            <a:miter/>
          </a:ln>
        </p:spPr>
        <p:txBody>
          <a:bodyPr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2.Театр.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8" name="Picture 4" descr="Рисунок5"/>
          <p:cNvPicPr/>
          <p:nvPr/>
        </p:nvPicPr>
        <p:blipFill>
          <a:blip r:embed="rId2"/>
          <a:stretch/>
        </p:blipFill>
        <p:spPr>
          <a:xfrm>
            <a:off x="685800" y="838080"/>
            <a:ext cx="3651120" cy="5257800"/>
          </a:xfrm>
          <a:prstGeom prst="rect">
            <a:avLst/>
          </a:prstGeom>
          <a:ln w="76320">
            <a:solidFill>
              <a:srgbClr val="bdd7e5"/>
            </a:solidFill>
            <a:miter/>
          </a:ln>
        </p:spPr>
      </p:pic>
      <p:sp>
        <p:nvSpPr>
          <p:cNvPr id="109" name="Text Box 5"/>
          <p:cNvSpPr/>
          <p:nvPr/>
        </p:nvSpPr>
        <p:spPr>
          <a:xfrm>
            <a:off x="304920" y="6172200"/>
            <a:ext cx="45590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bd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М.Н.Ермолова в роли Жанны д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’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Арк.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Рисунок6"/>
          <p:cNvPicPr/>
          <p:nvPr/>
        </p:nvPicPr>
        <p:blipFill>
          <a:blip r:embed="rId1"/>
          <a:stretch/>
        </p:blipFill>
        <p:spPr>
          <a:xfrm>
            <a:off x="3968640" y="693720"/>
            <a:ext cx="4924440" cy="2951280"/>
          </a:xfrm>
          <a:prstGeom prst="rect">
            <a:avLst/>
          </a:prstGeom>
          <a:ln w="76320">
            <a:solidFill>
              <a:srgbClr val="bdd7e5"/>
            </a:solidFill>
            <a:miter/>
          </a:ln>
        </p:spPr>
      </p:pic>
      <p:sp>
        <p:nvSpPr>
          <p:cNvPr id="111" name="Text Box 5"/>
          <p:cNvSpPr/>
          <p:nvPr/>
        </p:nvSpPr>
        <p:spPr>
          <a:xfrm>
            <a:off x="649800" y="1676520"/>
            <a:ext cx="192888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bd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Богородская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грушка.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3644640"/>
            <a:ext cx="9067680" cy="31366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bdd7e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оявление крупной промышленности привело к исчезновению мелкого ремесленного производства и к превращению народных промыслов в отрасль искусства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Троице-Сергиевом Посаде были изготовлены символы России -матрешки и открыт промысел по производству Богородских игрушек из липы. В 1900 г. матрешки с триумфом были представлены на всемирной выставке в Париже. Местные мастера делали наборы, включавшие до 50 фигур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bdd7e5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Художественные промыслы.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8T04:19:43Z</dcterms:created>
  <dc:creator>Чернов Алксей</dc:creator>
  <dc:description/>
  <dc:language>en-US</dc:language>
  <cp:lastModifiedBy>Коля</cp:lastModifiedBy>
  <dcterms:modified xsi:type="dcterms:W3CDTF">2013-03-20T19:38:29Z</dcterms:modified>
  <cp:revision>52</cp:revision>
  <dc:subject/>
  <dc:title>Презентация PowerPoint</dc:title>
</cp:coreProperties>
</file>