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9.png" ContentType="image/pn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5.gif" ContentType="image/gif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661-B2FF-48F4-869E-46A2ED84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119-F1A8-4824-BECB-36726CAC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180-43AD-4994-BCC6-74ED386E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B3D-43B1-4E31-A679-E851FC9C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2C4A-46DF-40CC-B444-95852376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72B8-7F7E-413B-8393-D549C9D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6954-DFC9-43C1-8AD3-3A33C119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AA8A-7501-435B-A8F1-4446601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D15D-7B93-4D11-AB62-7F8BBFF9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815A-C835-4CB4-8562-284C862F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855E-B978-4682-B268-6FC9239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CBF-DD9D-4784-BCB5-6D30B602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627D-60DF-483F-8F2C-0670051A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5C94-5790-4DB5-BF5E-A4ADB54A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5EDE-FCF2-4DF3-83C3-2B97206E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CE6C-5373-41F1-B02E-D0A6D6A6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53DD-DE30-4ADE-960C-83C35DEE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9B6-A337-41A2-98ED-10967C3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44C-33E9-45F1-9205-3A5ED200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353-EEAC-4176-97C6-AF053D16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654-983A-4F8E-A4D3-BB2D801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ECD-A352-4C05-BE02-E2CCA8E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EA6-ECD2-40AB-BB35-B931A8A4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07B-76B1-403F-A83C-E4E1571B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3130-D922-4A86-A558-B53992AB413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100-C4B3-4037-B5D1-C00C487652B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1447920" y="1219320"/>
            <a:ext cx="73692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Художественная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ультура (ч.2)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76720" y="691920"/>
            <a:ext cx="3990960" cy="6089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селе Дымково близ Вят-ки изготавливали гли-няные игрушки-свисту-льки в виде людей,жи-вотных,птиц.Их раскра-шивали яркими анили-новыми красками.Ха-рактерной чертой дым-ковской игрушки стали пышные воротники,обо рки,яркий геометричес-кий орнамент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хранил свое своеобра-зие гжельский орна-мент-синяя роспись на белом фаянсе и фарфо-ре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6095880"/>
            <a:ext cx="49528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Цирковой козел. Дымковская игрушка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8" descr="1"/>
          <p:cNvPicPr/>
          <p:nvPr/>
        </p:nvPicPr>
        <p:blipFill>
          <a:blip r:embed="rId2"/>
          <a:stretch/>
        </p:blipFill>
        <p:spPr>
          <a:xfrm>
            <a:off x="304920" y="762120"/>
            <a:ext cx="4311360" cy="51814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067680" cy="25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обое место среди народных промыслов занимает хохломская роспись. По преданию она появилась благодаря старцу-раскольнику, который прячась в монастыре начал промысел, а затем передал его секреты спасшим его мужикам. В к. 19 в. Промысел, не выдерживавший конкуренцию с фабричным производством, пережил кризис, но был спасен Ниже-городским земством и вскоре стал национальной гордостью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0" name="Picture 4" descr="Рисунок1"/>
          <p:cNvPicPr/>
          <p:nvPr/>
        </p:nvPicPr>
        <p:blipFill>
          <a:blip r:embed="rId2"/>
          <a:stretch/>
        </p:blipFill>
        <p:spPr>
          <a:xfrm>
            <a:off x="3657600" y="758880"/>
            <a:ext cx="5235480" cy="34210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533520" y="1905120"/>
            <a:ext cx="25923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Братина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Хохломская роспись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05320" y="456840"/>
            <a:ext cx="312408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724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2.Театр.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6" name="Picture 4" descr="ag00029_"/>
          <p:cNvPicPr/>
          <p:nvPr/>
        </p:nvPicPr>
        <p:blipFill>
          <a:blip r:embed="rId2"/>
          <a:stretch/>
        </p:blipFill>
        <p:spPr>
          <a:xfrm>
            <a:off x="228600" y="3808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solidFill>
            <a:srgbClr val="ff0066"/>
          </a:solidFill>
          <a:ln w="76320">
            <a:solidFill>
              <a:srgbClr val="bdd7e5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Чем объяснить взлет русской культуры во 2-й половине 19 века?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Picture 4" descr="ag00317_"/>
          <p:cNvPicPr/>
          <p:nvPr/>
        </p:nvPicPr>
        <p:blipFill>
          <a:blip r:embed="rId2"/>
          <a:stretch/>
        </p:blipFill>
        <p:spPr>
          <a:xfrm>
            <a:off x="-7920" y="304920"/>
            <a:ext cx="1541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076720" y="304560"/>
            <a:ext cx="3990960" cy="6476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-я пол.19 века - время расцвета русской музыки. По инициативе М.Балакирева и М.Мусоргского возникла «Могучая кучка»(Ц.Кюи,А.Бородин, Н.Римский-Корса-ков).Ее члены стреми-лись передать «правду жизни» ии особенности национального характе-ра.Сюжеты опер «Борис Годунов»,«Хованщина»(Мусоргский), «Пскови-тянка»(Римский-Корса-ков»,«Князь Игорь»(Бо-родин) уходят корнями в русскую историю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312408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10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62120" y="685800"/>
            <a:ext cx="4043160" cy="51814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1295280" y="6019920"/>
            <a:ext cx="271152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.П.Мусоргский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3920" y="1295280"/>
            <a:ext cx="4343400" cy="5486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еличайший вклад в сокровищницу мирового музыкального искусства внес П.И.Чайковский. Его оперы «Евгений Онегин», «Пиковая дама»,балеты «Лебединое озеро», «Спящая красавица» и др. составляют гордость репертуара крупнейших театров во всем мир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онце века расцвел талант  С.Танеева, А.Глазунова, А.Лядова,А.Аренского,С.Рахманинова,А.Скрябина и д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257440" y="304560"/>
            <a:ext cx="297180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6" name="Picture 4" descr="Рисунок2"/>
          <p:cNvPicPr/>
          <p:nvPr/>
        </p:nvPicPr>
        <p:blipFill>
          <a:blip r:embed="rId2"/>
          <a:stretch/>
        </p:blipFill>
        <p:spPr>
          <a:xfrm>
            <a:off x="304920" y="228600"/>
            <a:ext cx="4241520" cy="60958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219320" y="6080040"/>
            <a:ext cx="25160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.И.Чайковский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Фотография 1860 г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144000" cy="25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театральных подмостках блистали оперные певцы -В.Петров, П. Хохлов, Б.Корсов, Д.Леонидова и д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громную роль в популяризации классической музыки сыграл Н. Рубинштейн. По его инициативе бы ли созданы Московское отделение Русского музыкального общества, симфонический оркестр, Московская консерватория (1866 г.), нотное книжное издательство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289548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0" name="Picture 4" descr="Рисунок3"/>
          <p:cNvPicPr/>
          <p:nvPr/>
        </p:nvPicPr>
        <p:blipFill>
          <a:blip r:embed="rId2"/>
          <a:stretch/>
        </p:blipFill>
        <p:spPr>
          <a:xfrm>
            <a:off x="3276720" y="304920"/>
            <a:ext cx="5578200" cy="380844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01" name="Text Box 6"/>
          <p:cNvSpPr/>
          <p:nvPr/>
        </p:nvSpPr>
        <p:spPr>
          <a:xfrm>
            <a:off x="651240" y="1981080"/>
            <a:ext cx="23281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сковская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серватория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.19 века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876920" y="380520"/>
            <a:ext cx="399096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громную роль в культур ной жизни того времени играл театр. Он был не только местом развле-чений но и местом, где высказывались различ-ные общественные мне-ния,шли горячие фило-софские школы. Тетры действовали в 100 горо-дах. В 1865 г.по инициа-тиве А.островского и Н.Рубинштейна возник Артистический кружок-ставший центром теат-ральной жизн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600" y="76320"/>
            <a:ext cx="274320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Театр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4" name="Picture 4" descr="Рисунок4"/>
          <p:cNvPicPr/>
          <p:nvPr/>
        </p:nvPicPr>
        <p:blipFill>
          <a:blip r:embed="rId2"/>
          <a:stretch/>
        </p:blipFill>
        <p:spPr>
          <a:xfrm>
            <a:off x="609480" y="1066680"/>
            <a:ext cx="3926160" cy="495324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609480" y="6095880"/>
            <a:ext cx="3886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амятник А.Н.Островскому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076720" y="380520"/>
            <a:ext cx="399096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едущее место в развитии русского тетра сыграл Малый театр. Специально для него писал пьесы, а затем ставил их А.Островски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тербурге блистал Мариинский теат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я пол.19 века дала целую плеяду выдающихся актеров,появились актерские династии-Садовские, Самойловы, Васильевы. «Звездой» русского театра стала М.Н.Ермолова–прима Малого театр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23623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Театр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8" name="Picture 4" descr="Рисунок5"/>
          <p:cNvPicPr/>
          <p:nvPr/>
        </p:nvPicPr>
        <p:blipFill>
          <a:blip r:embed="rId2"/>
          <a:stretch/>
        </p:blipFill>
        <p:spPr>
          <a:xfrm>
            <a:off x="685800" y="838080"/>
            <a:ext cx="3651120" cy="525780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09" name="Text Box 5"/>
          <p:cNvSpPr/>
          <p:nvPr/>
        </p:nvSpPr>
        <p:spPr>
          <a:xfrm>
            <a:off x="304920" y="6172200"/>
            <a:ext cx="4559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М.Н.Ермолова в роли Жанны д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’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Арк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Рисунок6"/>
          <p:cNvPicPr/>
          <p:nvPr/>
        </p:nvPicPr>
        <p:blipFill>
          <a:blip r:embed="rId1"/>
          <a:stretch/>
        </p:blipFill>
        <p:spPr>
          <a:xfrm>
            <a:off x="3968640" y="693720"/>
            <a:ext cx="4924440" cy="29512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11" name="Text Box 5"/>
          <p:cNvSpPr/>
          <p:nvPr/>
        </p:nvSpPr>
        <p:spPr>
          <a:xfrm>
            <a:off x="649800" y="1676520"/>
            <a:ext cx="192888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Богородская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грушка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067680" cy="313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явление крупной промышленности привело к исчезновению мелкого ремесленного производства и к превращению народных промыслов в отрасль искусств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Троице-Сергиевом Посаде были изготовлены символы России -матрешки и открыт промысел по производству Богородских игрушек из липы. В 1900 г. матрешки с триумфом были представлены на всемирной выставке в Париже. Местные мастера делали наборы, включавшие до 50 фигур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4:19:43Z</dcterms:created>
  <dc:creator>Чернов Алксей</dc:creator>
  <dc:description/>
  <dc:language>en-US</dc:language>
  <cp:lastModifiedBy>Коля</cp:lastModifiedBy>
  <dcterms:modified xsi:type="dcterms:W3CDTF">2013-03-20T19:38:29Z</dcterms:modified>
  <cp:revision>52</cp:revision>
  <dc:subject/>
  <dc:title>Презентация PowerPoint</dc:title>
</cp:coreProperties>
</file>