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BA7D-9332-4579-8FDF-047C01D5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02813-196C-4E75-A397-D0E35A9E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0C28-F7CC-4844-A630-436CB3F9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6503-9BF9-402E-8FCA-384FE88B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6337-DC04-4193-ABF4-5776409F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9CCF-0D89-455A-878A-6E07D56F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7574-B954-4D90-8AE8-FFEAD2E7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589D-D631-4E69-AAEF-49F2BEEB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9BA-1BB2-4385-B4A9-4D915939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39D8-9FD7-499E-BD05-9F27E021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7BB9-C641-42D5-973F-F9EB38F8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1791-73D1-4486-9D37-E0F40C5E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624B-8097-49ED-AACA-02E27BBC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0422-95F0-4E5C-8BB8-B98F97BA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3CEB-C026-4840-81FD-F9C13C23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6E7F-9EFA-4A17-A5A0-17BB790E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6E51-45A6-4189-8A11-8B29CBEA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1AC1-EE96-4D6F-A321-A243BD60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97A5-4D81-472D-B7EE-16E0A2C3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29FB-9450-4F56-A920-D9B16483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8A02-186D-4AB2-94D2-D579786C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E8A5-931C-447F-9F1D-26B6E143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550E-2D7C-4870-AB02-5FE9D4C7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57A6-9B0B-4885-B592-E95758CF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440-E2A2-46A6-9A97-AF879FC2D4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A60D-F883-4D39-83FE-048419D7DC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8dec6"/>
                </a:solidFill>
                <a:latin typeface="Tahoma"/>
              </a:rPr>
              <a:t>Что значит современность в музыке?</a:t>
            </a:r>
            <a:endParaRPr b="0" lang="en-US" sz="66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63640" y="4724280"/>
            <a:ext cx="3457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ок музы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Иоганн Себастьян БАХ</a:t>
            </a:r>
            <a:br>
              <a:rPr sz="3800"/>
            </a:b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1685 - 1750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41" name="Picture 6" descr="Graphic1"/>
          <p:cNvPicPr/>
          <p:nvPr/>
        </p:nvPicPr>
        <p:blipFill>
          <a:blip r:embed="rId1"/>
          <a:stretch/>
        </p:blipFill>
        <p:spPr>
          <a:xfrm>
            <a:off x="2773440" y="1600200"/>
            <a:ext cx="35971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скусство Баха и учит, и радует, и заставляет думать, и утешает. В нём столько мудрости и веры в жизнь, столько человеческой и сердечной простоты, что, вероятно, ему суждено ещё привлекать к себе цепь будущих поко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хл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Graphic1"/>
          <p:cNvPicPr/>
          <p:nvPr/>
        </p:nvPicPr>
        <p:blipFill>
          <a:blip r:embed="rId1"/>
          <a:stretch/>
        </p:blipFill>
        <p:spPr>
          <a:xfrm>
            <a:off x="4118040" y="277920"/>
            <a:ext cx="906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fgj"/>
          <p:cNvPicPr/>
          <p:nvPr/>
        </p:nvPicPr>
        <p:blipFill>
          <a:blip r:embed="rId1"/>
          <a:stretch/>
        </p:blipFill>
        <p:spPr>
          <a:xfrm>
            <a:off x="2411280" y="333360"/>
            <a:ext cx="427356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nhe,rf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Людвиг ван БЕТХОВЕН</a:t>
            </a:r>
            <a:br>
              <a:rPr sz="3800"/>
            </a:b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Соната № 14 (Лунная)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лушайтесь в неё не только своим слухом, но и всем сердц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.Б. Кабале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20" descr="портрет Бетховена"/>
          <p:cNvPicPr/>
          <p:nvPr/>
        </p:nvPicPr>
        <p:blipFill>
          <a:blip r:embed="rId1"/>
          <a:stretch/>
        </p:blipFill>
        <p:spPr>
          <a:xfrm>
            <a:off x="681120" y="1936800"/>
            <a:ext cx="33861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b8dec6"/>
                </a:solidFill>
                <a:latin typeface="Tahoma"/>
              </a:rPr>
              <a:t>Многое меняется, сердце остаётся одно.</a:t>
            </a:r>
            <a:br>
              <a:rPr sz="5000"/>
            </a:br>
            <a:r>
              <a:rPr b="0" lang="ru-RU" sz="5000" spc="-1" strike="noStrike">
                <a:solidFill>
                  <a:srgbClr val="b8dec6"/>
                </a:solidFill>
                <a:latin typeface="Tahoma"/>
              </a:rPr>
              <a:t>           </a:t>
            </a:r>
            <a:br>
              <a:rPr sz="5000"/>
            </a:br>
            <a:r>
              <a:rPr b="0" lang="ru-RU" sz="5000" spc="-1" strike="noStrike">
                <a:solidFill>
                  <a:srgbClr val="b8dec6"/>
                </a:solidFill>
                <a:latin typeface="Tahoma"/>
              </a:rPr>
              <a:t>           Ф.М. Достоевский</a:t>
            </a:r>
            <a:endParaRPr b="0" lang="en-US" sz="5000" spc="-1" strike="noStrike">
              <a:solidFill>
                <a:srgbClr val="b8dec6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юдям нужны все виды музыки – от простого напева свирели до звучания огромного симфонического оркестра, от незатейливой популярной песенки до Бетховенских сона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Д. Шостак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кто-то проживёт свою жизнь, так и не познав всей красоты и богатства музыки Баха и Моцарта, Бетховена и Шопена, … - не станут от этого меньше ни Бах, ни Моцарт, ни Бетховен, ни Шопен…Они останутся такими же великими и могучими. А вот тот, кто пройдёт мимо них и не прикоснётся к их искусству, потеряет много, очень мног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.Б. Кабалев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облемные вопросы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205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05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Сегодня на уроке меня удивило то, что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Мне понравилось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Я не соглашусь с теми, кто считает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Мне кажется, что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Теперь я знаю точно, что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8dec6"/>
                </a:solidFill>
                <a:latin typeface="Tahoma"/>
              </a:rPr>
              <a:t>Проблемные вопросы:</a:t>
            </a:r>
            <a:br>
              <a:rPr sz="3800"/>
            </a:b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Домашнее задание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йти дополнительную информацию о рок-группах, работающих в направлении арт-ро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Tahoma"/>
              </a:rPr>
              <a:t>Всех благодарю за работу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менно музыка призвана        пробуждать лучшее, что есть в человек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. Щедри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облемные вопросы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age3"/>
          <p:cNvPicPr/>
          <p:nvPr/>
        </p:nvPicPr>
        <p:blipFill>
          <a:blip r:embed="rId1"/>
          <a:stretch/>
        </p:blipFill>
        <p:spPr>
          <a:xfrm>
            <a:off x="324000" y="549360"/>
            <a:ext cx="83311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doncossacks"/>
          <p:cNvPicPr/>
          <p:nvPr/>
        </p:nvPicPr>
        <p:blipFill>
          <a:blip r:embed="rId1"/>
          <a:stretch/>
        </p:blipFill>
        <p:spPr>
          <a:xfrm>
            <a:off x="611280" y="404640"/>
            <a:ext cx="821664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b8dec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b8dec6"/>
                </a:solidFill>
                <a:latin typeface="Tahoma"/>
              </a:rPr>
              <a:t>Современна ли </a:t>
            </a:r>
            <a:r>
              <a:rPr b="1" i="1" lang="ru-RU" sz="3800" spc="-1" strike="noStrike">
                <a:solidFill>
                  <a:srgbClr val="b8dec6"/>
                </a:solidFill>
                <a:latin typeface="Tahoma"/>
              </a:rPr>
              <a:t>народная песня</a:t>
            </a:r>
            <a:r>
              <a:rPr b="0" i="1" lang="ru-RU" sz="3800" spc="-1" strike="noStrike">
                <a:solidFill>
                  <a:srgbClr val="b8dec6"/>
                </a:solidFill>
                <a:latin typeface="Tahoma"/>
              </a:rPr>
              <a:t>?</a:t>
            </a:r>
            <a:br>
              <a:rPr sz="3800"/>
            </a:br>
            <a:r>
              <a:rPr b="0" i="1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усская народная пес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Слово мама дорого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сполняет семейный дуэт «Хме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облемные вопросы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Organ"/>
          <p:cNvPicPr/>
          <p:nvPr/>
        </p:nvPicPr>
        <p:blipFill>
          <a:blip r:embed="rId1"/>
          <a:stretch/>
        </p:blipFill>
        <p:spPr>
          <a:xfrm>
            <a:off x="2195640" y="-2700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9:17:28Z</dcterms:created>
  <dc:creator>PUTNIK</dc:creator>
  <dc:description/>
  <dc:language>en-US</dc:language>
  <cp:lastModifiedBy>Коля</cp:lastModifiedBy>
  <dcterms:modified xsi:type="dcterms:W3CDTF">2013-03-20T19:38:09Z</dcterms:modified>
  <cp:revision>19</cp:revision>
  <dc:subject/>
  <dc:title>Что значит современность в музыке?</dc:title>
</cp:coreProperties>
</file>