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C29A-C8B2-4932-940D-DBC580A7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4EF1-E384-4819-80D0-69BA59C3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C253-A2F3-43E7-AC25-DB068C18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DCB0-46B9-4198-B199-E2A813D3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2004-8800-4274-936A-1C47899A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7A3D-29F7-4272-A765-D1D116FE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897E-D208-4A1D-A54A-F8468101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F576-5E40-4729-A142-2177A8CF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DBAD-0318-4CCE-9B4F-444CB8FA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7CE0-6542-42D5-94C1-16DBF719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08FE-A015-4558-9915-F28B4E78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DF46-2ECD-413D-92D9-DCFFD9BE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08AA-26DE-47EE-9E2B-A9C055FB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F516-EA03-434E-BC41-B4057C7F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C18B-2B8A-4ECE-AB30-31BF2B01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15B-F6F9-46F1-B6E4-FD12F56D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E9AA-B7E8-41F0-9B80-0C9A3926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D46C-0205-4D97-A10E-D60D1715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CE12-3622-4513-9ED1-BDB96754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FF7A-9668-4897-81EC-3A6EF0A2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18AB-F5A4-4857-B2BC-EA31D031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0805-3F6A-43B2-B9BE-1ADCC9A5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C710-7584-400C-B271-6F80CBB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BBBB-63C5-4619-8912-AA54518B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46A5-F212-493B-8E3F-86EA9442E4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f5c5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5856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85250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a6563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85755"/>
                </a:gs>
                <a:gs pos="100000">
                  <a:srgbClr val="00525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AEAC-6212-48F4-AD79-C6AFDCEC00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8dec6"/>
                </a:solidFill>
                <a:latin typeface="Tahoma"/>
              </a:rPr>
              <a:t>Что значит современность в музыке?</a:t>
            </a:r>
            <a:endParaRPr b="0" lang="en-US" sz="66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63640" y="4724280"/>
            <a:ext cx="3457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 музы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Иоганн Себастьян БАХ</a:t>
            </a:r>
            <a:br>
              <a:rPr sz="3800"/>
            </a:b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1685 - 1750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41" name="Picture 6" descr="Graphic1"/>
          <p:cNvPicPr/>
          <p:nvPr/>
        </p:nvPicPr>
        <p:blipFill>
          <a:blip r:embed="rId1"/>
          <a:stretch/>
        </p:blipFill>
        <p:spPr>
          <a:xfrm>
            <a:off x="2773440" y="1600200"/>
            <a:ext cx="35971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скусство Баха и учит, и радует, и заставляет думать, и утешает. В нём столько мудрости и веры в жизнь, столько человеческой и сердечной простоты, что, вероятно, ему суждено ещё привлекать к себе цепь будущих поко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хл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Graphic1"/>
          <p:cNvPicPr/>
          <p:nvPr/>
        </p:nvPicPr>
        <p:blipFill>
          <a:blip r:embed="rId1"/>
          <a:stretch/>
        </p:blipFill>
        <p:spPr>
          <a:xfrm>
            <a:off x="4118040" y="277920"/>
            <a:ext cx="90648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gj"/>
          <p:cNvPicPr/>
          <p:nvPr/>
        </p:nvPicPr>
        <p:blipFill>
          <a:blip r:embed="rId1"/>
          <a:stretch/>
        </p:blipFill>
        <p:spPr>
          <a:xfrm>
            <a:off x="2411280" y="333360"/>
            <a:ext cx="427356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nhe,rf"/>
          <p:cNvPicPr/>
          <p:nvPr/>
        </p:nvPicPr>
        <p:blipFill>
          <a:blip r:embed="rId1"/>
          <a:stretch/>
        </p:blipFill>
        <p:spPr>
          <a:xfrm>
            <a:off x="197964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Людвиг ван БЕТХОВЕН</a:t>
            </a:r>
            <a:br>
              <a:rPr sz="3800"/>
            </a:b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Соната № 14 (Лунная)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лушайтесь в неё не только своим слухом, но и всем сердц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20" descr="портрет Бетховена"/>
          <p:cNvPicPr/>
          <p:nvPr/>
        </p:nvPicPr>
        <p:blipFill>
          <a:blip r:embed="rId1"/>
          <a:stretch/>
        </p:blipFill>
        <p:spPr>
          <a:xfrm>
            <a:off x="681120" y="1936800"/>
            <a:ext cx="33861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b8dec6"/>
                </a:solidFill>
                <a:latin typeface="Tahoma"/>
              </a:rPr>
              <a:t>Многое меняется, сердце остаётся одно.</a:t>
            </a:r>
            <a:br>
              <a:rPr sz="5000"/>
            </a:br>
            <a:r>
              <a:rPr b="0" lang="ru-RU" sz="5000" spc="-1" strike="noStrike">
                <a:solidFill>
                  <a:srgbClr val="b8dec6"/>
                </a:solidFill>
                <a:latin typeface="Tahoma"/>
              </a:rPr>
              <a:t>           </a:t>
            </a:r>
            <a:br>
              <a:rPr sz="5000"/>
            </a:br>
            <a:r>
              <a:rPr b="0" lang="ru-RU" sz="5000" spc="-1" strike="noStrike">
                <a:solidFill>
                  <a:srgbClr val="b8dec6"/>
                </a:solidFill>
                <a:latin typeface="Tahoma"/>
              </a:rPr>
              <a:t>           Ф.М. Достоевский</a:t>
            </a:r>
            <a:endParaRPr b="0" lang="en-US" sz="5000" spc="-1" strike="noStrike">
              <a:solidFill>
                <a:srgbClr val="b8dec6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юдям нужны все виды музыки – от простого напева свирели до звучания огромного симфонического оркестра, от незатейливой популярной песенки до Бетховенских сона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Д. Шостак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кто-то проживёт свою жизнь, так и не познав всей красоты и богатства музыки Баха и Моцарта, Бетховена и Шопена, … - не станут от этого меньше ни Бах, ни Моцарт, ни Бетховен, ни Шопен…Они останутся такими же великими и могучими. А вот тот, кто пройдёт мимо них и не прикоснётся к их искусству, потеряет много, очень много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.Б. Кабалев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205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055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Сегодня на уроке меня удивило то, что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Мне понравилось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Я не соглашусь с теми, кто считает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Мне кажется, что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05560" indent="-205560">
              <a:lnSpc>
                <a:spcPct val="80000"/>
              </a:lnSpc>
              <a:spcBef>
                <a:spcPts val="751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Теперь я знаю точно, что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8dec6"/>
                </a:solidFill>
                <a:latin typeface="Tahoma"/>
              </a:rPr>
              <a:t>Проблемные вопросы:</a:t>
            </a:r>
            <a:br>
              <a:rPr sz="3800"/>
            </a:b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e0a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йти дополнительную информацию о рок-группах, работающих в направлении арт-ро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Tahoma"/>
              </a:rPr>
              <a:t>Всех благодарю за работу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менно музыка призвана        пробуждать лучшее, что есть в человек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. Щедри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image3"/>
          <p:cNvPicPr/>
          <p:nvPr/>
        </p:nvPicPr>
        <p:blipFill>
          <a:blip r:embed="rId1"/>
          <a:stretch/>
        </p:blipFill>
        <p:spPr>
          <a:xfrm>
            <a:off x="324000" y="549360"/>
            <a:ext cx="83311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doncossacks"/>
          <p:cNvPicPr/>
          <p:nvPr/>
        </p:nvPicPr>
        <p:blipFill>
          <a:blip r:embed="rId1"/>
          <a:stretch/>
        </p:blipFill>
        <p:spPr>
          <a:xfrm>
            <a:off x="611280" y="404640"/>
            <a:ext cx="82166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b8dec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b8dec6"/>
                </a:solidFill>
                <a:latin typeface="Tahoma"/>
              </a:rPr>
              <a:t>Современна ли </a:t>
            </a:r>
            <a:r>
              <a:rPr b="1" i="1" lang="ru-RU" sz="3800" spc="-1" strike="noStrike">
                <a:solidFill>
                  <a:srgbClr val="b8dec6"/>
                </a:solidFill>
                <a:latin typeface="Tahoma"/>
              </a:rPr>
              <a:t>народная песня</a:t>
            </a:r>
            <a:r>
              <a:rPr b="0" i="1" lang="ru-RU" sz="3800" spc="-1" strike="noStrike">
                <a:solidFill>
                  <a:srgbClr val="b8dec6"/>
                </a:solidFill>
                <a:latin typeface="Tahoma"/>
              </a:rPr>
              <a:t>?</a:t>
            </a:r>
            <a:br>
              <a:rPr sz="3800"/>
            </a:br>
            <a:r>
              <a:rPr b="0" i="1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усская народная пес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Слово мама дорого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сполняет семейный дуэт «Хме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облемные вопросы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т ли быть классической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овременная музыка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овременна ли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родная песня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ем ли мы воспринимать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омпозиторов прошлых эпох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как своих современн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Organ"/>
          <p:cNvPicPr/>
          <p:nvPr/>
        </p:nvPicPr>
        <p:blipFill>
          <a:blip r:embed="rId1"/>
          <a:stretch/>
        </p:blipFill>
        <p:spPr>
          <a:xfrm>
            <a:off x="2195640" y="-2700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17:28Z</dcterms:created>
  <dc:creator>PUTNIK</dc:creator>
  <dc:description/>
  <dc:language>en-US</dc:language>
  <cp:lastModifiedBy>Коля</cp:lastModifiedBy>
  <dcterms:modified xsi:type="dcterms:W3CDTF">2013-03-20T19:38:09Z</dcterms:modified>
  <cp:revision>19</cp:revision>
  <dc:subject/>
  <dc:title>Что значит современность в музыке?</dc:title>
</cp:coreProperties>
</file>