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7D30B-8AC5-4C2E-8C8D-FD232297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179D2-DDF6-4006-A892-BDE9B797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E791-9FF5-47AE-A49A-2EA7382D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45600-C186-435B-B85C-BB9A372E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99E1-C15C-48F9-A46A-56D5F070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C104-8CD6-4C22-8695-BF94E908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7F17-7DC8-4E4B-BBDC-2F10EB5F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F06B-C815-45A4-BD7F-482A07B6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8ED7-5A0E-4BB3-A97D-91E0A8FF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AFE4-9A6A-432A-9609-7830A871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C469-66EC-4297-984A-12BBE997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D6FF-AE68-46A7-90F1-966B02D8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13CC-83C8-4DA2-8E93-4226B6C4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A430-8A0F-4B0A-A620-13D5FE12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5694-DD5C-49C0-AE2A-2DD874FB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501E-12A7-457E-9BCB-9B1171B8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5C71-F5E9-4B91-A18C-BA40BD54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8C1A8-D2E0-493F-A6DF-C4B22F5F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CE662-8600-4DF4-A514-A8BD656B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B2BDE-71A9-4977-95DD-AB762295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157BC-6864-4ED3-9477-172D10CE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BFE42-20C8-4181-ADD8-7EB764E0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83DC4-D1EF-4136-B903-A46F8164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A8303-17DB-4D6D-9C54-5347379C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f5c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5856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85250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85755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07DF-764E-427E-A168-D8B16E0E39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f5c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5856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85250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85755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B61A-EB63-406F-809C-21D40FEB940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b8dec6"/>
                </a:solidFill>
                <a:latin typeface="Tahoma"/>
              </a:rPr>
              <a:t>Что значит современность в музыке?</a:t>
            </a:r>
            <a:endParaRPr b="0" lang="en-US" sz="66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63640" y="4724280"/>
            <a:ext cx="34578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рок музы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 кла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Иоганн Себастьян БАХ</a:t>
            </a:r>
            <a:br>
              <a:rPr sz="3800"/>
            </a:b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1685 - 1750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pic>
        <p:nvPicPr>
          <p:cNvPr id="141" name="Picture 6" descr="Graphic1"/>
          <p:cNvPicPr/>
          <p:nvPr/>
        </p:nvPicPr>
        <p:blipFill>
          <a:blip r:embed="rId1"/>
          <a:stretch/>
        </p:blipFill>
        <p:spPr>
          <a:xfrm>
            <a:off x="2773440" y="1600200"/>
            <a:ext cx="35971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скусство Баха и учит, и радует, и заставляет думать, и утешает. В нём столько мудрости и веры в жизнь, столько человеческой и сердечной простоты, что, вероятно, ему суждено ещё привлекать к себе цепь будущих покол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хл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Graphic1"/>
          <p:cNvPicPr/>
          <p:nvPr/>
        </p:nvPicPr>
        <p:blipFill>
          <a:blip r:embed="rId1"/>
          <a:stretch/>
        </p:blipFill>
        <p:spPr>
          <a:xfrm>
            <a:off x="4118040" y="277920"/>
            <a:ext cx="906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fgj"/>
          <p:cNvPicPr/>
          <p:nvPr/>
        </p:nvPicPr>
        <p:blipFill>
          <a:blip r:embed="rId1"/>
          <a:stretch/>
        </p:blipFill>
        <p:spPr>
          <a:xfrm>
            <a:off x="2411280" y="333360"/>
            <a:ext cx="4273560" cy="58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nhe,rf"/>
          <p:cNvPicPr/>
          <p:nvPr/>
        </p:nvPicPr>
        <p:blipFill>
          <a:blip r:embed="rId1"/>
          <a:stretch/>
        </p:blipFill>
        <p:spPr>
          <a:xfrm>
            <a:off x="197964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Людвиг ван БЕТХОВЕН</a:t>
            </a:r>
            <a:br>
              <a:rPr sz="3800"/>
            </a:b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Соната № 14 (Лунная)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915920"/>
            <a:ext cx="40384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слушайтесь в неё не только своим слухом, но и всем сердц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.Б. Кабалев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20" descr="портрет Бетховена"/>
          <p:cNvPicPr/>
          <p:nvPr/>
        </p:nvPicPr>
        <p:blipFill>
          <a:blip r:embed="rId1"/>
          <a:stretch/>
        </p:blipFill>
        <p:spPr>
          <a:xfrm>
            <a:off x="681120" y="1936800"/>
            <a:ext cx="33861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b8dec6"/>
                </a:solidFill>
                <a:latin typeface="Tahoma"/>
              </a:rPr>
              <a:t>Многое меняется, сердце остаётся одно.</a:t>
            </a:r>
            <a:br>
              <a:rPr sz="5000"/>
            </a:br>
            <a:r>
              <a:rPr b="0" lang="ru-RU" sz="5000" spc="-1" strike="noStrike">
                <a:solidFill>
                  <a:srgbClr val="b8dec6"/>
                </a:solidFill>
                <a:latin typeface="Tahoma"/>
              </a:rPr>
              <a:t>           </a:t>
            </a:r>
            <a:br>
              <a:rPr sz="5000"/>
            </a:br>
            <a:r>
              <a:rPr b="0" lang="ru-RU" sz="5000" spc="-1" strike="noStrike">
                <a:solidFill>
                  <a:srgbClr val="b8dec6"/>
                </a:solidFill>
                <a:latin typeface="Tahoma"/>
              </a:rPr>
              <a:t>           Ф.М. Достоевский</a:t>
            </a:r>
            <a:endParaRPr b="0" lang="en-US" sz="5000" spc="-1" strike="noStrike">
              <a:solidFill>
                <a:srgbClr val="b8dec6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юдям нужны все виды музыки – от простого напева свирели до звучания огромного симфонического оркестра, от незатейливой популярной песенки до Бетховенских сона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.Д. Шостак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сли кто-то проживёт свою жизнь, так и не познав всей красоты и богатства музыки Баха и Моцарта, Бетховена и Шопена, … - не станут от этого меньше ни Бах, ни Моцарт, ни Бетховен, ни Шопен…Они останутся такими же великими и могучими. А вот тот, кто пройдёт мимо них и не прикоснётся к их искусству, потеряет много, очень мног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.Б. Кабалев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8dec6"/>
                </a:solidFill>
                <a:latin typeface="Tahoma"/>
              </a:rPr>
              <a:t>Проблемные вопросы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т ли быть классической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овременная музык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овременна ли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родная песня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м ли мы воспринимать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омпозиторов прошлых эпох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как своих современник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2055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Рефлекс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055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05560" indent="-205560">
              <a:lnSpc>
                <a:spcPct val="80000"/>
              </a:lnSpc>
              <a:spcBef>
                <a:spcPts val="751"/>
              </a:spcBef>
              <a:buClr>
                <a:srgbClr val="00e0a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Сегодня на уроке меня удивило то, что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-205560">
              <a:lnSpc>
                <a:spcPct val="80000"/>
              </a:lnSpc>
              <a:spcBef>
                <a:spcPts val="751"/>
              </a:spcBef>
              <a:buClr>
                <a:srgbClr val="00e0a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Мне понравилось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-205560">
              <a:lnSpc>
                <a:spcPct val="80000"/>
              </a:lnSpc>
              <a:spcBef>
                <a:spcPts val="751"/>
              </a:spcBef>
              <a:buClr>
                <a:srgbClr val="00e0a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Я не соглашусь с теми, кто считает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-205560">
              <a:lnSpc>
                <a:spcPct val="80000"/>
              </a:lnSpc>
              <a:spcBef>
                <a:spcPts val="751"/>
              </a:spcBef>
              <a:buClr>
                <a:srgbClr val="00e0a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Мне кажется, что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-205560">
              <a:lnSpc>
                <a:spcPct val="80000"/>
              </a:lnSpc>
              <a:spcBef>
                <a:spcPts val="751"/>
              </a:spcBef>
              <a:buClr>
                <a:srgbClr val="00e0a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Теперь я знаю точно, что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8dec6"/>
                </a:solidFill>
                <a:latin typeface="Tahoma"/>
              </a:rPr>
              <a:t>Проблемные вопросы:</a:t>
            </a:r>
            <a:br>
              <a:rPr sz="3800"/>
            </a:b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т ли быть классической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овременная музык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овременна ли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родная песня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м ли мы воспринимать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омпозиторов прошлых эпох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как своих современник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8dec6"/>
                </a:solidFill>
                <a:latin typeface="Tahoma"/>
              </a:rPr>
              <a:t>Домашнее задание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e0a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йти дополнительную информацию о рок-группах, работающих в направлении арт-ро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ffff"/>
                </a:solidFill>
                <a:latin typeface="Tahoma"/>
              </a:rPr>
              <a:t>Всех благодарю за работу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Именно музыка призвана        пробуждать лучшее, что есть в человеке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. Щедрин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8dec6"/>
                </a:solidFill>
                <a:latin typeface="Tahoma"/>
              </a:rPr>
              <a:t>Проблемные вопросы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т ли быть классической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овременная музык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овременна ли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родная песня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м ли мы воспринимать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омпозиторов прошлых эпох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как своих современник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image3"/>
          <p:cNvPicPr/>
          <p:nvPr/>
        </p:nvPicPr>
        <p:blipFill>
          <a:blip r:embed="rId1"/>
          <a:stretch/>
        </p:blipFill>
        <p:spPr>
          <a:xfrm>
            <a:off x="324000" y="549360"/>
            <a:ext cx="833112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doncossacks"/>
          <p:cNvPicPr/>
          <p:nvPr/>
        </p:nvPicPr>
        <p:blipFill>
          <a:blip r:embed="rId1"/>
          <a:stretch/>
        </p:blipFill>
        <p:spPr>
          <a:xfrm>
            <a:off x="611280" y="404640"/>
            <a:ext cx="821664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b8dec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b8dec6"/>
                </a:solidFill>
                <a:latin typeface="Tahoma"/>
              </a:rPr>
              <a:t>Современна ли </a:t>
            </a:r>
            <a:r>
              <a:rPr b="1" i="1" lang="ru-RU" sz="3800" spc="-1" strike="noStrike">
                <a:solidFill>
                  <a:srgbClr val="b8dec6"/>
                </a:solidFill>
                <a:latin typeface="Tahoma"/>
              </a:rPr>
              <a:t>народная песня</a:t>
            </a:r>
            <a:r>
              <a:rPr b="0" i="1" lang="ru-RU" sz="3800" spc="-1" strike="noStrike">
                <a:solidFill>
                  <a:srgbClr val="b8dec6"/>
                </a:solidFill>
                <a:latin typeface="Tahoma"/>
              </a:rPr>
              <a:t>?</a:t>
            </a:r>
            <a:br>
              <a:rPr sz="3800"/>
            </a:br>
            <a:r>
              <a:rPr b="0" i="1" lang="ru-RU" sz="3800" spc="-1" strike="noStrike">
                <a:solidFill>
                  <a:srgbClr val="b8dec6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усская народная пес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Слово мама дорого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сполняет семейный дуэт «Хмел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8dec6"/>
                </a:solidFill>
                <a:latin typeface="Tahoma"/>
              </a:rPr>
              <a:t>Проблемные вопросы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т ли быть классической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овременная музык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овременна ли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родная песня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м ли мы воспринимать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омпозиторов прошлых эпох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как своих современник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Organ"/>
          <p:cNvPicPr/>
          <p:nvPr/>
        </p:nvPicPr>
        <p:blipFill>
          <a:blip r:embed="rId1"/>
          <a:stretch/>
        </p:blipFill>
        <p:spPr>
          <a:xfrm>
            <a:off x="2195640" y="-27000"/>
            <a:ext cx="5000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9:17:28Z</dcterms:created>
  <dc:creator>PUTNIK</dc:creator>
  <dc:description/>
  <dc:language>en-US</dc:language>
  <cp:lastModifiedBy>Коля</cp:lastModifiedBy>
  <dcterms:modified xsi:type="dcterms:W3CDTF">2013-03-20T19:38:09Z</dcterms:modified>
  <cp:revision>19</cp:revision>
  <dc:subject/>
  <dc:title>Что значит современность в музыке?</dc:title>
</cp:coreProperties>
</file>