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BB9-BFC2-4D83-8F6B-3AC2591C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DE8-1353-4EFE-A6E3-717E5A86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4A3-6721-4CD8-8775-4E305453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23E-517F-408B-BA8E-2A740D67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ADD7-465E-44EA-8290-62627957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41DC-540D-4B1D-8439-C72961CD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9F40-9B3F-4366-9180-FA90AC08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CCF8-D40F-449D-9A6E-4C5F6417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19E0-B7A4-4DC9-80F2-ACDE7207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7181-EBC6-4EBD-9927-C322F3D7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7752-87D1-4958-96CC-29905214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1BE-AE5A-4CF5-8DDB-A7BDAACE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EF6C-FBCD-4026-8000-8529CB27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52D8-6DC7-4FA0-8E7F-B2C1E4CB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008B-CFD5-4D46-A53A-BAC890D2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27AD-1647-402A-9E9C-7EAD1DC2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0D6D-2734-4DE8-8F11-AE9F9A62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91389-93F9-4592-80E7-E9198AB9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0C9E9-EC21-4163-AAD4-66C1CEE4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92AE2-27AB-4811-A7CC-3651D154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D2308-5FC3-4C79-862C-69C9219D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FDD4E-CA67-44BA-93CF-6C4F3850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523-F38B-481D-ADBF-181A4405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0663A-CE4A-4279-A02D-4DCB54B6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B85B0-587E-4B48-9809-2AE2474B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88944-ABE5-483A-858C-EBEEC94D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A16E8-A473-49A7-AB46-074D7199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6A631-BBC5-48C1-BB57-042C56C2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EDE7E-F35C-459C-B3A1-14EEDD50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1416C-DDB8-4261-9B3E-428827DC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0854A-4410-42A6-8059-209B388B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B2CC9-A110-4B1F-9826-36DE4443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43AF3-D269-4F0C-A22B-A4EC2624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C50-A074-47F7-B016-01C5EA2E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11AD3-A97A-4894-8D13-60984188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64444-74AD-481F-98E2-028B9E58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E6823-223A-41F8-B2F8-D2DA0966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14111-0F64-43E2-823C-5B0989FE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CE8B5-CD02-44D2-92BA-8783F921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B9495-D326-4ADF-BE54-43BB6A62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D8EDA-5C80-4268-9223-014BB980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35D87-7B04-45D0-A0A7-6DB838BC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5EC56-916E-4A56-8FE4-E87D8E98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41CE3-B0C3-4193-B548-F6597B30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2FD0-9A31-40EA-8789-777C93E3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8CFCD-D649-4313-861A-0612F8EB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3023A-92F0-47AF-BB03-9E48085A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26C5A-6CAD-4BE1-80EE-CCDE0371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4769A-82D6-453B-BE7E-8BB67580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25F32-67BC-4D81-8E76-442D4F53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60A74-F128-4127-B3FF-42617BF7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5D60F-FCDD-4455-9C20-A710D71F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7D562-8015-4CCC-ABFC-E4992483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4B69C-01E7-4291-822E-5946CB4A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6AC6E-8D15-482E-AF8E-148E95A0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1F3-406E-4734-9AD0-9DEB849E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949D1-5A26-4D58-BD0E-DEDA446D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3FC-A845-429E-B861-EE69B647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F6D-87A4-40D8-A39D-A64A7885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262-986C-4D79-81D6-1FE0AF7A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A528-2BF7-4D8B-8AD8-D444B8CB4B8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DC69-E263-47BC-89F2-EE6FBBEBB09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8D0D-2384-4D77-B5FE-2ED702775D5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2C8F-2BBF-48BA-830D-CBC11F35B43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4F30-175D-4786-AE41-692A3FC8FFC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2195640" y="620640"/>
            <a:ext cx="468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СОШ №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611280" y="1582560"/>
            <a:ext cx="8208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по ОРКСЭ (ОСЭ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урока: «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сть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нова Светла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Ковров,  201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7093080" y="333360"/>
            <a:ext cx="173016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Скругленный прямоугольник 2"/>
          <p:cNvSpPr/>
          <p:nvPr/>
        </p:nvSpPr>
        <p:spPr>
          <a:xfrm>
            <a:off x="2195640" y="620640"/>
            <a:ext cx="4680000" cy="792360"/>
          </a:xfrm>
          <a:prstGeom prst="roundRect">
            <a:avLst>
              <a:gd name="adj" fmla="val 16667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ставляет размышлять о своих поступ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3"/>
          <p:cNvSpPr/>
          <p:nvPr/>
        </p:nvSpPr>
        <p:spPr>
          <a:xfrm>
            <a:off x="2484360" y="1773360"/>
            <a:ext cx="5183280" cy="792000"/>
          </a:xfrm>
          <a:prstGeom prst="roundRect">
            <a:avLst>
              <a:gd name="adj" fmla="val 16667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итически оценивать свои поступ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726920" cy="1292400"/>
          </a:xfrm>
          <a:prstGeom prst="rect">
            <a:avLst/>
          </a:prstGeom>
          <a:ln w="0">
            <a:noFill/>
          </a:ln>
        </p:spPr>
      </p:pic>
      <p:sp>
        <p:nvSpPr>
          <p:cNvPr id="244" name="Скругленный прямоугольник 6"/>
          <p:cNvSpPr/>
          <p:nvPr/>
        </p:nvSpPr>
        <p:spPr>
          <a:xfrm>
            <a:off x="2843280" y="2924280"/>
            <a:ext cx="5257800" cy="1081080"/>
          </a:xfrm>
          <a:prstGeom prst="roundRect">
            <a:avLst>
              <a:gd name="adj" fmla="val 16667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поминает о своих обязанностях, долге, ответ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7"/>
          <p:cNvSpPr/>
          <p:nvPr/>
        </p:nvSpPr>
        <p:spPr>
          <a:xfrm>
            <a:off x="3276720" y="4365720"/>
            <a:ext cx="5040360" cy="792000"/>
          </a:xfrm>
          <a:prstGeom prst="roundRect">
            <a:avLst>
              <a:gd name="adj" fmla="val 16667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гнорирует хитрые оправ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Выноска со стрелкой вправо 9"/>
          <p:cNvSpPr/>
          <p:nvPr/>
        </p:nvSpPr>
        <p:spPr>
          <a:xfrm>
            <a:off x="826920" y="549360"/>
            <a:ext cx="1584360" cy="5832360"/>
          </a:xfrm>
          <a:prstGeom prst="rightArrowCallout">
            <a:avLst>
              <a:gd name="adj1" fmla="val 24987"/>
              <a:gd name="adj2" fmla="val 25001"/>
              <a:gd name="adj3" fmla="val 25000"/>
              <a:gd name="adj4" fmla="val 64977"/>
            </a:avLst>
          </a:prstGeom>
          <a:solidFill>
            <a:srgbClr val="f9b268"/>
          </a:solidFill>
          <a:ln w="42480">
            <a:solidFill>
              <a:srgbClr val="b45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5f07"/>
                </a:solidFill>
                <a:latin typeface="Times New Roman"/>
                <a:ea typeface="Times New Roman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ый прямоугольник 10"/>
          <p:cNvSpPr/>
          <p:nvPr/>
        </p:nvSpPr>
        <p:spPr>
          <a:xfrm>
            <a:off x="2556000" y="5445000"/>
            <a:ext cx="5400720" cy="792360"/>
          </a:xfrm>
          <a:prstGeom prst="roundRect">
            <a:avLst>
              <a:gd name="adj" fmla="val 16667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ставляет говорить о себе прав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Прямоугольник 1" descr=""/>
          <p:cNvPicPr/>
          <p:nvPr/>
        </p:nvPicPr>
        <p:blipFill>
          <a:blip r:embed="rId1"/>
          <a:stretch/>
        </p:blipFill>
        <p:spPr>
          <a:xfrm>
            <a:off x="1749600" y="49320"/>
            <a:ext cx="60102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324000" y="890640"/>
          <a:ext cx="8496000" cy="560232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e2c3e"/>
                          </a:solidFill>
                          <a:latin typeface="Times New Roman"/>
                          <a:ea typeface="Times New Roman"/>
                        </a:rPr>
                        <a:t>Поступать вопреки своим убеждени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e2c3e"/>
                          </a:solidFill>
                          <a:latin typeface="Times New Roman"/>
                          <a:ea typeface="Times New Roman"/>
                        </a:rPr>
                        <a:t>жить по сов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</a:tr>
              <a:tr h="74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ь честно, справедли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на сов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e2c3e"/>
                          </a:solidFill>
                          <a:latin typeface="Times New Roman"/>
                          <a:ea typeface="Times New Roman"/>
                        </a:rPr>
                        <a:t>Делать что-либо хорошо, добросовес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ать против сов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ь спокойно, не испытывая угрызения сов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ать без зазрения сов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ать без стыда, без стес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ок на его сов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человек не выполнил того, что был обязан сделать, схитрил, обманул кого-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ь со спокойной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ст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Блок-схема: извлечение 3"/>
          <p:cNvSpPr/>
          <p:nvPr/>
        </p:nvSpPr>
        <p:spPr>
          <a:xfrm>
            <a:off x="1476360" y="549360"/>
            <a:ext cx="6048360" cy="5975280"/>
          </a:xfrm>
          <a:prstGeom prst="flowChartExtract">
            <a:avLst/>
          </a:prstGeom>
          <a:solidFill>
            <a:srgbClr val="0070c0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мир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самим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ты исправляе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ты понимаешь, что надо исправить поступ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эта мысль преследует т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ты размышляешь над  тем, что соверш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5"/>
          <p:cNvSpPr/>
          <p:nvPr/>
        </p:nvSpPr>
        <p:spPr>
          <a:xfrm>
            <a:off x="4932360" y="765000"/>
            <a:ext cx="2879640" cy="1008360"/>
          </a:xfrm>
          <a:prstGeom prst="roundRect">
            <a:avLst>
              <a:gd name="adj" fmla="val 16667"/>
            </a:avLst>
          </a:prstGeom>
          <a:solidFill>
            <a:srgbClr val="c4e1f2"/>
          </a:solidFill>
          <a:ln w="42480">
            <a:solidFill>
              <a:srgbClr val="c4e1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300720" y="4508640"/>
            <a:ext cx="2459160" cy="18460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"/>
          <p:cNvSpPr/>
          <p:nvPr/>
        </p:nvSpPr>
        <p:spPr>
          <a:xfrm>
            <a:off x="684360" y="1433520"/>
            <a:ext cx="77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н все делает по совести, стыдится поступ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Это – челове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н, как бы, сверяет каждый свой шаг с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ормами морали и поступ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н не совершает поступко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н не пройдет мим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вестливый человек, если и совершает какие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то несправедливые поступки, то …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и они вызывают у него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весть выражается 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на побуждает человека следоват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Отвращает его от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360360"/>
            <a:ext cx="8798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2195640" y="1292400"/>
            <a:ext cx="493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Было интерес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Было труд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выполнял зад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понял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почувствовал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приобре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научил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У меня получи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смог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Я попробу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Меня удиви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Урок дал мне для жизн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Мне захотелос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Прямоугольник 2" descr=""/>
          <p:cNvPicPr/>
          <p:nvPr/>
        </p:nvPicPr>
        <p:blipFill>
          <a:blip r:embed="rId1"/>
          <a:stretch/>
        </p:blipFill>
        <p:spPr>
          <a:xfrm>
            <a:off x="2719440" y="360360"/>
            <a:ext cx="31273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826920" y="1436760"/>
            <a:ext cx="766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Хочешь ли ты осуществить какой -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нибудь проек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Выбери одно из предложенных ил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думай с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общение – презентация «Мук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вести в судьбе известны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литературных герое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Пластилиновая композиц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«Народные пословицы о совести 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стыде»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Прямоугольник 2" descr=""/>
          <p:cNvPicPr/>
          <p:nvPr/>
        </p:nvPicPr>
        <p:blipFill>
          <a:blip r:embed="rId1"/>
          <a:stretch/>
        </p:blipFill>
        <p:spPr>
          <a:xfrm>
            <a:off x="1816200" y="360360"/>
            <a:ext cx="49323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2"/>
          <p:cNvSpPr/>
          <p:nvPr/>
        </p:nvSpPr>
        <p:spPr>
          <a:xfrm>
            <a:off x="2634120" y="549360"/>
            <a:ext cx="365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ве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611280" y="1341360"/>
            <a:ext cx="813744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итывать чувство чуткости, совестливости, ответственности к своим поступкам, толерантного отношения к другим м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ч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основании формирования этического понятия совести стимулировать самооценку у учащихся и их самоконтроля в повседневном пове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у учащихся культуру общения (коммуникативные ум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умение высказывать свое мнение, отстаивать его, а также умение признавать свои ошибки, анализировать их и делать 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7524720" y="620640"/>
            <a:ext cx="1079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539640" y="988920"/>
            <a:ext cx="770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Самое главное украшение – чистая сове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Цицер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2556000" y="2924280"/>
            <a:ext cx="38876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imagedb"/>
          <p:cNvPicPr/>
          <p:nvPr/>
        </p:nvPicPr>
        <p:blipFill>
          <a:blip r:embed="rId1"/>
          <a:stretch/>
        </p:blipFill>
        <p:spPr>
          <a:xfrm>
            <a:off x="1042920" y="404640"/>
            <a:ext cx="7183440" cy="49564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5867280" y="5445000"/>
            <a:ext cx="2521080" cy="648000"/>
          </a:xfrm>
          <a:prstGeom prst="rect">
            <a:avLst/>
          </a:prstGeom>
          <a:solidFill>
            <a:srgbClr val="ffffff"/>
          </a:solidFill>
          <a:ln w="42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5508720" y="3645000"/>
            <a:ext cx="252072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611280" y="549360"/>
          <a:ext cx="7993080" cy="5759280"/>
        </p:xfrm>
        <a:graphic>
          <a:graphicData uri="http://schemas.openxmlformats.org/drawingml/2006/table">
            <a:tbl>
              <a:tblPr/>
              <a:tblGrid>
                <a:gridCol w="2222280"/>
                <a:gridCol w="1773360"/>
                <a:gridCol w="1998720"/>
                <a:gridCol w="1998720"/>
              </a:tblGrid>
              <a:tr h="442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чу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з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9c3e5"/>
                    </a:solidFill>
                  </a:tcPr>
                </a:tc>
              </a:tr>
              <a:tr h="88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Что такое совес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2.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Нужна ли человеку совес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3.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Что значит поступать по совести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4.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Какая совесть бывает чист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рямоугольник 2" descr=""/>
          <p:cNvPicPr/>
          <p:nvPr/>
        </p:nvPicPr>
        <p:blipFill>
          <a:blip r:embed="rId1"/>
          <a:stretch/>
        </p:blipFill>
        <p:spPr>
          <a:xfrm>
            <a:off x="950760" y="365040"/>
            <a:ext cx="7510680" cy="1109880"/>
          </a:xfrm>
          <a:prstGeom prst="rect">
            <a:avLst/>
          </a:prstGeom>
          <a:ln w="0">
            <a:noFill/>
          </a:ln>
        </p:spPr>
      </p:pic>
      <p:sp>
        <p:nvSpPr>
          <p:cNvPr id="233" name="Вертикальный свиток 6"/>
          <p:cNvSpPr/>
          <p:nvPr/>
        </p:nvSpPr>
        <p:spPr>
          <a:xfrm>
            <a:off x="1042920" y="1773360"/>
            <a:ext cx="7129440" cy="4319640"/>
          </a:xfrm>
          <a:prstGeom prst="verticalScroll">
            <a:avLst>
              <a:gd name="adj" fmla="val 12500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овесть - внутреннее сознание добра и зла, тайник души, в котором отзывается одобрение или осуждение каждого поступка, способность распознавать качество поступка, чувство, побуждающее к истине и добр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. Н. Д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Вертикальный свиток 1"/>
          <p:cNvSpPr/>
          <p:nvPr/>
        </p:nvSpPr>
        <p:spPr>
          <a:xfrm>
            <a:off x="1619280" y="1773360"/>
            <a:ext cx="7129440" cy="4319640"/>
          </a:xfrm>
          <a:prstGeom prst="verticalScroll">
            <a:avLst>
              <a:gd name="adj" fmla="val 12500"/>
            </a:avLst>
          </a:prstGeom>
          <a:solidFill>
            <a:srgbClr val="f9b26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Должно стыдиться самого с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столько же, как и других люд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и одинаково не делать дурног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останется ли оно никому неизвестным или о нем узнают все. Но наиболее должно стыдиться самого себя...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Демокр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1584360" cy="230184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3" descr=""/>
          <p:cNvPicPr/>
          <p:nvPr/>
        </p:nvPicPr>
        <p:blipFill>
          <a:blip r:embed="rId2"/>
          <a:stretch/>
        </p:blipFill>
        <p:spPr>
          <a:xfrm>
            <a:off x="950760" y="219240"/>
            <a:ext cx="75106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971640" y="2205000"/>
          <a:ext cx="7345440" cy="3316320"/>
        </p:xfrm>
        <a:graphic>
          <a:graphicData uri="http://schemas.openxmlformats.org/drawingml/2006/table">
            <a:tbl>
              <a:tblPr/>
              <a:tblGrid>
                <a:gridCol w="3671640"/>
                <a:gridCol w="3673800"/>
              </a:tblGrid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овест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ты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261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ыд перед самим собой, даже если люди тебя не осуди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яжёлое переживание позора перед людьми за свое пове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701640" y="554040"/>
            <a:ext cx="791208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Прямоугольник 1" descr=""/>
          <p:cNvPicPr/>
          <p:nvPr/>
        </p:nvPicPr>
        <p:blipFill>
          <a:blip r:embed="rId1"/>
          <a:stretch/>
        </p:blipFill>
        <p:spPr>
          <a:xfrm>
            <a:off x="1036800" y="365040"/>
            <a:ext cx="7332480" cy="11098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"/>
          <p:cNvSpPr/>
          <p:nvPr/>
        </p:nvSpPr>
        <p:spPr>
          <a:xfrm>
            <a:off x="250920" y="1629360"/>
            <a:ext cx="871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очитайте притч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В чем заключается смысл притч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В чем морал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Какими мыслями и чувствами вам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хотелось поделить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( Чему она вас научила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02:44:04Z</dcterms:created>
  <dc:creator>Пользователь</dc:creator>
  <dc:description/>
  <dc:language>en-US</dc:language>
  <cp:lastModifiedBy>Пользователь</cp:lastModifiedBy>
  <dcterms:modified xsi:type="dcterms:W3CDTF">2012-06-07T03:27:09Z</dcterms:modified>
  <cp:revision>20</cp:revision>
  <dc:subject/>
  <dc:title>Слайд 1</dc:title>
</cp:coreProperties>
</file>