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ACA-71E9-4303-AA58-AB29BAF1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F66-7EA2-4F00-80D2-3F2C3A23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FA5-396D-4116-B056-5FBE8F6F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3D7-5169-4059-A214-64BF3FD6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A79F-F502-4BD1-925B-F0B54829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45A9-4E61-4D7B-85B6-D4427D08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EEFA-5DF4-4CC0-9333-FA104CAD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2FDF-4000-4CC9-8EF6-5339365B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0346-CCEB-4757-A8D4-0AEAD711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DBC3-FD80-4D67-8153-3B681950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E5EE-C9E9-4459-B2E0-D8E732F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886-3330-4560-8C89-9AE79826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2E29-62BB-46E7-8CEE-0DD80165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E817-B179-42DB-ACF6-4265865E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C12B-BB45-4516-B90C-C263E33D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608-DB73-442F-B95C-00E7F83F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84FA-2084-4A08-9352-E464AA8A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B3B0-DEBF-4482-9C47-0E168BFA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AAD67-B1F8-4450-8BED-42EA40E3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EB29-AD52-4388-9E3F-481DFC62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558C-9DB9-4E85-B3EB-FBDA9F27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6CE5-7727-4240-9F93-92BD519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355-D33B-4F81-A24C-5C18DC9F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E09F-8627-490F-BB37-0E234084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5E93-EBE0-4A72-80F2-AC08A57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F6D2-A7B5-4BC4-83FF-FB602C92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0A2F-17D7-4896-8E3D-EFC47FF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FE8D-C606-4BAA-8135-F70CB055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F377-B983-4F67-803F-E575C7F5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6AE7-386E-4342-A27E-C05C1F57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CF36-A09B-4A88-9137-BB996641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B1E7A-6F6C-4570-BBE4-10B5DC5C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3A02-4B36-4E9D-B138-81833829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86A-B0A1-4DA5-B9D4-56A6E33D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851E-79E3-49F0-8962-8C7262C2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96C40-CB70-4AA2-A63D-3C07F574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D8DA3-4ADB-4A3C-B831-7D112D3E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7A392-7491-485B-9090-F986D940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95B33-1268-44A7-8944-F9E59FA3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4C9B7-159E-48FE-B9D5-48C1FA7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1898F-D00B-4649-8D4B-EFB03C06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8DE1-194F-4017-9FAB-91231284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F180F-48E1-4C52-8534-116A6DA7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699AD-174F-48E6-944F-69FF3CAD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5C1-5E73-4738-8AAB-9E3CC6B9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D5290-27AE-43E6-8C53-A57E6870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805F7-FDE8-451B-858C-3865386B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88D43-66F3-438E-A6E5-BC4822A6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5E043-1028-4196-8AC2-FDAB042A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6646-ACD9-491C-83CC-623F5BB9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26FE-0FC2-45AD-ABAF-539017E6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F0C9-BD9D-4B82-B0F8-CBFB576B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894B-DA35-46F5-95CC-8D75407E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0A98-AA36-479B-91D6-3AD42DAD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E304-B975-4965-AC5C-92050ABF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8DF-936E-4B77-84E6-DB17874A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516E2-1D4C-4C45-B7FC-BB50C38C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755-B943-4ACF-9FA3-BD9FF7CB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91C-0931-4F5B-83D9-F5D6CAA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08B-9AFE-4D14-8D4F-9BB202E6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5795-06FB-4298-89FD-BF8D7439E4D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6872-B3A2-44FC-A54A-000499F1D38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433-23F8-4FF6-86FC-790970B67C7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0181-CDF0-41B2-9B52-CA2018CC250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888C-23C2-49A9-B321-E7E9F9E6B94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195640" y="620640"/>
            <a:ext cx="468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СОШ №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11280" y="1582560"/>
            <a:ext cx="820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по ОРКСЭ (ОС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«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сть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нов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Ковров,  20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7093080" y="333360"/>
            <a:ext cx="17301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"/>
          <p:cNvSpPr/>
          <p:nvPr/>
        </p:nvSpPr>
        <p:spPr>
          <a:xfrm>
            <a:off x="2195640" y="620640"/>
            <a:ext cx="4680000" cy="79236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ставляет размышлять о своих поступ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3"/>
          <p:cNvSpPr/>
          <p:nvPr/>
        </p:nvSpPr>
        <p:spPr>
          <a:xfrm>
            <a:off x="2484360" y="1773360"/>
            <a:ext cx="5183280" cy="79200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итически оценивать свои пост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726920" cy="1292400"/>
          </a:xfrm>
          <a:prstGeom prst="rect">
            <a:avLst/>
          </a:prstGeom>
          <a:ln w="0">
            <a:noFill/>
          </a:ln>
        </p:spPr>
      </p:pic>
      <p:sp>
        <p:nvSpPr>
          <p:cNvPr id="244" name="Скругленный прямоугольник 6"/>
          <p:cNvSpPr/>
          <p:nvPr/>
        </p:nvSpPr>
        <p:spPr>
          <a:xfrm>
            <a:off x="2843280" y="2924280"/>
            <a:ext cx="5257800" cy="108108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поминает о своих обязанностях, долге,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7"/>
          <p:cNvSpPr/>
          <p:nvPr/>
        </p:nvSpPr>
        <p:spPr>
          <a:xfrm>
            <a:off x="3276720" y="4365720"/>
            <a:ext cx="5040360" cy="79200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норирует хитрые оправ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носка со стрелкой вправо 9"/>
          <p:cNvSpPr/>
          <p:nvPr/>
        </p:nvSpPr>
        <p:spPr>
          <a:xfrm>
            <a:off x="826920" y="549360"/>
            <a:ext cx="1584360" cy="5832360"/>
          </a:xfrm>
          <a:prstGeom prst="rightArrowCallout">
            <a:avLst>
              <a:gd name="adj1" fmla="val 24987"/>
              <a:gd name="adj2" fmla="val 25001"/>
              <a:gd name="adj3" fmla="val 25000"/>
              <a:gd name="adj4" fmla="val 64977"/>
            </a:avLst>
          </a:prstGeom>
          <a:solidFill>
            <a:srgbClr val="f9b268"/>
          </a:solidFill>
          <a:ln w="4248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0"/>
          <p:cNvSpPr/>
          <p:nvPr/>
        </p:nvSpPr>
        <p:spPr>
          <a:xfrm>
            <a:off x="2556000" y="5445000"/>
            <a:ext cx="5400720" cy="79236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ставляет говорить о себе прав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1749600" y="49320"/>
            <a:ext cx="60102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324000" y="890640"/>
          <a:ext cx="8496000" cy="560232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c3e"/>
                          </a:solidFill>
                          <a:latin typeface="Times New Roman"/>
                          <a:ea typeface="Times New Roman"/>
                        </a:rPr>
                        <a:t>Поступать вопреки своим убеждени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c3e"/>
                          </a:solidFill>
                          <a:latin typeface="Times New Roman"/>
                          <a:ea typeface="Times New Roman"/>
                        </a:rPr>
                        <a:t>жить по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честно, справедл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на сов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c3e"/>
                          </a:solidFill>
                          <a:latin typeface="Times New Roman"/>
                          <a:ea typeface="Times New Roman"/>
                        </a:rPr>
                        <a:t>Делать что-либо хорошо, добросове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ать против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спокойно, не испытывая угрызения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ать без зазрения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ать без стыда, без стес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ок на его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человек не выполнил того, что был обязан сделать, схитрил, обманул кого-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со спокойной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Блок-схема: извлечение 3"/>
          <p:cNvSpPr/>
          <p:nvPr/>
        </p:nvSpPr>
        <p:spPr>
          <a:xfrm>
            <a:off x="1476360" y="549360"/>
            <a:ext cx="6048360" cy="5975280"/>
          </a:xfrm>
          <a:prstGeom prst="flowChartExtract">
            <a:avLst/>
          </a:prstGeom>
          <a:solidFill>
            <a:srgbClr val="0070c0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мир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ты исправля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ты понимаешь, что надо исправить посту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эта мысль преследует т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ты размышляешь над  тем, что соверш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5"/>
          <p:cNvSpPr/>
          <p:nvPr/>
        </p:nvSpPr>
        <p:spPr>
          <a:xfrm>
            <a:off x="4932360" y="765000"/>
            <a:ext cx="2879640" cy="1008360"/>
          </a:xfrm>
          <a:prstGeom prst="roundRect">
            <a:avLst>
              <a:gd name="adj" fmla="val 16667"/>
            </a:avLst>
          </a:pr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2459160" cy="18460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"/>
          <p:cNvSpPr/>
          <p:nvPr/>
        </p:nvSpPr>
        <p:spPr>
          <a:xfrm>
            <a:off x="684360" y="143352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 все делает по совести, стыдится поступ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Это – челове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, как бы, сверяет каждый свой шаг 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ормами морали и поступ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 не совершает поступко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 не пройдет мим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вестливый человек, если и совершает какие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о несправедливые поступки, то …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и они вызывают у нег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весть выражается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а побуждает человека следов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вращает его о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360360"/>
            <a:ext cx="879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2195640" y="1292400"/>
            <a:ext cx="49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Мне захотелос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Прямоугольник 2" descr=""/>
          <p:cNvPicPr/>
          <p:nvPr/>
        </p:nvPicPr>
        <p:blipFill>
          <a:blip r:embed="rId1"/>
          <a:stretch/>
        </p:blipFill>
        <p:spPr>
          <a:xfrm>
            <a:off x="2719440" y="360360"/>
            <a:ext cx="31273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826920" y="1436760"/>
            <a:ext cx="766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Хочешь ли ты осуществить какой -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будь проек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бери одно из предложенных и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думай с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общение – презентация «Му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вести в судьбе известны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литературных герое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ластилиновая компози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ародные пословицы о совести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ыде»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2" descr=""/>
          <p:cNvPicPr/>
          <p:nvPr/>
        </p:nvPicPr>
        <p:blipFill>
          <a:blip r:embed="rId1"/>
          <a:stretch/>
        </p:blipFill>
        <p:spPr>
          <a:xfrm>
            <a:off x="1816200" y="360360"/>
            <a:ext cx="49323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2634120" y="549360"/>
            <a:ext cx="36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611280" y="1341360"/>
            <a:ext cx="81374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итывать чувство чуткости, совестливости, ответственности к своим поступкам, толерантного отношения к другим м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основании формирования этического понятия совести стимулировать самооценку у учащихся и их самоконтроля в повседневном пове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 учащихся культуру общения (коммуникативные ум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ение высказывать свое мнение, отстаивать его, а также умение признавать свои ошибки, анализировать их и делать 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524720" y="62064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539640" y="988920"/>
            <a:ext cx="77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Самое главное украшение – чистая сов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Цице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38876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imagedb"/>
          <p:cNvPicPr/>
          <p:nvPr/>
        </p:nvPicPr>
        <p:blipFill>
          <a:blip r:embed="rId1"/>
          <a:stretch/>
        </p:blipFill>
        <p:spPr>
          <a:xfrm>
            <a:off x="1042920" y="404640"/>
            <a:ext cx="7183440" cy="49564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5867280" y="5445000"/>
            <a:ext cx="2521080" cy="648000"/>
          </a:xfrm>
          <a:prstGeom prst="rect">
            <a:avLst/>
          </a:prstGeom>
          <a:solidFill>
            <a:srgbClr val="ffffff"/>
          </a:solidFill>
          <a:ln w="42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25207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11280" y="549360"/>
          <a:ext cx="7993080" cy="5759280"/>
        </p:xfrm>
        <a:graphic>
          <a:graphicData uri="http://schemas.openxmlformats.org/drawingml/2006/table">
            <a:tbl>
              <a:tblPr/>
              <a:tblGrid>
                <a:gridCol w="2222280"/>
                <a:gridCol w="1773360"/>
                <a:gridCol w="1998720"/>
                <a:gridCol w="1998720"/>
              </a:tblGrid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88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Что такое совес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Нужна ли человеку совес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.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Что значит поступать по совести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.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акая совесть бывает чист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950760" y="365040"/>
            <a:ext cx="7510680" cy="1109880"/>
          </a:xfrm>
          <a:prstGeom prst="rect">
            <a:avLst/>
          </a:prstGeom>
          <a:ln w="0">
            <a:noFill/>
          </a:ln>
        </p:spPr>
      </p:pic>
      <p:sp>
        <p:nvSpPr>
          <p:cNvPr id="233" name="Вертикальный свиток 6"/>
          <p:cNvSpPr/>
          <p:nvPr/>
        </p:nvSpPr>
        <p:spPr>
          <a:xfrm>
            <a:off x="1042920" y="1773360"/>
            <a:ext cx="7129440" cy="4319640"/>
          </a:xfrm>
          <a:prstGeom prst="verticalScroll">
            <a:avLst>
              <a:gd name="adj" fmla="val 12500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овесть - внутреннее сознание добра и зла, тайник души, в котором отзывается одобрение или осуждение каждого поступка, способность распознавать качество поступка, чувство, побуждающее к истине и добр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 Н. 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Вертикальный свиток 1"/>
          <p:cNvSpPr/>
          <p:nvPr/>
        </p:nvSpPr>
        <p:spPr>
          <a:xfrm>
            <a:off x="1619280" y="1773360"/>
            <a:ext cx="7129440" cy="4319640"/>
          </a:xfrm>
          <a:prstGeom prst="verticalScroll">
            <a:avLst>
              <a:gd name="adj" fmla="val 12500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олжно стыдиться самого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олько же, как и других люд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и одинаково не делать дурн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танется ли оно никому неизвестным или о нем узнают все. Но наиболее должно стыдиться самого себя...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емок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1584360" cy="230184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" descr=""/>
          <p:cNvPicPr/>
          <p:nvPr/>
        </p:nvPicPr>
        <p:blipFill>
          <a:blip r:embed="rId2"/>
          <a:stretch/>
        </p:blipFill>
        <p:spPr>
          <a:xfrm>
            <a:off x="950760" y="219240"/>
            <a:ext cx="7510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971640" y="2205000"/>
          <a:ext cx="7345440" cy="3316320"/>
        </p:xfrm>
        <a:graphic>
          <a:graphicData uri="http://schemas.openxmlformats.org/drawingml/2006/table">
            <a:tbl>
              <a:tblPr/>
              <a:tblGrid>
                <a:gridCol w="3671640"/>
                <a:gridCol w="3673800"/>
              </a:tblGrid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овест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ты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61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ыд перед самим собой, даже если люди тебя не осуд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ёлое переживание позора перед людьми за свое пове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701640" y="554040"/>
            <a:ext cx="7912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365040"/>
            <a:ext cx="7332480" cy="11098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"/>
          <p:cNvSpPr/>
          <p:nvPr/>
        </p:nvSpPr>
        <p:spPr>
          <a:xfrm>
            <a:off x="250920" y="1629360"/>
            <a:ext cx="871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очитайте притч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чем заключается смысл притч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чем мора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Какими мыслями и чувствами ва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хотелось подели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( Чему она вас научила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2:44:04Z</dcterms:created>
  <dc:creator>Пользователь</dc:creator>
  <dc:description/>
  <dc:language>en-US</dc:language>
  <cp:lastModifiedBy>Пользователь</cp:lastModifiedBy>
  <dcterms:modified xsi:type="dcterms:W3CDTF">2012-06-07T03:27:09Z</dcterms:modified>
  <cp:revision>20</cp:revision>
  <dc:subject/>
  <dc:title>Слайд 1</dc:title>
</cp:coreProperties>
</file>