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894-C409-4EAB-AB21-7549E395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6EB-2B03-4E61-9277-9E5C990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3B0-9AFA-46FA-97CC-1C8B329A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1EB-DD17-45CB-BD53-0EF229CC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38E3-F283-43BC-8762-153FE99A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17FF-5CB5-4C47-8F52-4C7516C3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0D4C-0DE9-4D8A-9189-80F1F56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C63-F410-407A-A9B9-FDF5330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A0A-AA0E-40F1-97FA-09E78B6B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A2F-8153-48C7-AEEF-7A61D55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92D-9241-437C-9DFA-7F9BD87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621-E039-4203-A5B0-36D481F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08B-9687-4A44-835F-86F4321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5F8C-1658-433B-8C48-47A96CF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3E10-88A3-41E8-AB1E-17BE5AF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767F-79F2-49B9-A216-A38F9595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EDF-EFA2-4E14-83B3-58BF2C2E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D8A5-1FF2-43CF-B593-B40AF83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94EB-B48C-4255-928B-3BFE38E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2585-6D0D-41D8-A2AD-67DB4CAF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26F2-DE64-4E13-AF02-43BE774D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8ECD-8B09-4D5C-8BD8-72975117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B9A-D4BD-4F48-A21D-8CE7D4A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9FC4-468F-4F0D-852E-ADFE442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086C-59D9-4076-8E98-BA38379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6B13-B2BC-49E3-A71C-B6F9E97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129E-7995-44B5-A228-1713F22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5C74-5CEE-41E2-A0FE-B8B362E3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A664-6620-44E5-BC9F-EC860462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DC93-B13C-47D0-864E-02FDCFD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C418-6A53-44BB-ACAE-23F6F195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5C7D-DC5F-4DC8-A7BF-AF305BD7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30FD-83E5-4DCE-94F5-17C263C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CF9-0E7E-4662-B4C7-DC0A1C6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704B-D0AE-4E17-876C-911658A4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6406-E036-4D20-B98B-F18AA73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3106-3A0E-481C-AF43-A24AB96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E98B-A4D1-4A12-8C92-A411980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6B61-C8D6-4065-A2C8-D218E36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F270-1A69-45DA-9E2E-710E54E7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69FA-6094-4AE6-9129-61581B8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9209-D937-483B-8325-89AF6110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6163-922A-460C-BD84-A8D4827E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6788-EC99-4132-9DC5-D420DCE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68B-763C-4518-A210-0C170BFD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0A8B-901E-4B9B-A0AD-FD1EF87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DC9C-81F8-4E2F-BBD9-DFB049EF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B3D6-DDF0-473A-889B-173DE354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C5050-BA04-4712-BF41-707D3A0E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E581-2A18-4BD5-9A6A-7AACA48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E31E-2312-4682-8920-39CA4E9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3C33-A0D1-4620-BD84-059F6ED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05BAD-0ED7-4502-8989-CAFE020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FA92-A09B-476C-9D73-9BA6C1E1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05AB-F3DE-4B12-A994-8D552556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27E-66EE-426F-84E8-D367B84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0F52-6A83-4883-AF6B-AAD6A219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908-8B16-4AB4-81CC-0FB8315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6EE-54B7-486A-B779-48F9DD5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8B4-0B27-4B2F-9B29-82AD965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A85-B90E-4C00-B875-5A2AD2A06E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13F8-46BC-4387-9423-9068223FF58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9F2-4577-4556-B372-5BD70B33408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53E3-14BC-4C74-B706-9DB9788EF83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642C-5449-436D-88FC-E7D426723B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95640" y="620640"/>
            <a:ext cx="46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ОШ 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11280" y="1582560"/>
            <a:ext cx="820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по ОРКСЭ (ОС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«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с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н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овров, 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7301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"/>
          <p:cNvSpPr/>
          <p:nvPr/>
        </p:nvSpPr>
        <p:spPr>
          <a:xfrm>
            <a:off x="2195640" y="620640"/>
            <a:ext cx="468000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размышлять о своих поступ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2484360" y="1773360"/>
            <a:ext cx="518328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итически оценивать свои по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72692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Скругленный прямоугольник 6"/>
          <p:cNvSpPr/>
          <p:nvPr/>
        </p:nvSpPr>
        <p:spPr>
          <a:xfrm>
            <a:off x="2843280" y="2924280"/>
            <a:ext cx="5257800" cy="108108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оминает о своих обязанностях, долге,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3276720" y="4365720"/>
            <a:ext cx="504036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норирует хитрые оправ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носка со стрелкой вправо 9"/>
          <p:cNvSpPr/>
          <p:nvPr/>
        </p:nvSpPr>
        <p:spPr>
          <a:xfrm>
            <a:off x="826920" y="549360"/>
            <a:ext cx="1584360" cy="5832360"/>
          </a:xfrm>
          <a:prstGeom prst="right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f9b268"/>
          </a:solidFill>
          <a:ln w="4248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0"/>
          <p:cNvSpPr/>
          <p:nvPr/>
        </p:nvSpPr>
        <p:spPr>
          <a:xfrm>
            <a:off x="2556000" y="5445000"/>
            <a:ext cx="540072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говорить о себе прав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1749600" y="49320"/>
            <a:ext cx="60102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324000" y="890640"/>
          <a:ext cx="8496000" cy="56023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Поступать вопреки своим убежден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жить п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честно, справедл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на сов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Делать что-либо хорошо, добросове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против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покойно, не испытывая угрыз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зазр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стыда, без стес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ок на ег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человек не выполнил того, что был обязан сделать, схитрил, обманул кого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о спокойной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Блок-схема: извлечение 3"/>
          <p:cNvSpPr/>
          <p:nvPr/>
        </p:nvSpPr>
        <p:spPr>
          <a:xfrm>
            <a:off x="1476360" y="549360"/>
            <a:ext cx="6048360" cy="5975280"/>
          </a:xfrm>
          <a:prstGeom prst="flowChartExtract">
            <a:avLst/>
          </a:prstGeom>
          <a:solidFill>
            <a:srgbClr val="0070c0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мир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исправля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понимаешь, что надо исправить пост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эта мысль преследует т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размышляешь над  тем, что соверш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5"/>
          <p:cNvSpPr/>
          <p:nvPr/>
        </p:nvSpPr>
        <p:spPr>
          <a:xfrm>
            <a:off x="4932360" y="765000"/>
            <a:ext cx="2879640" cy="1008360"/>
          </a:xfrm>
          <a:prstGeom prst="roundRect">
            <a:avLst>
              <a:gd name="adj" fmla="val 16667"/>
            </a:avLst>
          </a:pr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459160" cy="1846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684360" y="143352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все делает по совести, стыдится поступ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Это – челове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, как бы, сверяет каждый свой шаг 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ормами морали и поступ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совершает поступко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пройдет мим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ливый человек, если и совершает какие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о несправедливые поступки, то 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ни вызывают у нег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ь выражается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а побуждает человека следов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ращает его о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360360"/>
            <a:ext cx="879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195640" y="129240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не захотелос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Прямоугольник 2" descr=""/>
          <p:cNvPicPr/>
          <p:nvPr/>
        </p:nvPicPr>
        <p:blipFill>
          <a:blip r:embed="rId1"/>
          <a:stretch/>
        </p:blipFill>
        <p:spPr>
          <a:xfrm>
            <a:off x="2719440" y="360360"/>
            <a:ext cx="3127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826920" y="1436760"/>
            <a:ext cx="766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Хочешь ли ты осуществить какой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будь про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ери одно из предложенных и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дума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общение – презентация «Му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и в судьбе известны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тературных геро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стилиновая компози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ародные пословицы о совести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ыде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2" descr=""/>
          <p:cNvPicPr/>
          <p:nvPr/>
        </p:nvPicPr>
        <p:blipFill>
          <a:blip r:embed="rId1"/>
          <a:stretch/>
        </p:blipFill>
        <p:spPr>
          <a:xfrm>
            <a:off x="1816200" y="360360"/>
            <a:ext cx="4932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2634120" y="549360"/>
            <a:ext cx="36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611280" y="1341360"/>
            <a:ext cx="81374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ть чувство чуткости, совестливости, ответственности к своим поступкам, толерантного отношения к другим м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основании формирования этического понятия совести стимулировать самооценку у учащихся и их самоконтроля в повседневном по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учащихся культуру общения (коммуникативные ум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высказывать свое мнение, отстаивать его, а также умение признавать свои ошибки, анализировать их и 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524720" y="62064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539640" y="988920"/>
            <a:ext cx="77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Самое главное украшение – чистая сов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Цице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887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magedb"/>
          <p:cNvPicPr/>
          <p:nvPr/>
        </p:nvPicPr>
        <p:blipFill>
          <a:blip r:embed="rId1"/>
          <a:stretch/>
        </p:blipFill>
        <p:spPr>
          <a:xfrm>
            <a:off x="1042920" y="404640"/>
            <a:ext cx="7183440" cy="49564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867280" y="5445000"/>
            <a:ext cx="2521080" cy="64800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25207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549360"/>
          <a:ext cx="7993080" cy="5759280"/>
        </p:xfrm>
        <a:graphic>
          <a:graphicData uri="http://schemas.openxmlformats.org/drawingml/2006/table">
            <a:tbl>
              <a:tblPr/>
              <a:tblGrid>
                <a:gridCol w="2222280"/>
                <a:gridCol w="1773360"/>
                <a:gridCol w="1998720"/>
                <a:gridCol w="1998720"/>
              </a:tblGrid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Что такое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ужна ли человеку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Что значит поступать по совести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акая совесть бывает чис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950760" y="365040"/>
            <a:ext cx="7510680" cy="1109880"/>
          </a:xfrm>
          <a:prstGeom prst="rect">
            <a:avLst/>
          </a:prstGeom>
          <a:ln w="0">
            <a:noFill/>
          </a:ln>
        </p:spPr>
      </p:pic>
      <p:sp>
        <p:nvSpPr>
          <p:cNvPr id="233" name="Вертикальный свиток 6"/>
          <p:cNvSpPr/>
          <p:nvPr/>
        </p:nvSpPr>
        <p:spPr>
          <a:xfrm>
            <a:off x="104292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есть - внутреннее сознание добра и зла, тайник души, в котором отзывается одобрение или осуждение каждого поступка, способность распознавать качество поступка, чувство, побуждающее к истине и добр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Н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Вертикальный свиток 1"/>
          <p:cNvSpPr/>
          <p:nvPr/>
        </p:nvSpPr>
        <p:spPr>
          <a:xfrm>
            <a:off x="161928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олжно стыдиться самого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олько же, как и других люд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динаково не делать дурн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танется ли оно никому неизвестным или о нем узнают все. Но наиболее должно стыдиться самого себя...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мо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1584360" cy="230184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219240"/>
            <a:ext cx="7510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971640" y="2205000"/>
          <a:ext cx="7345440" cy="3316320"/>
        </p:xfrm>
        <a:graphic>
          <a:graphicData uri="http://schemas.openxmlformats.org/drawingml/2006/table">
            <a:tbl>
              <a:tblPr/>
              <a:tblGrid>
                <a:gridCol w="3671640"/>
                <a:gridCol w="367380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овес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ы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1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ыд перед самим собой, даже если люди тебя не осуд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ёлое переживание позора перед людьми за свое по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701640" y="554040"/>
            <a:ext cx="7912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365040"/>
            <a:ext cx="7332480" cy="11098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"/>
          <p:cNvSpPr/>
          <p:nvPr/>
        </p:nvSpPr>
        <p:spPr>
          <a:xfrm>
            <a:off x="250920" y="162936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очитайте прит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заключается смысл прит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мора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акими мыслями и чувствами ва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хотелось подел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( Чему она вас научила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2:44:04Z</dcterms:created>
  <dc:creator>Пользователь</dc:creator>
  <dc:description/>
  <dc:language>en-US</dc:language>
  <cp:lastModifiedBy>Пользователь</cp:lastModifiedBy>
  <dcterms:modified xsi:type="dcterms:W3CDTF">2012-06-07T03:27:09Z</dcterms:modified>
  <cp:revision>20</cp:revision>
  <dc:subject/>
  <dc:title>Слайд 1</dc:title>
</cp:coreProperties>
</file>