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C4B-03F4-419A-8ECB-D91CDDDA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97CE-D2AE-46F0-9281-0CB0B004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928-4108-4E45-950E-DE4C3E04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DF4-6209-40DD-93A2-1CD55BD7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2AA2-E591-4AAE-82A2-F37BE17B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D824-C0E4-48F6-8E54-35EB3779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4326-4917-4985-8CB4-3D76AD96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AE4E-DC3A-47DE-B0C8-E159587D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A774-66D6-4B0B-BF97-D18E8A95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7E70-4F3E-4291-9F75-E9589A0F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E40C-A6AB-4374-A643-9AF3B05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683-ACB1-452E-A658-8D4BC4BE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C414-B669-4138-8C44-1B73F281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37C1-DBB9-46D4-B1D9-28FFE4C1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7A5C-9880-4F66-B90E-2ED05C9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63D5-9DC8-4487-9601-6C541918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023A-A636-498C-9AA1-15F04880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4AE-F5B1-4E2B-ADE6-7B607C8E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E3E-7157-445B-818F-FE2D6EE2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F8C-79A6-40F9-B243-8EFD8F6B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96F-77C1-4810-9EF2-58CE3C22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8A7-3292-4158-82FC-297F7AB5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C0E-894B-4D92-B8F4-C755B9AF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9EC-EE65-437D-9DFD-782BEB83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0A24-559E-413B-949B-1232A6B526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BAEA-A81C-4568-A1C6-0984DFC182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student%20samples/student%20presentation/&#1057;&#1080;&#1084;&#1084;&#1077;&#1090;&#1088;&#1080;&#1103;%20&#1080;%20&#1077;&#1077;%20&#1074;&#1080;&#1076;&#1099;.ppt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student%20samples/student%20presentation/&#1060;&#1086;&#1090;&#1086;&#1072;&#1083;&#1073;&#1100;&#1073;&#1086;&#1084;.ppt" TargetMode="External"/><Relationship Id="rId2" Type="http://schemas.openxmlformats.org/officeDocument/2006/relationships/hyperlink" Target="file:///../../student%20samples/student%20presentation/&#1057;&#1080;&#1084;&#1084;&#1077;&#1090;&#1088;&#1080;&#1103;%20&#1074;%20&#1073;&#1099;&#1090;&#1091;.ppt" TargetMode="External"/><Relationship Id="rId3" Type="http://schemas.openxmlformats.org/officeDocument/2006/relationships/hyperlink" Target="file:///../student%20support/&#1057;&#1080;&#1084;&#1084;&#1077;&#1090;&#1088;&#1080;&#1103;%20&#1076;&#1088;&#1077;&#1074;&#1085;&#1077;&#1088;&#1091;&#1089;&#1089;&#1082;&#1086;&#1075;&#1086;%20&#1086;&#1088;&#1085;&#1072;&#1084;&#1077;&#1085;&#1090;&#1072;.doc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student%20support/&#1057;&#1080;&#1084;&#1084;&#1077;&#1090;&#1088;&#1080;&#1103;%20&#1074;%20&#1072;&#1083;&#1075;&#1077;&#1073;&#1088;&#1077;.ppt" TargetMode="External"/><Relationship Id="rId2" Type="http://schemas.openxmlformats.org/officeDocument/2006/relationships/hyperlink" Target="file:///../../student%20samples/student%20publication/&#1057;&#1080;&#1084;&#1077;&#1090;&#1086;&#1080;&#1095;&#1085;&#1099;&#1077;%20&#1089;&#1080;&#1089;&#1090;&#1077;&#1084;&#1099;.doc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student%20support/&#1057;&#1080;&#1084;&#1084;&#1077;&#1090;&#1088;&#1080;&#1103;%20&#1080;%20&#1074;&#1077;&#1082;&#1090;&#1086;&#1088;&#1099;.xls" TargetMode="External"/><Relationship Id="rId2" Type="http://schemas.openxmlformats.org/officeDocument/2006/relationships/hyperlink" Target="file:///../student%20support/&#1058;&#1077;&#1089;&#1090;.xls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емнёва Любовь Борисовна, учитель мате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797360"/>
            <a:ext cx="140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РО. 2007 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МОУ  средняя общеобразовательная школа имени Н.А.Некра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57200" y="981000"/>
            <a:ext cx="642960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 и м м е т р и я   в о к р у г  н а 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00"/>
                </a:solidFill>
                <a:latin typeface="Sylfaen"/>
              </a:rPr>
              <a:t>Этапы проек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8000" y="836640"/>
          <a:ext cx="8785080" cy="5049720"/>
        </p:xfrm>
        <a:graphic>
          <a:graphicData uri="http://schemas.openxmlformats.org/drawingml/2006/table">
            <a:tbl>
              <a:tblPr/>
              <a:tblGrid>
                <a:gridCol w="2492280"/>
                <a:gridCol w="3800520"/>
                <a:gridCol w="2492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даг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ул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сновополагающего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блемного вопро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здание проблемной ситу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ектирово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ение тем исследования. Формулирование частных вопросов. Формирование групп. Разработка критериев оцен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кт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бор материала. Создание презентаций. Работа над веб-сайт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нтроль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ррекцио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зентация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ординация работы. Создание портфолио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00"/>
                </a:solidFill>
                <a:latin typeface="Comic Sans MS"/>
              </a:rPr>
              <a:t>Что такое симметрия</a:t>
            </a: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5200" y="2063880"/>
          <a:ext cx="7416720" cy="2352600"/>
        </p:xfrm>
        <a:graphic>
          <a:graphicData uri="http://schemas.openxmlformats.org/drawingml/2006/table">
            <a:tbl>
              <a:tblPr/>
              <a:tblGrid>
                <a:gridCol w="3686040"/>
                <a:gridCol w="3730680"/>
              </a:tblGrid>
              <a:tr h="5943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мметрия и её ви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1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симметр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Где встречается симметрия в природе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2139840"/>
          <a:ext cx="7696080" cy="2641320"/>
        </p:xfrm>
        <a:graphic>
          <a:graphicData uri="http://schemas.openxmlformats.org/drawingml/2006/table">
            <a:tbl>
              <a:tblPr/>
              <a:tblGrid>
                <a:gridCol w="3824280"/>
                <a:gridCol w="387180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расте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мире насекомых, рыб, птиц,  животны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Как используется симметрия в жизни людей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2139840"/>
          <a:ext cx="7696080" cy="3071520"/>
        </p:xfrm>
        <a:graphic>
          <a:graphicData uri="http://schemas.openxmlformats.org/drawingml/2006/table">
            <a:tbl>
              <a:tblPr/>
              <a:tblGrid>
                <a:gridCol w="3824280"/>
                <a:gridCol w="38718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искусстве и архитектур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1"/>
                        </a:rPr>
                        <a:t>презен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декоративно-прикладном искусств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2"/>
                        </a:rPr>
                        <a:t>Фотоальбом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</a:rPr>
                        <a:t>, </a:t>
                      </a:r>
                      <a:r>
                        <a:rPr b="0" lang="en-US" sz="2400" spc="-1" strike="noStrike" u="sng">
                          <a:solidFill>
                            <a:srgbClr val="00b200"/>
                          </a:solidFill>
                          <a:uFillTx/>
                          <a:latin typeface="Arial Cyr"/>
                          <a:hlinkClick r:id="rId3"/>
                        </a:rPr>
                        <a:t>рефе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мметрия в техник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к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Comic Sans MS"/>
              </a:rPr>
              <a:t>Где встречается симметрия алгебре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2139840"/>
          <a:ext cx="7696080" cy="2900520"/>
        </p:xfrm>
        <a:graphic>
          <a:graphicData uri="http://schemas.openxmlformats.org/drawingml/2006/table">
            <a:tbl>
              <a:tblPr/>
              <a:tblGrid>
                <a:gridCol w="3824280"/>
                <a:gridCol w="387180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емы исслед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отчё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мметрия  в алгебр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/>
                        </a:rPr>
                        <a:t>рефе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имметрические системы, способы их реш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/>
                        </a:rPr>
                        <a:t>рефер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89308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Дидактические и методические материал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мметрия  и векторы (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кроссворд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имметрия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(тест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ктическая №1 (рабо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ктическая №2 (рабо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Структура УМП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791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исание проек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-511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меры работ учащих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метрия и её виды (презентация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метрия в техник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буклет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итерии оценив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кле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зент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й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877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Результат нашей работ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тогом проекта стало созда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йт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тором отражены все наши достиж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Информационные ресурсы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Афанасьев А.Н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ифология Древней Руси. — М.: Эксмо, 2006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ейль Г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мметрия. — Изд. 2-е, стер. — М.: Едиториал УРСС, 2003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Гнеденко Б.В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рки по истории математики в России. — 2-е изд., испр. и доп. — М.: КомКнига, 2005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 Изобразительные мотивы в русской народной вышивке. Музей народного искусства. — М.: Советская Россия, 1990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5. Климова Н.'Г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одный орнамент в композиции художественных изделий. — М.: Изобразительное искусство, 1993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. Как была крещена Русь. — М.: Политиздат, 1990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7. Левкиевская Е.Е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ифы русского народа. — М.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стрель, 2000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Рыбаков Б.А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зычество Древней Руси. — М.: Наука, 1988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5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5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«Красота тесно связана  с симметрией»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ейль Герм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lfaen"/>
                <a:ea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Основополагающий вопро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205000"/>
            <a:ext cx="8893080" cy="24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расота в симметрии или в асимметрии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Проблемный вопрос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жет ли мир существовать без симметрии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Comic Sans MS"/>
              </a:rPr>
              <a:t>Аннотация проект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ект рассчитан на учащихся одиннадцатого класса. Учащиеся изучают тему «Движения» и в рамках  её тему «Симметрия в пространстве». Между тем симметрия имеет богатое практическое приложение. Участие в проекте позволит ученикам развить инициативность, самостоятельность, коммуникативные способност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0440" y="366840"/>
            <a:ext cx="66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Типология проекта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27476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ктико-ориентированный, творческий</a:t>
            </a:r>
            <a:r>
              <a:rPr b="0" lang="en-US" sz="40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2205000"/>
            <a:ext cx="806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Категория </a:t>
            </a:r>
            <a:r>
              <a:rPr b="0" lang="en-US" sz="5400" spc="-1" strike="noStrike">
                <a:solidFill>
                  <a:srgbClr val="00ff00"/>
                </a:solidFill>
                <a:latin typeface="Sylfaen"/>
              </a:rPr>
              <a:t>учащихс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3068640"/>
            <a:ext cx="237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941720"/>
            <a:ext cx="4876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Sylfaen"/>
              </a:rPr>
              <a:t>Предметные област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566100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68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Образовательные цел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ширить знания учащихся о симметр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формированию представления  о применении симметрии в различных сферах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550440"/>
            <a:ext cx="68706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Развивающие цел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формированию информационной культуры учащих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витие индивидуальности,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8280"/>
            <a:ext cx="68706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Sylfaen"/>
              </a:rPr>
              <a:t>Воспитательные цел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351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воспитанию чувства уверенности в себ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пособствовать формированию коммуникативной культур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09:39:50Z</dcterms:created>
  <dc:creator>Директор</dc:creator>
  <dc:description/>
  <dc:language>en-US</dc:language>
  <cp:lastModifiedBy>user</cp:lastModifiedBy>
  <dcterms:modified xsi:type="dcterms:W3CDTF">2008-02-16T07:03:36Z</dcterms:modified>
  <cp:revision>44</cp:revision>
  <dc:subject/>
  <dc:title>© МОУ средняя общеобразовательная школа имени Н.А.Некрасова МОУ Ильинская общеобразовательная школа</dc:title>
</cp:coreProperties>
</file>