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230E-064F-4525-9BF4-FC375DBF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A25F-35CA-45F8-BA6D-ADD06FB7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649C-EAB1-4E79-A1ED-A073BB78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431-66E2-4A4D-B4C8-4CDF02F6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A83B-4E3D-4254-A597-3D439E9E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3BF2-1708-48F3-8898-E01BA383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9481-B50A-4151-A53D-B2F36AFF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BF30-BB0D-4A1F-A3FB-50AA947F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90A5-C633-49E2-A722-64319D4C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840A-FBFE-403C-B2E4-8724788A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884A-F0EE-45CC-8BD8-F4EEC2D4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835-C079-410D-AFB3-3DD7D988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4A34-CF5E-4030-8EAF-23A96A63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D9F3-FFF6-4061-86F4-8BA97537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C1D2-D1DB-4EDB-9066-2700F8BB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415B-7CD0-4704-9493-D0560E16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4193-4764-4E81-BC83-C75DC76A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ED93-50A3-4D63-B865-32B34CF4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A12A-DD7A-4E1E-8F88-5114388E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20E1-8650-4FE6-AE34-73789930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975-94C9-479B-8AFB-FC371D3A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4466-822E-41ED-9A0C-FA3DE452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A9C-0A24-4CF2-A987-D2CBFFD4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0F6-53CC-4F07-81CA-5684090A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BB21-B456-4FE2-B7DC-258DE9ECDA0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316E-07D2-4572-A685-05C329A2003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../student%20samples/student%20presentation/&#1057;&#1080;&#1084;&#1084;&#1077;&#1090;&#1088;&#1080;&#1103;%20&#1080;%20&#1077;&#1077;%20&#1074;&#1080;&#1076;&#1099;.ppt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student%20samples/student%20presentation/&#1060;&#1086;&#1090;&#1086;&#1072;&#1083;&#1073;&#1100;&#1073;&#1086;&#1084;.ppt" TargetMode="External"/><Relationship Id="rId2" Type="http://schemas.openxmlformats.org/officeDocument/2006/relationships/hyperlink" Target="file:///../../student%20samples/student%20presentation/&#1057;&#1080;&#1084;&#1084;&#1077;&#1090;&#1088;&#1080;&#1103;%20&#1074;%20&#1073;&#1099;&#1090;&#1091;.ppt" TargetMode="External"/><Relationship Id="rId3" Type="http://schemas.openxmlformats.org/officeDocument/2006/relationships/hyperlink" Target="file:///../student%20support/&#1057;&#1080;&#1084;&#1084;&#1077;&#1090;&#1088;&#1080;&#1103;%20&#1076;&#1088;&#1077;&#1074;&#1085;&#1077;&#1088;&#1091;&#1089;&#1089;&#1082;&#1086;&#1075;&#1086;%20&#1086;&#1088;&#1085;&#1072;&#1084;&#1077;&#1085;&#1090;&#1072;.doc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student%20support/&#1057;&#1080;&#1084;&#1084;&#1077;&#1090;&#1088;&#1080;&#1103;%20&#1074;%20&#1072;&#1083;&#1075;&#1077;&#1073;&#1088;&#1077;.ppt" TargetMode="External"/><Relationship Id="rId2" Type="http://schemas.openxmlformats.org/officeDocument/2006/relationships/hyperlink" Target="file:///../../student%20samples/student%20publication/&#1057;&#1080;&#1084;&#1077;&#1090;&#1086;&#1080;&#1095;&#1085;&#1099;&#1077;%20&#1089;&#1080;&#1089;&#1090;&#1077;&#1084;&#1099;.doc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student%20support/&#1057;&#1080;&#1084;&#1084;&#1077;&#1090;&#1088;&#1080;&#1103;%20&#1080;%20&#1074;&#1077;&#1082;&#1090;&#1086;&#1088;&#1099;.xls" TargetMode="External"/><Relationship Id="rId2" Type="http://schemas.openxmlformats.org/officeDocument/2006/relationships/hyperlink" Target="file:///../student%20support/&#1058;&#1077;&#1089;&#1090;.xls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27432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емнёва Любовь Борисовна, учитель математи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797360"/>
            <a:ext cx="140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РО. 2007 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МОУ  средняя общеобразовательная школа имени Н.А.Некра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57200" y="981000"/>
            <a:ext cx="6429600" cy="27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 и м м е т р и я   в о к р у г  н а 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ff00"/>
                </a:solidFill>
                <a:latin typeface="Sylfaen"/>
              </a:rPr>
              <a:t>Этапы проект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08000" y="836640"/>
          <a:ext cx="8785080" cy="5049720"/>
        </p:xfrm>
        <a:graphic>
          <a:graphicData uri="http://schemas.openxmlformats.org/drawingml/2006/table">
            <a:tbl>
              <a:tblPr/>
              <a:tblGrid>
                <a:gridCol w="2492280"/>
                <a:gridCol w="3800520"/>
                <a:gridCol w="2492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звание эта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че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даг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дготов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ормулир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сновополагающего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блемного вопро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здание проблемной ситу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ектировоч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пределение тем исследования. Формулирование частных вопросов. Формирование групп. Разработка критериев оцен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ординация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акт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бор материала. Создание презентаций. Работа над веб-сайт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ординация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нтроль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ррекцио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мо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ординация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ключ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зентация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ординация работы. Создание портфолио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ff00"/>
                </a:solidFill>
                <a:latin typeface="Comic Sans MS"/>
              </a:rPr>
              <a:t>Что такое симметрия</a:t>
            </a:r>
            <a:r>
              <a:rPr b="1" i="1" lang="en-US" sz="4400" spc="-1" strike="noStrike">
                <a:solidFill>
                  <a:srgbClr val="00ff00"/>
                </a:solidFill>
                <a:latin typeface="Comic Sans MS"/>
              </a:rPr>
              <a:t>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835200" y="2063880"/>
          <a:ext cx="7416720" cy="2352600"/>
        </p:xfrm>
        <a:graphic>
          <a:graphicData uri="http://schemas.openxmlformats.org/drawingml/2006/table">
            <a:tbl>
              <a:tblPr/>
              <a:tblGrid>
                <a:gridCol w="3686040"/>
                <a:gridCol w="3730680"/>
              </a:tblGrid>
              <a:tr h="59436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емы исследов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отчё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имметрия и её ви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Arial Cyr"/>
                          <a:hlinkClick r:id="rId1"/>
                        </a:rPr>
                        <a:t>презент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симметр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езент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00"/>
                </a:solidFill>
                <a:latin typeface="Comic Sans MS"/>
              </a:rPr>
              <a:t>Где встречается симметрия в природе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5800" y="2139840"/>
          <a:ext cx="7696080" cy="2641320"/>
        </p:xfrm>
        <a:graphic>
          <a:graphicData uri="http://schemas.openxmlformats.org/drawingml/2006/table">
            <a:tbl>
              <a:tblPr/>
              <a:tblGrid>
                <a:gridCol w="3824280"/>
                <a:gridCol w="387180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емы исследов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отчё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мметрия расте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зент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мметрия в мире насекомых, рыб, птиц,  животных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зентация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00"/>
                </a:solidFill>
                <a:latin typeface="Comic Sans MS"/>
              </a:rPr>
              <a:t>Как используется симметрия в жизни людей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85800" y="2139840"/>
          <a:ext cx="7696080" cy="3071520"/>
        </p:xfrm>
        <a:graphic>
          <a:graphicData uri="http://schemas.openxmlformats.org/drawingml/2006/table">
            <a:tbl>
              <a:tblPr/>
              <a:tblGrid>
                <a:gridCol w="3824280"/>
                <a:gridCol w="38718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емы исследов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отчё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мметрия в искусстве и архитектур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Arial Cyr"/>
                          <a:hlinkClick r:id="rId1"/>
                        </a:rPr>
                        <a:t>презент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мметрия в декоративно-прикладном искусств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Arial Cyr"/>
                          <a:hlinkClick r:id="rId2"/>
                        </a:rPr>
                        <a:t>Фотоальбом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</a:rPr>
                        <a:t>, </a:t>
                      </a: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Arial Cyr"/>
                          <a:hlinkClick r:id="rId3"/>
                        </a:rPr>
                        <a:t>рефер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мметрия в техник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к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00"/>
                </a:solidFill>
                <a:latin typeface="Comic Sans MS"/>
              </a:rPr>
              <a:t>Где встречается симметрия алгебре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85800" y="2139840"/>
          <a:ext cx="7696080" cy="2900520"/>
        </p:xfrm>
        <a:graphic>
          <a:graphicData uri="http://schemas.openxmlformats.org/drawingml/2006/table">
            <a:tbl>
              <a:tblPr/>
              <a:tblGrid>
                <a:gridCol w="3824280"/>
                <a:gridCol w="387180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емы исследов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отчё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имметрия  в алгебре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"/>
                        </a:rPr>
                        <a:t>рефер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имметрические системы, способы их реш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"/>
                        </a:rPr>
                        <a:t>рефер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89308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Дидактические и методические материалы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имметрия  и векторы (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кроссворд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имметрия </a:t>
            </a: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(тест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актическая №1 (работ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актическая №2 (работ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Структура УМП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71280" y="981000"/>
            <a:ext cx="791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-511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писание проек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-511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меры работ учащих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метрия и её виды (презентация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метрия в техник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буклет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итерии оценива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укле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зент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b-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ай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877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Результат нашей работы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тогом проекта стало создан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b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йта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котором отражены все наши достиж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713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Информационные ресурсы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Афанасьев А.Н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ифология Древней Руси. — М.: Эксмо, 2006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Вейль Г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имметрия. — Изд. 2-е, стер. — М.: Едиториал УРСС, 2003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Гнеденко Б.В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черки по истории математики в России. — 2-е изд., испр. и доп. — М.: КомКнига, 2005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. Изобразительные мотивы в русской народной вышивке. Музей народного искусства. — М.: Советская Россия, 1990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5. Климова Н.'Г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одный орнамент в композиции художественных изделий. — М.: Изобразительное искусство, 1993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. Как была крещена Русь. — М.: Политиздат, 1990.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7. Левкиевская Е.Е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ифы русского народа. — М.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стрель, 2000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8.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Рыбаков Б.А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Язычество Древней Руси. — М.: Наука, 1988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5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5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5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5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5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5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5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ylfaen"/>
                <a:ea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«Красота тесно связана  с симметрией»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ейль Герман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lfaen"/>
                <a:ea typeface="Arial"/>
              </a:rPr>
              <a:t>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Основополагающий вопро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560" y="2205000"/>
            <a:ext cx="8893080" cy="24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Красота в симметрии или в асимметрии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Проблемный вопрос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Может ли мир существовать без симметрии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Comic Sans MS"/>
              </a:rPr>
              <a:t>Аннотация проект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ект рассчитан на учащихся одиннадцатого класса. Учащиеся изучают тему «Движения» и в рамках  её тему «Симметрия в пространстве». Между тем симметрия имеет богатое практическое приложение. Участие в проекте позволит ученикам развить инициативность, самостоятельность, коммуникативные способност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0440" y="366840"/>
            <a:ext cx="66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Типология проекта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1274760"/>
            <a:ext cx="871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актико-ориентированный, творческий</a:t>
            </a:r>
            <a:r>
              <a:rPr b="0" lang="en-US" sz="40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2205000"/>
            <a:ext cx="8066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Категория </a:t>
            </a:r>
            <a:r>
              <a:rPr b="0" lang="en-US" sz="5400" spc="-1" strike="noStrike">
                <a:solidFill>
                  <a:srgbClr val="00ff00"/>
                </a:solidFill>
                <a:latin typeface="Sylfaen"/>
              </a:rPr>
              <a:t>учащихс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19640" y="3068640"/>
            <a:ext cx="2377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4941720"/>
            <a:ext cx="4876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Sylfaen"/>
              </a:rPr>
              <a:t>Предметные област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566100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68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Образовательные цел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сширить знания учащихся о симметр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пособствовать формированию представления  о применении симметрии в различных сферах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550440"/>
            <a:ext cx="68706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Развивающие цел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пособствовать формированию информационной культуры учащих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витие индивидуальности, творческих способност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458280"/>
            <a:ext cx="687060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Воспитательные цел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351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пособствовать воспитанию чувства уверенности в себ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пособствовать формированию коммуникативной культуры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09:39:50Z</dcterms:created>
  <dc:creator>Директор</dc:creator>
  <dc:description/>
  <dc:language>en-US</dc:language>
  <cp:lastModifiedBy>user</cp:lastModifiedBy>
  <dcterms:modified xsi:type="dcterms:W3CDTF">2008-02-16T07:03:36Z</dcterms:modified>
  <cp:revision>44</cp:revision>
  <dc:subject/>
  <dc:title>© МОУ средняя общеобразовательная школа имени Н.А.Некрасова МОУ Ильинская общеобразовательная школа</dc:title>
</cp:coreProperties>
</file>