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287-DF2C-4927-AB2C-90F80C40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962-E701-4199-ADA0-9BCF284C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C26-42BD-4F5B-8BA8-B8B20F2F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43A-4D1B-49AF-B1BA-131C8577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4929-A0A3-4DBB-ACFE-EEFB3583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F726-86D8-4965-849A-74FCA2F8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9E62-89F6-464B-8BBA-AB129600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C6D5-CC00-44BA-81FF-97326E14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2AEB-75AD-4228-BBF0-FE0A72F0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4374-F36A-448E-B28E-A1E20ACE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4E54-0E60-440B-9666-2E54025F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277-A89E-4C46-8913-2663A326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D0DC-B336-44F7-A203-33748D8E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7437-E009-4B95-A88A-C24DA576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79A0-2DFC-4C23-9FFB-B84E5C02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7A9D-3FFD-48CE-9D71-0AAD92B3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81BF-FD1B-4600-B790-04FBF068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6AD-3948-46F2-BD9A-799B9927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EB0-1918-4F68-B9F2-257C8FDE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FEC-E941-44B0-B9D5-A7BF24A0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3C3-BBCB-4B73-BA01-5C143185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005-3A0A-4245-BCDA-8EB60B37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F59-98B7-4897-8E8C-3DAFDDB0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4CD-5510-446E-9E26-DE14D9C3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20F6-5F43-4423-BCEC-D81F7BDAFD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5925-9BC5-4C9C-AECB-0DC12BF23F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student%20samples/student%20presentation/&#1057;&#1080;&#1084;&#1084;&#1077;&#1090;&#1088;&#1080;&#1103;%20&#1080;%20&#1077;&#1077;%20&#1074;&#1080;&#1076;&#1099;.ppt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student%20samples/student%20presentation/&#1060;&#1086;&#1090;&#1086;&#1072;&#1083;&#1073;&#1100;&#1073;&#1086;&#1084;.ppt" TargetMode="External"/><Relationship Id="rId2" Type="http://schemas.openxmlformats.org/officeDocument/2006/relationships/hyperlink" Target="file:///../../student%20samples/student%20presentation/&#1057;&#1080;&#1084;&#1084;&#1077;&#1090;&#1088;&#1080;&#1103;%20&#1074;%20&#1073;&#1099;&#1090;&#1091;.ppt" TargetMode="External"/><Relationship Id="rId3" Type="http://schemas.openxmlformats.org/officeDocument/2006/relationships/hyperlink" Target="file:///../student%20support/&#1057;&#1080;&#1084;&#1084;&#1077;&#1090;&#1088;&#1080;&#1103;%20&#1076;&#1088;&#1077;&#1074;&#1085;&#1077;&#1088;&#1091;&#1089;&#1089;&#1082;&#1086;&#1075;&#1086;%20&#1086;&#1088;&#1085;&#1072;&#1084;&#1077;&#1085;&#1090;&#1072;.doc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student%20support/&#1057;&#1080;&#1084;&#1084;&#1077;&#1090;&#1088;&#1080;&#1103;%20&#1074;%20&#1072;&#1083;&#1075;&#1077;&#1073;&#1088;&#1077;.ppt" TargetMode="External"/><Relationship Id="rId2" Type="http://schemas.openxmlformats.org/officeDocument/2006/relationships/hyperlink" Target="file:///../../student%20samples/student%20publication/&#1057;&#1080;&#1084;&#1077;&#1090;&#1086;&#1080;&#1095;&#1085;&#1099;&#1077;%20&#1089;&#1080;&#1089;&#1090;&#1077;&#1084;&#1099;.doc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student%20support/&#1057;&#1080;&#1084;&#1084;&#1077;&#1090;&#1088;&#1080;&#1103;%20&#1080;%20&#1074;&#1077;&#1082;&#1090;&#1086;&#1088;&#1099;.xls" TargetMode="External"/><Relationship Id="rId2" Type="http://schemas.openxmlformats.org/officeDocument/2006/relationships/hyperlink" Target="file:///../student%20support/&#1058;&#1077;&#1089;&#1090;.xls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7432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мнёва Любовь Борисовна, учитель матем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797360"/>
            <a:ext cx="140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РО. 2007 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МОУ  средняя общеобразовательная школа имени Н.А.Некра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57200" y="981000"/>
            <a:ext cx="642960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 и м м е т р и я   в о к р у г  н а 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00"/>
                </a:solidFill>
                <a:latin typeface="Sylfaen"/>
              </a:rPr>
              <a:t>Этапы проек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8000" y="836640"/>
          <a:ext cx="8785080" cy="5049720"/>
        </p:xfrm>
        <a:graphic>
          <a:graphicData uri="http://schemas.openxmlformats.org/drawingml/2006/table">
            <a:tbl>
              <a:tblPr/>
              <a:tblGrid>
                <a:gridCol w="2492280"/>
                <a:gridCol w="3800520"/>
                <a:gridCol w="2492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даг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готов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улир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сновополагающего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блемного вопро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здание проблемн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ектиров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ределение тем исследования. Формулирование частных вопросов. Формирование групп. Разработка критериев оцен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к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бор материала. Создание презентаций. Работа над веб-сайт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нтроль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ррек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ключ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зентация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. Создание портфолио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Comic Sans MS"/>
              </a:rPr>
              <a:t>Что такое симметрия</a:t>
            </a: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5200" y="2063880"/>
          <a:ext cx="7416720" cy="2352600"/>
        </p:xfrm>
        <a:graphic>
          <a:graphicData uri="http://schemas.openxmlformats.org/drawingml/2006/table">
            <a:tbl>
              <a:tblPr/>
              <a:tblGrid>
                <a:gridCol w="3686040"/>
                <a:gridCol w="3730680"/>
              </a:tblGrid>
              <a:tr h="5943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мметрия и её ви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1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симметр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Где встречается симметрия в природе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2139840"/>
          <a:ext cx="7696080" cy="2641320"/>
        </p:xfrm>
        <a:graphic>
          <a:graphicData uri="http://schemas.openxmlformats.org/drawingml/2006/table">
            <a:tbl>
              <a:tblPr/>
              <a:tblGrid>
                <a:gridCol w="3824280"/>
                <a:gridCol w="387180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расте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мире насекомых, рыб, птиц,  животны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Как используется симметрия в жизни людей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2139840"/>
          <a:ext cx="7696080" cy="3071520"/>
        </p:xfrm>
        <a:graphic>
          <a:graphicData uri="http://schemas.openxmlformats.org/drawingml/2006/table">
            <a:tbl>
              <a:tblPr/>
              <a:tblGrid>
                <a:gridCol w="3824280"/>
                <a:gridCol w="38718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искусстве и архитектур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1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декоративно-прикладном искусств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2"/>
                        </a:rPr>
                        <a:t>Фотоальбом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</a:rPr>
                        <a:t>, </a:t>
                      </a: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3"/>
                        </a:rPr>
                        <a:t>рефе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техник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Где встречается симметрия алгебре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2139840"/>
          <a:ext cx="7696080" cy="2900520"/>
        </p:xfrm>
        <a:graphic>
          <a:graphicData uri="http://schemas.openxmlformats.org/drawingml/2006/table">
            <a:tbl>
              <a:tblPr/>
              <a:tblGrid>
                <a:gridCol w="3824280"/>
                <a:gridCol w="387180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мметрия  в алгебр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/>
                        </a:rPr>
                        <a:t>рефе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мметрические системы, способы их реш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/>
                        </a:rPr>
                        <a:t>рефе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89308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Дидактические и методические материал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мметрия  и векторы (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кроссворд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имметрия 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(тест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ктическая №1 (рабо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ктическая №2 (рабо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Структура УМП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791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исание проек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ры работ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метрия и её виды (презентация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метрия в техник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буклет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итерии оценива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кле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зент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й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877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Результат нашей работ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тогом проекта стало созда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b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йт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тором отражены все наши достиж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Информационные ресурсы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Афанасьев А.Н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ифология Древней Руси. — М.: Эксмо, 2006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ейль Г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мметрия. — Изд. 2-е, стер. — М.: Едиториал УРСС, 2003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Гнеденко Б.В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рки по истории математики в России. — 2-е изд., испр. и доп. — М.: КомКнига, 2005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Изобразительные мотивы в русской народной вышивке. Музей народного искусства. — М.: Советская Россия, 1990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5. Климова Н.'Г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одный орнамент в композиции художественных изделий. — М.: Изобразительное искусство, 1993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. Как была крещена Русь. — М.: Политиздат, 1990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7. Левкиевская Е.Е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ифы русского народа. — М.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стрель, 2000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Рыбаков Б.А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зычество Древней Руси. — М.: Наука, 1988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5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5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«Красота тесно связана  с симметрией»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ейль Герм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lfaen"/>
                <a:ea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Основополагающий вопро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205000"/>
            <a:ext cx="8893080" cy="24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расота в симметрии или в асимметрии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Проблемный вопрос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жет ли мир существовать без симметрии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Comic Sans MS"/>
              </a:rPr>
              <a:t>Аннотация проект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ект рассчитан на учащихся одиннадцатого класса. Учащиеся изучают тему «Движения» и в рамках  её тему «Симметрия в пространстве». Между тем симметрия имеет богатое практическое приложение. Участие в проекте позволит ученикам развить инициативность, самостоятельность, коммуникативные способност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0440" y="366840"/>
            <a:ext cx="66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Типология проекта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27476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ктико-ориентированный, творческий</a:t>
            </a:r>
            <a:r>
              <a:rPr b="0" lang="en-US" sz="40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2205000"/>
            <a:ext cx="806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Категория </a:t>
            </a:r>
            <a:r>
              <a:rPr b="0" lang="en-US" sz="5400" spc="-1" strike="noStrike">
                <a:solidFill>
                  <a:srgbClr val="00ff00"/>
                </a:solidFill>
                <a:latin typeface="Sylfaen"/>
              </a:rPr>
              <a:t>учащихс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3068640"/>
            <a:ext cx="237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941720"/>
            <a:ext cx="4876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Sylfaen"/>
              </a:rPr>
              <a:t>Предметные област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566100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68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Образовательные цел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ширить знания учащихся о симметр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формированию представления  о применении симметрии в различных сфера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550440"/>
            <a:ext cx="68706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Развивающие цел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формированию информационной культуры учащих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тие индивидуальности,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8280"/>
            <a:ext cx="687060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Воспитательные цел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351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воспитанию чувства уверенности в себ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формированию коммуникативной культур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09:39:50Z</dcterms:created>
  <dc:creator>Директор</dc:creator>
  <dc:description/>
  <dc:language>en-US</dc:language>
  <cp:lastModifiedBy>user</cp:lastModifiedBy>
  <dcterms:modified xsi:type="dcterms:W3CDTF">2008-02-16T07:03:36Z</dcterms:modified>
  <cp:revision>44</cp:revision>
  <dc:subject/>
  <dc:title>© МОУ средняя общеобразовательная школа имени Н.А.Некрасова МОУ Ильинская общеобразовательная школа</dc:title>
</cp:coreProperties>
</file>