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774720" y="812880"/>
            <a:ext cx="600552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dt" idx="13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14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15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51DAD-41E9-4043-98D4-BC1C63F4F6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A55B6-0611-47ED-B9E8-60DECBE450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7E765-2734-4FF5-979B-345E109FC6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F804B-9FAF-4192-84C2-6CC6BFBBFE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49490-B104-4071-BC98-72FE45E7B7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0200" cy="40068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1325E-F27E-4A53-95A2-A141B79CAF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0200" cy="4006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27754-8604-4998-9BFA-718F150D37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0200" cy="40068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87A-EADE-4908-AF61-DFD2281D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B2C-2753-4280-93DE-DB0247C0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0048-4383-41B0-84BF-C6D254DC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52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18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286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52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18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3C1E-5CE9-4DAF-8BB9-3BBE6C5A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F5C9-95D7-4A36-B389-2B167237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BD8B-1F05-4DB1-A370-CB8F4339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C498-7087-4491-B04B-8E36A1F1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24DD-EBA8-4D62-A85F-FC9DB8D4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DAAA-44E6-4C60-B30D-A515699C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28280" y="144360"/>
            <a:ext cx="730404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605B-6A83-4A4E-BBDF-537EE47B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9164-C7A6-4E8B-95C9-ED3EF250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F4AF-FC59-458E-A84F-4C15CAF4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F5DD-C23F-4016-8EEB-D120D3C8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E078-7914-4106-B5E5-0AFAFBE6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6785-D0E3-4D99-A6D6-AD3306D7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F86E-DEEE-45AA-AD9E-24F9E45E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952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618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286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4952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2618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AE05-34FC-44DE-9507-C04C6D83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64FC4-A4AD-47E6-9CE9-48376136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C7BC3-E60B-44C0-8949-FDCA12C7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7B0C4-6046-4C43-8D1C-F93A452E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F2723-8B3F-4C4C-8F3D-14698261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4AFDD-854F-4220-9A96-A58D87E3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DCA-7F48-455B-992E-330E5EB5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728280" y="144360"/>
            <a:ext cx="730404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0BCEE-2EDE-4902-AC91-2D77DE30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E6B4F-6B44-4A15-86BA-CABB0793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0E71A-44B4-42CF-8CA2-4C8164DC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0ABF3-893B-4486-A0AB-797A97E0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17E26-591A-41DF-9F8A-5528531A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A3105-0FAC-4DE1-B887-86EAC8FF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952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618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7286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952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2618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C070B-D549-4280-9824-E4DA9302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C65F4-CFCE-4380-8356-3C5DF58D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1102E-6B6F-4D76-AB23-AC8CFBDE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40C38-0A9C-44FC-807A-7F10AFE1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EF71-A807-4216-9DEF-F65D3B5F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E0D82-BC29-4BE4-9ACC-B8C609C7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2B4D0-DAE6-4893-9D42-1A01DB75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728280" y="144360"/>
            <a:ext cx="730404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3E165-92FB-4C62-A9CA-D591D5D8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F5CFA-C6F6-40B1-AF08-EE3F053B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B43E9-C736-43F2-90B6-264037A0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E1DB5-A5E8-4B22-A9AB-B079CAC6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A159F-938B-42CD-84B9-6AF6E6AE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592A0-7C5F-4664-B3D4-4AE6486B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4952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18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7286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4952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18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BCE97-3336-4C8D-918B-73E0F1B1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6F29-57F3-4D35-BA1A-FEA9B9F8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28280" y="144360"/>
            <a:ext cx="730404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52B8-0F3F-4C37-BABD-D9DA9FFE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BCB-6E47-4C50-AC69-1788A258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D1E-38D7-4618-B07D-3F0777DF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ED9C-F6B2-4AE5-B913-CF4C9AAB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8336880" y="-137520"/>
            <a:ext cx="1096920" cy="221616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4860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56920" y="5903640"/>
            <a:ext cx="2025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80000" y="5903640"/>
            <a:ext cx="3078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41680" y="5903640"/>
            <a:ext cx="2024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0B8FCE-3BB1-431A-9F53-95AEC96F23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8429400" y="-99720"/>
            <a:ext cx="1101600" cy="2228760"/>
          </a:xfrm>
          <a:custGeom>
            <a:avLst/>
            <a:gdLst>
              <a:gd name="textAreaLeft" fmla="*/ 0 w 1101600"/>
              <a:gd name="textAreaRight" fmla="*/ 1101960 w 1101600"/>
              <a:gd name="textAreaTop" fmla="*/ 0 h 2228760"/>
              <a:gd name="textAreaBottom" fmla="*/ 2229120 h 222876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8385120" y="88560"/>
            <a:ext cx="968400" cy="1670040"/>
          </a:xfrm>
          <a:custGeom>
            <a:avLst/>
            <a:gdLst>
              <a:gd name="textAreaLeft" fmla="*/ 0 w 968400"/>
              <a:gd name="textAreaRight" fmla="*/ 968760 w 96840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235480"/>
            <a:ext cx="1896120" cy="1176120"/>
            <a:chOff x="7920" y="5235480"/>
            <a:chExt cx="1896120" cy="1176120"/>
          </a:xfrm>
        </p:grpSpPr>
        <p:sp>
          <p:nvSpPr>
            <p:cNvPr id="9" name="Freeform 11"/>
            <p:cNvSpPr/>
            <p:nvPr/>
          </p:nvSpPr>
          <p:spPr>
            <a:xfrm>
              <a:off x="39960" y="5257800"/>
              <a:ext cx="1837800" cy="97236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972360"/>
                <a:gd name="textAreaBottom" fmla="*/ 972720 h 97236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24400" y="5373360"/>
              <a:ext cx="119520" cy="19296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3120" y="5660640"/>
              <a:ext cx="1336680" cy="614160"/>
            </a:xfrm>
            <a:custGeom>
              <a:avLst/>
              <a:gdLst>
                <a:gd name="textAreaLeft" fmla="*/ 0 w 1336680"/>
                <a:gd name="textAreaRight" fmla="*/ 1337040 w 133668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17080" y="5711760"/>
              <a:ext cx="885960" cy="560160"/>
            </a:xfrm>
            <a:custGeom>
              <a:avLst/>
              <a:gdLst>
                <a:gd name="textAreaLeft" fmla="*/ 0 w 885960"/>
                <a:gd name="textAreaRight" fmla="*/ 886320 w 88596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17920" y="5298120"/>
              <a:ext cx="227520" cy="1814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81440" y="6243840"/>
              <a:ext cx="128160" cy="1677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49960" y="5410800"/>
              <a:ext cx="325440" cy="5738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3840"/>
                <a:gd name="textAreaBottom" fmla="*/ 574200 h 5738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126800" y="5385240"/>
              <a:ext cx="614160" cy="2606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85000" y="5539320"/>
              <a:ext cx="263160" cy="10044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235480"/>
              <a:ext cx="1896120" cy="1168200"/>
              <a:chOff x="7920" y="5235480"/>
              <a:chExt cx="1896120" cy="11682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841320" y="5343120"/>
                <a:ext cx="924120" cy="1060560"/>
                <a:chOff x="841320" y="5343120"/>
                <a:chExt cx="924120" cy="106056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841320" y="5380560"/>
                  <a:ext cx="264960" cy="129960"/>
                </a:xfrm>
                <a:custGeom>
                  <a:avLst/>
                  <a:gdLst>
                    <a:gd name="textAreaLeft" fmla="*/ 0 w 264960"/>
                    <a:gd name="textAreaRight" fmla="*/ 265320 w 26496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72800" y="6204600"/>
                  <a:ext cx="193680" cy="19908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199080"/>
                    <a:gd name="textAreaBottom" fmla="*/ 199440 h 19908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93080" y="5343120"/>
                  <a:ext cx="72360" cy="174960"/>
                </a:xfrm>
                <a:custGeom>
                  <a:avLst/>
                  <a:gdLst>
                    <a:gd name="textAreaLeft" fmla="*/ 0 w 72360"/>
                    <a:gd name="textAreaRight" fmla="*/ 72720 w 7236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7440" y="5598000"/>
                <a:ext cx="1004040" cy="374760"/>
              </a:xfrm>
              <a:custGeom>
                <a:avLst/>
                <a:gdLst>
                  <a:gd name="textAreaLeft" fmla="*/ 0 w 1004040"/>
                  <a:gd name="textAreaRight" fmla="*/ 1004400 w 10040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38120" y="5828760"/>
                <a:ext cx="411480" cy="221760"/>
              </a:xfrm>
              <a:custGeom>
                <a:avLst/>
                <a:gdLst>
                  <a:gd name="textAreaLeft" fmla="*/ 0 w 411480"/>
                  <a:gd name="textAreaRight" fmla="*/ 411840 w 411480"/>
                  <a:gd name="textAreaTop" fmla="*/ 0 h 221760"/>
                  <a:gd name="textAreaBottom" fmla="*/ 222120 h 22176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952560" y="5519880"/>
                <a:ext cx="180360" cy="356400"/>
              </a:xfrm>
              <a:custGeom>
                <a:avLst/>
                <a:gdLst>
                  <a:gd name="textAreaLeft" fmla="*/ 0 w 180360"/>
                  <a:gd name="textAreaRight" fmla="*/ 180360 w 18036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235480"/>
                <a:ext cx="1896120" cy="1015560"/>
                <a:chOff x="7920" y="5235480"/>
                <a:chExt cx="1896120" cy="101556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127880" y="6071400"/>
                  <a:ext cx="126360" cy="129960"/>
                </a:xfrm>
                <a:custGeom>
                  <a:avLst/>
                  <a:gdLst>
                    <a:gd name="textAreaLeft" fmla="*/ 0 w 126360"/>
                    <a:gd name="textAreaRight" fmla="*/ 126720 w 12636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591880"/>
                  <a:ext cx="1420200" cy="659160"/>
                </a:xfrm>
                <a:custGeom>
                  <a:avLst/>
                  <a:gdLst>
                    <a:gd name="textAreaLeft" fmla="*/ 0 w 1420200"/>
                    <a:gd name="textAreaRight" fmla="*/ 1420560 w 1420200"/>
                    <a:gd name="textAreaTop" fmla="*/ 0 h 659160"/>
                    <a:gd name="textAreaBottom" fmla="*/ 659520 h 6591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77840" y="5654880"/>
                  <a:ext cx="135000" cy="249840"/>
                </a:xfrm>
                <a:custGeom>
                  <a:avLst/>
                  <a:gdLst>
                    <a:gd name="textAreaLeft" fmla="*/ 0 w 135000"/>
                    <a:gd name="textAreaRight" fmla="*/ 135360 w 135000"/>
                    <a:gd name="textAreaTop" fmla="*/ 0 h 249840"/>
                    <a:gd name="textAreaBottom" fmla="*/ 250200 h 24984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56720" y="5235480"/>
                  <a:ext cx="543240" cy="889560"/>
                </a:xfrm>
                <a:custGeom>
                  <a:avLst/>
                  <a:gdLst>
                    <a:gd name="textAreaLeft" fmla="*/ 0 w 543240"/>
                    <a:gd name="textAreaRight" fmla="*/ 543600 w 543240"/>
                    <a:gd name="textAreaTop" fmla="*/ 0 h 889560"/>
                    <a:gd name="textAreaBottom" fmla="*/ 889920 h 88956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74520" y="5474880"/>
                  <a:ext cx="161640" cy="37764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377640"/>
                    <a:gd name="textAreaBottom" fmla="*/ 378000 h 37764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52600" y="5445000"/>
                  <a:ext cx="328680" cy="202320"/>
                </a:xfrm>
                <a:custGeom>
                  <a:avLst/>
                  <a:gdLst>
                    <a:gd name="textAreaLeft" fmla="*/ 0 w 328680"/>
                    <a:gd name="textAreaRight" fmla="*/ 329040 w 328680"/>
                    <a:gd name="textAreaTop" fmla="*/ 0 h 202320"/>
                    <a:gd name="textAreaBottom" fmla="*/ 202680 h 20232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109520" y="5307480"/>
                  <a:ext cx="794520" cy="317160"/>
                </a:xfrm>
                <a:custGeom>
                  <a:avLst/>
                  <a:gdLst>
                    <a:gd name="textAreaLeft" fmla="*/ 0 w 794520"/>
                    <a:gd name="textAreaRight" fmla="*/ 794880 w 794520"/>
                    <a:gd name="textAreaTop" fmla="*/ 0 h 317160"/>
                    <a:gd name="textAreaBottom" fmla="*/ 317160 h 31716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208880" y="5409000"/>
                  <a:ext cx="412920" cy="128880"/>
                </a:xfrm>
                <a:custGeom>
                  <a:avLst/>
                  <a:gdLst>
                    <a:gd name="textAreaLeft" fmla="*/ 0 w 412920"/>
                    <a:gd name="textAreaRight" fmla="*/ 413280 w 41292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9228240" y="2000160"/>
            <a:ext cx="408960" cy="4070160"/>
            <a:chOff x="9228240" y="2000160"/>
            <a:chExt cx="408960" cy="4070160"/>
          </a:xfrm>
        </p:grpSpPr>
        <p:sp>
          <p:nvSpPr>
            <p:cNvPr id="36" name="Freeform 38"/>
            <p:cNvSpPr/>
            <p:nvPr/>
          </p:nvSpPr>
          <p:spPr>
            <a:xfrm flipH="1">
              <a:off x="9228240" y="3930120"/>
              <a:ext cx="344880" cy="2140200"/>
            </a:xfrm>
            <a:custGeom>
              <a:avLst/>
              <a:gdLst>
                <a:gd name="textAreaLeft" fmla="*/ 360 w 344880"/>
                <a:gd name="textAreaRight" fmla="*/ 345600 w 344880"/>
                <a:gd name="textAreaTop" fmla="*/ 0 h 2140200"/>
                <a:gd name="textAreaBottom" fmla="*/ 2140560 h 214020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9292320" y="2000160"/>
              <a:ext cx="344880" cy="2449080"/>
            </a:xfrm>
            <a:custGeom>
              <a:avLst/>
              <a:gdLst>
                <a:gd name="textAreaLeft" fmla="*/ 360 w 344880"/>
                <a:gd name="textAreaRight" fmla="*/ 345600 w 344880"/>
                <a:gd name="textAreaTop" fmla="*/ 0 h 2449080"/>
                <a:gd name="textAreaBottom" fmla="*/ 2449440 h 24490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666920" y="-157680"/>
            <a:ext cx="2493000" cy="2274120"/>
            <a:chOff x="7666920" y="-157680"/>
            <a:chExt cx="2493000" cy="2274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666920" y="-157680"/>
              <a:ext cx="2493000" cy="2274120"/>
              <a:chOff x="7666920" y="-157680"/>
              <a:chExt cx="2493000" cy="2274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9168480" y="1602360"/>
                <a:ext cx="92880" cy="4856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666920" y="-157680"/>
                <a:ext cx="2493000" cy="2274120"/>
                <a:chOff x="7666920" y="-157680"/>
                <a:chExt cx="2493000" cy="2274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8394480" y="94320"/>
                  <a:ext cx="229320" cy="210960"/>
                </a:xfrm>
                <a:custGeom>
                  <a:avLst/>
                  <a:gdLst>
                    <a:gd name="textAreaLeft" fmla="*/ 0 w 229320"/>
                    <a:gd name="textAreaRight" fmla="*/ 229680 w 229320"/>
                    <a:gd name="textAreaTop" fmla="*/ 0 h 210960"/>
                    <a:gd name="textAreaBottom" fmla="*/ 211320 h 21096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544600" y="456120"/>
                  <a:ext cx="403560" cy="738360"/>
                </a:xfrm>
                <a:custGeom>
                  <a:avLst/>
                  <a:gdLst>
                    <a:gd name="textAreaLeft" fmla="*/ 0 w 403560"/>
                    <a:gd name="textAreaRight" fmla="*/ 403920 w 403560"/>
                    <a:gd name="textAreaTop" fmla="*/ 0 h 738360"/>
                    <a:gd name="textAreaBottom" fmla="*/ 738720 h 7383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8245800" y="189000"/>
                  <a:ext cx="757440" cy="1514160"/>
                </a:xfrm>
                <a:custGeom>
                  <a:avLst/>
                  <a:gdLst>
                    <a:gd name="textAreaLeft" fmla="*/ 0 w 757440"/>
                    <a:gd name="textAreaRight" fmla="*/ 757800 w 757440"/>
                    <a:gd name="textAreaTop" fmla="*/ 0 h 1514160"/>
                    <a:gd name="textAreaBottom" fmla="*/ 1514520 h 151416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8344800" y="-153360"/>
                  <a:ext cx="1137240" cy="2265840"/>
                </a:xfrm>
                <a:custGeom>
                  <a:avLst/>
                  <a:gdLst>
                    <a:gd name="textAreaLeft" fmla="*/ 0 w 1137240"/>
                    <a:gd name="textAreaRight" fmla="*/ 1137600 w 1137240"/>
                    <a:gd name="textAreaTop" fmla="*/ 0 h 2265840"/>
                    <a:gd name="textAreaBottom" fmla="*/ 2266200 h 226584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955000" y="1334160"/>
                  <a:ext cx="253440" cy="205560"/>
                </a:xfrm>
                <a:custGeom>
                  <a:avLst/>
                  <a:gdLst>
                    <a:gd name="textAreaLeft" fmla="*/ 0 w 253440"/>
                    <a:gd name="textAreaRight" fmla="*/ 253800 w 253440"/>
                    <a:gd name="textAreaTop" fmla="*/ 0 h 205560"/>
                    <a:gd name="textAreaBottom" fmla="*/ 205920 h 20556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881920" y="1194480"/>
                  <a:ext cx="271800" cy="242640"/>
                </a:xfrm>
                <a:custGeom>
                  <a:avLst/>
                  <a:gdLst>
                    <a:gd name="textAreaLeft" fmla="*/ 0 w 271800"/>
                    <a:gd name="textAreaRight" fmla="*/ 272160 w 27180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8429040" y="300960"/>
                  <a:ext cx="271440" cy="24804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248040"/>
                    <a:gd name="textAreaBottom" fmla="*/ 248400 h 2480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8367480" y="199440"/>
                  <a:ext cx="268200" cy="232200"/>
                </a:xfrm>
                <a:custGeom>
                  <a:avLst/>
                  <a:gdLst>
                    <a:gd name="textAreaLeft" fmla="*/ 0 w 268200"/>
                    <a:gd name="textAreaRight" fmla="*/ 268200 w 268200"/>
                    <a:gd name="textAreaTop" fmla="*/ 0 h 232200"/>
                    <a:gd name="textAreaBottom" fmla="*/ 232560 h 23220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8218440" y="126000"/>
              <a:ext cx="70920" cy="14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8336880" y="-137520"/>
            <a:ext cx="1096920" cy="221616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4860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456920" y="5903640"/>
            <a:ext cx="2025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780000" y="5903640"/>
            <a:ext cx="3078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141680" y="5903640"/>
            <a:ext cx="2024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4C03F7-7473-4A67-AE91-90B790BAA9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8429400" y="-99720"/>
            <a:ext cx="1101600" cy="2228760"/>
          </a:xfrm>
          <a:custGeom>
            <a:avLst/>
            <a:gdLst>
              <a:gd name="textAreaLeft" fmla="*/ 0 w 1101600"/>
              <a:gd name="textAreaRight" fmla="*/ 1101960 w 1101600"/>
              <a:gd name="textAreaTop" fmla="*/ 0 h 2228760"/>
              <a:gd name="textAreaBottom" fmla="*/ 2229120 h 222876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8385120" y="88560"/>
            <a:ext cx="968400" cy="1670040"/>
          </a:xfrm>
          <a:custGeom>
            <a:avLst/>
            <a:gdLst>
              <a:gd name="textAreaLeft" fmla="*/ 0 w 968400"/>
              <a:gd name="textAreaRight" fmla="*/ 968760 w 96840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235480"/>
            <a:ext cx="1896120" cy="1176120"/>
            <a:chOff x="7920" y="5235480"/>
            <a:chExt cx="1896120" cy="1176120"/>
          </a:xfrm>
        </p:grpSpPr>
        <p:sp>
          <p:nvSpPr>
            <p:cNvPr id="96" name="Freeform 11"/>
            <p:cNvSpPr/>
            <p:nvPr/>
          </p:nvSpPr>
          <p:spPr>
            <a:xfrm>
              <a:off x="39960" y="5257800"/>
              <a:ext cx="1837800" cy="97236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972360"/>
                <a:gd name="textAreaBottom" fmla="*/ 972720 h 97236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724400" y="5373360"/>
              <a:ext cx="119520" cy="19296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3120" y="5660640"/>
              <a:ext cx="1336680" cy="614160"/>
            </a:xfrm>
            <a:custGeom>
              <a:avLst/>
              <a:gdLst>
                <a:gd name="textAreaLeft" fmla="*/ 0 w 1336680"/>
                <a:gd name="textAreaRight" fmla="*/ 1337040 w 133668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17080" y="5711760"/>
              <a:ext cx="885960" cy="560160"/>
            </a:xfrm>
            <a:custGeom>
              <a:avLst/>
              <a:gdLst>
                <a:gd name="textAreaLeft" fmla="*/ 0 w 885960"/>
                <a:gd name="textAreaRight" fmla="*/ 886320 w 88596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817920" y="5298120"/>
              <a:ext cx="227520" cy="1814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81440" y="6243840"/>
              <a:ext cx="128160" cy="1677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49960" y="5410800"/>
              <a:ext cx="325440" cy="5738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3840"/>
                <a:gd name="textAreaBottom" fmla="*/ 574200 h 5738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126800" y="5385240"/>
              <a:ext cx="614160" cy="2606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85000" y="5539320"/>
              <a:ext cx="263160" cy="10044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235480"/>
              <a:ext cx="1896120" cy="1168200"/>
              <a:chOff x="7920" y="5235480"/>
              <a:chExt cx="1896120" cy="11682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841320" y="5343120"/>
                <a:ext cx="924120" cy="1060560"/>
                <a:chOff x="841320" y="5343120"/>
                <a:chExt cx="924120" cy="106056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841320" y="5380560"/>
                  <a:ext cx="264960" cy="129960"/>
                </a:xfrm>
                <a:custGeom>
                  <a:avLst/>
                  <a:gdLst>
                    <a:gd name="textAreaLeft" fmla="*/ 0 w 264960"/>
                    <a:gd name="textAreaRight" fmla="*/ 265320 w 26496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72800" y="6204600"/>
                  <a:ext cx="193680" cy="19908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199080"/>
                    <a:gd name="textAreaBottom" fmla="*/ 199440 h 19908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693080" y="5343120"/>
                  <a:ext cx="72360" cy="174960"/>
                </a:xfrm>
                <a:custGeom>
                  <a:avLst/>
                  <a:gdLst>
                    <a:gd name="textAreaLeft" fmla="*/ 0 w 72360"/>
                    <a:gd name="textAreaRight" fmla="*/ 72720 w 7236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7440" y="5598000"/>
                <a:ext cx="1004040" cy="374760"/>
              </a:xfrm>
              <a:custGeom>
                <a:avLst/>
                <a:gdLst>
                  <a:gd name="textAreaLeft" fmla="*/ 0 w 1004040"/>
                  <a:gd name="textAreaRight" fmla="*/ 1004400 w 10040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38120" y="5828760"/>
                <a:ext cx="411480" cy="221760"/>
              </a:xfrm>
              <a:custGeom>
                <a:avLst/>
                <a:gdLst>
                  <a:gd name="textAreaLeft" fmla="*/ 0 w 411480"/>
                  <a:gd name="textAreaRight" fmla="*/ 411840 w 411480"/>
                  <a:gd name="textAreaTop" fmla="*/ 0 h 221760"/>
                  <a:gd name="textAreaBottom" fmla="*/ 222120 h 22176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952560" y="5519880"/>
                <a:ext cx="180360" cy="356400"/>
              </a:xfrm>
              <a:custGeom>
                <a:avLst/>
                <a:gdLst>
                  <a:gd name="textAreaLeft" fmla="*/ 0 w 180360"/>
                  <a:gd name="textAreaRight" fmla="*/ 180360 w 18036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235480"/>
                <a:ext cx="1896120" cy="1015560"/>
                <a:chOff x="7920" y="5235480"/>
                <a:chExt cx="1896120" cy="101556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127880" y="6071400"/>
                  <a:ext cx="126360" cy="129960"/>
                </a:xfrm>
                <a:custGeom>
                  <a:avLst/>
                  <a:gdLst>
                    <a:gd name="textAreaLeft" fmla="*/ 0 w 126360"/>
                    <a:gd name="textAreaRight" fmla="*/ 126720 w 12636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591880"/>
                  <a:ext cx="1420200" cy="659160"/>
                </a:xfrm>
                <a:custGeom>
                  <a:avLst/>
                  <a:gdLst>
                    <a:gd name="textAreaLeft" fmla="*/ 0 w 1420200"/>
                    <a:gd name="textAreaRight" fmla="*/ 1420560 w 1420200"/>
                    <a:gd name="textAreaTop" fmla="*/ 0 h 659160"/>
                    <a:gd name="textAreaBottom" fmla="*/ 659520 h 6591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77840" y="5654880"/>
                  <a:ext cx="135000" cy="249840"/>
                </a:xfrm>
                <a:custGeom>
                  <a:avLst/>
                  <a:gdLst>
                    <a:gd name="textAreaLeft" fmla="*/ 0 w 135000"/>
                    <a:gd name="textAreaRight" fmla="*/ 135360 w 135000"/>
                    <a:gd name="textAreaTop" fmla="*/ 0 h 249840"/>
                    <a:gd name="textAreaBottom" fmla="*/ 250200 h 24984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56720" y="5235480"/>
                  <a:ext cx="543240" cy="889560"/>
                </a:xfrm>
                <a:custGeom>
                  <a:avLst/>
                  <a:gdLst>
                    <a:gd name="textAreaLeft" fmla="*/ 0 w 543240"/>
                    <a:gd name="textAreaRight" fmla="*/ 543600 w 543240"/>
                    <a:gd name="textAreaTop" fmla="*/ 0 h 889560"/>
                    <a:gd name="textAreaBottom" fmla="*/ 889920 h 88956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74520" y="5474880"/>
                  <a:ext cx="161640" cy="37764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377640"/>
                    <a:gd name="textAreaBottom" fmla="*/ 378000 h 37764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52600" y="5445000"/>
                  <a:ext cx="328680" cy="202320"/>
                </a:xfrm>
                <a:custGeom>
                  <a:avLst/>
                  <a:gdLst>
                    <a:gd name="textAreaLeft" fmla="*/ 0 w 328680"/>
                    <a:gd name="textAreaRight" fmla="*/ 329040 w 328680"/>
                    <a:gd name="textAreaTop" fmla="*/ 0 h 202320"/>
                    <a:gd name="textAreaBottom" fmla="*/ 202680 h 20232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109520" y="5307480"/>
                  <a:ext cx="794520" cy="317160"/>
                </a:xfrm>
                <a:custGeom>
                  <a:avLst/>
                  <a:gdLst>
                    <a:gd name="textAreaLeft" fmla="*/ 0 w 794520"/>
                    <a:gd name="textAreaRight" fmla="*/ 794880 w 794520"/>
                    <a:gd name="textAreaTop" fmla="*/ 0 h 317160"/>
                    <a:gd name="textAreaBottom" fmla="*/ 317160 h 31716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208880" y="5409000"/>
                  <a:ext cx="412920" cy="128880"/>
                </a:xfrm>
                <a:custGeom>
                  <a:avLst/>
                  <a:gdLst>
                    <a:gd name="textAreaLeft" fmla="*/ 0 w 412920"/>
                    <a:gd name="textAreaRight" fmla="*/ 413280 w 41292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9228240" y="2000160"/>
            <a:ext cx="408960" cy="4070160"/>
            <a:chOff x="9228240" y="2000160"/>
            <a:chExt cx="408960" cy="4070160"/>
          </a:xfrm>
        </p:grpSpPr>
        <p:sp>
          <p:nvSpPr>
            <p:cNvPr id="123" name="Freeform 38"/>
            <p:cNvSpPr/>
            <p:nvPr/>
          </p:nvSpPr>
          <p:spPr>
            <a:xfrm flipH="1">
              <a:off x="9228240" y="3930120"/>
              <a:ext cx="344880" cy="2140200"/>
            </a:xfrm>
            <a:custGeom>
              <a:avLst/>
              <a:gdLst>
                <a:gd name="textAreaLeft" fmla="*/ 360 w 344880"/>
                <a:gd name="textAreaRight" fmla="*/ 345600 w 344880"/>
                <a:gd name="textAreaTop" fmla="*/ 0 h 2140200"/>
                <a:gd name="textAreaBottom" fmla="*/ 2140560 h 214020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9292320" y="2000160"/>
              <a:ext cx="344880" cy="2449080"/>
            </a:xfrm>
            <a:custGeom>
              <a:avLst/>
              <a:gdLst>
                <a:gd name="textAreaLeft" fmla="*/ 360 w 344880"/>
                <a:gd name="textAreaRight" fmla="*/ 345600 w 344880"/>
                <a:gd name="textAreaTop" fmla="*/ 0 h 2449080"/>
                <a:gd name="textAreaBottom" fmla="*/ 2449440 h 24490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666920" y="-157680"/>
            <a:ext cx="2493000" cy="2274120"/>
            <a:chOff x="7666920" y="-157680"/>
            <a:chExt cx="2493000" cy="2274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666920" y="-157680"/>
              <a:ext cx="2493000" cy="2274120"/>
              <a:chOff x="7666920" y="-157680"/>
              <a:chExt cx="2493000" cy="2274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9168480" y="1602360"/>
                <a:ext cx="92880" cy="4856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666920" y="-157680"/>
                <a:ext cx="2493000" cy="2274120"/>
                <a:chOff x="7666920" y="-157680"/>
                <a:chExt cx="2493000" cy="2274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8394480" y="94320"/>
                  <a:ext cx="229320" cy="210960"/>
                </a:xfrm>
                <a:custGeom>
                  <a:avLst/>
                  <a:gdLst>
                    <a:gd name="textAreaLeft" fmla="*/ 0 w 229320"/>
                    <a:gd name="textAreaRight" fmla="*/ 229680 w 229320"/>
                    <a:gd name="textAreaTop" fmla="*/ 0 h 210960"/>
                    <a:gd name="textAreaBottom" fmla="*/ 211320 h 21096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544600" y="456120"/>
                  <a:ext cx="403560" cy="738360"/>
                </a:xfrm>
                <a:custGeom>
                  <a:avLst/>
                  <a:gdLst>
                    <a:gd name="textAreaLeft" fmla="*/ 0 w 403560"/>
                    <a:gd name="textAreaRight" fmla="*/ 403920 w 403560"/>
                    <a:gd name="textAreaTop" fmla="*/ 0 h 738360"/>
                    <a:gd name="textAreaBottom" fmla="*/ 738720 h 7383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8245800" y="189000"/>
                  <a:ext cx="757440" cy="1514160"/>
                </a:xfrm>
                <a:custGeom>
                  <a:avLst/>
                  <a:gdLst>
                    <a:gd name="textAreaLeft" fmla="*/ 0 w 757440"/>
                    <a:gd name="textAreaRight" fmla="*/ 757800 w 757440"/>
                    <a:gd name="textAreaTop" fmla="*/ 0 h 1514160"/>
                    <a:gd name="textAreaBottom" fmla="*/ 1514520 h 151416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8344800" y="-153360"/>
                  <a:ext cx="1137240" cy="2265840"/>
                </a:xfrm>
                <a:custGeom>
                  <a:avLst/>
                  <a:gdLst>
                    <a:gd name="textAreaLeft" fmla="*/ 0 w 1137240"/>
                    <a:gd name="textAreaRight" fmla="*/ 1137600 w 1137240"/>
                    <a:gd name="textAreaTop" fmla="*/ 0 h 2265840"/>
                    <a:gd name="textAreaBottom" fmla="*/ 2266200 h 226584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955000" y="1334160"/>
                  <a:ext cx="253440" cy="205560"/>
                </a:xfrm>
                <a:custGeom>
                  <a:avLst/>
                  <a:gdLst>
                    <a:gd name="textAreaLeft" fmla="*/ 0 w 253440"/>
                    <a:gd name="textAreaRight" fmla="*/ 253800 w 253440"/>
                    <a:gd name="textAreaTop" fmla="*/ 0 h 205560"/>
                    <a:gd name="textAreaBottom" fmla="*/ 205920 h 20556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881920" y="1194480"/>
                  <a:ext cx="271800" cy="242640"/>
                </a:xfrm>
                <a:custGeom>
                  <a:avLst/>
                  <a:gdLst>
                    <a:gd name="textAreaLeft" fmla="*/ 0 w 271800"/>
                    <a:gd name="textAreaRight" fmla="*/ 272160 w 27180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8429040" y="300960"/>
                  <a:ext cx="271440" cy="24804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248040"/>
                    <a:gd name="textAreaBottom" fmla="*/ 248400 h 2480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8367480" y="199440"/>
                  <a:ext cx="268200" cy="232200"/>
                </a:xfrm>
                <a:custGeom>
                  <a:avLst/>
                  <a:gdLst>
                    <a:gd name="textAreaLeft" fmla="*/ 0 w 268200"/>
                    <a:gd name="textAreaRight" fmla="*/ 268200 w 268200"/>
                    <a:gd name="textAreaTop" fmla="*/ 0 h 232200"/>
                    <a:gd name="textAreaBottom" fmla="*/ 232560 h 23220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8218440" y="126000"/>
              <a:ext cx="70920" cy="14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2320" y="12600"/>
            <a:ext cx="9456480" cy="6405840"/>
          </a:xfrm>
          <a:custGeom>
            <a:avLst/>
            <a:gdLst>
              <a:gd name="textAreaLeft" fmla="*/ 0 w 9456480"/>
              <a:gd name="textAreaRight" fmla="*/ 9456840 w 9456480"/>
              <a:gd name="textAreaTop" fmla="*/ 0 h 6405840"/>
              <a:gd name="textAreaBottom" fmla="*/ 6406200 h 64058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208080" y="222120"/>
            <a:ext cx="4025160" cy="1679400"/>
            <a:chOff x="208080" y="222120"/>
            <a:chExt cx="4025160" cy="1679400"/>
          </a:xfrm>
        </p:grpSpPr>
        <p:sp>
          <p:nvSpPr>
            <p:cNvPr id="176" name="Freeform 9"/>
            <p:cNvSpPr/>
            <p:nvPr/>
          </p:nvSpPr>
          <p:spPr>
            <a:xfrm>
              <a:off x="299520" y="265320"/>
              <a:ext cx="3795840" cy="1524960"/>
            </a:xfrm>
            <a:custGeom>
              <a:avLst/>
              <a:gdLst>
                <a:gd name="textAreaLeft" fmla="*/ 0 w 3795840"/>
                <a:gd name="textAreaRight" fmla="*/ 3796200 w 3795840"/>
                <a:gd name="textAreaTop" fmla="*/ 0 h 1524960"/>
                <a:gd name="textAreaBottom" fmla="*/ 1525320 h 152496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80440" y="391320"/>
              <a:ext cx="3785760" cy="1510200"/>
            </a:xfrm>
            <a:custGeom>
              <a:avLst/>
              <a:gdLst>
                <a:gd name="textAreaLeft" fmla="*/ 0 w 3785760"/>
                <a:gd name="textAreaRight" fmla="*/ 3786120 w 3785760"/>
                <a:gd name="textAreaTop" fmla="*/ 0 h 1510200"/>
                <a:gd name="textAreaBottom" fmla="*/ 1510560 h 15102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800280" y="515880"/>
              <a:ext cx="2510640" cy="1378080"/>
            </a:xfrm>
            <a:custGeom>
              <a:avLst/>
              <a:gdLst>
                <a:gd name="textAreaLeft" fmla="*/ 0 w 2510640"/>
                <a:gd name="textAreaRight" fmla="*/ 2511000 w 251064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208080" y="222120"/>
              <a:ext cx="4025160" cy="1621080"/>
              <a:chOff x="208080" y="222120"/>
              <a:chExt cx="4025160" cy="162108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382920" y="1400760"/>
                <a:ext cx="357480" cy="320400"/>
              </a:xfrm>
              <a:custGeom>
                <a:avLst/>
                <a:gdLst>
                  <a:gd name="textAreaLeft" fmla="*/ 0 w 357480"/>
                  <a:gd name="textAreaRight" fmla="*/ 357840 w 35748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208080" y="222120"/>
                <a:ext cx="4025160" cy="1621080"/>
              </a:xfrm>
              <a:custGeom>
                <a:avLst/>
                <a:gdLst>
                  <a:gd name="textAreaLeft" fmla="*/ 0 w 4025160"/>
                  <a:gd name="textAreaRight" fmla="*/ 4025520 w 4025160"/>
                  <a:gd name="textAreaTop" fmla="*/ 0 h 1621080"/>
                  <a:gd name="textAreaBottom" fmla="*/ 1621440 h 162108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47200" y="236880"/>
                <a:ext cx="2844360" cy="920520"/>
              </a:xfrm>
              <a:custGeom>
                <a:avLst/>
                <a:gdLst>
                  <a:gd name="textAreaLeft" fmla="*/ 0 w 2844360"/>
                  <a:gd name="textAreaRight" fmla="*/ 2844720 w 2844360"/>
                  <a:gd name="textAreaTop" fmla="*/ 0 h 920520"/>
                  <a:gd name="textAreaBottom" fmla="*/ 920880 h 920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90840" y="376200"/>
                <a:ext cx="382680" cy="6145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14520"/>
                  <a:gd name="textAreaBottom" fmla="*/ 614880 h 6145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428120" y="803880"/>
                <a:ext cx="1165680" cy="545760"/>
              </a:xfrm>
              <a:custGeom>
                <a:avLst/>
                <a:gdLst>
                  <a:gd name="textAreaLeft" fmla="*/ 0 w 1165680"/>
                  <a:gd name="textAreaRight" fmla="*/ 1166040 w 116568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8321040" y="4064400"/>
            <a:ext cx="976320" cy="1127880"/>
            <a:chOff x="8321040" y="4064400"/>
            <a:chExt cx="976320" cy="112788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8341920" y="4376160"/>
              <a:ext cx="945000" cy="494640"/>
            </a:xfrm>
            <a:custGeom>
              <a:avLst/>
              <a:gdLst>
                <a:gd name="textAreaLeft" fmla="*/ 0 w 945000"/>
                <a:gd name="textAreaRight" fmla="*/ 945360 w 94500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8316000" y="4355640"/>
              <a:ext cx="941760" cy="489600"/>
            </a:xfrm>
            <a:custGeom>
              <a:avLst/>
              <a:gdLst>
                <a:gd name="textAreaLeft" fmla="*/ 0 w 941760"/>
                <a:gd name="textAreaRight" fmla="*/ 942120 w 94176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8474760" y="4343040"/>
              <a:ext cx="624960" cy="447480"/>
            </a:xfrm>
            <a:custGeom>
              <a:avLst/>
              <a:gdLst>
                <a:gd name="textAreaLeft" fmla="*/ 0 w 624960"/>
                <a:gd name="textAreaRight" fmla="*/ 625320 w 62496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8321040" y="4064400"/>
              <a:ext cx="976320" cy="1127880"/>
              <a:chOff x="8321040" y="4064400"/>
              <a:chExt cx="976320" cy="112788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8420760" y="4779000"/>
                <a:ext cx="88560" cy="10296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8308080" y="4365360"/>
                <a:ext cx="1001880" cy="525240"/>
              </a:xfrm>
              <a:custGeom>
                <a:avLst/>
                <a:gdLst>
                  <a:gd name="textAreaLeft" fmla="*/ 0 w 1001880"/>
                  <a:gd name="textAreaRight" fmla="*/ 1002240 w 1001880"/>
                  <a:gd name="textAreaTop" fmla="*/ 0 h 525240"/>
                  <a:gd name="textAreaBottom" fmla="*/ 525600 h 5252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585280" y="4478760"/>
                <a:ext cx="709200" cy="297000"/>
              </a:xfrm>
              <a:custGeom>
                <a:avLst/>
                <a:gdLst>
                  <a:gd name="textAreaLeft" fmla="*/ 0 w 709200"/>
                  <a:gd name="textAreaRight" fmla="*/ 709560 w 70920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9056520" y="4298400"/>
                <a:ext cx="94320" cy="19944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99440"/>
                  <a:gd name="textAreaBottom" fmla="*/ 199800 h 19944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685000" y="4488840"/>
                <a:ext cx="289800" cy="175320"/>
              </a:xfrm>
              <a:custGeom>
                <a:avLst/>
                <a:gdLst>
                  <a:gd name="textAreaLeft" fmla="*/ 0 w 289800"/>
                  <a:gd name="textAreaRight" fmla="*/ 290160 w 2898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58680" y="4776840"/>
            <a:ext cx="7236000" cy="687240"/>
          </a:xfrm>
          <a:custGeom>
            <a:avLst/>
            <a:gdLst>
              <a:gd name="textAreaLeft" fmla="*/ 0 w 7236000"/>
              <a:gd name="textAreaRight" fmla="*/ 7236360 w 7236000"/>
              <a:gd name="textAreaTop" fmla="*/ 0 h 687240"/>
              <a:gd name="textAreaBottom" fmla="*/ 687240 h 6872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334040" y="1824120"/>
            <a:ext cx="944280" cy="360360"/>
          </a:xfrm>
          <a:custGeom>
            <a:avLst/>
            <a:gdLst>
              <a:gd name="textAreaLeft" fmla="*/ 0 w 944280"/>
              <a:gd name="textAreaRight" fmla="*/ 944640 w 9442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4860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728280" y="5903640"/>
            <a:ext cx="2025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320640" y="5903640"/>
            <a:ext cx="307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965640" y="5903640"/>
            <a:ext cx="2025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C7BA7D-B163-44CC-B5D1-8194088512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>
            <a:off x="22320" y="12600"/>
            <a:ext cx="9456480" cy="6405840"/>
          </a:xfrm>
          <a:custGeom>
            <a:avLst/>
            <a:gdLst>
              <a:gd name="textAreaLeft" fmla="*/ 0 w 9456480"/>
              <a:gd name="textAreaRight" fmla="*/ 9456840 w 9456480"/>
              <a:gd name="textAreaTop" fmla="*/ 0 h 6405840"/>
              <a:gd name="textAreaBottom" fmla="*/ 6406200 h 64058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9" name="Group 8"/>
          <p:cNvGrpSpPr/>
          <p:nvPr/>
        </p:nvGrpSpPr>
        <p:grpSpPr>
          <a:xfrm>
            <a:off x="208080" y="222120"/>
            <a:ext cx="4025160" cy="1679400"/>
            <a:chOff x="208080" y="222120"/>
            <a:chExt cx="4025160" cy="1679400"/>
          </a:xfrm>
        </p:grpSpPr>
        <p:sp>
          <p:nvSpPr>
            <p:cNvPr id="240" name="Freeform 9"/>
            <p:cNvSpPr/>
            <p:nvPr/>
          </p:nvSpPr>
          <p:spPr>
            <a:xfrm>
              <a:off x="299520" y="265320"/>
              <a:ext cx="3795840" cy="1524960"/>
            </a:xfrm>
            <a:custGeom>
              <a:avLst/>
              <a:gdLst>
                <a:gd name="textAreaLeft" fmla="*/ 0 w 3795840"/>
                <a:gd name="textAreaRight" fmla="*/ 3796200 w 3795840"/>
                <a:gd name="textAreaTop" fmla="*/ 0 h 1524960"/>
                <a:gd name="textAreaBottom" fmla="*/ 1525320 h 152496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Freeform 10"/>
            <p:cNvSpPr/>
            <p:nvPr/>
          </p:nvSpPr>
          <p:spPr>
            <a:xfrm>
              <a:off x="280440" y="391320"/>
              <a:ext cx="3785760" cy="1510200"/>
            </a:xfrm>
            <a:custGeom>
              <a:avLst/>
              <a:gdLst>
                <a:gd name="textAreaLeft" fmla="*/ 0 w 3785760"/>
                <a:gd name="textAreaRight" fmla="*/ 3786120 w 3785760"/>
                <a:gd name="textAreaTop" fmla="*/ 0 h 1510200"/>
                <a:gd name="textAreaBottom" fmla="*/ 1510560 h 15102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Freeform 11"/>
            <p:cNvSpPr/>
            <p:nvPr/>
          </p:nvSpPr>
          <p:spPr>
            <a:xfrm>
              <a:off x="800280" y="515880"/>
              <a:ext cx="2510640" cy="1378080"/>
            </a:xfrm>
            <a:custGeom>
              <a:avLst/>
              <a:gdLst>
                <a:gd name="textAreaLeft" fmla="*/ 0 w 2510640"/>
                <a:gd name="textAreaRight" fmla="*/ 2511000 w 251064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3" name="Group 12"/>
            <p:cNvGrpSpPr/>
            <p:nvPr/>
          </p:nvGrpSpPr>
          <p:grpSpPr>
            <a:xfrm>
              <a:off x="208080" y="222120"/>
              <a:ext cx="4025160" cy="1621080"/>
              <a:chOff x="208080" y="222120"/>
              <a:chExt cx="4025160" cy="1621080"/>
            </a:xfrm>
          </p:grpSpPr>
          <p:sp>
            <p:nvSpPr>
              <p:cNvPr id="244" name="Freeform 13"/>
              <p:cNvSpPr/>
              <p:nvPr/>
            </p:nvSpPr>
            <p:spPr>
              <a:xfrm>
                <a:off x="3382920" y="1400760"/>
                <a:ext cx="357480" cy="320400"/>
              </a:xfrm>
              <a:custGeom>
                <a:avLst/>
                <a:gdLst>
                  <a:gd name="textAreaLeft" fmla="*/ 0 w 357480"/>
                  <a:gd name="textAreaRight" fmla="*/ 357840 w 35748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208080" y="222120"/>
                <a:ext cx="4025160" cy="1621080"/>
              </a:xfrm>
              <a:custGeom>
                <a:avLst/>
                <a:gdLst>
                  <a:gd name="textAreaLeft" fmla="*/ 0 w 4025160"/>
                  <a:gd name="textAreaRight" fmla="*/ 4025520 w 4025160"/>
                  <a:gd name="textAreaTop" fmla="*/ 0 h 1621080"/>
                  <a:gd name="textAreaBottom" fmla="*/ 1621440 h 162108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547200" y="236880"/>
                <a:ext cx="2844360" cy="920520"/>
              </a:xfrm>
              <a:custGeom>
                <a:avLst/>
                <a:gdLst>
                  <a:gd name="textAreaLeft" fmla="*/ 0 w 2844360"/>
                  <a:gd name="textAreaRight" fmla="*/ 2844720 w 2844360"/>
                  <a:gd name="textAreaTop" fmla="*/ 0 h 920520"/>
                  <a:gd name="textAreaBottom" fmla="*/ 920880 h 920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690840" y="376200"/>
                <a:ext cx="382680" cy="6145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14520"/>
                  <a:gd name="textAreaBottom" fmla="*/ 614880 h 6145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17"/>
              <p:cNvSpPr/>
              <p:nvPr/>
            </p:nvSpPr>
            <p:spPr>
              <a:xfrm>
                <a:off x="1428120" y="803880"/>
                <a:ext cx="1165680" cy="545760"/>
              </a:xfrm>
              <a:custGeom>
                <a:avLst/>
                <a:gdLst>
                  <a:gd name="textAreaLeft" fmla="*/ 0 w 1165680"/>
                  <a:gd name="textAreaRight" fmla="*/ 1166040 w 116568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9" name="Group 18"/>
          <p:cNvGrpSpPr/>
          <p:nvPr/>
        </p:nvGrpSpPr>
        <p:grpSpPr>
          <a:xfrm>
            <a:off x="8321040" y="4064400"/>
            <a:ext cx="976320" cy="1127880"/>
            <a:chOff x="8321040" y="4064400"/>
            <a:chExt cx="976320" cy="1127880"/>
          </a:xfrm>
        </p:grpSpPr>
        <p:sp>
          <p:nvSpPr>
            <p:cNvPr id="250" name="Freeform 19"/>
            <p:cNvSpPr/>
            <p:nvPr/>
          </p:nvSpPr>
          <p:spPr>
            <a:xfrm rot="7320000">
              <a:off x="8341920" y="4376160"/>
              <a:ext cx="945000" cy="494640"/>
            </a:xfrm>
            <a:custGeom>
              <a:avLst/>
              <a:gdLst>
                <a:gd name="textAreaLeft" fmla="*/ 0 w 945000"/>
                <a:gd name="textAreaRight" fmla="*/ 945360 w 94500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Freeform 20"/>
            <p:cNvSpPr/>
            <p:nvPr/>
          </p:nvSpPr>
          <p:spPr>
            <a:xfrm rot="7320000">
              <a:off x="8316000" y="4355640"/>
              <a:ext cx="941760" cy="489600"/>
            </a:xfrm>
            <a:custGeom>
              <a:avLst/>
              <a:gdLst>
                <a:gd name="textAreaLeft" fmla="*/ 0 w 941760"/>
                <a:gd name="textAreaRight" fmla="*/ 942120 w 94176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Freeform 21"/>
            <p:cNvSpPr/>
            <p:nvPr/>
          </p:nvSpPr>
          <p:spPr>
            <a:xfrm rot="7320000">
              <a:off x="8474760" y="4343040"/>
              <a:ext cx="624960" cy="447480"/>
            </a:xfrm>
            <a:custGeom>
              <a:avLst/>
              <a:gdLst>
                <a:gd name="textAreaLeft" fmla="*/ 0 w 624960"/>
                <a:gd name="textAreaRight" fmla="*/ 625320 w 62496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3" name="Group 22"/>
            <p:cNvGrpSpPr/>
            <p:nvPr/>
          </p:nvGrpSpPr>
          <p:grpSpPr>
            <a:xfrm>
              <a:off x="8321040" y="4064400"/>
              <a:ext cx="976320" cy="1127880"/>
              <a:chOff x="8321040" y="4064400"/>
              <a:chExt cx="976320" cy="1127880"/>
            </a:xfrm>
          </p:grpSpPr>
          <p:sp>
            <p:nvSpPr>
              <p:cNvPr id="254" name="Freeform 23"/>
              <p:cNvSpPr/>
              <p:nvPr/>
            </p:nvSpPr>
            <p:spPr>
              <a:xfrm rot="7320000">
                <a:off x="8420760" y="4779000"/>
                <a:ext cx="88560" cy="10296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Freeform 24"/>
              <p:cNvSpPr/>
              <p:nvPr/>
            </p:nvSpPr>
            <p:spPr>
              <a:xfrm rot="7320000">
                <a:off x="8308080" y="4365360"/>
                <a:ext cx="1001880" cy="525240"/>
              </a:xfrm>
              <a:custGeom>
                <a:avLst/>
                <a:gdLst>
                  <a:gd name="textAreaLeft" fmla="*/ 0 w 1001880"/>
                  <a:gd name="textAreaRight" fmla="*/ 1002240 w 1001880"/>
                  <a:gd name="textAreaTop" fmla="*/ 0 h 525240"/>
                  <a:gd name="textAreaBottom" fmla="*/ 525600 h 5252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Freeform 25"/>
              <p:cNvSpPr/>
              <p:nvPr/>
            </p:nvSpPr>
            <p:spPr>
              <a:xfrm rot="7320000">
                <a:off x="8585280" y="4478760"/>
                <a:ext cx="709200" cy="297000"/>
              </a:xfrm>
              <a:custGeom>
                <a:avLst/>
                <a:gdLst>
                  <a:gd name="textAreaLeft" fmla="*/ 0 w 709200"/>
                  <a:gd name="textAreaRight" fmla="*/ 709560 w 70920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 rot="7320000">
                <a:off x="9056520" y="4298400"/>
                <a:ext cx="94320" cy="19944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99440"/>
                  <a:gd name="textAreaBottom" fmla="*/ 199800 h 19944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 rot="7320000">
                <a:off x="8685000" y="4488840"/>
                <a:ext cx="289800" cy="175320"/>
              </a:xfrm>
              <a:custGeom>
                <a:avLst/>
                <a:gdLst>
                  <a:gd name="textAreaLeft" fmla="*/ 0 w 289800"/>
                  <a:gd name="textAreaRight" fmla="*/ 290160 w 2898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9" name="Freeform 28"/>
          <p:cNvSpPr/>
          <p:nvPr/>
        </p:nvSpPr>
        <p:spPr>
          <a:xfrm>
            <a:off x="958680" y="4776840"/>
            <a:ext cx="7236000" cy="687240"/>
          </a:xfrm>
          <a:custGeom>
            <a:avLst/>
            <a:gdLst>
              <a:gd name="textAreaLeft" fmla="*/ 0 w 7236000"/>
              <a:gd name="textAreaRight" fmla="*/ 7236360 w 7236000"/>
              <a:gd name="textAreaTop" fmla="*/ 0 h 687240"/>
              <a:gd name="textAreaBottom" fmla="*/ 687240 h 6872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Freeform 29"/>
          <p:cNvSpPr/>
          <p:nvPr/>
        </p:nvSpPr>
        <p:spPr>
          <a:xfrm>
            <a:off x="4334040" y="1824120"/>
            <a:ext cx="944280" cy="360360"/>
          </a:xfrm>
          <a:custGeom>
            <a:avLst/>
            <a:gdLst>
              <a:gd name="textAreaLeft" fmla="*/ 0 w 944280"/>
              <a:gd name="textAreaRight" fmla="*/ 944640 w 9442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4860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0"/>
          </p:nvPr>
        </p:nvSpPr>
        <p:spPr>
          <a:xfrm>
            <a:off x="728280" y="5903640"/>
            <a:ext cx="2025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3320640" y="5903640"/>
            <a:ext cx="307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2"/>
          </p:nvPr>
        </p:nvSpPr>
        <p:spPr>
          <a:xfrm>
            <a:off x="6965640" y="5903640"/>
            <a:ext cx="2025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6472D2-3484-4D0F-8E5B-8341E3F4BE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2448000"/>
            <a:ext cx="8747280" cy="34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9100" spc="-1" strike="noStrike">
                <a:solidFill>
                  <a:srgbClr val="660066"/>
                </a:solidFill>
                <a:latin typeface="Monotype Corsiva"/>
              </a:rPr>
              <a:t>Правила </a:t>
            </a:r>
            <a:br>
              <a:rPr sz="9100"/>
            </a:br>
            <a:r>
              <a:rPr b="0" i="1" lang="ru-RU" sz="9100" spc="-1" strike="noStrike">
                <a:solidFill>
                  <a:srgbClr val="660066"/>
                </a:solidFill>
                <a:latin typeface="Monotype Corsiva"/>
              </a:rPr>
              <a:t>разгадывания </a:t>
            </a:r>
            <a:br>
              <a:rPr sz="9100"/>
            </a:br>
            <a:r>
              <a:rPr b="0" i="1" lang="ru-RU" sz="9100" spc="-1" strike="noStrike">
                <a:solidFill>
                  <a:srgbClr val="660066"/>
                </a:solidFill>
                <a:latin typeface="Monotype Corsiva"/>
              </a:rPr>
              <a:t>ребусов</a:t>
            </a:r>
            <a:endParaRPr b="0" lang="en-US" sz="9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3714840" y="0"/>
            <a:ext cx="67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редняя общеобразовательная школа №36» г.Северодвинс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тник Ольга Юрье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4"/>
          <p:cNvSpPr/>
          <p:nvPr/>
        </p:nvSpPr>
        <p:spPr>
          <a:xfrm>
            <a:off x="179280" y="576360"/>
            <a:ext cx="90550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440" bIns="0" anchor="ctr">
            <a:noAutofit/>
          </a:bodyPr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амыми первыми составителями ребусов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жно считать древних людей, которы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 камне и кости выцарапывали рисунк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иероглифы с целью передать в них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кую-либо информацию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15 веке во Франц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Ребуса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азывали популярные представления, рассказывающие о местных событиях в шуточной форм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амо по себе слов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бу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означает "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ещ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, "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явлен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по латын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тория ребусов в том головоломочном виде, в котором мы их сейчас знаем, насчитывает около 500 лет. Первый печатный сборник ребусов, как рисованных головоломок автора Этьена Табуро вышел во Франции в 1582 году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России ребусы стали популярны с середины 19 века, п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убликациям в журналах "Иллюстрация" и "Нива"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5292720" y="1008000"/>
            <a:ext cx="4165560" cy="137016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3080" y="-179640"/>
            <a:ext cx="8746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703dff"/>
                </a:solidFill>
                <a:latin typeface="Comic Sans MS"/>
              </a:rPr>
              <a:t>История ребус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68360" y="28728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Запятая слева от слова означает букву, которую нужно удалить в начале слов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05800" indent="-50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Запятая справа в перевернутом виде означает букву. которую нужно удалить в конце слов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05800" indent="-50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Перечеркнутая буква или цифра над элементом ребуса – означает, что в этой части удаляют перечеркнутую букву или букву с указанным номером.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6" name="Group 5"/>
          <p:cNvGrpSpPr/>
          <p:nvPr/>
        </p:nvGrpSpPr>
        <p:grpSpPr>
          <a:xfrm>
            <a:off x="6012000" y="4392720"/>
            <a:ext cx="3141000" cy="1800000"/>
            <a:chOff x="6012000" y="4392720"/>
            <a:chExt cx="3141000" cy="1800000"/>
          </a:xfrm>
        </p:grpSpPr>
        <p:sp>
          <p:nvSpPr>
            <p:cNvPr id="317" name="WordArt 6"/>
            <p:cNvSpPr txBox="1"/>
            <p:nvPr/>
          </p:nvSpPr>
          <p:spPr>
            <a:xfrm>
              <a:off x="6659280" y="4392720"/>
              <a:ext cx="1979280" cy="180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528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latin typeface="Arial Black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  <a:ea typeface="Arial Black"/>
              </a:endParaRPr>
            </a:p>
          </p:txBody>
        </p:sp>
        <p:sp>
          <p:nvSpPr>
            <p:cNvPr id="318" name="WordArt 7"/>
            <p:cNvSpPr txBox="1"/>
            <p:nvPr/>
          </p:nvSpPr>
          <p:spPr>
            <a:xfrm>
              <a:off x="6012000" y="4392720"/>
              <a:ext cx="441000" cy="4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528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Arial Black"/>
                </a:rPr>
                <a:t>''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 Black"/>
                <a:ea typeface="Arial Black"/>
              </a:endParaRPr>
            </a:p>
          </p:txBody>
        </p:sp>
        <p:sp>
          <p:nvSpPr>
            <p:cNvPr id="319" name="WordArt 8"/>
            <p:cNvSpPr txBox="1"/>
            <p:nvPr/>
          </p:nvSpPr>
          <p:spPr>
            <a:xfrm>
              <a:off x="8712000" y="4392720"/>
              <a:ext cx="441000" cy="4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528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Arial Black"/>
                </a:rPr>
                <a:t>''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560" y="240840"/>
            <a:ext cx="8748720" cy="6031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заимное пространственное положение –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квы, цифры и т.д. внутри ребуса могу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диться друг в друге, одно на друго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ть одно из другого, прятатьс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спиной у другого, таким образом взаимные положения: 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, 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, 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, 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, 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, 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 скрывают соответственно эти предлоги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, «да» внутри большой буквы «О»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        «вода» 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1" name="Group 6"/>
          <p:cNvGrpSpPr/>
          <p:nvPr/>
        </p:nvGrpSpPr>
        <p:grpSpPr>
          <a:xfrm>
            <a:off x="2411280" y="4392720"/>
            <a:ext cx="2160720" cy="2122560"/>
            <a:chOff x="2411280" y="4392720"/>
            <a:chExt cx="2160720" cy="2122560"/>
          </a:xfrm>
        </p:grpSpPr>
        <p:sp>
          <p:nvSpPr>
            <p:cNvPr id="322" name="WordArt 3"/>
            <p:cNvSpPr txBox="1"/>
            <p:nvPr/>
          </p:nvSpPr>
          <p:spPr>
            <a:xfrm>
              <a:off x="2411280" y="4392720"/>
              <a:ext cx="2160720" cy="212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528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latin typeface="Arial Black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  <a:ea typeface="Arial Black"/>
              </a:endParaRPr>
            </a:p>
          </p:txBody>
        </p:sp>
        <p:sp>
          <p:nvSpPr>
            <p:cNvPr id="323" name="WordArt 4"/>
            <p:cNvSpPr txBox="1"/>
            <p:nvPr/>
          </p:nvSpPr>
          <p:spPr>
            <a:xfrm>
              <a:off x="3106440" y="5183640"/>
              <a:ext cx="745200" cy="64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300dc"/>
                  </a:solidFill>
                  <a:latin typeface="Arial Black"/>
                </a:rPr>
                <a:t>д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300dc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1640" y="419040"/>
            <a:ext cx="874728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исла – цифра или число в решени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писывается в виде слова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 есть ребус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100 Л» естественно решается, как «стол»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сколько одинаковых элементов, расположенных подряд означают добавление вперед числительного. Например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«Я Я Я Я Я Я Я» расшифровывается, как «семья»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вернутый элемент – означает, что его надо прочитать наоборо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WordArt 2"/>
          <p:cNvSpPr txBox="1"/>
          <p:nvPr/>
        </p:nvSpPr>
        <p:spPr>
          <a:xfrm>
            <a:off x="8820000" y="5219640"/>
            <a:ext cx="621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6" name="WordArt 3"/>
          <p:cNvSpPr txBox="1"/>
          <p:nvPr/>
        </p:nvSpPr>
        <p:spPr>
          <a:xfrm>
            <a:off x="8893080" y="3311640"/>
            <a:ext cx="620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7" name="WordArt 4"/>
          <p:cNvSpPr txBox="1"/>
          <p:nvPr/>
        </p:nvSpPr>
        <p:spPr>
          <a:xfrm>
            <a:off x="8532720" y="1944720"/>
            <a:ext cx="620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8" name="WordArt 5"/>
          <p:cNvSpPr txBox="1"/>
          <p:nvPr/>
        </p:nvSpPr>
        <p:spPr>
          <a:xfrm>
            <a:off x="252360" y="4392720"/>
            <a:ext cx="620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9" name="WordArt 6"/>
          <p:cNvSpPr txBox="1"/>
          <p:nvPr/>
        </p:nvSpPr>
        <p:spPr>
          <a:xfrm>
            <a:off x="324000" y="2592360"/>
            <a:ext cx="620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0" name="WordArt 7"/>
          <p:cNvSpPr txBox="1"/>
          <p:nvPr/>
        </p:nvSpPr>
        <p:spPr>
          <a:xfrm>
            <a:off x="324000" y="1079640"/>
            <a:ext cx="620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1" name="WordArt 8"/>
          <p:cNvSpPr txBox="1"/>
          <p:nvPr/>
        </p:nvSpPr>
        <p:spPr>
          <a:xfrm>
            <a:off x="7020000" y="5688000"/>
            <a:ext cx="441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60480" y="246240"/>
            <a:ext cx="5340240" cy="1193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4140360" y="1800360"/>
            <a:ext cx="5219640" cy="1260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"/>
          <p:cNvPicPr/>
          <p:nvPr/>
        </p:nvPicPr>
        <p:blipFill>
          <a:blip r:embed="rId3"/>
          <a:stretch/>
        </p:blipFill>
        <p:spPr>
          <a:xfrm>
            <a:off x="179280" y="3129120"/>
            <a:ext cx="5759640" cy="15159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"/>
          <p:cNvPicPr/>
          <p:nvPr/>
        </p:nvPicPr>
        <p:blipFill>
          <a:blip r:embed="rId4"/>
          <a:stretch/>
        </p:blipFill>
        <p:spPr>
          <a:xfrm>
            <a:off x="3959280" y="4896000"/>
            <a:ext cx="5400720" cy="147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" descr=""/>
          <p:cNvPicPr/>
          <p:nvPr/>
        </p:nvPicPr>
        <p:blipFill>
          <a:blip r:embed="rId1"/>
          <a:stretch/>
        </p:blipFill>
        <p:spPr>
          <a:xfrm>
            <a:off x="324000" y="360360"/>
            <a:ext cx="3240000" cy="1322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4716360" y="431640"/>
            <a:ext cx="3600720" cy="1322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3"/>
          <a:stretch/>
        </p:blipFill>
        <p:spPr>
          <a:xfrm>
            <a:off x="5003640" y="2592360"/>
            <a:ext cx="3716640" cy="1420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"/>
          <p:cNvPicPr/>
          <p:nvPr/>
        </p:nvPicPr>
        <p:blipFill>
          <a:blip r:embed="rId4"/>
          <a:stretch/>
        </p:blipFill>
        <p:spPr>
          <a:xfrm>
            <a:off x="324000" y="1944720"/>
            <a:ext cx="3600360" cy="1143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5"/>
          <a:stretch/>
        </p:blipFill>
        <p:spPr>
          <a:xfrm>
            <a:off x="324000" y="3672000"/>
            <a:ext cx="3600360" cy="1260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"/>
          <p:cNvPicPr/>
          <p:nvPr/>
        </p:nvPicPr>
        <p:blipFill>
          <a:blip r:embed="rId6"/>
          <a:stretch/>
        </p:blipFill>
        <p:spPr>
          <a:xfrm>
            <a:off x="5219640" y="4824360"/>
            <a:ext cx="395928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" descr=""/>
          <p:cNvPicPr/>
          <p:nvPr/>
        </p:nvPicPr>
        <p:blipFill>
          <a:blip r:embed="rId1"/>
          <a:stretch/>
        </p:blipFill>
        <p:spPr>
          <a:xfrm>
            <a:off x="324000" y="360360"/>
            <a:ext cx="3419280" cy="1440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3060720" y="4896000"/>
            <a:ext cx="3779640" cy="1234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3"/>
          <a:stretch/>
        </p:blipFill>
        <p:spPr>
          <a:xfrm>
            <a:off x="2700360" y="2606760"/>
            <a:ext cx="4441680" cy="1352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4"/>
          <a:stretch/>
        </p:blipFill>
        <p:spPr>
          <a:xfrm>
            <a:off x="4932360" y="431640"/>
            <a:ext cx="3419640" cy="1260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0:49:44Z</dcterms:created>
  <dc:creator>Оля Гутник</dc:creator>
  <dc:description/>
  <dc:language>en-US</dc:language>
  <cp:lastModifiedBy>1</cp:lastModifiedBy>
  <dcterms:modified xsi:type="dcterms:W3CDTF">2011-10-23T08:44:36Z</dcterms:modified>
  <cp:revision>4</cp:revision>
  <dc:subject/>
  <dc:title>Правила  разгадывания  ребусов</dc:title>
</cp:coreProperties>
</file>