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774720" y="812880"/>
            <a:ext cx="600552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dt" idx="13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14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15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D00186-160B-40F3-AE52-C296C3D23E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940D5-2ADD-42C8-9BB0-338B8F2769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051B0B-3C03-4E47-A30B-DB2BE6882C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08FC0F-CDE9-42D1-B9F0-EA23C835A6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65FC4-96CD-4F53-9FC9-0884EBC8DC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0200" cy="40068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18A1C-0CF3-4ADB-B8DF-0FDD5D341D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0200" cy="40068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40ECBB-24F8-43EA-A3F4-B93A0A9DA1D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0200" cy="40068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B4FA-3BC5-4FE3-A045-B423AF9EB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81820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28640" y="3534120"/>
            <a:ext cx="81820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4DFF-868B-4A1B-AC0F-DFAA964D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2156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28640" y="35341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21560" y="35341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8A05-083F-421D-811A-D601CF5E3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95240" y="17287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61840" y="17287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28640" y="35341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95240" y="35341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61840" y="35341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22F3-468C-4C0A-9E81-E444A2D41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5E15-B8A3-46E8-A7E1-E9BD7B6CF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28640" y="1728720"/>
            <a:ext cx="8182080" cy="34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4515-7227-4190-9DFA-2D8BB3E7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8182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A1A8-3621-459C-82E1-24903CF4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39927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21560" y="1728720"/>
            <a:ext cx="39927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36FC-DFF2-4A88-BC4F-1F1B5BFE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BA36-EA85-471D-9274-87C2681D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28280" y="144360"/>
            <a:ext cx="730404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5B219-3F83-4B3E-81AB-BF586FDD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21560" y="1728720"/>
            <a:ext cx="39927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28640" y="35341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F79EF-3573-43AB-BADF-80C6958A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28640" y="1728720"/>
            <a:ext cx="8182080" cy="34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949C-C362-4BF7-A107-5595A63B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39927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2156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21560" y="35341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3B4A-4C70-4EE2-80EE-F01823FD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2156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28640" y="3534120"/>
            <a:ext cx="81820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7E7D-EF06-4A31-B989-F07697B6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81820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28640" y="3534120"/>
            <a:ext cx="81820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C3FA-4D99-443E-B420-8AFF27E4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2156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28640" y="35341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921560" y="35341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7E68-308A-4FE8-84B6-5CCAF00B4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95240" y="17287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261840" y="17287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28640" y="35341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495240" y="35341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261840" y="35341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23DF-7C0D-4A7D-A483-DC366F5F4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8414A-1A78-4F9F-826B-1DBBA9811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728640" y="1728720"/>
            <a:ext cx="8182080" cy="34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6FD39-3231-46E3-86C3-72BD6900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8182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4432C-1CDB-421E-B509-8B8A621C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39927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21560" y="1728720"/>
            <a:ext cx="39927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35FDB-9B7F-4E7D-AD30-D00CD418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FFED0-B98A-4FF7-A38A-91C4140A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8182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016A-DFAB-4C92-B909-F1D426C8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728280" y="144360"/>
            <a:ext cx="730404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9FC59-EF39-4253-8455-2248DDB5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21560" y="1728720"/>
            <a:ext cx="39927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728640" y="35341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0BA34-190D-4BD3-804E-8926549A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39927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2156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921560" y="35341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5FCB5-90CA-4F94-A53B-CD2AD418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2156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28640" y="3534120"/>
            <a:ext cx="81820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B3730-E4E1-44A2-A795-4BF3D617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81820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728640" y="3534120"/>
            <a:ext cx="81820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1DE76-980D-4092-BD57-F8C9A71F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92156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728640" y="35341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921560" y="35341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B2525-F901-4E10-961E-AE0A5D5C1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95240" y="17287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61840" y="17287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728640" y="35341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495240" y="35341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261840" y="35341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096F4-2F2A-446E-AEF1-504651F55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FA58A-32A7-432C-BEE6-FD19E8B68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728640" y="1728720"/>
            <a:ext cx="8182080" cy="34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CD6AB-95FF-46D5-9836-52C91084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8182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D8B79-C8C0-425A-89AB-07107D54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39927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1560" y="1728720"/>
            <a:ext cx="39927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BA09-C674-45D8-B731-5B744522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39927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921560" y="1728720"/>
            <a:ext cx="39927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35FDF-938F-4448-BD6E-EDBE4639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5089C-04F3-4ACA-BEE0-F13A487B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728280" y="144360"/>
            <a:ext cx="730404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823AA-2D60-41FB-BEF7-84E259AE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21560" y="1728720"/>
            <a:ext cx="39927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728640" y="35341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C9138-EA38-4D47-8D3B-CACB4376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39927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92156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921560" y="35341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3D38A-10FF-48A1-81A5-66402B17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92156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728640" y="3534120"/>
            <a:ext cx="81820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E8C37-9198-46A1-9E42-31E01828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81820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728640" y="3534120"/>
            <a:ext cx="81820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3CF88-B421-4D36-B12C-BCCFEF5E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2156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28640" y="35341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921560" y="35341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E8B16-0512-401C-9DF0-F4633F2E0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495240" y="17287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61840" y="17287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728640" y="35341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495240" y="35341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261840" y="35341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EAA60-2364-40E0-BA97-F520D98BF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663E-547E-4678-AF49-CC7B3C6B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28280" y="144360"/>
            <a:ext cx="730404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8B67-4906-4040-9B25-8B187B67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1560" y="1728720"/>
            <a:ext cx="39927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28640" y="35341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51E8-DA73-42EB-8F25-1BD2B067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39927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2156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21560" y="35341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AB8C-7094-4F8C-BD31-C16D5CE6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156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28640" y="3534120"/>
            <a:ext cx="81820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6032-853F-4B11-BD14-218166C2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8336880" y="-137520"/>
            <a:ext cx="1096920" cy="2216160"/>
          </a:xfrm>
          <a:custGeom>
            <a:avLst/>
            <a:gdLst>
              <a:gd name="textAreaLeft" fmla="*/ 0 w 1096920"/>
              <a:gd name="textAreaRight" fmla="*/ 1097280 w 1096920"/>
              <a:gd name="textAreaTop" fmla="*/ 0 h 2216160"/>
              <a:gd name="textAreaBottom" fmla="*/ 2216520 h 221616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28640" y="1728720"/>
            <a:ext cx="8182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16680" indent="-2372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948600" indent="-1897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328040" indent="-1897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707480" indent="-18972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707480" indent="-18972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707480" indent="-18972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456920" y="5903640"/>
            <a:ext cx="2025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80000" y="5903640"/>
            <a:ext cx="3078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41680" y="5903640"/>
            <a:ext cx="20242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CA4434A-0CF4-4143-B1DF-90644DE9CB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8429400" y="-99720"/>
            <a:ext cx="1101600" cy="2228760"/>
          </a:xfrm>
          <a:custGeom>
            <a:avLst/>
            <a:gdLst>
              <a:gd name="textAreaLeft" fmla="*/ 0 w 1101600"/>
              <a:gd name="textAreaRight" fmla="*/ 1101960 w 1101600"/>
              <a:gd name="textAreaTop" fmla="*/ 0 h 2228760"/>
              <a:gd name="textAreaBottom" fmla="*/ 2229120 h 222876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8385120" y="88560"/>
            <a:ext cx="968400" cy="1670040"/>
          </a:xfrm>
          <a:custGeom>
            <a:avLst/>
            <a:gdLst>
              <a:gd name="textAreaLeft" fmla="*/ 0 w 968400"/>
              <a:gd name="textAreaRight" fmla="*/ 968760 w 968400"/>
              <a:gd name="textAreaTop" fmla="*/ 0 h 1670040"/>
              <a:gd name="textAreaBottom" fmla="*/ 1670400 h 167004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235480"/>
            <a:ext cx="1896120" cy="1176120"/>
            <a:chOff x="7920" y="5235480"/>
            <a:chExt cx="1896120" cy="1176120"/>
          </a:xfrm>
        </p:grpSpPr>
        <p:sp>
          <p:nvSpPr>
            <p:cNvPr id="9" name="Freeform 11"/>
            <p:cNvSpPr/>
            <p:nvPr/>
          </p:nvSpPr>
          <p:spPr>
            <a:xfrm>
              <a:off x="39960" y="5257800"/>
              <a:ext cx="1837800" cy="972360"/>
            </a:xfrm>
            <a:custGeom>
              <a:avLst/>
              <a:gdLst>
                <a:gd name="textAreaLeft" fmla="*/ 0 w 1837800"/>
                <a:gd name="textAreaRight" fmla="*/ 1838160 w 1837800"/>
                <a:gd name="textAreaTop" fmla="*/ 0 h 972360"/>
                <a:gd name="textAreaBottom" fmla="*/ 972720 h 97236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724400" y="5373360"/>
              <a:ext cx="119520" cy="19296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3120" y="5660640"/>
              <a:ext cx="1336680" cy="614160"/>
            </a:xfrm>
            <a:custGeom>
              <a:avLst/>
              <a:gdLst>
                <a:gd name="textAreaLeft" fmla="*/ 0 w 1336680"/>
                <a:gd name="textAreaRight" fmla="*/ 1337040 w 1336680"/>
                <a:gd name="textAreaTop" fmla="*/ 0 h 614160"/>
                <a:gd name="textAreaBottom" fmla="*/ 614520 h 6141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17080" y="5711760"/>
              <a:ext cx="885960" cy="560160"/>
            </a:xfrm>
            <a:custGeom>
              <a:avLst/>
              <a:gdLst>
                <a:gd name="textAreaLeft" fmla="*/ 0 w 885960"/>
                <a:gd name="textAreaRight" fmla="*/ 886320 w 885960"/>
                <a:gd name="textAreaTop" fmla="*/ 0 h 560160"/>
                <a:gd name="textAreaBottom" fmla="*/ 560520 h 5601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817920" y="5298120"/>
              <a:ext cx="227520" cy="18144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81440" y="6243840"/>
              <a:ext cx="128160" cy="16776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7760"/>
                <a:gd name="textAreaBottom" fmla="*/ 167760 h 16776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49960" y="5410800"/>
              <a:ext cx="325440" cy="57384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573840"/>
                <a:gd name="textAreaBottom" fmla="*/ 574200 h 5738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126800" y="5385240"/>
              <a:ext cx="614160" cy="260640"/>
            </a:xfrm>
            <a:custGeom>
              <a:avLst/>
              <a:gdLst>
                <a:gd name="textAreaLeft" fmla="*/ 0 w 614160"/>
                <a:gd name="textAreaRight" fmla="*/ 614520 w 614160"/>
                <a:gd name="textAreaTop" fmla="*/ 0 h 260640"/>
                <a:gd name="textAreaBottom" fmla="*/ 261000 h 26064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85000" y="5539320"/>
              <a:ext cx="263160" cy="100440"/>
            </a:xfrm>
            <a:custGeom>
              <a:avLst/>
              <a:gdLst>
                <a:gd name="textAreaLeft" fmla="*/ 0 w 263160"/>
                <a:gd name="textAreaRight" fmla="*/ 263520 w 26316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235480"/>
              <a:ext cx="1896120" cy="1168200"/>
              <a:chOff x="7920" y="5235480"/>
              <a:chExt cx="1896120" cy="11682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841320" y="5343120"/>
                <a:ext cx="924120" cy="1060560"/>
                <a:chOff x="841320" y="5343120"/>
                <a:chExt cx="924120" cy="106056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841320" y="5380560"/>
                  <a:ext cx="264960" cy="129960"/>
                </a:xfrm>
                <a:custGeom>
                  <a:avLst/>
                  <a:gdLst>
                    <a:gd name="textAreaLeft" fmla="*/ 0 w 264960"/>
                    <a:gd name="textAreaRight" fmla="*/ 265320 w 26496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72800" y="6204600"/>
                  <a:ext cx="193680" cy="199080"/>
                </a:xfrm>
                <a:custGeom>
                  <a:avLst/>
                  <a:gdLst>
                    <a:gd name="textAreaLeft" fmla="*/ 0 w 193680"/>
                    <a:gd name="textAreaRight" fmla="*/ 194040 w 193680"/>
                    <a:gd name="textAreaTop" fmla="*/ 0 h 199080"/>
                    <a:gd name="textAreaBottom" fmla="*/ 199440 h 19908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693080" y="5343120"/>
                  <a:ext cx="72360" cy="174960"/>
                </a:xfrm>
                <a:custGeom>
                  <a:avLst/>
                  <a:gdLst>
                    <a:gd name="textAreaLeft" fmla="*/ 0 w 72360"/>
                    <a:gd name="textAreaRight" fmla="*/ 72720 w 72360"/>
                    <a:gd name="textAreaTop" fmla="*/ 0 h 174960"/>
                    <a:gd name="textAreaBottom" fmla="*/ 175320 h 1749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7440" y="5598000"/>
                <a:ext cx="1004040" cy="374760"/>
              </a:xfrm>
              <a:custGeom>
                <a:avLst/>
                <a:gdLst>
                  <a:gd name="textAreaLeft" fmla="*/ 0 w 1004040"/>
                  <a:gd name="textAreaRight" fmla="*/ 1004400 w 100404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38120" y="5828760"/>
                <a:ext cx="411480" cy="221760"/>
              </a:xfrm>
              <a:custGeom>
                <a:avLst/>
                <a:gdLst>
                  <a:gd name="textAreaLeft" fmla="*/ 0 w 411480"/>
                  <a:gd name="textAreaRight" fmla="*/ 411840 w 411480"/>
                  <a:gd name="textAreaTop" fmla="*/ 0 h 221760"/>
                  <a:gd name="textAreaBottom" fmla="*/ 222120 h 22176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952560" y="5519880"/>
                <a:ext cx="180360" cy="356400"/>
              </a:xfrm>
              <a:custGeom>
                <a:avLst/>
                <a:gdLst>
                  <a:gd name="textAreaLeft" fmla="*/ 0 w 180360"/>
                  <a:gd name="textAreaRight" fmla="*/ 180360 w 180360"/>
                  <a:gd name="textAreaTop" fmla="*/ 0 h 356400"/>
                  <a:gd name="textAreaBottom" fmla="*/ 356760 h 35640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235480"/>
                <a:ext cx="1896120" cy="1015560"/>
                <a:chOff x="7920" y="5235480"/>
                <a:chExt cx="1896120" cy="101556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127880" y="6071400"/>
                  <a:ext cx="126360" cy="129960"/>
                </a:xfrm>
                <a:custGeom>
                  <a:avLst/>
                  <a:gdLst>
                    <a:gd name="textAreaLeft" fmla="*/ 0 w 126360"/>
                    <a:gd name="textAreaRight" fmla="*/ 126720 w 12636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591880"/>
                  <a:ext cx="1420200" cy="659160"/>
                </a:xfrm>
                <a:custGeom>
                  <a:avLst/>
                  <a:gdLst>
                    <a:gd name="textAreaLeft" fmla="*/ 0 w 1420200"/>
                    <a:gd name="textAreaRight" fmla="*/ 1420560 w 1420200"/>
                    <a:gd name="textAreaTop" fmla="*/ 0 h 659160"/>
                    <a:gd name="textAreaBottom" fmla="*/ 659520 h 6591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77840" y="5654880"/>
                  <a:ext cx="135000" cy="249840"/>
                </a:xfrm>
                <a:custGeom>
                  <a:avLst/>
                  <a:gdLst>
                    <a:gd name="textAreaLeft" fmla="*/ 0 w 135000"/>
                    <a:gd name="textAreaRight" fmla="*/ 135360 w 135000"/>
                    <a:gd name="textAreaTop" fmla="*/ 0 h 249840"/>
                    <a:gd name="textAreaBottom" fmla="*/ 250200 h 24984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56720" y="5235480"/>
                  <a:ext cx="543240" cy="889560"/>
                </a:xfrm>
                <a:custGeom>
                  <a:avLst/>
                  <a:gdLst>
                    <a:gd name="textAreaLeft" fmla="*/ 0 w 543240"/>
                    <a:gd name="textAreaRight" fmla="*/ 543600 w 543240"/>
                    <a:gd name="textAreaTop" fmla="*/ 0 h 889560"/>
                    <a:gd name="textAreaBottom" fmla="*/ 889920 h 88956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74520" y="5474880"/>
                  <a:ext cx="161640" cy="37764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377640"/>
                    <a:gd name="textAreaBottom" fmla="*/ 378000 h 37764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52600" y="5445000"/>
                  <a:ext cx="328680" cy="202320"/>
                </a:xfrm>
                <a:custGeom>
                  <a:avLst/>
                  <a:gdLst>
                    <a:gd name="textAreaLeft" fmla="*/ 0 w 328680"/>
                    <a:gd name="textAreaRight" fmla="*/ 329040 w 328680"/>
                    <a:gd name="textAreaTop" fmla="*/ 0 h 202320"/>
                    <a:gd name="textAreaBottom" fmla="*/ 202680 h 20232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109520" y="5307480"/>
                  <a:ext cx="794520" cy="317160"/>
                </a:xfrm>
                <a:custGeom>
                  <a:avLst/>
                  <a:gdLst>
                    <a:gd name="textAreaLeft" fmla="*/ 0 w 794520"/>
                    <a:gd name="textAreaRight" fmla="*/ 794880 w 794520"/>
                    <a:gd name="textAreaTop" fmla="*/ 0 h 317160"/>
                    <a:gd name="textAreaBottom" fmla="*/ 317160 h 31716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208880" y="5409000"/>
                  <a:ext cx="412920" cy="128880"/>
                </a:xfrm>
                <a:custGeom>
                  <a:avLst/>
                  <a:gdLst>
                    <a:gd name="textAreaLeft" fmla="*/ 0 w 412920"/>
                    <a:gd name="textAreaRight" fmla="*/ 413280 w 412920"/>
                    <a:gd name="textAreaTop" fmla="*/ 0 h 128880"/>
                    <a:gd name="textAreaBottom" fmla="*/ 129240 h 12888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9228240" y="2000160"/>
            <a:ext cx="408960" cy="4070160"/>
            <a:chOff x="9228240" y="2000160"/>
            <a:chExt cx="408960" cy="4070160"/>
          </a:xfrm>
        </p:grpSpPr>
        <p:sp>
          <p:nvSpPr>
            <p:cNvPr id="36" name="Freeform 38"/>
            <p:cNvSpPr/>
            <p:nvPr/>
          </p:nvSpPr>
          <p:spPr>
            <a:xfrm flipH="1">
              <a:off x="9228240" y="3930120"/>
              <a:ext cx="344880" cy="2140200"/>
            </a:xfrm>
            <a:custGeom>
              <a:avLst/>
              <a:gdLst>
                <a:gd name="textAreaLeft" fmla="*/ 360 w 344880"/>
                <a:gd name="textAreaRight" fmla="*/ 345600 w 344880"/>
                <a:gd name="textAreaTop" fmla="*/ 0 h 2140200"/>
                <a:gd name="textAreaBottom" fmla="*/ 2140560 h 214020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9292320" y="2000160"/>
              <a:ext cx="344880" cy="2449080"/>
            </a:xfrm>
            <a:custGeom>
              <a:avLst/>
              <a:gdLst>
                <a:gd name="textAreaLeft" fmla="*/ 360 w 344880"/>
                <a:gd name="textAreaRight" fmla="*/ 345600 w 344880"/>
                <a:gd name="textAreaTop" fmla="*/ 0 h 2449080"/>
                <a:gd name="textAreaBottom" fmla="*/ 2449440 h 24490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666920" y="-157680"/>
            <a:ext cx="2493000" cy="2274120"/>
            <a:chOff x="7666920" y="-157680"/>
            <a:chExt cx="2493000" cy="2274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666920" y="-157680"/>
              <a:ext cx="2493000" cy="2274120"/>
              <a:chOff x="7666920" y="-157680"/>
              <a:chExt cx="2493000" cy="2274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9168480" y="1602360"/>
                <a:ext cx="92880" cy="48564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485640"/>
                  <a:gd name="textAreaBottom" fmla="*/ 486000 h 48564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666920" y="-157680"/>
                <a:ext cx="2493000" cy="2274120"/>
                <a:chOff x="7666920" y="-157680"/>
                <a:chExt cx="2493000" cy="2274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8394480" y="94320"/>
                  <a:ext cx="229320" cy="210960"/>
                </a:xfrm>
                <a:custGeom>
                  <a:avLst/>
                  <a:gdLst>
                    <a:gd name="textAreaLeft" fmla="*/ 0 w 229320"/>
                    <a:gd name="textAreaRight" fmla="*/ 229680 w 229320"/>
                    <a:gd name="textAreaTop" fmla="*/ 0 h 210960"/>
                    <a:gd name="textAreaBottom" fmla="*/ 211320 h 21096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544600" y="456120"/>
                  <a:ext cx="403560" cy="738360"/>
                </a:xfrm>
                <a:custGeom>
                  <a:avLst/>
                  <a:gdLst>
                    <a:gd name="textAreaLeft" fmla="*/ 0 w 403560"/>
                    <a:gd name="textAreaRight" fmla="*/ 403920 w 403560"/>
                    <a:gd name="textAreaTop" fmla="*/ 0 h 738360"/>
                    <a:gd name="textAreaBottom" fmla="*/ 738720 h 7383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8245800" y="189000"/>
                  <a:ext cx="757440" cy="1514160"/>
                </a:xfrm>
                <a:custGeom>
                  <a:avLst/>
                  <a:gdLst>
                    <a:gd name="textAreaLeft" fmla="*/ 0 w 757440"/>
                    <a:gd name="textAreaRight" fmla="*/ 757800 w 757440"/>
                    <a:gd name="textAreaTop" fmla="*/ 0 h 1514160"/>
                    <a:gd name="textAreaBottom" fmla="*/ 1514520 h 151416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8344800" y="-153360"/>
                  <a:ext cx="1137240" cy="2265840"/>
                </a:xfrm>
                <a:custGeom>
                  <a:avLst/>
                  <a:gdLst>
                    <a:gd name="textAreaLeft" fmla="*/ 0 w 1137240"/>
                    <a:gd name="textAreaRight" fmla="*/ 1137600 w 1137240"/>
                    <a:gd name="textAreaTop" fmla="*/ 0 h 2265840"/>
                    <a:gd name="textAreaBottom" fmla="*/ 2266200 h 226584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955000" y="1334160"/>
                  <a:ext cx="253440" cy="205560"/>
                </a:xfrm>
                <a:custGeom>
                  <a:avLst/>
                  <a:gdLst>
                    <a:gd name="textAreaLeft" fmla="*/ 0 w 253440"/>
                    <a:gd name="textAreaRight" fmla="*/ 253800 w 253440"/>
                    <a:gd name="textAreaTop" fmla="*/ 0 h 205560"/>
                    <a:gd name="textAreaBottom" fmla="*/ 205920 h 20556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881920" y="1194480"/>
                  <a:ext cx="271800" cy="242640"/>
                </a:xfrm>
                <a:custGeom>
                  <a:avLst/>
                  <a:gdLst>
                    <a:gd name="textAreaLeft" fmla="*/ 0 w 271800"/>
                    <a:gd name="textAreaRight" fmla="*/ 272160 w 271800"/>
                    <a:gd name="textAreaTop" fmla="*/ 0 h 242640"/>
                    <a:gd name="textAreaBottom" fmla="*/ 243000 h 24264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8429040" y="300960"/>
                  <a:ext cx="271440" cy="248040"/>
                </a:xfrm>
                <a:custGeom>
                  <a:avLst/>
                  <a:gdLst>
                    <a:gd name="textAreaLeft" fmla="*/ 0 w 271440"/>
                    <a:gd name="textAreaRight" fmla="*/ 271800 w 271440"/>
                    <a:gd name="textAreaTop" fmla="*/ 0 h 248040"/>
                    <a:gd name="textAreaBottom" fmla="*/ 248400 h 2480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8367480" y="199440"/>
                  <a:ext cx="268200" cy="232200"/>
                </a:xfrm>
                <a:custGeom>
                  <a:avLst/>
                  <a:gdLst>
                    <a:gd name="textAreaLeft" fmla="*/ 0 w 268200"/>
                    <a:gd name="textAreaRight" fmla="*/ 268200 w 268200"/>
                    <a:gd name="textAreaTop" fmla="*/ 0 h 232200"/>
                    <a:gd name="textAreaBottom" fmla="*/ 232560 h 23220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8218440" y="126000"/>
              <a:ext cx="70920" cy="14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8336880" y="-137520"/>
            <a:ext cx="1096920" cy="2216160"/>
          </a:xfrm>
          <a:custGeom>
            <a:avLst/>
            <a:gdLst>
              <a:gd name="textAreaLeft" fmla="*/ 0 w 1096920"/>
              <a:gd name="textAreaRight" fmla="*/ 1097280 w 1096920"/>
              <a:gd name="textAreaTop" fmla="*/ 0 h 2216160"/>
              <a:gd name="textAreaBottom" fmla="*/ 2216520 h 221616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28640" y="1728720"/>
            <a:ext cx="8182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16680" indent="-2372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948600" indent="-1897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328040" indent="-1897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707480" indent="-18972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707480" indent="-18972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707480" indent="-18972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456920" y="5903640"/>
            <a:ext cx="2025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780000" y="5903640"/>
            <a:ext cx="3078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7141680" y="5903640"/>
            <a:ext cx="20242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0CC59C4-A63C-4D57-9D2C-44128A3E6B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8429400" y="-99720"/>
            <a:ext cx="1101600" cy="2228760"/>
          </a:xfrm>
          <a:custGeom>
            <a:avLst/>
            <a:gdLst>
              <a:gd name="textAreaLeft" fmla="*/ 0 w 1101600"/>
              <a:gd name="textAreaRight" fmla="*/ 1101960 w 1101600"/>
              <a:gd name="textAreaTop" fmla="*/ 0 h 2228760"/>
              <a:gd name="textAreaBottom" fmla="*/ 2229120 h 222876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8385120" y="88560"/>
            <a:ext cx="968400" cy="1670040"/>
          </a:xfrm>
          <a:custGeom>
            <a:avLst/>
            <a:gdLst>
              <a:gd name="textAreaLeft" fmla="*/ 0 w 968400"/>
              <a:gd name="textAreaRight" fmla="*/ 968760 w 968400"/>
              <a:gd name="textAreaTop" fmla="*/ 0 h 1670040"/>
              <a:gd name="textAreaBottom" fmla="*/ 1670400 h 167004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235480"/>
            <a:ext cx="1896120" cy="1176120"/>
            <a:chOff x="7920" y="5235480"/>
            <a:chExt cx="1896120" cy="1176120"/>
          </a:xfrm>
        </p:grpSpPr>
        <p:sp>
          <p:nvSpPr>
            <p:cNvPr id="96" name="Freeform 11"/>
            <p:cNvSpPr/>
            <p:nvPr/>
          </p:nvSpPr>
          <p:spPr>
            <a:xfrm>
              <a:off x="39960" y="5257800"/>
              <a:ext cx="1837800" cy="972360"/>
            </a:xfrm>
            <a:custGeom>
              <a:avLst/>
              <a:gdLst>
                <a:gd name="textAreaLeft" fmla="*/ 0 w 1837800"/>
                <a:gd name="textAreaRight" fmla="*/ 1838160 w 1837800"/>
                <a:gd name="textAreaTop" fmla="*/ 0 h 972360"/>
                <a:gd name="textAreaBottom" fmla="*/ 972720 h 97236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724400" y="5373360"/>
              <a:ext cx="119520" cy="19296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3120" y="5660640"/>
              <a:ext cx="1336680" cy="614160"/>
            </a:xfrm>
            <a:custGeom>
              <a:avLst/>
              <a:gdLst>
                <a:gd name="textAreaLeft" fmla="*/ 0 w 1336680"/>
                <a:gd name="textAreaRight" fmla="*/ 1337040 w 1336680"/>
                <a:gd name="textAreaTop" fmla="*/ 0 h 614160"/>
                <a:gd name="textAreaBottom" fmla="*/ 614520 h 6141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17080" y="5711760"/>
              <a:ext cx="885960" cy="560160"/>
            </a:xfrm>
            <a:custGeom>
              <a:avLst/>
              <a:gdLst>
                <a:gd name="textAreaLeft" fmla="*/ 0 w 885960"/>
                <a:gd name="textAreaRight" fmla="*/ 886320 w 885960"/>
                <a:gd name="textAreaTop" fmla="*/ 0 h 560160"/>
                <a:gd name="textAreaBottom" fmla="*/ 560520 h 5601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817920" y="5298120"/>
              <a:ext cx="227520" cy="18144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81440" y="6243840"/>
              <a:ext cx="128160" cy="16776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7760"/>
                <a:gd name="textAreaBottom" fmla="*/ 167760 h 16776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49960" y="5410800"/>
              <a:ext cx="325440" cy="57384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573840"/>
                <a:gd name="textAreaBottom" fmla="*/ 574200 h 5738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126800" y="5385240"/>
              <a:ext cx="614160" cy="260640"/>
            </a:xfrm>
            <a:custGeom>
              <a:avLst/>
              <a:gdLst>
                <a:gd name="textAreaLeft" fmla="*/ 0 w 614160"/>
                <a:gd name="textAreaRight" fmla="*/ 614520 w 614160"/>
                <a:gd name="textAreaTop" fmla="*/ 0 h 260640"/>
                <a:gd name="textAreaBottom" fmla="*/ 261000 h 26064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85000" y="5539320"/>
              <a:ext cx="263160" cy="100440"/>
            </a:xfrm>
            <a:custGeom>
              <a:avLst/>
              <a:gdLst>
                <a:gd name="textAreaLeft" fmla="*/ 0 w 263160"/>
                <a:gd name="textAreaRight" fmla="*/ 263520 w 26316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235480"/>
              <a:ext cx="1896120" cy="1168200"/>
              <a:chOff x="7920" y="5235480"/>
              <a:chExt cx="1896120" cy="11682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841320" y="5343120"/>
                <a:ext cx="924120" cy="1060560"/>
                <a:chOff x="841320" y="5343120"/>
                <a:chExt cx="924120" cy="106056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841320" y="5380560"/>
                  <a:ext cx="264960" cy="129960"/>
                </a:xfrm>
                <a:custGeom>
                  <a:avLst/>
                  <a:gdLst>
                    <a:gd name="textAreaLeft" fmla="*/ 0 w 264960"/>
                    <a:gd name="textAreaRight" fmla="*/ 265320 w 26496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72800" y="6204600"/>
                  <a:ext cx="193680" cy="199080"/>
                </a:xfrm>
                <a:custGeom>
                  <a:avLst/>
                  <a:gdLst>
                    <a:gd name="textAreaLeft" fmla="*/ 0 w 193680"/>
                    <a:gd name="textAreaRight" fmla="*/ 194040 w 193680"/>
                    <a:gd name="textAreaTop" fmla="*/ 0 h 199080"/>
                    <a:gd name="textAreaBottom" fmla="*/ 199440 h 19908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693080" y="5343120"/>
                  <a:ext cx="72360" cy="174960"/>
                </a:xfrm>
                <a:custGeom>
                  <a:avLst/>
                  <a:gdLst>
                    <a:gd name="textAreaLeft" fmla="*/ 0 w 72360"/>
                    <a:gd name="textAreaRight" fmla="*/ 72720 w 72360"/>
                    <a:gd name="textAreaTop" fmla="*/ 0 h 174960"/>
                    <a:gd name="textAreaBottom" fmla="*/ 175320 h 1749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7440" y="5598000"/>
                <a:ext cx="1004040" cy="374760"/>
              </a:xfrm>
              <a:custGeom>
                <a:avLst/>
                <a:gdLst>
                  <a:gd name="textAreaLeft" fmla="*/ 0 w 1004040"/>
                  <a:gd name="textAreaRight" fmla="*/ 1004400 w 100404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38120" y="5828760"/>
                <a:ext cx="411480" cy="221760"/>
              </a:xfrm>
              <a:custGeom>
                <a:avLst/>
                <a:gdLst>
                  <a:gd name="textAreaLeft" fmla="*/ 0 w 411480"/>
                  <a:gd name="textAreaRight" fmla="*/ 411840 w 411480"/>
                  <a:gd name="textAreaTop" fmla="*/ 0 h 221760"/>
                  <a:gd name="textAreaBottom" fmla="*/ 222120 h 22176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952560" y="5519880"/>
                <a:ext cx="180360" cy="356400"/>
              </a:xfrm>
              <a:custGeom>
                <a:avLst/>
                <a:gdLst>
                  <a:gd name="textAreaLeft" fmla="*/ 0 w 180360"/>
                  <a:gd name="textAreaRight" fmla="*/ 180360 w 180360"/>
                  <a:gd name="textAreaTop" fmla="*/ 0 h 356400"/>
                  <a:gd name="textAreaBottom" fmla="*/ 356760 h 35640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235480"/>
                <a:ext cx="1896120" cy="1015560"/>
                <a:chOff x="7920" y="5235480"/>
                <a:chExt cx="1896120" cy="101556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127880" y="6071400"/>
                  <a:ext cx="126360" cy="129960"/>
                </a:xfrm>
                <a:custGeom>
                  <a:avLst/>
                  <a:gdLst>
                    <a:gd name="textAreaLeft" fmla="*/ 0 w 126360"/>
                    <a:gd name="textAreaRight" fmla="*/ 126720 w 12636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591880"/>
                  <a:ext cx="1420200" cy="659160"/>
                </a:xfrm>
                <a:custGeom>
                  <a:avLst/>
                  <a:gdLst>
                    <a:gd name="textAreaLeft" fmla="*/ 0 w 1420200"/>
                    <a:gd name="textAreaRight" fmla="*/ 1420560 w 1420200"/>
                    <a:gd name="textAreaTop" fmla="*/ 0 h 659160"/>
                    <a:gd name="textAreaBottom" fmla="*/ 659520 h 6591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77840" y="5654880"/>
                  <a:ext cx="135000" cy="249840"/>
                </a:xfrm>
                <a:custGeom>
                  <a:avLst/>
                  <a:gdLst>
                    <a:gd name="textAreaLeft" fmla="*/ 0 w 135000"/>
                    <a:gd name="textAreaRight" fmla="*/ 135360 w 135000"/>
                    <a:gd name="textAreaTop" fmla="*/ 0 h 249840"/>
                    <a:gd name="textAreaBottom" fmla="*/ 250200 h 24984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56720" y="5235480"/>
                  <a:ext cx="543240" cy="889560"/>
                </a:xfrm>
                <a:custGeom>
                  <a:avLst/>
                  <a:gdLst>
                    <a:gd name="textAreaLeft" fmla="*/ 0 w 543240"/>
                    <a:gd name="textAreaRight" fmla="*/ 543600 w 543240"/>
                    <a:gd name="textAreaTop" fmla="*/ 0 h 889560"/>
                    <a:gd name="textAreaBottom" fmla="*/ 889920 h 88956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74520" y="5474880"/>
                  <a:ext cx="161640" cy="37764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377640"/>
                    <a:gd name="textAreaBottom" fmla="*/ 378000 h 37764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52600" y="5445000"/>
                  <a:ext cx="328680" cy="202320"/>
                </a:xfrm>
                <a:custGeom>
                  <a:avLst/>
                  <a:gdLst>
                    <a:gd name="textAreaLeft" fmla="*/ 0 w 328680"/>
                    <a:gd name="textAreaRight" fmla="*/ 329040 w 328680"/>
                    <a:gd name="textAreaTop" fmla="*/ 0 h 202320"/>
                    <a:gd name="textAreaBottom" fmla="*/ 202680 h 20232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109520" y="5307480"/>
                  <a:ext cx="794520" cy="317160"/>
                </a:xfrm>
                <a:custGeom>
                  <a:avLst/>
                  <a:gdLst>
                    <a:gd name="textAreaLeft" fmla="*/ 0 w 794520"/>
                    <a:gd name="textAreaRight" fmla="*/ 794880 w 794520"/>
                    <a:gd name="textAreaTop" fmla="*/ 0 h 317160"/>
                    <a:gd name="textAreaBottom" fmla="*/ 317160 h 31716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208880" y="5409000"/>
                  <a:ext cx="412920" cy="128880"/>
                </a:xfrm>
                <a:custGeom>
                  <a:avLst/>
                  <a:gdLst>
                    <a:gd name="textAreaLeft" fmla="*/ 0 w 412920"/>
                    <a:gd name="textAreaRight" fmla="*/ 413280 w 412920"/>
                    <a:gd name="textAreaTop" fmla="*/ 0 h 128880"/>
                    <a:gd name="textAreaBottom" fmla="*/ 129240 h 12888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9228240" y="2000160"/>
            <a:ext cx="408960" cy="4070160"/>
            <a:chOff x="9228240" y="2000160"/>
            <a:chExt cx="408960" cy="4070160"/>
          </a:xfrm>
        </p:grpSpPr>
        <p:sp>
          <p:nvSpPr>
            <p:cNvPr id="123" name="Freeform 38"/>
            <p:cNvSpPr/>
            <p:nvPr/>
          </p:nvSpPr>
          <p:spPr>
            <a:xfrm flipH="1">
              <a:off x="9228240" y="3930120"/>
              <a:ext cx="344880" cy="2140200"/>
            </a:xfrm>
            <a:custGeom>
              <a:avLst/>
              <a:gdLst>
                <a:gd name="textAreaLeft" fmla="*/ 360 w 344880"/>
                <a:gd name="textAreaRight" fmla="*/ 345600 w 344880"/>
                <a:gd name="textAreaTop" fmla="*/ 0 h 2140200"/>
                <a:gd name="textAreaBottom" fmla="*/ 2140560 h 214020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9292320" y="2000160"/>
              <a:ext cx="344880" cy="2449080"/>
            </a:xfrm>
            <a:custGeom>
              <a:avLst/>
              <a:gdLst>
                <a:gd name="textAreaLeft" fmla="*/ 360 w 344880"/>
                <a:gd name="textAreaRight" fmla="*/ 345600 w 344880"/>
                <a:gd name="textAreaTop" fmla="*/ 0 h 2449080"/>
                <a:gd name="textAreaBottom" fmla="*/ 2449440 h 24490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666920" y="-157680"/>
            <a:ext cx="2493000" cy="2274120"/>
            <a:chOff x="7666920" y="-157680"/>
            <a:chExt cx="2493000" cy="2274120"/>
          </a:xfrm>
        </p:grpSpPr>
        <p:grpSp>
          <p:nvGrpSpPr>
            <p:cNvPr id="126" name="Group 41"/>
            <p:cNvGrpSpPr/>
            <p:nvPr/>
          </p:nvGrpSpPr>
          <p:grpSpPr>
            <a:xfrm>
              <a:off x="7666920" y="-157680"/>
              <a:ext cx="2493000" cy="2274120"/>
              <a:chOff x="7666920" y="-157680"/>
              <a:chExt cx="2493000" cy="227412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9168480" y="1602360"/>
                <a:ext cx="92880" cy="48564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485640"/>
                  <a:gd name="textAreaBottom" fmla="*/ 486000 h 48564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666920" y="-157680"/>
                <a:ext cx="2493000" cy="2274120"/>
                <a:chOff x="7666920" y="-157680"/>
                <a:chExt cx="2493000" cy="227412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8394480" y="94320"/>
                  <a:ext cx="229320" cy="210960"/>
                </a:xfrm>
                <a:custGeom>
                  <a:avLst/>
                  <a:gdLst>
                    <a:gd name="textAreaLeft" fmla="*/ 0 w 229320"/>
                    <a:gd name="textAreaRight" fmla="*/ 229680 w 229320"/>
                    <a:gd name="textAreaTop" fmla="*/ 0 h 210960"/>
                    <a:gd name="textAreaBottom" fmla="*/ 211320 h 21096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544600" y="456120"/>
                  <a:ext cx="403560" cy="738360"/>
                </a:xfrm>
                <a:custGeom>
                  <a:avLst/>
                  <a:gdLst>
                    <a:gd name="textAreaLeft" fmla="*/ 0 w 403560"/>
                    <a:gd name="textAreaRight" fmla="*/ 403920 w 403560"/>
                    <a:gd name="textAreaTop" fmla="*/ 0 h 738360"/>
                    <a:gd name="textAreaBottom" fmla="*/ 738720 h 7383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8245800" y="189000"/>
                  <a:ext cx="757440" cy="1514160"/>
                </a:xfrm>
                <a:custGeom>
                  <a:avLst/>
                  <a:gdLst>
                    <a:gd name="textAreaLeft" fmla="*/ 0 w 757440"/>
                    <a:gd name="textAreaRight" fmla="*/ 757800 w 757440"/>
                    <a:gd name="textAreaTop" fmla="*/ 0 h 1514160"/>
                    <a:gd name="textAreaBottom" fmla="*/ 1514520 h 151416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8344800" y="-153360"/>
                  <a:ext cx="1137240" cy="2265840"/>
                </a:xfrm>
                <a:custGeom>
                  <a:avLst/>
                  <a:gdLst>
                    <a:gd name="textAreaLeft" fmla="*/ 0 w 1137240"/>
                    <a:gd name="textAreaRight" fmla="*/ 1137600 w 1137240"/>
                    <a:gd name="textAreaTop" fmla="*/ 0 h 2265840"/>
                    <a:gd name="textAreaBottom" fmla="*/ 2266200 h 226584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955000" y="1334160"/>
                  <a:ext cx="253440" cy="205560"/>
                </a:xfrm>
                <a:custGeom>
                  <a:avLst/>
                  <a:gdLst>
                    <a:gd name="textAreaLeft" fmla="*/ 0 w 253440"/>
                    <a:gd name="textAreaRight" fmla="*/ 253800 w 253440"/>
                    <a:gd name="textAreaTop" fmla="*/ 0 h 205560"/>
                    <a:gd name="textAreaBottom" fmla="*/ 205920 h 20556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881920" y="1194480"/>
                  <a:ext cx="271800" cy="242640"/>
                </a:xfrm>
                <a:custGeom>
                  <a:avLst/>
                  <a:gdLst>
                    <a:gd name="textAreaLeft" fmla="*/ 0 w 271800"/>
                    <a:gd name="textAreaRight" fmla="*/ 272160 w 271800"/>
                    <a:gd name="textAreaTop" fmla="*/ 0 h 242640"/>
                    <a:gd name="textAreaBottom" fmla="*/ 243000 h 24264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8429040" y="300960"/>
                  <a:ext cx="271440" cy="248040"/>
                </a:xfrm>
                <a:custGeom>
                  <a:avLst/>
                  <a:gdLst>
                    <a:gd name="textAreaLeft" fmla="*/ 0 w 271440"/>
                    <a:gd name="textAreaRight" fmla="*/ 271800 w 271440"/>
                    <a:gd name="textAreaTop" fmla="*/ 0 h 248040"/>
                    <a:gd name="textAreaBottom" fmla="*/ 248400 h 2480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8367480" y="199440"/>
                  <a:ext cx="268200" cy="232200"/>
                </a:xfrm>
                <a:custGeom>
                  <a:avLst/>
                  <a:gdLst>
                    <a:gd name="textAreaLeft" fmla="*/ 0 w 268200"/>
                    <a:gd name="textAreaRight" fmla="*/ 268200 w 268200"/>
                    <a:gd name="textAreaTop" fmla="*/ 0 h 232200"/>
                    <a:gd name="textAreaBottom" fmla="*/ 232560 h 23220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8218440" y="126000"/>
              <a:ext cx="70920" cy="14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2"/>
          <p:cNvSpPr/>
          <p:nvPr/>
        </p:nvSpPr>
        <p:spPr>
          <a:xfrm>
            <a:off x="22320" y="12600"/>
            <a:ext cx="9456480" cy="6405840"/>
          </a:xfrm>
          <a:custGeom>
            <a:avLst/>
            <a:gdLst>
              <a:gd name="textAreaLeft" fmla="*/ 0 w 9456480"/>
              <a:gd name="textAreaRight" fmla="*/ 9456840 w 9456480"/>
              <a:gd name="textAreaTop" fmla="*/ 0 h 6405840"/>
              <a:gd name="textAreaBottom" fmla="*/ 6406200 h 64058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5" name="Group 8"/>
          <p:cNvGrpSpPr/>
          <p:nvPr/>
        </p:nvGrpSpPr>
        <p:grpSpPr>
          <a:xfrm>
            <a:off x="208080" y="222120"/>
            <a:ext cx="4025160" cy="1679400"/>
            <a:chOff x="208080" y="222120"/>
            <a:chExt cx="4025160" cy="1679400"/>
          </a:xfrm>
        </p:grpSpPr>
        <p:sp>
          <p:nvSpPr>
            <p:cNvPr id="176" name="Freeform 9"/>
            <p:cNvSpPr/>
            <p:nvPr/>
          </p:nvSpPr>
          <p:spPr>
            <a:xfrm>
              <a:off x="299520" y="265320"/>
              <a:ext cx="3795840" cy="1524960"/>
            </a:xfrm>
            <a:custGeom>
              <a:avLst/>
              <a:gdLst>
                <a:gd name="textAreaLeft" fmla="*/ 0 w 3795840"/>
                <a:gd name="textAreaRight" fmla="*/ 3796200 w 3795840"/>
                <a:gd name="textAreaTop" fmla="*/ 0 h 1524960"/>
                <a:gd name="textAreaBottom" fmla="*/ 1525320 h 152496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Freeform 10"/>
            <p:cNvSpPr/>
            <p:nvPr/>
          </p:nvSpPr>
          <p:spPr>
            <a:xfrm>
              <a:off x="280440" y="391320"/>
              <a:ext cx="3785760" cy="1510200"/>
            </a:xfrm>
            <a:custGeom>
              <a:avLst/>
              <a:gdLst>
                <a:gd name="textAreaLeft" fmla="*/ 0 w 3785760"/>
                <a:gd name="textAreaRight" fmla="*/ 3786120 w 3785760"/>
                <a:gd name="textAreaTop" fmla="*/ 0 h 1510200"/>
                <a:gd name="textAreaBottom" fmla="*/ 1510560 h 151020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Freeform 11"/>
            <p:cNvSpPr/>
            <p:nvPr/>
          </p:nvSpPr>
          <p:spPr>
            <a:xfrm>
              <a:off x="800280" y="515880"/>
              <a:ext cx="2510640" cy="1378080"/>
            </a:xfrm>
            <a:custGeom>
              <a:avLst/>
              <a:gdLst>
                <a:gd name="textAreaLeft" fmla="*/ 0 w 2510640"/>
                <a:gd name="textAreaRight" fmla="*/ 2511000 w 2510640"/>
                <a:gd name="textAreaTop" fmla="*/ 0 h 1378080"/>
                <a:gd name="textAreaBottom" fmla="*/ 1378440 h 137808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79" name="Group 12"/>
            <p:cNvGrpSpPr/>
            <p:nvPr/>
          </p:nvGrpSpPr>
          <p:grpSpPr>
            <a:xfrm>
              <a:off x="208080" y="222120"/>
              <a:ext cx="4025160" cy="1621080"/>
              <a:chOff x="208080" y="222120"/>
              <a:chExt cx="4025160" cy="1621080"/>
            </a:xfrm>
          </p:grpSpPr>
          <p:sp>
            <p:nvSpPr>
              <p:cNvPr id="180" name="Freeform 13"/>
              <p:cNvSpPr/>
              <p:nvPr/>
            </p:nvSpPr>
            <p:spPr>
              <a:xfrm>
                <a:off x="3382920" y="1400760"/>
                <a:ext cx="357480" cy="320400"/>
              </a:xfrm>
              <a:custGeom>
                <a:avLst/>
                <a:gdLst>
                  <a:gd name="textAreaLeft" fmla="*/ 0 w 357480"/>
                  <a:gd name="textAreaRight" fmla="*/ 357840 w 35748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208080" y="222120"/>
                <a:ext cx="4025160" cy="1621080"/>
              </a:xfrm>
              <a:custGeom>
                <a:avLst/>
                <a:gdLst>
                  <a:gd name="textAreaLeft" fmla="*/ 0 w 4025160"/>
                  <a:gd name="textAreaRight" fmla="*/ 4025520 w 4025160"/>
                  <a:gd name="textAreaTop" fmla="*/ 0 h 1621080"/>
                  <a:gd name="textAreaBottom" fmla="*/ 1621440 h 162108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547200" y="236880"/>
                <a:ext cx="2844360" cy="920520"/>
              </a:xfrm>
              <a:custGeom>
                <a:avLst/>
                <a:gdLst>
                  <a:gd name="textAreaLeft" fmla="*/ 0 w 2844360"/>
                  <a:gd name="textAreaRight" fmla="*/ 2844720 w 2844360"/>
                  <a:gd name="textAreaTop" fmla="*/ 0 h 920520"/>
                  <a:gd name="textAreaBottom" fmla="*/ 920880 h 920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690840" y="376200"/>
                <a:ext cx="382680" cy="6145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14520"/>
                  <a:gd name="textAreaBottom" fmla="*/ 614880 h 6145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1428120" y="803880"/>
                <a:ext cx="1165680" cy="545760"/>
              </a:xfrm>
              <a:custGeom>
                <a:avLst/>
                <a:gdLst>
                  <a:gd name="textAreaLeft" fmla="*/ 0 w 1165680"/>
                  <a:gd name="textAreaRight" fmla="*/ 1166040 w 1165680"/>
                  <a:gd name="textAreaTop" fmla="*/ 0 h 545760"/>
                  <a:gd name="textAreaBottom" fmla="*/ 546120 h 54576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85" name="Group 18"/>
          <p:cNvGrpSpPr/>
          <p:nvPr/>
        </p:nvGrpSpPr>
        <p:grpSpPr>
          <a:xfrm>
            <a:off x="8321040" y="4064400"/>
            <a:ext cx="976320" cy="1127880"/>
            <a:chOff x="8321040" y="4064400"/>
            <a:chExt cx="976320" cy="1127880"/>
          </a:xfrm>
        </p:grpSpPr>
        <p:sp>
          <p:nvSpPr>
            <p:cNvPr id="186" name="Freeform 19"/>
            <p:cNvSpPr/>
            <p:nvPr/>
          </p:nvSpPr>
          <p:spPr>
            <a:xfrm rot="7320000">
              <a:off x="8341920" y="4376160"/>
              <a:ext cx="945000" cy="494640"/>
            </a:xfrm>
            <a:custGeom>
              <a:avLst/>
              <a:gdLst>
                <a:gd name="textAreaLeft" fmla="*/ 0 w 945000"/>
                <a:gd name="textAreaRight" fmla="*/ 945360 w 945000"/>
                <a:gd name="textAreaTop" fmla="*/ 0 h 494640"/>
                <a:gd name="textAreaBottom" fmla="*/ 495000 h 4946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Freeform 20"/>
            <p:cNvSpPr/>
            <p:nvPr/>
          </p:nvSpPr>
          <p:spPr>
            <a:xfrm rot="7320000">
              <a:off x="8316000" y="4355640"/>
              <a:ext cx="941760" cy="489600"/>
            </a:xfrm>
            <a:custGeom>
              <a:avLst/>
              <a:gdLst>
                <a:gd name="textAreaLeft" fmla="*/ 0 w 941760"/>
                <a:gd name="textAreaRight" fmla="*/ 942120 w 94176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Freeform 21"/>
            <p:cNvSpPr/>
            <p:nvPr/>
          </p:nvSpPr>
          <p:spPr>
            <a:xfrm rot="7320000">
              <a:off x="8474760" y="4343040"/>
              <a:ext cx="624960" cy="447480"/>
            </a:xfrm>
            <a:custGeom>
              <a:avLst/>
              <a:gdLst>
                <a:gd name="textAreaLeft" fmla="*/ 0 w 624960"/>
                <a:gd name="textAreaRight" fmla="*/ 625320 w 62496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9" name="Group 22"/>
            <p:cNvGrpSpPr/>
            <p:nvPr/>
          </p:nvGrpSpPr>
          <p:grpSpPr>
            <a:xfrm>
              <a:off x="8321040" y="4064400"/>
              <a:ext cx="976320" cy="1127880"/>
              <a:chOff x="8321040" y="4064400"/>
              <a:chExt cx="976320" cy="1127880"/>
            </a:xfrm>
          </p:grpSpPr>
          <p:sp>
            <p:nvSpPr>
              <p:cNvPr id="190" name="Freeform 23"/>
              <p:cNvSpPr/>
              <p:nvPr/>
            </p:nvSpPr>
            <p:spPr>
              <a:xfrm rot="7320000">
                <a:off x="8420760" y="4779000"/>
                <a:ext cx="88560" cy="102960"/>
              </a:xfrm>
              <a:custGeom>
                <a:avLst/>
                <a:gdLst>
                  <a:gd name="textAreaLeft" fmla="*/ 0 w 88560"/>
                  <a:gd name="textAreaRight" fmla="*/ 88920 w 885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 rot="7320000">
                <a:off x="8308080" y="4365360"/>
                <a:ext cx="1001880" cy="525240"/>
              </a:xfrm>
              <a:custGeom>
                <a:avLst/>
                <a:gdLst>
                  <a:gd name="textAreaLeft" fmla="*/ 0 w 1001880"/>
                  <a:gd name="textAreaRight" fmla="*/ 1002240 w 1001880"/>
                  <a:gd name="textAreaTop" fmla="*/ 0 h 525240"/>
                  <a:gd name="textAreaBottom" fmla="*/ 525600 h 5252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 rot="7320000">
                <a:off x="8585280" y="4478760"/>
                <a:ext cx="709200" cy="297000"/>
              </a:xfrm>
              <a:custGeom>
                <a:avLst/>
                <a:gdLst>
                  <a:gd name="textAreaLeft" fmla="*/ 0 w 709200"/>
                  <a:gd name="textAreaRight" fmla="*/ 709560 w 70920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 rot="7320000">
                <a:off x="9056520" y="4298400"/>
                <a:ext cx="94320" cy="19944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199440"/>
                  <a:gd name="textAreaBottom" fmla="*/ 199800 h 19944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 rot="7320000">
                <a:off x="8685000" y="4488840"/>
                <a:ext cx="289800" cy="175320"/>
              </a:xfrm>
              <a:custGeom>
                <a:avLst/>
                <a:gdLst>
                  <a:gd name="textAreaLeft" fmla="*/ 0 w 289800"/>
                  <a:gd name="textAreaRight" fmla="*/ 290160 w 2898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95" name="Freeform 28"/>
          <p:cNvSpPr/>
          <p:nvPr/>
        </p:nvSpPr>
        <p:spPr>
          <a:xfrm>
            <a:off x="958680" y="4776840"/>
            <a:ext cx="7236000" cy="687240"/>
          </a:xfrm>
          <a:custGeom>
            <a:avLst/>
            <a:gdLst>
              <a:gd name="textAreaLeft" fmla="*/ 0 w 7236000"/>
              <a:gd name="textAreaRight" fmla="*/ 7236360 w 7236000"/>
              <a:gd name="textAreaTop" fmla="*/ 0 h 687240"/>
              <a:gd name="textAreaBottom" fmla="*/ 687240 h 6872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Freeform 29"/>
          <p:cNvSpPr/>
          <p:nvPr/>
        </p:nvSpPr>
        <p:spPr>
          <a:xfrm>
            <a:off x="4334040" y="1824120"/>
            <a:ext cx="944280" cy="360360"/>
          </a:xfrm>
          <a:custGeom>
            <a:avLst/>
            <a:gdLst>
              <a:gd name="textAreaLeft" fmla="*/ 0 w 944280"/>
              <a:gd name="textAreaRight" fmla="*/ 944640 w 9442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28640" y="1728720"/>
            <a:ext cx="8182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16680" indent="-2372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948600" indent="-1897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328040" indent="-1897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707480" indent="-18972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707480" indent="-18972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707480" indent="-18972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728280" y="5903640"/>
            <a:ext cx="2025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320640" y="5903640"/>
            <a:ext cx="3078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965640" y="5903640"/>
            <a:ext cx="2025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286D7EE-D86A-460A-90E5-61DF6C8B7F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"/>
          <p:cNvSpPr/>
          <p:nvPr/>
        </p:nvSpPr>
        <p:spPr>
          <a:xfrm>
            <a:off x="22320" y="12600"/>
            <a:ext cx="9456480" cy="6405840"/>
          </a:xfrm>
          <a:custGeom>
            <a:avLst/>
            <a:gdLst>
              <a:gd name="textAreaLeft" fmla="*/ 0 w 9456480"/>
              <a:gd name="textAreaRight" fmla="*/ 9456840 w 9456480"/>
              <a:gd name="textAreaTop" fmla="*/ 0 h 6405840"/>
              <a:gd name="textAreaBottom" fmla="*/ 6406200 h 64058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9" name="Group 8"/>
          <p:cNvGrpSpPr/>
          <p:nvPr/>
        </p:nvGrpSpPr>
        <p:grpSpPr>
          <a:xfrm>
            <a:off x="208080" y="222120"/>
            <a:ext cx="4025160" cy="1679400"/>
            <a:chOff x="208080" y="222120"/>
            <a:chExt cx="4025160" cy="1679400"/>
          </a:xfrm>
        </p:grpSpPr>
        <p:sp>
          <p:nvSpPr>
            <p:cNvPr id="240" name="Freeform 9"/>
            <p:cNvSpPr/>
            <p:nvPr/>
          </p:nvSpPr>
          <p:spPr>
            <a:xfrm>
              <a:off x="299520" y="265320"/>
              <a:ext cx="3795840" cy="1524960"/>
            </a:xfrm>
            <a:custGeom>
              <a:avLst/>
              <a:gdLst>
                <a:gd name="textAreaLeft" fmla="*/ 0 w 3795840"/>
                <a:gd name="textAreaRight" fmla="*/ 3796200 w 3795840"/>
                <a:gd name="textAreaTop" fmla="*/ 0 h 1524960"/>
                <a:gd name="textAreaBottom" fmla="*/ 1525320 h 152496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" name="Freeform 10"/>
            <p:cNvSpPr/>
            <p:nvPr/>
          </p:nvSpPr>
          <p:spPr>
            <a:xfrm>
              <a:off x="280440" y="391320"/>
              <a:ext cx="3785760" cy="1510200"/>
            </a:xfrm>
            <a:custGeom>
              <a:avLst/>
              <a:gdLst>
                <a:gd name="textAreaLeft" fmla="*/ 0 w 3785760"/>
                <a:gd name="textAreaRight" fmla="*/ 3786120 w 3785760"/>
                <a:gd name="textAreaTop" fmla="*/ 0 h 1510200"/>
                <a:gd name="textAreaBottom" fmla="*/ 1510560 h 151020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Freeform 11"/>
            <p:cNvSpPr/>
            <p:nvPr/>
          </p:nvSpPr>
          <p:spPr>
            <a:xfrm>
              <a:off x="800280" y="515880"/>
              <a:ext cx="2510640" cy="1378080"/>
            </a:xfrm>
            <a:custGeom>
              <a:avLst/>
              <a:gdLst>
                <a:gd name="textAreaLeft" fmla="*/ 0 w 2510640"/>
                <a:gd name="textAreaRight" fmla="*/ 2511000 w 2510640"/>
                <a:gd name="textAreaTop" fmla="*/ 0 h 1378080"/>
                <a:gd name="textAreaBottom" fmla="*/ 1378440 h 137808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3" name="Group 12"/>
            <p:cNvGrpSpPr/>
            <p:nvPr/>
          </p:nvGrpSpPr>
          <p:grpSpPr>
            <a:xfrm>
              <a:off x="208080" y="222120"/>
              <a:ext cx="4025160" cy="1621080"/>
              <a:chOff x="208080" y="222120"/>
              <a:chExt cx="4025160" cy="1621080"/>
            </a:xfrm>
          </p:grpSpPr>
          <p:sp>
            <p:nvSpPr>
              <p:cNvPr id="244" name="Freeform 13"/>
              <p:cNvSpPr/>
              <p:nvPr/>
            </p:nvSpPr>
            <p:spPr>
              <a:xfrm>
                <a:off x="3382920" y="1400760"/>
                <a:ext cx="357480" cy="320400"/>
              </a:xfrm>
              <a:custGeom>
                <a:avLst/>
                <a:gdLst>
                  <a:gd name="textAreaLeft" fmla="*/ 0 w 357480"/>
                  <a:gd name="textAreaRight" fmla="*/ 357840 w 35748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" name="Freeform 14"/>
              <p:cNvSpPr/>
              <p:nvPr/>
            </p:nvSpPr>
            <p:spPr>
              <a:xfrm>
                <a:off x="208080" y="222120"/>
                <a:ext cx="4025160" cy="1621080"/>
              </a:xfrm>
              <a:custGeom>
                <a:avLst/>
                <a:gdLst>
                  <a:gd name="textAreaLeft" fmla="*/ 0 w 4025160"/>
                  <a:gd name="textAreaRight" fmla="*/ 4025520 w 4025160"/>
                  <a:gd name="textAreaTop" fmla="*/ 0 h 1621080"/>
                  <a:gd name="textAreaBottom" fmla="*/ 1621440 h 162108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" name="Freeform 15"/>
              <p:cNvSpPr/>
              <p:nvPr/>
            </p:nvSpPr>
            <p:spPr>
              <a:xfrm>
                <a:off x="547200" y="236880"/>
                <a:ext cx="2844360" cy="920520"/>
              </a:xfrm>
              <a:custGeom>
                <a:avLst/>
                <a:gdLst>
                  <a:gd name="textAreaLeft" fmla="*/ 0 w 2844360"/>
                  <a:gd name="textAreaRight" fmla="*/ 2844720 w 2844360"/>
                  <a:gd name="textAreaTop" fmla="*/ 0 h 920520"/>
                  <a:gd name="textAreaBottom" fmla="*/ 920880 h 920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" name="Freeform 16"/>
              <p:cNvSpPr/>
              <p:nvPr/>
            </p:nvSpPr>
            <p:spPr>
              <a:xfrm>
                <a:off x="690840" y="376200"/>
                <a:ext cx="382680" cy="6145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14520"/>
                  <a:gd name="textAreaBottom" fmla="*/ 614880 h 6145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" name="Freeform 17"/>
              <p:cNvSpPr/>
              <p:nvPr/>
            </p:nvSpPr>
            <p:spPr>
              <a:xfrm>
                <a:off x="1428120" y="803880"/>
                <a:ext cx="1165680" cy="545760"/>
              </a:xfrm>
              <a:custGeom>
                <a:avLst/>
                <a:gdLst>
                  <a:gd name="textAreaLeft" fmla="*/ 0 w 1165680"/>
                  <a:gd name="textAreaRight" fmla="*/ 1166040 w 1165680"/>
                  <a:gd name="textAreaTop" fmla="*/ 0 h 545760"/>
                  <a:gd name="textAreaBottom" fmla="*/ 546120 h 54576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49" name="Group 18"/>
          <p:cNvGrpSpPr/>
          <p:nvPr/>
        </p:nvGrpSpPr>
        <p:grpSpPr>
          <a:xfrm>
            <a:off x="8321040" y="4064400"/>
            <a:ext cx="976320" cy="1127880"/>
            <a:chOff x="8321040" y="4064400"/>
            <a:chExt cx="976320" cy="1127880"/>
          </a:xfrm>
        </p:grpSpPr>
        <p:sp>
          <p:nvSpPr>
            <p:cNvPr id="250" name="Freeform 19"/>
            <p:cNvSpPr/>
            <p:nvPr/>
          </p:nvSpPr>
          <p:spPr>
            <a:xfrm rot="7320000">
              <a:off x="8341920" y="4376160"/>
              <a:ext cx="945000" cy="494640"/>
            </a:xfrm>
            <a:custGeom>
              <a:avLst/>
              <a:gdLst>
                <a:gd name="textAreaLeft" fmla="*/ 0 w 945000"/>
                <a:gd name="textAreaRight" fmla="*/ 945360 w 945000"/>
                <a:gd name="textAreaTop" fmla="*/ 0 h 494640"/>
                <a:gd name="textAreaBottom" fmla="*/ 495000 h 4946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Freeform 20"/>
            <p:cNvSpPr/>
            <p:nvPr/>
          </p:nvSpPr>
          <p:spPr>
            <a:xfrm rot="7320000">
              <a:off x="8316000" y="4355640"/>
              <a:ext cx="941760" cy="489600"/>
            </a:xfrm>
            <a:custGeom>
              <a:avLst/>
              <a:gdLst>
                <a:gd name="textAreaLeft" fmla="*/ 0 w 941760"/>
                <a:gd name="textAreaRight" fmla="*/ 942120 w 94176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Freeform 21"/>
            <p:cNvSpPr/>
            <p:nvPr/>
          </p:nvSpPr>
          <p:spPr>
            <a:xfrm rot="7320000">
              <a:off x="8474760" y="4343040"/>
              <a:ext cx="624960" cy="447480"/>
            </a:xfrm>
            <a:custGeom>
              <a:avLst/>
              <a:gdLst>
                <a:gd name="textAreaLeft" fmla="*/ 0 w 624960"/>
                <a:gd name="textAreaRight" fmla="*/ 625320 w 62496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3" name="Group 22"/>
            <p:cNvGrpSpPr/>
            <p:nvPr/>
          </p:nvGrpSpPr>
          <p:grpSpPr>
            <a:xfrm>
              <a:off x="8321040" y="4064400"/>
              <a:ext cx="976320" cy="1127880"/>
              <a:chOff x="8321040" y="4064400"/>
              <a:chExt cx="976320" cy="1127880"/>
            </a:xfrm>
          </p:grpSpPr>
          <p:sp>
            <p:nvSpPr>
              <p:cNvPr id="254" name="Freeform 23"/>
              <p:cNvSpPr/>
              <p:nvPr/>
            </p:nvSpPr>
            <p:spPr>
              <a:xfrm rot="7320000">
                <a:off x="8420760" y="4779000"/>
                <a:ext cx="88560" cy="102960"/>
              </a:xfrm>
              <a:custGeom>
                <a:avLst/>
                <a:gdLst>
                  <a:gd name="textAreaLeft" fmla="*/ 0 w 88560"/>
                  <a:gd name="textAreaRight" fmla="*/ 88920 w 885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" name="Freeform 24"/>
              <p:cNvSpPr/>
              <p:nvPr/>
            </p:nvSpPr>
            <p:spPr>
              <a:xfrm rot="7320000">
                <a:off x="8308080" y="4365360"/>
                <a:ext cx="1001880" cy="525240"/>
              </a:xfrm>
              <a:custGeom>
                <a:avLst/>
                <a:gdLst>
                  <a:gd name="textAreaLeft" fmla="*/ 0 w 1001880"/>
                  <a:gd name="textAreaRight" fmla="*/ 1002240 w 1001880"/>
                  <a:gd name="textAreaTop" fmla="*/ 0 h 525240"/>
                  <a:gd name="textAreaBottom" fmla="*/ 525600 h 5252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6" name="Freeform 25"/>
              <p:cNvSpPr/>
              <p:nvPr/>
            </p:nvSpPr>
            <p:spPr>
              <a:xfrm rot="7320000">
                <a:off x="8585280" y="4478760"/>
                <a:ext cx="709200" cy="297000"/>
              </a:xfrm>
              <a:custGeom>
                <a:avLst/>
                <a:gdLst>
                  <a:gd name="textAreaLeft" fmla="*/ 0 w 709200"/>
                  <a:gd name="textAreaRight" fmla="*/ 709560 w 70920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7" name="Freeform 26"/>
              <p:cNvSpPr/>
              <p:nvPr/>
            </p:nvSpPr>
            <p:spPr>
              <a:xfrm rot="7320000">
                <a:off x="9056520" y="4298400"/>
                <a:ext cx="94320" cy="19944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199440"/>
                  <a:gd name="textAreaBottom" fmla="*/ 199800 h 19944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" name="Freeform 27"/>
              <p:cNvSpPr/>
              <p:nvPr/>
            </p:nvSpPr>
            <p:spPr>
              <a:xfrm rot="7320000">
                <a:off x="8685000" y="4488840"/>
                <a:ext cx="289800" cy="175320"/>
              </a:xfrm>
              <a:custGeom>
                <a:avLst/>
                <a:gdLst>
                  <a:gd name="textAreaLeft" fmla="*/ 0 w 289800"/>
                  <a:gd name="textAreaRight" fmla="*/ 290160 w 2898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59" name="Freeform 28"/>
          <p:cNvSpPr/>
          <p:nvPr/>
        </p:nvSpPr>
        <p:spPr>
          <a:xfrm>
            <a:off x="958680" y="4776840"/>
            <a:ext cx="7236000" cy="687240"/>
          </a:xfrm>
          <a:custGeom>
            <a:avLst/>
            <a:gdLst>
              <a:gd name="textAreaLeft" fmla="*/ 0 w 7236000"/>
              <a:gd name="textAreaRight" fmla="*/ 7236360 w 7236000"/>
              <a:gd name="textAreaTop" fmla="*/ 0 h 687240"/>
              <a:gd name="textAreaBottom" fmla="*/ 687240 h 6872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Freeform 29"/>
          <p:cNvSpPr/>
          <p:nvPr/>
        </p:nvSpPr>
        <p:spPr>
          <a:xfrm>
            <a:off x="4334040" y="1824120"/>
            <a:ext cx="944280" cy="360360"/>
          </a:xfrm>
          <a:custGeom>
            <a:avLst/>
            <a:gdLst>
              <a:gd name="textAreaLeft" fmla="*/ 0 w 944280"/>
              <a:gd name="textAreaRight" fmla="*/ 944640 w 9442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28640" y="1728720"/>
            <a:ext cx="8182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16680" indent="-2372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948600" indent="-1897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328040" indent="-1897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707480" indent="-18972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707480" indent="-18972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707480" indent="-18972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0"/>
          </p:nvPr>
        </p:nvSpPr>
        <p:spPr>
          <a:xfrm>
            <a:off x="728280" y="5903640"/>
            <a:ext cx="2025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1"/>
          </p:nvPr>
        </p:nvSpPr>
        <p:spPr>
          <a:xfrm>
            <a:off x="3320640" y="5903640"/>
            <a:ext cx="3078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2"/>
          </p:nvPr>
        </p:nvSpPr>
        <p:spPr>
          <a:xfrm>
            <a:off x="6965640" y="5903640"/>
            <a:ext cx="2025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207F4AC-7EE6-4B18-971A-F4F8E50079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2448000"/>
            <a:ext cx="8747280" cy="344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9100" spc="-1" strike="noStrike">
                <a:solidFill>
                  <a:srgbClr val="660066"/>
                </a:solidFill>
                <a:latin typeface="Monotype Corsiva"/>
              </a:rPr>
              <a:t>Правила </a:t>
            </a:r>
            <a:br>
              <a:rPr sz="9100"/>
            </a:br>
            <a:r>
              <a:rPr b="0" i="1" lang="ru-RU" sz="9100" spc="-1" strike="noStrike">
                <a:solidFill>
                  <a:srgbClr val="660066"/>
                </a:solidFill>
                <a:latin typeface="Monotype Corsiva"/>
              </a:rPr>
              <a:t>разгадывания </a:t>
            </a:r>
            <a:br>
              <a:rPr sz="9100"/>
            </a:br>
            <a:r>
              <a:rPr b="0" i="1" lang="ru-RU" sz="9100" spc="-1" strike="noStrike">
                <a:solidFill>
                  <a:srgbClr val="660066"/>
                </a:solidFill>
                <a:latin typeface="Monotype Corsiva"/>
              </a:rPr>
              <a:t>ребусов</a:t>
            </a:r>
            <a:endParaRPr b="0" lang="en-US" sz="9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TextBox 4"/>
          <p:cNvSpPr/>
          <p:nvPr/>
        </p:nvSpPr>
        <p:spPr>
          <a:xfrm>
            <a:off x="3714840" y="0"/>
            <a:ext cx="676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информатик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«Средняя общеобразовательная школа №36» г.Северодвинск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тник Ольга Юрьевн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4"/>
          <p:cNvSpPr/>
          <p:nvPr/>
        </p:nvSpPr>
        <p:spPr>
          <a:xfrm>
            <a:off x="179280" y="576360"/>
            <a:ext cx="905508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440" bIns="0" anchor="ctr">
            <a:noAutofit/>
          </a:bodyPr>
          <a:p>
            <a:pPr marL="1251000" indent="-1249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25100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амыми первыми составителями ребусов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251000" indent="-1249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25100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ожно считать древних людей, которые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251000" indent="-1249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25100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 камне и кости выцарапывали рисунки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251000" indent="-1249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25100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 иероглифы с целью передать в них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251000" indent="-1249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25100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кую-либо информацию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251000" indent="-1249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25100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15 веке во Франци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Ребусам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называли популярные представления, рассказывающие о местных событиях в шуточной форм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251000" indent="-1249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25100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251000" indent="-1249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25100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амо по себе слово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ебу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означает "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вещ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, "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явлени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по латын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251000" indent="-1249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25100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стория ребусов в том головоломочном виде, в котором мы их сейчас знаем, насчитывает около 500 лет. Первый печатный сборник ребусов, как рисованных головоломок автора Этьена Табуро вышел во Франции в 1582 году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251000" indent="-1249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25100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251000" indent="-1249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25100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России ребусы стали популярны с середины 19 века, по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убликациям в журналах "Иллюстрация" и "Нива"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3" name="Picture 5" descr=""/>
          <p:cNvPicPr/>
          <p:nvPr/>
        </p:nvPicPr>
        <p:blipFill>
          <a:blip r:embed="rId1"/>
          <a:stretch/>
        </p:blipFill>
        <p:spPr>
          <a:xfrm>
            <a:off x="5292720" y="1008000"/>
            <a:ext cx="4165560" cy="137016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33080" y="-179640"/>
            <a:ext cx="87469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703dff"/>
                </a:solidFill>
                <a:latin typeface="Comic Sans MS"/>
              </a:rPr>
              <a:t>История ребус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68360" y="287280"/>
            <a:ext cx="8182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Запятая слева от слова означает букву, которую нужно удалить в начале слов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05800" indent="-50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Запятая справа в перевернутом виде означает букву. которую нужно удалить в конце слов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05800" indent="-50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Перечеркнутая буква или цифра над элементом ребуса – означает, что в этой части удаляют перечеркнутую букву или букву с указанным номером.</a:t>
            </a: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16" name="Group 5"/>
          <p:cNvGrpSpPr/>
          <p:nvPr/>
        </p:nvGrpSpPr>
        <p:grpSpPr>
          <a:xfrm>
            <a:off x="6012000" y="4392720"/>
            <a:ext cx="3141000" cy="1800000"/>
            <a:chOff x="6012000" y="4392720"/>
            <a:chExt cx="3141000" cy="1800000"/>
          </a:xfrm>
        </p:grpSpPr>
        <p:sp>
          <p:nvSpPr>
            <p:cNvPr id="317" name="WordArt 6"/>
            <p:cNvSpPr txBox="1"/>
            <p:nvPr/>
          </p:nvSpPr>
          <p:spPr>
            <a:xfrm>
              <a:off x="6659280" y="4392720"/>
              <a:ext cx="1979280" cy="180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528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latin typeface="Arial Black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  <a:ea typeface="Arial Black"/>
              </a:endParaRPr>
            </a:p>
          </p:txBody>
        </p:sp>
        <p:sp>
          <p:nvSpPr>
            <p:cNvPr id="318" name="WordArt 7"/>
            <p:cNvSpPr txBox="1"/>
            <p:nvPr/>
          </p:nvSpPr>
          <p:spPr>
            <a:xfrm>
              <a:off x="6012000" y="4392720"/>
              <a:ext cx="441000" cy="48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528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stretch/>
                  </a:blipFill>
                  <a:latin typeface="Arial Black"/>
                </a:rPr>
                <a:t>''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Arial Black"/>
                <a:ea typeface="Arial Black"/>
              </a:endParaRPr>
            </a:p>
          </p:txBody>
        </p:sp>
        <p:sp>
          <p:nvSpPr>
            <p:cNvPr id="319" name="WordArt 8"/>
            <p:cNvSpPr txBox="1"/>
            <p:nvPr/>
          </p:nvSpPr>
          <p:spPr>
            <a:xfrm>
              <a:off x="8712000" y="4392720"/>
              <a:ext cx="441000" cy="48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528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latin typeface="Arial Black"/>
                </a:rPr>
                <a:t>''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74560" y="240840"/>
            <a:ext cx="8748720" cy="6031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заимное пространственное положение –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уквы, цифры и т.д. внутри ребуса могут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ходиться друг в друге, одно на другом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оять одно из другого, прятаться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 спиной у другого, таким образом взаимные положения: 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», 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», 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д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», 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», 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», 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» скрывают соответственно эти предлоги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пример, «да» внутри большой буквы «О»</a:t>
            </a: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         «вода» 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1" name="Group 6"/>
          <p:cNvGrpSpPr/>
          <p:nvPr/>
        </p:nvGrpSpPr>
        <p:grpSpPr>
          <a:xfrm>
            <a:off x="2411280" y="4392720"/>
            <a:ext cx="2160720" cy="2122560"/>
            <a:chOff x="2411280" y="4392720"/>
            <a:chExt cx="2160720" cy="2122560"/>
          </a:xfrm>
        </p:grpSpPr>
        <p:sp>
          <p:nvSpPr>
            <p:cNvPr id="322" name="WordArt 3"/>
            <p:cNvSpPr txBox="1"/>
            <p:nvPr/>
          </p:nvSpPr>
          <p:spPr>
            <a:xfrm>
              <a:off x="2411280" y="4392720"/>
              <a:ext cx="2160720" cy="212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528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latin typeface="Arial Black"/>
                </a:rPr>
                <a:t>О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  <a:ea typeface="Arial Black"/>
              </a:endParaRPr>
            </a:p>
          </p:txBody>
        </p:sp>
        <p:sp>
          <p:nvSpPr>
            <p:cNvPr id="323" name="WordArt 4"/>
            <p:cNvSpPr txBox="1"/>
            <p:nvPr/>
          </p:nvSpPr>
          <p:spPr>
            <a:xfrm>
              <a:off x="3106440" y="5183640"/>
              <a:ext cx="745200" cy="640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300dc"/>
                  </a:solidFill>
                  <a:latin typeface="Arial Black"/>
                </a:rPr>
                <a:t>д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300dc"/>
                </a:solidFill>
                <a:latin typeface="Arial Black"/>
                <a:ea typeface="Arial Black"/>
              </a:endParaRPr>
            </a:p>
          </p:txBody>
        </p:sp>
      </p:grp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31640" y="419040"/>
            <a:ext cx="874728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Числа – цифра или число в решение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писывается в виде слова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о есть ребус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100 Л» естественно решается, как «стол»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есколько одинаковых элементов, расположенных подряд означают добавление вперед числительного. Например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«Я Я Я Я Я Я Я» расшифровывается, как «семья»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еревернутый элемент – означает, что его надо прочитать наоборо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WordArt 2"/>
          <p:cNvSpPr txBox="1"/>
          <p:nvPr/>
        </p:nvSpPr>
        <p:spPr>
          <a:xfrm>
            <a:off x="8820000" y="5219640"/>
            <a:ext cx="62100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6" name="WordArt 3"/>
          <p:cNvSpPr txBox="1"/>
          <p:nvPr/>
        </p:nvSpPr>
        <p:spPr>
          <a:xfrm>
            <a:off x="8893080" y="3311640"/>
            <a:ext cx="62064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7" name="WordArt 4"/>
          <p:cNvSpPr txBox="1"/>
          <p:nvPr/>
        </p:nvSpPr>
        <p:spPr>
          <a:xfrm>
            <a:off x="8532720" y="1944720"/>
            <a:ext cx="62064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8" name="WordArt 5"/>
          <p:cNvSpPr txBox="1"/>
          <p:nvPr/>
        </p:nvSpPr>
        <p:spPr>
          <a:xfrm>
            <a:off x="252360" y="4392720"/>
            <a:ext cx="62064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9" name="WordArt 6"/>
          <p:cNvSpPr txBox="1"/>
          <p:nvPr/>
        </p:nvSpPr>
        <p:spPr>
          <a:xfrm>
            <a:off x="324000" y="2592360"/>
            <a:ext cx="62064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30" name="WordArt 7"/>
          <p:cNvSpPr txBox="1"/>
          <p:nvPr/>
        </p:nvSpPr>
        <p:spPr>
          <a:xfrm>
            <a:off x="324000" y="1079640"/>
            <a:ext cx="62064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31" name="WordArt 8"/>
          <p:cNvSpPr txBox="1"/>
          <p:nvPr/>
        </p:nvSpPr>
        <p:spPr>
          <a:xfrm>
            <a:off x="7020000" y="5688000"/>
            <a:ext cx="44136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1" descr=""/>
          <p:cNvPicPr/>
          <p:nvPr/>
        </p:nvPicPr>
        <p:blipFill>
          <a:blip r:embed="rId1"/>
          <a:stretch/>
        </p:blipFill>
        <p:spPr>
          <a:xfrm>
            <a:off x="60480" y="246240"/>
            <a:ext cx="5340240" cy="11937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"/>
          <p:cNvPicPr/>
          <p:nvPr/>
        </p:nvPicPr>
        <p:blipFill>
          <a:blip r:embed="rId2"/>
          <a:stretch/>
        </p:blipFill>
        <p:spPr>
          <a:xfrm>
            <a:off x="4140360" y="1800360"/>
            <a:ext cx="5219640" cy="12603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3" descr=""/>
          <p:cNvPicPr/>
          <p:nvPr/>
        </p:nvPicPr>
        <p:blipFill>
          <a:blip r:embed="rId3"/>
          <a:stretch/>
        </p:blipFill>
        <p:spPr>
          <a:xfrm>
            <a:off x="179280" y="3129120"/>
            <a:ext cx="5759640" cy="15159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" descr=""/>
          <p:cNvPicPr/>
          <p:nvPr/>
        </p:nvPicPr>
        <p:blipFill>
          <a:blip r:embed="rId4"/>
          <a:stretch/>
        </p:blipFill>
        <p:spPr>
          <a:xfrm>
            <a:off x="3959280" y="4896000"/>
            <a:ext cx="5400720" cy="1474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1" descr=""/>
          <p:cNvPicPr/>
          <p:nvPr/>
        </p:nvPicPr>
        <p:blipFill>
          <a:blip r:embed="rId1"/>
          <a:stretch/>
        </p:blipFill>
        <p:spPr>
          <a:xfrm>
            <a:off x="324000" y="360360"/>
            <a:ext cx="3240000" cy="13222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" descr=""/>
          <p:cNvPicPr/>
          <p:nvPr/>
        </p:nvPicPr>
        <p:blipFill>
          <a:blip r:embed="rId2"/>
          <a:stretch/>
        </p:blipFill>
        <p:spPr>
          <a:xfrm>
            <a:off x="4716360" y="431640"/>
            <a:ext cx="3600720" cy="13226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" descr=""/>
          <p:cNvPicPr/>
          <p:nvPr/>
        </p:nvPicPr>
        <p:blipFill>
          <a:blip r:embed="rId3"/>
          <a:stretch/>
        </p:blipFill>
        <p:spPr>
          <a:xfrm>
            <a:off x="5003640" y="2592360"/>
            <a:ext cx="3716640" cy="14209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" descr=""/>
          <p:cNvPicPr/>
          <p:nvPr/>
        </p:nvPicPr>
        <p:blipFill>
          <a:blip r:embed="rId4"/>
          <a:stretch/>
        </p:blipFill>
        <p:spPr>
          <a:xfrm>
            <a:off x="324000" y="1944720"/>
            <a:ext cx="3600360" cy="11430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5" descr=""/>
          <p:cNvPicPr/>
          <p:nvPr/>
        </p:nvPicPr>
        <p:blipFill>
          <a:blip r:embed="rId5"/>
          <a:stretch/>
        </p:blipFill>
        <p:spPr>
          <a:xfrm>
            <a:off x="324000" y="3672000"/>
            <a:ext cx="3600360" cy="12603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6" descr=""/>
          <p:cNvPicPr/>
          <p:nvPr/>
        </p:nvPicPr>
        <p:blipFill>
          <a:blip r:embed="rId6"/>
          <a:stretch/>
        </p:blipFill>
        <p:spPr>
          <a:xfrm>
            <a:off x="5219640" y="4824360"/>
            <a:ext cx="395928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1" descr=""/>
          <p:cNvPicPr/>
          <p:nvPr/>
        </p:nvPicPr>
        <p:blipFill>
          <a:blip r:embed="rId1"/>
          <a:stretch/>
        </p:blipFill>
        <p:spPr>
          <a:xfrm>
            <a:off x="324000" y="360360"/>
            <a:ext cx="3419280" cy="1440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" descr=""/>
          <p:cNvPicPr/>
          <p:nvPr/>
        </p:nvPicPr>
        <p:blipFill>
          <a:blip r:embed="rId2"/>
          <a:stretch/>
        </p:blipFill>
        <p:spPr>
          <a:xfrm>
            <a:off x="3060720" y="4896000"/>
            <a:ext cx="3779640" cy="12348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" descr=""/>
          <p:cNvPicPr/>
          <p:nvPr/>
        </p:nvPicPr>
        <p:blipFill>
          <a:blip r:embed="rId3"/>
          <a:stretch/>
        </p:blipFill>
        <p:spPr>
          <a:xfrm>
            <a:off x="2700360" y="2606760"/>
            <a:ext cx="4441680" cy="13525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4" descr=""/>
          <p:cNvPicPr/>
          <p:nvPr/>
        </p:nvPicPr>
        <p:blipFill>
          <a:blip r:embed="rId4"/>
          <a:stretch/>
        </p:blipFill>
        <p:spPr>
          <a:xfrm>
            <a:off x="4932360" y="431640"/>
            <a:ext cx="3419640" cy="1260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10:49:44Z</dcterms:created>
  <dc:creator>Оля Гутник</dc:creator>
  <dc:description/>
  <dc:language>en-US</dc:language>
  <cp:lastModifiedBy>1</cp:lastModifiedBy>
  <dcterms:modified xsi:type="dcterms:W3CDTF">2011-10-23T08:44:36Z</dcterms:modified>
  <cp:revision>4</cp:revision>
  <dc:subject/>
  <dc:title>Правила  разгадывания  ребусов</dc:title>
</cp:coreProperties>
</file>