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74720" y="812880"/>
            <a:ext cx="60055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6C1D7-DC9A-4FED-9FC1-E2954EA573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E34BE-8F74-4866-A70B-7B96553B9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D7723-644A-4B68-AB46-240E2D06BC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972A-4024-4907-9A52-D1D4D99D59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61F32-F087-4CC1-852E-7B7E572ED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46FAD-BB13-4CA1-B93F-4C3FA2821B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AA75C-4816-4C04-AAFD-1E20823C64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E0A-FFCA-4909-8050-F95B6021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71D-20B9-4B9C-BD51-E8DC2AC3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F7C-2ECD-44CA-A8FF-FCD60683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1FC-87B8-44E0-89AE-A314574D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6B1-2AD0-461F-8626-788459DD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7DC-4113-4FE5-9E4D-2DD7A89F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F7C8-224A-42E0-9A97-256B3BE6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1F9-15AD-4670-932B-9784CA1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2DB3-FA40-42F4-91A0-55FA47BE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F2C4-04C2-414D-894A-67D6FAC3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38E4-EEEB-4118-89BD-9D5457C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ED2-7D4F-4F32-AC92-85235A00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D4F-0A12-46D8-8EB7-8A2736F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A1A-7EDF-474F-A64E-DFC2EFFB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E3C5-8C0D-4D96-AD41-3E6F4DFC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79CD-C4A1-42D5-ADA2-947CF046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172-C28B-46E1-91AA-523C7042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D64F-0011-4051-A322-F2B51666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3A26-4121-4D5E-8D19-AF0AE4CE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DF5D-871D-46D9-8DB4-BF59EA9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552A-185F-4DFB-9F0A-BC1DEE6B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BC1A-C449-440E-BA16-50931DD3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B73-8D02-4806-8DE6-700877E7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637C-CFB9-4B83-A728-8A85042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AEE49-71D2-48E6-9D61-8DCBFFC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CDBA-C9AE-428C-BBCC-2749C15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A0E2-70A9-4E4F-A89D-BC06AA9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34B4-AD06-4139-BDC9-94C5AB1A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D02E-0623-4284-A180-5FB08512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ACCE-FAA7-4B29-9714-C92F2F42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2041E-905F-4201-95B0-6D444323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BAAAB-68A0-4A1A-864D-AB5349E8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9AAA-F6AE-497C-82EC-FD67ADA4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43B-0B94-4283-9B47-4DDFE05B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2DC8-7B59-4784-8495-4B3A18B7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CAA2-7E10-4122-9290-1326F6F8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3356-DEF7-4E8F-84F6-D6C0119D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0419-1DCF-46F3-AF8B-39FFCDD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0043-2EFF-4BB1-80A6-045D721B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7C5A-F690-4A95-A79D-F713905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F517-7916-4BDB-807B-32369876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04A0-D40E-4649-952E-9052853C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4952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1840" y="17287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7286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4952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1840" y="3534120"/>
            <a:ext cx="26344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F407-4FAF-4C53-8A68-C4F34096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85E-E734-4836-935C-011AC44A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28280" y="144360"/>
            <a:ext cx="7304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D02-CEF3-4DC3-9464-D64EB84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E7A-A47D-45B0-A082-7B38D73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560" y="35341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5F3-EBDA-4F17-8B5F-53058D9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864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560" y="1728720"/>
            <a:ext cx="399276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8640" y="3534120"/>
            <a:ext cx="8182080" cy="16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6BF-A97F-46FE-99D9-25B422D7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2067A0-F666-4AA2-8D17-E8BDF55EB7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36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8336880" y="-137520"/>
            <a:ext cx="1096920" cy="2216160"/>
          </a:xfrm>
          <a:custGeom>
            <a:avLst/>
            <a:gdLst>
              <a:gd name="textAreaLeft" fmla="*/ 0 w 1096920"/>
              <a:gd name="textAreaRight" fmla="*/ 109728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45692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780000" y="5903640"/>
            <a:ext cx="307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141680" y="5903640"/>
            <a:ext cx="2024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5E083-FDCE-4C68-A9A1-2008340661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8429400" y="-99720"/>
            <a:ext cx="1101600" cy="222876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2228760"/>
              <a:gd name="textAreaBottom" fmla="*/ 2229120 h 22287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8385120" y="88560"/>
            <a:ext cx="968400" cy="1670040"/>
          </a:xfrm>
          <a:custGeom>
            <a:avLst/>
            <a:gdLst>
              <a:gd name="textAreaLeft" fmla="*/ 0 w 968400"/>
              <a:gd name="textAreaRight" fmla="*/ 968760 w 96840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235480"/>
            <a:ext cx="1896120" cy="1176120"/>
            <a:chOff x="7920" y="5235480"/>
            <a:chExt cx="1896120" cy="1176120"/>
          </a:xfrm>
        </p:grpSpPr>
        <p:sp>
          <p:nvSpPr>
            <p:cNvPr id="96" name="Freeform 11"/>
            <p:cNvSpPr/>
            <p:nvPr/>
          </p:nvSpPr>
          <p:spPr>
            <a:xfrm>
              <a:off x="39960" y="5257800"/>
              <a:ext cx="1837800" cy="97236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972360"/>
                <a:gd name="textAreaBottom" fmla="*/ 972720 h 9723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724400" y="5373360"/>
              <a:ext cx="119520" cy="1929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3120" y="5660640"/>
              <a:ext cx="1336680" cy="614160"/>
            </a:xfrm>
            <a:custGeom>
              <a:avLst/>
              <a:gdLst>
                <a:gd name="textAreaLeft" fmla="*/ 0 w 1336680"/>
                <a:gd name="textAreaRight" fmla="*/ 1337040 w 1336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17080" y="5711760"/>
              <a:ext cx="885960" cy="560160"/>
            </a:xfrm>
            <a:custGeom>
              <a:avLst/>
              <a:gdLst>
                <a:gd name="textAreaLeft" fmla="*/ 0 w 885960"/>
                <a:gd name="textAreaRight" fmla="*/ 886320 w 88596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817920" y="5298120"/>
              <a:ext cx="227520" cy="1814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81440" y="6243840"/>
              <a:ext cx="128160" cy="167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49960" y="5410800"/>
              <a:ext cx="325440" cy="573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126800" y="5385240"/>
              <a:ext cx="614160" cy="26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85000" y="5539320"/>
              <a:ext cx="263160" cy="1004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235480"/>
              <a:ext cx="1896120" cy="1168200"/>
              <a:chOff x="7920" y="5235480"/>
              <a:chExt cx="1896120" cy="11682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841320" y="5343120"/>
                <a:ext cx="924120" cy="1060560"/>
                <a:chOff x="841320" y="5343120"/>
                <a:chExt cx="924120" cy="106056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841320" y="5380560"/>
                  <a:ext cx="264960" cy="12996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72800" y="6204600"/>
                  <a:ext cx="193680" cy="19908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99080"/>
                    <a:gd name="textAreaBottom" fmla="*/ 199440 h 1990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693080" y="5343120"/>
                  <a:ext cx="72360" cy="174960"/>
                </a:xfrm>
                <a:custGeom>
                  <a:avLst/>
                  <a:gdLst>
                    <a:gd name="textAreaLeft" fmla="*/ 0 w 72360"/>
                    <a:gd name="textAreaRight" fmla="*/ 72720 w 72360"/>
                    <a:gd name="textAreaTop" fmla="*/ 0 h 174960"/>
                    <a:gd name="textAreaBottom" fmla="*/ 175320 h 1749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7440" y="5598000"/>
                <a:ext cx="1004040" cy="3747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38120" y="5828760"/>
                <a:ext cx="411480" cy="221760"/>
              </a:xfrm>
              <a:custGeom>
                <a:avLst/>
                <a:gdLst>
                  <a:gd name="textAreaLeft" fmla="*/ 0 w 411480"/>
                  <a:gd name="textAreaRight" fmla="*/ 411840 w 411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952560" y="5519880"/>
                <a:ext cx="180360" cy="356400"/>
              </a:xfrm>
              <a:custGeom>
                <a:avLst/>
                <a:gdLst>
                  <a:gd name="textAreaLeft" fmla="*/ 0 w 180360"/>
                  <a:gd name="textAreaRight" fmla="*/ 180360 w 18036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235480"/>
                <a:ext cx="1896120" cy="1015560"/>
                <a:chOff x="7920" y="5235480"/>
                <a:chExt cx="1896120" cy="101556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127880" y="6071400"/>
                  <a:ext cx="126360" cy="129960"/>
                </a:xfrm>
                <a:custGeom>
                  <a:avLst/>
                  <a:gdLst>
                    <a:gd name="textAreaLeft" fmla="*/ 0 w 126360"/>
                    <a:gd name="textAreaRight" fmla="*/ 126720 w 12636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591880"/>
                  <a:ext cx="1420200" cy="659160"/>
                </a:xfrm>
                <a:custGeom>
                  <a:avLst/>
                  <a:gdLst>
                    <a:gd name="textAreaLeft" fmla="*/ 0 w 1420200"/>
                    <a:gd name="textAreaRight" fmla="*/ 1420560 w 1420200"/>
                    <a:gd name="textAreaTop" fmla="*/ 0 h 659160"/>
                    <a:gd name="textAreaBottom" fmla="*/ 659520 h 6591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77840" y="5654880"/>
                  <a:ext cx="135000" cy="249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249840"/>
                    <a:gd name="textAreaBottom" fmla="*/ 250200 h 24984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56720" y="5235480"/>
                  <a:ext cx="543240" cy="889560"/>
                </a:xfrm>
                <a:custGeom>
                  <a:avLst/>
                  <a:gdLst>
                    <a:gd name="textAreaLeft" fmla="*/ 0 w 543240"/>
                    <a:gd name="textAreaRight" fmla="*/ 543600 w 543240"/>
                    <a:gd name="textAreaTop" fmla="*/ 0 h 889560"/>
                    <a:gd name="textAreaBottom" fmla="*/ 889920 h 889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74520" y="5474880"/>
                  <a:ext cx="161640" cy="377640"/>
                </a:xfrm>
                <a:custGeom>
                  <a:avLst/>
                  <a:gdLst>
                    <a:gd name="textAreaLeft" fmla="*/ 0 w 161640"/>
                    <a:gd name="textAreaRight" fmla="*/ 162000 w 161640"/>
                    <a:gd name="textAreaTop" fmla="*/ 0 h 377640"/>
                    <a:gd name="textAreaBottom" fmla="*/ 378000 h 37764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52600" y="5445000"/>
                  <a:ext cx="328680" cy="20232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109520" y="5307480"/>
                  <a:ext cx="794520" cy="317160"/>
                </a:xfrm>
                <a:custGeom>
                  <a:avLst/>
                  <a:gdLst>
                    <a:gd name="textAreaLeft" fmla="*/ 0 w 794520"/>
                    <a:gd name="textAreaRight" fmla="*/ 794880 w 794520"/>
                    <a:gd name="textAreaTop" fmla="*/ 0 h 317160"/>
                    <a:gd name="textAreaBottom" fmla="*/ 317160 h 31716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208880" y="5409000"/>
                  <a:ext cx="412920" cy="128880"/>
                </a:xfrm>
                <a:custGeom>
                  <a:avLst/>
                  <a:gdLst>
                    <a:gd name="textAreaLeft" fmla="*/ 0 w 412920"/>
                    <a:gd name="textAreaRight" fmla="*/ 413280 w 41292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9228240" y="2000160"/>
            <a:ext cx="408960" cy="4070160"/>
            <a:chOff x="9228240" y="2000160"/>
            <a:chExt cx="408960" cy="4070160"/>
          </a:xfrm>
        </p:grpSpPr>
        <p:sp>
          <p:nvSpPr>
            <p:cNvPr id="123" name="Freeform 38"/>
            <p:cNvSpPr/>
            <p:nvPr/>
          </p:nvSpPr>
          <p:spPr>
            <a:xfrm flipH="1">
              <a:off x="9228240" y="3930120"/>
              <a:ext cx="344880" cy="214020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9292320" y="2000160"/>
              <a:ext cx="344880" cy="2449080"/>
            </a:xfrm>
            <a:custGeom>
              <a:avLst/>
              <a:gdLst>
                <a:gd name="textAreaLeft" fmla="*/ 360 w 344880"/>
                <a:gd name="textAreaRight" fmla="*/ 345600 w 344880"/>
                <a:gd name="textAreaTop" fmla="*/ 0 h 2449080"/>
                <a:gd name="textAreaBottom" fmla="*/ 2449440 h 24490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666920" y="-157680"/>
            <a:ext cx="2493000" cy="2274120"/>
            <a:chOff x="7666920" y="-157680"/>
            <a:chExt cx="2493000" cy="22741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666920" y="-157680"/>
              <a:ext cx="2493000" cy="2274120"/>
              <a:chOff x="7666920" y="-157680"/>
              <a:chExt cx="2493000" cy="22741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9168480" y="1602360"/>
                <a:ext cx="92880" cy="4856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666920" y="-157680"/>
                <a:ext cx="2493000" cy="2274120"/>
                <a:chOff x="7666920" y="-157680"/>
                <a:chExt cx="2493000" cy="22741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8394480" y="94320"/>
                  <a:ext cx="229320" cy="210960"/>
                </a:xfrm>
                <a:custGeom>
                  <a:avLst/>
                  <a:gdLst>
                    <a:gd name="textAreaLeft" fmla="*/ 0 w 229320"/>
                    <a:gd name="textAreaRight" fmla="*/ 229680 w 2293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544600" y="456120"/>
                  <a:ext cx="403560" cy="738360"/>
                </a:xfrm>
                <a:custGeom>
                  <a:avLst/>
                  <a:gdLst>
                    <a:gd name="textAreaLeft" fmla="*/ 0 w 403560"/>
                    <a:gd name="textAreaRight" fmla="*/ 403920 w 403560"/>
                    <a:gd name="textAreaTop" fmla="*/ 0 h 738360"/>
                    <a:gd name="textAreaBottom" fmla="*/ 738720 h 7383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8245800" y="189000"/>
                  <a:ext cx="757440" cy="1514160"/>
                </a:xfrm>
                <a:custGeom>
                  <a:avLst/>
                  <a:gdLst>
                    <a:gd name="textAreaLeft" fmla="*/ 0 w 757440"/>
                    <a:gd name="textAreaRight" fmla="*/ 757800 w 757440"/>
                    <a:gd name="textAreaTop" fmla="*/ 0 h 1514160"/>
                    <a:gd name="textAreaBottom" fmla="*/ 1514520 h 151416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8344800" y="-153360"/>
                  <a:ext cx="1137240" cy="2265840"/>
                </a:xfrm>
                <a:custGeom>
                  <a:avLst/>
                  <a:gdLst>
                    <a:gd name="textAreaLeft" fmla="*/ 0 w 1137240"/>
                    <a:gd name="textAreaRight" fmla="*/ 1137600 w 1137240"/>
                    <a:gd name="textAreaTop" fmla="*/ 0 h 2265840"/>
                    <a:gd name="textAreaBottom" fmla="*/ 2266200 h 226584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955000" y="1334160"/>
                  <a:ext cx="253440" cy="205560"/>
                </a:xfrm>
                <a:custGeom>
                  <a:avLst/>
                  <a:gdLst>
                    <a:gd name="textAreaLeft" fmla="*/ 0 w 253440"/>
                    <a:gd name="textAreaRight" fmla="*/ 253800 w 2534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881920" y="1194480"/>
                  <a:ext cx="271800" cy="242640"/>
                </a:xfrm>
                <a:custGeom>
                  <a:avLst/>
                  <a:gdLst>
                    <a:gd name="textAreaLeft" fmla="*/ 0 w 271800"/>
                    <a:gd name="textAreaRight" fmla="*/ 272160 w 27180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8429040" y="300960"/>
                  <a:ext cx="271440" cy="24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8367480" y="199440"/>
                  <a:ext cx="268200" cy="232200"/>
                </a:xfrm>
                <a:custGeom>
                  <a:avLst/>
                  <a:gdLst>
                    <a:gd name="textAreaLeft" fmla="*/ 0 w 268200"/>
                    <a:gd name="textAreaRight" fmla="*/ 268200 w 268200"/>
                    <a:gd name="textAreaTop" fmla="*/ 0 h 232200"/>
                    <a:gd name="textAreaBottom" fmla="*/ 232560 h 23220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8218440" y="126000"/>
              <a:ext cx="7092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176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C118A1-72DF-4DD8-880B-992CF2022E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22320" y="12600"/>
            <a:ext cx="9456480" cy="6405840"/>
          </a:xfrm>
          <a:custGeom>
            <a:avLst/>
            <a:gdLst>
              <a:gd name="textAreaLeft" fmla="*/ 0 w 9456480"/>
              <a:gd name="textAreaRight" fmla="*/ 9456840 w 9456480"/>
              <a:gd name="textAreaTop" fmla="*/ 0 h 6405840"/>
              <a:gd name="textAreaBottom" fmla="*/ 6406200 h 64058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208080" y="222120"/>
            <a:ext cx="4025160" cy="1679400"/>
            <a:chOff x="208080" y="222120"/>
            <a:chExt cx="4025160" cy="1679400"/>
          </a:xfrm>
        </p:grpSpPr>
        <p:sp>
          <p:nvSpPr>
            <p:cNvPr id="240" name="Freeform 9"/>
            <p:cNvSpPr/>
            <p:nvPr/>
          </p:nvSpPr>
          <p:spPr>
            <a:xfrm>
              <a:off x="299520" y="265320"/>
              <a:ext cx="3795840" cy="1524960"/>
            </a:xfrm>
            <a:custGeom>
              <a:avLst/>
              <a:gdLst>
                <a:gd name="textAreaLeft" fmla="*/ 0 w 3795840"/>
                <a:gd name="textAreaRight" fmla="*/ 3796200 w 3795840"/>
                <a:gd name="textAreaTop" fmla="*/ 0 h 1524960"/>
                <a:gd name="textAreaBottom" fmla="*/ 1525320 h 15249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280440" y="391320"/>
              <a:ext cx="3785760" cy="1510200"/>
            </a:xfrm>
            <a:custGeom>
              <a:avLst/>
              <a:gdLst>
                <a:gd name="textAreaLeft" fmla="*/ 0 w 3785760"/>
                <a:gd name="textAreaRight" fmla="*/ 3786120 w 3785760"/>
                <a:gd name="textAreaTop" fmla="*/ 0 h 1510200"/>
                <a:gd name="textAreaBottom" fmla="*/ 1510560 h 1510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800280" y="515880"/>
              <a:ext cx="2510640" cy="1378080"/>
            </a:xfrm>
            <a:custGeom>
              <a:avLst/>
              <a:gdLst>
                <a:gd name="textAreaLeft" fmla="*/ 0 w 2510640"/>
                <a:gd name="textAreaRight" fmla="*/ 2511000 w 25106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" name="Group 12"/>
            <p:cNvGrpSpPr/>
            <p:nvPr/>
          </p:nvGrpSpPr>
          <p:grpSpPr>
            <a:xfrm>
              <a:off x="208080" y="222120"/>
              <a:ext cx="4025160" cy="1621080"/>
              <a:chOff x="208080" y="222120"/>
              <a:chExt cx="4025160" cy="1621080"/>
            </a:xfrm>
          </p:grpSpPr>
          <p:sp>
            <p:nvSpPr>
              <p:cNvPr id="244" name="Freeform 13"/>
              <p:cNvSpPr/>
              <p:nvPr/>
            </p:nvSpPr>
            <p:spPr>
              <a:xfrm>
                <a:off x="3382920" y="1400760"/>
                <a:ext cx="357480" cy="320400"/>
              </a:xfrm>
              <a:custGeom>
                <a:avLst/>
                <a:gdLst>
                  <a:gd name="textAreaLeft" fmla="*/ 0 w 357480"/>
                  <a:gd name="textAreaRight" fmla="*/ 357840 w 35748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208080" y="222120"/>
                <a:ext cx="4025160" cy="1621080"/>
              </a:xfrm>
              <a:custGeom>
                <a:avLst/>
                <a:gdLst>
                  <a:gd name="textAreaLeft" fmla="*/ 0 w 4025160"/>
                  <a:gd name="textAreaRight" fmla="*/ 4025520 w 4025160"/>
                  <a:gd name="textAreaTop" fmla="*/ 0 h 1621080"/>
                  <a:gd name="textAreaBottom" fmla="*/ 1621440 h 16210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547200" y="236880"/>
                <a:ext cx="2844360" cy="920520"/>
              </a:xfrm>
              <a:custGeom>
                <a:avLst/>
                <a:gdLst>
                  <a:gd name="textAreaLeft" fmla="*/ 0 w 2844360"/>
                  <a:gd name="textAreaRight" fmla="*/ 2844720 w 2844360"/>
                  <a:gd name="textAreaTop" fmla="*/ 0 h 920520"/>
                  <a:gd name="textAreaBottom" fmla="*/ 920880 h 920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690840" y="376200"/>
                <a:ext cx="382680" cy="614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14520"/>
                  <a:gd name="textAreaBottom" fmla="*/ 614880 h 6145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428120" y="803880"/>
                <a:ext cx="1165680" cy="545760"/>
              </a:xfrm>
              <a:custGeom>
                <a:avLst/>
                <a:gdLst>
                  <a:gd name="textAreaLeft" fmla="*/ 0 w 1165680"/>
                  <a:gd name="textAreaRight" fmla="*/ 1166040 w 116568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" name="Group 18"/>
          <p:cNvGrpSpPr/>
          <p:nvPr/>
        </p:nvGrpSpPr>
        <p:grpSpPr>
          <a:xfrm>
            <a:off x="8321040" y="4064400"/>
            <a:ext cx="976320" cy="1127880"/>
            <a:chOff x="8321040" y="4064400"/>
            <a:chExt cx="976320" cy="1127880"/>
          </a:xfrm>
        </p:grpSpPr>
        <p:sp>
          <p:nvSpPr>
            <p:cNvPr id="250" name="Freeform 19"/>
            <p:cNvSpPr/>
            <p:nvPr/>
          </p:nvSpPr>
          <p:spPr>
            <a:xfrm rot="7320000">
              <a:off x="8341920" y="4376160"/>
              <a:ext cx="945000" cy="494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7320000">
              <a:off x="8316000" y="4355640"/>
              <a:ext cx="941760" cy="489600"/>
            </a:xfrm>
            <a:custGeom>
              <a:avLst/>
              <a:gdLst>
                <a:gd name="textAreaLeft" fmla="*/ 0 w 941760"/>
                <a:gd name="textAreaRight" fmla="*/ 942120 w 9417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rot="7320000">
              <a:off x="8474760" y="4343040"/>
              <a:ext cx="624960" cy="447480"/>
            </a:xfrm>
            <a:custGeom>
              <a:avLst/>
              <a:gdLst>
                <a:gd name="textAreaLeft" fmla="*/ 0 w 624960"/>
                <a:gd name="textAreaRight" fmla="*/ 625320 w 62496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Group 22"/>
            <p:cNvGrpSpPr/>
            <p:nvPr/>
          </p:nvGrpSpPr>
          <p:grpSpPr>
            <a:xfrm>
              <a:off x="8321040" y="4064400"/>
              <a:ext cx="976320" cy="1127880"/>
              <a:chOff x="8321040" y="4064400"/>
              <a:chExt cx="976320" cy="1127880"/>
            </a:xfrm>
          </p:grpSpPr>
          <p:sp>
            <p:nvSpPr>
              <p:cNvPr id="254" name="Freeform 23"/>
              <p:cNvSpPr/>
              <p:nvPr/>
            </p:nvSpPr>
            <p:spPr>
              <a:xfrm rot="7320000">
                <a:off x="8420760" y="4779000"/>
                <a:ext cx="88560" cy="102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24"/>
              <p:cNvSpPr/>
              <p:nvPr/>
            </p:nvSpPr>
            <p:spPr>
              <a:xfrm rot="7320000">
                <a:off x="8308080" y="4365360"/>
                <a:ext cx="1001880" cy="525240"/>
              </a:xfrm>
              <a:custGeom>
                <a:avLst/>
                <a:gdLst>
                  <a:gd name="textAreaLeft" fmla="*/ 0 w 1001880"/>
                  <a:gd name="textAreaRight" fmla="*/ 1002240 w 1001880"/>
                  <a:gd name="textAreaTop" fmla="*/ 0 h 525240"/>
                  <a:gd name="textAreaBottom" fmla="*/ 525600 h 5252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25"/>
              <p:cNvSpPr/>
              <p:nvPr/>
            </p:nvSpPr>
            <p:spPr>
              <a:xfrm rot="7320000">
                <a:off x="8585280" y="4478760"/>
                <a:ext cx="709200" cy="2970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 rot="7320000">
                <a:off x="9056520" y="4298400"/>
                <a:ext cx="94320" cy="1994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99440"/>
                  <a:gd name="textAreaBottom" fmla="*/ 199800 h 1994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 rot="7320000">
                <a:off x="8685000" y="4488840"/>
                <a:ext cx="289800" cy="17532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9" name="Freeform 28"/>
          <p:cNvSpPr/>
          <p:nvPr/>
        </p:nvSpPr>
        <p:spPr>
          <a:xfrm>
            <a:off x="958680" y="4776840"/>
            <a:ext cx="7236000" cy="68724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Freeform 29"/>
          <p:cNvSpPr/>
          <p:nvPr/>
        </p:nvSpPr>
        <p:spPr>
          <a:xfrm>
            <a:off x="4334040" y="1824120"/>
            <a:ext cx="944280" cy="360360"/>
          </a:xfrm>
          <a:custGeom>
            <a:avLst/>
            <a:gdLst>
              <a:gd name="textAreaLeft" fmla="*/ 0 w 944280"/>
              <a:gd name="textAreaRight" fmla="*/ 944640 w 9442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8280" y="144360"/>
            <a:ext cx="73040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28640" y="172872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4860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72828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320640" y="5903640"/>
            <a:ext cx="3078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965640" y="5903640"/>
            <a:ext cx="2025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320C7E-8ADE-4900-8416-A8B6010DFC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2448000"/>
            <a:ext cx="8747280" cy="34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Правила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азгадывания </a:t>
            </a:r>
            <a:br>
              <a:rPr sz="9100"/>
            </a:br>
            <a:r>
              <a:rPr b="0" i="1" lang="ru-RU" sz="9100" spc="-1" strike="noStrike">
                <a:solidFill>
                  <a:srgbClr val="660066"/>
                </a:solidFill>
                <a:latin typeface="Monotype Corsiva"/>
              </a:rPr>
              <a:t>ребусов</a:t>
            </a:r>
            <a:endParaRPr b="0" lang="en-US" sz="9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3714840" y="0"/>
            <a:ext cx="67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36» г.Северодвинс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ник Ольга Юр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179280" y="576360"/>
            <a:ext cx="90550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ми первыми составителями ребу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жно считать древних людей, которы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камне и кости выцарапывали рисун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иероглифы с целью передать в ни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ую-либо информацию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15 веке во Фран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Ребуса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зывали популярные представления, рассказывающие о местных событиях в шуточной фор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о по себе сло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бу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означает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ещ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по латын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рия ребусов в том головоломочном виде, в котором мы их сейчас знаем, насчитывает около 500 лет. Первый печатный сборник ребусов, как рисованных головоломок автора Этьена Табуро вышел во Франции в 1582 год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251000" indent="-1249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25100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оссии ребусы стали популярны с середины 19 века, п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убликациям в журналах "Иллюстрация" и "Нива"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5292720" y="1008000"/>
            <a:ext cx="4165560" cy="13701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3080" y="-17964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стория ребус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68360" y="287280"/>
            <a:ext cx="8182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лева от слова означает букву, которую нужно удалить в начал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Запятая справа в перевернутом виде означает букву. которую нужно удалить в конце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05800" indent="-50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еречеркнутая буква или цифра над элементом ребуса – означает, что в этой части удаляют перечеркнутую букву или букву с указанным номером.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6" name="Group 5"/>
          <p:cNvGrpSpPr/>
          <p:nvPr/>
        </p:nvGrpSpPr>
        <p:grpSpPr>
          <a:xfrm>
            <a:off x="6012000" y="4392720"/>
            <a:ext cx="3141000" cy="1800000"/>
            <a:chOff x="6012000" y="4392720"/>
            <a:chExt cx="3141000" cy="1800000"/>
          </a:xfrm>
        </p:grpSpPr>
        <p:sp>
          <p:nvSpPr>
            <p:cNvPr id="317" name="WordArt 6"/>
            <p:cNvSpPr txBox="1"/>
            <p:nvPr/>
          </p:nvSpPr>
          <p:spPr>
            <a:xfrm>
              <a:off x="6659280" y="4392720"/>
              <a:ext cx="1979280" cy="180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8" name="WordArt 7"/>
            <p:cNvSpPr txBox="1"/>
            <p:nvPr/>
          </p:nvSpPr>
          <p:spPr>
            <a:xfrm>
              <a:off x="60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19" name="WordArt 8"/>
            <p:cNvSpPr txBox="1"/>
            <p:nvPr/>
          </p:nvSpPr>
          <p:spPr>
            <a:xfrm>
              <a:off x="8712000" y="4392720"/>
              <a:ext cx="441000" cy="4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Arial Black"/>
                </a:rPr>
                <a:t>''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560" y="240840"/>
            <a:ext cx="8748720" cy="6031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заимное пространственное положение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ы, цифры и т.д. внутри ребуса могу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ться друг в друге, одно на друго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ть одно из другого, прятать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 спиной у другого, таким образом взаимные положения: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,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скрывают соответственно эти предлоги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«да» внутри большой буквы «О»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        «вода»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2411280" y="4392720"/>
            <a:ext cx="2160720" cy="2122560"/>
            <a:chOff x="2411280" y="4392720"/>
            <a:chExt cx="2160720" cy="2122560"/>
          </a:xfrm>
        </p:grpSpPr>
        <p:sp>
          <p:nvSpPr>
            <p:cNvPr id="322" name="WordArt 3"/>
            <p:cNvSpPr txBox="1"/>
            <p:nvPr/>
          </p:nvSpPr>
          <p:spPr>
            <a:xfrm>
              <a:off x="2411280" y="4392720"/>
              <a:ext cx="2160720" cy="21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21528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latin typeface="Arial Black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  <a:ea typeface="Arial Black"/>
              </a:endParaRPr>
            </a:p>
          </p:txBody>
        </p:sp>
        <p:sp>
          <p:nvSpPr>
            <p:cNvPr id="323" name="WordArt 4"/>
            <p:cNvSpPr txBox="1"/>
            <p:nvPr/>
          </p:nvSpPr>
          <p:spPr>
            <a:xfrm>
              <a:off x="3106440" y="5183640"/>
              <a:ext cx="745200" cy="64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300dc"/>
                  </a:solidFill>
                  <a:latin typeface="Arial Black"/>
                </a:rPr>
                <a:t>д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300dc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419040"/>
            <a:ext cx="8747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исла – цифра или число в решени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писывается в виде слов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 есть ребус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100 Л» естественно решается, как «стол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сколько одинаковых элементов, расположенных подряд означают добавление вперед числительного. Например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«Я Я Я Я Я Я Я» расшифровывается, как «семья»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ернутый элемент – означает, что его надо прочитать наоб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WordArt 2"/>
          <p:cNvSpPr txBox="1"/>
          <p:nvPr/>
        </p:nvSpPr>
        <p:spPr>
          <a:xfrm>
            <a:off x="8820000" y="5219640"/>
            <a:ext cx="621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8893080" y="3311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532720" y="1944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252360" y="439272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WordArt 6"/>
          <p:cNvSpPr txBox="1"/>
          <p:nvPr/>
        </p:nvSpPr>
        <p:spPr>
          <a:xfrm>
            <a:off x="324000" y="259236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WordArt 7"/>
          <p:cNvSpPr txBox="1"/>
          <p:nvPr/>
        </p:nvSpPr>
        <p:spPr>
          <a:xfrm>
            <a:off x="324000" y="1079640"/>
            <a:ext cx="620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1" name="WordArt 8"/>
          <p:cNvSpPr txBox="1"/>
          <p:nvPr/>
        </p:nvSpPr>
        <p:spPr>
          <a:xfrm>
            <a:off x="7020000" y="5688000"/>
            <a:ext cx="441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60480" y="246240"/>
            <a:ext cx="5340240" cy="1193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140360" y="1800360"/>
            <a:ext cx="5219640" cy="1260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179280" y="3129120"/>
            <a:ext cx="5759640" cy="1515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4"/>
          <a:stretch/>
        </p:blipFill>
        <p:spPr>
          <a:xfrm>
            <a:off x="3959280" y="4896000"/>
            <a:ext cx="5400720" cy="147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240000" cy="1322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4716360" y="431640"/>
            <a:ext cx="3600720" cy="1322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3"/>
          <a:stretch/>
        </p:blipFill>
        <p:spPr>
          <a:xfrm>
            <a:off x="5003640" y="2592360"/>
            <a:ext cx="3716640" cy="1420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4"/>
          <a:stretch/>
        </p:blipFill>
        <p:spPr>
          <a:xfrm>
            <a:off x="324000" y="1944720"/>
            <a:ext cx="3600360" cy="1143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5"/>
          <a:stretch/>
        </p:blipFill>
        <p:spPr>
          <a:xfrm>
            <a:off x="324000" y="3672000"/>
            <a:ext cx="3600360" cy="126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6"/>
          <a:stretch/>
        </p:blipFill>
        <p:spPr>
          <a:xfrm>
            <a:off x="5219640" y="4824360"/>
            <a:ext cx="395928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324000" y="360360"/>
            <a:ext cx="3419280" cy="1440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060720" y="4896000"/>
            <a:ext cx="3779640" cy="1234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2700360" y="2606760"/>
            <a:ext cx="4441680" cy="1352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4"/>
          <a:stretch/>
        </p:blipFill>
        <p:spPr>
          <a:xfrm>
            <a:off x="4932360" y="431640"/>
            <a:ext cx="341964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0:49:44Z</dcterms:created>
  <dc:creator>Оля Гутник</dc:creator>
  <dc:description/>
  <dc:language>en-US</dc:language>
  <cp:lastModifiedBy>1</cp:lastModifiedBy>
  <dcterms:modified xsi:type="dcterms:W3CDTF">2011-10-23T08:44:36Z</dcterms:modified>
  <cp:revision>4</cp:revision>
  <dc:subject/>
  <dc:title>Правила  разгадывания  ребусов</dc:title>
</cp:coreProperties>
</file>