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356-233E-4D27-A4FF-193B1743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9E0-3A5B-43D5-9802-DA7E2DB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0C1-06B8-46C2-9FAE-59809F0A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BF7-0E8B-4A97-A6DA-8F454813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C865-8F75-4FC4-844F-72325B6C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F405-7103-4294-99DC-701489F3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0FB-63C4-412B-812C-3FFEFFB7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4AA-AAF2-4A95-853F-D35A3BB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6FBF-F184-4D91-A311-7EBE77B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2FBA-F41A-45FF-95D5-AA3AD68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A93A-FFFD-4BB0-83C1-04FF19E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1EE-AC6E-467D-918A-B9C999EC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FCEB-F3C9-45FD-AD7C-C4B85FB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08DB-AAB3-44EC-A107-B1A975C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163-3D63-438E-80FD-BCBF3A30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CB9E-1E61-4839-B966-12A5AE35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8D5C-E528-4700-AC79-BE778822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5A87-0FF5-4056-A2CE-ABDB065F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72D2-028E-4795-90B0-FD80C8B3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2B14-9214-4D0F-A19E-B9E14246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97EA-E531-4B73-8E3C-5F62014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774E-946C-43A6-BBB3-8E05FFE5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C7A-2116-41CF-8F88-9BF9AC5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8F594-97E2-43B2-817C-34D5BD92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8656-0064-4B3F-815F-D070EAD6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AF85-8840-454C-958C-9BDF919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D252-5DB2-4A85-B15E-7F99364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3D83-AB41-4176-8A9F-1CA3A4F9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5A88E-F27B-44AE-90B0-456458FE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23D9E-A30E-45C7-B1BB-F571235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A7F9-2DB9-4695-A383-86227E81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D866-9834-466A-B747-4248932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5C22-67B1-439E-B1ED-CB47827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107-595F-47BF-B5AF-46D1258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19D2-200A-45AC-A249-40DABC7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C8C4-AC4C-4133-94F5-547AFD55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A73E-FCE2-404B-A7D7-1E24C2B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8A21A-14C2-448A-AECD-3D59A6C7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8E27-7C6B-488A-B26E-860C5FB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31606-D2D5-4A9B-A548-B7A1DF0E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D358-9D89-4945-B37C-A16DEE7A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64DB-88A6-489B-99F3-A6CD8860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BF6B-3168-4B10-9747-F3B1223B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64C-AB09-4DA7-95DD-E7DFCCD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AFD-9524-4AF9-8C0F-FE7B6D2B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FC4-E08C-4602-A498-3B5B0B4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052-FCD4-4029-9654-57E39EC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BC3-92E7-456C-BC75-8167C8A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B59A-9E41-43D5-A409-8E60257A321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D421-D15C-4455-81F0-F12D0D31E45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C2CB-F4BE-4625-9F23-C3D240091A1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3F1-47E8-44DE-A166-F66EC497814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20840" y="1809720"/>
            <a:ext cx="8839080" cy="14097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8" descr=""/>
          <p:cNvPicPr/>
          <p:nvPr/>
        </p:nvPicPr>
        <p:blipFill>
          <a:blip r:embed="rId2"/>
          <a:stretch/>
        </p:blipFill>
        <p:spPr>
          <a:xfrm>
            <a:off x="633240" y="109440"/>
            <a:ext cx="8010720" cy="162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Пользователь\Desktop\934696.jpg"/>
          <p:cNvPicPr/>
          <p:nvPr/>
        </p:nvPicPr>
        <p:blipFill>
          <a:blip r:embed="rId3"/>
          <a:stretch/>
        </p:blipFill>
        <p:spPr>
          <a:xfrm>
            <a:off x="500040" y="3071880"/>
            <a:ext cx="4729320" cy="3157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Пользователь\Desktop\1000597149.jpg"/>
          <p:cNvPicPr/>
          <p:nvPr/>
        </p:nvPicPr>
        <p:blipFill>
          <a:blip r:embed="rId4"/>
          <a:stretch/>
        </p:blipFill>
        <p:spPr>
          <a:xfrm rot="1565400">
            <a:off x="6082920" y="3413160"/>
            <a:ext cx="22096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логическ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2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ир вступил в третье тысячелетие с тяжким грузом экологических проблем, которые на наших глазах перерастают в глобальную проблему выживания челове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это не фантазия экологов. Это настоятельно требует формирования у людей нового мировоззрения. Оно должно строиться на новой системе ценностей, в которой Природа и Жизнь заняли бы первое мест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ывать любовь и уважение к Природе во всех ее проявлениях — от цветка на подоконнике до целого Мироздания. Вот концепция экологического образова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>
                <a:solidFill>
                  <a:srgbClr val="04617b"/>
                </a:solidFill>
                <a:latin typeface="Calibri"/>
              </a:rPr>
              <a:t>Программа «Школа России»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четает  традиционные наработки и новейшие достижения по психологии, педагогике, включает в себя элементы развивающего мышл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, построенную на единых концептуальных основах и имеющее полное программно-методическое обеспечен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плект реализует Федеральный компонент содержания образования и охватывает все образовательные области, включая такие инновационные для начальной школы, как информатика и иностранный язы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Школа России»- школа духовно нравственного разви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ебно-методическому комплекту приданы такие качества, как фундаментальность, надежность, стабильность, открытость новому, которые должны стать неотъемлемыми характеристиками начальной шко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фференциация обучения, развитие личности каждого ребенка, снятие стрессообразующих факторов учебного процес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92888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СПАСИБО </a:t>
            </a:r>
            <a:br>
              <a:rPr sz="9600"/>
            </a:b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ЗА ВНИМАНИЕ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лавная идея программы: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“Школа России”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оздает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 России и для Росси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а России должна стать школой духовно-нравственного развития. Именно такая школа будет достойна Росс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грамма “Школа России” имеет огромный, годами проверенный, педагогический опыт. Авторами программы взято все лучшее, что было накоплено и апробировано в практике отечественной школ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на доступна для учащихся младшего школьного возраста, гарантирует достижение положительных результатов в обучении и реальные возможности личностного развития, т.к. построена на таких принципах обучения, как учитывание возрастных особенностей детей, постепенное наращивание трудносте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8676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чему я выбираю программу “Школа России”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499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современное образование младшего школьника в соответствии с положениями образования 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концепцией модернизации образования, новейшими достижениями педагогической нау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85880"/>
            <a:ext cx="818676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4617b"/>
                </a:solidFill>
                <a:latin typeface="Calibri"/>
              </a:rPr>
              <a:t>Какова цель обучения?</a:t>
            </a: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2" descr="C:\Users\Пользователь\Desktop\ucebn.jpg"/>
          <p:cNvPicPr/>
          <p:nvPr/>
        </p:nvPicPr>
        <p:blipFill>
          <a:blip r:embed="rId1"/>
          <a:stretch/>
        </p:blipFill>
        <p:spPr>
          <a:xfrm>
            <a:off x="714240" y="3786120"/>
            <a:ext cx="2286000" cy="232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3429000" y="34192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ебники и учебные пособия, входящие в комплект, имеют грифы Министерства образования РФ ("Рекомендовано" или "Допущено") и полностью соответствуют Базисному учебному пла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каким учебным комплектам работает данная программа?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71468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т учебник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“Школы России”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ставляет собой целостную модель начальной школы. Учебники и учебные пособия нового поколения отвечают требования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ремен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 при этом сохранен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учшие традиции русско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кол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Пользователь\Desktop\1000854669.jpg"/>
          <p:cNvPicPr/>
          <p:nvPr/>
        </p:nvPicPr>
        <p:blipFill>
          <a:blip r:embed="rId1"/>
          <a:stretch/>
        </p:blipFill>
        <p:spPr>
          <a:xfrm>
            <a:off x="285840" y="3714840"/>
            <a:ext cx="190476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Пользователь\Desktop\1000597149.jpg"/>
          <p:cNvPicPr/>
          <p:nvPr/>
        </p:nvPicPr>
        <p:blipFill>
          <a:blip r:embed="rId2"/>
          <a:stretch/>
        </p:blipFill>
        <p:spPr>
          <a:xfrm>
            <a:off x="2286000" y="371484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Пользователь\Desktop\1000588022.jpg"/>
          <p:cNvPicPr/>
          <p:nvPr/>
        </p:nvPicPr>
        <p:blipFill>
          <a:blip r:embed="rId3"/>
          <a:stretch/>
        </p:blipFill>
        <p:spPr>
          <a:xfrm>
            <a:off x="4429080" y="37148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Пользователь\Desktop\1000851457.jpg"/>
          <p:cNvPicPr/>
          <p:nvPr/>
        </p:nvPicPr>
        <p:blipFill>
          <a:blip r:embed="rId4"/>
          <a:stretch/>
        </p:blipFill>
        <p:spPr>
          <a:xfrm>
            <a:off x="6572160" y="3714840"/>
            <a:ext cx="1905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5154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математи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C:\Users\Пользователь\Desktop\1001154676.jpg"/>
          <p:cNvPicPr/>
          <p:nvPr/>
        </p:nvPicPr>
        <p:blipFill>
          <a:blip r:embed="rId1"/>
          <a:stretch/>
        </p:blipFill>
        <p:spPr>
          <a:xfrm>
            <a:off x="285840" y="1928880"/>
            <a:ext cx="2577960" cy="328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C:\Users\Пользователь\Desktop\mm670_27_09_01.jpg"/>
          <p:cNvPicPr/>
          <p:nvPr/>
        </p:nvPicPr>
        <p:blipFill>
          <a:blip r:embed="rId2"/>
          <a:stretch/>
        </p:blipFill>
        <p:spPr>
          <a:xfrm>
            <a:off x="1071720" y="2714760"/>
            <a:ext cx="2539800" cy="326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C:\Users\Пользователь\Desktop\1000854670.jpg"/>
          <p:cNvPicPr/>
          <p:nvPr/>
        </p:nvPicPr>
        <p:blipFill>
          <a:blip r:embed="rId3"/>
          <a:stretch/>
        </p:blipFill>
        <p:spPr>
          <a:xfrm>
            <a:off x="4000680" y="2071800"/>
            <a:ext cx="1904760" cy="223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Users\Пользователь\Desktop\1000882135.jpg"/>
          <p:cNvPicPr/>
          <p:nvPr/>
        </p:nvPicPr>
        <p:blipFill>
          <a:blip r:embed="rId4"/>
          <a:stretch/>
        </p:blipFill>
        <p:spPr>
          <a:xfrm>
            <a:off x="6643800" y="2143080"/>
            <a:ext cx="1904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Учебно-методический комплект</a:t>
            </a: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о окружающему мир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Users\Пользователь\Desktop\1000561441.jpg"/>
          <p:cNvPicPr/>
          <p:nvPr/>
        </p:nvPicPr>
        <p:blipFill>
          <a:blip r:embed="rId1"/>
          <a:stretch/>
        </p:blipFill>
        <p:spPr>
          <a:xfrm>
            <a:off x="3643200" y="2000160"/>
            <a:ext cx="282600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4" descr="C:\Users\Пользователь\Desktop\54000009909.jpg"/>
          <p:cNvPicPr/>
          <p:nvPr/>
        </p:nvPicPr>
        <p:blipFill>
          <a:blip r:embed="rId2"/>
          <a:stretch/>
        </p:blipFill>
        <p:spPr>
          <a:xfrm>
            <a:off x="500040" y="1928880"/>
            <a:ext cx="2928960" cy="38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Users\Пользователь\Desktop\1000609321.jpg"/>
          <p:cNvPicPr/>
          <p:nvPr/>
        </p:nvPicPr>
        <p:blipFill>
          <a:blip r:embed="rId3"/>
          <a:stretch/>
        </p:blipFill>
        <p:spPr>
          <a:xfrm>
            <a:off x="6643800" y="2643120"/>
            <a:ext cx="216036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2868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Комплект состоит из учебников для 1–4 классов по: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сскому языку авторов Л.М. Зелениной, Т.Е. Хохловой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тематике авторов М.И. Мор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ружающему миру автора А.А. Плешакова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ению авторов М.В. Голован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форматике авторов А.Л. Семе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узыке авторов Е.Д. Критской, Г.П. Сергее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зической культуре авторов Е.Н. Литвинова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Ж авторов Л.П. Анастас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образительному искусству авторов Б.М. Неменског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удожественному труду авторов Т.Я. Шпикалов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нглийскому языку авторов З.Н. Никитенко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ранцузскому языку авторов А.С. Кулигиной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мецкому языку авторов И.Л. Бим и др.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анскому языку авторов Э.И. Соловцовой и др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Какие направления в образовании считаются наиболее существенными?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Личностно-развивающее образование.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лавное назначение начальной школы —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спитание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Приоритетным считаем духовно-нравственное развитие ребенка. Поэтому ориентируемся на развитие у ребенка человеческих качеств: доброта, терпимость, ответственность, способность сопереживать, готовность помогать другом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вая человеческие качества личности, не забываем и о других составляющих развития ребенка: психических процессов, творческих способностей, учебной деятельности, как ведущей в младшем школьном возрасте. Личность едина, и ее целостное развитие возможно только при должном внимании ко всем сторонам этого процес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оим обучение на основе постоянного пробуждения и поддержки творческого начала в ребенке. При организации учебного процесса предпочтение отдаем проблемно-поисковому подходу. При таком подходе возникает естественная мотивация учения, успешно развиваются способности ребенка понимать смысл поставленной задачи, планировать учебную работу, контролировать и оценивать ее результа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то позволяет целенаправленно развивать познавательную активность и самостоятельнос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Граждански-ориентированное образование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Школьники — это граждане России. “Школа России” работает над такими личностными качествами воспитания, как гражданственность и патриотизм. Развивать у ребенка интерес к познанию, постижению своей страны, ее прошлого и настоящего, ее природы и общественной жизни, ее духовного велич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читаем необходимым закладывать в младшем школьном возрасте основы экономических знаний и правовой культуры. Стремимся воспитывать в детях любовь к Отечеству, своему народу, его языку, духовным ценностям, уважительное отношение ко всем народам России, к их национальным культурам, самобытным обычаям и традициям, к государственным символам Российской Федераци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бенок должен почувствовать себя маленьким гражданином великой страны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advTm="0"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8:58:47Z</dcterms:created>
  <dc:creator>Пользователь</dc:creator>
  <dc:description/>
  <dc:language>en-US</dc:language>
  <cp:lastModifiedBy>Пользователь</cp:lastModifiedBy>
  <dcterms:modified xsi:type="dcterms:W3CDTF">2011-03-03T19:15:22Z</dcterms:modified>
  <cp:revision>1</cp:revision>
  <dc:subject/>
  <dc:title>Если путь твой к познанию мира ведёт, - Как бы ни был он долог и труден - вперёд! </dc:title>
</cp:coreProperties>
</file>