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AA98-542C-41BA-9D2F-63B930B3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27F-792D-4456-968F-E80B928A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6ED-9B99-4240-9696-B2D3A08C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478A-8462-4F7A-B95E-10730525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43C3-B93E-424A-95DF-1CFA6AD1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39E6-B771-4405-B9B1-2A416EF0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4ECB-0382-4FF3-9A9E-4392DFDB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6329-D3DF-4C42-B146-55A717A0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C765-D425-41AA-9118-F948A7F8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EBBB-2F7A-454A-A4E6-BB7D1947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A37B-6138-43FC-88AB-2F9858B5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FF1A-531A-4A2F-93C9-64E1F580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065C-291E-44B5-A8CC-151CF77C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3791-6942-4728-A401-14C5D8C5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E3AC-247C-4E8B-9286-24F0262C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EF6C-4DE1-41B8-828C-D8ED6B77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7BC6-C8DD-4140-85FA-C4CB0AB9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E882A-D89B-41C8-AD33-B556CE0D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B4DAA-7BB8-4E5C-BA14-39B08E9E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633E0-45E2-4B0D-B192-FD52B4A2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7577E-2D8A-4FFA-9AC0-F39F453A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9E3F8-2A9E-46AD-AE56-FD7214B8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38F-B63A-4B74-8E66-245EDA79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C3BF5-9A8A-4D7C-B9BC-B83B1D46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3CF77-C69C-42A6-9559-C15E566E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DB237-0F95-4318-9400-A494F76E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6F001-9E11-4E9F-94AD-9CB18D07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8A6D5-4CA1-481C-ABFB-171EE62E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1A458-240E-41DF-BA62-57EC3E75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E8CDB-0151-42BC-871B-6A517526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F88B5-BDC3-41C2-8A21-07D02EC0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97BE8-7214-47DE-9F27-5A350E60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A8F60-0036-4D01-A7A5-2A2B80ED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7FE7-C6D1-4FA6-A2E3-4EF5ED2E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2F7BF-6817-44B5-AB92-52FC4D02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4683E-5D4F-4303-900C-75BE25DC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E3F5F-F883-40C0-BF8D-1E7348EA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DB7D4-19D3-43DA-90E2-38C8CA86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3F0CA-3536-4057-93C8-B32B15C0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31100-8969-46E0-B557-17135122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A58F6-58FA-49AE-A171-5A28BBFA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EBF80-A003-4C20-9CEF-6639FA82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70E67-B13C-4882-B7A3-77AB4F45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78F-39DC-43EF-BCEC-A1CE439D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36E9-3B1C-4CB1-B6EC-99CBF376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25A-6C05-473B-A7A6-6B1EC917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B43-0488-4037-B40C-EC813080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2FF-5C55-495B-A3D5-037EDF4C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8AF8-2793-4DFC-A866-F2ADBBC02E9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987F-C762-4DDF-BCCB-890DFDC7785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B09E-E313-43D9-A6F0-8A21DC93B51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4614-ED1D-4968-A22F-29F8F986366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20840" y="1809720"/>
            <a:ext cx="8839080" cy="140976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8" descr=""/>
          <p:cNvPicPr/>
          <p:nvPr/>
        </p:nvPicPr>
        <p:blipFill>
          <a:blip r:embed="rId2"/>
          <a:stretch/>
        </p:blipFill>
        <p:spPr>
          <a:xfrm>
            <a:off x="633240" y="109440"/>
            <a:ext cx="8010720" cy="1627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Users\Пользователь\Desktop\934696.jpg"/>
          <p:cNvPicPr/>
          <p:nvPr/>
        </p:nvPicPr>
        <p:blipFill>
          <a:blip r:embed="rId3"/>
          <a:stretch/>
        </p:blipFill>
        <p:spPr>
          <a:xfrm>
            <a:off x="500040" y="3071880"/>
            <a:ext cx="4729320" cy="3157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Users\Пользователь\Desktop\1000597149.jpg"/>
          <p:cNvPicPr/>
          <p:nvPr/>
        </p:nvPicPr>
        <p:blipFill>
          <a:blip r:embed="rId4"/>
          <a:stretch/>
        </p:blipFill>
        <p:spPr>
          <a:xfrm rot="1565400">
            <a:off x="6082920" y="3413160"/>
            <a:ext cx="220968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Экологическое образование.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20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ир вступил в третье тысячелетие с тяжким грузом экологических проблем, которые на наших глазах перерастают в глобальную проблему выживания человечест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это не фантазия экологов. Это настоятельно требует формирования у людей нового мировоззрения. Оно должно строиться на новой системе ценностей, в которой Природа и Жизнь заняли бы первое мест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спитывать любовь и уважение к Природе во всех ее проявлениях — от цветка на подоконнике до целого Мироздания. Вот концепция экологического образован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04617b"/>
                </a:solidFill>
                <a:latin typeface="Calibri"/>
              </a:rPr>
              <a:t>Программа «Школа России»</a:t>
            </a:r>
            <a:br>
              <a:rPr sz="4900"/>
            </a:b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071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четает  традиционные наработки и новейшие достижения по психологии, педагогике, включает в себя элементы развивающего мышл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дставляет собой целостную модель начальной школы, построенную на единых концептуальных основах и имеющее полное программно-методическое обеспечен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мплект реализует Федеральный компонент содержания образования и охватывает все образовательные области, включая такие инновационные для начальной школы, как информатика и иностранный язы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Школа России»- школа духовно нравственного развит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чебно-методическому комплекту приданы такие качества, как фундаментальность, надежность, стабильность, открытость новому, которые должны стать неотъемлемыми характеристиками начальной школ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ифференциация обучения, развитие личности каждого ребенка, снятие стрессообразующих факторов учебного процесс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7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928880"/>
            <a:ext cx="9144000" cy="30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4617b"/>
                </a:solidFill>
                <a:latin typeface="Calibri"/>
              </a:rPr>
              <a:t>СПАСИБО </a:t>
            </a:r>
            <a:br>
              <a:rPr sz="9600"/>
            </a:br>
            <a:r>
              <a:rPr b="0" lang="ru-RU" sz="9600" spc="-1" strike="noStrike">
                <a:solidFill>
                  <a:srgbClr val="04617b"/>
                </a:solidFill>
                <a:latin typeface="Calibri"/>
              </a:rPr>
              <a:t>ЗА ВНИМАНИЕ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93500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Главная идея программы: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“Школа России”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оздается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в России и для России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Школа России должна стать школой духовно-нравственного развития. Именно такая школа будет достойна России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ограмма “Школа России” имеет огромный, годами проверенный, педагогический опыт. Авторами программы взято все лучшее, что было накоплено и апробировано в практике отечественной школы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на доступна для учащихся младшего школьного возраста, гарантирует достижение положительных результатов в обучении и реальные возможности личностного развития, т.к. построена на таких принципах обучения, как учитывание возрастных особенностей детей, постепенное наращивание трудностей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18676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Почему я выбираю программу “Школа России”?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49976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еспечить современное образование младшего школьника в соответствии с положениями образования в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оссийской Федераци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концепцией модернизации образования, новейшими достижениями педагогической наук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785880"/>
            <a:ext cx="818676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4617b"/>
                </a:solidFill>
                <a:latin typeface="Calibri"/>
              </a:rPr>
              <a:t>Какова цель обучения?</a:t>
            </a:r>
            <a:r>
              <a:rPr b="1" lang="ru-RU" sz="6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6000"/>
            </a:b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2" descr="C:\Users\Пользователь\Desktop\ucebn.jpg"/>
          <p:cNvPicPr/>
          <p:nvPr/>
        </p:nvPicPr>
        <p:blipFill>
          <a:blip r:embed="rId1"/>
          <a:stretch/>
        </p:blipFill>
        <p:spPr>
          <a:xfrm>
            <a:off x="714240" y="3786120"/>
            <a:ext cx="2286000" cy="23241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3429000" y="3419280"/>
            <a:ext cx="5357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ебники и учебные пособия, входящие в комплект, имеют грифы Министерства образования РФ ("Рекомендовано" или "Допущено") и полностью соответствуют Базисному учебному план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По каким учебным комплектам работает данная программа?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71468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мплект учебников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“Школы России”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ставляет собой целостную модель начальной школы. Учебники и учебные пособия нового поколения отвечают требованиям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овременного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и при этом сохранены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лучшие традиции русской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школы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C:\Users\Пользователь\Desktop\1000854669.jpg"/>
          <p:cNvPicPr/>
          <p:nvPr/>
        </p:nvPicPr>
        <p:blipFill>
          <a:blip r:embed="rId1"/>
          <a:stretch/>
        </p:blipFill>
        <p:spPr>
          <a:xfrm>
            <a:off x="285840" y="3714840"/>
            <a:ext cx="1904760" cy="2514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Users\Пользователь\Desktop\1000597149.jpg"/>
          <p:cNvPicPr/>
          <p:nvPr/>
        </p:nvPicPr>
        <p:blipFill>
          <a:blip r:embed="rId2"/>
          <a:stretch/>
        </p:blipFill>
        <p:spPr>
          <a:xfrm>
            <a:off x="2286000" y="3714840"/>
            <a:ext cx="1905120" cy="244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C:\Users\Пользователь\Desktop\1000588022.jpg"/>
          <p:cNvPicPr/>
          <p:nvPr/>
        </p:nvPicPr>
        <p:blipFill>
          <a:blip r:embed="rId3"/>
          <a:stretch/>
        </p:blipFill>
        <p:spPr>
          <a:xfrm>
            <a:off x="4429080" y="3714840"/>
            <a:ext cx="1905120" cy="2514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Users\Пользователь\Desktop\1000851457.jpg"/>
          <p:cNvPicPr/>
          <p:nvPr/>
        </p:nvPicPr>
        <p:blipFill>
          <a:blip r:embed="rId4"/>
          <a:stretch/>
        </p:blipFill>
        <p:spPr>
          <a:xfrm>
            <a:off x="6572160" y="3714840"/>
            <a:ext cx="19051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5154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Учебно-методический комплект</a:t>
            </a: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по математик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2" descr="C:\Users\Пользователь\Desktop\1001154676.jpg"/>
          <p:cNvPicPr/>
          <p:nvPr/>
        </p:nvPicPr>
        <p:blipFill>
          <a:blip r:embed="rId1"/>
          <a:stretch/>
        </p:blipFill>
        <p:spPr>
          <a:xfrm>
            <a:off x="285840" y="1928880"/>
            <a:ext cx="2577960" cy="3286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" descr="C:\Users\Пользователь\Desktop\mm670_27_09_01.jpg"/>
          <p:cNvPicPr/>
          <p:nvPr/>
        </p:nvPicPr>
        <p:blipFill>
          <a:blip r:embed="rId2"/>
          <a:stretch/>
        </p:blipFill>
        <p:spPr>
          <a:xfrm>
            <a:off x="1071720" y="2714760"/>
            <a:ext cx="2539800" cy="3263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C:\Users\Пользователь\Desktop\1000854670.jpg"/>
          <p:cNvPicPr/>
          <p:nvPr/>
        </p:nvPicPr>
        <p:blipFill>
          <a:blip r:embed="rId3"/>
          <a:stretch/>
        </p:blipFill>
        <p:spPr>
          <a:xfrm>
            <a:off x="4000680" y="2071800"/>
            <a:ext cx="1904760" cy="2238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:\Users\Пользователь\Desktop\1000882135.jpg"/>
          <p:cNvPicPr/>
          <p:nvPr/>
        </p:nvPicPr>
        <p:blipFill>
          <a:blip r:embed="rId4"/>
          <a:stretch/>
        </p:blipFill>
        <p:spPr>
          <a:xfrm>
            <a:off x="6643800" y="2143080"/>
            <a:ext cx="190476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840" y="7045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Учебно-методический комплект</a:t>
            </a: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по окружающему миру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C:\Users\Пользователь\Desktop\1000561441.jpg"/>
          <p:cNvPicPr/>
          <p:nvPr/>
        </p:nvPicPr>
        <p:blipFill>
          <a:blip r:embed="rId1"/>
          <a:stretch/>
        </p:blipFill>
        <p:spPr>
          <a:xfrm>
            <a:off x="3643200" y="2000160"/>
            <a:ext cx="2826000" cy="37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Picture 4" descr="C:\Users\Пользователь\Desktop\54000009909.jpg"/>
          <p:cNvPicPr/>
          <p:nvPr/>
        </p:nvPicPr>
        <p:blipFill>
          <a:blip r:embed="rId2"/>
          <a:stretch/>
        </p:blipFill>
        <p:spPr>
          <a:xfrm>
            <a:off x="500040" y="1928880"/>
            <a:ext cx="2928960" cy="3855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C:\Users\Пользователь\Desktop\1000609321.jpg"/>
          <p:cNvPicPr/>
          <p:nvPr/>
        </p:nvPicPr>
        <p:blipFill>
          <a:blip r:embed="rId3"/>
          <a:stretch/>
        </p:blipFill>
        <p:spPr>
          <a:xfrm>
            <a:off x="6643800" y="2643120"/>
            <a:ext cx="2160360" cy="31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advTm="0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82868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Комплект состоит из учебников для 1–4 классов по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усскому языку авторов Л.М. Зелениной, Т.Е. Хохловой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тематике авторов М.И. Моро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кружающему миру автора А.А. Плешако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тению авторов М.В. Головановой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нформатике авторов А.Л. Семенова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узыке авторов Е.Д. Критской, Г.П. Сергеевой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изической культуре авторов Е.Н. Литвинова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БЖ авторов Л.П. Анастасовой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зобразительному искусству авторов Б.М. Неменского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художественному труду авторов Т.Я. Шпикаловой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нглийскому языку авторов З.Н. Никитенко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ранцузскому языку авторов А.С. Кулигиной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емецкому языку авторов И.Л. Бим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спанскому языку авторов Э.И. Соловцовой и др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500"/>
                            </p:stCondLst>
                            <p:childTnLst>
                              <p:par>
                                <p:cTn id="2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7000"/>
                            </p:stCondLst>
                            <p:childTnLst>
                              <p:par>
                                <p:cTn id="2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Какие направления в образовании считаются наиболее существенными?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Личностно-развивающее образование. </a:t>
            </a:r>
            <a:br>
              <a:rPr sz="40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лавное назначение начальной школы —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оспитание личност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Приоритетным считаем духовно-нравственное развитие ребенка. Поэтому ориентируемся на развитие у ребенка человеческих качеств: доброта, терпимость, ответственность, способность сопереживать, готовность помогать другому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звивая человеческие качества личности, не забываем и о других составляющих развития ребенка: психических процессов, творческих способностей, учебной деятельности, как ведущей в младшем школьном возрасте. Личность едина, и ее целостное развитие возможно только при должном внимании ко всем сторонам этого процесс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роим обучение на основе постоянного пробуждения и поддержки творческого начала в ребенке. При организации учебного процесса предпочтение отдаем проблемно-поисковому подходу. При таком подходе возникает естественная мотивация учения, успешно развиваются способности ребенка понимать смысл поставленной задачи, планировать учебную работу, контролировать и оценивать ее результа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то позволяет целенаправленно развивать познавательную активность и самостоятельность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Граждански-ориентированное образование.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40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Школьники — это граждане России. “Школа России” работает над такими личностными качествами воспитания, как гражданственность и патриотизм. Развивать у ребенка интерес к познанию, постижению своей страны, ее прошлого и настоящего, ее природы и общественной жизни, ее духовного величия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читаем необходимым закладывать в младшем школьном возрасте основы экономических знаний и правовой культуры. Стремимся воспитывать в детях любовь к Отечеству, своему народу, его языку, духовным ценностям, уважительное отношение ко всем народам России, к их национальным культурам, самобытным обычаям и традициям, к государственным символам Российской Федерации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ебенок должен почувствовать себя маленьким гражданином великой страны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0"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8:58:47Z</dcterms:created>
  <dc:creator>Пользователь</dc:creator>
  <dc:description/>
  <dc:language>en-US</dc:language>
  <cp:lastModifiedBy>Пользователь</cp:lastModifiedBy>
  <dcterms:modified xsi:type="dcterms:W3CDTF">2011-03-03T19:15:22Z</dcterms:modified>
  <cp:revision>1</cp:revision>
  <dc:subject/>
  <dc:title>Если путь твой к познанию мира ведёт, - Как бы ни был он долог и труден - вперёд! </dc:title>
</cp:coreProperties>
</file>