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036-AF02-4F53-8B74-9E85D4F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73A-83FC-43BE-A72C-13A58D92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BCB-FFF6-4422-A2CF-9AC91337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E52-A3EA-4345-A1A3-DDDF1900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DE0A-D5C1-402F-AD83-F82A7A66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D42B-2BAE-46E6-9E3C-7D5753E2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8BFE-E83C-4156-9404-BA5FA0D0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C6FD-7C6F-46B8-AFD9-8FF60FB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748C-BC2A-4C4E-BE2C-D64A7535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0E97-8DBD-4E81-9D50-64F45F7D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ED44-CDE8-4FC7-B78E-C8623DB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ADF-3380-4E30-BC54-6B1EDDF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B14F-E9BB-4DC7-B32C-CDDFA50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299-E6A7-43E9-8DDA-FDD55A4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497A-B559-4C4D-89A5-B57AD18D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8B9-5810-45D8-904E-D5438FC5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0991-CADA-4303-A58D-6B0C4F59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70D7-4E3F-4C9F-B252-CF8C3F5A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7A44-B25C-47EE-802F-6197CB4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CC20-A109-4078-AE89-0206CB26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85B5-0B27-4CAB-B54B-0A78307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937D-A331-4268-9F51-E1DF389E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861-B356-4101-B288-F47190B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F1B8-4804-42FA-A7D9-D245C1BB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79BD-592E-49C9-9570-AAAF3DA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CE5E-09EC-4234-B562-DCF1982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BC9A-8B57-4BBA-AF6B-8BC4D10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CD7F-40B1-4D8D-80B0-65668D8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AC9A-1EEE-45FA-AC8C-52C8A680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E055-9675-42FB-9EE0-8AC400D6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0204-FF6D-4ACA-952D-9BB1DE8C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9737-5267-4329-A1CA-FE38D8E9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B0ED-D30C-461F-BE01-D3195239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5A1-907D-4370-8839-67C891E6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B1BC-DA73-45A1-98AF-97A5CF11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EFF6-630B-4F36-91D6-7A58E8C9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1D90-D2AD-4A17-8911-44508A4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1389-58E7-4E00-96B5-C12DB3F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75E3-BA3C-42E0-956D-7EE40FA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009E-23C8-4755-A304-6C423C32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CA78-2BB2-44AF-B95C-CF69E0E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FE31-058B-4C9A-8892-BB4931EF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4DB2-380F-42A5-B093-55725D76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FC3-47FF-49EF-9FD0-CC929D42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3AA-34B3-4765-9136-711AF961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250-AC73-4BF6-9380-4C89323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027-8241-49E6-BAC2-443D1DE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D28-4B07-4FC9-A908-61831B3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5E3-ECF4-41A1-BA3B-2C0FBEA1BA7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01B-0235-4EFC-B672-830FEBF12B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778C-92B9-4CCD-9F53-0867E8723A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67BA-262D-43FA-BCA3-FEC5F1B7E08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839080" cy="14097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8" descr=""/>
          <p:cNvPicPr/>
          <p:nvPr/>
        </p:nvPicPr>
        <p:blipFill>
          <a:blip r:embed="rId2"/>
          <a:stretch/>
        </p:blipFill>
        <p:spPr>
          <a:xfrm>
            <a:off x="633240" y="109440"/>
            <a:ext cx="8010720" cy="162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Пользователь\Desktop\934696.jpg"/>
          <p:cNvPicPr/>
          <p:nvPr/>
        </p:nvPicPr>
        <p:blipFill>
          <a:blip r:embed="rId3"/>
          <a:stretch/>
        </p:blipFill>
        <p:spPr>
          <a:xfrm>
            <a:off x="500040" y="3071880"/>
            <a:ext cx="4729320" cy="315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Пользователь\Desktop\1000597149.jpg"/>
          <p:cNvPicPr/>
          <p:nvPr/>
        </p:nvPicPr>
        <p:blipFill>
          <a:blip r:embed="rId4"/>
          <a:stretch/>
        </p:blipFill>
        <p:spPr>
          <a:xfrm rot="1565400">
            <a:off x="6082920" y="3413160"/>
            <a:ext cx="22096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Экологическое образование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р вступил в третье тысячелетие с тяжким грузом экологических проблем, которые на наших глазах перерастают в глобальную проблему выживания челове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это не фантазия экологов. Это настоятельно требует формирования у людей нового мировоззрения. Оно должно строиться на новой системе ценностей, в которой Природа и Жизнь заняли бы первое мест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ывать любовь и уважение к Природе во всех ее проявлениях — от цветка на подоконнике до целого Мироздания. Вот концепция экологического образова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4617b"/>
                </a:solidFill>
                <a:latin typeface="Calibri"/>
              </a:rPr>
              <a:t>Программа «Школа России»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92888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ЗА ВНИМАНИЕ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лавная идея программы: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“Школа России”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здает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 России и для Росси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кола России должна стать школой духовно-нравственного развития. Именно такая школа будет достойна Росс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грамма “Школа России” имеет огромный, годами проверенный, педагогический опыт. Авторами программы взято все лучшее, что было накоплено и апробировано в практике отечественной школ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на доступна для учащихся младшего школьного возраста, гарантирует достижение положительных результатов в обучении и реальные возможности личностного развития, т.к. построена на таких принципах обучения, как учитывание возрастных особенностей детей, постепенное наращивание трудносте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867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чему я выбираю программу “Школа России”?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99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современное образование младшего школьника в соответствии с положениями образования 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ссийской Федер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концепцией модернизации образования, новейшими достижениями педагогической нау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85880"/>
            <a:ext cx="81867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Calibri"/>
              </a:rPr>
              <a:t>Какова цель обучения?</a:t>
            </a: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C:\Users\Пользователь\Desktop\ucebn.jpg"/>
          <p:cNvPicPr/>
          <p:nvPr/>
        </p:nvPicPr>
        <p:blipFill>
          <a:blip r:embed="rId1"/>
          <a:stretch/>
        </p:blipFill>
        <p:spPr>
          <a:xfrm>
            <a:off x="714240" y="3786120"/>
            <a:ext cx="2286000" cy="232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3429000" y="341928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бники и учебные пособия, входящие в комплект, имеют грифы Министерства образования РФ ("Рекомендовано" или "Допущено") и полностью соответствуют Базисному учебному пла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каким учебным комплектам работает данная программа?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4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т учебник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“Школы России”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ставляет собой целостную модель начальной школы. Учебники и учебные пособия нового поколения отвечают требования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ремен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 при этом сохранен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учшие традиции русско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кол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Пользователь\Desktop\1000854669.jpg"/>
          <p:cNvPicPr/>
          <p:nvPr/>
        </p:nvPicPr>
        <p:blipFill>
          <a:blip r:embed="rId1"/>
          <a:stretch/>
        </p:blipFill>
        <p:spPr>
          <a:xfrm>
            <a:off x="285840" y="371484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Пользователь\Desktop\1000597149.jpg"/>
          <p:cNvPicPr/>
          <p:nvPr/>
        </p:nvPicPr>
        <p:blipFill>
          <a:blip r:embed="rId2"/>
          <a:stretch/>
        </p:blipFill>
        <p:spPr>
          <a:xfrm>
            <a:off x="2286000" y="371484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Пользователь\Desktop\1000588022.jpg"/>
          <p:cNvPicPr/>
          <p:nvPr/>
        </p:nvPicPr>
        <p:blipFill>
          <a:blip r:embed="rId3"/>
          <a:stretch/>
        </p:blipFill>
        <p:spPr>
          <a:xfrm>
            <a:off x="4429080" y="37148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Пользователь\Desktop\1000851457.jpg"/>
          <p:cNvPicPr/>
          <p:nvPr/>
        </p:nvPicPr>
        <p:blipFill>
          <a:blip r:embed="rId4"/>
          <a:stretch/>
        </p:blipFill>
        <p:spPr>
          <a:xfrm>
            <a:off x="6572160" y="371484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5154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Учебно-методический комплект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математи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Users\Пользователь\Desktop\1001154676.jpg"/>
          <p:cNvPicPr/>
          <p:nvPr/>
        </p:nvPicPr>
        <p:blipFill>
          <a:blip r:embed="rId1"/>
          <a:stretch/>
        </p:blipFill>
        <p:spPr>
          <a:xfrm>
            <a:off x="285840" y="1928880"/>
            <a:ext cx="2577960" cy="328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C:\Users\Пользователь\Desktop\mm670_27_09_01.jpg"/>
          <p:cNvPicPr/>
          <p:nvPr/>
        </p:nvPicPr>
        <p:blipFill>
          <a:blip r:embed="rId2"/>
          <a:stretch/>
        </p:blipFill>
        <p:spPr>
          <a:xfrm>
            <a:off x="1071720" y="2714760"/>
            <a:ext cx="2539800" cy="3263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Пользователь\Desktop\1000854670.jpg"/>
          <p:cNvPicPr/>
          <p:nvPr/>
        </p:nvPicPr>
        <p:blipFill>
          <a:blip r:embed="rId3"/>
          <a:stretch/>
        </p:blipFill>
        <p:spPr>
          <a:xfrm>
            <a:off x="4000680" y="2071800"/>
            <a:ext cx="1904760" cy="223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Пользователь\Desktop\1000882135.jpg"/>
          <p:cNvPicPr/>
          <p:nvPr/>
        </p:nvPicPr>
        <p:blipFill>
          <a:blip r:embed="rId4"/>
          <a:stretch/>
        </p:blipFill>
        <p:spPr>
          <a:xfrm>
            <a:off x="6643800" y="2143080"/>
            <a:ext cx="1904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Учебно-методический комплект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окружающему мир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Users\Пользователь\Desktop\1000561441.jpg"/>
          <p:cNvPicPr/>
          <p:nvPr/>
        </p:nvPicPr>
        <p:blipFill>
          <a:blip r:embed="rId1"/>
          <a:stretch/>
        </p:blipFill>
        <p:spPr>
          <a:xfrm>
            <a:off x="3643200" y="2000160"/>
            <a:ext cx="282600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4" descr="C:\Users\Пользователь\Desktop\54000009909.jpg"/>
          <p:cNvPicPr/>
          <p:nvPr/>
        </p:nvPicPr>
        <p:blipFill>
          <a:blip r:embed="rId2"/>
          <a:stretch/>
        </p:blipFill>
        <p:spPr>
          <a:xfrm>
            <a:off x="500040" y="1928880"/>
            <a:ext cx="2928960" cy="38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Пользователь\Desktop\1000609321.jpg"/>
          <p:cNvPicPr/>
          <p:nvPr/>
        </p:nvPicPr>
        <p:blipFill>
          <a:blip r:embed="rId3"/>
          <a:stretch/>
        </p:blipFill>
        <p:spPr>
          <a:xfrm>
            <a:off x="6643800" y="2643120"/>
            <a:ext cx="216036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Комплект состоит из учебников для 1–4 классов по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сскому языку авторов Л.М. Зелениной, Т.Е. Хохловой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матике авторов М.И. Мор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ружающему миру автора А.А. Плешако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ению авторов М.В. Голован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форматике авторов А.Л. Семенова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узыке авторов Е.Д. Критской, Г.П. Сергее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зической культуре авторов Е.Н. Литвинова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Ж авторов Л.П. Анастас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образительному искусству авторов Б.М. Неменског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удожественному труду авторов Т.Я. Шпикал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глийскому языку авторов З.Н. Никитенк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ранцузскому языку авторов А.С. Кулигин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мецкому языку авторов И.Л. Бим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анскому языку авторов Э.И. Соловцовой и д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Какие направления в образовании считаются наиболее существенными?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Личностно-развивающее образование. 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вное назначение начальной школы —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спитание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иоритетным считаем духовно-нравственное развитие ребенка. Поэтому ориентируемся на развитие у ребенка человеческих качеств: доброта, терпимость, ответственность, способность сопереживать, готовность помогать другом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вая человеческие качества личности, не забываем и о других составляющих развития ребенка: психических процессов, творческих способностей, учебной деятельности, как ведущей в младшем школьном возрасте. Личность едина, и ее целостное развитие возможно только при должном внимании ко всем сторонам этого процес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оим обучение на основе постоянного пробуждения и поддержки творческого начала в ребенке. При организации учебного процесса предпочтение отдаем проблемно-поисковому подходу. При таком подходе возникает естественная мотивация учения, успешно развиваются способности ребенка понимать смысл поставленной задачи, планировать учебную работу, контролировать и оценивать ее результа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позволяет целенаправленно развивать познавательную активность и самостоятельнос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Граждански-ориентированное образование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кольники — это граждане России. “Школа России” работает над такими личностными качествами воспитания, как гражданственность и патриотизм. Развивать у ребенка интерес к познанию, постижению своей страны, ее прошлого и настоящего, ее природы и общественной жизни, ее духовного велич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читаем необходимым закладывать в младшем школьном возрасте основы экономических знаний и правовой культуры. Стремимся воспитывать в детях любовь к Отечеству, своему народу, его языку, духовным ценностям, уважительное отношение ко всем народам России, к их национальным культурам, самобытным обычаям и традициям, к государственным символам Российской Федерац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бенок должен почувствовать себя маленьким гражданином великой стран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0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8:58:47Z</dcterms:created>
  <dc:creator>Пользователь</dc:creator>
  <dc:description/>
  <dc:language>en-US</dc:language>
  <cp:lastModifiedBy>Пользователь</cp:lastModifiedBy>
  <dcterms:modified xsi:type="dcterms:W3CDTF">2011-03-03T19:15:22Z</dcterms:modified>
  <cp:revision>1</cp:revision>
  <dc:subject/>
  <dc:title>Если путь твой к познанию мира ведёт, - Как бы ни был он долог и труден - вперёд! </dc:title>
</cp:coreProperties>
</file>