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29E-45F2-46AA-93D4-D3767DF4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361-BFCA-49CA-80BB-D397D04E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D96-EB6F-4939-A0E2-2D1FC968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19B-7B13-4404-9B7A-F87999AD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AFB-E591-49BF-A093-6C8CA87D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42C-1EF4-4263-A892-B1694387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E6A-2A59-4B1C-B17F-9B7355E2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82A-142C-4548-B33D-BFC65975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D72-ED26-451F-A659-27871A88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ADE-E11B-4741-8C2B-4711A86A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EDB-C0C7-4B8D-BACC-3D6EDB84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8C7-AF86-44CD-9F5C-4CB8D447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8860-71A5-49A9-84D2-36087055E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32000" y="1413000"/>
            <a:ext cx="640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: «Повышение квалификации различных категорий работников образования и формирование у них базовой педагогической ИКТ – компетентности» по программе: «Информационные технологии в деятельности учителя – предме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5113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т март ростки зеленых тр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робей летит на теле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 стучит он бойко: - Тук-тук-ту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телеграфирует на ю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ообщаю перелетным птиц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ора с чужбины возврат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ый ветер прилетел в до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еке уже поплыли ль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ега нет. Его ручьи умч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сиком ребята бегать 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ирени распустилась п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летайте! Вылетайте! Точ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. Станч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безымянный3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716360" y="3573360"/>
            <a:ext cx="4248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е вестники весны — грач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54-grach"/>
          <p:cNvPicPr/>
          <p:nvPr/>
        </p:nvPicPr>
        <p:blipFill>
          <a:blip r:embed="rId1"/>
          <a:stretch/>
        </p:blipFill>
        <p:spPr>
          <a:xfrm>
            <a:off x="611280" y="1989000"/>
            <a:ext cx="6553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 период весны называют весной света? Какой - весной воды? Какие явления природы можно наблюдать весной? Когда начинают цвести первые деревья и травы? Почему так рано? Что происходит в жизни птиц и зве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безымянный6"/>
          <p:cNvPicPr/>
          <p:nvPr/>
        </p:nvPicPr>
        <p:blipFill>
          <a:blip r:embed="rId1"/>
          <a:stretch/>
        </p:blipFill>
        <p:spPr>
          <a:xfrm>
            <a:off x="5046840" y="3716280"/>
            <a:ext cx="3773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77724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ринич Наталья Станислав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СОШ № 11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ой квалификационной категор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Искит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осибир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95280" y="1052640"/>
            <a:ext cx="77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2637000"/>
            <a:ext cx="339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ебный предм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211640" y="2637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кружающ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3520" y="39625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203640" y="400536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чащиеся 2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5280" y="333360"/>
            <a:ext cx="836784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новополагающий вопрос: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акие изменения происходят в живой природе с приходом вес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ебная тема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Живая при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11280" y="4941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ые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900000" y="5589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нтернет-ресурсы, печатные издания, мультимедийные при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7"/>
          <p:cNvSpPr txBox="1"/>
          <p:nvPr/>
        </p:nvSpPr>
        <p:spPr>
          <a:xfrm>
            <a:off x="3132000" y="1484280"/>
            <a:ext cx="518508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В гости к весне</a:t>
            </a:r>
            <a:endParaRPr b="1" i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imes New Roman"/>
              </a:rPr>
              <a:t>Живая природа</a:t>
            </a:r>
            <a:endParaRPr b="1" i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52" name="Picture 16" descr="EXPO0497"/>
          <p:cNvPicPr/>
          <p:nvPr/>
        </p:nvPicPr>
        <p:blipFill>
          <a:blip r:embed="rId5"/>
          <a:stretch/>
        </p:blipFill>
        <p:spPr>
          <a:xfrm>
            <a:off x="144360" y="144360"/>
            <a:ext cx="2390760" cy="355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EXPO4392"/>
          <p:cNvPicPr/>
          <p:nvPr/>
        </p:nvPicPr>
        <p:blipFill>
          <a:blip r:embed="rId6"/>
          <a:stretch/>
        </p:blipFill>
        <p:spPr>
          <a:xfrm>
            <a:off x="5364000" y="4005360"/>
            <a:ext cx="3562560" cy="239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EXPO4393"/>
          <p:cNvPicPr/>
          <p:nvPr/>
        </p:nvPicPr>
        <p:blipFill>
          <a:blip r:embed="rId7"/>
          <a:stretch/>
        </p:blipFill>
        <p:spPr>
          <a:xfrm>
            <a:off x="611280" y="4005360"/>
            <a:ext cx="356220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о шла весна тайком от ветров и стуж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егодня – прямиком шлепает по луж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нит талые снега с гомоном и зво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выстелить луга бархатом зеле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коро, скоро быть теплу!» - эту новость пер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рабанит по стеклу серой лапкой вер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 тысячи скворцов с домиком подруж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 множество птенцов выглянут наруж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чи по небу пройдут, и тебе в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ладошку упадут капли дожде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безымянный11"/>
          <p:cNvPicPr/>
          <p:nvPr/>
        </p:nvPicPr>
        <p:blipFill>
          <a:blip r:embed="rId1"/>
          <a:stretch/>
        </p:blipFill>
        <p:spPr>
          <a:xfrm>
            <a:off x="4067280" y="4221000"/>
            <a:ext cx="422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М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22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этот период весны так называ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безымянный10"/>
          <p:cNvPicPr/>
          <p:nvPr/>
        </p:nvPicPr>
        <p:blipFill>
          <a:blip r:embed="rId1"/>
          <a:stretch/>
        </p:blipFill>
        <p:spPr>
          <a:xfrm>
            <a:off x="1547640" y="2781360"/>
            <a:ext cx="71406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a800"/>
                </a:solidFill>
                <a:latin typeface="Arial"/>
              </a:rPr>
              <a:t>Апрел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рель – это месяц весенних первоц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чуток ветки сон сторожк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ом пригретые ед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ать дымок спешат сереж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 спеленута ли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безымянный4"/>
          <p:cNvPicPr/>
          <p:nvPr/>
        </p:nvPicPr>
        <p:blipFill>
          <a:blip r:embed="rId1"/>
          <a:stretch/>
        </p:blipFill>
        <p:spPr>
          <a:xfrm>
            <a:off x="5508720" y="4221000"/>
            <a:ext cx="336528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ff"/>
                </a:solidFill>
                <a:latin typeface="Arial"/>
              </a:rPr>
              <a:t>Насеком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шат гости на п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омар"/>
          <p:cNvPicPr/>
          <p:nvPr/>
        </p:nvPicPr>
        <p:blipFill>
          <a:blip r:embed="rId1"/>
          <a:stretch/>
        </p:blipFill>
        <p:spPr>
          <a:xfrm>
            <a:off x="2916360" y="4581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Шмель"/>
          <p:cNvPicPr/>
          <p:nvPr/>
        </p:nvPicPr>
        <p:blipFill>
          <a:blip r:embed="rId2"/>
          <a:stretch/>
        </p:blipFill>
        <p:spPr>
          <a:xfrm>
            <a:off x="179280" y="3284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жуженица"/>
          <p:cNvPicPr/>
          <p:nvPr/>
        </p:nvPicPr>
        <p:blipFill>
          <a:blip r:embed="rId3"/>
          <a:stretch/>
        </p:blipFill>
        <p:spPr>
          <a:xfrm>
            <a:off x="6443640" y="2757600"/>
            <a:ext cx="2077920" cy="3047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бабочка"/>
          <p:cNvPicPr/>
          <p:nvPr/>
        </p:nvPicPr>
        <p:blipFill>
          <a:blip r:embed="rId4"/>
          <a:stretch/>
        </p:blipFill>
        <p:spPr>
          <a:xfrm>
            <a:off x="2987640" y="2205000"/>
            <a:ext cx="24004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ннецветущие ц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неж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ь-и-мач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хл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у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реница лют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безымянный1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763640" y="4581360"/>
            <a:ext cx="5145120" cy="213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EXPO1713"/>
          <p:cNvPicPr/>
          <p:nvPr/>
        </p:nvPicPr>
        <p:blipFill>
          <a:blip r:embed="rId2"/>
          <a:stretch/>
        </p:blipFill>
        <p:spPr>
          <a:xfrm>
            <a:off x="4932360" y="1341360"/>
            <a:ext cx="38894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09:12:37Z</dcterms:created>
  <dc:creator>С12</dc:creator>
  <dc:description/>
  <dc:language>en-US</dc:language>
  <cp:lastModifiedBy>Коля</cp:lastModifiedBy>
  <dcterms:modified xsi:type="dcterms:W3CDTF">2013-03-16T17:03:35Z</dcterms:modified>
  <cp:revision>14</cp:revision>
  <dc:subject/>
  <dc:title>В гости к весне. Живая природа.</dc:title>
</cp:coreProperties>
</file>