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60C-7F08-4162-9E09-13689A8F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23D-F3EC-44EE-8F3C-35E57AD9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CB6-506C-43F7-BEA4-66FCA683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A79-171F-4843-87C5-40789C96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897-54D4-45E9-9DF5-EA78F44B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5CB-D9BE-44C8-A52B-339A690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C49-12B8-487D-BFD5-24CA0A1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9C1-56B2-4C2B-B7E8-8A43380F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97C-40DE-42D2-846A-D811155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61A-38CE-4608-9F93-BAD99B9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F11-8CE7-4159-AFCB-5E00447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203-D484-4CC7-8FDC-BF3235F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5B0B-DFCB-482C-B3F9-E4F77329B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1413000"/>
            <a:ext cx="64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: «Повышение квалификации различных категорий работников образования и формирование у них базовой педагогической ИКТ – компетентности» по программе: 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511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т март ростки зеленых тр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обей летит на теле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стучит он бойко: - Тук-тук-ту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телеграфирует на ю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общаю перелетным птиц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ора с чужбины возврат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ый ветер прилетел в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ке уже поплыли ль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а нет. Его ручьи ум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сиком ребята бегать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ирени распустилась п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етайте! Вылетайте! Точ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 Станч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безымянный3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716360" y="3573360"/>
            <a:ext cx="4248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вестники весны — грач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54-grach"/>
          <p:cNvPicPr/>
          <p:nvPr/>
        </p:nvPicPr>
        <p:blipFill>
          <a:blip r:embed="rId1"/>
          <a:stretch/>
        </p:blipFill>
        <p:spPr>
          <a:xfrm>
            <a:off x="611280" y="1989000"/>
            <a:ext cx="655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период весны называют весной света? Какой - весной воды? Какие явления природы можно наблюдать весной? Когда начинают цвести первые деревья и травы? Почему так рано? Что происходит в жизни птиц и з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езымянный6"/>
          <p:cNvPicPr/>
          <p:nvPr/>
        </p:nvPicPr>
        <p:blipFill>
          <a:blip r:embed="rId1"/>
          <a:stretch/>
        </p:blipFill>
        <p:spPr>
          <a:xfrm>
            <a:off x="5046840" y="3716280"/>
            <a:ext cx="3773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7724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инич Наталья Станислав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СОШ № 11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Иски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сибир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5280" y="1052640"/>
            <a:ext cx="77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637000"/>
            <a:ext cx="339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бный 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211640" y="2637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3520" y="3962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03640" y="40053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чащиеся 2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333360"/>
            <a:ext cx="83678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ополагающий вопрос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ие изменения происходят в живой природе с приходом вес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бная тема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Живая при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4941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00000" y="558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нтернет-ресурсы, печатные издания, мультимедийные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3132000" y="1484280"/>
            <a:ext cx="5185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В гости к весне</a:t>
            </a:r>
            <a:endParaRPr b="1" i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Живая природа</a:t>
            </a:r>
            <a:endParaRPr b="1" i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2" name="Picture 16" descr="EXPO0497"/>
          <p:cNvPicPr/>
          <p:nvPr/>
        </p:nvPicPr>
        <p:blipFill>
          <a:blip r:embed="rId5"/>
          <a:stretch/>
        </p:blipFill>
        <p:spPr>
          <a:xfrm>
            <a:off x="144360" y="14436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EXPO4392"/>
          <p:cNvPicPr/>
          <p:nvPr/>
        </p:nvPicPr>
        <p:blipFill>
          <a:blip r:embed="rId6"/>
          <a:stretch/>
        </p:blipFill>
        <p:spPr>
          <a:xfrm>
            <a:off x="5364000" y="4005360"/>
            <a:ext cx="3562560" cy="23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EXPO4393"/>
          <p:cNvPicPr/>
          <p:nvPr/>
        </p:nvPicPr>
        <p:blipFill>
          <a:blip r:embed="rId7"/>
          <a:stretch/>
        </p:blipFill>
        <p:spPr>
          <a:xfrm>
            <a:off x="611280" y="4005360"/>
            <a:ext cx="356220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 шла весна тайком от ветров и сту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егодня – прямиком шлепает по луж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ит талые снега с гомоном и зво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ыстелить луга бархатом зеле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коро, скоро быть теплу!» - эту новость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абанит по стеклу серой лапкой вер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тысячи скворцов с домиком подруж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множество птенцов выглянут нару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 по небу пройдут, и тебе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адошку упадут капли дожде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безымянный11"/>
          <p:cNvPicPr/>
          <p:nvPr/>
        </p:nvPicPr>
        <p:blipFill>
          <a:blip r:embed="rId1"/>
          <a:stretch/>
        </p:blipFill>
        <p:spPr>
          <a:xfrm>
            <a:off x="4067280" y="4221000"/>
            <a:ext cx="422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2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этот период весны так называ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безымянный10"/>
          <p:cNvPicPr/>
          <p:nvPr/>
        </p:nvPicPr>
        <p:blipFill>
          <a:blip r:embed="rId1"/>
          <a:stretch/>
        </p:blipFill>
        <p:spPr>
          <a:xfrm>
            <a:off x="1547640" y="2781360"/>
            <a:ext cx="7140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a800"/>
                </a:solidFill>
                <a:latin typeface="Arial"/>
              </a:rPr>
              <a:t>Апрел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– это месяц весенних перво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уток ветки сон сторожк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ом пригретые ед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ать дымок спешат сер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спеленута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безымянный4"/>
          <p:cNvPicPr/>
          <p:nvPr/>
        </p:nvPicPr>
        <p:blipFill>
          <a:blip r:embed="rId1"/>
          <a:stretch/>
        </p:blipFill>
        <p:spPr>
          <a:xfrm>
            <a:off x="5508720" y="4221000"/>
            <a:ext cx="33652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Насеком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шат гости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омар"/>
          <p:cNvPicPr/>
          <p:nvPr/>
        </p:nvPicPr>
        <p:blipFill>
          <a:blip r:embed="rId1"/>
          <a:stretch/>
        </p:blipFill>
        <p:spPr>
          <a:xfrm>
            <a:off x="2916360" y="4581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Шмель"/>
          <p:cNvPicPr/>
          <p:nvPr/>
        </p:nvPicPr>
        <p:blipFill>
          <a:blip r:embed="rId2"/>
          <a:stretch/>
        </p:blipFill>
        <p:spPr>
          <a:xfrm>
            <a:off x="179280" y="3284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уженица"/>
          <p:cNvPicPr/>
          <p:nvPr/>
        </p:nvPicPr>
        <p:blipFill>
          <a:blip r:embed="rId3"/>
          <a:stretch/>
        </p:blipFill>
        <p:spPr>
          <a:xfrm>
            <a:off x="6443640" y="2757600"/>
            <a:ext cx="2077920" cy="304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бабочка"/>
          <p:cNvPicPr/>
          <p:nvPr/>
        </p:nvPicPr>
        <p:blipFill>
          <a:blip r:embed="rId4"/>
          <a:stretch/>
        </p:blipFill>
        <p:spPr>
          <a:xfrm>
            <a:off x="2987640" y="2205000"/>
            <a:ext cx="2400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ннецветущие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у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ица лют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безымянный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763640" y="4581360"/>
            <a:ext cx="5145120" cy="213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XPO1713"/>
          <p:cNvPicPr/>
          <p:nvPr/>
        </p:nvPicPr>
        <p:blipFill>
          <a:blip r:embed="rId2"/>
          <a:stretch/>
        </p:blipFill>
        <p:spPr>
          <a:xfrm>
            <a:off x="4932360" y="1341360"/>
            <a:ext cx="38894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9:12:37Z</dcterms:created>
  <dc:creator>С12</dc:creator>
  <dc:description/>
  <dc:language>en-US</dc:language>
  <cp:lastModifiedBy>Коля</cp:lastModifiedBy>
  <dcterms:modified xsi:type="dcterms:W3CDTF">2013-03-16T17:03:35Z</dcterms:modified>
  <cp:revision>14</cp:revision>
  <dc:subject/>
  <dc:title>В гости к весне. Живая природа.</dc:title>
</cp:coreProperties>
</file>