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6FE-1063-49DB-B537-E011A091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578-6470-452C-B3A2-112331B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794-9B79-4630-B61A-AAD9AD77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7EC-1B24-4829-9BB2-7A0F39DF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615-F59D-4149-888E-FC339857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562-6C4B-4366-80E9-53CB37E0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563-3D17-4C19-96FA-B989D32A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6F7-38C7-4546-84BA-691FE6B3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D16-D866-4619-B6F2-2A1FB10A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B4B-76AE-40F2-9A85-DA2E34AA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1AB-91FE-420B-AA91-7DD41A36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22F-8E76-470B-A183-06534975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BBF9-59C0-45D4-8C92-55D578142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32000" y="1413000"/>
            <a:ext cx="64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: «Повышение квалификации различных категорий работников образования и формирование у них базовой педагогической ИКТ – компетентности» по программе: 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511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т март ростки зеленых тр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робей летит на теле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стучит он бойко: - Тук-тук-ту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телеграфирует на ю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ообщаю перелетным птиц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ора с чужбины возврат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ый ветер прилетел в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еке уже поплыли ль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га нет. Его ручьи умч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сиком ребята бегать 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ирени распустилась п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етайте! Вылетайте! Точ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. Станч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безымянный3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716360" y="3573360"/>
            <a:ext cx="4248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е вестники весны — грач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54-grach"/>
          <p:cNvPicPr/>
          <p:nvPr/>
        </p:nvPicPr>
        <p:blipFill>
          <a:blip r:embed="rId1"/>
          <a:stretch/>
        </p:blipFill>
        <p:spPr>
          <a:xfrm>
            <a:off x="611280" y="1989000"/>
            <a:ext cx="655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 период весны называют весной света? Какой - весной воды? Какие явления природы можно наблюдать весной? Когда начинают цвести первые деревья и травы? Почему так рано? Что происходит в жизни птиц и з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безымянный6"/>
          <p:cNvPicPr/>
          <p:nvPr/>
        </p:nvPicPr>
        <p:blipFill>
          <a:blip r:embed="rId1"/>
          <a:stretch/>
        </p:blipFill>
        <p:spPr>
          <a:xfrm>
            <a:off x="5046840" y="3716280"/>
            <a:ext cx="3773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77724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ринич Наталья Станислав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СОШ № 11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Искит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осибир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95280" y="1052640"/>
            <a:ext cx="77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637000"/>
            <a:ext cx="339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ебный предм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211640" y="2637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3520" y="3962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03640" y="40053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чащиеся 2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333360"/>
            <a:ext cx="83678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новополагающий вопрос: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акие изменения происходят в живой природе с приходом вес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ебная тема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Живая при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4941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900000" y="558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нтернет-ресурсы, печатные издания, мультимедийные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3132000" y="1484280"/>
            <a:ext cx="5185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В гости к весне</a:t>
            </a:r>
            <a:endParaRPr b="1" i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Живая природа</a:t>
            </a:r>
            <a:endParaRPr b="1" i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2" name="Picture 16" descr="EXPO0497"/>
          <p:cNvPicPr/>
          <p:nvPr/>
        </p:nvPicPr>
        <p:blipFill>
          <a:blip r:embed="rId5"/>
          <a:stretch/>
        </p:blipFill>
        <p:spPr>
          <a:xfrm>
            <a:off x="144360" y="14436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EXPO4392"/>
          <p:cNvPicPr/>
          <p:nvPr/>
        </p:nvPicPr>
        <p:blipFill>
          <a:blip r:embed="rId6"/>
          <a:stretch/>
        </p:blipFill>
        <p:spPr>
          <a:xfrm>
            <a:off x="5364000" y="4005360"/>
            <a:ext cx="3562560" cy="239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EXPO4393"/>
          <p:cNvPicPr/>
          <p:nvPr/>
        </p:nvPicPr>
        <p:blipFill>
          <a:blip r:embed="rId7"/>
          <a:stretch/>
        </p:blipFill>
        <p:spPr>
          <a:xfrm>
            <a:off x="611280" y="4005360"/>
            <a:ext cx="356220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 шла весна тайком от ветров и стуж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егодня – прямиком шлепает по луж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нит талые снега с гомоном и зво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выстелить луга бархатом зеле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коро, скоро быть теплу!» - эту новость пер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абанит по стеклу серой лапкой вер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 тысячи скворцов с домиком подруж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 множество птенцов выглянут нару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чи по небу пройдут, и тебе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адошку упадут капли дожде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безымянный11"/>
          <p:cNvPicPr/>
          <p:nvPr/>
        </p:nvPicPr>
        <p:blipFill>
          <a:blip r:embed="rId1"/>
          <a:stretch/>
        </p:blipFill>
        <p:spPr>
          <a:xfrm>
            <a:off x="4067280" y="4221000"/>
            <a:ext cx="422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М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22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этот период весны так называ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безымянный10"/>
          <p:cNvPicPr/>
          <p:nvPr/>
        </p:nvPicPr>
        <p:blipFill>
          <a:blip r:embed="rId1"/>
          <a:stretch/>
        </p:blipFill>
        <p:spPr>
          <a:xfrm>
            <a:off x="1547640" y="2781360"/>
            <a:ext cx="71406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a800"/>
                </a:solidFill>
                <a:latin typeface="Arial"/>
              </a:rPr>
              <a:t>Апрел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рель – это месяц весенних перво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чуток ветки сон сторожк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ом пригретые ед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ать дымок спешат сере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спеленута ли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безымянный4"/>
          <p:cNvPicPr/>
          <p:nvPr/>
        </p:nvPicPr>
        <p:blipFill>
          <a:blip r:embed="rId1"/>
          <a:stretch/>
        </p:blipFill>
        <p:spPr>
          <a:xfrm>
            <a:off x="5508720" y="4221000"/>
            <a:ext cx="336528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ff"/>
                </a:solidFill>
                <a:latin typeface="Arial"/>
              </a:rPr>
              <a:t>Насеком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шат гости на п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омар"/>
          <p:cNvPicPr/>
          <p:nvPr/>
        </p:nvPicPr>
        <p:blipFill>
          <a:blip r:embed="rId1"/>
          <a:stretch/>
        </p:blipFill>
        <p:spPr>
          <a:xfrm>
            <a:off x="2916360" y="4581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Шмель"/>
          <p:cNvPicPr/>
          <p:nvPr/>
        </p:nvPicPr>
        <p:blipFill>
          <a:blip r:embed="rId2"/>
          <a:stretch/>
        </p:blipFill>
        <p:spPr>
          <a:xfrm>
            <a:off x="179280" y="3284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жуженица"/>
          <p:cNvPicPr/>
          <p:nvPr/>
        </p:nvPicPr>
        <p:blipFill>
          <a:blip r:embed="rId3"/>
          <a:stretch/>
        </p:blipFill>
        <p:spPr>
          <a:xfrm>
            <a:off x="6443640" y="2757600"/>
            <a:ext cx="2077920" cy="3047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бабочка"/>
          <p:cNvPicPr/>
          <p:nvPr/>
        </p:nvPicPr>
        <p:blipFill>
          <a:blip r:embed="rId4"/>
          <a:stretch/>
        </p:blipFill>
        <p:spPr>
          <a:xfrm>
            <a:off x="2987640" y="2205000"/>
            <a:ext cx="24004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ннецветущие 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-и-мач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у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реница лют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безымянный1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763640" y="4581360"/>
            <a:ext cx="5145120" cy="213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XPO1713"/>
          <p:cNvPicPr/>
          <p:nvPr/>
        </p:nvPicPr>
        <p:blipFill>
          <a:blip r:embed="rId2"/>
          <a:stretch/>
        </p:blipFill>
        <p:spPr>
          <a:xfrm>
            <a:off x="4932360" y="1341360"/>
            <a:ext cx="38894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9:12:37Z</dcterms:created>
  <dc:creator>С12</dc:creator>
  <dc:description/>
  <dc:language>en-US</dc:language>
  <cp:lastModifiedBy>Коля</cp:lastModifiedBy>
  <dcterms:modified xsi:type="dcterms:W3CDTF">2013-03-16T17:03:35Z</dcterms:modified>
  <cp:revision>14</cp:revision>
  <dc:subject/>
  <dc:title>В гости к весне. Живая природа.</dc:title>
</cp:coreProperties>
</file>