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B1D75-6941-4078-9C40-FD48817F9FA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92E29-543E-4102-98C3-CAF5326DC1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763D-D7E1-4141-9ACF-B11975945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7493-1927-427A-AD29-3F8678BF0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9FB0-72B7-49D2-9A07-71EB78C14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F678-8D9A-498C-B5B1-B58AEE37A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64DD-451A-476A-9D71-C215BD307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5C8C-6102-453F-90CF-47269DD15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91BC-F457-4C26-9E5D-31F4C6462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A5E7-7B9A-4C66-8DCE-B373347B4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EB44-158C-4959-B725-2104B4486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51B0-1934-4D83-8654-50DEE29E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8002-2F61-4781-B745-1C06C5ADD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7F19-C63C-452A-AB29-796DDA46C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FC640-E41E-4342-8F1D-8B1D0A817CD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3D14F-5FC0-4D9D-912F-2359FB97E2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7724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Calibri"/>
              </a:rPr>
              <a:t>Здравствуй, 3000 урок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1071720" y="5357880"/>
            <a:ext cx="728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Calibri"/>
              </a:rPr>
              <a:t>Урок-восхожд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500120" y="-8929800"/>
            <a:ext cx="4286160" cy="7753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2"/>
          <a:srcRect l="0" t="0" r="13176" b="0"/>
          <a:stretch/>
        </p:blipFill>
        <p:spPr>
          <a:xfrm>
            <a:off x="2857680" y="1071720"/>
            <a:ext cx="2857320" cy="4316400"/>
          </a:xfrm>
          <a:prstGeom prst="rect">
            <a:avLst/>
          </a:prstGeom>
          <a:ln w="0">
            <a:noFill/>
          </a:ln>
        </p:spPr>
      </p:pic>
      <p:sp>
        <p:nvSpPr>
          <p:cNvPr id="52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2DDD9-92A8-4093-BC35-D7D712BCC7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5715000" y="1571760"/>
            <a:ext cx="307188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8"/>
          <p:cNvSpPr/>
          <p:nvPr/>
        </p:nvSpPr>
        <p:spPr>
          <a:xfrm>
            <a:off x="5715000" y="2428920"/>
            <a:ext cx="307188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9"/>
          <p:cNvSpPr/>
          <p:nvPr/>
        </p:nvSpPr>
        <p:spPr>
          <a:xfrm>
            <a:off x="5715000" y="3214800"/>
            <a:ext cx="307188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0"/>
          <p:cNvSpPr/>
          <p:nvPr/>
        </p:nvSpPr>
        <p:spPr>
          <a:xfrm>
            <a:off x="5715000" y="3929040"/>
            <a:ext cx="34290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>
            <a:alpha val="7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3BFAF-3DAE-4A51-B00D-05C6C2B1C0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Овал 2"/>
          <p:cNvSpPr/>
          <p:nvPr/>
        </p:nvSpPr>
        <p:spPr>
          <a:xfrm>
            <a:off x="785880" y="285840"/>
            <a:ext cx="7858080" cy="1785960"/>
          </a:xfrm>
          <a:prstGeom prst="ellipse">
            <a:avLst/>
          </a:prstGeom>
          <a:solidFill>
            <a:srgbClr val="f6fc1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1214280" y="785880"/>
            <a:ext cx="70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дведем итоги 3000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Блок-схема: альтернативный процесс 4"/>
          <p:cNvSpPr/>
          <p:nvPr/>
        </p:nvSpPr>
        <p:spPr>
          <a:xfrm>
            <a:off x="642960" y="2286000"/>
            <a:ext cx="8072280" cy="4286160"/>
          </a:xfrm>
          <a:prstGeom prst="flowChartAlternateProcess">
            <a:avLst/>
          </a:prstGeom>
          <a:solidFill>
            <a:srgbClr val="2cfc1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5"/>
          <p:cNvSpPr/>
          <p:nvPr/>
        </p:nvSpPr>
        <p:spPr>
          <a:xfrm>
            <a:off x="714240" y="2571840"/>
            <a:ext cx="7929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я понял (а)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я чувствовал (а)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но ли раскрыли т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или задач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е новые задачи поставит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нравился ли урок? Чтобы я изменил (а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0ac2">
            <a:alpha val="8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275DC-425F-4834-A770-406729126E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Рамка 2"/>
          <p:cNvSpPr/>
          <p:nvPr/>
        </p:nvSpPr>
        <p:spPr>
          <a:xfrm>
            <a:off x="428760" y="500040"/>
            <a:ext cx="8286480" cy="5857920"/>
          </a:xfrm>
          <a:custGeom>
            <a:avLst/>
            <a:gdLst/>
            <a:ahLst/>
            <a:rect l="l" t="t" r="r" b="b"/>
            <a:pathLst>
              <a:path w="8286750" h="5857875">
                <a:moveTo>
                  <a:pt x="0" y="0"/>
                </a:moveTo>
                <a:lnTo>
                  <a:pt x="8286750" y="0"/>
                </a:lnTo>
                <a:lnTo>
                  <a:pt x="8286750" y="5857875"/>
                </a:lnTo>
                <a:lnTo>
                  <a:pt x="0" y="5857875"/>
                </a:lnTo>
                <a:lnTo>
                  <a:pt x="0" y="0"/>
                </a:lnTo>
                <a:close/>
                <a:moveTo>
                  <a:pt x="732234" y="732234"/>
                </a:moveTo>
                <a:lnTo>
                  <a:pt x="732234" y="5125641"/>
                </a:lnTo>
                <a:lnTo>
                  <a:pt x="7554516" y="5125641"/>
                </a:lnTo>
                <a:lnTo>
                  <a:pt x="7554516" y="732234"/>
                </a:lnTo>
                <a:lnTo>
                  <a:pt x="732234" y="732234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3"/>
          <p:cNvSpPr/>
          <p:nvPr/>
        </p:nvSpPr>
        <p:spPr>
          <a:xfrm>
            <a:off x="1214280" y="2214720"/>
            <a:ext cx="664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33"/>
                </a:solidFill>
                <a:latin typeface="Arial"/>
              </a:rPr>
              <a:t>До свидания, 3000 урок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4B0E7-5FA4-4B3C-B880-E6DC8740DA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rcRect l="0" t="0" r="13176" b="0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59" name="Скругленный прямоугольник 3"/>
          <p:cNvSpPr/>
          <p:nvPr/>
        </p:nvSpPr>
        <p:spPr>
          <a:xfrm>
            <a:off x="357120" y="357120"/>
            <a:ext cx="5286600" cy="100008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857160" y="500040"/>
            <a:ext cx="471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ЛАН 3000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Блок-схема: перфолента 5"/>
          <p:cNvSpPr/>
          <p:nvPr/>
        </p:nvSpPr>
        <p:spPr>
          <a:xfrm>
            <a:off x="214200" y="1357200"/>
            <a:ext cx="5214960" cy="5072040"/>
          </a:xfrm>
          <a:prstGeom prst="flowChartPunchedTape">
            <a:avLst/>
          </a:prstGeom>
          <a:solidFill>
            <a:srgbClr val="00b05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6"/>
          <p:cNvSpPr/>
          <p:nvPr/>
        </p:nvSpPr>
        <p:spPr>
          <a:xfrm>
            <a:off x="428760" y="2357280"/>
            <a:ext cx="4786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Введение. Настрой на ур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О чем будем говори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Сюрприз учи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Наши размыш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Разыгрывание сцен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Итог 3000 ур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Поздрав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.Праздничное чаепит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>
            <a:alpha val="8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с одним вырезанным скругленным углом 9"/>
          <p:cNvSpPr/>
          <p:nvPr/>
        </p:nvSpPr>
        <p:spPr>
          <a:xfrm>
            <a:off x="2143080" y="1214280"/>
            <a:ext cx="4929120" cy="5500800"/>
          </a:xfrm>
          <a:custGeom>
            <a:avLst/>
            <a:gdLst/>
            <a:ahLst/>
            <a:rect l="l" t="t" r="r" b="b"/>
            <a:pathLst>
              <a:path w="4929188" h="5500687">
                <a:moveTo>
                  <a:pt x="821548" y="0"/>
                </a:moveTo>
                <a:lnTo>
                  <a:pt x="4107640" y="0"/>
                </a:lnTo>
                <a:lnTo>
                  <a:pt x="4929188" y="821548"/>
                </a:lnTo>
                <a:lnTo>
                  <a:pt x="4929188" y="5500687"/>
                </a:lnTo>
                <a:lnTo>
                  <a:pt x="0" y="5500687"/>
                </a:lnTo>
                <a:lnTo>
                  <a:pt x="0" y="821548"/>
                </a:lnTo>
                <a:cubicBezTo>
                  <a:pt x="0" y="367820"/>
                  <a:pt x="367820" y="0"/>
                  <a:pt x="821548" y="0"/>
                </a:cubicBezTo>
                <a:close/>
              </a:path>
            </a:pathLst>
          </a:custGeom>
          <a:solidFill>
            <a:srgbClr val="92d050"/>
          </a:solidFill>
          <a:ln w="2556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6C9E9-A19A-4AA7-B800-78A846C7E8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кругленный прямоугольник 3"/>
          <p:cNvSpPr/>
          <p:nvPr/>
        </p:nvSpPr>
        <p:spPr>
          <a:xfrm>
            <a:off x="571680" y="142920"/>
            <a:ext cx="7786440" cy="1000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7"/>
          <p:cNvSpPr/>
          <p:nvPr/>
        </p:nvSpPr>
        <p:spPr>
          <a:xfrm>
            <a:off x="642960" y="357120"/>
            <a:ext cx="764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начение Слова в жизни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"/>
          <p:cNvSpPr/>
          <p:nvPr/>
        </p:nvSpPr>
        <p:spPr>
          <a:xfrm>
            <a:off x="2500200" y="1249560"/>
            <a:ext cx="46436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оный день, когда над миром новым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Бог склонял лицо свое, тогда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лнце останавливали словом,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ловом разрушали города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орел не взмахивал крылами,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везды жались в ужасе к луне,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Если, точно розовое пламя,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лово проплывало в выши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 забыли мы, что осиянно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Только слово средь земных тревог,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в Евангелии от Иоанна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казано, что Слово это - Бо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>
            <a:alpha val="9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F03B1-2C5F-4198-803B-3E959405FB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36360" y="44280"/>
            <a:ext cx="129564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  Ы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Е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Ц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5"/>
          <p:cNvSpPr/>
          <p:nvPr/>
        </p:nvSpPr>
        <p:spPr>
          <a:xfrm>
            <a:off x="36360" y="44280"/>
            <a:ext cx="0" cy="345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6"/>
          <p:cNvSpPr/>
          <p:nvPr/>
        </p:nvSpPr>
        <p:spPr>
          <a:xfrm>
            <a:off x="612720" y="62064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7"/>
          <p:cNvSpPr/>
          <p:nvPr/>
        </p:nvSpPr>
        <p:spPr>
          <a:xfrm>
            <a:off x="36360" y="442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8"/>
          <p:cNvSpPr/>
          <p:nvPr/>
        </p:nvSpPr>
        <p:spPr>
          <a:xfrm>
            <a:off x="612720" y="62064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9"/>
          <p:cNvSpPr/>
          <p:nvPr/>
        </p:nvSpPr>
        <p:spPr>
          <a:xfrm>
            <a:off x="1332000" y="4428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0"/>
          <p:cNvSpPr/>
          <p:nvPr/>
        </p:nvSpPr>
        <p:spPr>
          <a:xfrm>
            <a:off x="4932360" y="3429000"/>
            <a:ext cx="20178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ристо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1"/>
          <p:cNvSpPr/>
          <p:nvPr/>
        </p:nvSpPr>
        <p:spPr>
          <a:xfrm>
            <a:off x="36360" y="3500280"/>
            <a:ext cx="5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2" descr="sokrat_1"/>
          <p:cNvPicPr/>
          <p:nvPr/>
        </p:nvPicPr>
        <p:blipFill>
          <a:blip r:embed="rId1"/>
          <a:stretch/>
        </p:blipFill>
        <p:spPr>
          <a:xfrm>
            <a:off x="684360" y="692280"/>
            <a:ext cx="2052360" cy="279864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3"/>
          <p:cNvSpPr/>
          <p:nvPr/>
        </p:nvSpPr>
        <p:spPr>
          <a:xfrm>
            <a:off x="828720" y="3430440"/>
            <a:ext cx="1366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кр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4" descr="platon_2"/>
          <p:cNvPicPr/>
          <p:nvPr/>
        </p:nvPicPr>
        <p:blipFill>
          <a:blip r:embed="rId2"/>
          <a:stretch/>
        </p:blipFill>
        <p:spPr>
          <a:xfrm>
            <a:off x="2808360" y="692280"/>
            <a:ext cx="2017800" cy="28098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5"/>
          <p:cNvSpPr/>
          <p:nvPr/>
        </p:nvSpPr>
        <p:spPr>
          <a:xfrm>
            <a:off x="3132000" y="3429000"/>
            <a:ext cx="136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ла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8" descr="aristotel_2"/>
          <p:cNvPicPr/>
          <p:nvPr/>
        </p:nvPicPr>
        <p:blipFill>
          <a:blip r:embed="rId3"/>
          <a:stretch/>
        </p:blipFill>
        <p:spPr>
          <a:xfrm>
            <a:off x="4896000" y="692280"/>
            <a:ext cx="2004840" cy="2809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9" descr="konfucii_3"/>
          <p:cNvPicPr/>
          <p:nvPr/>
        </p:nvPicPr>
        <p:blipFill>
          <a:blip r:embed="rId4"/>
          <a:stretch/>
        </p:blipFill>
        <p:spPr>
          <a:xfrm>
            <a:off x="6948360" y="692280"/>
            <a:ext cx="2109960" cy="28098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0"/>
          <p:cNvSpPr/>
          <p:nvPr/>
        </p:nvSpPr>
        <p:spPr>
          <a:xfrm>
            <a:off x="7164360" y="3429000"/>
            <a:ext cx="1800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нфу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1" descr="esop_1"/>
          <p:cNvPicPr/>
          <p:nvPr/>
        </p:nvPicPr>
        <p:blipFill>
          <a:blip r:embed="rId5"/>
          <a:stretch/>
        </p:blipFill>
        <p:spPr>
          <a:xfrm>
            <a:off x="671400" y="3860640"/>
            <a:ext cx="1992600" cy="26640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22"/>
          <p:cNvSpPr/>
          <p:nvPr/>
        </p:nvSpPr>
        <p:spPr>
          <a:xfrm>
            <a:off x="1214280" y="6429240"/>
            <a:ext cx="10004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зо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3" descr="pifagor_1"/>
          <p:cNvPicPr/>
          <p:nvPr/>
        </p:nvPicPr>
        <p:blipFill>
          <a:blip r:embed="rId6"/>
          <a:stretch/>
        </p:blipFill>
        <p:spPr>
          <a:xfrm>
            <a:off x="3000240" y="3857760"/>
            <a:ext cx="1998720" cy="266364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4"/>
          <p:cNvSpPr/>
          <p:nvPr/>
        </p:nvSpPr>
        <p:spPr>
          <a:xfrm>
            <a:off x="3357720" y="6426360"/>
            <a:ext cx="1657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ифаг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6429240" y="6429240"/>
            <a:ext cx="1298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иог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4" descr=""/>
          <p:cNvPicPr/>
          <p:nvPr/>
        </p:nvPicPr>
        <p:blipFill>
          <a:blip r:embed="rId7"/>
          <a:stretch/>
        </p:blipFill>
        <p:spPr>
          <a:xfrm>
            <a:off x="5286240" y="3857760"/>
            <a:ext cx="3714840" cy="27162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с одним вырезанным скругленным углом 9"/>
          <p:cNvSpPr/>
          <p:nvPr/>
        </p:nvSpPr>
        <p:spPr>
          <a:xfrm>
            <a:off x="0" y="1214280"/>
            <a:ext cx="9144000" cy="5357880"/>
          </a:xfrm>
          <a:custGeom>
            <a:avLst/>
            <a:gdLst/>
            <a:ahLst/>
            <a:rect l="l" t="t" r="r" b="b"/>
            <a:pathLst>
              <a:path w="9144000" h="5357812">
                <a:moveTo>
                  <a:pt x="892987" y="0"/>
                </a:moveTo>
                <a:lnTo>
                  <a:pt x="8251013" y="0"/>
                </a:lnTo>
                <a:lnTo>
                  <a:pt x="9144000" y="892987"/>
                </a:lnTo>
                <a:lnTo>
                  <a:pt x="9144000" y="5357812"/>
                </a:lnTo>
                <a:lnTo>
                  <a:pt x="0" y="5357812"/>
                </a:lnTo>
                <a:lnTo>
                  <a:pt x="0" y="892987"/>
                </a:lnTo>
                <a:cubicBezTo>
                  <a:pt x="0" y="399804"/>
                  <a:pt x="399804" y="0"/>
                  <a:pt x="892987" y="0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e46c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D9682-5160-4436-BC8F-B84CD739FA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кругленный прямоугольник 3"/>
          <p:cNvSpPr/>
          <p:nvPr/>
        </p:nvSpPr>
        <p:spPr>
          <a:xfrm>
            <a:off x="571680" y="142920"/>
            <a:ext cx="7786440" cy="10000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de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642960" y="357120"/>
            <a:ext cx="764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начение Слова в жизни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"/>
          <p:cNvSpPr/>
          <p:nvPr/>
        </p:nvSpPr>
        <p:spPr>
          <a:xfrm>
            <a:off x="214200" y="1377720"/>
            <a:ext cx="8643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Слова тяжелы как камни, они способ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Слово горы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Пустая бочка пуще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Словом можно убить, словом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говори, чтобы я тебя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 то, что входит, оскверняет уста, а то,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Скругленный прямоугольник 8"/>
          <p:cNvSpPr/>
          <p:nvPr/>
        </p:nvSpPr>
        <p:spPr>
          <a:xfrm>
            <a:off x="428760" y="2000160"/>
            <a:ext cx="8215200" cy="50004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Скругленный прямоугольник 10"/>
          <p:cNvSpPr/>
          <p:nvPr/>
        </p:nvSpPr>
        <p:spPr>
          <a:xfrm>
            <a:off x="2857680" y="2643120"/>
            <a:ext cx="5786280" cy="42876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Скругленный прямоугольник 11"/>
          <p:cNvSpPr/>
          <p:nvPr/>
        </p:nvSpPr>
        <p:spPr>
          <a:xfrm>
            <a:off x="4357800" y="3214800"/>
            <a:ext cx="4286160" cy="42840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кругленный прямоугольник 12"/>
          <p:cNvSpPr/>
          <p:nvPr/>
        </p:nvSpPr>
        <p:spPr>
          <a:xfrm>
            <a:off x="6357960" y="3786120"/>
            <a:ext cx="2286000" cy="42876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кругленный прямоугольник 13"/>
          <p:cNvSpPr/>
          <p:nvPr/>
        </p:nvSpPr>
        <p:spPr>
          <a:xfrm>
            <a:off x="5143680" y="4357800"/>
            <a:ext cx="3500280" cy="42840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кругленный прямоугольник 14"/>
          <p:cNvSpPr/>
          <p:nvPr/>
        </p:nvSpPr>
        <p:spPr>
          <a:xfrm>
            <a:off x="357120" y="5429160"/>
            <a:ext cx="8286840" cy="42876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6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D789B-7686-49AA-867C-B97B57A294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3"/>
          <p:cNvSpPr/>
          <p:nvPr/>
        </p:nvSpPr>
        <p:spPr>
          <a:xfrm>
            <a:off x="571680" y="142920"/>
            <a:ext cx="7786440" cy="10000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fde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7"/>
          <p:cNvSpPr/>
          <p:nvPr/>
        </p:nvSpPr>
        <p:spPr>
          <a:xfrm>
            <a:off x="642960" y="357120"/>
            <a:ext cx="764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Значение Слова в жизни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емиугольник 17"/>
          <p:cNvSpPr/>
          <p:nvPr/>
        </p:nvSpPr>
        <p:spPr>
          <a:xfrm>
            <a:off x="1571760" y="1357200"/>
            <a:ext cx="5500440" cy="4429080"/>
          </a:xfrm>
          <a:custGeom>
            <a:avLst/>
            <a:gdLst/>
            <a:ahLst/>
            <a:rect l="l" t="t" r="r" b="b"/>
            <a:pathLst>
              <a:path w="5500688" h="4429125">
                <a:moveTo>
                  <a:pt x="-14" y="2848400"/>
                </a:moveTo>
                <a:lnTo>
                  <a:pt x="544737" y="877246"/>
                </a:lnTo>
                <a:lnTo>
                  <a:pt x="2750344" y="0"/>
                </a:lnTo>
                <a:lnTo>
                  <a:pt x="4955951" y="877246"/>
                </a:lnTo>
                <a:lnTo>
                  <a:pt x="5500702" y="2848400"/>
                </a:lnTo>
                <a:lnTo>
                  <a:pt x="3974355" y="4429148"/>
                </a:lnTo>
                <a:lnTo>
                  <a:pt x="1526333" y="4429148"/>
                </a:lnTo>
                <a:lnTo>
                  <a:pt x="-14" y="2848400"/>
                </a:lnTo>
                <a:close/>
              </a:path>
            </a:pathLst>
          </a:custGeom>
          <a:solidFill>
            <a:srgbClr val="ff3300"/>
          </a:solidFill>
          <a:ln w="255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8"/>
          <p:cNvSpPr/>
          <p:nvPr/>
        </p:nvSpPr>
        <p:spPr>
          <a:xfrm>
            <a:off x="2928960" y="2000160"/>
            <a:ext cx="29289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000099"/>
                </a:solidFill>
                <a:latin typeface="Arial"/>
              </a:rPr>
              <a:t>7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70E1D-3305-4725-8E53-6FE5406F6B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C:\Users\User\Desktop\радуга чб.jpg"/>
          <p:cNvPicPr/>
          <p:nvPr/>
        </p:nvPicPr>
        <p:blipFill>
          <a:blip r:embed="rId1"/>
          <a:stretch/>
        </p:blipFill>
        <p:spPr>
          <a:xfrm>
            <a:off x="-6480" y="1133640"/>
            <a:ext cx="9156960" cy="5730840"/>
          </a:xfrm>
          <a:prstGeom prst="rect">
            <a:avLst/>
          </a:prstGeom>
          <a:ln w="0">
            <a:noFill/>
          </a:ln>
        </p:spPr>
      </p:pic>
      <p:pic>
        <p:nvPicPr>
          <p:cNvPr id="108" name="Прямоугольник 4" descr=""/>
          <p:cNvPicPr/>
          <p:nvPr/>
        </p:nvPicPr>
        <p:blipFill>
          <a:blip r:embed="rId2"/>
          <a:stretch/>
        </p:blipFill>
        <p:spPr>
          <a:xfrm>
            <a:off x="212760" y="103320"/>
            <a:ext cx="8931240" cy="1158840"/>
          </a:xfrm>
          <a:prstGeom prst="rect">
            <a:avLst/>
          </a:prstGeom>
          <a:ln w="0">
            <a:noFill/>
          </a:ln>
        </p:spPr>
      </p:pic>
      <p:sp>
        <p:nvSpPr>
          <p:cNvPr id="109" name="WordArt 4"/>
          <p:cNvSpPr txBox="1"/>
          <p:nvPr/>
        </p:nvSpPr>
        <p:spPr>
          <a:xfrm>
            <a:off x="1571760" y="2214720"/>
            <a:ext cx="6143400" cy="5000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1083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cc"/>
                </a:solidFill>
                <a:latin typeface="Arial Black"/>
              </a:rPr>
              <a:t>СВЯТОЕ СЛОВО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9900cc"/>
              </a:solidFill>
              <a:latin typeface="Arial Black"/>
              <a:ea typeface="Arial Black"/>
            </a:endParaRPr>
          </a:p>
        </p:txBody>
      </p:sp>
      <p:sp>
        <p:nvSpPr>
          <p:cNvPr id="110" name="WordArt 4"/>
          <p:cNvSpPr txBox="1"/>
          <p:nvPr/>
        </p:nvSpPr>
        <p:spPr>
          <a:xfrm>
            <a:off x="2143080" y="2857680"/>
            <a:ext cx="5072040" cy="571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5766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 Black"/>
              </a:rPr>
              <a:t>ВЕЩЕЕ СЛОВО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 Black"/>
              <a:ea typeface="Arial Black"/>
            </a:endParaRPr>
          </a:p>
        </p:txBody>
      </p:sp>
      <p:sp>
        <p:nvSpPr>
          <p:cNvPr id="111" name="WordArt 4"/>
          <p:cNvSpPr txBox="1"/>
          <p:nvPr/>
        </p:nvSpPr>
        <p:spPr>
          <a:xfrm>
            <a:off x="1643040" y="3500280"/>
            <a:ext cx="5857920" cy="571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86704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КРАСНОЕ СЛОВО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12" name="WordArt 4"/>
          <p:cNvSpPr txBox="1"/>
          <p:nvPr/>
        </p:nvSpPr>
        <p:spPr>
          <a:xfrm>
            <a:off x="1928880" y="4071960"/>
            <a:ext cx="5357880" cy="571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3859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ЗОЛОТОЕ СЛОВО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13" name="WordArt 4"/>
          <p:cNvSpPr txBox="1"/>
          <p:nvPr/>
        </p:nvSpPr>
        <p:spPr>
          <a:xfrm>
            <a:off x="2143080" y="4714920"/>
            <a:ext cx="4857840" cy="571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7494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46c0a"/>
                </a:solidFill>
                <a:latin typeface="Arial Black"/>
              </a:rPr>
              <a:t>ТЁПЛОЕ СЛОВО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e46c0a"/>
              </a:solidFill>
              <a:latin typeface="Arial Black"/>
              <a:ea typeface="Arial Black"/>
            </a:endParaRPr>
          </a:p>
        </p:txBody>
      </p:sp>
      <p:sp>
        <p:nvSpPr>
          <p:cNvPr id="114" name="WordArt 4"/>
          <p:cNvSpPr txBox="1"/>
          <p:nvPr/>
        </p:nvSpPr>
        <p:spPr>
          <a:xfrm>
            <a:off x="2071800" y="5286240"/>
            <a:ext cx="5000400" cy="857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82290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ПРАЗДНОЕ (ПУСТОЕ) СЛОВО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15" name="WordArt 4"/>
          <p:cNvSpPr txBox="1"/>
          <p:nvPr/>
        </p:nvSpPr>
        <p:spPr>
          <a:xfrm>
            <a:off x="2428920" y="5786280"/>
            <a:ext cx="4429080" cy="928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7260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ЧЁРНОЕ СЛОВО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ransition>
    <p:strips dir="rd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FD88E-94B5-4487-8825-50D4E313BF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285920" y="1500120"/>
          <a:ext cx="6786360" cy="4416480"/>
        </p:xfrm>
        <a:graphic>
          <a:graphicData uri="http://schemas.openxmlformats.org/drawingml/2006/table">
            <a:tbl>
              <a:tblPr/>
              <a:tblGrid>
                <a:gridCol w="2698560"/>
                <a:gridCol w="4087800"/>
              </a:tblGrid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е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ле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ко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аб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9104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вал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па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л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уто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лю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  <p:sp>
        <p:nvSpPr>
          <p:cNvPr id="118" name="TextBox 3"/>
          <p:cNvSpPr/>
          <p:nvPr/>
        </p:nvSpPr>
        <p:spPr>
          <a:xfrm>
            <a:off x="857160" y="214200"/>
            <a:ext cx="764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Значение Слова в жизни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>
            <a:alpha val="5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1419B-4DA9-4431-956A-5FE570FA9B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"/>
          <p:cNvSpPr/>
          <p:nvPr/>
        </p:nvSpPr>
        <p:spPr>
          <a:xfrm>
            <a:off x="0" y="32760"/>
            <a:ext cx="91440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- Здравствуй, Миша. Как ты вырос и возмужал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-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- Ты уже не Миша, а настоящий Михаил Егорович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-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-Как твои родители, здоровы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-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- Я слышал, мама твоя лежала в больнице. Как она сейчас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-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- А как твои дела в школе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-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- Уже в четвертом классе? Ого! Трудно, наверное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-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- Слышал, по математике не успеваешь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-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- Недавно я видел тебя на спектакле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«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Ее друзья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»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.  Каково твое впечатление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-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- Чудно разговариваешь, молодой человек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-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-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…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4T19:09:38Z</dcterms:created>
  <dc:creator>XTreme</dc:creator>
  <dc:description/>
  <dc:language>en-US</dc:language>
  <cp:lastModifiedBy>Пользователь</cp:lastModifiedBy>
  <dcterms:modified xsi:type="dcterms:W3CDTF">2013-10-10T05:44:56Z</dcterms:modified>
  <cp:revision>33</cp:revision>
  <dc:subject/>
  <dc:title>Здравствуй, 2000 урок!</dc:title>
</cp:coreProperties>
</file>