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51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28.png" ContentType="image/png"/>
  <Override PartName="/ppt/media/image37.jpeg" ContentType="image/jpeg"/>
  <Override PartName="/ppt/media/image36.jpeg" ContentType="image/jpeg"/>
  <Override PartName="/ppt/media/image35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20.jpeg" ContentType="image/jpeg"/>
  <Override PartName="/ppt/media/image2.wmf" ContentType="image/x-wmf"/>
  <Override PartName="/ppt/media/image24.jpeg" ContentType="image/jpeg"/>
  <Override PartName="/ppt/media/image83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62.jpeg" ContentType="image/jpeg"/>
  <Override PartName="/ppt/media/image79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22.jpeg" ContentType="image/jpeg"/>
  <Override PartName="/ppt/media/image81.jpeg" ContentType="image/jpeg"/>
  <Override PartName="/ppt/media/image7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76.png" ContentType="image/png"/>
  <Override PartName="/ppt/media/image66.jpeg" ContentType="image/jpeg"/>
  <Override PartName="/ppt/media/image9.jpeg" ContentType="image/jpeg"/>
  <Override PartName="/ppt/media/image70.jpeg" ContentType="image/jpeg"/>
  <Override PartName="/ppt/media/image65.jpeg" ContentType="image/jpeg"/>
  <Override PartName="/ppt/media/image8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3.jpeg" ContentType="image/jpeg"/>
  <Override PartName="/ppt/media/image17.jpeg" ContentType="image/jpeg"/>
  <Override PartName="/ppt/media/image3.png" ContentType="image/png"/>
  <Override PartName="/ppt/media/image56.jpeg" ContentType="image/jpeg"/>
  <Override PartName="/ppt/media/image25.jpeg" ContentType="image/jpeg"/>
  <Override PartName="/ppt/media/image26.jpeg" ContentType="image/jpeg"/>
  <Override PartName="/ppt/media/image50.jpeg" ContentType="image/jpeg"/>
  <Override PartName="/ppt/media/image12.jpeg" ContentType="image/jpeg"/>
  <Override PartName="/ppt/media/image29.jpeg" ContentType="image/jpeg"/>
  <Override PartName="/ppt/media/image1.png" ContentType="image/png"/>
  <Override PartName="/ppt/media/image52.jpeg" ContentType="image/jpeg"/>
  <Override PartName="/ppt/media/image27.jpeg" ContentType="image/jpeg"/>
  <Override PartName="/ppt/media/image10.jpeg" ContentType="image/jpeg"/>
  <Override PartName="/ppt/media/image39.jpeg" ContentType="image/jpeg"/>
  <Override PartName="/ppt/media/image82.png" ContentType="image/png"/>
  <Override PartName="/ppt/media/image13.jpeg" ContentType="image/jpeg"/>
  <Override PartName="/ppt/media/image40.jpeg" ContentType="image/jpe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55C8-7996-4312-B8B9-4B13C7362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65E3-5BA4-4C0C-86C0-01DA2B1F7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88FE-559A-4BD4-93D0-25B3135A0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08A5-CE89-451E-A34E-96B72B0A9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0D8CE-1D48-4D48-A0BF-050240657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F1574-0807-403E-BCFF-59B4A6E6C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74A7D-BA77-43A3-A148-81D1B42D5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CA403-1D9E-4DEF-AA2B-720252860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0768E-2308-430F-B681-71FDBE946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8912B-2BEC-4558-84A1-11120F067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2F3FC-07DD-4FF0-9B25-0EDDC77C8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B284-2683-4FB2-A0A3-1282AD45F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1EC8F-1883-44AF-9A71-E3C3D55A1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DAD75-6D60-482E-8185-3677E922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56B0D-DC44-4C3A-A123-22F62FC58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E5BBC-65E2-44F9-820D-79C6D2861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398E4-B1C0-4633-B3DE-C531484F6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995F-B8CF-4313-88B6-EBE48A95A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F390-E66C-4AFF-B557-08E8A74D6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62BF-3A70-40C5-8E48-F1092A3F3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E9D2-DE81-4E11-876F-4AC6481DB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F93F-0DDD-48BC-A33F-2485047FB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76E3-8B7D-4C92-B5E7-48F96C62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ACB4-0149-4EFD-9981-E42834312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8DD63-7BC4-4740-8FB9-DF38521DBA2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86342-614B-491A-A666-F4248408834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slideLayout" Target="../slideLayouts/slideLayout1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4.jpeg"/><Relationship Id="rId3" Type="http://schemas.openxmlformats.org/officeDocument/2006/relationships/image" Target="../media/image53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image" Target="../media/image67.jpeg"/><Relationship Id="rId5" Type="http://schemas.openxmlformats.org/officeDocument/2006/relationships/image" Target="../media/image68.jpeg"/><Relationship Id="rId6" Type="http://schemas.openxmlformats.org/officeDocument/2006/relationships/image" Target="../media/image69.jpeg"/><Relationship Id="rId7" Type="http://schemas.openxmlformats.org/officeDocument/2006/relationships/image" Target="../media/image70.jpeg"/><Relationship Id="rId8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jpeg"/><Relationship Id="rId3" Type="http://schemas.openxmlformats.org/officeDocument/2006/relationships/image" Target="../media/image73.jpeg"/><Relationship Id="rId4" Type="http://schemas.openxmlformats.org/officeDocument/2006/relationships/image" Target="../media/image74.jpeg"/><Relationship Id="rId5" Type="http://schemas.openxmlformats.org/officeDocument/2006/relationships/image" Target="../media/image75.jpeg"/><Relationship Id="rId6" Type="http://schemas.openxmlformats.org/officeDocument/2006/relationships/slideLayout" Target="../slideLayouts/slideLayout1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jpeg"/><Relationship Id="rId3" Type="http://schemas.openxmlformats.org/officeDocument/2006/relationships/image" Target="../media/image78.jpeg"/><Relationship Id="rId4" Type="http://schemas.openxmlformats.org/officeDocument/2006/relationships/image" Target="../media/image79.jpeg"/><Relationship Id="rId5" Type="http://schemas.openxmlformats.org/officeDocument/2006/relationships/image" Target="../media/image80.jpeg"/><Relationship Id="rId6" Type="http://schemas.openxmlformats.org/officeDocument/2006/relationships/image" Target="../media/image81.jpeg"/><Relationship Id="rId7" Type="http://schemas.openxmlformats.org/officeDocument/2006/relationships/slideLayout" Target="../slideLayouts/slideLayout1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6480" y="549000"/>
            <a:ext cx="8147160" cy="55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ткрытый урок 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о предмету «Окружающий мир»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4 б класс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9 декабря 2009 года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"/>
              </a:rPr>
              <a:t>Это именно то место, которое я искал!</a:t>
            </a:r>
            <a:br>
              <a:rPr sz="3600"/>
            </a:br>
            <a:r>
              <a:rPr b="1" lang="en-US" sz="3600" spc="-1" strike="noStrike">
                <a:solidFill>
                  <a:srgbClr val="ffffb7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Это Башкортостан!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3149640" cy="23623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495680" y="1752480"/>
            <a:ext cx="3303720" cy="24782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-152280" y="4267080"/>
            <a:ext cx="4725720" cy="30924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5105520" y="426708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"/>
              </a:rPr>
              <a:t>Башкортостан— край нефти и газа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792440" y="1905120"/>
            <a:ext cx="2019240" cy="20192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914400" y="4191120"/>
            <a:ext cx="3200400" cy="24192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4800600" y="1981080"/>
            <a:ext cx="41562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"/>
              </a:rPr>
              <a:t>в республике свыше 600 рек, более 1000 озер, 3 водохранилища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2887560" cy="20192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562720" y="1523880"/>
            <a:ext cx="2619360" cy="20196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5029200" y="4343400"/>
            <a:ext cx="3595680" cy="20192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5715000" y="6334200"/>
            <a:ext cx="2552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ека Бел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447920" y="4343400"/>
            <a:ext cx="2692440" cy="20192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447920" y="6334200"/>
            <a:ext cx="2466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ека Зили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562720" y="3657600"/>
            <a:ext cx="2971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ека Сакма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990720" y="3581280"/>
            <a:ext cx="29527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зеро Банно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"/>
              </a:rPr>
              <a:t>В башкирских реках и озёрах насчитывается около </a:t>
            </a:r>
            <a:r>
              <a:rPr b="1" lang="en-US" sz="3600" spc="-1" strike="noStrike">
                <a:solidFill>
                  <a:srgbClr val="ffffb7"/>
                </a:solidFill>
                <a:latin typeface="Arial"/>
              </a:rPr>
              <a:t>50 видов рыб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387440" y="1905120"/>
            <a:ext cx="2827440" cy="20192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152280" y="3352680"/>
            <a:ext cx="14385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арас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5105520" y="2209680"/>
            <a:ext cx="3058920" cy="15462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8238960" y="3276720"/>
            <a:ext cx="905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лещ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992160" y="4076640"/>
            <a:ext cx="3619440" cy="20192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990720" y="6039000"/>
            <a:ext cx="298116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усский осет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5181480" y="3890880"/>
            <a:ext cx="3276720" cy="23036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6477120" y="6334200"/>
            <a:ext cx="1971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терляд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"/>
              </a:rPr>
              <a:t>Назови животных, </a:t>
            </a: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"/>
              </a:rPr>
              <a:t>которые водятся </a:t>
            </a: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"/>
              </a:rPr>
              <a:t>в нашей местности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1773360"/>
            <a:ext cx="3030480" cy="20192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443640" y="1916280"/>
            <a:ext cx="2292480" cy="20192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0" y="4065480"/>
            <a:ext cx="3132000" cy="23655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6107040" y="4508640"/>
            <a:ext cx="3036960" cy="22651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3708360" y="1989000"/>
            <a:ext cx="1957320" cy="25923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3564000" y="4835520"/>
            <a:ext cx="237636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7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1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5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9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7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"/>
              </a:rPr>
              <a:t>Назови растения, </a:t>
            </a: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"/>
              </a:rPr>
              <a:t>которые произрастают  </a:t>
            </a: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"/>
              </a:rPr>
              <a:t>в нашей местности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33520" y="4038480"/>
            <a:ext cx="2209680" cy="28195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33520" y="1676520"/>
            <a:ext cx="1771560" cy="22096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2743200" y="1981080"/>
            <a:ext cx="2590920" cy="17272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6095880" y="2209680"/>
            <a:ext cx="2667240" cy="17845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3505320" y="4191120"/>
            <a:ext cx="2057400" cy="23619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6"/>
          <a:stretch/>
        </p:blipFill>
        <p:spPr>
          <a:xfrm>
            <a:off x="6629400" y="4419720"/>
            <a:ext cx="196992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3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7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1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5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9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Животные, занесенные в Красную книгу Республики Башкортостан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68360" y="1817640"/>
            <a:ext cx="3768840" cy="50403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ольшой тушканчик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очница трудовая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ищуха степная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урундук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довая соня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осуля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обр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ж обыкновенны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Животные, занесенные в Красную книгу Республики Башкортостан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лебедь-шипун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быкновенная оляпка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олотистая щур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щего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лухар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алый пестрый дяте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быкновенная пустельг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мышниц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улик-соро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353200" y="2060640"/>
            <a:ext cx="352728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"/>
              </a:rPr>
              <a:t>Башкирский государственный заповедник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80880" y="1441440"/>
            <a:ext cx="3087720" cy="23162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41840" y="1905120"/>
            <a:ext cx="2679840" cy="20192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7924680" y="3352680"/>
            <a:ext cx="9716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ол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1449360" y="4076640"/>
            <a:ext cx="2705040" cy="20192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 txBox="1"/>
          <p:nvPr/>
        </p:nvSpPr>
        <p:spPr>
          <a:xfrm>
            <a:off x="304920" y="5810400"/>
            <a:ext cx="33051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урый медвед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5541840" y="4076640"/>
            <a:ext cx="2679840" cy="20192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 txBox="1"/>
          <p:nvPr/>
        </p:nvSpPr>
        <p:spPr>
          <a:xfrm>
            <a:off x="7848720" y="6172200"/>
            <a:ext cx="1057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ыс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"/>
              </a:rPr>
              <a:t>Шульган-Таш единственный в России пчеловодческий заповедник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2743200" cy="20764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533520" y="3276720"/>
            <a:ext cx="3390840" cy="74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ортевая пчел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257800" y="1905120"/>
            <a:ext cx="2432160" cy="20192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380880" y="4114800"/>
            <a:ext cx="2260800" cy="27432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 txBox="1"/>
          <p:nvPr/>
        </p:nvSpPr>
        <p:spPr>
          <a:xfrm>
            <a:off x="2590920" y="6095880"/>
            <a:ext cx="1476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апса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4952880" y="4038480"/>
            <a:ext cx="1671840" cy="26672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5838840" y="6334200"/>
            <a:ext cx="3305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услик - байба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8642520" cy="25923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400" spc="-1" strike="noStrike">
                <a:solidFill>
                  <a:srgbClr val="99ff99"/>
                </a:solidFill>
                <a:latin typeface="Arial Black"/>
              </a:rPr>
              <a:t>Тема урока:</a:t>
            </a:r>
            <a:br>
              <a:rPr sz="4400"/>
            </a:b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Наш край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837720" y="3200040"/>
            <a:ext cx="7417080" cy="208764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ff"/>
                </a:solidFill>
                <a:latin typeface="Arial"/>
              </a:rPr>
              <a:t>РАЗДЕ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ff"/>
                </a:solidFill>
                <a:latin typeface="Arial"/>
              </a:rPr>
              <a:t>«Родной край – часть большой страны».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7659720" y="5013360"/>
          <a:ext cx="1484280" cy="1844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59720" y="5013360"/>
                    <a:ext cx="1484280" cy="18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"/>
              </a:rPr>
              <a:t>Национальный парк «Башкирия»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461960" y="1905120"/>
            <a:ext cx="2679840" cy="20192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 txBox="1"/>
          <p:nvPr/>
        </p:nvSpPr>
        <p:spPr>
          <a:xfrm>
            <a:off x="0" y="3352680"/>
            <a:ext cx="2676600" cy="6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черный аис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5334120" y="1905120"/>
            <a:ext cx="3093840" cy="20192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 txBox="1"/>
          <p:nvPr/>
        </p:nvSpPr>
        <p:spPr>
          <a:xfrm>
            <a:off x="5143680" y="3581280"/>
            <a:ext cx="4000320" cy="33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чернозобая гага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1809720" y="4076640"/>
            <a:ext cx="1982880" cy="20192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 txBox="1"/>
          <p:nvPr/>
        </p:nvSpPr>
        <p:spPr>
          <a:xfrm>
            <a:off x="2133720" y="6172200"/>
            <a:ext cx="1552320" cy="44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меея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5943600" y="403848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 txBox="1"/>
          <p:nvPr/>
        </p:nvSpPr>
        <p:spPr>
          <a:xfrm>
            <a:off x="5095800" y="6334200"/>
            <a:ext cx="4048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ольшой подорли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Дорогие ребята, помогите нам решить задачу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22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то здесь лишний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услик – байба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ол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ыс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елый медвед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5334120" y="1752480"/>
            <a:ext cx="1265040" cy="20196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6464160" y="3581280"/>
            <a:ext cx="2146320" cy="16178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5791320" y="5121360"/>
            <a:ext cx="2286000" cy="17366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3276720" y="3809880"/>
            <a:ext cx="2419200" cy="18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" dur="2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2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2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" dur="20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" dur="20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-1108080"/>
            <a:ext cx="9144000" cy="929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859280" y="244440"/>
            <a:ext cx="39830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негирь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4260960" cy="55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-1395360"/>
            <a:ext cx="9144000" cy="900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Заяц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971640" y="1916280"/>
            <a:ext cx="3024000" cy="25621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4859280" y="3860640"/>
            <a:ext cx="3672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"/>
              </a:rPr>
              <a:t>Станция «450»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2666880" y="2133720"/>
            <a:ext cx="373392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Физминутка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476360" y="2204640"/>
            <a:ext cx="67816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ы сейчас все дружно встане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тдохнём мы на привале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право, влево повернись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клонись и поклонись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Лапки вверх и лапки вб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 на месте прыг да скок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 теперь бежим вприпрыжку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олодцы, мои зайчишки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3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0"/>
                            </p:stCondLst>
                            <p:childTnLst>
                              <p:par>
                                <p:cTn id="21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3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8000"/>
                            </p:stCondLst>
                            <p:childTnLst>
                              <p:par>
                                <p:cTn id="22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3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3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7000"/>
                            </p:stCondLst>
                            <p:childTnLst>
                              <p:par>
                                <p:cTn id="26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30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0"/>
                            </p:stCondLst>
                            <p:childTnLst>
                              <p:par>
                                <p:cTn id="27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30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3000"/>
                            </p:stCondLst>
                            <p:childTnLst>
                              <p:par>
                                <p:cTn id="28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30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"/>
              </a:rPr>
              <a:t>Станция «Мы»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ашкирия – республика многонациональ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334120" y="1828800"/>
            <a:ext cx="1514520" cy="20192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7381800" y="1828800"/>
            <a:ext cx="1762200" cy="20574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5486400" y="4191120"/>
            <a:ext cx="1255680" cy="22860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>
            <a:off x="7702560" y="4267080"/>
            <a:ext cx="982800" cy="21337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 txBox="1"/>
          <p:nvPr/>
        </p:nvSpPr>
        <p:spPr>
          <a:xfrm>
            <a:off x="5105520" y="3429000"/>
            <a:ext cx="2066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ашкир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7505640" y="3352680"/>
            <a:ext cx="1638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усск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410080" y="6095880"/>
            <a:ext cx="16480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атар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7238880" y="6019920"/>
            <a:ext cx="190512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украин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"/>
              </a:rPr>
              <a:t>Национальные башкирские блюда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3124080" cy="17208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>
            <a:off x="228600" y="2438280"/>
            <a:ext cx="24480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ишбарма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6629400" y="5022720"/>
            <a:ext cx="2286000" cy="18352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8001000" y="6267600"/>
            <a:ext cx="1295280" cy="59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умы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6934320" y="1066680"/>
            <a:ext cx="1904760" cy="16020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8391600" y="2286000"/>
            <a:ext cx="752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ча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5257800"/>
            <a:ext cx="64008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хотелось бы вам отведать все эти яства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у гостеприимных хозяев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3886200" y="1066680"/>
            <a:ext cx="2019240" cy="15145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4648320" y="2286000"/>
            <a:ext cx="1790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чак - ча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5"/>
          <a:stretch/>
        </p:blipFill>
        <p:spPr>
          <a:xfrm>
            <a:off x="533520" y="3048120"/>
            <a:ext cx="2133360" cy="16063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1295280" y="4343400"/>
            <a:ext cx="1019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л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6"/>
          <a:stretch/>
        </p:blipFill>
        <p:spPr>
          <a:xfrm>
            <a:off x="7053120" y="2819520"/>
            <a:ext cx="2090880" cy="16192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7238880" y="4191120"/>
            <a:ext cx="1905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ыстыб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7"/>
          <a:stretch/>
        </p:blipFill>
        <p:spPr>
          <a:xfrm>
            <a:off x="4114800" y="3048120"/>
            <a:ext cx="1981080" cy="14796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4038480" y="4267080"/>
            <a:ext cx="25146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ак - беляш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8" dur="2000" fill="hold"/>
                                        <p:tgtEl>
                                          <p:spTgt spid="22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82324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 чудесном нашем крае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Будет разговор,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 прекрасном милом крае,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Где мы все живем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>
    <p:cover dir="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"/>
              </a:rPr>
              <a:t>Уфа – в самом сердце Башкирии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247760" y="1905120"/>
            <a:ext cx="3108240" cy="20192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5529240" y="1905120"/>
            <a:ext cx="2705040" cy="201924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114800" y="4343400"/>
            <a:ext cx="1525680" cy="20192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4"/>
          <a:stretch/>
        </p:blipFill>
        <p:spPr>
          <a:xfrm>
            <a:off x="838080" y="4495680"/>
            <a:ext cx="2716200" cy="20196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5"/>
          <a:stretch/>
        </p:blipFill>
        <p:spPr>
          <a:xfrm>
            <a:off x="5943600" y="4267080"/>
            <a:ext cx="289548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500"/>
                            </p:stCondLst>
                            <p:childTnLst>
                              <p:par>
                                <p:cTn id="3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-4572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"/>
              </a:rPr>
              <a:t>город Салават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1550880" cy="20196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800600" y="1447920"/>
            <a:ext cx="3760920" cy="22986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1828800" y="2286000"/>
            <a:ext cx="2692440" cy="201924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4"/>
          <a:stretch/>
        </p:blipFill>
        <p:spPr>
          <a:xfrm>
            <a:off x="6172200" y="3962520"/>
            <a:ext cx="2692440" cy="201924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5"/>
          <a:stretch/>
        </p:blipFill>
        <p:spPr>
          <a:xfrm>
            <a:off x="0" y="4038480"/>
            <a:ext cx="2743200" cy="183204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6"/>
          <a:stretch/>
        </p:blipFill>
        <p:spPr>
          <a:xfrm>
            <a:off x="2666880" y="4552920"/>
            <a:ext cx="38102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2" dur="2000" fill="hold"/>
                                        <p:tgtEl>
                                          <p:spTgt spid="2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3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5" dur="2000" fill="hold"/>
                                        <p:tgtEl>
                                          <p:spTgt spid="2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3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8" dur="2000" fill="hold"/>
                                        <p:tgtEl>
                                          <p:spTgt spid="2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6000"/>
                            </p:stCondLst>
                            <p:childTnLst>
                              <p:par>
                                <p:cTn id="34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1" dur="2000" fill="hold"/>
                                        <p:tgtEl>
                                          <p:spTgt spid="2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8000"/>
                            </p:stCondLst>
                            <p:childTnLst>
                              <p:par>
                                <p:cTn id="34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4" dur="2000" fill="hold"/>
                                        <p:tgtEl>
                                          <p:spTgt spid="2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7" dur="2000" fill="hold"/>
                                        <p:tgtEl>
                                          <p:spTgt spid="2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2500"/>
                            </p:stCondLst>
                            <p:childTnLst>
                              <p:par>
                                <p:cTn id="3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3000"/>
                            </p:stCondLst>
                            <p:childTnLst>
                              <p:par>
                                <p:cTn id="3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3500"/>
                            </p:stCondLst>
                            <p:childTnLst>
                              <p:par>
                                <p:cTn id="3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4500"/>
                            </p:stCondLst>
                            <p:childTnLst>
                              <p:par>
                                <p:cTn id="3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танция «Я знаю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2743200" y="1901880"/>
            <a:ext cx="37339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"/>
              </a:rPr>
              <a:t>Не все в нашей республике родственники по крови, но все мы  родственники по огню…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2284560" y="1905120"/>
            <a:ext cx="51130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танция «Родина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981080" y="1904760"/>
            <a:ext cx="6864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ашкирия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я земля и небо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я любовь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й соловьиный край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не жаль того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то здесь ни разу не был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не жаль того, кому не пел кура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5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5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5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5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5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5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5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5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5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5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5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5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5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5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-152280"/>
            <a:ext cx="7391520" cy="836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Жил – был монах… скучно ему было сидеть в своей кель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 отправился он на поиски того места в мире, где его душа будет наслаждаться пением птиц, его глаза будут радовать прекрасные картины природ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572000" y="1905120"/>
            <a:ext cx="1359000" cy="1739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3200400" y="609480"/>
            <a:ext cx="3048120" cy="9050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КАЗ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442200" y="3048120"/>
            <a:ext cx="199548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2819160" y="-360"/>
            <a:ext cx="392724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Шел он, шел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ного времени ше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 вот однажды он остановился у прекрасного ручья отдохнуть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295280" y="1943280"/>
            <a:ext cx="6553440" cy="49147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5486400" y="6334200"/>
            <a:ext cx="24098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ека Инзе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0" y="0"/>
            <a:ext cx="3927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тички щебечут, журчит вод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иства деревьев ласково шелестит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мотрел монах на небо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 оно голубое  - голубое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384800" cy="35323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590920" y="3821040"/>
            <a:ext cx="434340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Как разнообразна здесь природа!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3886200" cy="32004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529240" y="1676520"/>
            <a:ext cx="3614760" cy="35049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1066680" y="4218120"/>
            <a:ext cx="3238560" cy="26398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5029200" y="4191120"/>
            <a:ext cx="31240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9-09-08T15:58:08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