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.wmf" ContentType="image/x-wmf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13.jpeg" ContentType="image/jpeg"/>
  <Override PartName="/ppt/media/image40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01A-C442-4ABF-96C2-1DFDD3F1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E85-951F-400F-BE45-7026754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49B-5D8A-46D5-83B4-AACE3568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3E0-437F-45B5-BA7C-5756F378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3FDE-F239-46D5-BED6-D46C6B88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5F36-F7FD-4D81-801A-79E74CB0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164B-7B61-4876-94A9-02E9D35A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5644-FA62-40E9-BF5E-8DD4A54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8285-E5F1-40FD-A4B7-2A2E8369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825C-8204-44DE-AB04-51F4F759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18D2-369F-4021-88EA-1EAD27E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31C-D1CC-49A6-B330-76A67369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BB6E-6454-48EF-9DEA-AB96265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805-0346-4C4F-8BEB-28F1E04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516C-A871-4B75-AF7C-37A636DF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3743-4212-45D6-B1A8-D08E6544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9DA-B388-45C4-8A33-D9401D4A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EA3-EB72-45B1-B07A-09D5352F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96F-8A39-4C9A-8009-41138FF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219-2E46-4BF2-BA28-B1906150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533-299B-4DE2-B9C3-F15A7E0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620-B606-437D-B4A2-02924F90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3BD-149D-4A99-816C-3E7F6DE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689-98CC-446F-A207-038FB71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AFF0-6F3F-4862-81BC-75D806287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181-B611-49F5-8030-9B70424C01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4.jpeg"/><Relationship Id="rId3" Type="http://schemas.openxmlformats.org/officeDocument/2006/relationships/image" Target="../media/image53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6480" y="549000"/>
            <a:ext cx="81471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крытый урок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 предмету «Окружающий мир»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б класс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 декабря 2009 год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Это именно то место, которое я искал!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Это Башкортостан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30372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152280" y="4267080"/>
            <a:ext cx="4725720" cy="309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05520" y="4267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ашкортостан— край нефти и газ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440" y="190512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3200400" cy="24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4156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в республике свыше 600 рек, более 1000 озер, 3 водохранилищ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88756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61936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3595680" cy="2019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715000" y="633420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Б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447920" y="6334200"/>
            <a:ext cx="246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Зи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62720" y="3657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Сакм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3581280"/>
            <a:ext cx="295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 Б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 башкирских реках и озёрах насчитывается около </a:t>
            </a: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50 видов рыб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87440" y="1905120"/>
            <a:ext cx="2827440" cy="201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52280" y="3352680"/>
            <a:ext cx="143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058920" cy="154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38960" y="3276720"/>
            <a:ext cx="90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2160" y="407664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990720" y="6039000"/>
            <a:ext cx="2981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ий ос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181480" y="389088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477120" y="6334200"/>
            <a:ext cx="197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рля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Назови животных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которые водятся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в нашей мест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229248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40654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107040" y="4508640"/>
            <a:ext cx="3036960" cy="226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708360" y="1989000"/>
            <a:ext cx="195732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564000" y="4835520"/>
            <a:ext cx="2376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Назови растения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которые произрастают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в нашей мест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209680" cy="281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743200" y="19810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2209680"/>
            <a:ext cx="2667240" cy="1784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505320" y="41911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629400" y="4419720"/>
            <a:ext cx="1969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, занесенные в Красную книгу Республики Башкортост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1817640"/>
            <a:ext cx="376884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ой тушканчи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чница трудова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щуха степна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рунду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довая сон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сул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б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ж обыкнов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, занесенные в Красную книгу Республики Башкортост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бедь-шипу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ыкновенная оляп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олотистая щур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ще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х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ый пестрый дят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ыкновенная пустель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мышни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лик-со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53200" y="2060640"/>
            <a:ext cx="3527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ашкирский государственный заповедни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1441440"/>
            <a:ext cx="3087720" cy="2316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41840" y="190512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924680" y="3352680"/>
            <a:ext cx="97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49360" y="4076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04920" y="5810400"/>
            <a:ext cx="3305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ый мед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541840" y="407664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848720" y="6172200"/>
            <a:ext cx="105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ы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Шульган-Таш единственный в России пчеловодческий заповедник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533520" y="3276720"/>
            <a:ext cx="33908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ртевая пч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432160" cy="2019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226080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590920" y="6095880"/>
            <a:ext cx="14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пс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1671840" cy="266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838840" y="6334200"/>
            <a:ext cx="33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слик - байб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42520" cy="259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99ff99"/>
                </a:solidFill>
                <a:latin typeface="Arial Black"/>
              </a:rPr>
              <a:t>Тема урока:</a:t>
            </a:r>
            <a:br>
              <a:rPr sz="4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Наш кра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417080" cy="20876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РАЗД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«Родной край – часть большой страны»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59720" y="5013360"/>
          <a:ext cx="148428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9720" y="5013360"/>
                    <a:ext cx="148428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Национальный парк «Башкирия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61960" y="190512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0" y="3352680"/>
            <a:ext cx="26766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ый аи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093840" cy="2019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143680" y="3581280"/>
            <a:ext cx="400032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зобая гаг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809720" y="4076640"/>
            <a:ext cx="1982880" cy="2019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2133720" y="6172200"/>
            <a:ext cx="15523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меея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5095800" y="6334200"/>
            <a:ext cx="404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ьшой подор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рогие ребята, помогите нам решить задач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здесь лишн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слик – байб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ый 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1265040" cy="2019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64160" y="3581280"/>
            <a:ext cx="2146320" cy="1617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791320" y="5121360"/>
            <a:ext cx="2286000" cy="173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76720" y="3809880"/>
            <a:ext cx="2419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9280" y="244440"/>
            <a:ext cx="398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неги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42609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-1395360"/>
            <a:ext cx="9144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я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024000" cy="25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танция «450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76360" y="2204640"/>
            <a:ext cx="6781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сейчас все дружно вста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охнём мы на привал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раво, влево поверни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лонись и поклони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и вверх и лапки в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на месте прыг да ск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теперь бежим вприпрыж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одцы, мои зайчиш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танция «М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шкирия – республика многонацион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381800" y="182880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191120"/>
            <a:ext cx="125568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702560" y="4267080"/>
            <a:ext cx="982800" cy="2133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105520" y="3429000"/>
            <a:ext cx="20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шки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505640" y="3352680"/>
            <a:ext cx="163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10080" y="6095880"/>
            <a:ext cx="1648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та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38880" y="6019920"/>
            <a:ext cx="19051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кра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Национальные башкирские блюд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24080" cy="1720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28600" y="243828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шбарм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629400" y="5022720"/>
            <a:ext cx="2286000" cy="1835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001000" y="6267600"/>
            <a:ext cx="12952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мы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1904760" cy="1602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391600" y="2286000"/>
            <a:ext cx="75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525780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телось бы вам отведать все эти яств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гостеприимных хозяев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886200" y="1066680"/>
            <a:ext cx="2019240" cy="1514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48320" y="2286000"/>
            <a:ext cx="179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к - ч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33520" y="3048120"/>
            <a:ext cx="2133360" cy="160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295280" y="4343400"/>
            <a:ext cx="101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053120" y="2819520"/>
            <a:ext cx="209088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7238880" y="4191120"/>
            <a:ext cx="19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ыст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114800" y="3048120"/>
            <a:ext cx="1981080" cy="147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038480" y="426708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к - беля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32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чудесном нашем крае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дет разговор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прекрасном милом крае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де мы все живе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Уфа – в самом сердце Башкир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47760" y="1905120"/>
            <a:ext cx="3108240" cy="20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529240" y="1905120"/>
            <a:ext cx="270504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14800" y="4343400"/>
            <a:ext cx="152568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38080" y="449568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2895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город Салава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550880" cy="2019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760920" cy="229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2743200" cy="1832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2666880" y="4552920"/>
            <a:ext cx="3810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нция «Я знаю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43200" y="19018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Не все в нашей республике родственники по крови, но все мы  родственники по огню…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4560" y="1905120"/>
            <a:ext cx="511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нция «Родин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8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шкир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земля и неб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любов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й соловьиный кра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жаль тог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здесь ни разу не бы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жаль того, кому не пел кура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-152280"/>
            <a:ext cx="7391520" cy="83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л – был монах… скучно ему было сидеть в своей кел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отправился он на поиски того места в мире, где его душа будет наслаждаться пением птиц, его глаза будут радовать прекрасные картины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59000" cy="173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00400" y="609480"/>
            <a:ext cx="3048120" cy="90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42200" y="3048120"/>
            <a:ext cx="1995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819160" y="-360"/>
            <a:ext cx="3927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ел он, ш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ного времени ш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от однажды он остановился у прекрасного ручья отдохну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194328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486400" y="633420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Ин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чки щебечут, журчит в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ства деревьев ласково шелест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ел монах на неб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оно голубое  - голубо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84800" cy="353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90920" y="3821040"/>
            <a:ext cx="43434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разнообразна здесь природа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29240" y="1676520"/>
            <a:ext cx="3614760" cy="350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66680" y="4218120"/>
            <a:ext cx="3238560" cy="263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08T15:5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