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7C5-B592-4CA3-84B8-5A59EF91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2A1-7BCF-4330-B75F-15EC41EA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7AD-E661-4B49-ADA6-8D064A97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68F-13E6-4610-ACFF-1E324AE4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FA4-B4B2-4EDB-A9B2-7701CD00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BDE-4BF2-44EE-8258-843CA1B9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6D4-8296-472A-9221-DB973F1E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EA1-695E-4EDC-9EB8-FE9AFA3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E7A-6728-42E2-88AF-0DA44FC3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548-A14F-40AD-A967-188D89B7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07A-9DE8-457A-8CD2-AA5E888B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88B-8D4F-4D53-A705-C8B97FD5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FA2C-712A-48B6-B859-80BCBD616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66760" y="196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57120" y="1773360"/>
            <a:ext cx="83581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кола светофорных нау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79480" y="784080"/>
            <a:ext cx="456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оссе шуршало ши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гущими маши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озле школы сбавьте газ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ит, водители, для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ый знак здесь: «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них мы все в ответ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 при этом знаке то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будьте остор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Изображение 009"/>
          <p:cNvPicPr/>
          <p:nvPr/>
        </p:nvPicPr>
        <p:blipFill>
          <a:blip r:embed="rId1"/>
          <a:srcRect l="42488" t="65784" r="42152" b="23278"/>
          <a:stretch/>
        </p:blipFill>
        <p:spPr>
          <a:xfrm>
            <a:off x="5076720" y="2782800"/>
            <a:ext cx="3167280" cy="313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1800" y="404640"/>
            <a:ext cx="39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очень осторож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йте каждый зн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ь без знаков на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не обойтись ник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Svoimi_rukami-2[1]"/>
          <p:cNvPicPr/>
          <p:nvPr/>
        </p:nvPicPr>
        <p:blipFill>
          <a:blip r:embed="rId1"/>
          <a:stretch/>
        </p:blipFill>
        <p:spPr>
          <a:xfrm>
            <a:off x="2433600" y="2708280"/>
            <a:ext cx="3651120" cy="360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2785680" y="857160"/>
            <a:ext cx="340236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ьина 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9 «Г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яка Э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ГОГРА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95280" y="404640"/>
            <a:ext cx="5472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в в большой и шумный го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терялся, я пропа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ная знаков светоф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ть в ДТП я не поп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машины и трамва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вдруг автобус на пут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ться честно — я не зна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мне дорогу перей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! Вы мне помог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если можно, расскаж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как переход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под трамвай не угод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Изображение 007"/>
          <p:cNvPicPr/>
          <p:nvPr/>
        </p:nvPicPr>
        <p:blipFill>
          <a:blip r:embed="rId1">
            <a:alphaModFix amt="92000"/>
          </a:blip>
          <a:stretch/>
        </p:blipFill>
        <p:spPr>
          <a:xfrm>
            <a:off x="5500800" y="500040"/>
            <a:ext cx="3333600" cy="580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611280" y="1700280"/>
            <a:ext cx="1584360" cy="36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900000" y="191628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900000" y="2997360"/>
            <a:ext cx="100800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900000" y="4076640"/>
            <a:ext cx="1008000" cy="1008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428920" y="386280"/>
            <a:ext cx="525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тебе помоч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ь пройти опасн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м и день, и ночь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ый, желтый, кр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строгий красный св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н гор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п! Дороги дальше н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ь для всех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спокойно перешел т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й наш сове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ди! Увидишь скоро желт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ине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а ним зеленый св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ыхнет вперед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жет он: “Не спеши, на дорогу посмотри, все авто в ряд стоят и тогда иди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4046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лоским черно-белы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шагает смел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: там, где он идет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шеходный пере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Изображение 008"/>
          <p:cNvPicPr/>
          <p:nvPr/>
        </p:nvPicPr>
        <p:blipFill>
          <a:blip r:embed="rId1"/>
          <a:stretch/>
        </p:blipFill>
        <p:spPr>
          <a:xfrm>
            <a:off x="826920" y="2205000"/>
            <a:ext cx="575964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Изображение 009"/>
          <p:cNvPicPr/>
          <p:nvPr/>
        </p:nvPicPr>
        <p:blipFill>
          <a:blip r:embed="rId2"/>
          <a:srcRect l="72394" t="67483" r="16349" b="24852"/>
          <a:stretch/>
        </p:blipFill>
        <p:spPr>
          <a:xfrm>
            <a:off x="6300720" y="549360"/>
            <a:ext cx="2016360" cy="172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18400" y="1143000"/>
            <a:ext cx="440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 кругу с обводом крас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начит – тут оп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т, поймите запрещ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шеходного движ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Изображение 009"/>
          <p:cNvPicPr/>
          <p:nvPr/>
        </p:nvPicPr>
        <p:blipFill>
          <a:blip r:embed="rId1"/>
          <a:srcRect l="55974" t="42468" r="28671" b="45252"/>
          <a:stretch/>
        </p:blipFill>
        <p:spPr>
          <a:xfrm>
            <a:off x="4427640" y="2565360"/>
            <a:ext cx="3552840" cy="352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1374120"/>
            <a:ext cx="395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дорожные работы 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проехать, ни пройт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есто пешеход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просто обо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Изображение 011"/>
          <p:cNvPicPr/>
          <p:nvPr/>
        </p:nvPicPr>
        <p:blipFill>
          <a:blip r:embed="rId1"/>
          <a:srcRect l="50196" t="60299" r="32523" b="28796"/>
          <a:stretch/>
        </p:blipFill>
        <p:spPr>
          <a:xfrm>
            <a:off x="4284720" y="2203560"/>
            <a:ext cx="4032360" cy="354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65480" y="1301040"/>
            <a:ext cx="399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запомните, друзь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одители, и де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, где он висит, нельзя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здить на велосипе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Изображение 009"/>
          <p:cNvPicPr/>
          <p:nvPr/>
        </p:nvPicPr>
        <p:blipFill>
          <a:blip r:embed="rId1"/>
          <a:srcRect l="11579" t="43840" r="72971" b="45229"/>
          <a:stretch/>
        </p:blipFill>
        <p:spPr>
          <a:xfrm>
            <a:off x="4500720" y="2205000"/>
            <a:ext cx="3960720" cy="387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69440" y="471600"/>
            <a:ext cx="487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так знак! Глазам не вер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здесь батаре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ли движен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вое отоплен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, зимою вью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шоферам — греться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же в летний з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не сняли с мосто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лось, этот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 шоферу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шлагбаум — перее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жди — пройдет экспр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Изображение 011"/>
          <p:cNvPicPr/>
          <p:nvPr/>
        </p:nvPicPr>
        <p:blipFill>
          <a:blip r:embed="rId1"/>
          <a:srcRect l="3899" t="45178" r="80680" b="45229"/>
          <a:stretch/>
        </p:blipFill>
        <p:spPr>
          <a:xfrm>
            <a:off x="5364000" y="2411280"/>
            <a:ext cx="3311640" cy="2833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53840" y="836640"/>
            <a:ext cx="44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лый знак, а в нем око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те сгоряч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думайте немножк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здесь – свалка кирпич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, запрет автомобилю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начит путь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Изображение 009"/>
          <p:cNvPicPr/>
          <p:nvPr/>
        </p:nvPicPr>
        <p:blipFill>
          <a:blip r:embed="rId1"/>
          <a:srcRect l="71258" t="53440" r="13259" b="34254"/>
          <a:stretch/>
        </p:blipFill>
        <p:spPr>
          <a:xfrm>
            <a:off x="4946760" y="2492280"/>
            <a:ext cx="3485880" cy="36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7:49:26Z</dcterms:created>
  <dc:creator>1</dc:creator>
  <dc:description/>
  <dc:language>en-US</dc:language>
  <cp:lastModifiedBy>BUH</cp:lastModifiedBy>
  <dcterms:modified xsi:type="dcterms:W3CDTF">2009-10-05T05:59:18Z</dcterms:modified>
  <cp:revision>7</cp:revision>
  <dc:subject/>
  <dc:title>Слайд 1</dc:title>
</cp:coreProperties>
</file>