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2E89-DEB1-42EE-B5DE-4DD5BC10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3824-96A2-477D-835F-DCD0289B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834D-87BA-48EE-97CF-43F53383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D40B-FC8B-483A-A1AB-B8A9E790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49DE-AAD9-449D-AF25-ADFF684E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D559-A94B-49C5-830C-6A75633F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32C-22A0-4860-AE6B-E11EEB74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8775-B3EE-4984-BD23-5944D466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E981-7D1B-4514-B706-74791DE3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5EA1-C6B9-4081-99D2-B87194B4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1243-4275-487F-B348-39512B72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24C5-E0B8-4736-836C-EF81141D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9878-C38E-4576-9D49-975B3A187E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66760" y="19692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357120" y="1773360"/>
            <a:ext cx="83581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школа светофорных наук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879480" y="784080"/>
            <a:ext cx="4560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оссе шуршало шин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гущими машин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возле школы сбавьте газ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сит, водители, для в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ый знак здесь: «Де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них мы все в ответе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ы при этом знаке тож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ята, будьте осторож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Изображение 009"/>
          <p:cNvPicPr/>
          <p:nvPr/>
        </p:nvPicPr>
        <p:blipFill>
          <a:blip r:embed="rId1"/>
          <a:srcRect l="42488" t="65784" r="42152" b="23278"/>
          <a:stretch/>
        </p:blipFill>
        <p:spPr>
          <a:xfrm>
            <a:off x="5076720" y="2782800"/>
            <a:ext cx="3167280" cy="3133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341800" y="404640"/>
            <a:ext cx="39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ьте очень осторож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ажайте каждый зн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ь без знаков на дор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м не обойтись ник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Svoimi_rukami-2[1]"/>
          <p:cNvPicPr/>
          <p:nvPr/>
        </p:nvPicPr>
        <p:blipFill>
          <a:blip r:embed="rId1"/>
          <a:stretch/>
        </p:blipFill>
        <p:spPr>
          <a:xfrm>
            <a:off x="2433600" y="2708280"/>
            <a:ext cx="3651120" cy="3600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5"/>
          <p:cNvSpPr/>
          <p:nvPr/>
        </p:nvSpPr>
        <p:spPr>
          <a:xfrm>
            <a:off x="2785680" y="857160"/>
            <a:ext cx="340236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 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ьина 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ца 9 «Г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яка Э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ЛГОГРАД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95280" y="404640"/>
            <a:ext cx="54720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ав в большой и шумный гор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отерялся, я пропал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ная знаков светоф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ть в ДТП я не попа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ом машины и трамва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вдруг автобус на пут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наться честно — я не зна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мне дорогу перей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ята! Вы мне помог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 если можно, расскажи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гу как переход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 под трамвай не угод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Изображение 007"/>
          <p:cNvPicPr/>
          <p:nvPr/>
        </p:nvPicPr>
        <p:blipFill>
          <a:blip r:embed="rId1">
            <a:alphaModFix amt="92000"/>
          </a:blip>
          <a:stretch/>
        </p:blipFill>
        <p:spPr>
          <a:xfrm>
            <a:off x="5500800" y="500040"/>
            <a:ext cx="3333600" cy="5805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611280" y="1700280"/>
            <a:ext cx="1584360" cy="367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4"/>
          <p:cNvSpPr/>
          <p:nvPr/>
        </p:nvSpPr>
        <p:spPr>
          <a:xfrm>
            <a:off x="900000" y="1916280"/>
            <a:ext cx="100800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5"/>
          <p:cNvSpPr/>
          <p:nvPr/>
        </p:nvSpPr>
        <p:spPr>
          <a:xfrm>
            <a:off x="900000" y="2997360"/>
            <a:ext cx="100800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6"/>
          <p:cNvSpPr/>
          <p:nvPr/>
        </p:nvSpPr>
        <p:spPr>
          <a:xfrm>
            <a:off x="900000" y="4076640"/>
            <a:ext cx="1008000" cy="10080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428920" y="386280"/>
            <a:ext cx="5256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тебе помоч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ь пройти опасны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им и день, и ночь-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леный, желтый, крас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й строгий красный св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он гори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п! Дороги дальше н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ь для всех закр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спокойно перешел ты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шай наш совет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ди! Увидишь скоро желты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ередине с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за ним зеленый св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ыхнет вперед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жет он: “Не спеши, на дорогу посмотри, все авто в ряд стоят и тогда иди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50920" y="404640"/>
            <a:ext cx="42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лоским черно-белы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шагает смел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ет: там, где он идет-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шеходный перехо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Изображение 008"/>
          <p:cNvPicPr/>
          <p:nvPr/>
        </p:nvPicPr>
        <p:blipFill>
          <a:blip r:embed="rId1"/>
          <a:stretch/>
        </p:blipFill>
        <p:spPr>
          <a:xfrm>
            <a:off x="826920" y="2205000"/>
            <a:ext cx="5759640" cy="4305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Изображение 009"/>
          <p:cNvPicPr/>
          <p:nvPr/>
        </p:nvPicPr>
        <p:blipFill>
          <a:blip r:embed="rId2"/>
          <a:srcRect l="72394" t="67483" r="16349" b="24852"/>
          <a:stretch/>
        </p:blipFill>
        <p:spPr>
          <a:xfrm>
            <a:off x="6300720" y="549360"/>
            <a:ext cx="2016360" cy="1727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518400" y="1143000"/>
            <a:ext cx="440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в кругу с обводом крас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значит – тут опа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т, поймите запрещ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шеходного движен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Изображение 009"/>
          <p:cNvPicPr/>
          <p:nvPr/>
        </p:nvPicPr>
        <p:blipFill>
          <a:blip r:embed="rId1"/>
          <a:srcRect l="55974" t="42468" r="28671" b="45252"/>
          <a:stretch/>
        </p:blipFill>
        <p:spPr>
          <a:xfrm>
            <a:off x="4427640" y="2565360"/>
            <a:ext cx="3552840" cy="3529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1374120"/>
            <a:ext cx="395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сь дорожные работы -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проехать, ни пройт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есто пешеход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просто обой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Изображение 011"/>
          <p:cNvPicPr/>
          <p:nvPr/>
        </p:nvPicPr>
        <p:blipFill>
          <a:blip r:embed="rId1"/>
          <a:srcRect l="50196" t="60299" r="32523" b="28796"/>
          <a:stretch/>
        </p:blipFill>
        <p:spPr>
          <a:xfrm>
            <a:off x="4284720" y="2203560"/>
            <a:ext cx="4032360" cy="354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465480" y="1301040"/>
            <a:ext cx="399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 запомните, друзь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родители, и дет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м, где он висит, нельзя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здить на велосипед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Изображение 009"/>
          <p:cNvPicPr/>
          <p:nvPr/>
        </p:nvPicPr>
        <p:blipFill>
          <a:blip r:embed="rId1"/>
          <a:srcRect l="11579" t="43840" r="72971" b="45229"/>
          <a:stretch/>
        </p:blipFill>
        <p:spPr>
          <a:xfrm>
            <a:off x="4500720" y="2205000"/>
            <a:ext cx="3960720" cy="3878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469440" y="471600"/>
            <a:ext cx="487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так знак! Глазам не вер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его здесь батаре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ает ли движен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овое отоплен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, зимою вьюж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 шоферам — греться ну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же в летний з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 не сняли с мостов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лось, этот з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ворит шоферу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сь шлагбаум — переез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жди — пройдет экспре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Изображение 011"/>
          <p:cNvPicPr/>
          <p:nvPr/>
        </p:nvPicPr>
        <p:blipFill>
          <a:blip r:embed="rId1"/>
          <a:srcRect l="3899" t="45178" r="80680" b="45229"/>
          <a:stretch/>
        </p:blipFill>
        <p:spPr>
          <a:xfrm>
            <a:off x="5364000" y="2411280"/>
            <a:ext cx="3311640" cy="2833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753840" y="836640"/>
            <a:ext cx="446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лый знак, а в нем окош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пешите сгоряч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одумайте немножк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здесь – свалка кирпич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, запрет автомобилю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значит путь закр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Изображение 009"/>
          <p:cNvPicPr/>
          <p:nvPr/>
        </p:nvPicPr>
        <p:blipFill>
          <a:blip r:embed="rId1"/>
          <a:srcRect l="71258" t="53440" r="13259" b="34254"/>
          <a:stretch/>
        </p:blipFill>
        <p:spPr>
          <a:xfrm>
            <a:off x="4946760" y="2492280"/>
            <a:ext cx="3485880" cy="3600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17:49:26Z</dcterms:created>
  <dc:creator>1</dc:creator>
  <dc:description/>
  <dc:language>en-US</dc:language>
  <cp:lastModifiedBy>BUH</cp:lastModifiedBy>
  <dcterms:modified xsi:type="dcterms:W3CDTF">2009-10-05T05:59:18Z</dcterms:modified>
  <cp:revision>7</cp:revision>
  <dc:subject/>
  <dc:title>Слайд 1</dc:title>
</cp:coreProperties>
</file>