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47.wmf" ContentType="image/x-wmf"/>
  <Override PartName="/ppt/media/image10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png" ContentType="image/png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9.png" ContentType="image/png"/>
  <Override PartName="/ppt/media/image1.png" ContentType="image/png"/>
  <Override PartName="/ppt/media/image29.wmf" ContentType="image/x-wmf"/>
  <Override PartName="/ppt/media/image21.png" ContentType="image/png"/>
  <Override PartName="/ppt/media/image20.wmf" ContentType="image/x-wmf"/>
  <Override PartName="/ppt/media/image18.wmf" ContentType="image/x-wmf"/>
  <Override PartName="/ppt/media/image6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11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31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41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6.png" ContentType="image/png"/>
  <Override PartName="/ppt/media/image48.png" ContentType="image/png"/>
  <Override PartName="/ppt/media/image28.png" ContentType="image/png"/>
  <Override PartName="/ppt/media/image50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0" y="-11457000"/>
            <a:ext cx="1440" cy="243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0" y="-11457000"/>
            <a:ext cx="1440" cy="2430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D798-8888-4292-A1D6-9FB699F4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2E3F-341D-47A2-A897-53DC6573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5980-74FD-4C23-9513-CF78F711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8AE5-343B-49F9-A919-82B6970C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C279-2A4E-4A0D-8C55-D320F76F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D361-884E-480A-A2A7-CC855AD0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D850-D049-4936-B277-E89314A2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D01E-C448-4222-B96C-F3D54E74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8009-17B7-4504-9219-9B3C4C75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160"/>
            <a:ext cx="82216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AA87-2B56-4A92-AE83-BB23023E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489C-4DCE-4804-B424-1C8611EB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0B73-80FA-423C-A3D0-1F84DE0F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13E7-4354-4C68-BC9E-CED3E8D2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3080-67EB-4008-85B2-155B381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3EB3-5D0A-4B3C-8AF1-5FEADD80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C19B-EEC2-43CE-89C3-82DA27B8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98072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4010040"/>
            <a:ext cx="2647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E633-C733-494C-A076-EEA0B185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6260-FCA9-4888-8464-6B2D2564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DBA6-BB58-4818-824B-591E2BE8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7D9C-2646-49BC-B66D-E10C3D9D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160"/>
            <a:ext cx="822168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3C21-186D-4BAC-8E27-63135CBA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615E-F259-4BAB-B846-D2E1B42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401004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5BF2-8B20-48DF-88C5-7E1F32E0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980720"/>
            <a:ext cx="40118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16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6D46-D9CC-4C70-A71A-D8A85C8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99E8E1-0221-4FC6-92A9-29AAB56C6A1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5280"/>
            <a:ext cx="2125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7F6A2D-FA9E-43B8-B074-C8C9CBA19F7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20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1842840"/>
            <a:ext cx="6019920" cy="210492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Тема: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«</a:t>
            </a: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Преобразование графиков функции</a:t>
            </a:r>
            <a:r>
              <a:rPr b="1" lang="ru-RU" sz="4400" spc="-1" strike="noStrike">
                <a:solidFill>
                  <a:srgbClr val="ffffff"/>
                </a:solidFill>
                <a:latin typeface="Courier New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96120"/>
            <a:ext cx="822348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функции y=|f(x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0920" y="784440"/>
            <a:ext cx="8223120" cy="11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и графика функции y=f(x), лежащие выше оси x и на оси x, остаются без изменения, а лежащие ниже оси x – симметрично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жаютс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относительно этой оси (ввер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Функция y=|f(x)| неотрицательна (ее график расположен в верхней полуплоск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79280" y="2700360"/>
            <a:ext cx="8460000" cy="3960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3240000" y="2275200"/>
            <a:ext cx="2176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15200"/>
            <a:ext cx="814068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функции y=f(|x|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17600" y="914040"/>
            <a:ext cx="822312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ь графика функции y=f(x), лежащая левее оси y, удаляется, а часть, лежащая правее оси y – остается без изменения и, кроме того, симметрично отражается относительно оси y (влево). Точка графика лежащая на оси y, остается неиз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Функция y=f(|x|) четная (ее график симметричен относительно оси 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40000" y="2275200"/>
            <a:ext cx="2176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539640" y="2781360"/>
          <a:ext cx="8134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8134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15200"/>
            <a:ext cx="9144000" cy="3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строение графика обрат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518920" y="574920"/>
            <a:ext cx="6480360" cy="119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функции y=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x), обратной функции y=f(x), можно получить преобразованием симметрии графика функции y=f(x) относительно прямой y=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Описанное построение производить только для функции, имеющей обратну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1979640" y="2160720"/>
            <a:ext cx="7020000" cy="46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16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4480"/>
            <a:ext cx="8223120" cy="7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84"/>
          <p:cNvGraphicFramePr/>
          <p:nvPr/>
        </p:nvGraphicFramePr>
        <p:xfrm>
          <a:off x="179280" y="1989000"/>
          <a:ext cx="232596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23259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Group 90"/>
          <p:cNvGrpSpPr/>
          <p:nvPr/>
        </p:nvGrpSpPr>
        <p:grpSpPr>
          <a:xfrm>
            <a:off x="6012000" y="1844640"/>
            <a:ext cx="2857320" cy="3889440"/>
            <a:chOff x="6012000" y="1844640"/>
            <a:chExt cx="2857320" cy="3889440"/>
          </a:xfrm>
        </p:grpSpPr>
        <p:sp>
          <p:nvSpPr>
            <p:cNvPr id="183" name="AutoShape 89"/>
            <p:cNvSpPr/>
            <p:nvPr/>
          </p:nvSpPr>
          <p:spPr>
            <a:xfrm>
              <a:off x="6012000" y="1844640"/>
              <a:ext cx="2857320" cy="38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4" name="Picture 91" descr=""/>
            <p:cNvPicPr/>
            <p:nvPr/>
          </p:nvPicPr>
          <p:blipFill>
            <a:blip r:embed="rId3"/>
            <a:stretch/>
          </p:blipFill>
          <p:spPr>
            <a:xfrm>
              <a:off x="6012000" y="1844640"/>
              <a:ext cx="28573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2" descr=""/>
            <p:cNvPicPr/>
            <p:nvPr/>
          </p:nvPicPr>
          <p:blipFill>
            <a:blip r:embed="rId4"/>
            <a:stretch/>
          </p:blipFill>
          <p:spPr>
            <a:xfrm>
              <a:off x="6012000" y="3308400"/>
              <a:ext cx="285732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93" descr=""/>
            <p:cNvPicPr/>
            <p:nvPr/>
          </p:nvPicPr>
          <p:blipFill>
            <a:blip r:embed="rId5"/>
            <a:stretch/>
          </p:blipFill>
          <p:spPr>
            <a:xfrm>
              <a:off x="6012000" y="4772160"/>
              <a:ext cx="2857320" cy="9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95"/>
          <p:cNvGrpSpPr/>
          <p:nvPr/>
        </p:nvGrpSpPr>
        <p:grpSpPr>
          <a:xfrm>
            <a:off x="3059280" y="2060640"/>
            <a:ext cx="2741400" cy="3744720"/>
            <a:chOff x="3059280" y="2060640"/>
            <a:chExt cx="2741400" cy="3744720"/>
          </a:xfrm>
        </p:grpSpPr>
        <p:sp>
          <p:nvSpPr>
            <p:cNvPr id="188" name="AutoShape 94"/>
            <p:cNvSpPr/>
            <p:nvPr/>
          </p:nvSpPr>
          <p:spPr>
            <a:xfrm>
              <a:off x="3059280" y="2060640"/>
              <a:ext cx="274140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9" name="Picture 96" descr=""/>
            <p:cNvPicPr/>
            <p:nvPr/>
          </p:nvPicPr>
          <p:blipFill>
            <a:blip r:embed="rId6"/>
            <a:stretch/>
          </p:blipFill>
          <p:spPr>
            <a:xfrm>
              <a:off x="3059280" y="2060640"/>
              <a:ext cx="274140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97" descr=""/>
            <p:cNvPicPr/>
            <p:nvPr/>
          </p:nvPicPr>
          <p:blipFill>
            <a:blip r:embed="rId7"/>
            <a:stretch/>
          </p:blipFill>
          <p:spPr>
            <a:xfrm>
              <a:off x="3059280" y="3465360"/>
              <a:ext cx="2741400" cy="14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98" descr=""/>
            <p:cNvPicPr/>
            <p:nvPr/>
          </p:nvPicPr>
          <p:blipFill>
            <a:blip r:embed="rId8"/>
            <a:stretch/>
          </p:blipFill>
          <p:spPr>
            <a:xfrm>
              <a:off x="3059280" y="4869000"/>
              <a:ext cx="2741400" cy="93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Rectangle 99"/>
          <p:cNvSpPr/>
          <p:nvPr/>
        </p:nvSpPr>
        <p:spPr>
          <a:xfrm>
            <a:off x="1116000" y="1059840"/>
            <a:ext cx="72010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|x²-6|x|+8|=||x|²-6|x|+8|=|(|x|-3) ²-1|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32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5"/>
          <p:cNvGrpSpPr/>
          <p:nvPr/>
        </p:nvGrpSpPr>
        <p:grpSpPr>
          <a:xfrm>
            <a:off x="0" y="1341360"/>
            <a:ext cx="8891640" cy="4691160"/>
            <a:chOff x="0" y="1341360"/>
            <a:chExt cx="8891640" cy="4691160"/>
          </a:xfrm>
        </p:grpSpPr>
        <p:graphicFrame>
          <p:nvGraphicFramePr>
            <p:cNvPr id="195" name="Object 4"/>
            <p:cNvGraphicFramePr/>
            <p:nvPr/>
          </p:nvGraphicFramePr>
          <p:xfrm>
            <a:off x="4859280" y="2276640"/>
            <a:ext cx="4032360" cy="159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9280" y="2276640"/>
                      <a:ext cx="4032360" cy="15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7"/>
            <p:cNvGraphicFramePr/>
            <p:nvPr/>
          </p:nvGraphicFramePr>
          <p:xfrm>
            <a:off x="6300720" y="1844640"/>
            <a:ext cx="1567080" cy="4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1844640"/>
                      <a:ext cx="156708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10"/>
            <p:cNvGraphicFramePr/>
            <p:nvPr/>
          </p:nvGraphicFramePr>
          <p:xfrm>
            <a:off x="2843280" y="1341360"/>
            <a:ext cx="329724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280" y="1341360"/>
                      <a:ext cx="32972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3"/>
            <p:cNvGraphicFramePr/>
            <p:nvPr/>
          </p:nvGraphicFramePr>
          <p:xfrm>
            <a:off x="0" y="4508640"/>
            <a:ext cx="3981600" cy="15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4508640"/>
                      <a:ext cx="39816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8"/>
            <p:cNvGraphicFramePr/>
            <p:nvPr/>
          </p:nvGraphicFramePr>
          <p:xfrm>
            <a:off x="1042920" y="4005360"/>
            <a:ext cx="2087640" cy="433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4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42920" y="4005360"/>
                      <a:ext cx="208764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9"/>
            <p:cNvGraphicFramePr/>
            <p:nvPr/>
          </p:nvGraphicFramePr>
          <p:xfrm>
            <a:off x="4572000" y="4508640"/>
            <a:ext cx="4143240" cy="1171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6" name="Object 1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0" y="4508640"/>
                      <a:ext cx="414324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Object 21"/>
            <p:cNvGraphicFramePr/>
            <p:nvPr/>
          </p:nvGraphicFramePr>
          <p:xfrm>
            <a:off x="5724360" y="4005360"/>
            <a:ext cx="2448000" cy="40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8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24360" y="4005360"/>
                      <a:ext cx="244800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Object 24"/>
            <p:cNvGraphicFramePr/>
            <p:nvPr/>
          </p:nvGraphicFramePr>
          <p:xfrm>
            <a:off x="468360" y="1989000"/>
            <a:ext cx="2924280" cy="1686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0" name="Object 2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8360" y="1989000"/>
                      <a:ext cx="2924280" cy="168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25160"/>
            <a:ext cx="8221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 сложных функций с помощью последовательных преобразований графиков элементарных функций (на приме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2"/>
          <p:cNvGraphicFramePr/>
          <p:nvPr/>
        </p:nvGraphicFramePr>
        <p:xfrm>
          <a:off x="4219560" y="5076720"/>
          <a:ext cx="492444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9560" y="5076720"/>
                    <a:ext cx="492444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Group 17"/>
          <p:cNvGrpSpPr/>
          <p:nvPr/>
        </p:nvGrpSpPr>
        <p:grpSpPr>
          <a:xfrm>
            <a:off x="179280" y="1700280"/>
            <a:ext cx="8240760" cy="5029200"/>
            <a:chOff x="179280" y="1700280"/>
            <a:chExt cx="8240760" cy="5029200"/>
          </a:xfrm>
        </p:grpSpPr>
        <p:graphicFrame>
          <p:nvGraphicFramePr>
            <p:cNvPr id="215" name="Object 4"/>
            <p:cNvGraphicFramePr/>
            <p:nvPr/>
          </p:nvGraphicFramePr>
          <p:xfrm>
            <a:off x="3564000" y="1700280"/>
            <a:ext cx="1771560" cy="27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1700280"/>
                      <a:ext cx="1771560" cy="2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7" name="Group 16"/>
            <p:cNvGrpSpPr/>
            <p:nvPr/>
          </p:nvGrpSpPr>
          <p:grpSpPr>
            <a:xfrm>
              <a:off x="179280" y="1989000"/>
              <a:ext cx="8240760" cy="4740480"/>
              <a:chOff x="179280" y="1989000"/>
              <a:chExt cx="8240760" cy="4740480"/>
            </a:xfrm>
          </p:grpSpPr>
          <p:graphicFrame>
            <p:nvGraphicFramePr>
              <p:cNvPr id="218" name="Object 6"/>
              <p:cNvGraphicFramePr/>
              <p:nvPr/>
            </p:nvGraphicFramePr>
            <p:xfrm>
              <a:off x="250920" y="3573360"/>
              <a:ext cx="4033800" cy="1584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9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50920" y="3573360"/>
                        <a:ext cx="4033800" cy="158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0" name="Object 8"/>
              <p:cNvGraphicFramePr/>
              <p:nvPr/>
            </p:nvGraphicFramePr>
            <p:xfrm>
              <a:off x="5003640" y="3068640"/>
              <a:ext cx="3416400" cy="1866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1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03640" y="3068640"/>
                        <a:ext cx="3416400" cy="186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2" name="Object 10"/>
              <p:cNvGraphicFramePr/>
              <p:nvPr/>
            </p:nvGraphicFramePr>
            <p:xfrm>
              <a:off x="179280" y="5084640"/>
              <a:ext cx="4035600" cy="16448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23" name="Object 10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79280" y="5084640"/>
                        <a:ext cx="4035600" cy="1644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224" name="Picture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95640" y="1989000"/>
                <a:ext cx="4352760" cy="102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16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именение правил преобразования графиков при решении заданий ЕГЭ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части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43280" y="115920"/>
            <a:ext cx="75628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002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дной системе координат, построим графики функций:  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8319960" y="1849320"/>
                <a:ext cx="209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9" name="Rectangle 5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187280" y="404640"/>
                <a:ext cx="47530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  <m:r>
                      <m:t xml:space="preserve">⇔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Rectangle 16"/>
          <p:cNvSpPr/>
          <p:nvPr/>
        </p:nvSpPr>
        <p:spPr>
          <a:xfrm>
            <a:off x="0" y="1868760"/>
            <a:ext cx="80154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 этой функции получается в результате построения граф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й системе координ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o’y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’(1;0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1332000" y="1989000"/>
                <a:ext cx="755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9"/>
              <p:cNvSpPr txBox="1"/>
              <p:nvPr/>
            </p:nvSpPr>
            <p:spPr>
              <a:xfrm>
                <a:off x="6732720" y="2133720"/>
                <a:ext cx="898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4" name="Picture 40" descr=""/>
          <p:cNvPicPr/>
          <p:nvPr/>
        </p:nvPicPr>
        <p:blipFill>
          <a:blip r:embed="rId1"/>
          <a:stretch/>
        </p:blipFill>
        <p:spPr>
          <a:xfrm>
            <a:off x="7596360" y="2133720"/>
            <a:ext cx="1547640" cy="67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" name="Object 41"/>
              <p:cNvSpPr txBox="1"/>
              <p:nvPr/>
            </p:nvSpPr>
            <p:spPr>
              <a:xfrm>
                <a:off x="395280" y="2708280"/>
                <a:ext cx="1440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2"/>
              <p:cNvSpPr txBox="1"/>
              <p:nvPr/>
            </p:nvSpPr>
            <p:spPr>
              <a:xfrm>
                <a:off x="7812000" y="1268280"/>
                <a:ext cx="10591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Rectangle 46"/>
          <p:cNvSpPr/>
          <p:nvPr/>
        </p:nvSpPr>
        <p:spPr>
          <a:xfrm>
            <a:off x="2246040" y="2852640"/>
            <a:ext cx="568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истем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,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;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троим граф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71"/>
          <p:cNvGrpSpPr/>
          <p:nvPr/>
        </p:nvGrpSpPr>
        <p:grpSpPr>
          <a:xfrm>
            <a:off x="5796000" y="3333600"/>
            <a:ext cx="3348000" cy="3015360"/>
            <a:chOff x="5796000" y="3333600"/>
            <a:chExt cx="3348000" cy="3015360"/>
          </a:xfrm>
        </p:grpSpPr>
        <p:sp>
          <p:nvSpPr>
            <p:cNvPr id="239" name="Rectangle 48"/>
            <p:cNvSpPr/>
            <p:nvPr/>
          </p:nvSpPr>
          <p:spPr>
            <a:xfrm>
              <a:off x="5796000" y="3333600"/>
              <a:ext cx="3348000" cy="30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ешением системы являютс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ординаты точк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сечения график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ара чисел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ер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ерно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ерно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вет: (2;5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49"/>
                <p:cNvSpPr txBox="1"/>
                <p:nvPr/>
              </p:nvSpPr>
              <p:spPr>
                <a:xfrm>
                  <a:off x="5867280" y="4076640"/>
                  <a:ext cx="7923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Object 50"/>
                <p:cNvSpPr txBox="1"/>
                <p:nvPr/>
              </p:nvSpPr>
              <p:spPr>
                <a:xfrm>
                  <a:off x="7164360" y="4149720"/>
                  <a:ext cx="10796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|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Object 54"/>
              <p:cNvSpPr txBox="1"/>
              <p:nvPr/>
            </p:nvSpPr>
            <p:spPr>
              <a:xfrm>
                <a:off x="6156360" y="5229360"/>
                <a:ext cx="13208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|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|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43" name="Group 58"/>
          <p:cNvGrpSpPr/>
          <p:nvPr/>
        </p:nvGrpSpPr>
        <p:grpSpPr>
          <a:xfrm>
            <a:off x="7380360" y="4365720"/>
            <a:ext cx="646920" cy="512640"/>
            <a:chOff x="7380360" y="4365720"/>
            <a:chExt cx="646920" cy="512640"/>
          </a:xfrm>
        </p:grpSpPr>
        <p:sp>
          <p:nvSpPr>
            <p:cNvPr id="244" name="AutoShape 57"/>
            <p:cNvSpPr/>
            <p:nvPr/>
          </p:nvSpPr>
          <p:spPr>
            <a:xfrm>
              <a:off x="7380360" y="4365720"/>
              <a:ext cx="646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59"/>
            <p:cNvSpPr/>
            <p:nvPr/>
          </p:nvSpPr>
          <p:spPr>
            <a:xfrm>
              <a:off x="7934040" y="4543560"/>
              <a:ext cx="64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60"/>
            <p:cNvSpPr/>
            <p:nvPr/>
          </p:nvSpPr>
          <p:spPr>
            <a:xfrm>
              <a:off x="7831080" y="4543560"/>
              <a:ext cx="860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61"/>
            <p:cNvSpPr/>
            <p:nvPr/>
          </p:nvSpPr>
          <p:spPr>
            <a:xfrm>
              <a:off x="7710840" y="4543560"/>
              <a:ext cx="17280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62"/>
            <p:cNvSpPr/>
            <p:nvPr/>
          </p:nvSpPr>
          <p:spPr>
            <a:xfrm>
              <a:off x="7620120" y="4543560"/>
              <a:ext cx="709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63"/>
            <p:cNvSpPr/>
            <p:nvPr/>
          </p:nvSpPr>
          <p:spPr>
            <a:xfrm>
              <a:off x="7505280" y="4543560"/>
              <a:ext cx="12888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64"/>
            <p:cNvSpPr/>
            <p:nvPr/>
          </p:nvSpPr>
          <p:spPr>
            <a:xfrm>
              <a:off x="7414200" y="4543560"/>
              <a:ext cx="8604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5"/>
            <p:cNvSpPr/>
            <p:nvPr/>
          </p:nvSpPr>
          <p:spPr>
            <a:xfrm>
              <a:off x="7791840" y="4392720"/>
              <a:ext cx="6768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66"/>
            <p:cNvSpPr/>
            <p:nvPr/>
          </p:nvSpPr>
          <p:spPr>
            <a:xfrm>
              <a:off x="7534080" y="4405320"/>
              <a:ext cx="6768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3" name="Picture 73" descr=""/>
          <p:cNvPicPr/>
          <p:nvPr/>
        </p:nvPicPr>
        <p:blipFill>
          <a:blip r:embed="rId2"/>
          <a:stretch/>
        </p:blipFill>
        <p:spPr>
          <a:xfrm>
            <a:off x="179280" y="2990880"/>
            <a:ext cx="5038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уравн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g(x))+g(f(x))=3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известно, ч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662472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разуем функ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f(x))=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ставим в уравн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(g(x))+g(f(x))=32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и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g(x))+20=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g(x))=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x)=t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t)=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1000"/>
              </a:lnSpc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110"/>
          <p:cNvGrpSpPr/>
          <p:nvPr/>
        </p:nvGrpSpPr>
        <p:grpSpPr>
          <a:xfrm>
            <a:off x="250920" y="1341360"/>
            <a:ext cx="6481800" cy="833400"/>
            <a:chOff x="250920" y="1341360"/>
            <a:chExt cx="6481800" cy="833400"/>
          </a:xfrm>
        </p:grpSpPr>
        <mc:AlternateContent>
          <mc:Choice xmlns:a14="http://schemas.microsoft.com/office/drawing/2010/main" Requires="a14">
            <p:sp>
              <p:nvSpPr>
                <p:cNvPr id="258" name="Object 13"/>
                <p:cNvSpPr txBox="1"/>
                <p:nvPr/>
              </p:nvSpPr>
              <p:spPr>
                <a:xfrm>
                  <a:off x="3924360" y="1341360"/>
                  <a:ext cx="280836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14"/>
                <p:cNvSpPr txBox="1"/>
                <p:nvPr/>
              </p:nvSpPr>
              <p:spPr>
                <a:xfrm>
                  <a:off x="250920" y="1557360"/>
                  <a:ext cx="216036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15"/>
                <p:cNvSpPr txBox="1"/>
                <p:nvPr/>
              </p:nvSpPr>
              <p:spPr>
                <a:xfrm>
                  <a:off x="971640" y="1844640"/>
                  <a:ext cx="143964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27"/>
                <p:cNvSpPr txBox="1"/>
                <p:nvPr/>
              </p:nvSpPr>
              <p:spPr>
                <a:xfrm>
                  <a:off x="2987640" y="1916280"/>
                  <a:ext cx="792360" cy="25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2" name="Object 12"/>
              <p:cNvSpPr txBox="1"/>
              <p:nvPr/>
            </p:nvSpPr>
            <p:spPr>
              <a:xfrm>
                <a:off x="5219640" y="382680"/>
                <a:ext cx="35132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r>
                              <m:t xml:space="preserve">0,5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п</m:t>
                            </m:r>
                            <m:m>
                              <m:mr>
                                <m:e/>
                                <m:e/>
                                <m:e/>
                              </m:mr>
                            </m:m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,</m:t>
                            </m:r>
                            <m:m>
                              <m:mr>
                                <m:e/>
                                <m:e/>
                                <m:e/>
                              </m:mr>
                            </m:m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28"/>
          <p:cNvSpPr/>
          <p:nvPr/>
        </p:nvSpPr>
        <p:spPr>
          <a:xfrm>
            <a:off x="6732720" y="692280"/>
            <a:ext cx="15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1"/>
          <p:cNvSpPr/>
          <p:nvPr/>
        </p:nvSpPr>
        <p:spPr>
          <a:xfrm>
            <a:off x="6732720" y="3629160"/>
            <a:ext cx="503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1000"/>
              </a:lnSpc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25092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09"/>
          <p:cNvGrpSpPr/>
          <p:nvPr/>
        </p:nvGrpSpPr>
        <p:grpSpPr>
          <a:xfrm>
            <a:off x="0" y="3838680"/>
            <a:ext cx="9144000" cy="3019320"/>
            <a:chOff x="0" y="3838680"/>
            <a:chExt cx="9144000" cy="3019320"/>
          </a:xfrm>
        </p:grpSpPr>
        <p:sp>
          <p:nvSpPr>
            <p:cNvPr id="268" name="Rectangle 17"/>
            <p:cNvSpPr/>
            <p:nvPr/>
          </p:nvSpPr>
          <p:spPr>
            <a:xfrm>
              <a:off x="0" y="3838680"/>
              <a:ext cx="91440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меем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ак как пр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≥5 g(x)=20,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о решения уравнений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4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будем искать среди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&lt;5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огда: а) Уравнение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мет вид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8"/>
                <p:cNvSpPr txBox="1"/>
                <p:nvPr/>
              </p:nvSpPr>
              <p:spPr>
                <a:xfrm>
                  <a:off x="4643280" y="4343400"/>
                  <a:ext cx="3484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|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Rectangle 19"/>
            <p:cNvSpPr/>
            <p:nvPr/>
          </p:nvSpPr>
          <p:spPr>
            <a:xfrm>
              <a:off x="0" y="4775040"/>
              <a:ext cx="896472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ак как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&lt;5,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о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-x&gt;0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вод: уравнени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(x)=0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 имеет корней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 уравнени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(x)=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римет вид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одной системе координат построим графики функци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20"/>
                <p:cNvSpPr txBox="1"/>
                <p:nvPr/>
              </p:nvSpPr>
              <p:spPr>
                <a:xfrm>
                  <a:off x="395280" y="5064120"/>
                  <a:ext cx="16128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21"/>
                <p:cNvSpPr txBox="1"/>
                <p:nvPr/>
              </p:nvSpPr>
              <p:spPr>
                <a:xfrm>
                  <a:off x="250920" y="5999040"/>
                  <a:ext cx="45226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,5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23"/>
                <p:cNvSpPr txBox="1"/>
                <p:nvPr/>
              </p:nvSpPr>
              <p:spPr>
                <a:xfrm>
                  <a:off x="7667640" y="6215040"/>
                  <a:ext cx="132696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38"/>
                <p:cNvSpPr txBox="1"/>
                <p:nvPr/>
              </p:nvSpPr>
              <p:spPr>
                <a:xfrm>
                  <a:off x="6567480" y="6410160"/>
                  <a:ext cx="7970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Group 43"/>
          <p:cNvGrpSpPr/>
          <p:nvPr/>
        </p:nvGrpSpPr>
        <p:grpSpPr>
          <a:xfrm>
            <a:off x="1403280" y="549360"/>
            <a:ext cx="2673360" cy="425520"/>
            <a:chOff x="1403280" y="549360"/>
            <a:chExt cx="2673360" cy="425520"/>
          </a:xfrm>
        </p:grpSpPr>
        <p:sp>
          <p:nvSpPr>
            <p:cNvPr id="276" name="AutoShape 42"/>
            <p:cNvSpPr/>
            <p:nvPr/>
          </p:nvSpPr>
          <p:spPr>
            <a:xfrm>
              <a:off x="1403280" y="549360"/>
              <a:ext cx="26596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4"/>
            <p:cNvSpPr/>
            <p:nvPr/>
          </p:nvSpPr>
          <p:spPr>
            <a:xfrm>
              <a:off x="3783240" y="603360"/>
              <a:ext cx="2934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45"/>
            <p:cNvSpPr/>
            <p:nvPr/>
          </p:nvSpPr>
          <p:spPr>
            <a:xfrm>
              <a:off x="325080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46"/>
            <p:cNvSpPr/>
            <p:nvPr/>
          </p:nvSpPr>
          <p:spPr>
            <a:xfrm>
              <a:off x="256824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47"/>
            <p:cNvSpPr/>
            <p:nvPr/>
          </p:nvSpPr>
          <p:spPr>
            <a:xfrm>
              <a:off x="2498400" y="603360"/>
              <a:ext cx="738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48"/>
            <p:cNvSpPr/>
            <p:nvPr/>
          </p:nvSpPr>
          <p:spPr>
            <a:xfrm>
              <a:off x="2358000" y="603360"/>
              <a:ext cx="1468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49"/>
            <p:cNvSpPr/>
            <p:nvPr/>
          </p:nvSpPr>
          <p:spPr>
            <a:xfrm>
              <a:off x="1968480" y="6033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0"/>
            <p:cNvSpPr/>
            <p:nvPr/>
          </p:nvSpPr>
          <p:spPr>
            <a:xfrm>
              <a:off x="1712160" y="6033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51"/>
            <p:cNvSpPr/>
            <p:nvPr/>
          </p:nvSpPr>
          <p:spPr>
            <a:xfrm>
              <a:off x="2857320" y="580320"/>
              <a:ext cx="8316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2"/>
            <p:cNvSpPr/>
            <p:nvPr/>
          </p:nvSpPr>
          <p:spPr>
            <a:xfrm>
              <a:off x="3622680" y="570960"/>
              <a:ext cx="171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3"/>
            <p:cNvSpPr/>
            <p:nvPr/>
          </p:nvSpPr>
          <p:spPr>
            <a:xfrm>
              <a:off x="3101760" y="570960"/>
              <a:ext cx="982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54"/>
            <p:cNvSpPr/>
            <p:nvPr/>
          </p:nvSpPr>
          <p:spPr>
            <a:xfrm>
              <a:off x="2125440" y="570960"/>
              <a:ext cx="2340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55"/>
            <p:cNvSpPr/>
            <p:nvPr/>
          </p:nvSpPr>
          <p:spPr>
            <a:xfrm>
              <a:off x="341676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56"/>
            <p:cNvSpPr/>
            <p:nvPr/>
          </p:nvSpPr>
          <p:spPr>
            <a:xfrm>
              <a:off x="272952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57"/>
            <p:cNvSpPr/>
            <p:nvPr/>
          </p:nvSpPr>
          <p:spPr>
            <a:xfrm>
              <a:off x="1832040" y="603360"/>
              <a:ext cx="13032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58"/>
            <p:cNvSpPr/>
            <p:nvPr/>
          </p:nvSpPr>
          <p:spPr>
            <a:xfrm>
              <a:off x="1561680" y="603360"/>
              <a:ext cx="81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23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60"/>
          <p:cNvGrpSpPr/>
          <p:nvPr/>
        </p:nvGrpSpPr>
        <p:grpSpPr>
          <a:xfrm>
            <a:off x="250920" y="3573360"/>
            <a:ext cx="7488000" cy="335160"/>
            <a:chOff x="250920" y="3573360"/>
            <a:chExt cx="7488000" cy="335160"/>
          </a:xfrm>
        </p:grpSpPr>
        <p:sp>
          <p:nvSpPr>
            <p:cNvPr id="293" name="AutoShape 59"/>
            <p:cNvSpPr/>
            <p:nvPr/>
          </p:nvSpPr>
          <p:spPr>
            <a:xfrm>
              <a:off x="250920" y="3573360"/>
              <a:ext cx="7488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61"/>
            <p:cNvSpPr/>
            <p:nvPr/>
          </p:nvSpPr>
          <p:spPr>
            <a:xfrm>
              <a:off x="75780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2"/>
            <p:cNvSpPr/>
            <p:nvPr/>
          </p:nvSpPr>
          <p:spPr>
            <a:xfrm>
              <a:off x="664524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3"/>
            <p:cNvSpPr/>
            <p:nvPr/>
          </p:nvSpPr>
          <p:spPr>
            <a:xfrm>
              <a:off x="59047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64"/>
            <p:cNvSpPr/>
            <p:nvPr/>
          </p:nvSpPr>
          <p:spPr>
            <a:xfrm>
              <a:off x="5596920" y="36162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65"/>
            <p:cNvSpPr/>
            <p:nvPr/>
          </p:nvSpPr>
          <p:spPr>
            <a:xfrm>
              <a:off x="548316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66"/>
            <p:cNvSpPr/>
            <p:nvPr/>
          </p:nvSpPr>
          <p:spPr>
            <a:xfrm>
              <a:off x="5126040" y="36162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67"/>
            <p:cNvSpPr/>
            <p:nvPr/>
          </p:nvSpPr>
          <p:spPr>
            <a:xfrm>
              <a:off x="46123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68"/>
            <p:cNvSpPr/>
            <p:nvPr/>
          </p:nvSpPr>
          <p:spPr>
            <a:xfrm>
              <a:off x="41929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337644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70"/>
            <p:cNvSpPr/>
            <p:nvPr/>
          </p:nvSpPr>
          <p:spPr>
            <a:xfrm>
              <a:off x="295776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71"/>
            <p:cNvSpPr/>
            <p:nvPr/>
          </p:nvSpPr>
          <p:spPr>
            <a:xfrm>
              <a:off x="24660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72"/>
            <p:cNvSpPr/>
            <p:nvPr/>
          </p:nvSpPr>
          <p:spPr>
            <a:xfrm>
              <a:off x="2410920" y="3616200"/>
              <a:ext cx="586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73"/>
            <p:cNvSpPr/>
            <p:nvPr/>
          </p:nvSpPr>
          <p:spPr>
            <a:xfrm>
              <a:off x="23011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4"/>
            <p:cNvSpPr/>
            <p:nvPr/>
          </p:nvSpPr>
          <p:spPr>
            <a:xfrm>
              <a:off x="1747800" y="3616200"/>
              <a:ext cx="229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75"/>
            <p:cNvSpPr/>
            <p:nvPr/>
          </p:nvSpPr>
          <p:spPr>
            <a:xfrm>
              <a:off x="1310400" y="3616200"/>
              <a:ext cx="229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76"/>
            <p:cNvSpPr/>
            <p:nvPr/>
          </p:nvSpPr>
          <p:spPr>
            <a:xfrm>
              <a:off x="93852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77"/>
            <p:cNvSpPr/>
            <p:nvPr/>
          </p:nvSpPr>
          <p:spPr>
            <a:xfrm>
              <a:off x="44640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78"/>
            <p:cNvSpPr/>
            <p:nvPr/>
          </p:nvSpPr>
          <p:spPr>
            <a:xfrm>
              <a:off x="394200" y="3616200"/>
              <a:ext cx="529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79"/>
            <p:cNvSpPr/>
            <p:nvPr/>
          </p:nvSpPr>
          <p:spPr>
            <a:xfrm>
              <a:off x="281880" y="3616200"/>
              <a:ext cx="115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80"/>
            <p:cNvSpPr/>
            <p:nvPr/>
          </p:nvSpPr>
          <p:spPr>
            <a:xfrm>
              <a:off x="389844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81"/>
            <p:cNvSpPr/>
            <p:nvPr/>
          </p:nvSpPr>
          <p:spPr>
            <a:xfrm>
              <a:off x="266328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82"/>
            <p:cNvSpPr/>
            <p:nvPr/>
          </p:nvSpPr>
          <p:spPr>
            <a:xfrm>
              <a:off x="643680" y="3597120"/>
              <a:ext cx="64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83"/>
            <p:cNvSpPr/>
            <p:nvPr/>
          </p:nvSpPr>
          <p:spPr>
            <a:xfrm>
              <a:off x="736920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84"/>
            <p:cNvSpPr/>
            <p:nvPr/>
          </p:nvSpPr>
          <p:spPr>
            <a:xfrm>
              <a:off x="643932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85"/>
            <p:cNvSpPr/>
            <p:nvPr/>
          </p:nvSpPr>
          <p:spPr>
            <a:xfrm>
              <a:off x="6064560" y="3591000"/>
              <a:ext cx="14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86"/>
            <p:cNvSpPr/>
            <p:nvPr/>
          </p:nvSpPr>
          <p:spPr>
            <a:xfrm>
              <a:off x="570060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87"/>
            <p:cNvSpPr/>
            <p:nvPr/>
          </p:nvSpPr>
          <p:spPr>
            <a:xfrm>
              <a:off x="534060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88"/>
            <p:cNvSpPr/>
            <p:nvPr/>
          </p:nvSpPr>
          <p:spPr>
            <a:xfrm>
              <a:off x="477180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89"/>
            <p:cNvSpPr/>
            <p:nvPr/>
          </p:nvSpPr>
          <p:spPr>
            <a:xfrm>
              <a:off x="440748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90"/>
            <p:cNvSpPr/>
            <p:nvPr/>
          </p:nvSpPr>
          <p:spPr>
            <a:xfrm>
              <a:off x="405288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91"/>
            <p:cNvSpPr/>
            <p:nvPr/>
          </p:nvSpPr>
          <p:spPr>
            <a:xfrm>
              <a:off x="353664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92"/>
            <p:cNvSpPr/>
            <p:nvPr/>
          </p:nvSpPr>
          <p:spPr>
            <a:xfrm>
              <a:off x="317196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3"/>
            <p:cNvSpPr/>
            <p:nvPr/>
          </p:nvSpPr>
          <p:spPr>
            <a:xfrm>
              <a:off x="281772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4"/>
            <p:cNvSpPr/>
            <p:nvPr/>
          </p:nvSpPr>
          <p:spPr>
            <a:xfrm>
              <a:off x="2023200" y="3591000"/>
              <a:ext cx="10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95"/>
            <p:cNvSpPr/>
            <p:nvPr/>
          </p:nvSpPr>
          <p:spPr>
            <a:xfrm>
              <a:off x="1565280" y="3591000"/>
              <a:ext cx="1821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96"/>
            <p:cNvSpPr/>
            <p:nvPr/>
          </p:nvSpPr>
          <p:spPr>
            <a:xfrm>
              <a:off x="1162080" y="3591000"/>
              <a:ext cx="1350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97"/>
            <p:cNvSpPr/>
            <p:nvPr/>
          </p:nvSpPr>
          <p:spPr>
            <a:xfrm>
              <a:off x="798120" y="3591000"/>
              <a:ext cx="77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98"/>
            <p:cNvSpPr/>
            <p:nvPr/>
          </p:nvSpPr>
          <p:spPr>
            <a:xfrm>
              <a:off x="7267320" y="3616200"/>
              <a:ext cx="590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99"/>
            <p:cNvSpPr/>
            <p:nvPr/>
          </p:nvSpPr>
          <p:spPr>
            <a:xfrm>
              <a:off x="6851880" y="3616200"/>
              <a:ext cx="10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00"/>
            <p:cNvSpPr/>
            <p:nvPr/>
          </p:nvSpPr>
          <p:spPr>
            <a:xfrm>
              <a:off x="63378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01"/>
            <p:cNvSpPr/>
            <p:nvPr/>
          </p:nvSpPr>
          <p:spPr>
            <a:xfrm>
              <a:off x="52002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02"/>
            <p:cNvSpPr/>
            <p:nvPr/>
          </p:nvSpPr>
          <p:spPr>
            <a:xfrm>
              <a:off x="504612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03"/>
            <p:cNvSpPr/>
            <p:nvPr/>
          </p:nvSpPr>
          <p:spPr>
            <a:xfrm>
              <a:off x="43059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04"/>
            <p:cNvSpPr/>
            <p:nvPr/>
          </p:nvSpPr>
          <p:spPr>
            <a:xfrm>
              <a:off x="38109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105"/>
            <p:cNvSpPr/>
            <p:nvPr/>
          </p:nvSpPr>
          <p:spPr>
            <a:xfrm>
              <a:off x="30708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06"/>
            <p:cNvSpPr/>
            <p:nvPr/>
          </p:nvSpPr>
          <p:spPr>
            <a:xfrm>
              <a:off x="257400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07"/>
            <p:cNvSpPr/>
            <p:nvPr/>
          </p:nvSpPr>
          <p:spPr>
            <a:xfrm>
              <a:off x="1051560" y="3616200"/>
              <a:ext cx="648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108"/>
            <p:cNvSpPr/>
            <p:nvPr/>
          </p:nvSpPr>
          <p:spPr>
            <a:xfrm>
              <a:off x="556560" y="3616200"/>
              <a:ext cx="622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475920"/>
            <a:ext cx="1871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14716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ировать приемы построения граф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их применение при построе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графиков сложных фун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ри решении заданий ЕГЭ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ик данной функции получается построением 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’o’y’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;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”o”y”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”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;4), построим график фун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7308720" y="620640"/>
                <a:ext cx="1008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7"/>
              <p:cNvSpPr txBox="1"/>
              <p:nvPr/>
            </p:nvSpPr>
            <p:spPr>
              <a:xfrm>
                <a:off x="539640" y="333360"/>
                <a:ext cx="1008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4"/>
              <p:cNvSpPr txBox="1"/>
              <p:nvPr/>
            </p:nvSpPr>
            <p:spPr>
              <a:xfrm>
                <a:off x="539640" y="1341360"/>
                <a:ext cx="1224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5"/>
              <p:cNvSpPr txBox="1"/>
              <p:nvPr/>
            </p:nvSpPr>
            <p:spPr>
              <a:xfrm>
                <a:off x="7093080" y="1628640"/>
                <a:ext cx="7776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7" name="Object 30"/>
          <p:cNvGraphicFramePr/>
          <p:nvPr/>
        </p:nvGraphicFramePr>
        <p:xfrm>
          <a:off x="5940360" y="3429000"/>
          <a:ext cx="22590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3429000"/>
                    <a:ext cx="22590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31"/>
          <p:cNvGraphicFramePr/>
          <p:nvPr/>
        </p:nvGraphicFramePr>
        <p:xfrm>
          <a:off x="4067280" y="1052640"/>
          <a:ext cx="190476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052640"/>
                    <a:ext cx="19047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Rectangle 32"/>
          <p:cNvSpPr/>
          <p:nvPr/>
        </p:nvSpPr>
        <p:spPr>
          <a:xfrm>
            <a:off x="5219640" y="4149720"/>
            <a:ext cx="3708360" cy="16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&lt;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довлетворяет абсцисса общей точки график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36" descr=""/>
          <p:cNvPicPr/>
          <p:nvPr/>
        </p:nvPicPr>
        <p:blipFill>
          <a:blip r:embed="rId5"/>
          <a:stretch/>
        </p:blipFill>
        <p:spPr>
          <a:xfrm>
            <a:off x="324000" y="1981080"/>
            <a:ext cx="49244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92360" y="425520"/>
            <a:ext cx="2159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67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видим, что правила преобразования графиков существенно упрощают построение графиков сложных фун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гают найти нетрадиционное решение слож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920" y="1627920"/>
            <a:ext cx="8640720" cy="2837160"/>
          </a:xfrm>
          <a:prstGeom prst="rect">
            <a:avLst/>
          </a:prstGeom>
          <a:noFill/>
          <a:ln w="0">
            <a:noFill/>
          </a:ln>
          <a:effectLst>
            <a:outerShdw dist="77353" dir="21037522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Тема: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	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«</a:t>
            </a:r>
            <a:r>
              <a:rPr b="1" lang="en-GB" sz="6000" spc="-1" strike="noStrike">
                <a:solidFill>
                  <a:srgbClr val="0000cc"/>
                </a:solidFill>
                <a:latin typeface="Courier New"/>
              </a:rPr>
              <a:t>Преобразование графиков функции</a:t>
            </a:r>
            <a:r>
              <a:rPr b="1" lang="ru-RU" sz="6000" spc="-1" strike="noStrike">
                <a:solidFill>
                  <a:srgbClr val="0000cc"/>
                </a:solidFill>
                <a:latin typeface="Courier New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16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мотрим основные правила преобразования графиков на примерах элементар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5160"/>
            <a:ext cx="91454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еобразование симметрии относительно оси x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485040" y="539640"/>
            <a:ext cx="2514600" cy="2238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42920" y="1240560"/>
            <a:ext cx="3779640" cy="32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рафик функции y=-f(x) получ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нием симметрии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функции y=f(x) относительно оси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Замечание.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 Точки пересечения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графика с осью x остаются неиз</a:t>
            </a: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мен</a:t>
            </a:r>
            <a:r>
              <a:rPr b="0" i="1" lang="en-GB" sz="2400" spc="-1" strike="noStrike">
                <a:solidFill>
                  <a:srgbClr val="cc0000"/>
                </a:solidFill>
                <a:latin typeface="Arial"/>
              </a:rPr>
              <a:t>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00080" y="539640"/>
            <a:ext cx="2419200" cy="292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130320" y="3908520"/>
            <a:ext cx="2749320" cy="294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3203640" y="4905360"/>
            <a:ext cx="5940360" cy="19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реобразование симметрии относительно оси y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79280" y="539640"/>
            <a:ext cx="2521080" cy="2211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879280" y="853560"/>
            <a:ext cx="5264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рафик функции y=f(-x) получается преобразованием симметрии графика функции y=f(x) относительно оси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Точка пересечения графика с осью y остается неизмен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108000" y="4884840"/>
            <a:ext cx="2700360" cy="197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138240" y="2700360"/>
            <a:ext cx="2382840" cy="2160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2771640" y="4292640"/>
            <a:ext cx="3432240" cy="196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5"/>
          <a:stretch/>
        </p:blipFill>
        <p:spPr>
          <a:xfrm>
            <a:off x="6012000" y="4419720"/>
            <a:ext cx="3132000" cy="1662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2771640" y="2060640"/>
            <a:ext cx="6235920" cy="18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Замечание 1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График четной функции не изменяется при отражении относительно оси y, поскольку для четной функции f(-x)=f(x)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-x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Замечание 2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График нечетной функции изменяется одина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о как при отражении относительно 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x, так и при отражении относительно оси y, посольку для нечетной функции f(-x)=-f(x).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in(-x)=-sin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115200"/>
            <a:ext cx="6769080" cy="6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x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-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360036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функции y=f(x-a) получается параллельным переносом графика функции y=f(x) вдоль оси x на |a| вправо при a&gt;0 и влево при a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74600" y="3419640"/>
            <a:ext cx="2705040" cy="233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4867200" cy="2076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3351240" y="3138480"/>
            <a:ext cx="5648400" cy="13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4"/>
          <a:stretch/>
        </p:blipFill>
        <p:spPr>
          <a:xfrm>
            <a:off x="2879640" y="4530600"/>
            <a:ext cx="6162840" cy="14097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79280" y="6344640"/>
            <a:ext cx="914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График периодической функции с периодом T не изменяется при параллельных переносах вдоль оси x на nT, n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7160"/>
            <a:ext cx="822312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Параллельный перенос вдоль оси y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(x)+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700000" y="1397160"/>
            <a:ext cx="342108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рафик функции y=f(x)+b получается параллельным переносом графика функции y=f(x) вдоль оси y на |b| вверх при b&gt;0 и вниз при b&l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352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646200"/>
            <a:ext cx="2581200" cy="313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-33480" y="4410000"/>
            <a:ext cx="2733840" cy="244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4"/>
          <a:stretch/>
        </p:blipFill>
        <p:spPr>
          <a:xfrm>
            <a:off x="3095640" y="4365720"/>
            <a:ext cx="604836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152280"/>
            <a:ext cx="8223480" cy="5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Сжатие и растяжение вдоль оси x</a:t>
            </a:r>
            <a:br>
              <a:rPr sz="28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), где </a:t>
            </a:r>
            <a:r>
              <a:rPr b="1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3431880"/>
            <a:ext cx="270036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График функции y=а(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) получается сжатием графика функции y=f(x) вдоль оси x в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р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79280" y="1839960"/>
            <a:ext cx="2714760" cy="140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00000" cy="36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36360" y="6487560"/>
            <a:ext cx="91440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Точки с пересечения графика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ью y остаются неизм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3413160" y="1660680"/>
            <a:ext cx="288612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4173480" y="1079640"/>
            <a:ext cx="140652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tretch/>
        </p:blipFill>
        <p:spPr>
          <a:xfrm>
            <a:off x="3203640" y="3141720"/>
            <a:ext cx="5649840" cy="175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6"/>
          <a:stretch/>
        </p:blipFill>
        <p:spPr>
          <a:xfrm>
            <a:off x="3314880" y="4941720"/>
            <a:ext cx="5829120" cy="1390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6119640" y="996840"/>
            <a:ext cx="29322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&lt;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1 График функции y=f(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) получается растяжением графика функции y=f(x) вдоль оси x в 1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3120" cy="6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жатие и 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тяжение вдоль оси 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n-GB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f(x), где k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059280" y="993600"/>
            <a:ext cx="57607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1000"/>
              </a:lnSpc>
              <a:spcBef>
                <a:spcPts val="8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&gt;1 График функции y=kf(x) получается растяжением графика функции y=f(x) вдоль оси y в k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79280" y="720720"/>
            <a:ext cx="2314800" cy="16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900000" y="473040"/>
            <a:ext cx="695520" cy="247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060720" y="2842200"/>
            <a:ext cx="524016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&lt;k&lt;1 График функции y=kf(x) получается сжатием графика функции y=f(x) вдоль оси y в 1/k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79280" y="2700360"/>
            <a:ext cx="2400480" cy="153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628560" y="2471760"/>
            <a:ext cx="1171800" cy="228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0" y="6533640"/>
            <a:ext cx="91440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71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Замечание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Точки пересечения графика с осью x остаются неизмен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5"/>
          <a:stretch/>
        </p:blipFill>
        <p:spPr>
          <a:xfrm>
            <a:off x="0" y="4149720"/>
            <a:ext cx="86688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6"/>
          <a:stretch/>
        </p:blipFill>
        <p:spPr>
          <a:xfrm>
            <a:off x="0" y="4581360"/>
            <a:ext cx="324000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7"/>
          <a:stretch/>
        </p:blipFill>
        <p:spPr>
          <a:xfrm>
            <a:off x="3314880" y="4653000"/>
            <a:ext cx="582912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7T21:24:33Z</dcterms:modified>
  <cp:revision>37</cp:revision>
  <dc:subject/>
  <dc:title>Преобразование графиков функции</dc:title>
</cp:coreProperties>
</file>