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D75F-E518-4043-BA6A-0635EABB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660F-F18D-446F-AF47-41359E2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94AC-F27B-47B6-B529-FBBBEE0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C4A1-9361-49E0-9425-DE8E78D3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612-471F-4900-A368-097D85E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5AAC-9BAD-4CC0-86D8-D76B6EEA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0706-E6D1-441B-8590-0114AD12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FE09-22D9-4DC5-942C-ECB23790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AF5-E994-45FD-84FD-9730CAD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9BCB-4485-4BDD-8A5D-541AEB87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E80-FD36-4B65-9062-D405F4B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0883-C122-4749-AD5B-A7A9313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0B0-49A4-41B4-B904-41FE3EE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F649-34EC-470F-BFDD-4EABB835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376-B506-44CE-BFFD-B8EC8FA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5638-4351-4986-960C-E502F038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C73B-E95E-4607-A14D-FA202DF1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D0F5-859A-4F5B-AD32-26E3880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E963-4D0C-41F6-96CF-22FDD067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150A-412E-4180-A34D-AAF4287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EF0F-0ACA-4C8D-A670-6937EE8E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6548-C89F-4819-AC21-F696454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73FB-837F-47EE-B307-01A7288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36FF-7489-4873-882C-8500C57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DF3E-3B6E-4594-B717-8E73FF39C80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2B4-F4C9-413B-95EF-C7F094FF393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для проведения беседы с учащими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правилах поведения в теа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– учитель МОУ СОШ № 5 г. Светлого Калининградской об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лесова Галина Плато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сурс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64304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-web.ru/fe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mospravda.ru/iss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teatr-tolstogo.ru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rian.ru/im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show-master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Admin</cp:lastModifiedBy>
  <dcterms:modified xsi:type="dcterms:W3CDTF">2012-11-09T20:12:54Z</dcterms:modified>
  <cp:revision>77</cp:revision>
  <dc:subject/>
  <dc:title>Правила  культурного  поведения в театре</dc:title>
</cp:coreProperties>
</file>