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CB69E-CD14-47FD-8B14-9958A75E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C1A7D-ED30-48F1-838A-8F1C34EE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3C79A-94AD-4E72-A6B5-DCE0C662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FF705-CDEE-4620-A871-D33DD6C3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A313-6906-4411-922B-AB02241F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0B93-B3BC-4882-AFA6-B70A48EF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5D0F-D13E-4424-A08E-D57AC818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E614-7D96-4DC8-AAC8-2075E0FE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0558-EE46-4657-838D-662DAA55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BBA2-C46F-4A44-BE06-2CF0166D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02D4-9DFB-4633-89C8-F9635CD7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65230-421B-4788-A3FF-E1E76DDE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CF09-B5D7-49BC-AE0A-D58F5341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90EB-3F40-49EC-A804-00722412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E910-1790-46C7-8F8E-726FD50C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F689-0A7B-40E9-9A68-F7F43EA3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5F3A-15A2-4E65-AB0D-24814EE6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0A648-D624-4282-BFE4-35ADAFDF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0841-7871-413A-A6A6-D7CE47BB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2F09-238A-4463-9188-D18632CC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7F7A9-2DD8-4421-95A1-13027A3D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3297B-2FBC-48B6-9EA3-72524E17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0ED60-E3BB-4999-98EA-6AF03160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CB620-53C9-440D-86FF-7FEC62F7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4396-4832-4491-98C1-0F0D9111E39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1A44-68B1-4AA5-8843-2BB583287DB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arusel-toys.ru/images/catalog/image_b.php?namephoto=2905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ermitage.internet.emax.ru/hermitage/imgs_Ru/05/5_0_12_2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840" y="2714760"/>
            <a:ext cx="8572680" cy="16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cc"/>
                </a:solidFill>
                <a:latin typeface="Arial"/>
                <a:ea typeface="Arial"/>
              </a:rPr>
              <a:t>Правила поведения в театр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4500360"/>
            <a:ext cx="82155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зентация для проведения беседы с учащими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 правилах поведения в теат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 – учитель МОУ СОШ № 5 г. Светлого Калининградской об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лесова Галина Платон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2" descr="Картинка 15 из 5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43120" y="142920"/>
            <a:ext cx="36435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4000680"/>
            <a:ext cx="91440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высшей степени невежливо во время спектакля обращаться с вопросами к соседям, комментировать происходящее на сцене, разговаривать, шелестеть программкой, шуршать обертками, е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Юбилей Мариинского театра"/>
          <p:cNvPicPr/>
          <p:nvPr/>
        </p:nvPicPr>
        <p:blipFill>
          <a:blip r:embed="rId1"/>
          <a:stretch/>
        </p:blipFill>
        <p:spPr>
          <a:xfrm>
            <a:off x="1785960" y="142920"/>
            <a:ext cx="535788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42920" y="4429080"/>
            <a:ext cx="88581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 время спектакля не разговаривай с соседями. Это мешает актёрам и отвлекает зрите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аже если тебе не очень нравится спектакль, обсуждать это во время действия неприлич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2" descr="http://www.show-master.ru/pic/33/big/56.2.jpg"/>
          <p:cNvPicPr/>
          <p:nvPr/>
        </p:nvPicPr>
        <p:blipFill>
          <a:blip r:embed="rId1"/>
          <a:stretch/>
        </p:blipFill>
        <p:spPr>
          <a:xfrm>
            <a:off x="2357280" y="214200"/>
            <a:ext cx="4822920" cy="3214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teatr_deti"/>
          <p:cNvPicPr/>
          <p:nvPr/>
        </p:nvPicPr>
        <p:blipFill>
          <a:blip r:embed="rId2"/>
          <a:stretch/>
        </p:blipFill>
        <p:spPr>
          <a:xfrm>
            <a:off x="642960" y="285768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42920" y="4428720"/>
            <a:ext cx="88581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 постукивайте ногой в такт музыке - это мешает слуш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8" descr="Картинка 1 из 2013"/>
          <p:cNvPicPr/>
          <p:nvPr/>
        </p:nvPicPr>
        <p:blipFill>
          <a:blip r:embed="rId1"/>
          <a:stretch/>
        </p:blipFill>
        <p:spPr>
          <a:xfrm>
            <a:off x="1785960" y="214200"/>
            <a:ext cx="5275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42920" y="4928760"/>
            <a:ext cx="88581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пить воды, съесть конфету или бутерброд в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жете в буфете во время антракта. Есть во врем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пектакля неприлич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http://www.rgtk.ru/pictures/rgtk/p1070125.jpg"/>
          <p:cNvPicPr/>
          <p:nvPr/>
        </p:nvPicPr>
        <p:blipFill>
          <a:blip r:embed="rId1"/>
          <a:stretch/>
        </p:blipFill>
        <p:spPr>
          <a:xfrm>
            <a:off x="4857840" y="142920"/>
            <a:ext cx="3357360" cy="2517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http://www.pilig.ru/images/news133/2.jpg"/>
          <p:cNvPicPr/>
          <p:nvPr/>
        </p:nvPicPr>
        <p:blipFill>
          <a:blip r:embed="rId2"/>
          <a:stretch/>
        </p:blipFill>
        <p:spPr>
          <a:xfrm>
            <a:off x="2857680" y="285768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Картинка 17 из 523"/>
          <p:cNvPicPr/>
          <p:nvPr/>
        </p:nvPicPr>
        <p:blipFill>
          <a:blip r:embed="rId3"/>
          <a:stretch/>
        </p:blipFill>
        <p:spPr>
          <a:xfrm>
            <a:off x="285840" y="142920"/>
            <a:ext cx="386244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428616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нтракт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разговаривайте тихо - так, чтобы слыш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шь собеседник. Будьте скромны - не думайте, ч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ружающих интересует именно ваше мнение о спектакл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ртине, лекции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6357960" y="2438280"/>
            <a:ext cx="3152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http://szb.sbrf.ru/charity/drinka_056.jpg"/>
          <p:cNvPicPr/>
          <p:nvPr/>
        </p:nvPicPr>
        <p:blipFill>
          <a:blip r:embed="rId1"/>
          <a:stretch/>
        </p:blipFill>
        <p:spPr>
          <a:xfrm>
            <a:off x="2071800" y="500040"/>
            <a:ext cx="47624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-360" y="4071600"/>
            <a:ext cx="8929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 вставайте с места, пока не опустят занаве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 только потому, что это нетактично п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тношению к актёрам и зрителям. Часто послед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лова пьесы бывают самые важ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3" descr="Сцена с участниками концерта"/>
          <p:cNvPicPr/>
          <p:nvPr/>
        </p:nvPicPr>
        <p:blipFill>
          <a:blip r:embed="rId1"/>
          <a:stretch/>
        </p:blipFill>
        <p:spPr>
          <a:xfrm>
            <a:off x="1643040" y="285840"/>
            <a:ext cx="50846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42560" y="4643280"/>
            <a:ext cx="8543880" cy="14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жать в гардероб, пока артисты на сцене, по крайней мере, невежли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5" descr="http://www.mospravda.ru/i/issue/12715-untitled.jpg"/>
          <p:cNvPicPr/>
          <p:nvPr/>
        </p:nvPicPr>
        <p:blipFill>
          <a:blip r:embed="rId1"/>
          <a:stretch/>
        </p:blipFill>
        <p:spPr>
          <a:xfrm>
            <a:off x="3143160" y="142920"/>
            <a:ext cx="2381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4214520"/>
            <a:ext cx="900108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орошие спектакли, концерты классическ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узыки долго хранятся в памяти. Пусть ж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печатление от них не будет испорчено незнани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лементарных правил повед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2" descr="ВЕНЕЦИАНСКАЯ КАРНАВАЛЬНАЯ МАСКА"/>
          <p:cNvPicPr/>
          <p:nvPr/>
        </p:nvPicPr>
        <p:blipFill>
          <a:blip r:embed="rId1"/>
          <a:stretch/>
        </p:blipFill>
        <p:spPr>
          <a:xfrm>
            <a:off x="142920" y="142920"/>
            <a:ext cx="3714840" cy="2522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http://www.fin-crisis.ru/_nw/9/16164.jpg"/>
          <p:cNvPicPr/>
          <p:nvPr/>
        </p:nvPicPr>
        <p:blipFill>
          <a:blip r:embed="rId2"/>
          <a:stretch/>
        </p:blipFill>
        <p:spPr>
          <a:xfrm>
            <a:off x="3929040" y="1071720"/>
            <a:ext cx="41432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есурсы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28760" y="1643040"/>
            <a:ext cx="822960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-web.ru/fe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.mospravda.ru/iss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.teatr-tolstogo.ru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rian.ru/imag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.show-master.r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7640" y="4429080"/>
            <a:ext cx="8893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меть быть тактичным, предупредительным, вежливым дома и в  школе , в гостях и в общественных местах — одно из положительных качеств воспитанного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10" descr="http://pics.livejournal.com/sergey_63/pic/000fsq8a/s320x240"/>
          <p:cNvPicPr/>
          <p:nvPr/>
        </p:nvPicPr>
        <p:blipFill>
          <a:blip r:embed="rId1"/>
          <a:stretch/>
        </p:blipFill>
        <p:spPr>
          <a:xfrm>
            <a:off x="142920" y="2000160"/>
            <a:ext cx="2714760" cy="203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артинка 1 из 11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43160" y="142920"/>
            <a:ext cx="42944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442872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вая в театре, кинотеатре, читальном зал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ее, на лекции, надо всегда помнить, что вы зде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один: вести себя так, чтобы не мешать други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http://feb-web.ru/feb/lermont/pictures/PLM-0442.jpg"/>
          <p:cNvPicPr/>
          <p:nvPr/>
        </p:nvPicPr>
        <p:blipFill>
          <a:blip r:embed="rId1"/>
          <a:stretch/>
        </p:blipFill>
        <p:spPr>
          <a:xfrm>
            <a:off x="1928880" y="214200"/>
            <a:ext cx="461952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42560" y="4571640"/>
            <a:ext cx="87152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щущение праздника создает нарядная одеж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http://www.u-mama.ru/img/news/00001_740.jpg"/>
          <p:cNvPicPr/>
          <p:nvPr/>
        </p:nvPicPr>
        <p:blipFill>
          <a:blip r:embed="rId1"/>
          <a:stretch/>
        </p:blipFill>
        <p:spPr>
          <a:xfrm>
            <a:off x="928800" y="571680"/>
            <a:ext cx="6191280" cy="3076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http://tbn2.google.com/images?q=tbn:jq2KllfLX1ENoM:http://www.ljplus.ru/img4/a/r/arina_holina/dior.jpg"/>
          <p:cNvPicPr/>
          <p:nvPr/>
        </p:nvPicPr>
        <p:blipFill>
          <a:blip r:embed="rId2"/>
          <a:stretch/>
        </p:blipFill>
        <p:spPr>
          <a:xfrm>
            <a:off x="5072040" y="571680"/>
            <a:ext cx="20494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42920" y="4357440"/>
            <a:ext cx="87868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спектакль следует прийти за 15-20 мину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тоб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дать верхнюю одежду в гардероб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обрести программку, которая ознакомит ва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ставом исполнителей, прочесть её, найти своё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ст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3280" indent="-23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вое мест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http://www.teatr-tolstogo.ru/uploads/images/content/history-1.jpg"/>
          <p:cNvPicPr/>
          <p:nvPr/>
        </p:nvPicPr>
        <p:blipFill>
          <a:blip r:embed="rId1"/>
          <a:stretch/>
        </p:blipFill>
        <p:spPr>
          <a:xfrm>
            <a:off x="5072040" y="285840"/>
            <a:ext cx="2476440" cy="3714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http://www.tortos.ru/aks/garda_2.jpg"/>
          <p:cNvPicPr/>
          <p:nvPr/>
        </p:nvPicPr>
        <p:blipFill>
          <a:blip r:embed="rId2"/>
          <a:stretch/>
        </p:blipFill>
        <p:spPr>
          <a:xfrm>
            <a:off x="142920" y="714240"/>
            <a:ext cx="41641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0" y="4214520"/>
            <a:ext cx="91440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мерок от пальто лучше положить в карман или сумочку, а не теребить в руках - чтоб случайно не уронить во время спектак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http://belousoff06.ru/img/n4.gif"/>
          <p:cNvPicPr/>
          <p:nvPr/>
        </p:nvPicPr>
        <p:blipFill>
          <a:blip r:embed="rId1"/>
          <a:stretch/>
        </p:blipFill>
        <p:spPr>
          <a:xfrm>
            <a:off x="1571760" y="1285920"/>
            <a:ext cx="1973160" cy="2143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http://www.megalit.sp.ru/images_gn/19_gn.jpg"/>
          <p:cNvPicPr/>
          <p:nvPr/>
        </p:nvPicPr>
        <p:blipFill>
          <a:blip r:embed="rId2"/>
          <a:stretch/>
        </p:blipFill>
        <p:spPr>
          <a:xfrm>
            <a:off x="4929120" y="1357200"/>
            <a:ext cx="2571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42920" y="4071960"/>
            <a:ext cx="88581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бираясь к своему месту, надо проходи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доль ряда кресел лицом к уже сидящим зрителя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едварительно сказав: «Разрешите пройт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ходить к ним спиной некультур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12" descr="http://www.bashinform.ru/photos/2007-07-28/IMG_8798.jpg"/>
          <p:cNvPicPr/>
          <p:nvPr/>
        </p:nvPicPr>
        <p:blipFill>
          <a:blip r:embed="rId1"/>
          <a:stretch/>
        </p:blipFill>
        <p:spPr>
          <a:xfrm>
            <a:off x="2071800" y="285840"/>
            <a:ext cx="48574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2921040" cy="1857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142920" y="4142880"/>
            <a:ext cx="885816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Если ваше место по недоразумению оказало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анятым, не вступайте в пререкания, прос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просите капельдинера разрешить эту ситуа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Картинка 1 из 23"/>
          <p:cNvPicPr/>
          <p:nvPr/>
        </p:nvPicPr>
        <p:blipFill>
          <a:blip r:embed="rId2"/>
          <a:stretch/>
        </p:blipFill>
        <p:spPr>
          <a:xfrm>
            <a:off x="4214880" y="428760"/>
            <a:ext cx="3727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0" y="407196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авное правило, неукоснительно соблюдаемое воспитанным человеком в театре, — поддержание глубокой тишины. Мобильные телефоны и пейджеры нужно обязательно выключить до начала представ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http://www.mobile-review.com/phonemodels/nokia/image/2100.jpg"/>
          <p:cNvPicPr/>
          <p:nvPr/>
        </p:nvPicPr>
        <p:blipFill>
          <a:blip r:embed="rId1"/>
          <a:stretch/>
        </p:blipFill>
        <p:spPr>
          <a:xfrm>
            <a:off x="6929280" y="2571840"/>
            <a:ext cx="1446480" cy="1533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http://mignews.com.ua/data/Articles/AnonsPhoto/290321.JPEG"/>
          <p:cNvPicPr/>
          <p:nvPr/>
        </p:nvPicPr>
        <p:blipFill>
          <a:blip r:embed="rId2"/>
          <a:stretch/>
        </p:blipFill>
        <p:spPr>
          <a:xfrm>
            <a:off x="214200" y="2714760"/>
            <a:ext cx="1405080" cy="1344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s54.radikal.ru/i144/0903/1d/93405356f77c.jpg"/>
          <p:cNvPicPr/>
          <p:nvPr/>
        </p:nvPicPr>
        <p:blipFill>
          <a:blip r:embed="rId3"/>
          <a:stretch/>
        </p:blipFill>
        <p:spPr>
          <a:xfrm>
            <a:off x="1785960" y="214200"/>
            <a:ext cx="49435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20:10:09Z</dcterms:created>
  <dc:creator>T.R.A.S.H.</dc:creator>
  <dc:description/>
  <dc:language>en-US</dc:language>
  <cp:lastModifiedBy>Admin</cp:lastModifiedBy>
  <dcterms:modified xsi:type="dcterms:W3CDTF">2012-11-09T20:12:54Z</dcterms:modified>
  <cp:revision>77</cp:revision>
  <dc:subject/>
  <dc:title>Правила  культурного  поведения в театре</dc:title>
</cp:coreProperties>
</file>