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13.gif" ContentType="image/gif"/>
  <Override PartName="/ppt/media/image14.gif" ContentType="image/gif"/>
  <Override PartName="/ppt/media/image1.gif" ContentType="image/gif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10.jpeg" ContentType="image/jpeg"/>
  <Override PartName="/ppt/media/image5.jpeg" ContentType="image/jpeg"/>
  <Override PartName="/ppt/media/image7.gif" ContentType="image/gif"/>
  <Override PartName="/ppt/media/image12.gif" ContentType="image/gif"/>
  <Override PartName="/ppt/media/image6.gif" ContentType="image/gif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3CDD2-E13E-4C95-8A98-1AD383D7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D04A3-C45E-47D0-AD70-2554A73F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C6FAC-F10C-4396-ABD5-2679297F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1E1D-C207-4FEA-BD76-AF93960D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5CD9-AE69-4C7A-8127-E0394E26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BC2C-ACF0-4A5C-85E9-178E6ED9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1CE2-47DC-484E-B1F1-12031473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D96A-8F90-49C6-9272-46B97CFA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E623-36E0-4CFC-A565-9DEC88C6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8262-6DDE-45B8-B91B-75646601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5832-1FB3-4280-BD31-848B39FF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311CB-35BE-4684-AC2F-2F2F5EF7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AC2F-BD0D-4CE6-9A59-9DB515EB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40F5-50E4-434E-BB07-E4FF8D47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3FD9-E34B-4166-B2C3-9F94417A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FDC6-5171-4927-AC52-5B28CD3F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5F3B-8FEB-4ED4-9FBF-C2BFB1D9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4690D-FA79-4638-9992-A1C13EC9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C5357-4ED6-4FF3-8FC0-2D568555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C1C88-1F27-4CF4-A01B-85217A9C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4218B-AA37-415A-8540-DC7453D7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4CCB-6061-43C6-A3A0-075A18E5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BE7A6-FDFE-4B3D-9156-034799DE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96BA-A8AD-47CC-B1E7-D22C300C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0CE8-CD69-40F0-AB63-9B0B1B66FD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9D22-2DE3-402E-AEB4-14AD65337E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mayli.ru/smile/knigi-190.html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Monotype Corsiva"/>
              </a:rPr>
              <a:t>«МОУ  Мугунская средняя общеобразовательная школа»</a:t>
            </a:r>
            <a:br>
              <a:rPr sz="2400"/>
            </a:br>
            <a:r>
              <a:rPr b="1" i="1" lang="en-US" sz="6000" spc="-1" strike="noStrike">
                <a:solidFill>
                  <a:srgbClr val="ff0000"/>
                </a:solidFill>
                <a:latin typeface="Monotype Corsiva"/>
              </a:rPr>
              <a:t>«Уроки ОБЖ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18920" y="2133360"/>
            <a:ext cx="6481800" cy="3600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Прави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Повед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 </a:t>
            </a: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на улиц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 Black"/>
              </a:rPr>
              <a:t>Учитель ОБЖ: Зайцева Н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профессор"/>
          <p:cNvPicPr/>
          <p:nvPr/>
        </p:nvPicPr>
        <p:blipFill>
          <a:blip r:embed="rId1"/>
          <a:stretch/>
        </p:blipFill>
        <p:spPr>
          <a:xfrm>
            <a:off x="0" y="4606920"/>
            <a:ext cx="237636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lonna MT"/>
              </a:rPr>
              <a:t>Приставание незнакомых людей, нападение на у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835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Ястреб! Ястреб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ыш злодей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Эй, кричите посиль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у-ка выпусти цыпле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лой разбойник, из когт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Так советовали грузинские бабушки своим внукам при опасности захвата злоумышлен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А потому запомни самые важные правила и постарайся никогда их не наруш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4316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 разговаривай с незнакомыми людьми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А незнакомый человек – это тот, кого ты лично хорошо не знаеш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И пусть ты видишь его у вас во дворе или он называет тебя по имени, а также знает как зовут твоих родных, это ни о чем не говорит. Если он спросит о чем-либо, ответь коротко и в беседу не вступай. Опытный мошенник может быстро разговорит тебя в нужном направл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2920" y="549000"/>
            <a:ext cx="4038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 забывай о том, что всегда существует опасность повстречать маньяка – человека одержимого болезненным пристрастием к совершению насилия над жертвой. И маньяки зачастую совсем не похожи на Фредди Крюгера из «Кошмара на улице Вязов». При обычном взгляде они вполне приличные люди, хорошие собеседники, часто с приятной внеш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профессор"/>
          <p:cNvPicPr/>
          <p:nvPr/>
        </p:nvPicPr>
        <p:blipFill>
          <a:blip r:embed="rId1"/>
          <a:stretch/>
        </p:blipFill>
        <p:spPr>
          <a:xfrm>
            <a:off x="2340000" y="4365720"/>
            <a:ext cx="2521080" cy="2387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591840"/>
            <a:ext cx="633564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ичего ни бери у незнакомых люде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же если они предлагают интересные для тебя предметы, конфеты, фрукты, щенка, день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блюдай осторожность в отношениях с новыми знакомы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оторые специально завязывают знакомства, чтобы использовать их для совершения преступлений. Вспомни сюжет фильма «Вор», в котором преступник предлагал соседям билеты в цирк, чтобы без помех ограбить их кварти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позволяй преступнику «сыграть» на твоем любопытств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Пойдем я тебе что-то покажу! Там так интересно! Ты такого никогда не видел!» и подросток вслед за преступником отправляется туда, где уже никто не может прийти ему на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16720" y="3429000"/>
            <a:ext cx="262728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906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задерживайся и не отвлекайся по пути своего следования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 школу, в магазин, в гости, домой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Не оставайся на улице без сопровождения старших с наступлением темн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икогда не садись в чужую автомашину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без разрешения родителей, тем более к незнакомц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даже если он обещает что-то заманчивое. При излишне настойчивом приставании подними ш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313380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3789360"/>
            <a:ext cx="8280360" cy="2735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Запомн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орядочный человек, как правил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не обратится к ребенку за помощ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Чтобы не попасть в бе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Соблюдай эти правила, избегай опасных ме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 сам не создавай заведомо опасных ситу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25200" y="259920"/>
            <a:ext cx="64184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Некоторые фак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Симпатичный водитель знакомился с мальчиками и предлагал им заработать. Ребята легко соглашались, преступник сажал их в свою машину и увозил их в гараж. Больше ребят никто не видел. Через много месяцев милиция задержала преступника и нашла могилы замученных им жер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3456000" cy="1555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авила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. Избегай одиночных прогулок, где мало людей. В темное время суток не выходи из дома о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. Идя по улице навстречу движению транспорта, вы не подвергнетесь внезапному нападению из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. Если навстречу движется группа подростков, а по близости нет людей, лучше перейти на другую сторону или повернуть наз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. Если кто-то преследует, беги к месту большого скопления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5. Если у тебя требуют деньги, телефон и другие вещи – отдай сразу, не сопротивляя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6.Если тебя кто-то силой пытается увлечь за собой, кричи громк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«Помогите! Я не знаю этого человека!» Пытайся вырваться любыми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050560" y="1341360"/>
            <a:ext cx="66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Внимательно рассмотри компанию подрост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Если ты идешь со своими приятелями и тебя отзывают, просят подойти на минутку, никогда не отходи от своих спу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Не носи гуляя в одиночку, дорогие, привлекающие внимание вещи (украшения, фотоаппараты, бинокли, час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Не носи с собой крупные суммы денег. Если  у тебя требуют деньги – отдай мелочь сразу, не сопротивляя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404640"/>
            <a:ext cx="8642160" cy="936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0000"/>
              </a:gs>
              <a:gs pos="50000">
                <a:srgbClr val="ffcc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Как не стать жертвой ищущей приключения компа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203220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1196640"/>
            <a:ext cx="6202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гуляй в одиночеств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Как показали специальные исследования, ходьба по улице с одним спутником снижает риск подвергнуться нападению на 65%, а с двумя и более на 90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Идя по пустынной дороге или тротуару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ержись на некотором расстоянии от кустов, невысоких стен, темных подъез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Для прогулки одевайся так чтобы одежда не препятствовала свободе движений и бег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333360"/>
            <a:ext cx="7561080" cy="792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Как вести себя на прогул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профессор"/>
          <p:cNvPicPr/>
          <p:nvPr/>
        </p:nvPicPr>
        <p:blipFill>
          <a:blip r:embed="rId1"/>
          <a:stretch/>
        </p:blipFill>
        <p:spPr>
          <a:xfrm>
            <a:off x="6588000" y="2924280"/>
            <a:ext cx="2374920" cy="2249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7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6202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Есл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ебя преследуют, иди к людным местам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отделению мили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рохожие могут не броситься тебе на помощь, но само их присутствие сдерживает насильников и грабите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бязательн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общай о любом происшествии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одителям, учителю или милиционе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остарайся описать им приметы подозрительны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Если тебе придется защищаться самостоятельно, если существует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ействительная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опасность для твоего здоровья или жизни, делай все возможное для их спасени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кон предусматривает право каждого на необходимую самооб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74644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4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селые те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 Что делать, если тебя хватает в твоем подъезде неизвестный челов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На всякий случай помалк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Кричать: « Помогите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Кричать: «Пожар!», а когда выйдут соседи, попросить о помощ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 Когда Катя идет из школы и слушает плеер, она не замечает ничего вокруг и ничего не слышит. В чем ее – ошиб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По дороге из школы лучше смотреть «видик», а не слушать пле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Ей нужна собака-поводы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Плеер лучше оставить дома, так как на улице много опасностей и надо быть вниматель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. Какой сказочный персонаж нарушил сразу две заповеди знатоков 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) иди по знакомой тропинки, никуда не сворачив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) не вступай в разговор с посторонним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Желтый Чемоданч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Голубой Слоне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Красная Шап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Синяя Бор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12000" y="4292640"/>
            <a:ext cx="1616040" cy="2349360"/>
          </a:xfrm>
          <a:prstGeom prst="rect">
            <a:avLst/>
          </a:prstGeom>
          <a:ln w="0">
            <a:noFill/>
          </a:ln>
        </p:spPr>
      </p:pic>
    </p:spTree>
  </p:cSld>
  <p:transition spd="slow" advTm="0">
    <p:plus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1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1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10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10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10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10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-main-pic" descr="Картинка 7 из 16"/>
          <p:cNvPicPr/>
          <p:nvPr/>
        </p:nvPicPr>
        <p:blipFill>
          <a:blip r:embed="rId1"/>
          <a:stretch/>
        </p:blipFill>
        <p:spPr>
          <a:xfrm>
            <a:off x="6659640" y="1484280"/>
            <a:ext cx="2457360" cy="3600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6346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Опасная ситуаци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это неблагоприятная обстановка, в которой действуют вредные факторы различной природы, угрожающие здоровью, жизни человека, его имуществу и среде об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Экстремальными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называют наиболее сложные опасные ситуации, которые требуют для защиты жизни и здоровья человека напряжения всех его физических и духовны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ять « Н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5915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Не задерживайся на улице по дороге из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Не играй на улице с наступлением темн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Не впускай незнакомца в 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Не ходи никуда с незнакомым челове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 Не садись в машину с незнакомц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74644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0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3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6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9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И заключен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5464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Каждый грамотный ребен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Должен твердо знать с пелен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Если вас зовут купа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В телевизоре снима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Обещают дать конф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Отвечайте твердо: « 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Вам предложат обезьян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Или даже денег бан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Или даже в цирк биле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Отвечайте твердо: « 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Позовут летать к Лун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Покататься на слон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Есть на все простой отв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Ты ответить должен « 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профессор"/>
          <p:cNvPicPr/>
          <p:nvPr/>
        </p:nvPicPr>
        <p:blipFill>
          <a:blip r:embed="rId1"/>
          <a:stretch/>
        </p:blipFill>
        <p:spPr>
          <a:xfrm>
            <a:off x="5076720" y="2421000"/>
            <a:ext cx="3384720" cy="3205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1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1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10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10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100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00000" y="333360"/>
            <a:ext cx="7669440" cy="257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cc33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Times New Roman"/>
              </a:rPr>
              <a:t>Спасибо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cc3300"/>
                  </a:gs>
                  <a:gs pos="100000">
                    <a:srgbClr val="ff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cc33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Times New Roman"/>
              </a:rPr>
              <a:t>за внимание!!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cc3300"/>
                  </a:gs>
                  <a:gs pos="100000">
                    <a:srgbClr val="ff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627280" y="3068640"/>
            <a:ext cx="28414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071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пасные ситуации очень многообразны, они складываются для каждого индивидуально. Часто опасности возникают именно в тот момент, когда их не ждешь и не готов к их появлению. И задача нашего обучения ОБЖ состоит в том, чтобы всегда быть готовым к встрече с любыми трудностями. И делать при этом как можно меньше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В каждой опасной ситуации обязательно есть явная или скрытая причина её возникновения, являющаяся результатом твоей невнимательности, незнания, каприза, глупости, непослуш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64000" y="4292640"/>
            <a:ext cx="2520720" cy="2309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5112000" cy="4089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844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Rockwell"/>
              </a:rPr>
              <a:t>Какие опасности подстерегают нас на улиц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700280"/>
            <a:ext cx="251928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шен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5445000"/>
            <a:ext cx="2952720" cy="12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хи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1413000"/>
            <a:ext cx="259236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бе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789360"/>
            <a:ext cx="287964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ил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8560" y="3645000"/>
            <a:ext cx="2665440" cy="936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катастро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29200" y="404640"/>
            <a:ext cx="4114800" cy="619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lonna MT"/>
              </a:rPr>
              <a:t>Опасные места на ули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устынные переу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устынные па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Неосвещенные улицы и дв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Стро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5013360"/>
            <a:ext cx="8209080" cy="7207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омни: никто от этого не застрахован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6264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татисти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971640" y="2204640"/>
            <a:ext cx="7200720" cy="2232000"/>
          </a:xfrm>
          <a:prstGeom prst="wedgeRectCallout">
            <a:avLst>
              <a:gd name="adj1" fmla="val -4189"/>
              <a:gd name="adj2" fmla="val 91962"/>
            </a:avLst>
          </a:prstGeom>
          <a:gradFill rotWithShape="0">
            <a:gsLst>
              <a:gs pos="0">
                <a:srgbClr val="ff0000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Ежедневно на улицах, дорогах, на транспорте и в других местах совершается более тысячи преступ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Еще больше вероятность столкнуться с административным правонарушите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ьяниц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Хулиган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едобросовестным продав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4437000"/>
            <a:ext cx="0" cy="72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32720" y="4408560"/>
            <a:ext cx="204156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 Black"/>
              </a:rPr>
              <a:t>Давайте рассмотрим некоторые ситуации и советы по правильному поведению в случае опас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500280"/>
            <a:ext cx="3672000" cy="318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460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ИТУАЦ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96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Татьяна покупала в магазине дорогой подарок и не заметила, что за ней внимательно следит черноглазый стройный молодой человек в темной куртке. Только в подъезде она почувствовала за спиной чьи–то быстрые шаги, и в ту же секунду парень стал вырывать из рук девушки сумку. Татьяна не растерялась, стала громко кричать и отбиваться ногами. Парень достал нож, но девушка, бросила сумку, подбежала к двери соседской квартиры и громко стала звать соседей по имени. Нападавший поспешил скры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к ты думаешь, правильно ли поступила Тан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257652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от как советуют поступать в таких случаях работники мил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6716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Если ты возвращаешься из гостей поздно вечером, попроси проводить их тебя до дома, или позвони родителям и попроси чтобы тебя встрети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сегда предупреждай своих домашних о времени прихода домой. Старайся быть точным в расчетах времени на дор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Еще будет лучше если ты не будешь задерживаться в гостях до поздне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1914480" cy="4942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02:49:57Z</dcterms:created>
  <dc:creator>MSHOME</dc:creator>
  <dc:description/>
  <dc:language>en-US</dc:language>
  <cp:lastModifiedBy>MSHOME</cp:lastModifiedBy>
  <dcterms:modified xsi:type="dcterms:W3CDTF">2010-06-01T01:00:51Z</dcterms:modified>
  <cp:revision>12</cp:revision>
  <dc:subject/>
  <dc:title>«Уроки ОБЖ»</dc:title>
</cp:coreProperties>
</file>