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3.gif" ContentType="image/gif"/>
  <Override PartName="/ppt/media/image14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0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6.gif" ContentType="image/gif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2ACFA-6B12-4552-AD45-C5F509F8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EC8A-EB54-41DD-8385-A4DB70E9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FE75-AEF6-4F38-9067-70597110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E308-AA71-4E39-A72E-06CF6C1C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393B-2A8C-4B18-86CF-C8AD3D9F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90ED-1113-414E-89EF-0D5450CB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C759-E3E6-4A0A-A1BC-2FC48306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DAEC-C4B2-4D90-9608-D57881C1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B1DB-4D6F-449A-B47D-1A4CDA8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28CF-A10E-45DD-870F-C314BF61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8E69-86BB-49F0-BDF4-12B2BAB4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ECDC-33D7-4936-85F7-26F4D411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BCA1-062E-4FD7-BA46-8EDF024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48F8-DA41-4CEA-9B25-772ABBD3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1C66-ADF0-4260-AD2D-B6377F41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B2D1-061D-47C9-9254-995CAD30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209E-49B3-4C01-BDEF-25361629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1B41-8C3B-4AD0-A0B5-94B10E47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8386-8A5B-4CEC-81A3-0BF5F834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479D-51AC-49BE-A918-9D246351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C074-942B-424A-A16B-29976252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3AB5-DE8E-41DE-B8C7-E205A1E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909A-D698-46CC-B0AE-96C4F82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8AEF-D94F-49B6-8C3A-37BFF521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B9C5-01CE-4493-BBFD-939A0E8C1E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F0C3-877D-4E14-BF09-6AB2953AA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mayli.ru/smile/knigi-190.html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Monotype Corsiva"/>
              </a:rPr>
              <a:t>«МОУ  Мугунская средняя общеобразовательная школа»</a:t>
            </a:r>
            <a:br>
              <a:rPr sz="2400"/>
            </a:b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«Уроки ОБЖ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8920" y="2133360"/>
            <a:ext cx="6481800" cy="360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рави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Повед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i="1" lang="en-US" sz="6600" spc="-1" strike="noStrike">
                <a:solidFill>
                  <a:srgbClr val="660033"/>
                </a:solidFill>
                <a:latin typeface="Arial Black"/>
              </a:rPr>
              <a:t>на улиц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 Black"/>
              </a:rPr>
              <a:t>Учитель ОБЖ: Зайцева Н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профессор"/>
          <p:cNvPicPr/>
          <p:nvPr/>
        </p:nvPicPr>
        <p:blipFill>
          <a:blip r:embed="rId1"/>
          <a:stretch/>
        </p:blipFill>
        <p:spPr>
          <a:xfrm>
            <a:off x="0" y="4606920"/>
            <a:ext cx="2376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lonna MT"/>
              </a:rPr>
              <a:t>Приставание незнакомых людей, нападение на у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83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«Ястреб! Ястреб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ыш злодей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Эй, кричите посиль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у-ка выпусти цыпле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лой разбойник, из когте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к советовали грузинские бабушки своим внукам при опасности захвата злоумышлен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 потому запомни самые важные правила и постарайся никогда их не наруш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316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 разговаривай с незнакомыми людьми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А незнакомый человек – это тот, кого ты лично хорошо не знаеш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И пусть ты видишь его у вас во дворе или он называет тебя по имени, а также знает как зовут твоих родных, это ни о чем не говорит. Если он спросит о чем-либо, ответь коротко и в беседу не вступай. Опытный мошенник может быстро разговорит тебя в нужном направл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2920" y="549000"/>
            <a:ext cx="4038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забывай о том, что всегда существует опасность повстречать маньяка – человека одержимого болезненным пристрастием к совершению насилия над жертвой. И маньяки зачастую совсем не похожи на Фредди Крюгера из «Кошмара на улице Вязов». При обычном взгляде они вполне приличные люди, хорошие собеседники, часто с приятной внеш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профессор"/>
          <p:cNvPicPr/>
          <p:nvPr/>
        </p:nvPicPr>
        <p:blipFill>
          <a:blip r:embed="rId1"/>
          <a:stretch/>
        </p:blipFill>
        <p:spPr>
          <a:xfrm>
            <a:off x="2340000" y="4365720"/>
            <a:ext cx="2521080" cy="2387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591840"/>
            <a:ext cx="633564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чего ни бери у незнакомых люд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если они предлагают интересные для тебя предметы, конфеты, фрукты, щенка,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блюдай осторожность в отношениях с новыми знакомы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специально завязывают знакомства, чтобы использовать их для совершения преступлений. Вспомни сюжет фильма «Вор», в котором преступник предлагал соседям билеты в цирк, чтобы без помех ограбить их кварт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позволяй преступнику «сыграть» на твоем любопытстве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Пойдем я тебе что-то покажу! Там так интересно! Ты такого никогда не видел!» и подросток вслед за преступником отправляется туда, где уже никто не может прийти ему 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16720" y="342900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906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задерживайся и не отвлекайся по пути своего следовани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 школу, в магазин, в гости, домо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Не оставайся на улице без сопровождения старших с наступлением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икогда не садись в чужую автомашину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без разрешения родителей, тем более к незнаком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аже если он обещает что-то заманчивое. При излишне настойчивом приставании подними ш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24360" y="1197000"/>
            <a:ext cx="313380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3789360"/>
            <a:ext cx="8280360" cy="2735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помн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рядочный человек, как прав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не обратится к ребенку за помощ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Чтобы не попасть в бе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блюдай эти правила, избегай опасных ме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сам не создавай заведомо опас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25200" y="259920"/>
            <a:ext cx="6418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Некоторые фак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Narrow"/>
              </a:rPr>
              <a:t>Симпатичный водитель знакомился с мальчиками и предлагал им заработать. Ребята легко соглашались, преступник сажал их в свою машину и увозил их в гараж. Больше ребят никто не видел. Через много месяцев милиция задержала преступника и нашла могилы замученных им жер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45600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авила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. Избегай одиночных прогулок, где мало людей. В темное время суток не выходи из дома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. Идя по улице навстречу движению транспорта, вы не подвергнетесь внезапному нападению из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. Если навстречу движется группа подростков, а по близости нет людей, лучше перейти на другую сторону или повернуть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. Если кто-то преследует, беги к месту большого скопления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. Если у тебя требуют деньги, телефон и другие вещи – отдай сразу, не сопротив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.Если тебя кто-то силой пытается увлечь за собой, кричи громк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«Помогите! Я не знаю этого человека!» Пытайся вырваться любыми способ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050560" y="1341360"/>
            <a:ext cx="66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Внимательно рассмотри компанию подрост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Если ты идешь со своими приятелями и тебя отзывают, просят подойти на минутку, никогда не отходи от своих спу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гуляя в одиночку, дорогие, привлекающие внимание вещи (украшения, фотоаппараты, бинокли, час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Arial Narrow"/>
              </a:rPr>
              <a:t>Не носи с собой крупные суммы денег. Если  у тебя требуют деньги – отдай мелочь сразу, не сопротивляя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04640"/>
            <a:ext cx="864216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00"/>
              </a:gs>
              <a:gs pos="5000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Как не стать жертвой ищущей приключения комп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0322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196640"/>
            <a:ext cx="620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 гуляй в одиночестве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Как показали специальные исследования, ходьба по улице с одним спутником снижает риск подвергнуться нападению на 65%, а с двумя и более на 9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Идя по пустынной дороге или тротуару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ержись на некотором расстоянии от кустов, невысоких стен, темных подъез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Для прогулки одевайся так чтобы одежда не препятствовала свободе движений и бе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33360"/>
            <a:ext cx="7561080" cy="79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Arial"/>
              </a:rPr>
              <a:t>Как вести себя на прогул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профессор"/>
          <p:cNvPicPr/>
          <p:nvPr/>
        </p:nvPicPr>
        <p:blipFill>
          <a:blip r:embed="rId1"/>
          <a:stretch/>
        </p:blipFill>
        <p:spPr>
          <a:xfrm>
            <a:off x="6588000" y="2924280"/>
            <a:ext cx="2374920" cy="2249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6202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сл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бя преследуют, иди к людным местам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отделению мили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охожие могут не броситься тебе на помощь, но само их присутствие сдерживает насильников и грабите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Обязательно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общай о любом происшествии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одителям, учителю или милиционе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остарайся описать им приметы подозритель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Если тебе придется защищаться самостоятельно, если существует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ействительная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опасность для твоего здоровья или жизни, делай все возможное для их спасен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кон предусматривает право каждого на необходимую самооб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селые 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 Что делать, если тебя хватает в твоем подъезде неизвестный челов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На всякий случай помал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Кричать: « Помогите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ичать: «Пожар!», а когда выйдут соседи, попросить о пом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Когда Катя идет из школы и слушает плеер, она не замечает ничего вокруг и ничего не слышит. В чем ее – ошиб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По дороге из школы лучше смотреть «видик», а не слушать пле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Ей нужна собака-повод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Плеер лучше оставить дома, так как на улице много опасностей и надо быть вниматель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 Какой сказочный персонаж нарушил сразу две заповеди знатоков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 иди по знакомой тропинки, никуда не сворачи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 не вступай в разговор с посторонним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Желтый Чемодан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 Голубой Слон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Красная Шап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Синяя Бо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2000" y="4292640"/>
            <a:ext cx="1616040" cy="2349360"/>
          </a:xfrm>
          <a:prstGeom prst="rect">
            <a:avLst/>
          </a:prstGeom>
          <a:ln w="0">
            <a:noFill/>
          </a:ln>
        </p:spPr>
      </p:pic>
    </p:spTree>
  </p:cSld>
  <p:transition spd="slow" advTm="0">
    <p:plus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1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i-main-pic" descr="Картинка 7 из 16"/>
          <p:cNvPicPr/>
          <p:nvPr/>
        </p:nvPicPr>
        <p:blipFill>
          <a:blip r:embed="rId1"/>
          <a:stretch/>
        </p:blipFill>
        <p:spPr>
          <a:xfrm>
            <a:off x="6659640" y="1484280"/>
            <a:ext cx="2457360" cy="3600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6346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Опасная ситуац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это неблагоприятная обстановка, в которой действуют вредные факторы различной природы, угрожающие здоровью, жизни человека, его имуществу и среде об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кстремальными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называют наиболее сложные опасные ситуации, которые требуют для защиты жизни и здоровья человека напряжения всех его физических и духовны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ять « Не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5915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Не задерживайся на улице по дороге из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Не играй на улице с наступлением темн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Не впускай незнакомца в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Не ходи никуда с незнакомым челове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 Не садись в машину с незнакомц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7464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9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И заключ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Каждый грамотный ребе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Должен твердо знать с пелен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ли вас зовут куп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 телевизоре снима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бещают дать конф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Вам предложат обезьянк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денег б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Или даже в цирк биле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Отвечайте твердо: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зовут летать к Лун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Покататься на слон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Есть на все простой от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Bauhaus 93"/>
              </a:rPr>
              <a:t>Ты ответить должен « 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профессор"/>
          <p:cNvPicPr/>
          <p:nvPr/>
        </p:nvPicPr>
        <p:blipFill>
          <a:blip r:embed="rId1"/>
          <a:stretch/>
        </p:blipFill>
        <p:spPr>
          <a:xfrm>
            <a:off x="5076720" y="2421000"/>
            <a:ext cx="3384720" cy="320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10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00000" y="333360"/>
            <a:ext cx="766944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cc33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за внимание!!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cc33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2841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0716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Опасные ситуации очень многообразны, они складываются для каждого индивидуально. Часто опасности возникают именно в тот момент, когда их не ждешь и не готов к их появлению. И задача нашего обучения ОБЖ состоит в том, чтобы всегда быть готовым к встрече с любыми трудностями. И делать при этом как можно меньше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В каждой опасной ситуации обязательно есть явная или скрытая причина её возникновения, являющаяся результатом твоей невнимательности, незнания, каприза, глупости, непослуш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52072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112000" cy="40892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1844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Rockwell"/>
              </a:rPr>
              <a:t>Какие опасности подстерегают нас на ули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00280"/>
            <a:ext cx="251928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шен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5445000"/>
            <a:ext cx="29527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хи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1413000"/>
            <a:ext cx="259236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бе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789360"/>
            <a:ext cx="287964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8560" y="3645000"/>
            <a:ext cx="2665440" cy="93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катас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9200" y="404640"/>
            <a:ext cx="4114800" cy="619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lonna MT"/>
              </a:rPr>
              <a:t>Опасные места на ул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ереу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Пустынные п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Неосвещенные улицы и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5013360"/>
            <a:ext cx="8209080" cy="720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мни: никто от этого не застрахован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626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тист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971640" y="2204640"/>
            <a:ext cx="7200720" cy="2232000"/>
          </a:xfrm>
          <a:prstGeom prst="wedgeRectCallout">
            <a:avLst>
              <a:gd name="adj1" fmla="val -4189"/>
              <a:gd name="adj2" fmla="val 91962"/>
            </a:avLst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жедневно на улицах, дорогах, на транспорте и в других местах совершается более тысячи пре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ще больше вероятность столкнуться с административным правонарушите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ьяниц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Хулиган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едобросовестным продав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437000"/>
            <a:ext cx="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32720" y="4408560"/>
            <a:ext cx="204156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Давайте рассмотрим некоторые ситуации и советы по правильному поведению в случае опас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500280"/>
            <a:ext cx="3672000" cy="318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60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ТУА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96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Татьяна покупала в магазине дорогой подарок и не заметила, что за ней внимательно следит черноглазый стройный молодой человек в темной куртке. Только в подъезде она почувствовала за спиной чьи–то быстрые шаги, и в ту же секунду парень стал вырывать из рук девушки сумку. Татьяна не растерялась, стала громко кричать и отбиваться ногами. Парень достал нож, но девушка, бросила сумку, подбежала к двери соседской квартиры и громко стала звать соседей по имени. Нападавший поспешил скры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ак ты думаешь, правильно ли поступила Тан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5765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от как советуют поступать в таких случаях работники мил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ты возвращаешься из гостей поздно вечером, попроси проводить их тебя до дома, или позвони родителям и попроси чтобы тебя встрети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Всегда предупреждай своих домашних о времени прихода домой. Старайся быть точным в расчетах времени на доро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ще будет лучше если ты не будешь задерживаться в гостях до поздне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1914480" cy="494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2:49:57Z</dcterms:created>
  <dc:creator>MSHOME</dc:creator>
  <dc:description/>
  <dc:language>en-US</dc:language>
  <cp:lastModifiedBy>MSHOME</cp:lastModifiedBy>
  <dcterms:modified xsi:type="dcterms:W3CDTF">2010-06-01T01:00:51Z</dcterms:modified>
  <cp:revision>12</cp:revision>
  <dc:subject/>
  <dc:title>«Уроки ОБЖ»</dc:title>
</cp:coreProperties>
</file>