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663-4E11-4408-9CB0-9C9C36E2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CAC-1163-4979-AD32-12E89556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71B-7760-4368-AC8F-B20937CF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B73-D15A-442F-8BB2-14EA3E85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A45-18B7-47A3-857D-3139B264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F9C-E2C0-4488-95CF-5D2EC68F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A0A-16EE-4DFE-BDFD-1990C7FB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3DA-5D83-4277-ADBD-A8DC408F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C16-0A04-4062-AD55-A267407A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499-42EB-48F4-BA94-0617F7A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D4A-F4AE-4E3E-845C-46CFF9F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54F-F0D0-4C8C-AB3D-11D6D07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BEC-16EA-4342-B459-3A8191E95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Гендерное измерение в работе с людьми «третьего возраст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Григорьева, факультет социологии СПб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.09.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иночество пожилых женщ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м обществе высок уровень феминизации людей старшего возраста (на 1000 мужчин старше трудоспособного возраста приходится 2432 пожилые женщины), что обуславливает феномен отсутствия супружеской пары, затруднения в поиске и нахождении брачного партнера женщинами и, зачастую, одиночество на этапе позднего онтогенеза, продолжительность которого все более увеличивается. «В 1980 г. вдовы жили в течение 5 - 10 лет, а в настоящее время в общей сложности около 24 ле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трата близких и ее переж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ря близких осложня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, как неумением реагировать на события такого рода на уровне отдельной личности и первичного окружения, так отсутствием в практике социальной работы в России технологии работы с пожилыми людьми, переживающими потерю близких, и специализированных отделений социальной помощи этой категории нужд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травмирование утратой близких влечет за собой массу последствий для отдельного индивида и общества в целом, является сильнейшим стрессом, психотравмой для человека, ускоряет развитие заболеваний и гибель пожилы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да утрата позад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илой человек может заново открыть для себя сферу досуга, друзей. Особенно это касается женской части населения, для которой семья и брак означала в течение жизни выключение из многих возможных форм активности. Старший возраст может скомпенсировать им подобные пробелы, тем более что продолжительность жизни женщин существенно выше, чем у муж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мужчин, не склонных к стагнации и эмоциональному застою, появляется возможность нового брака и довольно широкий выбор партнер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когда не поздно, скорее наоборо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00240" y="2290680"/>
            <a:ext cx="3143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 общественном уровне – стереотипы и стиг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боятся старости и не любят стариков. Но мало кто хочет умереть молодым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 внедрения стереотипов и стигматизации – исключение пожилого человека из современ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стереотипа пожилыми людьми особен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ас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них самих: для здоровья; для благополучия; для сохранения социальных контактов и положения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и пожилые позволяют «махнуть на себя рукой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ий тренд социального обслуживания – обучение работе на компьютере и в интер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752480" y="1752480"/>
          <a:ext cx="5707080" cy="42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570708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дридский план действий по  проблемам старения. Принят в 2002 г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для всех возрастов –  это общество, в котором различные поколения способствуют своему совместному развитию на основе двуединого принцип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заимности и справедливости, сплочения и индивидуальной ответ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ые должны воспринять эти идеи, иначе возникнет невозможность позитивного восприятия нормального хода жизненного индивидуального развития; или/и нежелание планировать свою будущую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рение населения – величайшая победа ХХ1 ве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на всех уровнях: государственном, региональном, мест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ение современ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пенсионных систем в развитых странах, создание их – в развив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системы социального обслуживания пожи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имиджа пожилых и отношение общества к 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 «Общества для всех возрастов» и ее вопл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ЖИВАЮЩИХ ДО 60 ЛЕТ ИЗ 100 ДОЖИВШИХ ДО 20 ЛЕТ, 2008 г.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и ряд развитых стран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жчины и женщ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1900080" y="2138400"/>
          <a:ext cx="5343840" cy="34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0080" y="2138400"/>
                    <a:ext cx="53438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Демографическая нагрузка за счет  лиц в возрасте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60 +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для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ОССИИ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ряда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европейских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стран, 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950, 1970 и 200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  <a:ea typeface="Times New Roman"/>
              </a:rPr>
              <a:t> гг</a:t>
            </a:r>
            <a:r>
              <a:rPr b="1" lang="ru-RU" sz="2800" spc="-1" strike="noStrike">
                <a:solidFill>
                  <a:srgbClr val="5414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1828800" y="1600200"/>
          <a:ext cx="52736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273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лагаемые решения для России. Вместо или вместе с выравниванием пенсионного возраста до 6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производительность труда  и качество экономического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удлинение производственного стажа, особенно у квалифицированных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большую производительность труда молодых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ять межвозрастные отношения в семье, улучшать имидж пожи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накоплению сбережений в течение трудовой жизн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 главное – вернуть пенсии ее «заработанный»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ового, 2011 г. – возврат на прежнюю точку – вместо ЕСН – социальные отчисления в размере 32% фонда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уманные в 2002 г. результаты не достигнуты. Зарплата не слишком заметно вышла из тени, страховая часть пенсии недостаточно отражает  трудовой вклад, накопительные пенсии под большим вопр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у людей нет реальной возможности заработать пенсию. Уровень возмещения утраченного заработка очень низкий, особенно у высокооплачиваемых специа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ившаяся ситуация имеет демотивирующий и по отношению к занятости, и по отношению к возможности заработать пенсию, характер, к тому же она затянулась из-за постоянных смен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ансформация системы социального обслуживания пожи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стационарных учреждений – больше обслуживания на дому, вплоть до «хосписа на д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 обслуживания «молодым» пенсионерам, больше – самым старым, особенно в период «ухода из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активизирующих форм, развитие волонтерства, межпоколенная 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е привлечение «молодых» пенсионерок к уходу за менее здоровыми по месту жительства. Пример – работа «Хэсэд Авраам» по обслуживанию пожилых и сем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увеличенные страхи, что старение приведет к неконтролируемому росту расходов на обслуживание пожилых, и к инвалидизации значительной их ча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Италии показывает, что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пособность политиков объяснить населению, почему нужно поднять пенсионный возраст, приводит к протестам и демонстр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зменение имиджа пожилых и отношение общества к ни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ы старости существуют на двух уровнях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ствен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принадлежащие индивидууму)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ое ощущение возраста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восприятие пожилых людей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иятие пожилыми людьми отношения к ним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с женщин пожилого возраста в России: как бы Вы потратили дополнительные деньги? (А.Дашкина,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азвлечения и отд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ть на "чёрный день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детям и внук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ия Лорен для календаря Pirelli, 2007 г. (70 лет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ница между эффектной и обыкновенной женщиной заключается в наличии у первой самодисциплины. Поэтому самое главное — четко осознать, необходимость ежедневного ухода за собой, и следовать этому правилу. «Никогда не объясняйте пренебрежение к себе нехваткой времени, чрезмерной занятостью, — говорит София Лорен. — В действительности, это пустая отгово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8:19:4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