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B2F-335E-4D1C-A46C-DD05542B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1FC-7E1B-440E-8ECB-4FDEA03C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6A9-33F6-4294-90B6-B56B1B8E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367-D94F-46B5-BA34-FB35BB93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926-46A7-441F-86A9-E187232B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353-E8E7-484D-B30B-90A5CA49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CF9-B9A6-46DB-9092-39D7F9C3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8B0-2A6C-4B00-8D90-501A5C5B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C7F-32DE-49D8-ABCF-3F80DF40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B61-9192-4217-AD0A-0CFD904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F10-AD79-47ED-9A83-97A3BDB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BEC-C8CE-4306-BE2A-E5B4B762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F221-6958-4B7F-9BE0-ADF6AFBF4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Гендерное измерение в работе с людьми «третьего возраст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Григорьева, факультет социологии СПб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.09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иночество пожилых женщ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м обществе высок уровень феминизации людей старшего возраста (на 1000 мужчин старше трудоспособного возраста приходится 2432 пожилые женщины), что обуславливает феномен отсутствия супружеской пары, затруднения в поиске и нахождении брачного партнера женщинами и, зачастую, одиночество на этапе позднего онтогенеза, продолжительность которого все более увеличивается. «В 1980 г. вдовы жили в течение 5 - 10 лет, а в настоящее время в общей сложности около 24 ле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трата близких и ее переж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ря близких осложняе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, как неумением реагировать на события такого рода на уровне отдельной личности и первичного окружения, так отсутствием в практике социальной работы в России технологии работы с пожилыми людьми, переживающими потерю близких, и специализированных отделений социальной помощи этой категории нужд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травмирование утратой близких влечет за собой массу последствий для отдельного индивида и общества в целом, является сильнейшим стрессом, психотравмой для человека, ускоряет развитие заболеваний и гибель пожилы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да утрата позад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илой человек может заново открыть для себя сферу досуга, друзей. Особенно это касается женской части населения, для которой семья и брак означала в течение жизни выключение из многих возможных форм активности. Старший возраст может скомпенсировать им подобные пробелы, тем более что продолжительность жизни женщин существенно выше, чем у муж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мужчин, не склонных к стагнации и эмоциональному застою, появляется возможность нового брака и довольно широкий выбор партнер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когда не поздно, скорее наоборо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000240" y="229068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 общественном уровне – стереотипы и стиг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боятся старости и не любят стариков. Но мало кто хочет умереть молодым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внедрения стереотипов и стигматизации – исключение пожилого человека из современ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стереотипа пожилыми людьми особен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ас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них самих: для здоровья; для благополучия; для сохранения социальных контактов и положения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и пожилые позволяют «махнуть на себя рукой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ий тренд социального обслуживания – обучение работе на компьютере и в интер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1752480" y="1752480"/>
          <a:ext cx="5707080" cy="42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52480"/>
                    <a:ext cx="570708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дридский план действий по  проблемам старения. Принят в 2002 г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для всех возрастов –  это общество, в котором различные поколения способствуют своему совместному развитию на основе двуединого принцип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заимности и справедливости, сплочения и индивидуальной ответ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ые должны воспринять эти идеи, иначе возникнет невозможность позитивного восприятия нормального хода жизненного индивидуального развития; или/и нежелание планировать свою будущую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рение населения – величайшая победа ХХ1 ве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облемы на всех уровнях: государственном, региональном, мест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ение современ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ация пенсионных систем в развитых странах, создание их – в развив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ация системы социального обслуживания пожи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имиджа пожилых и отношение общества к 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я «Общества для всех возрастов» и ее вопл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ЖИВАЮЩИХ ДО 60 ЛЕТ ИЗ 100 ДОЖИВШИХ ДО 20 ЛЕТ, 2008 г.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 и ряд развитых стран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жчины и женщ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1900080" y="2138400"/>
          <a:ext cx="5343840" cy="34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0080" y="2138400"/>
                    <a:ext cx="534384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Демографическая нагрузка за счет  лиц в возрасте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60 +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для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ОССИИ 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 ряда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европейских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 стран, 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950, 1970 и 200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 гг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1828800" y="1600200"/>
          <a:ext cx="52736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273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длагаемые решения для России. Вместо или вместе с выравниванием пенсионного возраста до 6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производительность труда  и качество экономического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ть удлинение производственного стажа, особенно у квалифицированных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ть большую производительность труда молодых рабоч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ять межвозрастные отношения в семье, улучшать имидж пожи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накоплению сбережений в течение трудовой жизн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 главное – вернуть пенсии ее «заработанный»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ового, 2011 г. – возврат на прежнюю точку – вместо ЕСН – социальные отчисления в размере 32% фонда оплат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уманные в 2002 г. результаты не достигнуты. Зарплата не слишком заметно вышла из тени, страховая часть пенсии недостаточно отражает  трудовой вклад, накопительные пенсии под большим вопр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 у людей нет реальной возможности заработать пенсию. Уровень возмещения утраченного заработка очень низкий, особенно у высокооплачиваемых специа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ившаяся ситуация имеет демотивирующий и по отношению к занятости, и по отношению к возможности заработать пенсию, характер, к тому же она затянулась из-за постоянных смен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ансформация системы социального обслуживания пожи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 стационарных учреждений – больше обслуживания на дому, вплоть до «хосписа на д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 обслуживания «молодым» пенсионерам, больше – самым старым, особенно в период «ухода из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активизирующих форм, развитие волонтерства, межпоколенная 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е привлечение «молодых» пенсионерок к уходу за менее здоровыми по месту жительства. Пример – работа «Хэсэд Авраам» по обслуживанию пожилых и сем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увеличенные страхи, что старение приведет к неконтролируемому росту расходов на обслуживание пожилых, и к инвалидизации значительной их ча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Италии показывает, что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пособность политиков объяснить населению, почему нужно поднять пенсионный возраст, приводит к протестам и демонстрац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зменение имиджа пожилых и отношение общества к ни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ы старости существуют на двух уровнях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ественн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принадлежащие индивидууму)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ное ощущение возраста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восприятие пожилых людей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иятие пожилыми людьми отношения к ним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с женщин пожилого возраста в России: как бы Вы потратили дополнительные деньги? (А.Дашкина,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азвлечения и отд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ть на "чёрный день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ки детям и внук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ия Лорен для календаря Pirelli, 2007 г. (70 лет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ница между эффектной и обыкновенной женщиной заключается в наличии у первой самодисциплины. Поэтому самое главное — четко осознать, необходимость ежедневного ухода за собой, и следовать этому правилу. «Никогда не объясняйте пренебрежение к себе нехваткой времени, чрезмерной занятостью, — говорит София Лорен. — В действительности, это пустая отговор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07T18:19:4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