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28D5B-3C2B-4B2F-ADB2-EC9255AA5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03C8A-3E3A-423D-8252-0121CCB7A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C2E97-50C8-4293-B51E-CB739189A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41A91-5682-4A9E-85D0-48A8EB926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75B27-AB11-4238-9055-8467D473F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63F99-6793-4118-9ECB-18EAA3169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797E9-6400-4B5C-8C16-6B9B6A9D2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66015-EF46-4B2C-A48D-AFC758F00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24AEA-AD75-4829-9078-0AFD83FD3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106F1-1F73-4AAE-A845-C0DCECCC2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B4CC5-22F2-4E63-B57E-1C9EA1EB8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BC501-1A4A-4038-A5A3-26341EAD8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8AD5F-8358-404F-9BF5-8697F95670F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«Гендерное измерение в работе с людьми «третьего возраста»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.А.Григорьева, факультет социологии СПбГ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1.09.20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диночество пожилых женщи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современном обществе высок уровень феминизации людей старшего возраста (на 1000 мужчин старше трудоспособного возраста приходится 2432 пожилые женщины), что обуславливает феномен отсутствия супружеской пары, затруднения в поиске и нахождении брачного партнера женщинами и, зачастую, одиночество на этапе позднего онтогенеза, продолжительность которого все более увеличивается. «В 1980 г. вдовы жили в течение 5 - 10 лет, а в настоящее время в общей сложности около 24 лет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Утрата близких и ее пережив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теря близких осложняется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 многом, как неумением реагировать на события такого рода на уровне отдельной личности и первичного окружения, так отсутствием в практике социальной работы в России технологии работы с пожилыми людьми, переживающими потерю близких, и специализированных отделений социальной помощи этой категории нуждающихс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 этом травмирование утратой близких влечет за собой массу последствий для отдельного индивида и общества в целом, является сильнейшим стрессом, психотравмой для человека, ускоряет развитие заболеваний и гибель пожилых люде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огда утрата позади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жилой человек может заново открыть для себя сферу досуга, друзей. Особенно это касается женской части населения, для которой семья и брак означала в течение жизни выключение из многих возможных форм активности. Старший возраст может скомпенсировать им подобные пробелы, тем более что продолжительность жизни женщин существенно выше, чем у мужчи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 у мужчин, не склонных к стагнации и эмоциональному застою, появляется возможность нового брака и довольно широкий выбор партнерш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Никогда не поздно, скорее наоборот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3000240" y="2290680"/>
            <a:ext cx="314352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На общественном уровне – стереотипы и стигм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се боятся старости и не любят стариков. Но мало кто хочет умереть молодым?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зультат внедрения стереотипов и стигматизации – исключение пожилого человека из современной жизн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нятие стереотипа пожилыми людьми особенно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пасно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для них самих: для здоровья; для благополучия; для сохранения социальных контактов и положения в обществ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ми пожилые позволяют «махнуть на себя рукой»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следний тренд социального обслуживания – обучение работе на компьютере и в интерне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Object 4"/>
          <p:cNvGraphicFramePr/>
          <p:nvPr/>
        </p:nvGraphicFramePr>
        <p:xfrm>
          <a:off x="1752480" y="1752480"/>
          <a:ext cx="5707080" cy="428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1752480"/>
                    <a:ext cx="5707080" cy="428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3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Мадридский план действий по  проблемам старения. Принят в 2002 г.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щество для всех возрастов –  это общество, в котором различные поколения способствуют своему совместному развитию на основе двуединого принципа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взаимности и справедливости, сплочения и индивидуальной ответственност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лодые должны воспринять эти идеи, иначе возникнет невозможность позитивного восприятия нормального хода жизненного индивидуального развития; или/и нежелание планировать свою будущую жиз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Старение населения – величайшая победа ХХ1 века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сновные проблемы на всех уровнях: государственном, региональном, местн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арение современного обще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рансформация пенсионных систем в развитых странах, создание их – в развивающих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рансформация системы социального обслуживания пожил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зменение имиджа пожилых и отношение общества к ни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дея «Общества для всех возрастов» и ее воплощ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ЧИСЛО</a:t>
            </a:r>
            <a:r>
              <a:rPr b="1" lang="ru-RU" sz="20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ОЖИВАЮЩИХ ДО 60 ЛЕТ ИЗ 100 ДОЖИВШИХ ДО 20 ЛЕТ, 2008 г.,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оссия и ряд развитых стран,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ужчины и женщины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Object 4"/>
          <p:cNvGraphicFramePr/>
          <p:nvPr/>
        </p:nvGraphicFramePr>
        <p:xfrm>
          <a:off x="1900080" y="2138400"/>
          <a:ext cx="5343840" cy="3448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0080" y="2138400"/>
                    <a:ext cx="5343840" cy="344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541400"/>
                </a:solidFill>
                <a:latin typeface="Arial"/>
                <a:ea typeface="Times New Roman"/>
              </a:rPr>
              <a:t>Демографическая нагрузка за счет  лиц в возрасте </a:t>
            </a:r>
            <a:r>
              <a:rPr b="1" lang="ru-RU" sz="2800" spc="-1" strike="noStrike">
                <a:solidFill>
                  <a:srgbClr val="cc0066"/>
                </a:solidFill>
                <a:latin typeface="Arial"/>
                <a:ea typeface="Times New Roman"/>
              </a:rPr>
              <a:t>60 +</a:t>
            </a:r>
            <a:r>
              <a:rPr b="1" lang="ru-RU" sz="2800" spc="-1" strike="noStrike">
                <a:solidFill>
                  <a:srgbClr val="cc0066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541400"/>
                </a:solidFill>
                <a:latin typeface="Arial"/>
                <a:ea typeface="Times New Roman"/>
              </a:rPr>
              <a:t>для</a:t>
            </a:r>
            <a:r>
              <a:rPr b="1" lang="ru-RU" sz="2800" spc="-1" strike="noStrike">
                <a:solidFill>
                  <a:srgbClr val="5414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cc0066"/>
                </a:solidFill>
                <a:latin typeface="Arial"/>
              </a:rPr>
              <a:t>РОССИИ </a:t>
            </a:r>
            <a:r>
              <a:rPr b="1" lang="ru-RU" sz="2800" spc="-1" strike="noStrike">
                <a:solidFill>
                  <a:srgbClr val="541400"/>
                </a:solidFill>
                <a:latin typeface="Arial"/>
              </a:rPr>
              <a:t>и</a:t>
            </a:r>
            <a:r>
              <a:rPr b="1" lang="ru-RU" sz="2800" spc="-1" strike="noStrike">
                <a:solidFill>
                  <a:srgbClr val="541400"/>
                </a:solidFill>
                <a:latin typeface="Arial"/>
                <a:ea typeface="Times New Roman"/>
              </a:rPr>
              <a:t> ряда </a:t>
            </a:r>
            <a:r>
              <a:rPr b="1" lang="ru-RU" sz="2800" spc="-1" strike="noStrike">
                <a:solidFill>
                  <a:srgbClr val="cc0066"/>
                </a:solidFill>
                <a:latin typeface="Arial"/>
                <a:ea typeface="Times New Roman"/>
              </a:rPr>
              <a:t>европейских</a:t>
            </a:r>
            <a:r>
              <a:rPr b="1" lang="ru-RU" sz="2800" spc="-1" strike="noStrike">
                <a:solidFill>
                  <a:srgbClr val="541400"/>
                </a:solidFill>
                <a:latin typeface="Arial"/>
                <a:ea typeface="Times New Roman"/>
              </a:rPr>
              <a:t> стран, </a:t>
            </a:r>
            <a:r>
              <a:rPr b="1" lang="ru-RU" sz="2800" spc="-1" strike="noStrike">
                <a:solidFill>
                  <a:srgbClr val="541400"/>
                </a:solidFill>
                <a:latin typeface="Arial"/>
              </a:rPr>
              <a:t>1</a:t>
            </a:r>
            <a:r>
              <a:rPr b="1" lang="ru-RU" sz="2800" spc="-1" strike="noStrike">
                <a:solidFill>
                  <a:srgbClr val="541400"/>
                </a:solidFill>
                <a:latin typeface="Arial"/>
                <a:ea typeface="Times New Roman"/>
              </a:rPr>
              <a:t>950, 1970 и 200</a:t>
            </a:r>
            <a:r>
              <a:rPr b="1" lang="ru-RU" sz="2800" spc="-1" strike="noStrike">
                <a:solidFill>
                  <a:srgbClr val="541400"/>
                </a:solidFill>
                <a:latin typeface="Arial"/>
              </a:rPr>
              <a:t>3</a:t>
            </a:r>
            <a:r>
              <a:rPr b="1" lang="ru-RU" sz="2800" spc="-1" strike="noStrike">
                <a:solidFill>
                  <a:srgbClr val="541400"/>
                </a:solidFill>
                <a:latin typeface="Arial"/>
                <a:ea typeface="Times New Roman"/>
              </a:rPr>
              <a:t> гг</a:t>
            </a:r>
            <a:r>
              <a:rPr b="1" lang="ru-RU" sz="2800" spc="-1" strike="noStrike">
                <a:solidFill>
                  <a:srgbClr val="541400"/>
                </a:solidFill>
                <a:latin typeface="Arial"/>
              </a:rPr>
              <a:t>.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Object 4"/>
          <p:cNvGraphicFramePr/>
          <p:nvPr/>
        </p:nvGraphicFramePr>
        <p:xfrm>
          <a:off x="1828800" y="1600200"/>
          <a:ext cx="5273640" cy="4525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600200"/>
                    <a:ext cx="527364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5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" nodeType="afterEffect" fill="hold" presetClass="entr" presetID="5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0" nodeType="afterEffect" fill="hold" presetClass="entr" presetID="5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4" nodeType="afterEffect" fill="hold" presetClass="entr" presetID="5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Предлагаемые решения для России. Вместо или вместе с выравниванием пенсионного возраста до 60 л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высить производительность труда  и качество экономического рос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ощрять удлинение производственного стажа, особенно у квалифицированных работни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ощрять большую производительность труда молодых рабочи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креплять межвозрастные отношения в семье, улучшать имидж пожилы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пособствовать накоплению сбережений в течение трудовой жизни люд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Но главное – вернуть пенсии ее «заработанный» характе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 нового, 2011 г. – возврат на прежнюю точку – вместо ЕСН – социальные отчисления в размере 32% фонда оплаты тру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думанные в 2002 г. результаты не достигнуты. Зарплата не слишком заметно вышла из тени, страховая часть пенсии недостаточно отражает  трудовой вклад, накопительные пенсии под большим вопрос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ка у людей нет реальной возможности заработать пенсию. Уровень возмещения утраченного заработка очень низкий, особенно у высокооплачиваемых специалист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ложившаяся ситуация имеет демотивирующий и по отношению к занятости, и по отношению к возможности заработать пенсию, характер, к тому же она затянулась из-за постоянных смен кур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Трансформация системы социального обслуживания пожил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еньше стационарных учреждений – больше обслуживания на дому, вплоть до «хосписа на дому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еньше обслуживания «молодым» пенсионерам, больше – самым старым, особенно в период «ухода из жизни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ольше активизирующих форм, развитие волонтерства, межпоколенная поддерж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Широкое привлечение «молодых» пенсионерок к уходу за менее здоровыми по месту жительства. Пример – работа «Хэсэд Авраам» по обслуживанию пожилых и сем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еувеличенные страхи, что старение приведет к неконтролируемому росту расходов на обслуживание пожилых, и к инвалидизации значительной их части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ыт Италии показывает, что н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еспособность политиков объяснить населению, почему нужно поднять пенсионный возраст, приводит к протестам и демонстрация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Изменение имиджа пожилых и отношение общества к ним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разы старости существуют на двух уровнях: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общественном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индивидуальном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Индивидуальные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(принадлежащие индивидууму)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1)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ичностное ощущение возраста 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2)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амовосприятие пожилых людей +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3)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сприятие пожилыми людьми отношения к ним обще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прос женщин пожилого возраста в России: как бы Вы потратили дополнительные деньги? (А.Дашкина, 199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развлечения и отдых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8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ложить на "чёрный день"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8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дарки детям и внука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1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фия Лорен для календаря Pirelli, 2007 г. (70 лет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Разница между эффектной и обыкновенной женщиной заключается в наличии у первой самодисциплины. Поэтому самое главное — четко осознать, необходимость ежедневного ухода за собой, и следовать этому правилу. «Никогда не объясняйте пренебрежение к себе нехваткой времени, чрезмерной занятостью, — говорит София Лорен. — В действительности, это пустая отговорка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ZooM</cp:lastModifiedBy>
  <dcterms:modified xsi:type="dcterms:W3CDTF">2013-11-07T18:19:48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