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media/image6.wmf" ContentType="image/x-wmf"/>
  <Override PartName="/ppt/media/image4.png" ContentType="image/png"/>
  <Override PartName="/ppt/media/image8.jpeg" ContentType="image/jpeg"/>
  <Override PartName="/ppt/media/image5.wmf" ContentType="image/x-wmf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E139-E3ED-4B0A-8159-226E9AF3C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A34E-1102-4FD7-A482-3ED71D410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786D-DD5D-472F-B2DB-03F3C5EBE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59AB-79E2-4598-9C93-7276F48D3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33D88-7611-4A42-91F0-55BD9B6FE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1FB44-1BCF-4081-A706-C7B8F7F48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23B0F-4AA2-46F5-BD73-048230959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D38EA-7223-4F6F-AD56-3BF0E1601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BFBB2-A98F-4672-9563-98817A6AD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BF7DD-7A75-4563-9E21-7CF1A2FEF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80EC7-8DD3-462E-91B1-73BB7EAD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E2CC-2807-4A06-8034-4B04EEF88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15A61-00CE-4151-AA47-0E024534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2ABEA-0310-4177-BA1A-51D8AC82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8A00A-56B1-419C-9130-9CEFBBC2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159A5-B190-469A-95B3-A3E9CC50B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D0388-430B-4C25-8D60-7E38B7B64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3AFE-1886-48AE-8878-E3AC56C33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F973-BBD5-44F4-B5C4-A411E4F0E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11E4-5EA8-4936-BB5F-7A2156463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032C-3C42-4314-83C6-3416FAE73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0780-8386-4E84-BCE9-795B3192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1DF4-CD80-406A-8BA7-63AB8E83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220E-7F19-4664-8A8B-15DD9B66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1" name=""/>
            <p:cNvSpPr/>
            <p:nvPr/>
          </p:nvSpPr>
          <p:spPr>
            <a:xfrm>
              <a:off x="0" y="1600200"/>
              <a:ext cx="9166320" cy="52880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2560" cy="137160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4" name="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grpSp>
          <p:nvGrpSpPr>
            <p:cNvPr id="6" name="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7" name="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130320" y="34920"/>
              <a:ext cx="8874000" cy="1414440"/>
              <a:chOff x="130320" y="34920"/>
              <a:chExt cx="8874000" cy="1414440"/>
            </a:xfrm>
          </p:grpSpPr>
          <p:grpSp>
            <p:nvGrpSpPr>
              <p:cNvPr id="10" name=""/>
              <p:cNvGrpSpPr/>
              <p:nvPr/>
            </p:nvGrpSpPr>
            <p:grpSpPr>
              <a:xfrm>
                <a:off x="212760" y="34920"/>
                <a:ext cx="8791560" cy="1349280"/>
                <a:chOff x="212760" y="34920"/>
                <a:chExt cx="8791560" cy="1349280"/>
              </a:xfrm>
            </p:grpSpPr>
            <p:sp>
              <p:nvSpPr>
                <p:cNvPr id="11" name=""/>
                <p:cNvSpPr/>
                <p:nvPr/>
              </p:nvSpPr>
              <p:spPr>
                <a:xfrm>
                  <a:off x="8364600" y="116532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8358120" y="118440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4200" y="115092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868320" y="117144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V="1">
                  <a:off x="3206880" y="490320"/>
                  <a:ext cx="304560" cy="13788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2235240" y="34920"/>
                  <a:ext cx="4710240" cy="725400"/>
                </a:xfrm>
                <a:custGeom>
                  <a:avLst/>
                  <a:gdLst/>
                  <a:ahLst/>
                  <a:rect l="l" t="t" r="r" b="b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963720" y="187200"/>
                  <a:ext cx="1306440" cy="684360"/>
                </a:xfrm>
                <a:custGeom>
                  <a:avLst/>
                  <a:gdLst/>
                  <a:ahLst/>
                  <a:rect l="l" t="t" r="r" b="b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244440" y="846000"/>
                  <a:ext cx="874800" cy="538200"/>
                </a:xfrm>
                <a:custGeom>
                  <a:avLst/>
                  <a:gdLst/>
                  <a:ahLst/>
                  <a:rect l="l" t="t" r="r" b="b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212760" y="18900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669960" y="109044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784080" y="1111320"/>
                  <a:ext cx="139680" cy="117360"/>
                </a:xfrm>
                <a:custGeom>
                  <a:avLst/>
                  <a:gdLst/>
                  <a:ahLst/>
                  <a:rect l="l" t="t" r="r" b="b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12720" y="76032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8097840" y="852480"/>
                  <a:ext cx="874800" cy="531720"/>
                </a:xfrm>
                <a:custGeom>
                  <a:avLst/>
                  <a:gdLst/>
                  <a:ahLst/>
                  <a:rect l="l" t="t" r="r" b="b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8250120" y="18900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8299440" y="109044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8292960" y="110952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8097840" y="76032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6939000" y="189000"/>
                  <a:ext cx="1320840" cy="666720"/>
                </a:xfrm>
                <a:custGeom>
                  <a:avLst/>
                  <a:gdLst/>
                  <a:ahLst/>
                  <a:rect l="l" t="t" r="r" b="b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" name=""/>
              <p:cNvSpPr/>
              <p:nvPr/>
            </p:nvSpPr>
            <p:spPr>
              <a:xfrm>
                <a:off x="8282160" y="1228680"/>
                <a:ext cx="24732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275680" y="1249200"/>
                <a:ext cx="139680" cy="11772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671400" y="121428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85880" y="123660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flipV="1">
                <a:off x="3124080" y="555480"/>
                <a:ext cx="304920" cy="13824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2152800" y="100080"/>
                <a:ext cx="4709880" cy="725400"/>
              </a:xfrm>
              <a:custGeom>
                <a:avLst/>
                <a:gdLst/>
                <a:ahLst/>
                <a:rect l="l" t="t" r="r" b="b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80920" y="252360"/>
                <a:ext cx="1306800" cy="684360"/>
              </a:xfrm>
              <a:custGeom>
                <a:avLst/>
                <a:gdLst/>
                <a:ahLst/>
                <a:rect l="l" t="t" r="r" b="b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2000" y="909720"/>
                <a:ext cx="874800" cy="539640"/>
              </a:xfrm>
              <a:custGeom>
                <a:avLst/>
                <a:gdLst/>
                <a:ahLst/>
                <a:rect l="l" t="t" r="r" b="b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0320" y="254160"/>
                <a:ext cx="75384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587520" y="115416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01640" y="117648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530280" y="825480"/>
                <a:ext cx="506520" cy="45396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15400" y="917640"/>
                <a:ext cx="874440" cy="531720"/>
              </a:xfrm>
              <a:custGeom>
                <a:avLst/>
                <a:gdLst/>
                <a:ahLst/>
                <a:rect l="l" t="t" r="r" b="b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8167680" y="254160"/>
                <a:ext cx="75420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8217000" y="115416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210520" y="1174680"/>
                <a:ext cx="139680" cy="11772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015400" y="825480"/>
                <a:ext cx="506160" cy="45396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856560" y="254160"/>
                <a:ext cx="1320480" cy="666720"/>
              </a:xfrm>
              <a:custGeom>
                <a:avLst/>
                <a:gdLst/>
                <a:ahLst/>
                <a:rect l="l" t="t" r="r" b="b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3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02F72-C5C9-4575-9093-2C8E6E775CAA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89" name=""/>
            <p:cNvSpPr/>
            <p:nvPr/>
          </p:nvSpPr>
          <p:spPr>
            <a:xfrm>
              <a:off x="0" y="2895480"/>
              <a:ext cx="9166320" cy="3992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0"/>
              <a:ext cx="9142560" cy="289548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92" name="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95" name="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130320" y="1330200"/>
              <a:ext cx="8874000" cy="1414440"/>
              <a:chOff x="130320" y="1330200"/>
              <a:chExt cx="8874000" cy="141444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212760" y="1330200"/>
                <a:ext cx="8791560" cy="1349640"/>
                <a:chOff x="212760" y="1330200"/>
                <a:chExt cx="8791560" cy="134964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8364600" y="246060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8358120" y="247968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754200" y="244620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868320" y="246708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flipV="1">
                  <a:off x="3206880" y="1785960"/>
                  <a:ext cx="304560" cy="13824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2235240" y="1330200"/>
                  <a:ext cx="4710240" cy="725760"/>
                </a:xfrm>
                <a:custGeom>
                  <a:avLst/>
                  <a:gdLst/>
                  <a:ahLst/>
                  <a:rect l="l" t="t" r="r" b="b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963720" y="1482840"/>
                  <a:ext cx="1306440" cy="684000"/>
                </a:xfrm>
                <a:custGeom>
                  <a:avLst/>
                  <a:gdLst/>
                  <a:ahLst/>
                  <a:rect l="l" t="t" r="r" b="b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44440" y="2141640"/>
                  <a:ext cx="874800" cy="538200"/>
                </a:xfrm>
                <a:custGeom>
                  <a:avLst/>
                  <a:gdLst/>
                  <a:ahLst/>
                  <a:rect l="l" t="t" r="r" b="b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212760" y="148428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669960" y="238608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784080" y="2406600"/>
                  <a:ext cx="139680" cy="117360"/>
                </a:xfrm>
                <a:custGeom>
                  <a:avLst/>
                  <a:gdLst/>
                  <a:ahLst/>
                  <a:rect l="l" t="t" r="r" b="b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612720" y="205596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8097840" y="2147760"/>
                  <a:ext cx="874800" cy="532080"/>
                </a:xfrm>
                <a:custGeom>
                  <a:avLst/>
                  <a:gdLst/>
                  <a:ahLst/>
                  <a:rect l="l" t="t" r="r" b="b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8250120" y="148428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8299440" y="238608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292960" y="240516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8097840" y="205596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939000" y="1484280"/>
                  <a:ext cx="1320840" cy="666720"/>
                </a:xfrm>
                <a:custGeom>
                  <a:avLst/>
                  <a:gdLst/>
                  <a:ahLst/>
                  <a:rect l="l" t="t" r="r" b="b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" name=""/>
              <p:cNvSpPr/>
              <p:nvPr/>
            </p:nvSpPr>
            <p:spPr>
              <a:xfrm>
                <a:off x="8282160" y="2523960"/>
                <a:ext cx="24732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8275680" y="254484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71400" y="250992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85880" y="253224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3124080" y="1850760"/>
                <a:ext cx="304920" cy="13788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152800" y="1395360"/>
                <a:ext cx="4709880" cy="725400"/>
              </a:xfrm>
              <a:custGeom>
                <a:avLst/>
                <a:gdLst/>
                <a:ahLst/>
                <a:rect l="l" t="t" r="r" b="b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80920" y="1547640"/>
                <a:ext cx="1306800" cy="684360"/>
              </a:xfrm>
              <a:custGeom>
                <a:avLst/>
                <a:gdLst/>
                <a:ahLst/>
                <a:rect l="l" t="t" r="r" b="b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62000" y="2205000"/>
                <a:ext cx="874800" cy="539640"/>
              </a:xfrm>
              <a:custGeom>
                <a:avLst/>
                <a:gdLst/>
                <a:ahLst/>
                <a:rect l="l" t="t" r="r" b="b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30320" y="1549440"/>
                <a:ext cx="75384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87520" y="244944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01640" y="247176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30280" y="2120760"/>
                <a:ext cx="506520" cy="45432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015400" y="2212920"/>
                <a:ext cx="874440" cy="531720"/>
              </a:xfrm>
              <a:custGeom>
                <a:avLst/>
                <a:gdLst/>
                <a:ahLst/>
                <a:rect l="l" t="t" r="r" b="b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167680" y="1549440"/>
                <a:ext cx="75420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17000" y="244944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210520" y="247032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015400" y="2120760"/>
                <a:ext cx="506160" cy="45432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856560" y="1549440"/>
                <a:ext cx="1320480" cy="666720"/>
              </a:xfrm>
              <a:custGeom>
                <a:avLst/>
                <a:gdLst/>
                <a:ahLst/>
                <a:rect l="l" t="t" r="r" b="b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4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6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99DC-4BB9-4F8D-B277-E1FFB90B79E3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000" y="1412640"/>
            <a:ext cx="7629480" cy="344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cc00"/>
                </a:solidFill>
                <a:latin typeface="Edwardian Script ITC"/>
              </a:rPr>
              <a:t>Появление цивилизации</a:t>
            </a:r>
            <a:endParaRPr b="0" lang="en-US" sz="7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79480" y="209520"/>
            <a:ext cx="15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Урок 6 класса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940360" y="4292640"/>
            <a:ext cx="2376720" cy="23018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116000" y="4292640"/>
            <a:ext cx="237636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60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ЦЕЛИ И ЗАДАЧИ: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Объяснить значение понятий: «цивилизация», «учёный», «цивильность»; описать и объяснить процесс возникновения цивилизации; составить рассказ об этапах развития цивилизации; выяснить  роль книги чтения в развитии современного общества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08000" y="260280"/>
            <a:ext cx="234000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9280" y="14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План изучения: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55640" y="3357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8f8f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Понятие «цивилизация»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8f8f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Возникновение цивилизации, этапы её развития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8f8f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Роль образования в возникновении и развитии цивилизации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020000" y="1844640"/>
            <a:ext cx="158436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Понятие «цивилизация»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03640" y="981000"/>
            <a:ext cx="2233440" cy="505080"/>
          </a:xfrm>
          <a:prstGeom prst="rect">
            <a:avLst/>
          </a:prstGeom>
          <a:solidFill>
            <a:srgbClr val="98ba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50035"/>
                </a:solidFill>
                <a:latin typeface="Times New Roman"/>
              </a:rPr>
              <a:t>Цивилизация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627280" y="1773360"/>
            <a:ext cx="3311640" cy="792000"/>
          </a:xfrm>
          <a:prstGeom prst="rect">
            <a:avLst/>
          </a:prstGeom>
          <a:solidFill>
            <a:srgbClr val="98ba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50035"/>
                </a:solidFill>
                <a:latin typeface="Times New Roman"/>
              </a:rPr>
              <a:t>Социальная и культурная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50035"/>
                </a:solidFill>
                <a:latin typeface="Times New Roman"/>
              </a:rPr>
              <a:t>общность людей опирается.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71640" y="5950080"/>
            <a:ext cx="1944720" cy="645840"/>
          </a:xfrm>
          <a:prstGeom prst="rect">
            <a:avLst/>
          </a:prstGeom>
          <a:solidFill>
            <a:srgbClr val="98ba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50035"/>
                </a:solidFill>
                <a:latin typeface="Times New Roman"/>
              </a:rPr>
              <a:t>Вне духовных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50035"/>
                </a:solidFill>
                <a:latin typeface="Times New Roman"/>
              </a:rPr>
              <a:t>Ценностей.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627280" y="2924280"/>
            <a:ext cx="3384720" cy="504720"/>
          </a:xfrm>
          <a:prstGeom prst="rect">
            <a:avLst/>
          </a:prstGeom>
          <a:solidFill>
            <a:srgbClr val="98ba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50035"/>
                </a:solidFill>
                <a:latin typeface="Times New Roman"/>
              </a:rPr>
              <a:t>На единую систему ценностей.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981760" y="3129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476360" y="3789360"/>
            <a:ext cx="6264360" cy="504720"/>
          </a:xfrm>
          <a:prstGeom prst="rect">
            <a:avLst/>
          </a:prstGeom>
          <a:solidFill>
            <a:srgbClr val="98ba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50035"/>
                </a:solidFill>
                <a:latin typeface="Times New Roman"/>
              </a:rPr>
              <a:t>Ценности объединяют людей в  цивилизованное общество.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76360" y="4653000"/>
            <a:ext cx="6264360" cy="504720"/>
          </a:xfrm>
          <a:prstGeom prst="rect">
            <a:avLst/>
          </a:prstGeom>
          <a:solidFill>
            <a:srgbClr val="98ba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50035"/>
                </a:solidFill>
                <a:latin typeface="Times New Roman"/>
              </a:rPr>
              <a:t>Ценности обеспечивают единство людей в ходе истории.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70920" y="5445000"/>
            <a:ext cx="718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Следовательно, развитие культуры и цивилизации неразрывно связано: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940360" y="5950080"/>
            <a:ext cx="1944720" cy="645840"/>
          </a:xfrm>
          <a:prstGeom prst="rect">
            <a:avLst/>
          </a:prstGeom>
          <a:solidFill>
            <a:srgbClr val="98ba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50035"/>
                </a:solidFill>
                <a:latin typeface="Times New Roman"/>
              </a:rPr>
              <a:t>Не может сложится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50035"/>
                </a:solidFill>
                <a:latin typeface="Times New Roman"/>
              </a:rPr>
              <a:t>Цивилизация.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284720" y="148428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284720" y="256536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284720" y="34290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284720" y="42926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987640" y="6237360"/>
            <a:ext cx="2881440" cy="0"/>
          </a:xfrm>
          <a:prstGeom prst="line">
            <a:avLst/>
          </a:prstGeom>
          <a:ln w="28440">
            <a:solidFill>
              <a:srgbClr val="f8f8f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1100160" cy="18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169236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Задание: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8920" y="1915920"/>
            <a:ext cx="8209080" cy="494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1. </a:t>
            </a:r>
            <a:r>
              <a:rPr b="0" lang="ru-RU" sz="2000" spc="-1" strike="noStrike">
                <a:solidFill>
                  <a:srgbClr val="f8f8f8"/>
                </a:solidFill>
                <a:latin typeface="Times New Roman"/>
              </a:rPr>
              <a:t>На каком этапе развития «цивилизация» была связана с возникновением государства? Городов? ( Для ответа вспомните материал по истории Древнего мира)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imes New Roman"/>
              </a:rPr>
              <a:t>2. Какой смысл приобрело это слово на этапе средневековья? Почему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imes New Roman"/>
              </a:rPr>
              <a:t>3. Каким образом изменилось значения этого понятия в более позднее время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imes New Roman"/>
              </a:rPr>
              <a:t>4. Кого стали называть «цивильным» человеком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imes New Roman"/>
              </a:rPr>
              <a:t>5. Что означат термин «Цивилизовать»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imes New Roman"/>
              </a:rPr>
              <a:t>6. Что означало понятие «Цивильность»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imes New Roman"/>
              </a:rPr>
              <a:t>7. Когда и где появляется сам термин «Цивилизация»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imes New Roman"/>
              </a:rPr>
              <a:t>8. С чем ассоциируется он в </a:t>
            </a: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XVIII</a:t>
            </a:r>
            <a:r>
              <a:rPr b="0" lang="ru-RU" sz="2000" spc="-1" strike="noStrike">
                <a:solidFill>
                  <a:srgbClr val="f8f8f8"/>
                </a:solidFill>
                <a:latin typeface="Times New Roman"/>
              </a:rPr>
              <a:t> веке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imes New Roman"/>
              </a:rPr>
              <a:t>9. Что понимают под термином  «Цивилизация» в </a:t>
            </a: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XVIII </a:t>
            </a:r>
            <a:r>
              <a:rPr b="0" lang="ru-RU" sz="2000" spc="-1" strike="noStrike">
                <a:solidFill>
                  <a:srgbClr val="f8f8f8"/>
                </a:solidFill>
                <a:latin typeface="Times New Roman"/>
              </a:rPr>
              <a:t>в 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imes New Roman"/>
              </a:rPr>
              <a:t>10. Что понимается под цивилизацией в наши дни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imes New Roman"/>
              </a:rPr>
              <a:t>11. Назовите предпосылки возникновения цивилизации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imes New Roman"/>
              </a:rPr>
              <a:t>12. Что является основной Причиной развития Цивилизации? Приведите примеры доказывающее это утверждение.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43280" y="115920"/>
            <a:ext cx="33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50035"/>
                </a:solidFill>
                <a:latin typeface="Times New Roman"/>
              </a:rPr>
              <a:t>Работая со страницами 72-73</a:t>
            </a:r>
            <a:r>
              <a:rPr b="0" lang="en-US" sz="1800" spc="-1" strike="noStrike">
                <a:solidFill>
                  <a:srgbClr val="350035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7020000" y="3789360"/>
            <a:ext cx="1747800" cy="16938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979640" y="836640"/>
            <a:ext cx="520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00"/>
                </a:solidFill>
                <a:latin typeface="Times New Roman"/>
              </a:rPr>
              <a:t>Возникновение цивилизации, этапы её развития.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Задание: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5694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Прочитайте на страницах 73-74 учебника рубрику «Любопытные факты» и проанализируйте их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50035"/>
                </a:solidFill>
                <a:latin typeface="Times New Roman"/>
              </a:rPr>
              <a:t>                    </a:t>
            </a:r>
            <a:r>
              <a:rPr b="1" i="1" lang="en-US" sz="2000" spc="-1" strike="noStrike">
                <a:solidFill>
                  <a:srgbClr val="350035"/>
                </a:solidFill>
                <a:latin typeface="Times New Roman"/>
              </a:rPr>
              <a:t>Вопросы к прочитанному тексту: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1.  Как обстоит дело с чтением книг среди взрослых в высококультурной Франции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578880" indent="-578880">
              <a:lnSpc>
                <a:spcPct val="80000"/>
              </a:lnSpc>
              <a:spcBef>
                <a:spcPts val="499"/>
              </a:spcBef>
              <a:buClr>
                <a:srgbClr val="f8f8f8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А что можно сказать по данной проблеме в развитой Америке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578880" indent="-578880">
              <a:lnSpc>
                <a:spcPct val="80000"/>
              </a:lnSpc>
              <a:spcBef>
                <a:spcPts val="499"/>
              </a:spcBef>
              <a:buClr>
                <a:srgbClr val="f8f8f8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Каков процент неграмотных людей в Канаде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578880" indent="-578880">
              <a:lnSpc>
                <a:spcPct val="80000"/>
              </a:lnSpc>
              <a:spcBef>
                <a:spcPts val="499"/>
              </a:spcBef>
              <a:buClr>
                <a:srgbClr val="f8f8f8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Как обстоит дело с обучением подростков в Польше, Германии, Франции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578880" indent="-578880">
              <a:lnSpc>
                <a:spcPct val="80000"/>
              </a:lnSpc>
              <a:spcBef>
                <a:spcPts val="499"/>
              </a:spcBef>
              <a:buClr>
                <a:srgbClr val="f8f8f8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Что подразумевают учёные, вводящие термин «культурные пустыри»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6.  Дайте общую характеристику неграмотному человеку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95280" y="404640"/>
            <a:ext cx="8424720" cy="64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оль образования в возникновении и развитии Цивилизации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8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8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8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8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8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8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8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8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8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8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8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8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8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800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8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8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8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800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800" fill="hold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800" fill="hold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800" fill="hold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800"/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800" fill="hold"/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800" fill="hold"/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800" fill="hold"/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800"/>
                                        <p:tgtEl>
                                          <p:spTgt spid="2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800" fill="hold"/>
                                        <p:tgtEl>
                                          <p:spTgt spid="2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800" fill="hold"/>
                                        <p:tgtEl>
                                          <p:spTgt spid="2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800" fill="hold"/>
                                        <p:tgtEl>
                                          <p:spTgt spid="2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Домашнее задание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Выучить параграф 13 учебника, задание в рабочих тетрадях; творческое задание: Напишите сочинение по притче.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6804000" y="4797360"/>
            <a:ext cx="15159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4360" y="1700280"/>
            <a:ext cx="8208720" cy="363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Haettenschweiler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Haettenschweiler"/>
              <a:ea typeface="Haettenschweiler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300720" y="4724280"/>
            <a:ext cx="2592360" cy="19447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684360" y="115920"/>
            <a:ext cx="197964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9000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Презентацию подготовил ученик 7 б класса Скорлупкин Дмитрий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                  </a:t>
            </a: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Литература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12:59:29Z</dcterms:created>
  <dc:creator>1</dc:creator>
  <dc:description/>
  <dc:language>en-US</dc:language>
  <cp:lastModifiedBy>1</cp:lastModifiedBy>
  <dcterms:modified xsi:type="dcterms:W3CDTF">2010-03-05T16:38:18Z</dcterms:modified>
  <cp:revision>4</cp:revision>
  <dc:subject/>
  <dc:title>Появление цивилиза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