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708-358F-4D28-B515-E9584888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DFC-6941-4DE7-952E-599321A3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B0E-75CF-4642-900C-3FD3F7C8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CC1-1B0E-4612-94AB-CC35DE72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C082-3CD3-452F-A2F4-F26CB04A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9337-AB8E-496B-8562-65F44F5F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6065-BA8F-4BE2-8EBC-D4576390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5F2B-C60F-41CC-ABCE-826F27F9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A837-94F9-4089-83F1-955C62D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4398-B9C0-4170-B45F-B043A8E6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B0BC-20CD-4DB9-BA8D-9C72ECF5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354-2552-4C19-A15C-19DB1D7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181A-29B6-4F59-AEC1-67DB6B4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BD44-5E1D-4536-95B5-69A1CDEE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BA44-E22F-4600-8E17-F02872F3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7D89-9E0F-476F-A414-ABCF3E83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C330-BC4C-4445-810F-3EE4FAED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18B-F735-4402-8DF6-E17F5040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229-80EA-4C91-B01B-CFAB1A70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CAE-762C-4A76-A4F1-79387653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6D6-5BE5-4CD0-A1E1-B59D40FE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E2E-31A8-4403-A425-D08F8F9A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880-B4B7-4C23-9EE7-5896B165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D4A-84C9-42EF-BAF4-8E9600C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9BE1-A209-4490-9BA8-44316CACD5B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BB5A-3681-4285-9FEB-D0670127BC5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629480" cy="34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00"/>
                </a:solidFill>
                <a:latin typeface="Edwardian Script ITC"/>
              </a:rPr>
              <a:t>Появление цивилиза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9480" y="2095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Урок 6 класс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376720" cy="2301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23763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ЦЕЛИ И ЗАДАЧ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Объяснить значение понятий: «цивилизация», «учёный», «цивильность»; описать и объяснить процесс возникновения цивилизации; составить рассказ об этапах развития цивилизации; выяснить  роль книги чтения в развитии современного обществ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2340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План изучения: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онятие «цивилизация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Возникновение цивилизации, этапы её развития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Роль образования в возникновении и развитии цивилизаци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онятие «цивилизация»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981000"/>
            <a:ext cx="2233440" cy="50508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ивилизаци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1773360"/>
            <a:ext cx="3311640" cy="79200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Социальная и культурна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общность людей опираетс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1944720" cy="64584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Вне духовны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енностей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2924280"/>
            <a:ext cx="3384720" cy="50472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На единую систему ценностей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81760" y="3129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3789360"/>
            <a:ext cx="6264360" cy="50472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енности объединяют людей в  цивилизованное общество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4653000"/>
            <a:ext cx="6264360" cy="50472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енности обеспечивают единство людей в ходе истори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0920" y="5445000"/>
            <a:ext cx="71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Следовательно, развитие культуры и цивилизации неразрывно связано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5950080"/>
            <a:ext cx="1944720" cy="64584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0035"/>
                </a:solidFill>
                <a:latin typeface="Times New Roman"/>
              </a:rPr>
              <a:t>Не может сложитс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0035"/>
                </a:solidFill>
                <a:latin typeface="Times New Roman"/>
              </a:rPr>
              <a:t>Цивилизаци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1484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2565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34290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84720" y="42926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87640" y="6237360"/>
            <a:ext cx="2881440" cy="0"/>
          </a:xfrm>
          <a:prstGeom prst="line">
            <a:avLst/>
          </a:prstGeom>
          <a:ln w="2844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692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Зада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20908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На каком этапе развития «цивилизация» была связана с возникновением государства? Городов? ( Для ответа вспомните материал по истории Древнего мира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2. Какой смысл приобрело это слово на этапе средневековья? Почему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3. Каким образом изменилось значения этого понятия в более позднее время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4. Кого стали называть «цивильным» человеком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5. Что означат термин «Цивилизовать»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6. Что означало понятие «Цивильность»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7. Когда и где появляется сам термин «Цивилизация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8. С чем ассоциируется он в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 веке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9. Что понимают под термином  «Цивилизация» в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XVIII 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в 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10. Что понимается под цивилизацией в наши дни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11. Назовите предпосылки возникновения цивилизации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12. Что является основной Причиной развития Цивилизации? Приведите примеры доказывающее это утверждение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11592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Работая со страницами 72-73</a:t>
            </a:r>
            <a:r>
              <a:rPr b="0" lang="en-US" sz="1800" spc="-1" strike="noStrike">
                <a:solidFill>
                  <a:srgbClr val="350035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79640" y="83664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Возникновение цивилизации, этапы её развити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Зада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Прочитайте на страницах 73-74 учебника рубрику «Любопытные факты» и проанализируйте их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50035"/>
                </a:solidFill>
                <a:latin typeface="Times New Roman"/>
              </a:rPr>
              <a:t>                    </a:t>
            </a:r>
            <a:r>
              <a:rPr b="1" i="1" lang="en-US" sz="2000" spc="-1" strike="noStrike">
                <a:solidFill>
                  <a:srgbClr val="350035"/>
                </a:solidFill>
                <a:latin typeface="Times New Roman"/>
              </a:rPr>
              <a:t>Вопросы к прочитанному тексту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1.  Как обстоит дело с чтением книг среди взрослых в высококультурной Франции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А что можно сказать по данной проблеме в развитой Америке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Каков процент неграмотных людей в Канаде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Как обстоит дело с обучением подростков в Польше, Германии, Франции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Что подразумевают учёные, вводящие термин «культурные пустыри»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6.  Дайте общую характеристику неграмотному человеку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404640"/>
            <a:ext cx="84247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ль образования в возникновении и развитии Цивилизаци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Выучить параграф 13 учебника, задание в рабочих тетрадях; творческое задание: Напишите сочинение по притче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04000" y="479736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700280"/>
            <a:ext cx="8208720" cy="36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ettenschweiler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00720" y="4724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1979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резентацию подготовил ученик 7 б класса Скорлупкин Дмитри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59:29Z</dcterms:created>
  <dc:creator>1</dc:creator>
  <dc:description/>
  <dc:language>en-US</dc:language>
  <cp:lastModifiedBy>1</cp:lastModifiedBy>
  <dcterms:modified xsi:type="dcterms:W3CDTF">2010-03-05T16:38:18Z</dcterms:modified>
  <cp:revision>4</cp:revision>
  <dc:subject/>
  <dc:title>Появление цивил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