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C74-2EFE-40CB-AE9F-5F10B897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850-C443-47FE-B96E-3BEB6C03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43A-D97C-438C-A853-9BF6430D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C98-D988-47E9-8492-731FA79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9761-12B8-44BA-B3E8-BF0B5899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B5E2-87C7-445F-A6FA-E95BF0BE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74C-AE74-4D65-8E8C-15E295D8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0FCB-C2F3-41C7-AEC6-243087F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E602-01BB-4B3B-96F0-B2D4A7A3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8BF0-50FB-4155-9778-C7C510D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5EB0-5D3C-4A0E-B06F-29A206D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E73-86D7-420F-94A1-4524A041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1273-B0F2-4B99-977F-7FC3F8D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1C42-10C6-4591-9640-E234D27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1B64-9C6C-466E-B1FA-076EE10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1CC2-48DB-4721-BF1B-34A6DA28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2357-BD08-4B8D-860D-EB8E430E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C1C-52F1-421D-9B6B-E27BAC20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89A-CD23-45C7-908B-221B493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05F-A9DB-4614-AC09-88DEF14D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9C9-2A14-4040-B51B-51BC7B73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1C2-EF30-4EFE-A5CF-55C07E3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48E-EB7B-40B6-89A6-5C912E0D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21E-35E6-4330-9321-998105F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7F2E-C2E0-4A80-8D64-B06DEC560ED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58FA-F81D-4269-A6B8-89C6D71A2F8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629480" cy="34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00"/>
                </a:solidFill>
                <a:latin typeface="Edwardian Script ITC"/>
              </a:rPr>
              <a:t>Появление цивилиза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9480" y="2095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Урок 6 класса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376720" cy="2301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2376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Объяснить значение понятий: «цивилизация», «учёный», «цивильность»; описать и объяснить процесс возникновения цивилизации; составить рассказ об этапах развития цивилизации; выяснить  роль книги чтения в развитии современного общества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2340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План изучения: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онятие «цивилизация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Возникновение цивилизации, этапы её развити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Роль образования в возникновении и развитии цивилизаци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онятие «цивилизация»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981000"/>
            <a:ext cx="2233440" cy="50508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ивилизаци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1773360"/>
            <a:ext cx="3311640" cy="79200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Социальная и культурная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общность людей опираетс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1944720" cy="64584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Вне духовных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ей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2924280"/>
            <a:ext cx="338472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На единую систему ценностей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312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3789360"/>
            <a:ext cx="626436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и объединяют людей в  цивилизованное общество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4653000"/>
            <a:ext cx="6264360" cy="50472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Ценности обеспечивают единство людей в ходе истории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0920" y="5445000"/>
            <a:ext cx="718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imes New Roman"/>
              </a:rPr>
              <a:t>Следовательно, развитие культуры и цивилизации неразрывно связано: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5950080"/>
            <a:ext cx="1944720" cy="645840"/>
          </a:xfrm>
          <a:prstGeom prst="rect">
            <a:avLst/>
          </a:prstGeom>
          <a:solidFill>
            <a:srgbClr val="98ba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35"/>
                </a:solidFill>
                <a:latin typeface="Times New Roman"/>
              </a:rPr>
              <a:t>Не может сложится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50035"/>
                </a:solidFill>
                <a:latin typeface="Times New Roman"/>
              </a:rPr>
              <a:t>Цивилизац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484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565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34290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84720" y="42926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6237360"/>
            <a:ext cx="2881440" cy="0"/>
          </a:xfrm>
          <a:prstGeom prst="line">
            <a:avLst/>
          </a:prstGeom>
          <a:ln w="2844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692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20908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На каком этапе развития «цивилизация» была связана с возникновением государства? Городов? ( Для ответа вспомните материал по истории Древнего мира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2. Какой смысл приобрело это слово на этапе средневековья? Почему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3. Каким образом изменилось значения этого понятия в более позднее время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4. Кого стали называть «цивильным» человеком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5. Что означат термин «Цивилизовать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6. Что означало понятие «Цивильность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7. Когда и где появляется сам термин «Цивилизация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8. С чем ассоциируется он в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век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9. Что понимают под термином  «Цивилизация» в 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XVIII 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в 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0. Что понимается под цивилизацией в наши дн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1. Назовите предпосылки возникновения цивилизации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12. Что является основной Причиной развития Цивилизации? Приведите примеры доказывающее это утверждение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11592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50035"/>
                </a:solidFill>
                <a:latin typeface="Times New Roman"/>
              </a:rPr>
              <a:t>Работая со страницами 72-73</a:t>
            </a:r>
            <a:r>
              <a:rPr b="0" lang="en-US" sz="1800" spc="-1" strike="noStrike">
                <a:solidFill>
                  <a:srgbClr val="350035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79640" y="836640"/>
            <a:ext cx="52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Возникновение цивилизации, этапы её развития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Задание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Прочитайте на страницах 73-74 учебника рубрику «Любопытные факты» и проанализируйте их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50035"/>
                </a:solidFill>
                <a:latin typeface="Times New Roman"/>
              </a:rPr>
              <a:t>                    </a:t>
            </a:r>
            <a:r>
              <a:rPr b="1" i="1" lang="en-US" sz="2000" spc="-1" strike="noStrike">
                <a:solidFill>
                  <a:srgbClr val="350035"/>
                </a:solidFill>
                <a:latin typeface="Times New Roman"/>
              </a:rPr>
              <a:t>Вопросы к прочитанному тексту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1.  Как обстоит дело с чтением книг среди взрослых в высококультурной Франци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А что можно сказать по данной проблеме в развитой Америк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Каков процент неграмотных людей в Канаде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Как обстоит дело с обучением подростков в Польше, Германии, Франции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Что подразумевают учёные, вводящие термин «культурные пустыри»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6.  Дайте общую характеристику неграмотному человеку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404640"/>
            <a:ext cx="842472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ль образования в возникновении и развитии Цивилизаци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ыучить параграф 13 учебника, задание в рабочих тетрадях; творческое задание: Напишите сочинение по притче.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700280"/>
            <a:ext cx="8208720" cy="36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ettenschweiler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00720" y="4724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19796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резентацию подготовил ученик 7 б класса Скорлупкин Дмитри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59:29Z</dcterms:created>
  <dc:creator>1</dc:creator>
  <dc:description/>
  <dc:language>en-US</dc:language>
  <cp:lastModifiedBy>1</cp:lastModifiedBy>
  <dcterms:modified xsi:type="dcterms:W3CDTF">2010-03-05T16:38:18Z</dcterms:modified>
  <cp:revision>4</cp:revision>
  <dc:subject/>
  <dc:title>Появление цивил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