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C38-9995-4329-BEA1-64C52852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6BF-69AA-4B12-BFD1-512C989B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A8D-1579-4C67-8A91-0F528489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D15-63A5-4D89-975C-B300624F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B113-BC4C-46BF-8A2F-386CCD05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51AF-F930-404C-BCE9-3B17963C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E8A2-74AE-40C4-8EC0-ED43A66C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165-79A7-4290-BE9E-67BCE4C3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B411-38E4-461D-A380-A1FE630A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D23-7D24-4E09-A00B-DE47314B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DC07-462A-4338-93D7-6B97129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E7B-94CA-4CB3-AAB8-1CAD7AF0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C7CE-8292-44D9-9112-3B9CFB2F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3A52-162E-4452-80C0-3B6AEEB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7952-EA15-4A37-84FD-1E036540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2EE1-0941-4091-89DA-4D7B6C8E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D37F-3F7C-414F-BA30-FA798CC7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6C6-0CEB-4248-8E0D-9AD72BAB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6CA-AC72-426C-85CF-9F1532A8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ADE-2346-49C0-90F0-9D2931DD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3B6-23D1-4414-9103-18DC9A3B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C63-930A-4C38-BB1F-BA9AFAC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B13-FA04-41C0-BB93-4CF5064A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21B-301E-4A75-A02A-2A57C18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EEB3-1DB9-447C-8462-390DA40A1638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A698-44A1-4389-87A1-554FF18044C7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98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Повседневный быт сословий России первой половины Х</a:t>
            </a:r>
            <a:r>
              <a:rPr b="1" lang="en-US" sz="40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Х ве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рок истории в 8 класс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Автор: Синицына О.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читель МОУ «Чернореченская СОШ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ru-RU" sz="8000" spc="-1" strike="noStrike">
                <a:solidFill>
                  <a:srgbClr val="404176"/>
                </a:solidFill>
                <a:latin typeface="Times New Roman"/>
              </a:rPr>
              <a:t>Основные занятия дворян?</a:t>
            </a:r>
            <a:endParaRPr b="0" lang="en-US" sz="8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Дворяне перенимают чаще внешние новшества 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Купечество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0" t="3116" r="3515" b="3380"/>
          <a:stretch/>
        </p:blipFill>
        <p:spPr>
          <a:xfrm>
            <a:off x="2324160" y="1700280"/>
            <a:ext cx="5919840" cy="4824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50920" y="1413000"/>
            <a:ext cx="1944720" cy="15843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й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лад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3645000"/>
            <a:ext cx="1944360" cy="18730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в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176"/>
                </a:solidFill>
                <a:latin typeface="Times New Roman"/>
              </a:rPr>
              <a:t>Основные занятия купцов?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Крестьяне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rcRect l="0" t="2498" r="8241" b="9129"/>
          <a:stretch/>
        </p:blipFill>
        <p:spPr>
          <a:xfrm>
            <a:off x="755640" y="134136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5396" r="0" b="0"/>
          <a:stretch/>
        </p:blipFill>
        <p:spPr>
          <a:xfrm>
            <a:off x="684360" y="765000"/>
            <a:ext cx="75596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нутреннее убранство до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0" t="12431" r="0" b="5751"/>
          <a:stretch/>
        </p:blipFill>
        <p:spPr>
          <a:xfrm>
            <a:off x="971640" y="1700280"/>
            <a:ext cx="741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rcRect l="0" t="4193" r="3203" b="15660"/>
          <a:stretch/>
        </p:blipFill>
        <p:spPr>
          <a:xfrm>
            <a:off x="1763640" y="1700280"/>
            <a:ext cx="5616720" cy="45370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904200" y="684360"/>
            <a:ext cx="30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ЕЕ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РАНСТВО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920" y="900000"/>
            <a:ext cx="22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БЕЛЬ 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19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УД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2920" y="421164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08720" y="508464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ЛЕЧЕНИЯ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rcRect l="6899" t="13335" r="10583" b="15660"/>
          <a:stretch/>
        </p:blipFill>
        <p:spPr>
          <a:xfrm>
            <a:off x="684360" y="692280"/>
            <a:ext cx="770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ОСНОВНЫЕ ЗАНЯТИЯ</a:t>
            </a:r>
            <a:br>
              <a:rPr sz="44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КРЕСТЬЯН?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04176"/>
                </a:solidFill>
                <a:latin typeface="Times New Roman"/>
              </a:rPr>
              <a:t>РАБОЧ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4484" t="1443" r="2989" b="0"/>
          <a:stretch/>
        </p:blipFill>
        <p:spPr>
          <a:xfrm>
            <a:off x="2193840" y="1482840"/>
            <a:ext cx="44640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Социальная структура </a:t>
            </a:r>
            <a:br>
              <a:rPr sz="44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России первой половины Х</a:t>
            </a:r>
            <a:r>
              <a:rPr b="1" lang="en-US" sz="44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Х век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орян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ховенство                Купцы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щан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ые крестьян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04176"/>
                </a:solidFill>
                <a:latin typeface="Times New Roman"/>
              </a:rPr>
              <a:t>Повседневная жизнь сословий</a:t>
            </a:r>
            <a:endParaRPr b="0" lang="en-US" sz="8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383ad"/>
                </a:solidFill>
                <a:latin typeface="Times New Roman"/>
              </a:rPr>
              <a:t>Основные занятия?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632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404176"/>
                </a:solidFill>
                <a:latin typeface="Times New Roman"/>
              </a:rPr>
              <a:t>Дворяне </a:t>
            </a:r>
            <a:br>
              <a:rPr sz="7200"/>
            </a:br>
            <a:endParaRPr b="0" lang="en-US" sz="7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0" t="0" r="7924" b="8565"/>
          <a:stretch/>
        </p:blipFill>
        <p:spPr>
          <a:xfrm>
            <a:off x="68436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333360"/>
            <a:ext cx="3600360" cy="15843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оходы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476280"/>
            <a:ext cx="3457800" cy="144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989000"/>
            <a:ext cx="3313080" cy="576360"/>
          </a:xfrm>
          <a:prstGeom prst="ellipse">
            <a:avLst/>
          </a:prstGeom>
          <a:solidFill>
            <a:srgbClr val="babe9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емля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492280"/>
            <a:ext cx="3745080" cy="10080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ий труд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7720"/>
            <a:ext cx="4067280" cy="13683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дит в банке  н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4581360"/>
            <a:ext cx="3960720" cy="107964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адывание помест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68360" y="1916280"/>
            <a:ext cx="0" cy="217440"/>
          </a:xfrm>
          <a:prstGeom prst="line">
            <a:avLst/>
          </a:prstGeom>
          <a:ln w="76320">
            <a:solidFill>
              <a:srgbClr val="8383ad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3280" y="2205000"/>
            <a:ext cx="4105440" cy="792360"/>
          </a:xfrm>
          <a:prstGeom prst="rect">
            <a:avLst/>
          </a:prstGeom>
          <a:solidFill>
            <a:srgbClr val="e82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знь в столице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3213000"/>
            <a:ext cx="4248000" cy="936720"/>
          </a:xfrm>
          <a:prstGeom prst="rect">
            <a:avLst/>
          </a:prstGeom>
          <a:solidFill>
            <a:srgbClr val="e82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влечения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6000" y="4365720"/>
            <a:ext cx="4537080" cy="2158920"/>
          </a:xfrm>
          <a:prstGeom prst="rect">
            <a:avLst/>
          </a:prstGeom>
          <a:solidFill>
            <a:srgbClr val="e82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держание домов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городе и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еревне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32720" y="1916280"/>
            <a:ext cx="0" cy="36036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5445000"/>
            <a:ext cx="4140360" cy="14130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лование на служб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48120" y="611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3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609480"/>
            <a:ext cx="136836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Д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в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о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р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я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к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5047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8641" r="0" b="0"/>
          <a:stretch/>
        </p:blipFill>
        <p:spPr>
          <a:xfrm>
            <a:off x="1692360" y="0"/>
            <a:ext cx="6408720" cy="71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176"/>
                </a:solidFill>
                <a:latin typeface="Times New Roman"/>
              </a:rPr>
              <a:t>Образование дворян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2060640"/>
            <a:ext cx="3456000" cy="14414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7162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странные язык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442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наук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800000" y="3536640"/>
            <a:ext cx="503280" cy="3313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8"/>
                </a:lnTo>
                <a:cubicBezTo>
                  <a:pt x="10800" y="10168"/>
                  <a:pt x="5400" y="11068"/>
                  <a:pt x="0" y="11068"/>
                </a:cubicBezTo>
                <a:cubicBezTo>
                  <a:pt x="5400" y="11068"/>
                  <a:pt x="10800" y="11968"/>
                  <a:pt x="10800" y="128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566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987280" y="1557360"/>
            <a:ext cx="576360" cy="28728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4360" y="1484280"/>
            <a:ext cx="719280" cy="36036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1844640"/>
            <a:ext cx="4788000" cy="20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ные и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лищ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3927600"/>
            <a:ext cx="43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бокое изучение наук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86920" y="465300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к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й служб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8383ad"/>
                </a:solidFill>
                <a:latin typeface="Times New Roman"/>
              </a:rPr>
              <a:t>Городской  дом дворянина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0" t="0" r="0" b="1625"/>
          <a:stretch/>
        </p:blipFill>
        <p:spPr>
          <a:xfrm>
            <a:off x="684360" y="1341360"/>
            <a:ext cx="7848360" cy="37432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600200" y="5386320"/>
            <a:ext cx="57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Arial"/>
              </a:rPr>
              <a:t>+  загородный летний дом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Мода 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03280" y="1844640"/>
            <a:ext cx="6048360" cy="1150920"/>
          </a:xfrm>
          <a:prstGeom prst="rect">
            <a:avLst/>
          </a:prstGeom>
          <a:gradFill rotWithShape="0">
            <a:gsLst>
              <a:gs pos="0">
                <a:srgbClr val="000082">
                  <a:alpha val="46274"/>
                </a:srgbClr>
              </a:gs>
              <a:gs pos="50000">
                <a:srgbClr val="ff8200"/>
              </a:gs>
              <a:gs pos="100000">
                <a:srgbClr val="000082">
                  <a:alpha val="46274"/>
                </a:srgbClr>
              </a:gs>
            </a:gsLst>
            <a:lin ang="81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35120" y="200196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ё иностранное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3284640"/>
            <a:ext cx="2232000" cy="108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Е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00360" y="3716280"/>
            <a:ext cx="316872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деж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5084640"/>
            <a:ext cx="2808360" cy="12970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питк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88000" y="2997360"/>
            <a:ext cx="3456000" cy="3382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</cp:lastModifiedBy>
  <dcterms:modified xsi:type="dcterms:W3CDTF">2011-08-15T07:28:25Z</dcterms:modified>
  <cp:revision>5</cp:revision>
  <dc:subject/>
  <dc:title>PowerPoint Presentation</dc:title>
</cp:coreProperties>
</file>