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gif" ContentType="image/gif"/>
  <Override PartName="/ppt/media/image7.jpeg" ContentType="image/jpeg"/>
  <Override PartName="/ppt/media/image11.png" ContentType="image/png"/>
  <Override PartName="/ppt/media/image1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D362-2CE8-4915-87C3-F5F54CCA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A1AD-7028-41D4-80B0-20E0DB03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D9BE-B818-480B-B2DE-D0C5003E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C64-B2F6-4DCD-AA78-1E5DE061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E739-6C35-456E-9DE7-51AFCBFB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BC89-09A7-4F24-8F87-9AA7BF8E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4EA9-C05C-4B0B-A20F-AACBFE52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FD13-BA3E-438D-9143-DB855174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0FEE-C3A4-4ED4-AB67-737AE0EE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EC83-60AB-4B28-A78B-9817AF0B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7F25-FE72-406B-8495-7E84FA47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859-A1AB-4487-B625-E5E49C8E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4995-D7B2-4008-83C1-228BBFE1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88E1-85D7-42D7-8C21-5B5A072C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ADF0-00DD-48F6-A155-3C4C217E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118C-1A1D-4DC5-B964-E5CE1970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F3AF-5F08-4969-8FC6-FD64D65E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15EF-42BE-445C-AD89-653C32DD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D1E-0587-48ED-9BBA-F058E01A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A74A-700C-4577-908D-67C9C09F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B1C4-A1A8-4B66-8477-FD5EB87B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458-5A4A-415D-8A0E-F062084C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B37-3F92-49B8-9A79-7ADFA697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759C-170B-42E7-90ED-1252A2B9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CD98-3248-4D5E-83D9-4195B3F24965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B9E7-59EF-4960-AFFD-A1EC0C8AF968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76280"/>
            <a:ext cx="798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Повседневный быт сословий России первой половины Х</a:t>
            </a:r>
            <a:r>
              <a:rPr b="1" lang="en-US" sz="4000" spc="-1" strike="noStrike">
                <a:solidFill>
                  <a:srgbClr val="404176"/>
                </a:solidFill>
                <a:latin typeface="Times New Roman"/>
              </a:rPr>
              <a:t>I</a:t>
            </a: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Х века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Урок истории в 8 классе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Автор: Синицына О.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Учитель МОУ «Чернореченская СОШ»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ru-RU" sz="8000" spc="-1" strike="noStrike">
                <a:solidFill>
                  <a:srgbClr val="404176"/>
                </a:solidFill>
                <a:latin typeface="Times New Roman"/>
              </a:rPr>
              <a:t>Основные занятия дворян?</a:t>
            </a:r>
            <a:endParaRPr b="0" lang="en-US" sz="8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Дворяне перенимают чаще внешние новшества !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176"/>
                </a:solidFill>
                <a:latin typeface="Times New Roman"/>
              </a:rPr>
              <a:t>Купечество</a:t>
            </a: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0" t="3116" r="3515" b="3380"/>
          <a:stretch/>
        </p:blipFill>
        <p:spPr>
          <a:xfrm>
            <a:off x="2324160" y="1700280"/>
            <a:ext cx="5919840" cy="48243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50920" y="1413000"/>
            <a:ext cx="1944720" cy="158436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диционный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лад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зни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4000" y="3645000"/>
            <a:ext cx="1944360" cy="18730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а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я в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ье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4582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04176"/>
                </a:solidFill>
                <a:latin typeface="Times New Roman"/>
              </a:rPr>
              <a:t>Основные занятия купцов?</a:t>
            </a:r>
            <a:endParaRPr b="0" lang="en-US" sz="6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Крестьяне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rcRect l="0" t="2498" r="8241" b="9129"/>
          <a:stretch/>
        </p:blipFill>
        <p:spPr>
          <a:xfrm>
            <a:off x="755640" y="1341360"/>
            <a:ext cx="7632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0" t="5396" r="0" b="0"/>
          <a:stretch/>
        </p:blipFill>
        <p:spPr>
          <a:xfrm>
            <a:off x="684360" y="765000"/>
            <a:ext cx="75596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Внутреннее убранство дом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rcRect l="0" t="12431" r="0" b="5751"/>
          <a:stretch/>
        </p:blipFill>
        <p:spPr>
          <a:xfrm>
            <a:off x="971640" y="1700280"/>
            <a:ext cx="741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rcRect l="0" t="4193" r="3203" b="15660"/>
          <a:stretch/>
        </p:blipFill>
        <p:spPr>
          <a:xfrm>
            <a:off x="1763640" y="1700280"/>
            <a:ext cx="5616720" cy="45370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904200" y="684360"/>
            <a:ext cx="30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ЕННЕЕ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БРАНСТВО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64920" y="900000"/>
            <a:ext cx="229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БЕЛЬ 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19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УДА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2920" y="4211640"/>
            <a:ext cx="12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ДА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508720" y="5084640"/>
            <a:ext cx="36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ЛЕЧЕНИЯ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rcRect l="6899" t="13335" r="10583" b="15660"/>
          <a:stretch/>
        </p:blipFill>
        <p:spPr>
          <a:xfrm>
            <a:off x="684360" y="692280"/>
            <a:ext cx="770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ОСНОВНЫЕ ЗАНЯТИЯ</a:t>
            </a:r>
            <a:br>
              <a:rPr sz="4400"/>
            </a:b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КРЕСТЬЯН?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04176"/>
                </a:solidFill>
                <a:latin typeface="Times New Roman"/>
              </a:rPr>
              <a:t>РАБОЧИЕ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rcRect l="4484" t="1443" r="2989" b="0"/>
          <a:stretch/>
        </p:blipFill>
        <p:spPr>
          <a:xfrm>
            <a:off x="2193840" y="1482840"/>
            <a:ext cx="446400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Социальная структура </a:t>
            </a:r>
            <a:br>
              <a:rPr sz="4400"/>
            </a:b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России первой половины Х</a:t>
            </a:r>
            <a:r>
              <a:rPr b="1" lang="en-US" sz="4400" spc="-1" strike="noStrike">
                <a:solidFill>
                  <a:srgbClr val="404176"/>
                </a:solidFill>
                <a:latin typeface="Times New Roman"/>
              </a:rPr>
              <a:t>I</a:t>
            </a: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Х век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32000" y="21333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орян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ховенство                Купцы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щан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постные крестьян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404176"/>
                </a:solidFill>
                <a:latin typeface="Times New Roman"/>
              </a:rPr>
              <a:t>Повседневная жизнь сословий</a:t>
            </a:r>
            <a:endParaRPr b="0" lang="en-US" sz="8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383ad"/>
                </a:solidFill>
                <a:latin typeface="Times New Roman"/>
              </a:rPr>
              <a:t>Основные занятия?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632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ru-RU" sz="7200" spc="-1" strike="noStrike">
                <a:solidFill>
                  <a:srgbClr val="404176"/>
                </a:solidFill>
                <a:latin typeface="Times New Roman"/>
              </a:rPr>
              <a:t>Дворяне </a:t>
            </a:r>
            <a:br>
              <a:rPr sz="7200"/>
            </a:br>
            <a:endParaRPr b="0" lang="en-US" sz="7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rcRect l="0" t="0" r="7924" b="8565"/>
          <a:stretch/>
        </p:blipFill>
        <p:spPr>
          <a:xfrm>
            <a:off x="684360" y="1484280"/>
            <a:ext cx="7632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333360"/>
            <a:ext cx="3600360" cy="158436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оходы 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59280" y="476280"/>
            <a:ext cx="3457800" cy="144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1989000"/>
            <a:ext cx="3313080" cy="576360"/>
          </a:xfrm>
          <a:prstGeom prst="ellipse">
            <a:avLst/>
          </a:prstGeom>
          <a:solidFill>
            <a:srgbClr val="babe9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емля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492280"/>
            <a:ext cx="3745080" cy="10080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естьянский труд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357720"/>
            <a:ext cx="4067280" cy="13683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дит в банке  на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4581360"/>
            <a:ext cx="3960720" cy="107964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ладывание помест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68360" y="1916280"/>
            <a:ext cx="0" cy="217440"/>
          </a:xfrm>
          <a:prstGeom prst="line">
            <a:avLst/>
          </a:prstGeom>
          <a:ln w="76320">
            <a:solidFill>
              <a:srgbClr val="8383ad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43280" y="2205000"/>
            <a:ext cx="4105440" cy="792360"/>
          </a:xfrm>
          <a:prstGeom prst="rect">
            <a:avLst/>
          </a:prstGeom>
          <a:solidFill>
            <a:srgbClr val="e82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изнь в столице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0" y="3213000"/>
            <a:ext cx="4248000" cy="936720"/>
          </a:xfrm>
          <a:prstGeom prst="rect">
            <a:avLst/>
          </a:prstGeom>
          <a:solidFill>
            <a:srgbClr val="e82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звлечения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6000" y="4365720"/>
            <a:ext cx="4537080" cy="2158920"/>
          </a:xfrm>
          <a:prstGeom prst="rect">
            <a:avLst/>
          </a:prstGeom>
          <a:solidFill>
            <a:srgbClr val="e82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одержание домов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городе и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еревне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32720" y="1916280"/>
            <a:ext cx="0" cy="36036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5445000"/>
            <a:ext cx="4140360" cy="14130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лование на службе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48120" y="611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3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560" y="609480"/>
            <a:ext cx="1368360" cy="57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Д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в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о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р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я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н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к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50472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rcRect l="0" t="8641" r="0" b="0"/>
          <a:stretch/>
        </p:blipFill>
        <p:spPr>
          <a:xfrm>
            <a:off x="1692360" y="0"/>
            <a:ext cx="6408720" cy="71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4176"/>
                </a:solidFill>
                <a:latin typeface="Times New Roman"/>
              </a:rPr>
              <a:t>Образование дворян</a:t>
            </a: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2060640"/>
            <a:ext cx="3456000" cy="144144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7162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остранные языки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442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ы наук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1800000" y="3536640"/>
            <a:ext cx="503280" cy="3313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68"/>
                </a:lnTo>
                <a:cubicBezTo>
                  <a:pt x="10800" y="10168"/>
                  <a:pt x="5400" y="11068"/>
                  <a:pt x="0" y="11068"/>
                </a:cubicBezTo>
                <a:cubicBezTo>
                  <a:pt x="5400" y="11068"/>
                  <a:pt x="10800" y="11968"/>
                  <a:pt x="10800" y="1286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0920" y="566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РХНОСТНО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987280" y="1557360"/>
            <a:ext cx="576360" cy="28728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24360" y="1484280"/>
            <a:ext cx="719280" cy="36036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1844640"/>
            <a:ext cx="4788000" cy="20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ные и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ы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лищ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3927600"/>
            <a:ext cx="43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убокое изучение наук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86920" y="4653000"/>
            <a:ext cx="323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ка к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енной служб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383ad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8383ad"/>
                </a:solidFill>
                <a:latin typeface="Times New Roman"/>
              </a:rPr>
              <a:t>Городской  дом дворянина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rcRect l="0" t="0" r="0" b="1625"/>
          <a:stretch/>
        </p:blipFill>
        <p:spPr>
          <a:xfrm>
            <a:off x="684360" y="1341360"/>
            <a:ext cx="7848360" cy="37432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600200" y="5386320"/>
            <a:ext cx="57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Arial"/>
              </a:rPr>
              <a:t>+  загородный летний дом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176"/>
                </a:solidFill>
                <a:latin typeface="Times New Roman"/>
              </a:rPr>
              <a:t>Мода </a:t>
            </a:r>
            <a:endParaRPr b="0" lang="en-US" sz="5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03280" y="1844640"/>
            <a:ext cx="6048360" cy="1150920"/>
          </a:xfrm>
          <a:prstGeom prst="rect">
            <a:avLst/>
          </a:prstGeom>
          <a:gradFill rotWithShape="0">
            <a:gsLst>
              <a:gs pos="0">
                <a:srgbClr val="000082">
                  <a:alpha val="46274"/>
                </a:srgbClr>
              </a:gs>
              <a:gs pos="50000">
                <a:srgbClr val="ff8200"/>
              </a:gs>
              <a:gs pos="100000">
                <a:srgbClr val="000082">
                  <a:alpha val="46274"/>
                </a:srgbClr>
              </a:gs>
            </a:gsLst>
            <a:lin ang="81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35120" y="200196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ё иностранное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4360" y="3284640"/>
            <a:ext cx="2232000" cy="1081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Ед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00360" y="3716280"/>
            <a:ext cx="316872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дежд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8360" y="5084640"/>
            <a:ext cx="2808360" cy="12970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питки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688000" y="2997360"/>
            <a:ext cx="3456000" cy="33829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</cp:lastModifiedBy>
  <dcterms:modified xsi:type="dcterms:W3CDTF">2011-08-15T07:28:25Z</dcterms:modified>
  <cp:revision>5</cp:revision>
  <dc:subject/>
  <dc:title>PowerPoint Presentation</dc:title>
</cp:coreProperties>
</file>