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4F3-36B5-4E0E-A3C8-09A5DFD5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B99-910F-40EE-82BE-5FD8A2FB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5A8-1935-497A-B6E7-A33AA3B5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44C-8DC4-407F-A5FF-99B1493F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7559-D0BE-4A58-9CDA-66BFE8EE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87F-B528-4FFF-B3AE-E2F68E49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7B4A-92F9-4351-B21C-85672D0D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D329-5F52-4676-9F3E-BF278F84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277-A32B-4EDA-9FE7-44C38D6E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A6E4-09CA-4877-8118-6444D87C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5B06-AB76-41B3-A0C3-C43FC75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86F-6123-46FC-89DB-C8B8084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DF7-1495-4EBD-9D14-F852328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0335-BC23-4CC7-8EE8-623F3165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57BB-F727-438C-8224-FF1DF0AE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998-266B-41BE-A169-B7FCC208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19A-1B55-4898-AF0C-E7088F57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539-8445-4E57-8D57-0FBA6E63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5E2-5F15-4C92-9D03-0ECE4A8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426-CD3B-4806-9631-8655FA00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9D9-AC6B-440D-9B27-5307B97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F93-1468-478B-B9C9-5FAD033C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435-5B76-442C-A25E-E0319F5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8CD-23FD-4B46-9AFC-053AAB66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890E-271F-4565-955B-E9E2400A13FE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9D4F-119D-4D18-8A44-34BCCE412F59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98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Повседневный быт сословий России первой половины Х</a:t>
            </a:r>
            <a:r>
              <a:rPr b="1" lang="en-US" sz="40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рок истории в 8 класс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Автор: Синицына О.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Учитель МОУ «Чернореченская СОШ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404176"/>
                </a:solidFill>
                <a:latin typeface="Times New Roman"/>
              </a:rPr>
              <a:t>Основные занятия дворян?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Дворяне перенимают чаще внешние новшества 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Купечество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3116" r="3515" b="3380"/>
          <a:stretch/>
        </p:blipFill>
        <p:spPr>
          <a:xfrm>
            <a:off x="2324160" y="1700280"/>
            <a:ext cx="5919840" cy="4824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50920" y="1413000"/>
            <a:ext cx="194472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клад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645000"/>
            <a:ext cx="1944360" cy="187308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в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04176"/>
                </a:solidFill>
                <a:latin typeface="Times New Roman"/>
              </a:rPr>
              <a:t>Основные занятия купцов?</a:t>
            </a:r>
            <a:endParaRPr b="0" lang="en-US" sz="6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Крестьяне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rcRect l="0" t="2498" r="8241" b="9129"/>
          <a:stretch/>
        </p:blipFill>
        <p:spPr>
          <a:xfrm>
            <a:off x="755640" y="134136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0" t="5396" r="0" b="0"/>
          <a:stretch/>
        </p:blipFill>
        <p:spPr>
          <a:xfrm>
            <a:off x="684360" y="765000"/>
            <a:ext cx="75596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Внутреннее убранство до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rcRect l="0" t="12431" r="0" b="5751"/>
          <a:stretch/>
        </p:blipFill>
        <p:spPr>
          <a:xfrm>
            <a:off x="971640" y="1700280"/>
            <a:ext cx="741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4193" r="3203" b="15660"/>
          <a:stretch/>
        </p:blipFill>
        <p:spPr>
          <a:xfrm>
            <a:off x="1763640" y="1700280"/>
            <a:ext cx="5616720" cy="45370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904200" y="684360"/>
            <a:ext cx="30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Е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РАНСТВО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920" y="900000"/>
            <a:ext cx="22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БЕЛЬ 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У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920" y="421164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08720" y="508464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ЛЕЧЕНИЯ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6899" t="13335" r="10583" b="15660"/>
          <a:stretch/>
        </p:blipFill>
        <p:spPr>
          <a:xfrm>
            <a:off x="684360" y="69228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ОСНОВНЫЕ ЗАНЯТИЯ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КРЕСТЬЯН?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04176"/>
                </a:solidFill>
                <a:latin typeface="Times New Roman"/>
              </a:rPr>
              <a:t>РАБОЧ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4484" t="1443" r="2989" b="0"/>
          <a:stretch/>
        </p:blipFill>
        <p:spPr>
          <a:xfrm>
            <a:off x="2193840" y="1482840"/>
            <a:ext cx="446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Социальная структура </a:t>
            </a:r>
            <a:br>
              <a:rPr sz="4400"/>
            </a:b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России первой половины Х</a:t>
            </a:r>
            <a:r>
              <a:rPr b="1" lang="en-US" sz="4400" spc="-1" strike="noStrike">
                <a:solidFill>
                  <a:srgbClr val="404176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Х век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ор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овенство                Купцы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ща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ые крестьян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04176"/>
                </a:solidFill>
                <a:latin typeface="Times New Roman"/>
              </a:rPr>
              <a:t>Повседневная жизнь сословий</a:t>
            </a:r>
            <a:endParaRPr b="0" lang="en-US" sz="8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383ad"/>
                </a:solidFill>
                <a:latin typeface="Times New Roman"/>
              </a:rPr>
              <a:t>Основные занятия?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632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404176"/>
                </a:solidFill>
                <a:latin typeface="Times New Roman"/>
              </a:rPr>
              <a:t>Дворяне </a:t>
            </a:r>
            <a:br>
              <a:rPr sz="7200"/>
            </a:br>
            <a:endParaRPr b="0" lang="en-US" sz="7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0" r="7924" b="8565"/>
          <a:stretch/>
        </p:blipFill>
        <p:spPr>
          <a:xfrm>
            <a:off x="68436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333360"/>
            <a:ext cx="3600360" cy="15843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ходы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476280"/>
            <a:ext cx="3457800" cy="144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6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989000"/>
            <a:ext cx="3313080" cy="576360"/>
          </a:xfrm>
          <a:prstGeom prst="ellipse">
            <a:avLst/>
          </a:prstGeom>
          <a:solidFill>
            <a:srgbClr val="babe9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емля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492280"/>
            <a:ext cx="3745080" cy="1008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стьянский труд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7720"/>
            <a:ext cx="4067280" cy="136836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дит в банке  н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581360"/>
            <a:ext cx="3960720" cy="107964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35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адывание помест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68360" y="1916280"/>
            <a:ext cx="0" cy="217440"/>
          </a:xfrm>
          <a:prstGeom prst="line">
            <a:avLst/>
          </a:prstGeom>
          <a:ln w="76320">
            <a:solidFill>
              <a:srgbClr val="8383ad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3280" y="2205000"/>
            <a:ext cx="4105440" cy="79236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знь в столиц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3213000"/>
            <a:ext cx="4248000" cy="9367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влечения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4365720"/>
            <a:ext cx="4537080" cy="2158920"/>
          </a:xfrm>
          <a:prstGeom prst="rect">
            <a:avLst/>
          </a:prstGeom>
          <a:solidFill>
            <a:srgbClr val="e82c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держание домов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городе и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ревне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32720" y="1916280"/>
            <a:ext cx="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5445000"/>
            <a:ext cx="4140360" cy="141300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ование на служб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48120" y="6110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609480"/>
            <a:ext cx="136836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Д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в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о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р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я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к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504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8641" r="0" b="0"/>
          <a:stretch/>
        </p:blipFill>
        <p:spPr>
          <a:xfrm>
            <a:off x="1692360" y="0"/>
            <a:ext cx="6408720" cy="71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176"/>
                </a:solidFill>
                <a:latin typeface="Times New Roman"/>
              </a:rPr>
              <a:t>Образование дворян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2060640"/>
            <a:ext cx="3456000" cy="14414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37162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остранные язы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442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наук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800000" y="3536640"/>
            <a:ext cx="503280" cy="3313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68"/>
                </a:lnTo>
                <a:cubicBezTo>
                  <a:pt x="10800" y="10168"/>
                  <a:pt x="5400" y="11068"/>
                  <a:pt x="0" y="11068"/>
                </a:cubicBezTo>
                <a:cubicBezTo>
                  <a:pt x="5400" y="11068"/>
                  <a:pt x="10800" y="11968"/>
                  <a:pt x="10800" y="128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0920" y="5661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987280" y="1557360"/>
            <a:ext cx="576360" cy="28728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24360" y="1484280"/>
            <a:ext cx="719280" cy="36036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1844640"/>
            <a:ext cx="4788000" cy="20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ные и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лищ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3927600"/>
            <a:ext cx="43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бокое изучение наук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86920" y="465300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к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й служб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8383ad"/>
                </a:solidFill>
                <a:latin typeface="Times New Roman"/>
              </a:rPr>
              <a:t>Городской  дом дворянина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0" r="0" b="1625"/>
          <a:stretch/>
        </p:blipFill>
        <p:spPr>
          <a:xfrm>
            <a:off x="684360" y="1341360"/>
            <a:ext cx="7848360" cy="37432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600200" y="5386320"/>
            <a:ext cx="57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Arial"/>
              </a:rPr>
              <a:t>+  загородный летний дом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176"/>
                </a:solidFill>
                <a:latin typeface="Times New Roman"/>
              </a:rPr>
              <a:t>Мода 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1844640"/>
            <a:ext cx="6048360" cy="1150920"/>
          </a:xfrm>
          <a:prstGeom prst="rect">
            <a:avLst/>
          </a:prstGeom>
          <a:gradFill rotWithShape="0">
            <a:gsLst>
              <a:gs pos="0">
                <a:srgbClr val="000082">
                  <a:alpha val="46274"/>
                </a:srgbClr>
              </a:gs>
              <a:gs pos="50000">
                <a:srgbClr val="ff8200"/>
              </a:gs>
              <a:gs pos="100000">
                <a:srgbClr val="000082">
                  <a:alpha val="46274"/>
                </a:srgbClr>
              </a:gs>
            </a:gsLst>
            <a:lin ang="8100000"/>
          </a:gra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35120" y="200196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ё иностранное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284640"/>
            <a:ext cx="2232000" cy="10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Е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00360" y="3716280"/>
            <a:ext cx="316872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деж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5084640"/>
            <a:ext cx="2808360" cy="1297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питк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88000" y="2997360"/>
            <a:ext cx="3456000" cy="33829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</cp:lastModifiedBy>
  <dcterms:modified xsi:type="dcterms:W3CDTF">2011-08-15T07:28:25Z</dcterms:modified>
  <cp:revision>5</cp:revision>
  <dc:subject/>
  <dc:title>PowerPoint Presentation</dc:title>
</cp:coreProperties>
</file>