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DEC-7D68-46E5-B58F-92F6650A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536-6304-47EE-9FCF-B330604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F3E-B581-4210-BEE3-1DFDAE1C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247-F9AE-4146-90A0-4D54862F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1F55-5F72-4AF5-AEF0-D95D29DF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792-A7CE-4141-B799-3884A78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2A1D-6493-420D-9488-60774105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E070-68A0-4ADF-BE71-4F24A5A8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C63B-2FF3-457A-9CB8-7031BE8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9006-DF49-41CD-AC80-C37421D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11FF-7CA6-45E5-9AD1-AA3C42D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330-ECDC-4781-BEBB-5BE4AD79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2F1D-300C-4E9A-B68E-63680F4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A6E8-F501-4C02-BCE6-7C3024C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81C1-7978-45B3-9EA7-90CF16E6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E808-BEEF-43A6-AFB1-844B5153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8B7A-448B-4A91-A655-EF015488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E08-D0E6-4ECB-9AF0-5B0F046C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BB2-21CA-4273-A482-CB44794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DF4-C3A6-4D06-A920-CDEA0ED5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DE9-F8F7-49E5-AA24-381E09A4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054-D8BD-47CC-8085-C353780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B45-6F4E-47AC-A7B1-E4056ED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72D-9511-44F4-88B3-4A7F54B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4D8-65B1-4C3D-81DE-88A90304F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DF3E-8BE7-4D03-AA0C-62CBB7142E2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71640" y="1628640"/>
            <a:ext cx="770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  воспитательн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2"/>
          <p:cNvSpPr/>
          <p:nvPr/>
        </p:nvSpPr>
        <p:spPr>
          <a:xfrm>
            <a:off x="3429000" y="533520"/>
            <a:ext cx="2514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ad4"/>
                </a:solidFill>
                <a:latin typeface="Calibri"/>
                <a:ea typeface="Times New Roman"/>
              </a:rPr>
              <a:t>ШТАБ воспитательной рабо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304920" y="2286000"/>
            <a:ext cx="2133360" cy="1523880"/>
          </a:xfrm>
          <a:prstGeom prst="rect">
            <a:avLst/>
          </a:prstGeom>
          <a:solidFill>
            <a:srgbClr val="61e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Образова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педагогические работники образовательного учрежд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3505320" y="2286000"/>
            <a:ext cx="236196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Здравоохран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школьный медицинский работн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6629400" y="2286000"/>
            <a:ext cx="220968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Правоохранител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ные орган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школьный инспекто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572000" y="167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4572000" y="1676520"/>
            <a:ext cx="3124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438280" y="289548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5867280" y="2895480"/>
            <a:ext cx="76212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1143000" y="45720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14300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769608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21"/>
          <p:cNvSpPr/>
          <p:nvPr/>
        </p:nvSpPr>
        <p:spPr>
          <a:xfrm flipH="1">
            <a:off x="1142640" y="1676520"/>
            <a:ext cx="34290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171360" y="1944720"/>
            <a:ext cx="6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171360" y="1944720"/>
            <a:ext cx="6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6320" y="169560"/>
            <a:ext cx="6259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480" y="928800"/>
            <a:ext cx="867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Анализ работы за прошедший г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Характеристика класса на 1-е сентябр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. Цель и задачи воспитательной деятельности  на данный учебный г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Составление  пла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0" y="142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СТРУКТУРА ПЛАНИРОВАНИЯ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57120" y="28584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Разделы  план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рганизация учебной деятельности классного руководителя и  работа с учителями, преподающими в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частие в общешкольных мероприятия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сные часы и классные собр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неклассные меро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активом класс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общественными организац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ндивидуальная работа с ученик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rugba"/>
          <p:cNvPicPr/>
          <p:nvPr/>
        </p:nvPicPr>
        <p:blipFill>
          <a:blip r:embed="rId1"/>
          <a:stretch/>
        </p:blipFill>
        <p:spPr>
          <a:xfrm>
            <a:off x="3203640" y="2565360"/>
            <a:ext cx="2879640" cy="2297160"/>
          </a:xfrm>
          <a:prstGeom prst="rect">
            <a:avLst/>
          </a:prstGeom>
          <a:ln w="0">
            <a:noFill/>
          </a:ln>
        </p:spPr>
      </p:pic>
      <p:sp>
        <p:nvSpPr>
          <p:cNvPr id="187" name="Oval 5"/>
          <p:cNvSpPr/>
          <p:nvPr/>
        </p:nvSpPr>
        <p:spPr>
          <a:xfrm>
            <a:off x="179280" y="2133720"/>
            <a:ext cx="201636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804000" y="4724280"/>
            <a:ext cx="2160720" cy="1152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804000" y="1989000"/>
            <a:ext cx="2160720" cy="1150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5724360" y="981000"/>
            <a:ext cx="2089440" cy="1152720"/>
          </a:xfrm>
          <a:prstGeom prst="ellipse">
            <a:avLst/>
          </a:prstGeom>
          <a:solidFill>
            <a:srgbClr val="e0e9b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1116000" y="981000"/>
            <a:ext cx="2016000" cy="1224000"/>
          </a:xfrm>
          <a:prstGeom prst="ellipse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6877080" y="3357720"/>
            <a:ext cx="2087640" cy="1223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108000" y="3500280"/>
            <a:ext cx="208764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250920" y="4724280"/>
            <a:ext cx="208908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1908000" y="5734080"/>
            <a:ext cx="2016360" cy="1009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3419640" y="1341360"/>
            <a:ext cx="208728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5364000" y="5661000"/>
            <a:ext cx="1944720" cy="1081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3564000" y="4941720"/>
            <a:ext cx="2087640" cy="1152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18"/>
          <p:cNvSpPr txBox="1"/>
          <p:nvPr/>
        </p:nvSpPr>
        <p:spPr>
          <a:xfrm>
            <a:off x="3708360" y="1557360"/>
            <a:ext cx="1511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вор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19"/>
          <p:cNvSpPr txBox="1"/>
          <p:nvPr/>
        </p:nvSpPr>
        <p:spPr>
          <a:xfrm>
            <a:off x="6012000" y="1268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WordArt 20"/>
          <p:cNvSpPr txBox="1"/>
          <p:nvPr/>
        </p:nvSpPr>
        <p:spPr>
          <a:xfrm>
            <a:off x="7093080" y="2276640"/>
            <a:ext cx="16095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удов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21"/>
          <p:cNvSpPr txBox="1"/>
          <p:nvPr/>
        </p:nvSpPr>
        <p:spPr>
          <a:xfrm>
            <a:off x="7093080" y="3645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трио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WordArt 22"/>
          <p:cNvSpPr txBox="1"/>
          <p:nvPr/>
        </p:nvSpPr>
        <p:spPr>
          <a:xfrm>
            <a:off x="7020000" y="5013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4" name="WordArt 23"/>
          <p:cNvSpPr txBox="1"/>
          <p:nvPr/>
        </p:nvSpPr>
        <p:spPr>
          <a:xfrm>
            <a:off x="5580000" y="5950080"/>
            <a:ext cx="151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равствен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WordArt 24"/>
          <p:cNvSpPr txBox="1"/>
          <p:nvPr/>
        </p:nvSpPr>
        <p:spPr>
          <a:xfrm>
            <a:off x="3708360" y="5300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лектуаль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2195640" y="5950080"/>
            <a:ext cx="143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ов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WordArt 26"/>
          <p:cNvSpPr txBox="1"/>
          <p:nvPr/>
        </p:nvSpPr>
        <p:spPr>
          <a:xfrm>
            <a:off x="395280" y="5013360"/>
            <a:ext cx="17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 здоров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а жизн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WordArt 27"/>
          <p:cNvSpPr txBox="1"/>
          <p:nvPr/>
        </p:nvSpPr>
        <p:spPr>
          <a:xfrm>
            <a:off x="324000" y="3716280"/>
            <a:ext cx="165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з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WordArt 28"/>
          <p:cNvSpPr txBox="1"/>
          <p:nvPr/>
        </p:nvSpPr>
        <p:spPr>
          <a:xfrm>
            <a:off x="324000" y="242100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WordArt 29"/>
          <p:cNvSpPr txBox="1"/>
          <p:nvPr/>
        </p:nvSpPr>
        <p:spPr>
          <a:xfrm>
            <a:off x="1258920" y="1197000"/>
            <a:ext cx="180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бн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WordArt 30"/>
          <p:cNvSpPr txBox="1"/>
          <p:nvPr/>
        </p:nvSpPr>
        <p:spPr>
          <a:xfrm>
            <a:off x="1187280" y="115920"/>
            <a:ext cx="69058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ь  организации жизнедеятельност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ассного  коллектива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ЖЕЛАЕМ БОЛЬШИХ     ТВОРЧЕСКИХ УСПЕХОВ 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4" descr="STAR3"/>
          <p:cNvPicPr/>
          <p:nvPr/>
        </p:nvPicPr>
        <p:blipFill>
          <a:blip r:embed="rId1"/>
          <a:stretch/>
        </p:blipFill>
        <p:spPr>
          <a:xfrm>
            <a:off x="838080" y="2428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TAR3"/>
          <p:cNvPicPr/>
          <p:nvPr/>
        </p:nvPicPr>
        <p:blipFill>
          <a:blip r:embed="rId2"/>
          <a:stretch/>
        </p:blipFill>
        <p:spPr>
          <a:xfrm>
            <a:off x="83808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STAR3"/>
          <p:cNvPicPr/>
          <p:nvPr/>
        </p:nvPicPr>
        <p:blipFill>
          <a:blip r:embed="rId3"/>
          <a:stretch/>
        </p:blipFill>
        <p:spPr>
          <a:xfrm>
            <a:off x="91440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STAR3"/>
          <p:cNvPicPr/>
          <p:nvPr/>
        </p:nvPicPr>
        <p:blipFill>
          <a:blip r:embed="rId4"/>
          <a:stretch/>
        </p:blipFill>
        <p:spPr>
          <a:xfrm>
            <a:off x="838080" y="5029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STAR3"/>
          <p:cNvPicPr/>
          <p:nvPr/>
        </p:nvPicPr>
        <p:blipFill>
          <a:blip r:embed="rId5"/>
          <a:stretch/>
        </p:blipFill>
        <p:spPr>
          <a:xfrm>
            <a:off x="2286000" y="5105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STAR1"/>
          <p:cNvPicPr/>
          <p:nvPr/>
        </p:nvPicPr>
        <p:blipFill>
          <a:blip r:embed="rId6"/>
          <a:stretch/>
        </p:blipFill>
        <p:spPr>
          <a:xfrm>
            <a:off x="6553080" y="53352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STAR1"/>
          <p:cNvPicPr/>
          <p:nvPr/>
        </p:nvPicPr>
        <p:blipFill>
          <a:blip r:embed="rId7"/>
          <a:stretch/>
        </p:blipFill>
        <p:spPr>
          <a:xfrm>
            <a:off x="5181480" y="53352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AR1"/>
          <p:cNvPicPr/>
          <p:nvPr/>
        </p:nvPicPr>
        <p:blipFill>
          <a:blip r:embed="rId8"/>
          <a:stretch/>
        </p:blipFill>
        <p:spPr>
          <a:xfrm>
            <a:off x="7848720" y="6094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STAR1"/>
          <p:cNvPicPr/>
          <p:nvPr/>
        </p:nvPicPr>
        <p:blipFill>
          <a:blip r:embed="rId9"/>
          <a:stretch/>
        </p:blipFill>
        <p:spPr>
          <a:xfrm>
            <a:off x="7848720" y="1523880"/>
            <a:ext cx="514080" cy="4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8:13:49Z</dcterms:created>
  <dc:creator>Оля</dc:creator>
  <dc:description/>
  <dc:language>en-US</dc:language>
  <cp:lastModifiedBy>Марина Александровна</cp:lastModifiedBy>
  <dcterms:modified xsi:type="dcterms:W3CDTF">2011-02-15T13:03:07Z</dcterms:modified>
  <cp:revision>14</cp:revision>
  <dc:subject/>
  <dc:title>Слайд 1</dc:title>
</cp:coreProperties>
</file>