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B272-A9E5-435F-9918-1034B651CC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5ED8-CF49-4C78-872F-3B530D62A12D}" type="slidenum">
              <a:rPr b="0" lang="ru-RU" sz="1200" spc="-1" strike="noStrike">
                <a:solidFill>
                  <a:srgbClr val="00b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ECCB-5C78-40AC-AE8F-1F8C3EF7B797}" type="slidenum">
              <a:rPr b="0" lang="ru-RU" sz="1200" spc="-1" strike="noStrike">
                <a:solidFill>
                  <a:srgbClr val="00b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E53-9D94-4D7F-9EA5-7AB2E758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701-4A01-44E9-8FDA-03B2BD4C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B80-EDC8-4F04-A267-56A584B2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85C-5021-4A44-97F3-49E0AEA2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18BE-7E27-4952-86DE-4E62E9B5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1CB-86C3-4782-830A-07319760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F1BE-D238-4E86-9700-F4732B31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EEC3-B813-406F-A626-80617DA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56CA-F945-418B-9473-8B8785CA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135C-6007-4513-873F-37073672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2245-01C2-4B9C-9E38-9ACB54E5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067-9491-4A39-96DC-52A98E73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48FF-2AA5-4464-805E-978E3B0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E149-4D44-4C3D-8ADE-CDEAD95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ED47-A3F0-4899-B1DE-B28FBB9F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74D2-A6FD-4B3E-BB9F-5C70DF9C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DBDF-552A-47E5-95BD-E3881107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DD8-F69A-4433-AB8C-62F41217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004-408C-40C4-B5D5-5D1B55A7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CE0-9F46-4D12-9C9A-1EA8121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C21-D41C-4A52-AEE6-8F362877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3A2-A3FD-46E9-BD19-4260053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A50-5876-4046-8D56-AE0D160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998-A417-4624-8259-4A47036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92F9-EED0-4EA7-B281-B91A8CAEFE4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5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6A0F-9B8C-447E-9FD4-F469056996F4}" type="slidenum">
              <a:rPr b="0" lang="ru-RU" sz="1200" spc="-1" strike="noStrike">
                <a:solidFill>
                  <a:srgbClr val="00b05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928800"/>
            <a:ext cx="7085160" cy="17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49e"/>
                </a:solidFill>
                <a:latin typeface="Century Gothic"/>
              </a:rPr>
              <a:t>ОБРАЗОВАТЕЛЬНАЯ ПРОГРАММА  МОУ-СОШ №2 2010-2015 г.г.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485748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71ff"/>
                </a:solidFill>
                <a:latin typeface="Century Gothic"/>
              </a:rPr>
              <a:t>Педагогический совет 26.08.2010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42960" y="642600"/>
            <a:ext cx="7572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49e"/>
                </a:solidFill>
                <a:uFillTx/>
                <a:latin typeface="Century Gothic"/>
              </a:rPr>
              <a:t>Учителя, имеющие звания и награды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Отличник народного образования -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Почётный работник народного образования  - 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1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Грамота Министерства образования и науки РФ –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10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Грамота Министерства образования и науки Свердловской области -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8</a:t>
            </a: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43c"/>
                </a:solidFill>
                <a:latin typeface="Century Gothic"/>
              </a:rPr>
              <a:t>Квалификация педагогов МОУ-СОШ №2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599840"/>
            <a:ext cx="37861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Высш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3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учителя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6,1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Перв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29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педагогов 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59,2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Втор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17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учителей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34,7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  <p:pic>
        <p:nvPicPr>
          <p:cNvPr id="105" name="Содержимое 3" descr=""/>
          <p:cNvPicPr/>
          <p:nvPr/>
        </p:nvPicPr>
        <p:blipFill>
          <a:blip r:embed="rId1"/>
          <a:stretch/>
        </p:blipFill>
        <p:spPr>
          <a:xfrm>
            <a:off x="4214880" y="1600200"/>
            <a:ext cx="45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5560" y="500040"/>
            <a:ext cx="7086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ФАКТОРЫ И ПОЛОЖИТЕЛЬНЫЕ ТЕНДЕНЦИИ  В РАЗВИТИИ ОБРАЗОВАТЕЛЬНОГО УЧРЕЖДЕНИЯ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7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В школе успешно функционирует « Школа будущего  первоклассника»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Учителя перешли  к инновационным технологиям, с использованием современной мультимедийной  техники, интерактивных досок на уроках  физики, химии, литературы и занятиях начальной школы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Для развития индивидуальных интересов и склонностей созданы условия в виде кружковых и элективных занятий, индивидуальных и групповых консультаций, что находит отражение в учебном плане школы, учитывающем запросы и потребности учащихс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Педагоги школы активно внедряют метод тестирования в практику работы с целью снятия психологического барьера при оформлении работы, выработке навыка заполнения тестовых таблиц и систематизации изученного материала в соответствии с требованиями государственных образовательных стандартов. 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Учащиеся школы достигли определённых успехов в выступлениях на городских, окружных, областных олимпиадах. Учащиеся школы участвуют в международных конкурсах « Кенгуру» и «Русский медвежонок»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828"/>
                </a:solidFill>
                <a:latin typeface="Century Gothic"/>
              </a:rPr>
              <a:t>Количество призовых мест в городском туре олимпиад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pic>
        <p:nvPicPr>
          <p:cNvPr id="109" name="Содержимое 3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75009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828"/>
                </a:solidFill>
                <a:latin typeface="Century Gothic"/>
              </a:rPr>
              <a:t>Спортивные достижения 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213920"/>
            <a:ext cx="65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2009-2010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Плавание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Волейбол -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Лыжные гонки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V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Баскетбол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«А ну-ка, парни»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Легко-атлетическая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«Эстафета мира»: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10-11 классы - 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V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8-9 классы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6-7 классы -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  2-4 классы –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В спартакиаде общеобразовательных учреждений Кировградского городского округа «Юность России» заняли </a:t>
            </a: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I место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САМОУПРАВЛЕНИЕ в школе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680" y="1600200"/>
            <a:ext cx="63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     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В школе создано ученическое самоуправление, обеспечивающее развитие социально адаптированной личности. Главным органом самоуправления в школе является Совет старшеклассников, организующих внеклассную деятельность учащихся. Работа Совета старшеклассников ведется в соответствии с инновационной программой «Лидер». Регулярно работает школьное радио «</a:t>
            </a:r>
            <a:r>
              <a:rPr b="1" i="1" lang="en-US" sz="2000" spc="-1" strike="noStrike">
                <a:solidFill>
                  <a:srgbClr val="005828"/>
                </a:solidFill>
                <a:latin typeface="Century Gothic"/>
              </a:rPr>
              <a:t>School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-</a:t>
            </a:r>
            <a:r>
              <a:rPr b="1" i="1" lang="en-US" sz="2000" spc="-1" strike="noStrike">
                <a:solidFill>
                  <a:srgbClr val="005828"/>
                </a:solidFill>
                <a:latin typeface="Century Gothic"/>
              </a:rPr>
              <a:t>FM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», ежемесячно выпускается газета «Школьные ведомости»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00040" y="999720"/>
            <a:ext cx="75722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b0041"/>
                </a:solidFill>
                <a:uFillTx/>
                <a:latin typeface="Century Gothic"/>
              </a:rPr>
              <a:t>Материально – техническое обеспечение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позволяет организовывать образовательный процесс в рамках требований сегодняшнего дня.  В школе имеется лабораторное оборудование для кабинетов физики, химии, географии с интерактивным  оборудованием, спортинвентарь (лыжи, коньки, мячи, гимнастическое оборудование), создан кабинет ИВТ и ТЦ, укомплектованный компьютерами и  сетевой техникой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57160" y="785880"/>
            <a:ext cx="71438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Главная проблема образовательного учреждения – отсутствие собственного спортивного зала (сметно-проектная документация на строительство в стадии областного экспертного заключения)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13880" y="713880"/>
            <a:ext cx="7858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Century Gothic"/>
              </a:rPr>
              <a:t>Существуют недостатки и в организации самого образовательного процесса: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желание части педагогов заниматься самообразованием ведет к снижению качественных показателей в учебной и воспитательной работе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достаточно используется  знания психологических особенностей детей, что создает проблемы в процессе обучения и организации внеклассной воспитательной работы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эффективность системы медико-социально- и психолого-педагогической поддержки ведет к спаду стремления учащихся к самостоятельному решению проблем своей жизнедеятельности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Технологии мониторинговых испытаний не стимулируют педагогов к совершенствованию педагогического мастерства и креативного мышлени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Отсутствие школьного спортивного зала затрудняет качественную организацию программы здоровьесбережени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152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УСЛОВИЯ И ПРИЧИНЫ, СДЕРЖИВАЮЩИЕ КАЧЕСТВЕННЫЙ РОСТ ОБРАЗОВАТЕЛЬНОЙ ДЕЯТЕЛЬНОСТИ ОБРАЗОВАТЕЛЬНОГО УЧРЕЖДЕНИЯ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2960" y="16002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5828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Часть родителей уклоняется от обязанностей по воспитанию  своих детей, полностью перекладывая эту функцию на школу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005828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Изменение традиционной формы итоговой аттестации на ЕГЭ оказалось психологически сложным для перестройки мировоззрения родительской общественности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56800" y="713880"/>
            <a:ext cx="7358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20"/>
                </a:solidFill>
                <a:latin typeface="Century Gothic"/>
              </a:rPr>
              <a:t>      </a:t>
            </a: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Образовательная программа школы (ОП)  является основным нормативно - управленческим документом  учебного заведения, характеризующим специфику содержания образования и особенности организации учебно–воспитательного процесса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    </a:t>
            </a: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Образовательная программа образовательного учреждения как стратегический документ представляет собой целостную модель организации школьной жизни и обеспечивает сочетание государственного, школьного и индивидуального стандартов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hart 1" descr=""/>
          <p:cNvPicPr/>
          <p:nvPr/>
        </p:nvPicPr>
        <p:blipFill>
          <a:blip r:embed="rId1"/>
          <a:stretch/>
        </p:blipFill>
        <p:spPr>
          <a:xfrm>
            <a:off x="208080" y="781200"/>
            <a:ext cx="866124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pic>
        <p:nvPicPr>
          <p:cNvPr id="122" name="Chart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80899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ПРОТИВОРЕЧИЯ В ОБРАЗОВАТЕЛЬНОМ ПРОЦЕССЕ ОУ </a:t>
            </a:r>
            <a:endParaRPr b="0" lang="en-US" sz="20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1320" y="1428840"/>
            <a:ext cx="77864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1.  Между необходимостью сохранения и укрепления здоровья учащихся и отсутствием общих социальных программ в городе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2.  Между необходимостью подготовки учащихся к самостоятельности в принятии решений, самореализации и самоопределению и возможностью применения своих знаний при выборе индивидуальной образовательной траектории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3. Между необходимостью создания условий для развития каждого школьника с учётом его индивидуальных потребностей и особенностей введения единого государственного экзамена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0041"/>
                </a:solidFill>
                <a:latin typeface="Century Gothic"/>
              </a:rPr>
              <a:t>ПРИОРИТЕТНЫЕ НАПРАВЛЕНИЯ РАЗВИТИЯ ОБРАЗОВАНИЯ В ОБРАЗОВАТЕЛЬНОМ УЧРЕЖДЕНИИ </a:t>
            </a:r>
            <a:endParaRPr b="0" lang="en-US" sz="20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1320" y="1600200"/>
            <a:ext cx="77151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Изучение и внедрение новых образовательных стандартов через информатизацию, интеграцию учебных дисциплин, внеурочную деятельность, создание мониторинга качества образования при переходе с одной ступени обучения к другой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Создание творческой среды, обеспечивающей самореализацию каждого учащегося. Реализация программы «Одаренный ребенок»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Развитие учительского потенциала через внедрение системы моральных и материальных стимулов, повышение квалификации и привлечение специалистов, любящих и умеющих работать с детьм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Формирование современной школьной инфраструктуры школы через усовершенствование условий образования с учетом норм и правил строительства, проектирования, СанПиНов и безопасност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Использование здоровьесберегающих технологий в урочной и внеурочной деятельност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ЦЕЛИ И ЗАДАЧИ ОБРАЗОВАТЕЛЬНОГО УЧРЕЖДЕНИЯ В ОБЛАСТИ </a:t>
            </a:r>
            <a:r>
              <a:rPr b="1" lang="ru-RU" sz="2400" spc="-1" strike="noStrike" u="sng">
                <a:solidFill>
                  <a:srgbClr val="9b0041"/>
                </a:solidFill>
                <a:uFillTx/>
                <a:latin typeface="Century Gothic"/>
              </a:rPr>
              <a:t>РАЗВИТИЯ ОБРАЗОВАНИЯ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60020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entury Gothic"/>
              </a:rPr>
              <a:t>1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. Обеспечение уровня квалификации педагогических кадров, необходимого для успешного развития школы, повышение их научной информативности в области знания учебного предмета и интеграции смежных дисциплин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2. Стимулирование работы учителей и школьных методических объединений к обмену передовым педагогическим опытом, применению новых методик обучения, внедрению в практику новых педагогических технологий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3. Формировать исследовательские умения и навыки учащихся на уроках и во внеурочной деятельности с целью предоставления им оптимальных возможностей для получения универсального образования, реализации индивидуальных творческих запросов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85520" y="571320"/>
            <a:ext cx="7643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4. Расширение системы дополнительного и дистанционного образования, с учетом индивидуальных интересов и потребностей учащихся (ученическое портфолио)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5. Формирование общеучебных умений и навыков на репродуктивном уровне (у всех учащихся 1-4-х классов), на конструктивном и творческом (у всех учащихся 5-11-х классов)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6. Реализация новых образовательных стандартов через формирование общеучебных умений и навыков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воспитан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5880" y="16002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1. Способствовать развитию нравственной, физически здоровой личности, способной   к творчеству и самоопределению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2.  Повышение влияния школы на социализацию школьников, их самоопределение в  отношение будущей профессии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3. Профилактика преступности, девиантных форм поведения и пагубных привычек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развит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5520" y="1600200"/>
            <a:ext cx="61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Овладение всеми участниками образовательного процесса навыками самообразования и определения собственной траектории развития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оздоровлен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42600" y="1600200"/>
            <a:ext cx="73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Реализация принципа сохранения физического и психологического здоровья  образовательного процесса, использование здоровьесберегающих технологий в урочной и внеурочной деятельности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571680"/>
            <a:ext cx="750096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СТРУКТУРА ОП по ступеням образования: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1. Модель выпускника как главный целевой ориентир в учебно-воспитательной работе с обучающимися на начальной ступени.</a:t>
            </a:r>
            <a:br>
              <a:rPr sz="2800"/>
            </a:b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2.</a:t>
            </a: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 Учебный план </a:t>
            </a:r>
            <a:br>
              <a:rPr sz="2800"/>
            </a:b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3. Учебные программы, используемые в образовательном процессе.</a:t>
            </a:r>
            <a:br>
              <a:rPr sz="2800"/>
            </a:br>
            <a:r>
              <a:rPr b="1" i="1" lang="ru-RU" sz="3600" spc="-1" strike="noStrike">
                <a:solidFill>
                  <a:srgbClr val="9b0041"/>
                </a:solidFill>
                <a:latin typeface="Century Gothic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13880" y="57132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843c"/>
                </a:solidFill>
                <a:latin typeface="Century Gothic"/>
              </a:rPr>
              <a:t>На тип образовательной программы школы оказывают преобладающее воздействие 4 фактора. Вместе они составляют своеобразный «логический квадрат». Из него следует, что школа должна найти оптимальный для себя баланс между выполнением государственного заказа (1) и ответом на общественные потребности (2), а также между современными образовательными технологиями (3) и культурно – историческими особенностями региона (4)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685440"/>
            <a:ext cx="8001000" cy="55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5. ПРОГНОЗИРУЕМЫЙ РЕЗУЛЬТАТ 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6. МОНИТОРИНГ КАЧЕСТВА ОБРАЗОВАНИЯ  В ОБРАЗОВАТЕЛЬНОМ УЧРЕЖДЕНИИ 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7. УСЛОВИЯ РЕАЛИЗАЦИИ ОБРАЗОВАТЕЛЬНОЙ ПРОГРАММЫ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8. ВОЗМОЖНЫЕ РИСКИ В ПРОЦЕССЕ РЕАЛИЗАЦИИ ОБРАЗОВАТЕЛЬНОЙ ПРОГРАММЫ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6800" y="685800"/>
            <a:ext cx="7929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9. ЭТАПЫ РЕАЛИЗАЦИИ ОБРАЗОВАТЕЛЬНОЙ ПРОГРАММЫ</a:t>
            </a: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4240" y="1928520"/>
            <a:ext cx="77155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1 этап (2010-2011 учебный год)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2 этап (2011-2012, 2012-2013 учебные года)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3 этап (2013-2014, 2014-2015 учебные года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685440"/>
            <a:ext cx="7580160" cy="48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Образовательная программа создана педагогическим коллективом МОУ-СОШ №2.</a:t>
            </a:r>
            <a:br>
              <a:rPr sz="3600"/>
            </a:b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Каждый педагог должен приложить все усилия для реализации поставленных целей и задач.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560520" y="628560"/>
            <a:ext cx="80960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285480"/>
            <a:ext cx="7086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0059"/>
                </a:solidFill>
                <a:latin typeface="Century Gothic"/>
              </a:rPr>
              <a:t>МИССИЯ ШКОЛЫ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3880" y="999720"/>
            <a:ext cx="78584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Миссия на уровне коллектива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Создание морально-психологического комфорта для участников образовательного процесса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Миссия на уровне социума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Личностная самоактуализация школьников;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Формирование творчески мыслящей личности, ориентированной на выбор профессии;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Формирование духовно-богатой, свободной личности, способной в последующем на участие в духовном развитии общества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6438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49e"/>
                </a:solidFill>
                <a:latin typeface="Century Gothic"/>
              </a:rPr>
              <a:t>Стратегические цели развития школы: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42960" y="1600200"/>
            <a:ext cx="6500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1. Создание условий для осуществления осознанного профессионального выбора путём создания модели многопрофильного общеобразовательного учреждения с последующим преобразованием его в мультипрофильную школу с обучением по индивидуальным учебным планам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2. Изучение учащимися предметов гуманитарного, технического, оборонно-спортивного и технологического направлений на профильном уровне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3. Создание адаптивной образовательной среды для обеспечения оптимального уровня развития каждого ученик, его задатков, способностей, творческого потенциала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4. Предоставление равных возможностей при получении образования, в том числе и профильного, для всех учащихся школы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1000080"/>
            <a:ext cx="7086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843c"/>
                </a:solidFill>
                <a:latin typeface="Century Gothic"/>
              </a:rPr>
              <a:t>Необходимым условием осуществления этих целей является сохранение и укрепление физического, психического и нравственного здоровья детей.</a:t>
            </a:r>
            <a:br>
              <a:rPr sz="3600"/>
            </a:b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43c"/>
                </a:solidFill>
                <a:latin typeface="Century Gothic"/>
              </a:rPr>
              <a:t>КРАТКИЕ СВЕДЕНИЯ О СОСТАВЕ И СТРУКТУРЕ ОУ 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440" y="1600200"/>
            <a:ext cx="7221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entury Gothic"/>
              </a:rPr>
              <a:t>Учебная и материально-техническая база: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Учебные кабинеты: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4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кабинетов в начальной школе и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8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кабинетов в старшей, в том числе,      кабинет трудового обучения, кабинеты физики, химии, биологии, информатики, кабинеты иностранного языка, кабинет географии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Спортзал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Школьная библиотека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Процедурный кабинет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абинет психологической службы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абинет логопеда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оличество классов - комплектов: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5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оличество обучающихся: 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534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человека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9720" y="571320"/>
            <a:ext cx="73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ический состав: </a:t>
            </a:r>
            <a:r>
              <a:rPr b="1" i="1" lang="ru-RU" sz="1600" spc="-1" strike="noStrike" u="sng">
                <a:solidFill>
                  <a:srgbClr val="e40059"/>
                </a:solidFill>
                <a:uFillTx/>
                <a:latin typeface="Century Gothic"/>
              </a:rPr>
              <a:t>49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ов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Образование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высшее – 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4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педагог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редне-специальное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7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учителей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Не имеет педагогического образования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педагог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ический ценз коллектива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таж до 5 лет -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0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5-10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человек                                           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10-20 лет - 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2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Более 20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26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  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Возрастной ценз педагогического коллектива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25-3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5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35-5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24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выше 5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3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8:25:47Z</dcterms:created>
  <dc:creator>тех.центр</dc:creator>
  <dc:description/>
  <cp:keywords/>
  <dc:language>en-US</dc:language>
  <cp:lastModifiedBy>тех.центр</cp:lastModifiedBy>
  <dcterms:modified xsi:type="dcterms:W3CDTF">2010-08-26T07:14:05Z</dcterms:modified>
  <cp:revision>36</cp:revision>
  <dc:subject/>
  <dc:title>ОБРАЗОВАТЕЛЬНАЯ ПРОГРАММА 2010-20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