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FB6-8C6F-4285-8A80-694347C7BF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0EB-8BBA-407F-A9BD-3540C83196AD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EC1E-C1B8-4BB3-9011-D9E07D0891F7}" type="slidenum">
              <a:rPr b="0" lang="ru-RU" sz="1200" spc="-1" strike="noStrike">
                <a:solidFill>
                  <a:srgbClr val="00b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5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DF4-282A-401A-908A-D754BA85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927-0CAA-4F08-9661-6AD205F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61B-A8EA-4AAB-B888-DA38999C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800-82D6-4A62-AD2D-FB14FEA4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D0CA-D832-4E8F-8086-D47B7194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9CD4-164C-4B1A-8670-438CF29E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07F2-522F-4B88-96A5-2F440D2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9123-1124-4A31-907F-00B3F217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328-6E92-43B9-B44D-E819E23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AB93-84A7-41DC-9307-CCA1521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9804-39BA-486E-9307-3FEE8CB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F87-88E9-43EB-80ED-EEE44D7C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0A84-00E3-49F9-9387-AE678D1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1BE6-3A9E-444B-AFB0-D525B0A9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C1E0-7A83-4057-A122-A2581A8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719-F0DF-43AC-B368-25A187F1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317D-C219-42CC-A879-89B8939F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646-D68A-4366-BD9C-AA2B48E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634-DD7F-4AEB-AB83-7D2FF33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6F9-4F7A-4F37-B678-9A6A0B36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D0E-34C8-49CE-8FF2-4A4B3BB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8FB-17DB-4348-8A51-EB9B74DB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C0B-3883-43CA-A1F3-07F5916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02F-1287-47AC-B2FF-5674386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98EB-E875-4936-A135-E33545F7D74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b0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b05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78E4-F7D3-48D7-BE0C-385E2EE65B91}" type="slidenum">
              <a:rPr b="0" lang="ru-RU" sz="1200" spc="-1" strike="noStrike">
                <a:solidFill>
                  <a:srgbClr val="00b05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928800"/>
            <a:ext cx="7085160" cy="17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49e"/>
                </a:solidFill>
                <a:latin typeface="Century Gothic"/>
              </a:rPr>
              <a:t>ОБРАЗОВАТЕЛЬНАЯ ПРОГРАММА  МОУ-СОШ №2 2010-2015 г.г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485748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71ff"/>
                </a:solidFill>
                <a:latin typeface="Century Gothic"/>
              </a:rPr>
              <a:t>Педагогический совет 26.08.20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42960" y="642600"/>
            <a:ext cx="7572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349e"/>
                </a:solidFill>
                <a:uFillTx/>
                <a:latin typeface="Century Gothic"/>
              </a:rPr>
              <a:t>Учителя, имеющие звания и награды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Отличник народного образования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Почётный работник народного образования  - 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РФ –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10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Грамота Министерства образования и науки Свердловской области - </a:t>
            </a:r>
            <a:r>
              <a:rPr b="1" i="1" lang="ru-RU" sz="2800" spc="-1" strike="noStrike">
                <a:solidFill>
                  <a:srgbClr val="ff0000"/>
                </a:solidFill>
                <a:latin typeface="Century Gothic"/>
              </a:rPr>
              <a:t>8</a:t>
            </a:r>
            <a:r>
              <a:rPr b="1" i="1" lang="ru-RU" sz="2800" spc="-1" strike="noStrike">
                <a:solidFill>
                  <a:srgbClr val="00349e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валификация педагогов МОУ-СОШ №2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9680" y="1599840"/>
            <a:ext cx="3786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ысш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я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6,1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Перв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29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педагогов 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59,2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Вторая квалификационная категория –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17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 учителей (</a:t>
            </a:r>
            <a:r>
              <a:rPr b="1" i="1" lang="ru-RU" sz="2400" spc="-1" strike="noStrike">
                <a:solidFill>
                  <a:srgbClr val="e40059"/>
                </a:solidFill>
                <a:latin typeface="Century Gothic"/>
              </a:rPr>
              <a:t>34,7%</a:t>
            </a:r>
            <a:r>
              <a:rPr b="1" i="1" lang="ru-RU" sz="2400" spc="-1" strike="noStrike">
                <a:solidFill>
                  <a:srgbClr val="00349e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05" name="Содержимое 3" descr=""/>
          <p:cNvPicPr/>
          <p:nvPr/>
        </p:nvPicPr>
        <p:blipFill>
          <a:blip r:embed="rId1"/>
          <a:stretch/>
        </p:blipFill>
        <p:spPr>
          <a:xfrm>
            <a:off x="4214880" y="1600200"/>
            <a:ext cx="45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5560" y="50004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ФАКТОРЫ И ПОЛОЖИТЕЛЬНЫЕ ТЕНДЕНЦИИ  В РАЗВИТИИ ОБРАЗОВАТЕЛЬНОГО УЧРЕЖДЕ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7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В школе успешно функционирует « Школа будущего  первоклассника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ителя перешли  к инновационным технологиям, с использованием современной мультимедийной  техники, интерактивных досок на уроках  физики, химии, литературы и занятиях начальной школ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Для развития индивидуальных интересов и склонностей созданы условия в виде кружковых и элективных занятий, индивидуальных и групповых консультаций, что находит отражение в учебном плане школы, учитывающем запросы и потребности учащихс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Педагоги школы активно внедряют метод тестирования в практику работы с целью снятия психологического барьера при оформлении работы, выработке навыка заполнения тестовых таблиц и систематизации изученного материала в соответствии с требованиями государственных образовательных стандартов. 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-Учащиеся школы достигли определённых успехов в выступлениях на городских, окружных, областных олимпиадах. Учащиеся школы участвуют в международных конкурсах « Кенгуру» и «Русский медвежонок»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Количество призовых мест в городском туре олимпиад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pic>
        <p:nvPicPr>
          <p:cNvPr id="109" name="Содержимое 3" descr=""/>
          <p:cNvPicPr/>
          <p:nvPr/>
        </p:nvPicPr>
        <p:blipFill>
          <a:blip r:embed="rId1"/>
          <a:stretch/>
        </p:blipFill>
        <p:spPr>
          <a:xfrm>
            <a:off x="714240" y="1571760"/>
            <a:ext cx="75009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28"/>
                </a:solidFill>
                <a:latin typeface="Century Gothic"/>
              </a:rPr>
              <a:t>Спортивные достижения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213920"/>
            <a:ext cx="65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2009-2010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лавание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Волейбол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ыжные гонки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Баскетбо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А ну-ка, парни»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;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Легко-атлетическая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«Эстафета мира»: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10-11 классы - 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V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8-9 классы - I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6-7 классы -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I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-  2-4 классы – </a:t>
            </a:r>
            <a:r>
              <a:rPr b="1" lang="en-US" sz="2000" spc="-1" strike="noStrike">
                <a:solidFill>
                  <a:srgbClr val="00206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место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В спартакиаде общеобразовательных учреждений Кировградского городского округа «Юность России» заняли </a:t>
            </a:r>
            <a:r>
              <a:rPr b="1" i="1" lang="en-US" sz="2000" spc="-1" strike="noStrike">
                <a:solidFill>
                  <a:srgbClr val="002060"/>
                </a:solidFill>
                <a:latin typeface="Century Gothic"/>
              </a:rPr>
              <a:t>I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I место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САМОУПРАВЛЕНИЕ в школе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680" y="1600200"/>
            <a:ext cx="63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     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В школе создано ученическое самоуправление, обеспечивающее развитие социально адаптированной личности. Главным органом самоуправления в школе является Совет старшеклассников, организующих внеклассную деятельность учащихся. Работа Совета старшеклассников ведется в соответствии с инновационной программой «Лидер». Регулярно работает школьное радио «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School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-</a:t>
            </a:r>
            <a:r>
              <a:rPr b="1" i="1" lang="en-US" sz="2000" spc="-1" strike="noStrike">
                <a:solidFill>
                  <a:srgbClr val="005828"/>
                </a:solidFill>
                <a:latin typeface="Century Gothic"/>
              </a:rPr>
              <a:t>FM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», ежемесячно выпускается газета «Школьные ведомости»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00040" y="999720"/>
            <a:ext cx="7572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Материально – техническое обеспечение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позволяет организовывать образовательный процесс в рамках требований сегодняшнего дня.  В школе имеется лабораторное оборудование для кабинетов физики, химии, географии с интерактивным  оборудованием, спортинвентарь (лыжи, коньки, мячи, гимнастическое оборудование), создан кабинет ИВТ и ТЦ, укомплектованный компьютерами и  сетевой техникой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7160" y="785880"/>
            <a:ext cx="71438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Главная проблема образовательного учреждения – отсутствие собственного спортивного зала (сметно-проектная документация на строительство в стадии областного экспертного заключения)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13880" y="713880"/>
            <a:ext cx="7858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Century Gothic"/>
              </a:rPr>
              <a:t>Существуют недостатки и в организации самого образовательного процесса: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желание части педагогов заниматься самообразованием ведет к снижению качественных показателей в учебной и воспитательной работе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достаточно используется  знания психологических особенностей детей, что создает проблемы в процессе обучения и организации внеклассной воспитательной работы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Неэффективность системы медико-социально- и психолого-педагогической поддержки ведет к спаду стремления учащихся к самостоятельному решению проблем своей жизнедеятельности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Технологии мониторинговых испытаний не стимулируют педагогов к совершенствованию педагогического мастерства и креативного мышл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828"/>
                </a:solidFill>
                <a:latin typeface="Century Gothic"/>
              </a:rPr>
              <a:t>Отсутствие школьного спортивного зала затрудняет качественную организацию программы здоровьесбережения.</a:t>
            </a: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УСЛОВИЯ И ПРИЧИНЫ, СДЕРЖИВАЮЩИЕ КАЧЕСТВЕННЫЙ РОСТ ОБРАЗОВАТЕЛЬНОЙ ДЕЯТЕЛЬНОСТИ ОБРАЗОВАТЕЛЬНОГО УЧРЕЖДЕНИЯ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2960" y="160020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Часть родителей уклоняется от обязанностей по воспитанию  своих детей, полностью перекладывая эту функцию на школу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005828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Изменение традиционной формы итоговой аттестации на ЕГЭ оказалось психологически сложным для перестройки мировоззрения родительской общественности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56800" y="713880"/>
            <a:ext cx="7358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0020"/>
                </a:solidFill>
                <a:latin typeface="Century Gothic"/>
              </a:rPr>
              <a:t>  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школы (ОП)  является основным нормативно - управленческим документом  учебного заведения, характеризующим специфику содержания образования и особенности организации учебно–воспитательного процесса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    </a:t>
            </a:r>
            <a:r>
              <a:rPr b="1" lang="ru-RU" sz="2400" spc="-1" strike="noStrike">
                <a:solidFill>
                  <a:srgbClr val="4e0020"/>
                </a:solidFill>
                <a:latin typeface="Century Gothic"/>
              </a:rPr>
              <a:t>Образовательная программа образовательного учреждения как стратегический документ представляет собой целостную модель организации школьной жизни и обеспечивает сочетание государственного, школьного и индивидуального стандартов. 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hart 1" descr=""/>
          <p:cNvPicPr/>
          <p:nvPr/>
        </p:nvPicPr>
        <p:blipFill>
          <a:blip r:embed="rId1"/>
          <a:stretch/>
        </p:blipFill>
        <p:spPr>
          <a:xfrm>
            <a:off x="208080" y="781200"/>
            <a:ext cx="866124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  <p:pic>
        <p:nvPicPr>
          <p:cNvPr id="122" name="Chart 1" descr=""/>
          <p:cNvPicPr/>
          <p:nvPr/>
        </p:nvPicPr>
        <p:blipFill>
          <a:blip r:embed="rId1"/>
          <a:stretch/>
        </p:blipFill>
        <p:spPr>
          <a:xfrm>
            <a:off x="706320" y="706320"/>
            <a:ext cx="80899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ПРОТИВОРЕЧИЯ В ОБРАЗОВАТЕЛЬНОМ ПРОЦЕССЕ ОУ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1320" y="1428840"/>
            <a:ext cx="77864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1.  Между необходимостью сохранения и укрепления здоровья учащихся и отсутствием общих социальных программ в городе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2.  Между необходимостью подготовки учащихся к самостоятельности в принятии решений, самореализации и самоопределению и возможностью применения своих знаний при выборе индивидуальной образовательной траектор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entury Gothic"/>
              </a:rPr>
              <a:t>3. Между необходимостью создания условий для развития каждого школьника с учётом его индивидуальных потребностей и особенностей введения единого государственного экзамена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b0041"/>
                </a:solidFill>
                <a:latin typeface="Century Gothic"/>
              </a:rPr>
              <a:t>ПРИОРИТЕТНЫЕ НАПРАВЛЕНИЯ РАЗВИТИЯ ОБРАЗОВАНИЯ В ОБРАЗОВАТЕЛЬНОМ УЧРЕЖДЕНИИ </a:t>
            </a:r>
            <a:endParaRPr b="0" lang="en-US" sz="20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1320" y="1600200"/>
            <a:ext cx="77151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зучение и внедрение новых образовательных стандартов через информатизацию, интеграцию учебных дисциплин, внеурочную деятельность, создание мониторинга качества образования при переходе с одной ступени обучения к другой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Создание творческой среды, обеспечивающей самореализацию каждого учащегося. Реализация программы «Одаренный ребенок»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Развитие учительского потенциала через внедрение системы моральных и материальных стимулов, повышение квалификации и привлечение специалистов, любящих и умеющих работать с детьм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Формирование современной школьной инфраструктуры школы через усовершенствование условий образования с учетом норм и правил строительства, проектирования, СанПиНов и безопас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49721e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9721e"/>
                </a:solidFill>
                <a:latin typeface="Century Gothic"/>
              </a:rPr>
              <a:t>Использование здоровьесберегающих технологий в урочной и внеурочной деятельности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b0041"/>
                </a:solidFill>
                <a:latin typeface="Century Gothic"/>
              </a:rPr>
              <a:t>ЦЕЛИ И ЗАДАЧИ ОБРАЗОВАТЕЛЬНОГО УЧРЕЖДЕНИЯ В ОБЛАСТИ </a:t>
            </a:r>
            <a:r>
              <a:rPr b="1" lang="ru-RU" sz="2400" spc="-1" strike="noStrike" u="sng">
                <a:solidFill>
                  <a:srgbClr val="9b0041"/>
                </a:solidFill>
                <a:uFillTx/>
                <a:latin typeface="Century Gothic"/>
              </a:rPr>
              <a:t>РАЗВИТИЯ ОБРАЗОВАНИЯ </a:t>
            </a:r>
            <a:br>
              <a:rPr sz="2400"/>
            </a:br>
            <a:endParaRPr b="0" lang="en-US" sz="24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60020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entury Gothic"/>
              </a:rPr>
              <a:t>1</a:t>
            </a: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. Обеспечение уровня квалификации педагогических кадров, необходимого для успешного развития школы, повышение их научной информативности в области знания учебного предмета и интеграции смежных дисциплин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2. Стимулирование работы учителей и школьных методических объединений к обмену передовым педагогическим опытом, применению новых методик обучения, внедрению в практику новых педагогических технологий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3. Формировать исследовательские умения и навыки учащихся на уроках и во внеурочной деятельности с целью предоставления им оптимальных возможностей для получения универсального образования, реализации индивидуальных творческих запрос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85520" y="571320"/>
            <a:ext cx="76438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4. Расширение системы дополнительного и дистанционного образования, с учетом индивидуальных интересов и потребностей учащихся (ученическое портфолио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5. Формирование общеучебных умений и навыков на репродуктивном уровне (у всех учащихся 1-4-х классов), на конструктивном и творческом (у всех учащихся 5-11-х классов)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828"/>
                </a:solidFill>
                <a:latin typeface="Century Gothic"/>
              </a:rPr>
              <a:t>6. Реализация новых образовательных стандартов через формирование общеучебных умений и навыков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560" y="78552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воспита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8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1. Способствовать развитию нравственной, физически здоровой личности, способной   к творчеству и самоопределению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2.  Повышение влияния школы на социализацию школьников, их самоопределение в  отношение будущей профессии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   </a:t>
            </a:r>
            <a:r>
              <a:rPr b="1" i="1" lang="ru-RU" sz="2400" spc="-1" strike="noStrike">
                <a:solidFill>
                  <a:srgbClr val="005828"/>
                </a:solidFill>
                <a:latin typeface="Century Gothic"/>
              </a:rPr>
              <a:t>3. Профилактика преступности, девиантных форм поведения и пагубных привычек.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развит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5520" y="1600200"/>
            <a:ext cx="61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Овладение всеми участниками образовательного процесса навыками самообразования и определения собственной траектории развития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b0041"/>
                </a:solidFill>
                <a:uFillTx/>
                <a:latin typeface="Century Gothic"/>
              </a:rPr>
              <a:t>Цели и задачи оздоровления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42600" y="160020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Реализация принципа сохранения физического и психологического здоровья  образовательного процесса, использование здоровьесберегающих технологий в урочной и внеурочной деятельности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571680"/>
            <a:ext cx="750096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СТРУКТУРА ОП по ступеням образования: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. Модель выпускника как главный целевой ориентир в учебно-воспитательной работе с обучающимися на начальной ступени.</a:t>
            </a:r>
            <a:br>
              <a:rPr sz="2800"/>
            </a:b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.</a:t>
            </a: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 Учебный план </a:t>
            </a:r>
            <a:br>
              <a:rPr sz="2800"/>
            </a:br>
            <a:r>
              <a:rPr b="1" i="1" lang="ru-RU" sz="2800" spc="-1" strike="noStrike">
                <a:solidFill>
                  <a:srgbClr val="005828"/>
                </a:solidFill>
                <a:latin typeface="Century Gothic"/>
              </a:rPr>
              <a:t>3. Учебные программы, используемые в образовательном процессе.</a:t>
            </a:r>
            <a:br>
              <a:rPr sz="2800"/>
            </a:br>
            <a:r>
              <a:rPr b="1" i="1" lang="ru-RU" sz="36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13880" y="57132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843c"/>
                </a:solidFill>
                <a:latin typeface="Century Gothic"/>
              </a:rPr>
              <a:t>На тип образовательной программы школы оказывают преобладающее воздействие 4 фактора. Вместе они составляют своеобразный «логический квадрат». Из него следует, что школа должна найти оптимальный для себя баланс между выполнением государственного заказа (1) и ответом на общественные потребности (2), а также между современными образовательными технологиями (3) и культурно – историческими особенностями региона (4).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685440"/>
            <a:ext cx="8001000" cy="55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5. ПРОГНОЗИРУЕМЫЙ РЕЗУЛЬТАТ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6. МОНИТОРИНГ КАЧЕСТВА ОБРАЗОВАНИЯ  В ОБРАЗОВАТЕЛЬНОМ УЧРЕЖДЕНИИ 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7. УСЛОВИЯ РЕАЛИЗАЦИИ ОБРАЗОВАТЕЛЬНОЙ ПРОГРАММЫ</a:t>
            </a: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8. ВОЗМОЖНЫЕ РИСКИ В ПРОЦЕССЕ РЕАЛИЗАЦИИ ОБРАЗОВАТЕЛЬНОЙ ПРОГРАММ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6800" y="685800"/>
            <a:ext cx="7929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b0041"/>
                </a:solidFill>
                <a:latin typeface="Century Gothic"/>
              </a:rPr>
              <a:t>9. ЭТАПЫ РЕАЛИЗАЦИИ ОБРАЗОВАТЕЛЬНОЙ ПРОГРАММЫ</a:t>
            </a:r>
            <a:endParaRPr b="0" lang="en-US" sz="28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4240" y="1928520"/>
            <a:ext cx="7715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1 этап (2010-2011 учебный год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2 этап (2011-2012, 2012-2013 учебные года) 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582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28"/>
                </a:solidFill>
                <a:latin typeface="Century Gothic"/>
              </a:rPr>
              <a:t>3 этап (2013-2014, 2014-2015 учебные года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685440"/>
            <a:ext cx="7580160" cy="48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Образовательная программа создана педагогическим коллективом МОУ-СОШ №2.</a:t>
            </a:r>
            <a:br>
              <a:rPr sz="3600"/>
            </a:br>
            <a:r>
              <a:rPr b="1" lang="ru-RU" sz="3600" spc="-1" strike="noStrike">
                <a:solidFill>
                  <a:srgbClr val="9b0041"/>
                </a:solidFill>
                <a:latin typeface="Century Gothic"/>
              </a:rPr>
              <a:t>Каждый педагог должен приложить все усилия для реализации поставленных целей и задач.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560520" y="628560"/>
            <a:ext cx="80960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285480"/>
            <a:ext cx="7086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0059"/>
                </a:solidFill>
                <a:latin typeface="Century Gothic"/>
              </a:rPr>
              <a:t>МИССИЯ ШКОЛЫ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13880" y="999720"/>
            <a:ext cx="78584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коллектив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Gothic"/>
              </a:rPr>
              <a:t>    </a:t>
            </a: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Создание морально-психологического комфорта для участников образовательного процесс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Миссия на уровне социума:</a:t>
            </a:r>
            <a:endParaRPr b="0" lang="en-US" sz="28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Личностная самоактуализация школьников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творчески мыслящей личности, ориентированной на выбор профессии;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Gothic"/>
              </a:rPr>
              <a:t>Формирование духовно-богатой, свободной личности, способной в последующем на участие в духовном развитии общества</a:t>
            </a:r>
            <a:endParaRPr b="0" lang="en-US" sz="24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6438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49e"/>
                </a:solidFill>
                <a:latin typeface="Century Gothic"/>
              </a:rPr>
              <a:t>Стратегические цели развития школы: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960" y="1600200"/>
            <a:ext cx="6500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. Создание условий для осуществления осознанного профессионального выбора путём создания модели многопрофильного общеобразовательного учреждения с последующим преобразованием его в мультипрофильную школу с обучением по индивидуальным учебным планам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. Изучение учащимися предметов гуманитарного, технического, оборонно-спортивного и технологического направлений на профильном уровне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. Создание адаптивной образовательной среды для обеспечения оптимального уровня развития каждого ученик, его задатков, способностей, творческого потенциала;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4. Предоставление равных возможностей при получении образования, в том числе и профильного, для всех учащихся школы.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1000080"/>
            <a:ext cx="7086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843c"/>
                </a:solidFill>
                <a:latin typeface="Century Gothic"/>
              </a:rPr>
              <a:t>Необходимым условием осуществления этих целей является сохранение и укрепление физического, психического и нравственного здоровья детей.</a:t>
            </a:r>
            <a:br>
              <a:rPr sz="3600"/>
            </a:b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43c"/>
                </a:solidFill>
                <a:latin typeface="Century Gothic"/>
              </a:rPr>
              <a:t>КРАТКИЕ СВЕДЕНИЯ О СОСТАВЕ И СТРУКТУРЕ ОУ </a:t>
            </a:r>
            <a:endParaRPr b="0" lang="en-US" sz="3600" spc="-1" strike="noStrike">
              <a:solidFill>
                <a:srgbClr val="ffc000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79440" y="1600200"/>
            <a:ext cx="7221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entury Gothic"/>
              </a:rPr>
              <a:t>Учебная и материально-техническая база: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Учебные кабинеты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начальной школе и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8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кабинетов в старшей, в том числе,      кабинет трудового обучения, кабинеты физики, химии, биологии, информатики, кабинеты иностранного языка, кабинет географии.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Спортзал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Школьная библиотек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Процедурный кабинет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психологической службы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абинет логопеда –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классов - комплектов: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25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Количество обучающихся:  </a:t>
            </a:r>
            <a:r>
              <a:rPr b="1" lang="ru-RU" sz="2000" spc="-1" strike="noStrike">
                <a:solidFill>
                  <a:srgbClr val="e40059"/>
                </a:solidFill>
                <a:latin typeface="Century Gothic"/>
              </a:rPr>
              <a:t>534</a:t>
            </a:r>
            <a:r>
              <a:rPr b="1" lang="ru-RU" sz="2000" spc="-1" strike="noStrike">
                <a:solidFill>
                  <a:srgbClr val="002060"/>
                </a:solidFill>
                <a:latin typeface="Century Gothic"/>
              </a:rPr>
              <a:t> человека</a:t>
            </a: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9720" y="571320"/>
            <a:ext cx="73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состав: </a:t>
            </a:r>
            <a:r>
              <a:rPr b="1" i="1" lang="ru-RU" sz="1600" spc="-1" strike="noStrike" u="sng">
                <a:solidFill>
                  <a:srgbClr val="e40059"/>
                </a:solidFill>
                <a:uFillTx/>
                <a:latin typeface="Century Gothic"/>
              </a:rPr>
              <a:t>49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ов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Образование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высшее –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4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редне-специальное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7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учителей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Не имеет педагогического образования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педагог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Педагогический ценз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таж до 5 лет -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0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5-1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1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человек        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10-20 лет - 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2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Более 20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6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человек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                                     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 </a:t>
            </a:r>
            <a:r>
              <a:rPr b="1" i="1" lang="ru-RU" sz="1600" spc="-1" strike="noStrike" u="sng">
                <a:solidFill>
                  <a:srgbClr val="00349e"/>
                </a:solidFill>
                <a:uFillTx/>
                <a:latin typeface="Century Gothic"/>
              </a:rPr>
              <a:t>Возрастной ценз педагогического коллектива: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25-3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15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35-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24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00349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свыше 55 лет – </a:t>
            </a:r>
            <a:r>
              <a:rPr b="1" i="1" lang="ru-RU" sz="1600" spc="-1" strike="noStrike">
                <a:solidFill>
                  <a:srgbClr val="e40059"/>
                </a:solidFill>
                <a:latin typeface="Century Gothic"/>
              </a:rPr>
              <a:t>3 </a:t>
            </a:r>
            <a:r>
              <a:rPr b="1" i="1" lang="ru-RU" sz="1600" spc="-1" strike="noStrike">
                <a:solidFill>
                  <a:srgbClr val="00349e"/>
                </a:solidFill>
                <a:latin typeface="Century Gothic"/>
              </a:rPr>
              <a:t>педагога</a:t>
            </a: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b0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8:25:47Z</dcterms:created>
  <dc:creator>тех.центр</dc:creator>
  <dc:description/>
  <cp:keywords/>
  <dc:language>en-US</dc:language>
  <cp:lastModifiedBy>тех.центр</cp:lastModifiedBy>
  <dcterms:modified xsi:type="dcterms:W3CDTF">2010-08-26T07:14:05Z</dcterms:modified>
  <cp:revision>36</cp:revision>
  <dc:subject/>
  <dc:title>ОБРАЗОВАТЕЛЬНАЯ ПРОГРАММА 2010-201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