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FE2-9681-45BD-B4B2-461FC69E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2D7-CBC4-491E-A7D4-5251615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7335C-FE1B-455B-9830-6894F106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6B5DD-10CC-4B0E-8E5B-C778A5F3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032FA-1E6B-4F8C-8B34-34DFB57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4942-9AC2-41CE-A93D-429EB75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2BFD-D217-4D0D-8B67-3825959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E93BD-020A-45EE-B057-6414FB4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E66C-8221-4490-AFB8-3B3F72D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A7274-B524-483D-BDAE-9B7E8993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F7AB-311F-45A9-AD29-5BF414E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4096B-31A9-48CE-A724-2BF83CCD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67D-F1DA-47C2-A789-61D07491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D49FB-112B-461F-836E-76949D26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2B1E2-0EFB-40BB-8764-87B2423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69EEC-87E8-4759-81C0-6C8952F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5A88A-BA53-4591-A35F-E5E3C446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0F1E7-DAE4-4B53-8E7C-A64A7FA4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ED46-CCBC-4442-8EAE-9276694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3D094-3CA6-4BBB-A4BA-5831AB4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5C990-5E78-4088-9946-BA02DE3B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4D2A9-CA67-496E-95BE-357EC2B3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F50FC-A980-4A2B-BFF5-580485D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A76-D081-4927-9B90-DA89A3F4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7FF34-150C-4976-AFCD-19ECEA8E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14E5-8100-4A9B-BB96-E2D2A89F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F2008-07CD-4143-A6D5-11FDBD27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62E86-F2FE-402F-B3A6-CA3ED07B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47F96-F62A-428E-8C0B-3C7E491D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A7BB9-9B0D-408F-BFEF-01DDA0AE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2D9ED-D362-49F3-85EB-9F32709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B81CB-03E3-48C9-BA0C-17B6801C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A07E8-159F-4C57-9779-3D355F3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12847-D092-4A39-9EA5-07C2A1A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F48-0F1F-4766-B0DE-50D71F3C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6F9B-9D48-433A-825F-02D5963F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B41C9-5575-4D06-9CF4-6EF16F59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9F1F4-B7EE-46CF-ADDC-EB74FD8C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078FF-5EAA-4DDE-9550-08058863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AEEFA-3D82-48F6-B2B6-12F04E75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43BC0-9CC0-4FB5-8685-D9B33461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727CE-7B89-4ECA-AE44-4F5B907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46FF2-7FB9-4C7B-96F2-BC3E2E5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45AE8-BA46-47DC-88DC-0FA1EB6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B20B3-BB6E-45D3-BE51-9763FBC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BE55-5E26-44B5-B1B1-8EA8F3AF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0AB7F-C73A-4E3A-8D80-8F64B95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71C48-8A1A-43F5-8665-CF5FB9C1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5B039-66E3-4C33-B4D3-0F417FD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3436B-15A7-43C5-86E4-CCB2485D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4344E-009E-4E4A-8B52-7D195687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C52AC-7B79-4E3D-88A3-5DFF2199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4CBA9-C7B0-4894-BDB6-506BDB9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3ED74-409C-43B0-B7F5-95605011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DEAB5-B3A8-442D-ABE4-7229D754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1F027-518F-4F81-9AC5-7141FDE9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F48-06BF-4D40-9B41-2282197A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96826-983E-460A-91B3-0870091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C6F3A-BA84-4519-B7E2-23A40F80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C387E-BC10-470C-B2B3-BFAB76F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ED56F-C1F4-49A8-A408-2ED65CE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1AAD3-D0D5-41DC-A0D7-B0B84E4D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AC630-58AA-45E2-AED2-60717177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58C4B-3748-4906-B150-370B01BF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E7BC5-C65C-413B-80D1-5B7F3EA0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DDE4B-7C26-4947-A690-8858A52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E0235-2622-440C-B9BB-BADC9D5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D31-EB89-43D8-9EDB-188D14D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FB0CF-1329-428B-A30F-4863AF6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2200C-A530-4D7F-AF0A-AB41D2E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F4F69-A3BA-4F6C-A0CE-6EDC85C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28489-C3A3-481F-B484-F0AA749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3A59B-B29F-4F7B-B8FF-DAAC80B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94CE8-ED5F-44AE-AD57-A2A5D25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AAAE8-B14A-41A8-8238-F9E66B8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D79EB-0C5C-4294-BE34-6C424B52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62C05-2F7B-424C-9260-9E9AC4CE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B46E9-48C3-4518-819F-C1D5070F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7E6D-CA2C-4771-9D1B-D5C0D364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FB443-4C82-4826-B809-FAAF4EE6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B42AE-DE87-4EFC-ABD7-09D9F00D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D1BC7-5906-4ABE-B923-3850E8F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733C1-A845-4CCC-88C3-FA12CF5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240D3-5DC2-408D-8CCD-938060D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049A8-B9BB-4DFE-9F86-F9D786B4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88C4F-E376-4F34-9A72-F1A4EDD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8031E-9774-4F88-933D-0212F2F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BB908-BD49-4A3C-9CA8-DA296FA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E2109-7ADD-44CF-AA9A-8465E92E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1498-8064-490B-B409-AA03348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89C21-8AFE-4B21-8C16-5C7A0642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465BEF-B131-4037-B29A-23AD8222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E2446E-1759-4327-BD27-E509F45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8C9DF4-8963-48BF-9123-13DAED1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8E9DB7-88E8-407E-9947-771DB0A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CDEC63-D836-4C55-A472-8ADBB14E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D444ED-D749-4715-A62F-26A4264C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FC58D0-9037-49AE-8AED-4CFA226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81033A-AD69-4602-A473-4F09BB2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16A17B-3725-4869-9FD7-D3FB3AB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766-A98B-4ADC-A1D1-5A816E6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48F241-EB1F-4D2D-B0DF-BF15808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12793A-B231-410C-8F13-299D6D5F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C435A5-F616-4C58-AB46-3731AC8F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2B194-B292-405E-982C-F461EC5D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2F74F-47CB-42A6-BC62-DD3F9A2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4ACC4-0F47-4928-93C9-FB184622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1E9A9-7A42-4C85-879C-A11FFBF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8853A-4E2F-44F5-A8BF-293B374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8E1EB9-5569-413B-A351-95CAC4F1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D8CD72-7EC8-47D8-A6D6-7F765FC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F70-E757-4F99-BE7D-62804B3D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8D47-36D5-46C5-87F8-DD78BFB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5BA3B-764C-41E2-AD40-4B1C54C8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C400B-2B2E-4238-9086-29C913D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02F0E-EBF1-4701-9B45-BE5D9BB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82E93-96F2-4999-B87D-09C19059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7163E-AF8C-4317-8671-624F356F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9377F3-406F-4DAA-A64F-3D05C451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7D364C9-6982-4477-9F86-ED75C07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24011A-C69B-4ADB-8898-DB1BBED5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CBD3FE-38AC-46C8-BF6D-BD43C25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1E5932-0270-41AD-B4EE-4C87A349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DBA-BD12-455B-9722-E4DCC57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D69FBE-71F6-4D59-908B-C7D407BD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9AC2F3-2018-44D8-85A4-862BD3C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9146C0-37B5-4497-84EA-543F3708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9CE36D-DAE8-4CAD-A94C-1455F5D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1091CC-0715-4244-8251-40AF1C96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741FAA-618B-4958-8BCD-87744FEF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FA79A1-FFD6-41EF-AA6D-BBC17E04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B1005-392E-44A5-B022-4BF34C8D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EB7E7-DF9E-4A94-B084-A427095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B2F0A-95C0-4464-B80A-3B2CB62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4C6-8367-46FD-800D-8C4AEA3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5505A-AC91-4E04-ACBD-50E9ABDC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E853D-8911-4CD2-86E4-65F5CE4A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BC330B-539D-4B56-AB7A-3300273B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ECDED-18C6-460D-9667-BA46C5D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A04D4-AB59-446D-B631-3B28EA1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BB945-C93A-4A81-AE5B-63A473D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05BB2-6FBA-46F8-BF2A-3CECD74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73BDB-5555-4DCA-A68B-706200E1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76D9A-5057-4C2F-8A42-0BD62AFE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C4EC1-B663-404C-BB45-624440A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441C-5FA7-4F48-9E9B-75DDC396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A24A3-9EE8-4E8A-A275-5D031F6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A7F71-7451-4E4E-84CD-576F4CA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EF807-86A4-412A-B01F-003F8E28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D683D-6688-46C9-8E0B-A353836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640C47-CFFE-4AC2-9EF7-F48E9C32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9E049-DA4E-4F31-97F1-3D31C28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D742F-7B2F-497E-93A7-D4F8B39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A54356-BD76-47AC-AF8E-050B903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84C2D-7388-417B-A323-BF6F4927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C4843-4AF8-4FC0-AFE4-50AB4A86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C88C-61DF-458A-953A-CE359FB6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DD28D-1CA3-4D6A-B9E5-1FB69386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FA61E-4394-4361-A02D-C0F6E395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D5965-9D52-407B-9F7C-41945E12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7FB6E-9C80-4643-85CC-F017EDD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FCA04-6122-4C72-90DE-49FF111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B2A4F-5AE3-4B01-ABCD-288FEE68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4E063-371E-4196-8C50-D9F7223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08835-B93F-4435-8BCA-6D7D8A51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42F72-3CB2-4A84-A3BB-257A651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DEADCB-5C76-413E-AD29-85A122F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F78B-AA11-4CFB-AE84-ADC4FE0F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5476F-AD58-4E38-9A78-550AFBB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DC3E6-BCC0-4D36-9FFF-AA99E166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30D8B-5AB9-47D7-B676-0025549E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F098F-104D-40EE-BB04-6C20D9A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F6FD-B80F-4E7C-9E41-C32876B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D72C-4801-45F0-8157-63620D8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BD85-DB32-4F7E-AA84-3E8F57D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50F-0225-4BC3-8108-ACEA63D2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A8EE-4D4D-4490-AF6B-4943E91B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87E0-58BF-48A7-AB3A-55B6C18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C38D-E479-4E42-B650-8AE3BEB9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0918-52A7-4DD1-9698-B9C2EB0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13D7-EC51-4844-9A9D-FC884AA0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480A-6C91-48F7-9523-D6BE1A36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9F752-685B-4776-8160-D8BE8814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0C8E0-007D-415C-8219-DA73DCDC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5F09-0909-405B-8008-CC6C3F1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91387-8EA3-4761-BE16-EC10F84B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4A6-4167-4CF9-823B-49923CD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ECC8-C3AD-4441-AB58-D4AD555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6BA9-1835-4825-81F0-B549D870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9008-4FA7-4FB3-84AF-6470EC77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2CE8-0121-404F-BD19-9E131BE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A9EC-3315-47E2-9ABB-148D74C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66E92-112C-4F03-A524-D33F441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1163-4B80-4833-A043-81DDA93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544FB-314E-4A45-A3B9-89A5856A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F23E-75B3-4274-A02A-D1B40F03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BD58-7739-4974-B75D-FA6FF9F9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A4A-239C-4D4A-A990-53B8DF9C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6334B-5CBA-4ADD-AABC-D455B3BA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D48C-0C80-4ACD-A4B6-D9D08DC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04C2-A814-4117-A9D4-1207163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BF1C-5C5A-449E-BB57-EB24001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0B63-C917-45A7-8A25-56EA2B7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ADF0-88FA-4D36-BE14-95ED69B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2A93-06BB-4CC1-A563-F73D605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4282-71E8-4A17-86AE-A6B8D66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BEDE6-92C0-4974-890D-44502AFA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C5FA2-3EE6-427E-809D-B93B2D27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391-8689-4F53-BEDC-63DB98F6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DFBA-6F46-4F26-8A9B-5529CB6B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DD8F6-BB86-4B0F-83D7-450C9692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76FA8-37E7-4CD3-8319-E67542F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F98A1-BDFD-473C-9EFE-CEBC192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219E9-4093-43AB-8164-E87201E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3E6F4-C8D9-4169-AF48-7796254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E4745-D123-42CE-96C5-9377D47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C050F-6BD4-4A7A-9F01-7D02CDB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326D4-A14B-4DD2-A49D-9C4AE47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06732-DF00-4220-AFFF-0BB1063C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26B-4015-4D79-9AAA-77E886B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4101E-CA19-4F79-BCE0-38C8404B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9CC96-C0AC-429A-B21A-D1B5335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D6229-E9F4-40F9-8945-946B787A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99005-8460-45DF-BDB7-CA7B77B8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93FC-B814-4EB4-A7E8-2E3C925B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53333-F1A2-4801-89AB-EB23E10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8F90-9149-41B7-A1C1-E8933F3A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ABB24-1DB2-49C5-9111-2FCD531E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4EF5-A7CA-4C89-BAE8-57CFD14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209D-8F15-4687-9DD0-C2082E7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72C-C139-4570-B3DD-B5CDE10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E87D-40CF-4A4F-91B0-121EE9B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9E7E-007A-48B3-BC01-B181D50D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35E1-0B41-4F71-93A1-6CE65A9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E840-4BED-42B2-A540-52E1228A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77A89-3C1A-46AA-8A7D-5408B730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EA74-66B6-4CF0-9F9C-18821C34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A93A5-14A8-42C9-8653-176B8D5A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E6CC-8B9F-4885-B524-6E8C01FA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4609-65C1-4A77-8F09-D8385ED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757FF-CA74-489E-949C-CCD38B90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FE3-910C-4BC4-B980-D8ACB2FF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664B5-B2FE-45EF-AA29-15E444B3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2182-347C-4FEC-87FC-32435E2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8E06C-09E4-40B1-A042-10F9BD8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5309-7AB7-4803-A3CF-4F0D683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BA4D-DE57-4C64-A68B-C718D6B2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1F60-5A7F-4BCD-940D-963C3D78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8AA6E-0286-4556-BE13-B52A53C6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B006C-3A79-4BB1-866E-0A4F5E3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47973-C0FF-4485-AFE2-1E4D603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E6F8E-FC18-4944-8DD2-40A7AFFD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4AE-1BB6-40B1-B918-49D3E67E2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49C9-92EF-4795-A3C4-2F7455AF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1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1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EB8-969F-4A05-9683-821E417AA0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9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124-BBC7-4702-A54D-6D16989500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6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6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9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D2D-7D33-43BB-8DA2-32E2E2B6D3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7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7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05B6-6ED2-42CC-9FDF-20E44AE83B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D775-CAAE-448E-BA8E-86D84110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D43-CA73-46AD-8807-AC6FBC93ED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8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680-7DC3-4A80-956E-22187E07A4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F945-78CB-410C-85C9-1FE421405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4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206" name="PlaceHolder 1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46B9-73B1-44A5-AEEC-63B49AB0F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FFD-2AFF-46E5-A930-143A4AA58D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4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6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2E3-B811-45C9-9C7C-AE9037DF99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3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4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5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302-140F-4B2E-8266-6C626EDB8E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0BBB-0122-4DE9-AFF2-A8B06295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691-1460-4010-A920-23B18E64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1393-FE01-41B8-8E75-2FFBFA896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266-BF00-4C5A-A244-4856BD63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3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BC0-5206-4416-B048-55B6CC25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8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6468-DD63-4563-A144-56ABD064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DC8-3DBA-4DB5-963B-9F8B0CD15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56960" y="1454760"/>
            <a:ext cx="797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«Образы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Кубани и Краснодар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117cb"/>
                </a:solidFill>
                <a:latin typeface="Arial"/>
              </a:rPr>
              <a:t>в песне».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967320" y="1483200"/>
            <a:ext cx="7593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зачка огневая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сива, молода,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убань – земля такая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днажды приласкает –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любишь навсегда!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. Обойщиков «Кубань – земля такая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49120" y="5299200"/>
            <a:ext cx="75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 совсем не обязательно быть уроженцем Кубан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тобы полюбить этот кра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325800" y="1342800"/>
            <a:ext cx="754344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убань вобрала в себя все щедроты Росси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для кубанских писателей Куба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ся Россия, в ней «столько русского простора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(С. Хохлов «Рожь»)  А казак, кубанский сын, - это часть Руси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сь – матушка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новинку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не древний облик тво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 я твоя кровинка –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м, стороне степной.</a:t>
            </a:r>
            <a:br>
              <a:rPr sz="24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.Б. Бакалдин «Леса, снега…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2104560" y="38484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ЕВЕЦ КУБАНСКОГО КРАЯ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46" name="varavva_1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619440" cy="511308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3231360" y="4884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214520" y="221904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(о жизни и творчеств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поэт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Ивана Федоровича Вараввы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398880" y="1056600"/>
            <a:ext cx="870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 каждого человека, а у поэта особенн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есть на карте своя обетованная земл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свой единственный, неповторимый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ведный край 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главный родник творческого вдохновени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Такой   землей   и   источником   вдохновения дл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Ивана Федоровича Вараввы стала Кубань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Потомок старинного казачьего рода, корням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уходящего в историю слав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запорожского рыцар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0" name="" descr=""/>
          <p:cNvPicPr/>
          <p:nvPr/>
        </p:nvPicPr>
        <p:blipFill>
          <a:blip r:embed="rId1"/>
          <a:stretch/>
        </p:blipFill>
        <p:spPr>
          <a:xfrm>
            <a:off x="357120" y="1052640"/>
            <a:ext cx="2951280" cy="4263840"/>
          </a:xfrm>
          <a:prstGeom prst="rect">
            <a:avLst/>
          </a:prstGeom>
          <a:ln w="0">
            <a:noFill/>
          </a:ln>
        </p:spPr>
      </p:pic>
      <p:sp>
        <p:nvSpPr>
          <p:cNvPr id="1651" name=""/>
          <p:cNvSpPr/>
          <p:nvPr/>
        </p:nvSpPr>
        <p:spPr>
          <a:xfrm>
            <a:off x="3422160" y="1773720"/>
            <a:ext cx="5529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сю свою жизнь он записыва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сни кубанских каза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х яркие рассказ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споминания, веселые байк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То была питательная поч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ля его поэзи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4680" y="1773720"/>
            <a:ext cx="7948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 многие стихи И.Вараввы композитор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 Пономаренко, Г. Плотниченко,В. Лаптевым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ы песни о Кубан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1968 году за книгу стихов "Вишневый май"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эт был удостоен звани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ауреата литературной преми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м. Николая Островс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-3240" y="1699200"/>
            <a:ext cx="835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ерой поэта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руженик, мастер своего дела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ловек, который выращивает хлеб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оздает машины, штурмует нау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сенные стихотворения  И.Варавв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ловно поэтическая мозаи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казывают нам картины народной жизн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395640" y="646560"/>
            <a:ext cx="65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стихотворная комедия "Конфуз на ярмарке"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4440" y="1416600"/>
            <a:ext cx="725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здана по мотивам народных песен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умок, на основе устных сказани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омедия раскрывает исторические 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циальные корни кубанского казачеств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з историзм событий прошлого в н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однимаются проблемы нашей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временной жиз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383760" y="241560"/>
            <a:ext cx="716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этический мир Ивана Федоровича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ыл бы не полон, беде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ез "картинок" природ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Герои Вараввы живут одним дыханием с природо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аской и любовью согрето отношение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еловека-труженика к земле, ко всему, что связано с не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842120" y="2567520"/>
            <a:ext cx="474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по-старому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Все здесь, как прежд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и многие годы назад..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Сосны клейкие в сизой одеж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Над согретым обрывом вися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, как прежд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Как в давности было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о заветной тропинке спе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Пью деревьев дремотную сил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И тобою живу и дыш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("Юный лес"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720" y="545760"/>
            <a:ext cx="581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юблю тебя, мой солнечный прост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е неповторимое сказанье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змашистые станы синих гор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едая даль желтеющей Куба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д камышовой крышей вырос 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Собрав пути ушедших покол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 нет мне в жизни этой забыт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т дум твоих, от песен и волн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«Кубань»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659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847960" cy="391644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363960" y="5372280"/>
            <a:ext cx="83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. Варавва - автор многих песен, что поются по России 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читаются, как народны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0" y="1931760"/>
            <a:ext cx="8688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убанский край действительно являе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Казачьим краем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вторитет казаков на Кубани непоколебим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казачество не только не изжито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но с каждым годом возвращает свою не показную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а истинную значимость и набирает силу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3960" y="333360"/>
            <a:ext cx="84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раз кубанского казака - неустрашимог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 неутомимого в бою с врагом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но доброго и ласкового, как дитя, в миру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котором живет, когда не сидит в седле верног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а-коня, не держит в сильных руках шашку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634920" y="285156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черком А.В. Пивен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81800" y="357228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зачья поговорка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-616680" y="4076280"/>
            <a:ext cx="927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«Казак никогда не унывает: он на войне и в поход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  </a:t>
            </a:r>
            <a:r>
              <a:rPr b="0" lang="en-US" sz="2800" spc="-1" strike="noStrike" u="sng">
                <a:solidFill>
                  <a:srgbClr val="2f1311"/>
                </a:solidFill>
                <a:uFillTx/>
                <a:latin typeface="Monotype Corsiva"/>
              </a:rPr>
              <a:t>песни играет»</a:t>
            </a:r>
            <a:r>
              <a:rPr b="0" lang="en-US" sz="2800" spc="-1" strike="noStrike">
                <a:solidFill>
                  <a:srgbClr val="2f1311"/>
                </a:solidFill>
                <a:latin typeface="Monotype Corsiva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320760" y="1298160"/>
            <a:ext cx="88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 казака влиты не только мужество и отвага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и безмерная любовь к родине, к матери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сыновнего долга и жертвенное служени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ечеств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помним гимн Кубанского войс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Ты, Кубань, ты, наша, Родина!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дь отец Константин Образцов недар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ит о Кубани как о «вековом богатыре»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 Кубани-реки, Кубани-земли и ее войска – одно цело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459720" y="946440"/>
            <a:ext cx="8143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, Кубань, ты, наша, Родина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ковой наш богатырь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водная, раздольн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лась ты вдаль и вшир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как мучительно быть далеко от род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я кубанцу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, как дань свою покорну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рославленных знаме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ем тебе, Кубань родимая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 сырой земли покл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"/>
          <p:cNvSpPr/>
          <p:nvPr/>
        </p:nvSpPr>
        <p:spPr>
          <a:xfrm>
            <a:off x="610200" y="475560"/>
            <a:ext cx="69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о даже на чужбине сын вольного казачьего кр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ушой стремиться к Кубани-матери, отдавая последние сил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757160" y="1266480"/>
            <a:ext cx="5606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аких там невзгод не терпели!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зноем, по камням, в пыл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д вихрями снежной метел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перед наши соколы шли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Отцовский привет кубанцу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Шли за славу предков и Кубани:</a:t>
            </a: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 тебе здесь вспоминаючи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ебя ль не постоять,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твою ли славу старую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Жизнь свою ли не отдать?</a:t>
            </a: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. Образцов «Ты, Кубань, ты, наша, Родина!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302040" y="1195920"/>
            <a:ext cx="884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редко кубанские писатели в свои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ях отражают любов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родному краю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бань настолько близка им, что предстае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шему взору живой и часто переходит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браз женщины-казачки, женщины-матер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4320" y="1558080"/>
            <a:ext cx="950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тихотворении И.Ф.Вараввы «Кубань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 горемычнецы - матери вдруг становится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щиной-Кубанью – Кубанью-рекой, Кубанью-земле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ь, - потомок тех женщин-казачек, которые до нее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ожая сыновей–соколов, сыновей–ратников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быть, даже на смерть, молили Бога о помощи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от меча и от пули сберечь» казака, - 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ама понимает свое предназначение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19320" y="322560"/>
            <a:ext cx="7071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сама тебя, сокол, расти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торочила бурку оплеч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коня вороного седлал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Чтоб топтал он беду на скаку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блю дедову, крепость кинжал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ложила в ножны казаку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рехликая  мать-Кубань скорбит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вя своего сын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 дала тебе сердце из свет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делимую плоть каза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9:26:42Z</dcterms:created>
  <dc:creator>ВИДУТА</dc:creator>
  <dc:description/>
  <dc:language>en-US</dc:language>
  <cp:lastModifiedBy>ВИДУТА</cp:lastModifiedBy>
  <dcterms:modified xsi:type="dcterms:W3CDTF">2011-03-11T20:18:58Z</dcterms:modified>
  <cp:revision>6</cp:revision>
  <dc:subject/>
  <dc:title>Слайд 1</dc:title>
</cp:coreProperties>
</file>