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B32B-A0F3-4FA4-A422-F12746FC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2DC-5FD2-4DD5-A158-07205FCF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1550C-14A4-4280-BEFD-43B2B90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5A2DE-32D9-47C8-BB56-7A3FFBBC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03E40-4C1B-4ACC-AAD5-7308D96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07E62-18EC-4D6A-A793-6DA741D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D2514-079B-4E3E-BCD0-ECAA91D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58FB-C945-4A6B-851F-FE556064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2F4F8-9D7B-4822-9F46-39022A0E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BEE09-52AB-4691-B190-55E5D58C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2FDF9-87A6-41B9-B00B-5607828C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716FA-3DAF-4B53-B1ED-4A2C2599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D4F-F04B-4C17-8A7F-39EC0946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CD966-047B-4483-91D3-5A8628C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6E52A-5462-4259-9A42-C2F2E61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4C0F-A74B-46A8-8E25-E672E83E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99282-0BAA-4635-8289-913FDEC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8A256-ECFC-4905-8BBC-B7F7ACB8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4008-AC69-4EB8-A1F3-896B61CA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60DFB-33BB-47C8-8EA4-557D75D6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B05CC-49BE-41B4-90B6-52BB864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507C7-01B4-4464-8B61-88643D59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EEC96-3E92-4922-B764-2A905329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2CE-02BA-4E00-909A-7C4BA8DD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78A6-CE5C-4D47-A411-A905B0F4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867CC-AAC2-4621-90A3-7714A090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53094-76ED-4A29-A48E-314056B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55A0A-6F31-4E23-A18A-524E1FB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4D21B-936E-4F45-8314-F800A716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0CB41-CB8D-434F-AB23-DA57D746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2AAE0-5CA3-4DF5-8508-254C31A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A1552-142A-4F62-AE94-1CF2BA9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C4193-DCC9-4543-974E-BF94E68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9F7C-05DC-4BD1-8777-AE554DAE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32A5-E672-4BE8-B29A-E0A32ADF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2C674-EBD7-4C1C-96F7-BB06EB8A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27661-87A9-469E-8FCD-9973BE02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CDA1-1F19-47C9-BAE8-88F09926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07F41-F298-49A6-9E62-1183BA3C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34BFA-D328-4598-B9F3-048B63C5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30178-CADD-4F1B-BE8E-3E85CA71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8B150-CD6A-49D8-B484-8972569A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8FC91-863C-4394-AEE3-084B75EB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5AB36-4D58-425B-ABE5-1DDD759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FE0C3-FAFA-4BC0-928B-C916EFA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CA56-51F8-484F-A80E-3BCB6A79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A3296-5006-474E-B663-0DB75E5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8FD52-5500-4D02-99A0-A206FD7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08F7B-CF04-460B-AA44-E8996C5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3E3FF-D4A0-46B8-9290-788F6D73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75B55-C256-4648-8924-83A3F475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3CF67-9051-4F5E-9C02-DB2BDA84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46E47-30BA-48E1-9BF0-2C572C1B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1D3B6-2953-4776-AF91-9C18A6E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C9793-A389-42BB-90AB-94FD016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1E4B5-019B-4B25-AB24-60C8F6BF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224-DC0B-4998-8308-152F637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FC2EB-7A56-4AC0-8D65-C322D30A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AD176-CC4D-48F9-A244-84C125C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BD2FD-601A-4541-8878-93E911C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B766C-7088-4AEE-AF14-DD6B9B08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200F9-EA0E-4027-A7D7-AEA0FD6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E6D54-FF24-4DC9-AA9D-5D7F1A91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D3474-A96F-496D-AAC0-28BD2EE7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38857-0474-4E91-8428-F2F89EF4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4958C-3C79-4D4B-A621-F0F4927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E9F5F-0413-4F2C-A5A6-8007382A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9C0B-8152-401E-AE30-E9051BAA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5197B-5A60-4012-8068-5D90D269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55651-16B6-457F-8983-2EC2BEB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574AA-F644-4A25-963B-F2A9DC67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DBED5-FA88-4856-A61F-476BD8E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FF386-5A3F-4A2B-AA04-CDC8102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36CCF-C4BC-4201-824E-C1CAD21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CB9D0-363B-430A-8839-3DAA2945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81B05-7F78-4A61-AA9F-81C2F729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CCE0FE-996A-43AF-B4C9-51FD0906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1D78E-38A5-4327-B8BF-A7B84CB4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2338-E5D4-4E88-8512-CFA9927C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3C530-CEB3-4253-81F3-26703A8A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FABC7-8173-4787-A3EA-F74BC7DE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2D558-277C-4E00-962E-D4E9BAFF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C1D3E-6650-4207-9815-527759B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ABAA9-5F77-45E3-8867-8B06F51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5B9A6-3990-4497-A187-EEF35AB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90AB1-33C7-47D1-83E5-410B555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124F3-9385-47F9-BCB8-195F82B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9A3EE-1A56-4AEA-8A23-DD7F0CA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0489D-4BAA-421D-BFE0-927BAF59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7B9F-1D97-48FB-8C4E-2F88126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15316-5920-4A07-ABBE-9F94888C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805848-45A2-4A7C-A1D9-DA97B07F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3F5BDA-1BB4-49D7-A3AE-9728C54D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817210-DB0F-4CBB-A559-3893FCA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350DA5-034A-4D71-948F-C174AC5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B8E880-6434-44F5-A058-C5FEA555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8B5B7A-8911-4447-897F-F3B5BD82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5E075C-896D-4775-BBBD-5B8B75EA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4BF097-00B3-41F3-AD5B-8671319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BE9916-853E-4072-80D5-0CF0523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4AC-3AAD-47A4-842B-287D95B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000AB5-A058-462A-89F7-6BF726A4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1C6A13-3714-483C-BCD1-6D405FC9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7F4420-91AB-4382-A369-44C012BF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8B07E-90D4-483A-9E6D-0FAAD82B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1D7FB-73D0-440B-9C9D-6A0C598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0FB7A-1B5A-4BDA-8F8C-650FE23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1A3F4-1A07-468E-BA0B-625907BE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7569F-92F9-43C4-8048-E97A5489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E1940-922B-4F46-B111-AA27AC61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A8F49-9B1B-4556-9AFF-7619C55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50A-226C-4861-9C9A-50E3659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D7D4-761B-4116-864B-0595813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B0079-9F22-4C70-994F-D3D439C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7C3540-350F-432A-BB3D-12BC51E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CA40E-6AFD-4777-8170-15668D29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AC6D2-7FC5-4F17-A49F-18DDEA07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C2B2C-D54E-433F-8449-440A47C8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A93AC8-E540-42F8-A276-8E97A25B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A39061-2D04-4172-8E3B-019CB656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316896-3078-48CC-A4DD-F6D50C23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2AD683-8460-4E24-9736-6801C6BE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ED745C-F578-4C8F-89CB-616FD96E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E7FE-C64D-4910-86FF-75A07CD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AA87BE-A8D6-477F-804A-9FCF5C00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475E9F-1607-46D2-8D0D-8522614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1DF226-BC22-48D9-9735-2F47D61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BC2BB2-D86F-4973-A204-AA48FB9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FD4790-8BE7-46F8-AF1F-E8D82E9D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7A9867-D230-4751-B19D-FE01DFC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52E105-3E98-4A23-BDCE-DEA226B8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59E84-84C6-4311-ABE2-8AAA7F67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361DF6-1FD9-464B-A734-B649163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5DD9D-634A-4FD3-9DCC-924250D2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8F18-C37C-4506-8EB8-F20801CE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D457A4-0A8B-464B-BD0A-1AE35D04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E3819-98DE-4926-BE88-1DE230D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3EE6B-514E-43DE-ADC3-D427A178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AD515-C28A-4FF2-B9F8-64CFE337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F978C-72F9-4E6C-AC02-BFCF30B3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71D1C-539B-4156-AFB4-37A810E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1B688-5C26-4B6D-9267-3C2E380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FDEAB-8111-4FE9-894A-3CAD51BF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6190A-8290-48C6-BDC7-81CFBD97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6FA34A-21E2-4D41-A1E6-D76BB77A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2231-2D47-4239-AA00-F965E751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FDAF90-09CB-4FAC-8797-95BA59B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873A33-399F-40E7-ABB8-43D47EBE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4E8BE-9EF8-45EF-A49B-91E6F3C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52C5B-57A6-44D8-AC45-D069D578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E729D-77E3-4E7B-AFC6-C58F4665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CAE08-FAD8-46D7-8A55-72E31550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D7C02-0DC7-4F50-9D45-45ED41F8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93211-6AD7-4B23-B0A2-2495A35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F37A4-72A2-468D-9B0E-E751D63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04598-07E9-41A1-A9BC-91770BBC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A1B-3C30-4654-99BB-EFA1321B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7FF66-622A-49E8-A81F-EEBD5C95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BCF098-4000-4350-ADD8-5289CE23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4B1BD-3883-4AFE-BB5A-6C539348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30089D-09B0-467F-92C1-7173AE0E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E3F71-55A6-4DF8-8822-E582A92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9738F-3589-43D1-B26A-D821B41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7E140-AA92-4F31-95D8-D55B582D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D32D0-7B41-4A4E-8361-CC92A81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68ABB-88BC-4D2D-A87F-F1BA1D0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37BC0-A1A9-49A4-A197-60C79E5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A7C9-D82A-45A0-B379-F2E2069B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C2CE9-D3FC-48EA-93E3-E568AC6E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3FF363-72C5-4611-B149-527043FF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70F19-FC5E-4153-BE84-6A8C2F59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4CE2-8C8C-4D56-A592-A63BB148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D465-FE20-4BF3-994B-A6403F2D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0891-6FBB-46DA-BDD2-5404158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3035-18DF-40E5-A097-8AFA7B78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EF8-EF17-4FB5-AA7A-94FC49D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DE31-C4BE-4192-B5C5-10E5C92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E9E3-4717-4B33-B034-0451763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FE60-1BF6-4E4A-B265-B48B6C3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D366-A356-4CEE-9CD2-EB561A5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E2B7-15C3-47C1-861E-A31BEE08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4492-7E9D-47F1-8E87-C1896AD3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4095-EF95-4D73-BACD-1782DDDA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1138-B99E-4938-816F-E6AE6A4A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F85B-278D-463E-ACD8-5307D32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2E9E-A24F-40AA-B315-6E4A7B1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739-D280-4FAC-AB6F-E1989945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79AB-A946-4FB4-9721-C2AD19DF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216C-9ADA-4956-9B91-A6E1A2E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CC15-9ED3-4697-B0E0-1867CEBF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21DE-FB6D-4B20-996A-18C98F5F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AAC7-FABC-4D52-966F-21628A9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4415-5B79-400C-B79A-A8160C6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FAA9-21A5-48AB-AFF4-E1679DF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C6DE-C260-4099-824F-E163C79C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0980-874A-4450-9730-45927141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DB84-CBC1-4D39-A961-A14E959C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10F-8B8E-4827-8EC7-D1E827B9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94293-ACCC-43E6-9DE3-3AA5569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4096-2926-4859-82B3-B752BEA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807D5-4B89-43B8-AB30-F33E1E15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F130-BFD7-459D-9ADB-F2C00F1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D39C6-9748-4A63-8F06-55F27A0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C155-708B-4D46-A660-E9C68872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4240-1934-42FA-9210-FCA50C9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B312-4313-465F-9CFA-17691EC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ED3DE-81CA-4EC1-90D7-6250972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3D98-0DA8-43D7-8336-A38CE016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FF7-BBAB-4532-8F59-026BA6DE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AA8D9-BE27-4F15-B07C-F4614DF0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BF0F4-3379-4E30-B347-15AED7F0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54B4D-CBD2-4550-B6F0-B4250FF5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AC770-906E-4AF7-8B2E-09BDD008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207CF-83B4-42CD-B38B-4F73053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0963B-9510-44EF-9066-BE1FA71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14655-FBFA-47AC-9446-35A3C40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B8AB6-C36B-43B5-83E5-8442925E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96D97-54AE-4752-A7D2-3725AE0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0347A-70D5-47ED-9662-76744801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6E9-2CDE-47B6-9E81-DF5CC55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FD239-1E01-47E6-A3E5-F8843930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ECBD0-9D22-4F72-B39C-1C6EE082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7B682-8E48-4EC8-AAFF-04C54AE9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EB2F-3068-43E1-8AF3-7DE9243E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7B15A-5881-49F0-909A-723EB01C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8074-B25C-4A7D-8394-33489286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6289-D2B7-4D05-B555-1986D755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F55DB-EA7B-4A8A-B405-2B4540E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9A04-BB09-4354-84A6-E963CC9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4F88D-BC8E-4778-B4C8-7C3B280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AFC-05BD-4CB6-8163-FA6A29FD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CD023-8184-4735-8140-633C209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D1A7-EDDF-43FF-91F4-F5A96AC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C656-1C16-434D-B8EA-A416FE23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5C468-1D64-461F-85EA-3E4D9024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B4D5-6C85-4CB9-8872-6A4919F4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E870-B45A-4D83-BAF1-D29B3925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2FA88-812D-4733-B634-713ADAE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3D561-0647-4792-AC68-852A2EF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8EC9-522B-4C28-8B2B-0307E1DD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701BA-23AC-49E5-8918-95E318BE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5FE-5FAA-429A-B4F2-627E69C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2C45-A578-422C-81FB-F2101EF2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A3ED3-2912-4208-8B5C-AACBD85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0F8FC-424F-47B0-BF62-1CF4E18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8C57D-0940-479E-96ED-83BA58C9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67AC8-AF0B-4840-B413-9BA9930A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1CECA-8F7E-4D6A-8081-8A3C7662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37F2-526F-4E38-8AAE-73BB4B7C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ED89-7817-4D06-BB88-98E2EBC6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DBE8C-A379-4CB2-940D-3EE1829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68ED-819E-4787-8D32-69523969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5607-DE7C-46B7-94ED-BD8C419A5D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741-4242-4F01-8ABE-B0E33AC7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1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366E-E103-4C4E-8AC4-3E77AA6525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9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1D9-837D-4FDA-8048-0DFC921707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6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6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5DF0-7C9C-4D19-8D57-F8920A5F5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7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7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86A7-3EBA-40E4-99F5-62E06BA561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05C3-092C-49A5-B7F5-36F34E106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EB1-0085-4D96-A7F4-3F18BF4E38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8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B1A8-F41E-473B-8914-4D7AFE9AC9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1D1-70AE-4928-9064-69AC05348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PlaceHolder 1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FF6-3CEC-422A-948E-D878004E0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9C2-3CCB-4BDD-9545-D4B80EF67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4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0DBE-1C12-4834-96E4-98891B88A6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3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4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5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CAC-552E-4200-B52B-8281061EB3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9B1-D15A-4713-A4BC-28ABBDEB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8D50-6B4A-4C87-8B51-8CC9B573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AA78-4EF8-4F5E-AA0B-856AF30D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292-ABE0-4091-81F1-5A4BC66A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22E-D6A8-4632-A10C-8D606D2E0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918F-EBDD-4D97-9AD2-476E9CF40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A1D6-B4AD-4EEC-9C73-15A45DF55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56960" y="1454760"/>
            <a:ext cx="797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«Образы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Кубани и Краснодара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в песне»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967320" y="1483200"/>
            <a:ext cx="7593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зачка огневая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сива, молода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убань – земля такая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днажды приласкает –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любишь навсегда!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. Обойщиков «Кубань – земля такая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49120" y="5299200"/>
            <a:ext cx="75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 совсем не обязательно быть уроженцем Кубан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тобы полюбить этот кра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325800" y="1342800"/>
            <a:ext cx="754344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бань вобрала в себя все щедроты Росси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для кубанских писателей Куба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ся Россия, в ней «столько русского простора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С. Хохлов «Рожь»)  А казак, кубанский сын, - это часть Рус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сь – матушка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овинку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е древний облик тво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 я твоя кровинка –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м, стороне степной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.Б. Бакалдин «Леса, снега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2104560" y="38484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ВЕЦ КУБАНСКОГО КРАЯ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46" name="varavva_1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619440" cy="511308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3231360" y="4884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214520" y="221904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(о жизни и творчеств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поэт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Ивана Федоровича Варавв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398880" y="1056600"/>
            <a:ext cx="870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 каждого человека, а у поэта особенн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есть на карте своя обетованная земл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свой единственный, неповторимый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заповедный край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главный родник творческого вдохнов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Такой   землей   и   источником   вдохновения дл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Ивана Федоровича Вараввы стала Кубань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отомок старинного казачьего рода, корням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ходящего в историю слав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запорожского рыцарст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357120" y="1052640"/>
            <a:ext cx="2951280" cy="4263840"/>
          </a:xfrm>
          <a:prstGeom prst="rect">
            <a:avLst/>
          </a:prstGeom>
          <a:ln w="0">
            <a:noFill/>
          </a:ln>
        </p:spPr>
      </p:pic>
      <p:sp>
        <p:nvSpPr>
          <p:cNvPr id="1651" name=""/>
          <p:cNvSpPr/>
          <p:nvPr/>
        </p:nvSpPr>
        <p:spPr>
          <a:xfrm>
            <a:off x="3422160" y="1773720"/>
            <a:ext cx="552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сю свою жизнь он записыва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сни кубанских казак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х яркие рассказы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споминания, веселые байк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о была питательная почв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ля его поэзи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4680" y="1773720"/>
            <a:ext cx="7948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 многие стихи И.Вараввы композитор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. Пономаренко, Г. Плотниченко,В. Лаптевым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зданы песни о Кубан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1968 году за книгу стихов "Вишневый май"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эт был удостоен звани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ауреата литературной преми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м. Николая Островск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-3240" y="1699200"/>
            <a:ext cx="835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ерой поэта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руженик, мастер своего дел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ловек, который выращивает хлеб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здает машины, штурмует нау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сенные стихотворения  И.Варавв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ловно поэтическая моза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казывают нам картины народной жизн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395640" y="646560"/>
            <a:ext cx="65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стихотворная комедия "Конфуз на ярмарке"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54440" y="1416600"/>
            <a:ext cx="725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здана по мотивам народных песе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умок, на основе устных сказан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медия раскрывает исторические 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циальные корни кубанского казачест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з историзм событий прошлого в н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днимаются проблемы наш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временной жиз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83760" y="241560"/>
            <a:ext cx="716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этический мир Ивана Федорович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ыл бы не полон, беде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ез "картинок" природ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ерои Вараввы живут одним дыханием с природ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аской и любовью согрето отношени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еловека-труженика к земле, ко всему, что связано с не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42120" y="2567520"/>
            <a:ext cx="474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Все по-старом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Все здесь, как прежд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ак и многие годы назад.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Сосны клейкие в сизой одеж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Над согретым обрывом вися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И, как прежд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ак в давности был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о заветной тропинке спеш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ью деревьев дремотную сил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И тобою живу и дыш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("Юный лес"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720" y="545760"/>
            <a:ext cx="581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юблю тебя, мой солнечный простор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е неповторимое сказанье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машистые станы синих гор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едая даль желтеющей Куба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д камышовой крышей вырос 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обрав пути ушедших покол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 нет мне в жизни этой забыт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т дум твоих, от песен и волн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«Кубань»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847960" cy="391644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363960" y="5372280"/>
            <a:ext cx="83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. Варавва - автор многих песен, что поются по России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читаются, как народны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0" y="1931760"/>
            <a:ext cx="8688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Кубанский край действительно являетс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Казачьим крае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вторитет казаков на Кубани непоколебим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 казачество не только не изжит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но с каждым годом возвращает свою не показную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 истинную значимость и набирает сил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3960" y="333360"/>
            <a:ext cx="84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раз кубанского казака - неустрашимог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 неутомимого в бою с враго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о доброго и ласкового, как дитя, в миру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отором живет, когда не сидит в седле вер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уга-коня, не держит в сильных руках шаш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634920" y="28515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черком А.В. Пиве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81800" y="357228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зачья поговорка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-616680" y="4076280"/>
            <a:ext cx="927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«Казак никогда не унывает: он на войне и в поход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 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песни играет»</a:t>
            </a:r>
            <a:r>
              <a:rPr b="0" lang="en-US" sz="2800" spc="-1" strike="noStrike">
                <a:solidFill>
                  <a:srgbClr val="2f1311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320760" y="1298160"/>
            <a:ext cx="88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 казака влиты не только мужество и отвага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 безмерная любовь к родине, к матер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ение сыновнего долга и жертвенное служе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ечеств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помним гимн Кубанского войс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Ты, Кубань, ты, наша, Родина!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ь отец Константин Образцов недаро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о Кубани как о «вековом богатыре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 Кубани-реки, Кубани-земли и ее войска – одно цело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459720" y="946440"/>
            <a:ext cx="8143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, Кубань, ты, наша, Родин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ковой наш богатырь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водная, раздольн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лась ты вдаль и вшир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к мучительно быть далеко от род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я кубанцу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, как дань свою покорну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рославленных знаме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ем тебе, Кубань родим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ырой земли покло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610200" y="475560"/>
            <a:ext cx="69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о даже на чужбине сын вольного казачьего кр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ушой стремиться к Кубани-матери, отдавая последние сил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757160" y="1266480"/>
            <a:ext cx="560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х там невзгод не терпели!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 зноем, по камням, в пыли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 вихрями снежной мете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перед наши соколы шли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. Образцов «Отцовский привет кубанцу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Шли за славу предков и Кубани:</a:t>
            </a: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 тебе здесь вспоминаючи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тебя ль не постоять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твою ли славу старую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Жизнь свою ли не отдать?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. Образцов «Ты, Кубань, ты, наша, Родина!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302040" y="1195920"/>
            <a:ext cx="884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едко кубанские писатели в свои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ях отражают любов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родному краю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бань настолько близка им, что предстае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ему взору живой и часто переходи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раз женщины-казачки, женщины-матер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4320" y="1558080"/>
            <a:ext cx="950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ихотворении И.Ф.Вараввы «Кубан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 горемычнецы - матери вдруг становитс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щиной-Кубанью – Кубанью-рекой, Кубанью-земле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ь, - потомок тех женщин-казачек, которые до нее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жая сыновей–соколов, сыновей–ратник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быть, даже на смерть, молили Бога о помощ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от меча и от пули сберечь» казака, - 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ама понимает свое предназначен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19320" y="322560"/>
            <a:ext cx="7071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сама тебя, сокол, растил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торочила бурку оплечь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коня вороного седлал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б топтал он беду на скаку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лю дедову, крепость кинжал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ожила в ножны казаку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рехликая  мать-Кубань скорбит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вя своего сын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дала тебе сердце из свет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делимую плоть каза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9:26:42Z</dcterms:created>
  <dc:creator>ВИДУТА</dc:creator>
  <dc:description/>
  <dc:language>en-US</dc:language>
  <cp:lastModifiedBy>ВИДУТА</cp:lastModifiedBy>
  <dcterms:modified xsi:type="dcterms:W3CDTF">2011-03-11T20:18:58Z</dcterms:modified>
  <cp:revision>6</cp:revision>
  <dc:subject/>
  <dc:title>Слайд 1</dc:title>
</cp:coreProperties>
</file>