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E88-4F84-456E-AE77-CEB9C447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B94-3BF7-4999-9773-CA8086F5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D9E5C-2463-46B0-A07C-03551F49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91E3E-9129-4A65-BED9-7988D831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6FDDF-FA7C-40B8-AFC4-4DAF0C6B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05602-2AE6-400D-A8B1-A162FD7B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79E60-815F-4DA3-809D-0A5E3C7C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1FD69-B33E-4491-B705-AAED56DF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5889B-2019-4A6C-9FA7-7DC1C322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FA02B-705C-4DEA-B9E8-71F3A88B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78583-56DA-4325-BF11-5F420C9E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8DB38-C944-4D38-95BA-B9678C3D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68F-152D-491A-998C-46237C3F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73D42-924F-4E5B-AD60-157F348F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28D26-22E2-4E63-89F6-47EBA2D9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0883C-3D3B-467F-B9C4-EBC366E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00EBD-E2AD-4170-9EAA-08F13FAA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5508B-4FF5-45C6-B5B7-A2E89C65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EC75E-054F-4EE8-B76B-2DA29F3F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6578A-B564-4575-BA32-9282D9B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8522B-8FDB-4DDF-A0C5-8DBE44CE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6A7DD-0F87-4A9F-89BD-52937D35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D24EE-7C93-42E9-A92B-AF5A2B50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27F-8B9D-4EE9-89F9-6C4B1865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F199D-8F8B-4204-967B-376D5245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DEAC1-7BA5-4AF1-8897-096D3E4F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48BA1-6637-4F64-995A-C740A882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29CE9-3435-4192-A1E7-A71A32E2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DA5D2-418D-406E-943F-003CD038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FC13D-390D-4015-B984-AEBC8CBD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724C5-CEDA-428A-A8EB-714D5062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ACFA1-9092-488E-846F-EABEC62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F0CF9-5816-415F-8F2D-A073941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921DB-9461-48D6-AF82-5CCFB012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7984-B81F-492F-A681-CF9910FB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99AE7-2067-44AC-ABF6-F75C6235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A9A3D-8CF5-43B9-BFE4-52B3CBF0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C71D5-7C60-4E1C-A005-691704FB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E7C49-8297-4FA4-984E-4520A8E7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4D6FB-C29E-4A2F-A14B-03EB0121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F67E7-18C6-4C6C-86E6-9562936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A0FDE-8072-4083-99F0-4F4855DC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485DF-5679-4F02-A025-2885962C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71B8A-0865-4330-99A1-6B1DA723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5A720-C9DF-4D9A-8B98-491EC79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FE08-D0EB-4305-8E27-361EC293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E8A39-97B5-4F19-BC7A-F2F19259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701C9-0AC6-4355-9212-9F80468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3BED0-D4BA-4F53-B663-51E6400B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B8038-DCD9-4369-B4DA-337F50E6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27A85-9345-4357-97D7-C222F6FE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00E93-B9B5-428F-92ED-53FDDD3C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FB16F-613D-4375-BDC0-81E2C19B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76305-6413-4C52-9A28-2BBE99BD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07A6C-7C5F-490E-89E1-C5488D1B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3493D-EE7A-4FFF-A4A4-A20E9C85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E916-B4BE-47F5-ADEB-49535139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AAF7B-D988-45C7-BCC0-BF6CC499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90448-87DC-469F-B40F-EA4F4095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F241C-CEF6-4185-8B12-820B220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F9CE0-CF69-4887-95EA-84A0CD9D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2E486-A73A-4A19-B6F1-3B5026DA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C9D73-1F7D-4397-839E-7F64B5D4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DFE7A-9D8E-4C42-A995-EFD55F54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DF4E4-2DA1-4F05-B45D-ECACC0E4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98E43-5839-4E17-A056-952DF9A6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A88E6-EAFA-46E3-B086-CCF0E8A9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38F-B295-483A-8D6E-12CC5825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8A766-D54C-4371-B841-926A2B0F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70BE8-8AAE-4258-9FB9-F4100CC8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459E9-0231-49DD-963F-7A684E55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BC6EF-7D91-478D-B886-098AC89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D5EAF-834A-4469-B6DA-622D4E3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19614-C72F-48E6-A1EA-AD346659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02913-2199-4875-A56F-143676EA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510ED-69DA-48D2-93A3-F102FBE1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28B5C-7237-4438-820D-9E994B1C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830EB-8943-4780-8734-A78C49C7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91FC-3560-4B6C-80CB-86F0D059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CAD9E-A6E5-41CD-A446-435368A0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1BBEB-CC21-4148-8062-7227013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54594-8B3D-4CB6-BE4F-E7CEA6F8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82D46-4CED-42E3-BC74-867EA4AD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DF848-7AA0-4245-A98E-C6685495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E3842-09F8-4991-89F1-90BC24FA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DD62D-60DF-4ECA-8C23-6A094015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76BDE-5526-40C3-B386-7C39F541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9A198-78C1-4961-879C-DE2E2888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44682-3885-4246-A408-6D9870A7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E468-2F44-46F6-9182-726FA320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302C1-CD17-4B0E-B554-A68BD83F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6966F7-898D-4FCA-9656-F79E17FF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152DA6-FABA-47F6-9041-7AB908A6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E35C4A-A05A-4AF9-9140-78AA6CC5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21340C-3676-4124-8F2E-29E34939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5D1BB9-EA7D-4023-BE50-56CA585D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DBC9EF-4E4B-43BF-B02F-FF420341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4E75AE-C956-48BF-B4E2-B74F0A9A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20E878-32D3-47D9-841B-F34A137F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D60088-B0B9-4C03-84B7-8D704A88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12A6-C142-457B-B1D6-50AA6254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A8400E-AEAE-49F3-AEA9-569DD7EC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8ABC67-BD3B-45F5-8F37-ADC44CEB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B8FE1D-B812-4735-9171-9C7EA61E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AE911-BD70-4B1A-B13B-50E68996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B733F-58D7-4197-AAEC-11F88EE7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1FD03-5158-4EE1-A775-D121DE29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2C72F-5A9C-4C93-9E69-09C5713A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6D56D-0BEC-4BD9-84DE-DF309CF5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FB2CA-6C51-4998-A76C-EC47EDD5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4DDD8-9CE7-40BA-B29B-79A8526B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5D6-5C2C-4496-9E27-36466C93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E059-D82B-44EC-9533-9B7B91CF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C4866-5650-4AEB-AA63-9ACB51FA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8D7A5-8E8A-4083-98CA-E08F7FCA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2E52B-BC21-4B8B-AEF8-DCAAB9A3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79498-09D7-4B06-BD49-42BD509F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05DB8-ABA8-4216-AA89-E9F4B8DE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A50FB0-E0C5-4964-989C-18C0D62B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EE27A1-CB48-46C9-9664-39666733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F2994A-6309-41D7-B0F3-2C7B7D74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C5E92E-2373-422B-B0DA-7EF5E654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C6ADAD-E964-4FA7-906A-5FD3B1AF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C9A0-583D-4E47-BDCC-BFEE671C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F604A3-7597-47A9-B0CB-2551F6F6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2C4CA9-FD12-49A5-A6EE-BB1AE49F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BD30DC-D592-49FF-BDBC-C21EAA00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1EA6EB-AC75-4867-8134-934F0DF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E4C59F-E70F-42B5-A6E9-570D3578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06FE63-5D14-4DC7-AB2C-4B9833BC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3DFCC4-4E21-4D97-A5A0-D2AC0B99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75530-BD7F-4444-9E30-7AE0CCDB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C12E4-302A-4CB6-AC84-62F11166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8FE2C-FB4B-422B-97A7-7AEC42D7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A504-2D40-43AA-BF42-44037395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141569-1BDB-4705-AA09-B671A075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1AE8B-3002-4A5F-A3DE-33992492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751F6-2F40-418B-81D5-B87B5825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0AF5E-F9C8-4D81-B142-6FBCBA04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550DA-BE8E-4744-9861-47B92CC4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E4A3E-C860-4CD3-9081-6E16BBC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92684-663D-4912-AC5F-6B28F9DD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4AE5F-4F64-4573-90C7-8A5D45CF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21FA6-9E6E-4D1A-8439-CD58AEDF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8A6B78-E110-4095-B739-9DEDE9C9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F325-D194-42A3-8826-F88792C9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3A3A6-5DE0-422B-9538-AB712EBB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CFF06F-2C77-4DE5-B169-04C1D56F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B8344-F656-4F51-BF73-35F7E626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31B26-301C-4229-845E-DEE4DF97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4B243C-86DA-4611-8EAD-062F0C7E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F664C-3261-48DD-B0D7-5BBAFB6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51578-3C02-4365-93EC-B3A41D9B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261AF-C25B-4B4A-B823-11F0E484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52185-4D23-4A68-B65F-27F51458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77168-9500-4B63-9B06-34AC2655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542C-F16F-40B8-BF28-8C78D69D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D0A06-5973-48B3-857B-D6BE521C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FFA24-1A59-4B9E-BB19-303738AF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551A1D-D52B-4C65-ADDD-7988DC06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F371B7-B252-4255-B780-D97A627D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AAE46-BB91-43B5-9BB5-387070D0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9B77D-DDDF-4545-95B0-11F2E8A2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94062-5415-4B97-A190-FA067F70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CB934-D7D4-434B-9F42-C5833086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61C0C-83F4-42DF-B28E-B50D3A3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EC1E1A-6AAD-4C27-8864-7893962D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6193-B4E7-4B7E-BD43-9CFB2336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053241-1DCC-40F2-A954-624F3CF9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2832ED-13A2-476A-999B-8C02A058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ADE98-F969-4D39-B9CD-4E879CB4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F088-8E91-40C8-A2BC-4BB0874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04BC-1B3F-4D64-9819-C0E28816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79E1-6B59-4168-8521-3944C235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724F-E9A3-4C9B-9E7A-5D58E925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74E-12E2-4A69-89F3-377CCCA4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C8EB-8EE8-453F-8008-4843CD8A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ABDA-C6F9-4D00-A7EF-65BFBDC0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D668-FCEA-4CC5-AF6F-711C3F7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225D-6600-448D-A0E7-11B6D84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8EF3-ADFB-4ABD-8413-AD8FA8CA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71D42-CAE5-49BC-B30A-F9BCA553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34A3-0C54-4752-8EAF-C05C4817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EBDA-1B04-4F3E-B971-D52B41FA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CD92-910C-47C3-8488-66FCA4F7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0B4A-016E-4F6A-B384-1FDD6233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54A-8AC4-4B46-A686-EDC7C3FC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C151-99CF-445C-A438-A08E32EE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0DEF-41E4-4C0A-9571-6ABCBB31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6BECC-0E45-495F-9AC1-B1E63DC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B1C9-94DD-4E82-B3B4-557E24AD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ADD3-924D-4C27-8DA9-E05C414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4742-BD7F-43D6-8DC8-FFBC581B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5693F-F670-472E-99FE-FFEBB59B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0E50-5DD2-4920-8FCA-5A366774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30E5A-289C-401D-BE56-9C1D5D30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76E05-4722-4B75-9729-CB5BF42B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178-5574-4E72-BDEE-A2E21919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6625-141E-4919-9DE6-2114E19A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96FA8-3FC5-4A59-8588-4C1ED81E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D9F2F-6454-4BE2-A3DA-C95B5F07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FAE0-70F0-4E83-94B5-D16239EB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C7759-516A-4322-88F6-002F0064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BD2C9-F543-42F1-A0DA-E34062B2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9A171-CE99-4A23-9576-66251B68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FD4FB-2DFE-4F9F-9C81-D05EDD8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233C9-9253-4455-940E-B54CA0AB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3F5E-AA9B-4D7E-915B-070C98A2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91B-3678-4D6D-9510-B2E7A9B5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91787-38DB-4CF7-BCB8-3755C96E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87507-F432-4F4C-8A35-8361B78E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DFE45-71BA-423A-A044-E35BD415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767F4-102F-4CBB-9257-64584F1D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14BE6-809F-4553-8F34-9CC9633C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91DBB-99AA-442D-9568-F1F2DEDF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6D030-E4AB-425B-8785-7E74FE5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A72BD-A171-469D-99DF-F9937F14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59D8F-1906-4356-9B16-FB7BF4D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26E9E-55A1-4DF4-BB32-26D47C8F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999-57BF-453C-ABDE-3DA232BA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4B104-ACDC-4DD1-BF58-D654FEED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E3C79-5CBE-4922-A4F6-995650AE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7F078-2A7E-4999-951E-F70764CB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D2355-01B8-4A16-8645-3803C96C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E4386-6B2D-4168-8DAA-62C41F51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0A57-E40B-4310-B37B-7290774A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26428-6AB0-48B4-BA4A-148EFE74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D4FDD-DBF0-4DBA-966E-4DD4AD5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D3AF8-3782-4BE4-A211-A45575A2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4087F-2409-4428-BC49-7921E1E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113-311B-4A65-BB51-162E32F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74A43-9D22-452D-B8DF-FCB215D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3B7D-C7A4-44F7-BBD6-381AA571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26C64-FAFB-4ED9-8BCE-0A542CA3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9D968-CE8C-4585-BE3E-F90C93A6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AF9C4-B3DD-40A6-85B3-AFAA6E2B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86C99-8E0B-418E-BFAD-664C9C70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53A5F-3644-449C-9A3D-3ADC6644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371C9-26CB-48F6-9216-75F77508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03BDA-AE15-4888-AC73-BD46DC0A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77EB-36D4-4BD2-BADF-6418689C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DE8-37E8-4F08-AE75-9FC205A9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F70A7-0C38-42E9-ACBF-3227FB88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32BB2-8E6E-4A04-8490-C3BB067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DE5E-64A4-4052-905C-9A1337B2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2C4C0-29B5-49CD-8FBA-3FEDC120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A33FF-9B74-4E9C-B0D8-FAC6BE22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F4070-2EC3-4EA0-A0C0-FF55AEC6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0F116-998D-49A9-A2E0-8DBFDA71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1AA05-B625-46C8-856D-51AC2136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C7CD5-DD73-476B-8835-4561EC09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599DC-0167-46E8-ABD5-349EC714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082C-7AE3-486E-A205-40F9AE5A76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C566-6BAA-45D4-A9C2-8CA271CD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1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1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3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CBBF-A13E-4BBC-9118-1772211E9D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9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4F39-6EF0-4B80-8722-81E01C946A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6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6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6E63-247E-4250-A533-E052704694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7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7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9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4169-BBA6-48B3-AA11-81F01563B7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713D-0CCA-4433-BB66-283A1EB8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2FC7-6218-4630-ACE8-9046245F00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8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2790-C887-4462-BDEC-6193DFBC38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CB3E-26D0-4603-97A0-21DD2AE0C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206" name="PlaceHolder 1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CA02-2D6C-4D55-8599-25CDCE8E0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80DD-D05A-4D3E-AFCD-A6C4544A37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24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24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6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dt" idx="5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A724-0590-4415-A7E9-05878C851B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3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4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5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dt" idx="6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96D1-AA4A-4EE2-81B4-9244CBF5C2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683-53B9-44E7-97B7-C2D67FED1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8DBD-914D-46EA-AC9E-3E50D298D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701B-FCC7-4C31-A1B0-53052640E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7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7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7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4FD6-AD2A-45C9-9164-D11B703C0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0D6F-9E9C-4984-95DF-39EE0C78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8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4481-DB74-455E-897D-FF1B58595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534D-D54C-41B4-A042-1C6724D4D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56960" y="1454760"/>
            <a:ext cx="797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117cb"/>
                </a:solidFill>
                <a:latin typeface="Arial"/>
              </a:rPr>
              <a:t>«Образы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117cb"/>
                </a:solidFill>
                <a:latin typeface="Arial"/>
              </a:rPr>
              <a:t>Кубани и Краснодара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117cb"/>
                </a:solidFill>
                <a:latin typeface="Arial"/>
              </a:rPr>
              <a:t>в песне».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967320" y="1483200"/>
            <a:ext cx="7593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зачка огневая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асива, молода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убань – земля такая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днажды приласкает –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любишь навсегда!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. Обойщиков «Кубань – земля такая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49120" y="5299200"/>
            <a:ext cx="75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 совсем не обязательно быть уроженцем Кубан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чтобы полюбить этот кра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325800" y="1342800"/>
            <a:ext cx="754344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убань вобрала в себя все щедроты Росси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этому для кубанских писателей Кубан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ся Россия, в ней «столько русского простора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С. Хохлов «Рожь»)  А казак, кубанский сын, - это часть Рус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сь – матушка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новинку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е древний облик твой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 я твоя кровинка –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м, стороне степной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.Б. Бакалдин «Леса, снега…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2104560" y="38484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ПЕВЕЦ КУБАНСКОГО КРАЯ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646" name="varavva_1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619440" cy="5113080"/>
          </a:xfrm>
          <a:prstGeom prst="rect">
            <a:avLst/>
          </a:prstGeom>
          <a:ln w="0">
            <a:noFill/>
          </a:ln>
        </p:spPr>
      </p:pic>
      <p:sp>
        <p:nvSpPr>
          <p:cNvPr id="1647" name=""/>
          <p:cNvSpPr/>
          <p:nvPr/>
        </p:nvSpPr>
        <p:spPr>
          <a:xfrm>
            <a:off x="3231360" y="48844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214520" y="2219040"/>
            <a:ext cx="46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(о жизни и творчеств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поэт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Ивана Федоровича Варавв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398880" y="1056600"/>
            <a:ext cx="870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У каждого человека, а у поэта особенно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есть на карте своя обетованная земл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свой единственный, неповторимый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заповедный край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главный родник творческого вдохнове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Такой   землей   и   источником   вдохновения дл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Ивана Федоровича Вараввы стала Кубань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отомок старинного казачьего рода, корням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уходящего в историю славног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запорожского рыцарств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" descr=""/>
          <p:cNvPicPr/>
          <p:nvPr/>
        </p:nvPicPr>
        <p:blipFill>
          <a:blip r:embed="rId1"/>
          <a:stretch/>
        </p:blipFill>
        <p:spPr>
          <a:xfrm>
            <a:off x="357120" y="1052640"/>
            <a:ext cx="2951280" cy="4263840"/>
          </a:xfrm>
          <a:prstGeom prst="rect">
            <a:avLst/>
          </a:prstGeom>
          <a:ln w="0">
            <a:noFill/>
          </a:ln>
        </p:spPr>
      </p:pic>
      <p:sp>
        <p:nvSpPr>
          <p:cNvPr id="1651" name=""/>
          <p:cNvSpPr/>
          <p:nvPr/>
        </p:nvSpPr>
        <p:spPr>
          <a:xfrm>
            <a:off x="3422160" y="1773720"/>
            <a:ext cx="5529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сю свою жизнь он записыва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сни кубанских казаков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х яркие рассказы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оспоминания, веселые байк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о была питательная почв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ля его поэзи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4680" y="1773720"/>
            <a:ext cx="7948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 многие стихи И.Вараввы композитор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. Пономаренко, Г. Плотниченко,В. Лаптевым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зданы песни о Кубан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1968 году за книгу стихов "Вишневый май"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эт был удостоен звани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ауреата литературной преми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м. Николая Островск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-3240" y="1699200"/>
            <a:ext cx="835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ерой поэта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руженик, мастер своего дел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ловек, который выращивает хлеб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оздает машины, штурмует нау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сенные стихотворения  И.Вараввы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ловно поэтическая моза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казывают нам картины народной жизн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395640" y="646560"/>
            <a:ext cx="65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стихотворная комедия "Конфуз на ярмарке"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54440" y="1416600"/>
            <a:ext cx="725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здана по мотивам народных песе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умок, на основе устных сказани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медия раскрывает исторические 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циальные корни кубанского казачеств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ерез историзм событий прошлого в не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днимаются проблемы наше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временной жиз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383760" y="241560"/>
            <a:ext cx="716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этический мир Ивана Федорович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ыл бы не полон, беден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ез "картинок" природ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Герои Вараввы живут одним дыханием с природо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Лаской и любовью согрето отношени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человека-труженика к земле, ко всему, что связано с не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842120" y="2567520"/>
            <a:ext cx="474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Все по-старом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Все здесь, как прежд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Как и многие годы назад..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Сосны клейкие в сизой одеж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Над согретым обрывом вися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И, как прежд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Как в давности был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По заветной тропинке спеш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Пью деревьев дремотную сил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И тобою живу и дыш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("Юный лес"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720" y="545760"/>
            <a:ext cx="581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юблю тебя, мой солнечный простор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е неповторимое сказанье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машистые станы синих гор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едая даль желтеющей Куба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д камышовой крышей вырос 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обрав пути ушедших покол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 нет мне в жизни этой забыт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т дум твоих, от песен и волн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«Кубань»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2847960" cy="3916440"/>
          </a:xfrm>
          <a:prstGeom prst="rect">
            <a:avLst/>
          </a:prstGeom>
          <a:ln w="0">
            <a:noFill/>
          </a:ln>
        </p:spPr>
      </p:pic>
      <p:sp>
        <p:nvSpPr>
          <p:cNvPr id="1660" name=""/>
          <p:cNvSpPr/>
          <p:nvPr/>
        </p:nvSpPr>
        <p:spPr>
          <a:xfrm>
            <a:off x="363960" y="5372280"/>
            <a:ext cx="83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И. Варавва - автор многих песен, что поются по России 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читаются, как народны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0" y="1931760"/>
            <a:ext cx="8688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Кубанский край действительно являетс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Казачьим крае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вторитет казаков на Кубани непоколебим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 казачество не только не изжито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но с каждым годом возвращает свою не показную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 истинную значимость и набирает силу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3960" y="333360"/>
            <a:ext cx="84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раз кубанского казака - неустрашимог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 неутомимого в бою с враго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о доброго и ласкового, как дитя, в миру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котором живет, когда не сидит в седле верног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руга-коня, не держит в сильных руках шашк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634920" y="285156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черком А.В. Пивен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81800" y="357228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азачья поговорка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-616680" y="4076280"/>
            <a:ext cx="927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Monotype Corsiva"/>
              </a:rPr>
              <a:t>«Казак никогда не унывает: он на войне и в поход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Monotype Corsiva"/>
              </a:rPr>
              <a:t> 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Monotype Corsiva"/>
              </a:rPr>
              <a:t>песни играет»</a:t>
            </a:r>
            <a:r>
              <a:rPr b="0" lang="en-US" sz="2800" spc="-1" strike="noStrike">
                <a:solidFill>
                  <a:srgbClr val="2f1311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320760" y="1298160"/>
            <a:ext cx="88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браз казака влиты не только мужество и отвага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и безмерная любовь к родине, к матер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ение сыновнего долга и жертвенное служен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ечеств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помним гимн Кубанского войс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Ты, Кубань, ты, наша, Родина!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ь отец Константин Образцов недаро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т о Кубани как о «вековом богатыре»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 Кубани-реки, Кубани-земли и ее войска – одно цело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459720" y="946440"/>
            <a:ext cx="8143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, Кубань, ты, наша, Родин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ковой наш богатырь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водная, раздольна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лась ты вдаль и вширь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ак мучительно быть далеко от родн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я кубанцу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, как дань свою покорную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прославленных знаме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ем тебе, Кубань родима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сырой земли покло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610200" y="475560"/>
            <a:ext cx="69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Но даже на чужбине сын вольного казачьего кр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ушой стремиться к Кубани-матери, отдавая последние силы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757160" y="1266480"/>
            <a:ext cx="560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х там невзгод не терпели!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д зноем, по камням, в пыли,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д вихрями снежной метел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перед наши соколы шли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. Образцов «Отцовский привет кубанцу»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Шли за славу предков и Кубани:</a:t>
            </a: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 тебе здесь вспоминаючи,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а тебя ль не постоять,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а твою ли славу старую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Жизнь свою ли не отдать?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. Образцов «Ты, Кубань, ты, наша, Родина!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302040" y="1195920"/>
            <a:ext cx="884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едко кубанские писатели в свои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едениях отражают любовь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родному краю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бань настолько близка им, что предстае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шему взору живой и часто переходи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раз женщины-казачки, женщины-матер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4320" y="1558080"/>
            <a:ext cx="950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тихотворении И.Ф.Вараввы «Кубань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 горемычнецы - матери вдруг становитс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нщиной-Кубанью – Кубанью-рекой, Кубанью-земле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ь, - потомок тех женщин-казачек, которые до нее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жая сыновей–соколов, сыновей–ратников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 быть, даже на смерть, молили Бога о помощи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от меча и от пули сберечь» казака, - 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ама понимает свое предназначени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19320" y="322560"/>
            <a:ext cx="7071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сама тебя, сокол, растил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торочила бурку оплечь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коня вороного седлал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б топтал он беду на скаку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лю дедову, крепость кинжал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ложила в ножны казаку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рехликая  мать-Кубань скорбит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вя своего сын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дала тебе сердце из свет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делимую плоть каза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9:26:42Z</dcterms:created>
  <dc:creator>ВИДУТА</dc:creator>
  <dc:description/>
  <dc:language>en-US</dc:language>
  <cp:lastModifiedBy>ВИДУТА</cp:lastModifiedBy>
  <dcterms:modified xsi:type="dcterms:W3CDTF">2011-03-11T20:18:58Z</dcterms:modified>
  <cp:revision>6</cp:revision>
  <dc:subject/>
  <dc:title>Слайд 1</dc:title>
</cp:coreProperties>
</file>