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FF0-F39E-4C47-915E-96FA5887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642-D7F7-4054-9E25-9B0F7541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781-7676-430E-9ACE-F9DF8B2E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ECD-1E04-4A63-9FE5-83E7F7C2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7706-4D87-4AC8-A3DE-E189472C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E407-B4F4-43AE-BE09-AAC0E0C9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1634-704A-459F-8269-B9355E28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493B-3504-41BB-A4C9-C30C6475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3FD9-62F6-4DEA-9404-C362635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06EE-71DB-4406-95E5-D402D7AB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1DCF-3AD1-4E78-B180-AC72183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90B-37A3-4375-A50C-ACBB2AB3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4943-46B7-496B-BA4E-40F4312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0500-0F4B-4759-94E9-EB15FB3D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298C-7426-4652-A91A-FC60797B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FAB5-DC91-456A-8DD7-C81C5410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A8B8-CFD1-4F4B-BD72-1FF17492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AD20-D00D-4642-B9BC-D0B54D1B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DD08-6A8B-4AB6-A844-26828623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B0777-15C6-4066-A0FC-940A9224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CA67-5BF6-4DD3-8850-328E32EB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79DF7-322B-4B2C-8980-B75631A5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B6D-2DD3-48EA-BB51-0B64A228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0CFE-828E-4E59-ACEA-BB8AFF22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9FEE-C14D-4E3D-9BC7-198C3C92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3495-DBEB-4B47-BD96-8C43EB91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D31D-3976-4CFC-AF8F-BA57AEB8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46C3-B2DD-48F4-9E63-C5E1E2C3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28A2A-3DB0-4869-BFEA-980022C6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52D9-DC9F-4D33-9CD3-0D39F829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E601-61C2-4624-990D-2ABB2061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3790B-C9F9-4FDA-AEED-B76D63B5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0CA0-704B-447A-A36D-106C6DEA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D55-4BEE-41FC-BC00-4DED620F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3444B-2D4F-49FC-9EB8-587F7C85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3EED-D45D-4AD0-AFC2-22D79D9E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7CFA-FA8A-4EF2-B87C-86A17ED9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DE65-70CC-4799-A7C8-A374A8EA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8DE9-45D9-4CF9-9FA6-6FA99306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00E9-9E93-44C0-9E6F-E747187E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0845-491A-4360-B6EC-B3D685F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9126-BF9E-426E-AB73-8AC5C5ED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39D1-6E22-48A6-AA93-746BD4C5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B9F3B-4BA5-4724-918C-89DA6FA0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D9A-D985-4A42-BBE5-112A1A6C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E332C-29C7-40FA-A92D-4C995B9D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C2D9-78F5-4238-B93E-C2C19E3E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80A8-2B99-415E-B34F-80B0973A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C595D-4093-4AB2-8FBE-B2345110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4121B-284B-473D-8BCD-1A0D879F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58B02-C037-4BC8-AB67-9F5C914C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61AC-CE81-4225-9B78-F2C4415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E69F1-EDB3-4862-A374-BCEE0F5A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A62A6-B029-43FA-96D7-C730F5CF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D249-DBDD-42F2-A100-413D798B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1B4-21D0-4EFA-A98C-8DEF0B2B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2966-4536-4515-894D-83C8B4E7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F5D-7BAB-4453-9C42-CBF70AF5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B0C-3AA3-4D5F-8C1B-BBB2257E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902-AA1F-4CE3-A21E-1355849B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3B42-2422-4A0C-951F-40C2C5AD1F9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B42A-73C1-4660-B4EF-F67644406CC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EFDC-D218-46E7-9841-2EF8F63A7CF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7C18-AAFE-49F7-9E36-B5896791A71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385A-F599-4EAC-B1EE-79C1E6C057A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Неделя музыки в школе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22" name="Прямоугольник 5" descr=""/>
          <p:cNvPicPr/>
          <p:nvPr/>
        </p:nvPicPr>
        <p:blipFill>
          <a:blip r:embed="rId1"/>
          <a:stretch/>
        </p:blipFill>
        <p:spPr>
          <a:xfrm>
            <a:off x="1573200" y="1779480"/>
            <a:ext cx="5808600" cy="258444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6" descr=""/>
          <p:cNvPicPr/>
          <p:nvPr/>
        </p:nvPicPr>
        <p:blipFill>
          <a:blip r:embed="rId2"/>
          <a:stretch/>
        </p:blipFill>
        <p:spPr>
          <a:xfrm>
            <a:off x="1590840" y="2962440"/>
            <a:ext cx="4330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Людвиг ван Бетхове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1770-18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C:\Documents and Settings\Admin\Рабочий стол\композиторы\bynthytn\betchoven-rz240.gif"/>
          <p:cNvPicPr/>
          <p:nvPr/>
        </p:nvPicPr>
        <p:blipFill>
          <a:blip r:embed="rId1"/>
          <a:stretch/>
        </p:blipFill>
        <p:spPr>
          <a:xfrm>
            <a:off x="2500200" y="428760"/>
            <a:ext cx="4572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28760" y="564372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Вольфганг Моца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756-179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Documents and Settings\Admin\Рабочий стол\композиторы\bynthytn\mozart-rz240.gif"/>
          <p:cNvPicPr/>
          <p:nvPr/>
        </p:nvPicPr>
        <p:blipFill>
          <a:blip r:embed="rId1"/>
          <a:stretch/>
        </p:blipFill>
        <p:spPr>
          <a:xfrm>
            <a:off x="2286000" y="428760"/>
            <a:ext cx="4429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Иоганн Себастьян Б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685-17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4" descr="C:\Documents and Settings\Admin\Рабочий стол\композиторы\bynthytn\bach-rz240.gif"/>
          <p:cNvPicPr/>
          <p:nvPr/>
        </p:nvPicPr>
        <p:blipFill>
          <a:blip r:embed="rId1"/>
          <a:stretch/>
        </p:blipFill>
        <p:spPr>
          <a:xfrm>
            <a:off x="2428920" y="500040"/>
            <a:ext cx="4357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Франц Шубе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797-18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4" descr="C:\Documents and Settings\Admin\Рабочий стол\композиторы\bynthytn\shubert-rz240.gif"/>
          <p:cNvPicPr/>
          <p:nvPr/>
        </p:nvPicPr>
        <p:blipFill>
          <a:blip r:embed="rId1"/>
          <a:stretch/>
        </p:blipFill>
        <p:spPr>
          <a:xfrm>
            <a:off x="2786040" y="500040"/>
            <a:ext cx="3786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М.П.Мусоргск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839-188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C:\Documents and Settings\Admin\Рабочий стол\композиторы\bynthytn\musorgskiy-rz240.gif"/>
          <p:cNvPicPr/>
          <p:nvPr/>
        </p:nvPicPr>
        <p:blipFill>
          <a:blip r:embed="rId1"/>
          <a:stretch/>
        </p:blipFill>
        <p:spPr>
          <a:xfrm>
            <a:off x="2714760" y="500040"/>
            <a:ext cx="35719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08T14:22:28Z</dcterms:modified>
  <cp:revision>9</cp:revision>
  <dc:subject/>
  <dc:title>Слайд 1</dc:title>
</cp:coreProperties>
</file>