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856-5713-4049-9C03-AB95DDD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855-1791-4EB4-B87B-68D1214F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C7E-334A-4F8A-A8C6-1F75CA39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762-9BB9-437D-B6FF-96E8F195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F00A-2EE7-4621-9509-877FB6B3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C36-E400-4A59-877A-775C1011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5EB-9B1D-437D-BDAE-EC7C773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741-09FB-4C18-8658-CCF4641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87DF-983D-47BC-AC32-C9D0187E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9227-55EF-4D8B-AE42-C5AAF6E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12EA-0A5E-4DD0-8C21-2777AF9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7C5-93AD-42E0-A57C-3CB8014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564-4771-40CB-AC55-36FF51B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943A-826F-4445-9EF0-EBD9BE1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60B4-69FC-4A76-A3DE-10ACA41C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4E6-06D7-4F89-8984-C3AA22D0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5FFE-7085-4DB6-B9C6-84269845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6959-482E-44AA-ADFD-5963068D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20C2-F549-445A-A7D6-A485C0F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1721-4BB4-4787-90AC-E8447F0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99F1-1D52-444A-90FB-E42AD3D7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A7F8-0C07-4922-BF04-865CD25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58E-31FB-4926-8AC5-077F1F0D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C841-29CD-472E-BA9B-3B345451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1520-984E-4D44-A33B-C3CA2FAC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91DE-FD53-4E2B-A8D4-A030B6C5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7A75-43E7-41D1-8DAC-4B4250D5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D6A4-5F55-4471-92F6-18BAACA4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6118-F9B5-4C38-BCCC-E3B7FD03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DD2B-D038-4254-A34D-EFBB3393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6EC4-7828-4CA9-A032-AB622EA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CA6B-BAAB-4D2B-BF8C-F2CC6E6F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21423-30BF-4831-B00E-D14A15A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782-FD9F-4723-A697-61A5CD8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8F26-36E4-4689-92C4-E72A2D2C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0ABA-62C7-4E04-9D83-A31B173B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ED3B-E271-400F-8735-2FD51B9D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DA0D-F5BE-42B8-9F01-86109C8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9C8F-BC8D-4BD1-ABFA-38E1D0D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81C0-7D3F-49CC-9290-C0E9E93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9114-63FD-42C6-B72B-57F2239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6340-8F7F-4C5C-93A2-D916E56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13FF-A91A-4004-930C-C4701A7E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6CD5-5BA1-415A-96A4-264D41D9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DBA-50A4-4F5E-8E27-AE6745D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FC330-3079-41A3-9E1E-6791264C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8607-C1D2-484F-8AB6-193870D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E8595-AC96-4108-8EF2-9286C156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BB4EE-D69C-4D97-81FA-4EDB54E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A7EB6-33FE-40DE-B43E-B8F8131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80B3C-F20D-4A9C-B73C-FB885CE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F190-3EF6-497D-8734-4D92238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16F6C-8182-45A9-BDF4-AF55AC4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59CC1-088A-44F1-9068-5AA2F488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7BF23-BAE5-4020-831A-309DF77F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60D-AEBB-4E1A-BF38-F5930EC6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575DD-A757-43A7-ABFE-95646F7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84E-AB7C-41C9-BCDA-55C39C1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04B-105E-42BD-9F2D-0BB4AD67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16C-1B5D-431B-942A-AD6E6EA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EA39-727C-4226-AC7C-2CD082754F2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83F4-56DB-4638-B299-08CD89AD438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37F-21A5-4A2C-A3EC-ED2C26E977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703F-CB22-44E5-B620-4C23D720742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B5DD-E8C5-4C38-9E47-EC38E952688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Verdana"/>
              </a:rPr>
              <a:t>Неделя музыки в школ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573200" y="1779480"/>
            <a:ext cx="5808600" cy="25844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6" descr=""/>
          <p:cNvPicPr/>
          <p:nvPr/>
        </p:nvPicPr>
        <p:blipFill>
          <a:blip r:embed="rId2"/>
          <a:stretch/>
        </p:blipFill>
        <p:spPr>
          <a:xfrm>
            <a:off x="1590840" y="2962440"/>
            <a:ext cx="4330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Людвиг ван Бетхове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</a:rPr>
              <a:t>1770-182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C:\Documents and Settings\Admin\Рабочий стол\композиторы\bynthytn\betchoven-rz240.gif"/>
          <p:cNvPicPr/>
          <p:nvPr/>
        </p:nvPicPr>
        <p:blipFill>
          <a:blip r:embed="rId1"/>
          <a:stretch/>
        </p:blipFill>
        <p:spPr>
          <a:xfrm>
            <a:off x="2500200" y="428760"/>
            <a:ext cx="4572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8760" y="564372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ольфганг Моца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56-17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Documents and Settings\Admin\Рабочий стол\композиторы\bynthytn\mozart-rz240.gif"/>
          <p:cNvPicPr/>
          <p:nvPr/>
        </p:nvPicPr>
        <p:blipFill>
          <a:blip r:embed="rId1"/>
          <a:stretch/>
        </p:blipFill>
        <p:spPr>
          <a:xfrm>
            <a:off x="2286000" y="428760"/>
            <a:ext cx="44290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Иоганн Себастьян Б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685-175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4" descr="C:\Documents and Settings\Admin\Рабочий стол\композиторы\bynthytn\bach-rz240.gif"/>
          <p:cNvPicPr/>
          <p:nvPr/>
        </p:nvPicPr>
        <p:blipFill>
          <a:blip r:embed="rId1"/>
          <a:stretch/>
        </p:blipFill>
        <p:spPr>
          <a:xfrm>
            <a:off x="2428920" y="500040"/>
            <a:ext cx="4357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Франц Шубер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797-18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C:\Documents and Settings\Admin\Рабочий стол\композиторы\bynthytn\shubert-rz240.gif"/>
          <p:cNvPicPr/>
          <p:nvPr/>
        </p:nvPicPr>
        <p:blipFill>
          <a:blip r:embed="rId1"/>
          <a:stretch/>
        </p:blipFill>
        <p:spPr>
          <a:xfrm>
            <a:off x="2786040" y="500040"/>
            <a:ext cx="3786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 fontScale="4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М.П.Мусоргск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1839-188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C:\Documents and Settings\Admin\Рабочий стол\композиторы\bynthytn\musorgskiy-rz240.gif"/>
          <p:cNvPicPr/>
          <p:nvPr/>
        </p:nvPicPr>
        <p:blipFill>
          <a:blip r:embed="rId1"/>
          <a:stretch/>
        </p:blipFill>
        <p:spPr>
          <a:xfrm>
            <a:off x="2714760" y="500040"/>
            <a:ext cx="35719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8T14:22:28Z</dcterms:modified>
  <cp:revision>9</cp:revision>
  <dc:subject/>
  <dc:title>Слайд 1</dc:title>
</cp:coreProperties>
</file>