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606-FA29-4FC2-AFF1-34B68D55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314-DFAB-4A70-A0F1-6E4C3992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E94-19A1-44B7-A76D-B48D983C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255-5873-418E-8D66-64EDE362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2C04-3A82-4B6C-9730-99954565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A72D-A703-462A-99CB-54814D7B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1375-4625-4712-94BE-40295B49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2BD4-061B-42B6-AD68-09C1ADCC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ADE6-9BC9-453F-B2F4-F41AB0C8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4269-34F0-4ADE-9B09-FBEA7E1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7C44-96F8-4412-8FD3-17827F35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878-01E4-4492-8C90-0265AD72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4CCD-0646-44FF-B2DE-B3558FE9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7460-E5F5-489D-A35F-BA63AE2E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49FB-6B0B-40A4-A6F0-F06844A0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BFE5-2908-442F-B1D4-48A937E8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3851-605D-42A3-AFF2-E4D3A2D7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8C9E-F567-4C67-A804-797E8D52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B165-3E12-43DB-9EE3-497D3E99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2504-2A81-4F01-873A-8B8FF077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EFAF-5A6F-499F-BF3F-DBC074A5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624EC-4295-407E-9F89-4D335537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C9D-4FC0-4C3A-B03A-6BC82CB9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AACF-AE1C-4229-98D1-AF701B4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CEFF-4E94-41D7-81B4-DE98B00F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72FD-6D80-4DD8-93D2-4DEAD2A6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A3CE-F2B1-470E-AC49-F4394BD1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18891-AF82-4F45-94E5-CF467071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C0A4-DCD4-4095-A118-B8F10B66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17D5-05C3-4BF4-92E0-394426DE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D6BAE-E7BA-49F2-9088-EF487042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ED3C5-3E1D-4A4E-B079-963F9F35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EB5C4-BD32-48A0-AACC-43189FA8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549-5F07-4B10-8ED5-1ED877D9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12F6B-FB7D-45F0-998B-9FB979F7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3AC5-4E01-4998-B179-0FF47555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69D10-88FD-4A51-89BB-CE3E7D36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D1D3-18D3-46B9-B9EC-7023289E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44F6-6684-4895-A7C3-CEC26C8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8359-A88A-47F0-B709-AA980D64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A428C-BE97-42CC-B9FE-FF32CEC7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1584-FE35-46DF-A94A-2D6FFD10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6F68-0EC5-4AF3-B1DF-3CE17CAE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13B10-B1D5-40DB-B3F3-3F69E35E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45B-5D7D-4A1F-98CC-420ACA5D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38532-545C-4B4A-A25C-6619BEE2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A2838-76F0-4B81-8031-C7C4ADF1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7CB5F-1E88-436F-951B-EA5E5539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91CF6-2074-4335-9385-82253035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2093A-B746-4EBF-A21C-910535CA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92EF5-B3B3-444B-8832-679E69D8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CC44E-75EE-4555-8E9D-52D424F0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2EB1-1384-45B0-8A0A-640992C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B9AFE-A446-466F-9E7D-3331C59A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BA29C-392C-4F94-8E7A-A246DFDF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BB7-89E3-46C0-95FB-71D729EC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6CEC-321B-4A24-ABED-88B8996D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622-62BE-41D4-A90D-8D8C946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ED5-B90D-498C-8C68-1AC18564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B44-D7FA-47D6-A2D4-7B715F85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ED3C-0A2B-404D-8009-2A86B6351A3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64F6-FD3C-4321-A017-D90FB80D00D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2000-8987-4B52-B4CE-67A29305932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82D9-2203-4072-A8EE-062E9C021C7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DF00-C51B-4079-B734-F5BAFB423CD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Неделя музыки в школе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22" name="Прямоугольник 5" descr=""/>
          <p:cNvPicPr/>
          <p:nvPr/>
        </p:nvPicPr>
        <p:blipFill>
          <a:blip r:embed="rId1"/>
          <a:stretch/>
        </p:blipFill>
        <p:spPr>
          <a:xfrm>
            <a:off x="1573200" y="1779480"/>
            <a:ext cx="5808600" cy="258444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6" descr=""/>
          <p:cNvPicPr/>
          <p:nvPr/>
        </p:nvPicPr>
        <p:blipFill>
          <a:blip r:embed="rId2"/>
          <a:stretch/>
        </p:blipFill>
        <p:spPr>
          <a:xfrm>
            <a:off x="1590840" y="2962440"/>
            <a:ext cx="4330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Людвиг ван Бетхове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1770-182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C:\Documents and Settings\Admin\Рабочий стол\композиторы\bynthytn\betchoven-rz240.gif"/>
          <p:cNvPicPr/>
          <p:nvPr/>
        </p:nvPicPr>
        <p:blipFill>
          <a:blip r:embed="rId1"/>
          <a:stretch/>
        </p:blipFill>
        <p:spPr>
          <a:xfrm>
            <a:off x="2500200" y="428760"/>
            <a:ext cx="4572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28760" y="564372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Вольфганг Моцар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756-179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:\Documents and Settings\Admin\Рабочий стол\композиторы\bynthytn\mozart-rz240.gif"/>
          <p:cNvPicPr/>
          <p:nvPr/>
        </p:nvPicPr>
        <p:blipFill>
          <a:blip r:embed="rId1"/>
          <a:stretch/>
        </p:blipFill>
        <p:spPr>
          <a:xfrm>
            <a:off x="2286000" y="428760"/>
            <a:ext cx="44290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Иоганн Себастьян Б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685-17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4" descr="C:\Documents and Settings\Admin\Рабочий стол\композиторы\bynthytn\bach-rz240.gif"/>
          <p:cNvPicPr/>
          <p:nvPr/>
        </p:nvPicPr>
        <p:blipFill>
          <a:blip r:embed="rId1"/>
          <a:stretch/>
        </p:blipFill>
        <p:spPr>
          <a:xfrm>
            <a:off x="2428920" y="500040"/>
            <a:ext cx="4357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Франц Шубер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797-18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4" descr="C:\Documents and Settings\Admin\Рабочий стол\композиторы\bynthytn\shubert-rz240.gif"/>
          <p:cNvPicPr/>
          <p:nvPr/>
        </p:nvPicPr>
        <p:blipFill>
          <a:blip r:embed="rId1"/>
          <a:stretch/>
        </p:blipFill>
        <p:spPr>
          <a:xfrm>
            <a:off x="2786040" y="500040"/>
            <a:ext cx="3786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М.П.Мусоргск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839-188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C:\Documents and Settings\Admin\Рабочий стол\композиторы\bynthytn\musorgskiy-rz240.gif"/>
          <p:cNvPicPr/>
          <p:nvPr/>
        </p:nvPicPr>
        <p:blipFill>
          <a:blip r:embed="rId1"/>
          <a:stretch/>
        </p:blipFill>
        <p:spPr>
          <a:xfrm>
            <a:off x="2714760" y="500040"/>
            <a:ext cx="35719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08T14:22:28Z</dcterms:modified>
  <cp:revision>9</cp:revision>
  <dc:subject/>
  <dc:title>Слайд 1</dc:title>
</cp:coreProperties>
</file>